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8686800" cy="64008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387080" y="804960"/>
            <a:ext cx="4545000" cy="334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63360" y="4591080"/>
            <a:ext cx="5376600" cy="42703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008D-982F-4EA2-A8AF-EE2721BB4B2F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87440" y="804960"/>
            <a:ext cx="4545000" cy="3349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63360" y="4591080"/>
            <a:ext cx="5376600" cy="428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387440" y="804960"/>
            <a:ext cx="4545000" cy="3349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63360" y="4591080"/>
            <a:ext cx="5376600" cy="42703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O is designed to provide the data needed to find the missing pieces of the carbon puzzle (sink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A826-5907-46D0-B820-E548E0086C99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387440" y="804960"/>
            <a:ext cx="4545000" cy="3349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63360" y="4591080"/>
            <a:ext cx="53766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6000" y="279000"/>
            <a:ext cx="6248520" cy="391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4840" y="1011240"/>
            <a:ext cx="817236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4840" y="3463560"/>
            <a:ext cx="817236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06000" y="279000"/>
            <a:ext cx="6248520" cy="391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4840" y="1011240"/>
            <a:ext cx="398808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82720" y="1011240"/>
            <a:ext cx="398808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4840" y="3463560"/>
            <a:ext cx="398808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82720" y="3463560"/>
            <a:ext cx="398808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06000" y="279000"/>
            <a:ext cx="6248520" cy="391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4840" y="1011240"/>
            <a:ext cx="263124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58200" y="1011240"/>
            <a:ext cx="263124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21200" y="1011240"/>
            <a:ext cx="263124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4840" y="3463560"/>
            <a:ext cx="263124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58200" y="3463560"/>
            <a:ext cx="263124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21200" y="3463560"/>
            <a:ext cx="263124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06000" y="279000"/>
            <a:ext cx="6248520" cy="391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94840" y="1011240"/>
            <a:ext cx="817236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6000" y="279000"/>
            <a:ext cx="6248520" cy="391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4840" y="1011240"/>
            <a:ext cx="817236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06000" y="279000"/>
            <a:ext cx="6248520" cy="391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94840" y="1011240"/>
            <a:ext cx="398808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482720" y="1011240"/>
            <a:ext cx="398808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06000" y="279000"/>
            <a:ext cx="6248520" cy="391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06000" y="279000"/>
            <a:ext cx="6248520" cy="181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06000" y="279000"/>
            <a:ext cx="6248520" cy="391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4840" y="1011240"/>
            <a:ext cx="398808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82720" y="1011240"/>
            <a:ext cx="398808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94840" y="3463560"/>
            <a:ext cx="398808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06000" y="279000"/>
            <a:ext cx="6248520" cy="391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4840" y="1011240"/>
            <a:ext cx="817236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06000" y="279000"/>
            <a:ext cx="6248520" cy="391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4840" y="1011240"/>
            <a:ext cx="398808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82720" y="1011240"/>
            <a:ext cx="398808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482720" y="3463560"/>
            <a:ext cx="398808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06000" y="279000"/>
            <a:ext cx="6248520" cy="391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4840" y="1011240"/>
            <a:ext cx="398808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82720" y="1011240"/>
            <a:ext cx="398808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94840" y="3463560"/>
            <a:ext cx="817236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06000" y="279000"/>
            <a:ext cx="6248520" cy="391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94840" y="1011240"/>
            <a:ext cx="817236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94840" y="3463560"/>
            <a:ext cx="817236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06000" y="279000"/>
            <a:ext cx="6248520" cy="391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4840" y="1011240"/>
            <a:ext cx="398808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82720" y="1011240"/>
            <a:ext cx="398808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94840" y="3463560"/>
            <a:ext cx="398808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482720" y="3463560"/>
            <a:ext cx="398808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06000" y="279000"/>
            <a:ext cx="6248520" cy="391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4840" y="1011240"/>
            <a:ext cx="263124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58200" y="1011240"/>
            <a:ext cx="263124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21200" y="1011240"/>
            <a:ext cx="263124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94840" y="3463560"/>
            <a:ext cx="263124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058200" y="3463560"/>
            <a:ext cx="263124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21200" y="3463560"/>
            <a:ext cx="263124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06000" y="279000"/>
            <a:ext cx="6248520" cy="391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4840" y="1011240"/>
            <a:ext cx="817236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06000" y="279000"/>
            <a:ext cx="6248520" cy="391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4840" y="1011240"/>
            <a:ext cx="398808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82720" y="1011240"/>
            <a:ext cx="398808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06000" y="279000"/>
            <a:ext cx="6248520" cy="391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06000" y="279000"/>
            <a:ext cx="6248520" cy="181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06000" y="279000"/>
            <a:ext cx="6248520" cy="391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4840" y="1011240"/>
            <a:ext cx="398808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82720" y="1011240"/>
            <a:ext cx="398808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4840" y="3463560"/>
            <a:ext cx="398808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06000" y="279000"/>
            <a:ext cx="6248520" cy="391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4840" y="1011240"/>
            <a:ext cx="398808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82720" y="1011240"/>
            <a:ext cx="398808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82720" y="3463560"/>
            <a:ext cx="398808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06000" y="279000"/>
            <a:ext cx="6248520" cy="391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4840" y="1011240"/>
            <a:ext cx="398808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82720" y="1011240"/>
            <a:ext cx="398808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4840" y="3463560"/>
            <a:ext cx="8172360" cy="22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06000" y="279000"/>
            <a:ext cx="6248520" cy="391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4840" y="1011240"/>
            <a:ext cx="817236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205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12880" indent="-177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▪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652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34960" indent="-177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▫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34960" indent="-177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▫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34960" indent="-177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▫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16" descr="NASA White"/>
          <p:cNvPicPr/>
          <p:nvPr/>
        </p:nvPicPr>
        <p:blipFill>
          <a:blip r:embed="rId2"/>
          <a:srcRect l="6450" t="0" r="0" b="0"/>
          <a:stretch/>
        </p:blipFill>
        <p:spPr>
          <a:xfrm>
            <a:off x="55440" y="44280"/>
            <a:ext cx="94464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0" y="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Picture 16" descr="NASA White"/>
          <p:cNvPicPr/>
          <p:nvPr/>
        </p:nvPicPr>
        <p:blipFill>
          <a:blip r:embed="rId2"/>
          <a:srcRect l="6450" t="0" r="0" b="0"/>
          <a:stretch/>
        </p:blipFill>
        <p:spPr>
          <a:xfrm>
            <a:off x="55440" y="44280"/>
            <a:ext cx="944640" cy="762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" descr="C:\dcrisp\OCO\Images\Observatory_Illustrations\Observatory_over_Park_Falls_with_Track.png"/>
          <p:cNvPicPr/>
          <p:nvPr/>
        </p:nvPicPr>
        <p:blipFill>
          <a:blip r:embed="rId3"/>
          <a:srcRect l="4166" t="0" r="2500" b="0"/>
          <a:stretch/>
        </p:blipFill>
        <p:spPr>
          <a:xfrm>
            <a:off x="76320" y="838080"/>
            <a:ext cx="8534160" cy="5149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06000" y="279000"/>
            <a:ext cx="6248520" cy="391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94840" y="1011240"/>
            <a:ext cx="817236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205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12880" indent="-177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▪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652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34960" indent="-177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▫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34960" indent="-177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▫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34960" indent="-177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▫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880" y="833040"/>
            <a:ext cx="7385040" cy="949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SA’s plans for Orbiting Carbon Observatory –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600" y="480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en Jucks and Rich Eckm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rch 31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06000" y="279360"/>
            <a:ext cx="6248520" cy="433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hemispheric 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gradi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3805200" y="1066680"/>
            <a:ext cx="4729320" cy="4392720"/>
          </a:xfrm>
          <a:prstGeom prst="rect">
            <a:avLst/>
          </a:prstGeom>
          <a:ln w="0">
            <a:noFill/>
          </a:ln>
        </p:spPr>
      </p:pic>
      <p:sp>
        <p:nvSpPr>
          <p:cNvPr id="216" name="TextBox 3"/>
          <p:cNvSpPr/>
          <p:nvPr/>
        </p:nvSpPr>
        <p:spPr>
          <a:xfrm>
            <a:off x="228600" y="990720"/>
            <a:ext cx="34290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O-2 will provide the precision and accuracy to determine the trends and gradients seen in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y highly precise and accurate aircraft measurements (HIAPER series of aircraft fligh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902760" y="5486400"/>
            <a:ext cx="459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. Wofsy, private communication,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0880" y="212760"/>
            <a:ext cx="7385040" cy="4413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Programmatic Statu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89080" y="1071360"/>
            <a:ext cx="8083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the FY10 budget NASA has been directed to fund OCO-2 not less than $50M.  This and residual project funds have been used to purchase long lead items for a new instr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Y11 President’s Budget identifies a funding profile for OCO-2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February 24, 2010, NASA authorized the project to begin mission for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05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Design Review planned for August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05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horization to Proceed (Key Decision Point C) planned for October 1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05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unch Readiness Date of Feb 20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ew budget also for a complete set of spares to build a new instrument as a “Mission of Opportunity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O-2 and potential OCO-MoO will be followed by the ASCENDS mis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br>
              <a:rPr sz="1500"/>
            </a:b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06000" y="279360"/>
            <a:ext cx="6248520" cy="395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cutive Summ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761760"/>
            <a:ext cx="781668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4240" indent="-174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Orbiting Carbon Observatory (OCO-2) is designed to demonstrate a unique measurement technique to improve our understanding of the global carbon cycle by returning space-based measurements of atmospheric carbon dioxide (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with the sensitivity and sampling density required quantify regional scale carbon sources and sinks and characterize their interannual varia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10120" indent="-223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agement of atmospheric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an important science policy issue for the 2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ent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10120" indent="-223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O will provide a proof-of-concept of how space borne technologies can monitor greenhouse gas emi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240" indent="-174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O was delivered  to VAFB to be launched in 25 February 2009 but the launch vehicle failed to deliver the Observatory to or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240" indent="-174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President’s FY11 budget, there is language and funds to rebuild O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240" indent="-174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O-2 was approved by NASA on February 24, 2010 to enter mission form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831000" cy="701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CO-2 Is Designed to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olutionize Global Carbon Cycle Sci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144360" y="2489040"/>
            <a:ext cx="39816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urrent measurement networks are unable to deliver the observations needed to close the carbon budget, resulting in a “missing sink” corresponding to about half of the annual fossil fuel emission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Fundamental questions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270000" indent="-163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is the missing sink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727200" indent="-163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nd or ocean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727200" indent="-163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n does it occur?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270000" indent="-163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y does the sink strength vary dramatically from year to year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270000" indent="-163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ill the nature, location and strength of CO</a:t>
            </a:r>
            <a:r>
              <a:rPr b="0" lang="en-US" sz="15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sinks change in the future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4487760" y="3933720"/>
            <a:ext cx="3981600" cy="19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nnual fossil fuel emissions, the major anthropogenic CO</a:t>
            </a:r>
            <a:r>
              <a:rPr b="0" lang="en-US" sz="15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source, increase smoothly over time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he accumulation rate of atmospheric CO</a:t>
            </a:r>
            <a:r>
              <a:rPr b="0" lang="en-US" sz="15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varies dramatically from year to year due to variation in the fundamental processes responsible for land and ocean sinks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144360" y="995400"/>
            <a:ext cx="3909960" cy="1276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CO-2 is designed to deliver the observations needed to characterize CO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sourc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sin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270000" indent="-1638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 other existing or planned satellite sensor will match OCO’s capabiliti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6" descr="bar_graph_1958"/>
          <p:cNvPicPr/>
          <p:nvPr/>
        </p:nvPicPr>
        <p:blipFill>
          <a:blip r:embed="rId1"/>
          <a:srcRect l="7798" t="3057" r="6026" b="3369"/>
          <a:stretch/>
        </p:blipFill>
        <p:spPr>
          <a:xfrm>
            <a:off x="4495680" y="914400"/>
            <a:ext cx="3883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5786280" cy="7383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Precise Space-based 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easurements are Need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rcRect l="1665" t="514" r="54282" b="51818"/>
          <a:stretch/>
        </p:blipFill>
        <p:spPr>
          <a:xfrm>
            <a:off x="1219320" y="762120"/>
            <a:ext cx="6248160" cy="396216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 rot="16200000">
            <a:off x="6348240" y="2673360"/>
            <a:ext cx="345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R. Kawa, personal communication (200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752480" y="4581360"/>
            <a:ext cx="52578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marL="55440" indent="-55440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imulated global XCO2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North-South gradients ~ 3-8 pp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East-West gradients &lt; 2 pp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Regional gradients ~1 ppm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cale lengths:  Land ~100 km,  Ocean ~1000 km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247320"/>
            <a:ext cx="5289840" cy="703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biting Carbon Observatory-2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sures Reflected Solar Radian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83" descr=""/>
          <p:cNvPicPr/>
          <p:nvPr/>
        </p:nvPicPr>
        <p:blipFill>
          <a:blip r:embed="rId1"/>
          <a:srcRect l="14742" t="0" r="0" b="0"/>
          <a:stretch/>
        </p:blipFill>
        <p:spPr>
          <a:xfrm>
            <a:off x="4344840" y="1112760"/>
            <a:ext cx="3732480" cy="41036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4189320" y="5216400"/>
            <a:ext cx="388800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O-2’s small footprint maximizes the probability of observing scenes clear enough to sense the entire colum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3"/>
          <p:cNvGrpSpPr/>
          <p:nvPr/>
        </p:nvGrpSpPr>
        <p:grpSpPr>
          <a:xfrm>
            <a:off x="1014480" y="1143000"/>
            <a:ext cx="2058120" cy="4155840"/>
            <a:chOff x="1014480" y="1143000"/>
            <a:chExt cx="2058120" cy="4155840"/>
          </a:xfrm>
        </p:grpSpPr>
        <p:pic>
          <p:nvPicPr>
            <p:cNvPr id="101" name="Picture 4" descr="Mt_San_Antoiio_PIA03332"/>
            <p:cNvPicPr/>
            <p:nvPr/>
          </p:nvPicPr>
          <p:blipFill>
            <a:blip r:embed="rId2"/>
            <a:stretch/>
          </p:blipFill>
          <p:spPr>
            <a:xfrm>
              <a:off x="1014480" y="2990880"/>
              <a:ext cx="1977840" cy="230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5" descr="Mt_San_Antoiio_PIA03332"/>
            <p:cNvPicPr/>
            <p:nvPr/>
          </p:nvPicPr>
          <p:blipFill>
            <a:blip r:embed="rId3"/>
            <a:srcRect l="0" t="94557" r="0" b="0"/>
            <a:stretch/>
          </p:blipFill>
          <p:spPr>
            <a:xfrm>
              <a:off x="1014480" y="1143000"/>
              <a:ext cx="1977840" cy="18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6" descr=""/>
            <p:cNvPicPr/>
            <p:nvPr/>
          </p:nvPicPr>
          <p:blipFill>
            <a:blip r:embed="rId4"/>
            <a:stretch/>
          </p:blipFill>
          <p:spPr>
            <a:xfrm rot="901800">
              <a:off x="1932120" y="1579680"/>
              <a:ext cx="1115640" cy="3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AutoShape 7"/>
            <p:cNvSpPr/>
            <p:nvPr/>
          </p:nvSpPr>
          <p:spPr>
            <a:xfrm>
              <a:off x="1374840" y="1143000"/>
              <a:ext cx="334440" cy="357480"/>
            </a:xfrm>
            <a:custGeom>
              <a:avLst/>
              <a:gdLst>
                <a:gd name="textAreaLeft" fmla="*/ 91440 w 334440"/>
                <a:gd name="textAreaRight" fmla="*/ 243000 w 334440"/>
                <a:gd name="textAreaTop" fmla="*/ 97920 h 357480"/>
                <a:gd name="textAreaBottom" fmla="*/ 259560 h 35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027" y="12117"/>
                  </a:lnTo>
                  <a:lnTo>
                    <a:pt x="786" y="14846"/>
                  </a:lnTo>
                  <a:lnTo>
                    <a:pt x="5013" y="14558"/>
                  </a:lnTo>
                  <a:lnTo>
                    <a:pt x="3163" y="18437"/>
                  </a:lnTo>
                  <a:lnTo>
                    <a:pt x="6942" y="16520"/>
                  </a:lnTo>
                  <a:lnTo>
                    <a:pt x="6580" y="20741"/>
                  </a:lnTo>
                  <a:lnTo>
                    <a:pt x="9365" y="17549"/>
                  </a:lnTo>
                  <a:lnTo>
                    <a:pt x="10800" y="21600"/>
                  </a:lnTo>
                  <a:lnTo>
                    <a:pt x="12117" y="17573"/>
                  </a:lnTo>
                  <a:lnTo>
                    <a:pt x="14846" y="20814"/>
                  </a:lnTo>
                  <a:lnTo>
                    <a:pt x="14558" y="16587"/>
                  </a:lnTo>
                  <a:lnTo>
                    <a:pt x="18437" y="18437"/>
                  </a:lnTo>
                  <a:lnTo>
                    <a:pt x="16520" y="14658"/>
                  </a:lnTo>
                  <a:lnTo>
                    <a:pt x="20741" y="15020"/>
                  </a:lnTo>
                  <a:lnTo>
                    <a:pt x="17549" y="12235"/>
                  </a:lnTo>
                  <a:lnTo>
                    <a:pt x="21600" y="10800"/>
                  </a:lnTo>
                  <a:lnTo>
                    <a:pt x="17573" y="9483"/>
                  </a:lnTo>
                  <a:lnTo>
                    <a:pt x="20814" y="6754"/>
                  </a:lnTo>
                  <a:lnTo>
                    <a:pt x="16587" y="7042"/>
                  </a:lnTo>
                  <a:lnTo>
                    <a:pt x="18437" y="3163"/>
                  </a:lnTo>
                  <a:lnTo>
                    <a:pt x="14658" y="5080"/>
                  </a:lnTo>
                  <a:lnTo>
                    <a:pt x="15020" y="859"/>
                  </a:lnTo>
                  <a:lnTo>
                    <a:pt x="12235" y="4051"/>
                  </a:lnTo>
                  <a:lnTo>
                    <a:pt x="10800" y="0"/>
                  </a:lnTo>
                  <a:lnTo>
                    <a:pt x="9483" y="4027"/>
                  </a:lnTo>
                  <a:lnTo>
                    <a:pt x="6754" y="786"/>
                  </a:lnTo>
                  <a:lnTo>
                    <a:pt x="7042" y="5013"/>
                  </a:lnTo>
                  <a:lnTo>
                    <a:pt x="3163" y="3163"/>
                  </a:lnTo>
                  <a:lnTo>
                    <a:pt x="5080" y="6942"/>
                  </a:lnTo>
                  <a:lnTo>
                    <a:pt x="859" y="6580"/>
                  </a:lnTo>
                  <a:lnTo>
                    <a:pt x="4051" y="936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AutoShape 8"/>
            <p:cNvSpPr/>
            <p:nvPr/>
          </p:nvSpPr>
          <p:spPr>
            <a:xfrm>
              <a:off x="1486440" y="2277000"/>
              <a:ext cx="1004400" cy="2803320"/>
            </a:xfrm>
            <a:prstGeom prst="cube">
              <a:avLst>
                <a:gd name="adj" fmla="val 18694"/>
              </a:avLst>
            </a:prstGeom>
            <a:gradFill rotWithShape="0">
              <a:gsLst>
                <a:gs pos="0">
                  <a:srgbClr val="005e47"/>
                </a:gs>
                <a:gs pos="100000">
                  <a:srgbClr val="00cc99">
                    <a:alpha val="45098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Group 9"/>
            <p:cNvGrpSpPr/>
            <p:nvPr/>
          </p:nvGrpSpPr>
          <p:grpSpPr>
            <a:xfrm>
              <a:off x="1486440" y="4876560"/>
              <a:ext cx="997200" cy="200880"/>
              <a:chOff x="1486440" y="4876560"/>
              <a:chExt cx="997200" cy="200880"/>
            </a:xfrm>
          </p:grpSpPr>
          <p:sp>
            <p:nvSpPr>
              <p:cNvPr id="107" name="Freeform 10"/>
              <p:cNvSpPr/>
              <p:nvPr/>
            </p:nvSpPr>
            <p:spPr>
              <a:xfrm>
                <a:off x="1716480" y="4876560"/>
                <a:ext cx="767160" cy="3600"/>
              </a:xfrm>
              <a:custGeom>
                <a:avLst/>
                <a:gdLst>
                  <a:gd name="textAreaLeft" fmla="*/ 0 w 767160"/>
                  <a:gd name="textAreaRight" fmla="*/ 767520 w 7671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660" h="3">
                    <a:moveTo>
                      <a:pt x="660" y="3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11"/>
              <p:cNvSpPr/>
              <p:nvPr/>
            </p:nvSpPr>
            <p:spPr>
              <a:xfrm>
                <a:off x="1486440" y="4880160"/>
                <a:ext cx="230040" cy="197280"/>
              </a:xfrm>
              <a:custGeom>
                <a:avLst/>
                <a:gdLst>
                  <a:gd name="textAreaLeft" fmla="*/ 0 w 230040"/>
                  <a:gd name="textAreaRight" fmla="*/ 230400 w 23004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198" h="159">
                    <a:moveTo>
                      <a:pt x="198" y="0"/>
                    </a:moveTo>
                    <a:lnTo>
                      <a:pt x="0" y="15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" name="Freeform 12"/>
            <p:cNvSpPr/>
            <p:nvPr/>
          </p:nvSpPr>
          <p:spPr>
            <a:xfrm>
              <a:off x="1440000" y="1331640"/>
              <a:ext cx="566640" cy="3626640"/>
            </a:xfrm>
            <a:custGeom>
              <a:avLst/>
              <a:gdLst>
                <a:gd name="textAreaLeft" fmla="*/ 0 w 566640"/>
                <a:gd name="textAreaRight" fmla="*/ 567000 w 566640"/>
                <a:gd name="textAreaTop" fmla="*/ 0 h 3626640"/>
                <a:gd name="textAreaBottom" fmla="*/ 3627000 h 3626640"/>
              </a:gdLst>
              <a:ahLst/>
              <a:rect l="textAreaLeft" t="textAreaTop" r="textAreaRight" b="textAreaBottom"/>
              <a:pathLst>
                <a:path w="488" h="2920">
                  <a:moveTo>
                    <a:pt x="0" y="24"/>
                  </a:moveTo>
                  <a:lnTo>
                    <a:pt x="424" y="2920"/>
                  </a:lnTo>
                  <a:lnTo>
                    <a:pt x="488" y="2920"/>
                  </a:lnTo>
                  <a:lnTo>
                    <a:pt x="176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66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3"/>
            <p:cNvSpPr/>
            <p:nvPr/>
          </p:nvSpPr>
          <p:spPr>
            <a:xfrm>
              <a:off x="1928520" y="1817280"/>
              <a:ext cx="509760" cy="314892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3148920"/>
                <a:gd name="textAreaBottom" fmla="*/ 3149280 h 3148920"/>
              </a:gdLst>
              <a:ahLst/>
              <a:rect l="textAreaLeft" t="textAreaTop" r="textAreaRight" b="textAreaBottom"/>
              <a:pathLst>
                <a:path w="438" h="2535">
                  <a:moveTo>
                    <a:pt x="423" y="0"/>
                  </a:moveTo>
                  <a:lnTo>
                    <a:pt x="0" y="2535"/>
                  </a:lnTo>
                  <a:lnTo>
                    <a:pt x="78" y="2532"/>
                  </a:lnTo>
                  <a:lnTo>
                    <a:pt x="438" y="0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fff66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1" name="Picture 14" descr="CO2_Molecule"/>
            <p:cNvPicPr/>
            <p:nvPr/>
          </p:nvPicPr>
          <p:blipFill>
            <a:blip r:embed="rId5"/>
            <a:stretch/>
          </p:blipFill>
          <p:spPr>
            <a:xfrm>
              <a:off x="1541880" y="2990880"/>
              <a:ext cx="178920" cy="13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15" descr="CO2_Molecule"/>
            <p:cNvPicPr/>
            <p:nvPr/>
          </p:nvPicPr>
          <p:blipFill>
            <a:blip r:embed="rId6"/>
            <a:stretch/>
          </p:blipFill>
          <p:spPr>
            <a:xfrm rot="5269800">
              <a:off x="1478520" y="4188240"/>
              <a:ext cx="191160" cy="1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16" descr="CO2_Molecule"/>
            <p:cNvPicPr/>
            <p:nvPr/>
          </p:nvPicPr>
          <p:blipFill>
            <a:blip r:embed="rId7"/>
            <a:stretch/>
          </p:blipFill>
          <p:spPr>
            <a:xfrm rot="2069400">
              <a:off x="1616400" y="4600800"/>
              <a:ext cx="178920" cy="13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7" descr="CO2_Molecule"/>
            <p:cNvPicPr/>
            <p:nvPr/>
          </p:nvPicPr>
          <p:blipFill>
            <a:blip r:embed="rId8"/>
            <a:stretch/>
          </p:blipFill>
          <p:spPr>
            <a:xfrm rot="21138000">
              <a:off x="1765080" y="3825720"/>
              <a:ext cx="178920" cy="13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8" descr="CO2_Molecule"/>
            <p:cNvPicPr/>
            <p:nvPr/>
          </p:nvPicPr>
          <p:blipFill>
            <a:blip r:embed="rId9"/>
            <a:stretch/>
          </p:blipFill>
          <p:spPr>
            <a:xfrm rot="5269800">
              <a:off x="1954080" y="4336200"/>
              <a:ext cx="191160" cy="1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19" descr="CO2_Molecule"/>
            <p:cNvPicPr/>
            <p:nvPr/>
          </p:nvPicPr>
          <p:blipFill>
            <a:blip r:embed="rId10"/>
            <a:stretch/>
          </p:blipFill>
          <p:spPr>
            <a:xfrm>
              <a:off x="2043360" y="3348720"/>
              <a:ext cx="178920" cy="13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20" descr="CO2_Molecule"/>
            <p:cNvPicPr/>
            <p:nvPr/>
          </p:nvPicPr>
          <p:blipFill>
            <a:blip r:embed="rId11"/>
            <a:stretch/>
          </p:blipFill>
          <p:spPr>
            <a:xfrm>
              <a:off x="2144520" y="2931480"/>
              <a:ext cx="178920" cy="13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21" descr="CO2_Molecule"/>
            <p:cNvPicPr/>
            <p:nvPr/>
          </p:nvPicPr>
          <p:blipFill>
            <a:blip r:embed="rId12"/>
            <a:stretch/>
          </p:blipFill>
          <p:spPr>
            <a:xfrm rot="1225800">
              <a:off x="2193840" y="3825720"/>
              <a:ext cx="178920" cy="13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22" descr="CO2_Molecule"/>
            <p:cNvPicPr/>
            <p:nvPr/>
          </p:nvPicPr>
          <p:blipFill>
            <a:blip r:embed="rId13"/>
            <a:stretch/>
          </p:blipFill>
          <p:spPr>
            <a:xfrm>
              <a:off x="1795680" y="3215880"/>
              <a:ext cx="178920" cy="13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23" descr="CO2_Molecule"/>
            <p:cNvPicPr/>
            <p:nvPr/>
          </p:nvPicPr>
          <p:blipFill>
            <a:blip r:embed="rId14"/>
            <a:stretch/>
          </p:blipFill>
          <p:spPr>
            <a:xfrm>
              <a:off x="1958400" y="2692800"/>
              <a:ext cx="178920" cy="13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24" descr="CO2_Molecule"/>
            <p:cNvPicPr/>
            <p:nvPr/>
          </p:nvPicPr>
          <p:blipFill>
            <a:blip r:embed="rId15"/>
            <a:stretch/>
          </p:blipFill>
          <p:spPr>
            <a:xfrm rot="1225800">
              <a:off x="2193840" y="4229640"/>
              <a:ext cx="178920" cy="13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25" descr="CO2_Molecule"/>
            <p:cNvPicPr/>
            <p:nvPr/>
          </p:nvPicPr>
          <p:blipFill>
            <a:blip r:embed="rId16"/>
            <a:stretch/>
          </p:blipFill>
          <p:spPr>
            <a:xfrm rot="5269800">
              <a:off x="1592280" y="3441960"/>
              <a:ext cx="191160" cy="1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26" descr="CO2_Molecule"/>
            <p:cNvPicPr/>
            <p:nvPr/>
          </p:nvPicPr>
          <p:blipFill>
            <a:blip r:embed="rId17"/>
            <a:stretch/>
          </p:blipFill>
          <p:spPr>
            <a:xfrm rot="2069400">
              <a:off x="2071800" y="4779720"/>
              <a:ext cx="178920" cy="13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27" descr="CO2_Molecule"/>
            <p:cNvPicPr/>
            <p:nvPr/>
          </p:nvPicPr>
          <p:blipFill>
            <a:blip r:embed="rId18"/>
            <a:stretch/>
          </p:blipFill>
          <p:spPr>
            <a:xfrm>
              <a:off x="1655640" y="2619720"/>
              <a:ext cx="178920" cy="13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Text Box 8"/>
          <p:cNvSpPr/>
          <p:nvPr/>
        </p:nvSpPr>
        <p:spPr>
          <a:xfrm>
            <a:off x="228600" y="5334120"/>
            <a:ext cx="388764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O-2 measures reflected solar radiances to maximize sensitivity to surface CO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4240" y="142560"/>
            <a:ext cx="6348240" cy="3934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CO-2 Instru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73080" y="995400"/>
            <a:ext cx="43434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noAutofit/>
          </a:bodyPr>
          <a:p>
            <a:pPr marL="174600" indent="-174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co-bore-sighted, high resolution, grating spectrome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1080" indent="-268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0.765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 A-ban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1080" indent="-268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1.61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1080" indent="-268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.06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olving Power&gt; 20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tically fast: f/1.8 (high SN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otprint size: 1.29 x 2.25 km @ nadi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wath: 0.8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(10.6 km at nad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ss: 140 k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: ~105 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1080" indent="-2682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ost sensitive to near surface CO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1080" indent="-2682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n “target” off-track loc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1080" indent="-2682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 limited-life compon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1080" indent="-2682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deal for long-term monito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1080" indent="-2682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-8 year lifetim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0" descr="PA040011"/>
          <p:cNvPicPr/>
          <p:nvPr/>
        </p:nvPicPr>
        <p:blipFill>
          <a:blip r:embed="rId1"/>
          <a:stretch/>
        </p:blipFill>
        <p:spPr>
          <a:xfrm>
            <a:off x="4199040" y="1066680"/>
            <a:ext cx="1303200" cy="1279800"/>
          </a:xfrm>
          <a:prstGeom prst="rect">
            <a:avLst/>
          </a:prstGeom>
          <a:ln w="0">
            <a:noFill/>
          </a:ln>
        </p:spPr>
      </p:pic>
      <p:sp>
        <p:nvSpPr>
          <p:cNvPr id="129" name="Line 61"/>
          <p:cNvSpPr/>
          <p:nvPr/>
        </p:nvSpPr>
        <p:spPr>
          <a:xfrm flipH="1">
            <a:off x="5284800" y="1635120"/>
            <a:ext cx="579600" cy="71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28440" bIns="284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2" descr="solar_spectrum"/>
          <p:cNvPicPr/>
          <p:nvPr/>
        </p:nvPicPr>
        <p:blipFill>
          <a:blip r:embed="rId2"/>
          <a:srcRect l="60005" t="0" r="3334" b="52003"/>
          <a:stretch/>
        </p:blipFill>
        <p:spPr>
          <a:xfrm>
            <a:off x="4548240" y="2009880"/>
            <a:ext cx="434880" cy="11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161_CO2_xy_view"/>
          <p:cNvPicPr/>
          <p:nvPr/>
        </p:nvPicPr>
        <p:blipFill>
          <a:blip r:embed="rId3"/>
          <a:stretch/>
        </p:blipFill>
        <p:spPr>
          <a:xfrm>
            <a:off x="5989680" y="1144440"/>
            <a:ext cx="2259000" cy="4645080"/>
          </a:xfrm>
          <a:prstGeom prst="rect">
            <a:avLst/>
          </a:prstGeom>
          <a:ln w="0">
            <a:noFill/>
          </a:ln>
        </p:spPr>
      </p:pic>
      <p:sp>
        <p:nvSpPr>
          <p:cNvPr id="132" name="Line 16"/>
          <p:cNvSpPr/>
          <p:nvPr/>
        </p:nvSpPr>
        <p:spPr>
          <a:xfrm flipH="1">
            <a:off x="7640640" y="2741760"/>
            <a:ext cx="187200" cy="1807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7724520" y="2652840"/>
            <a:ext cx="802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Collimato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 flipV="1">
            <a:off x="7012080" y="1990800"/>
            <a:ext cx="233280" cy="410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-1800" bIns="-1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6696000" y="1922400"/>
            <a:ext cx="3664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Sl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21"/>
          <p:cNvSpPr/>
          <p:nvPr/>
        </p:nvSpPr>
        <p:spPr>
          <a:xfrm flipV="1">
            <a:off x="5935680" y="2274840"/>
            <a:ext cx="285840" cy="7128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5934960" y="2987640"/>
            <a:ext cx="314280" cy="1112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3"/>
          <p:cNvSpPr/>
          <p:nvPr/>
        </p:nvSpPr>
        <p:spPr>
          <a:xfrm flipH="1" flipV="1">
            <a:off x="7418160" y="2011320"/>
            <a:ext cx="406440" cy="7574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6469920" y="5389560"/>
            <a:ext cx="632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Gratin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6455880" y="995400"/>
            <a:ext cx="5706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Relay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Optic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6"/>
          <p:cNvSpPr/>
          <p:nvPr/>
        </p:nvSpPr>
        <p:spPr>
          <a:xfrm>
            <a:off x="7034040" y="1209600"/>
            <a:ext cx="241560" cy="1065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7"/>
          <p:cNvSpPr/>
          <p:nvPr/>
        </p:nvSpPr>
        <p:spPr>
          <a:xfrm>
            <a:off x="7636320" y="2184480"/>
            <a:ext cx="9194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Telescope/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Recolimato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28"/>
          <p:cNvSpPr/>
          <p:nvPr/>
        </p:nvSpPr>
        <p:spPr>
          <a:xfrm flipV="1">
            <a:off x="7012800" y="5416560"/>
            <a:ext cx="157320" cy="1080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5816520" y="147780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Detecto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30"/>
          <p:cNvSpPr/>
          <p:nvPr/>
        </p:nvSpPr>
        <p:spPr>
          <a:xfrm>
            <a:off x="6226920" y="1722600"/>
            <a:ext cx="25560" cy="1774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 flipH="1" flipV="1">
            <a:off x="8040600" y="2084400"/>
            <a:ext cx="60480" cy="1238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32"/>
          <p:cNvSpPr/>
          <p:nvPr/>
        </p:nvSpPr>
        <p:spPr>
          <a:xfrm rot="5400000">
            <a:off x="7578360" y="1571760"/>
            <a:ext cx="515880" cy="5252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33"/>
          <p:cNvSpPr/>
          <p:nvPr/>
        </p:nvSpPr>
        <p:spPr>
          <a:xfrm>
            <a:off x="7772400" y="1768320"/>
            <a:ext cx="130320" cy="128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Freeform 35"/>
          <p:cNvSpPr/>
          <p:nvPr/>
        </p:nvSpPr>
        <p:spPr>
          <a:xfrm>
            <a:off x="7697880" y="4888080"/>
            <a:ext cx="110880" cy="868320"/>
          </a:xfrm>
          <a:custGeom>
            <a:avLst/>
            <a:gdLst>
              <a:gd name="textAreaLeft" fmla="*/ 0 w 110880"/>
              <a:gd name="textAreaRight" fmla="*/ 111240 w 1108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76" h="604">
                <a:moveTo>
                  <a:pt x="2" y="604"/>
                </a:moveTo>
                <a:lnTo>
                  <a:pt x="76" y="604"/>
                </a:lnTo>
                <a:lnTo>
                  <a:pt x="7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36"/>
          <p:cNvSpPr/>
          <p:nvPr/>
        </p:nvSpPr>
        <p:spPr>
          <a:xfrm flipH="1">
            <a:off x="7707240" y="4894200"/>
            <a:ext cx="98640" cy="74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1680" bIns="316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37"/>
          <p:cNvSpPr/>
          <p:nvPr/>
        </p:nvSpPr>
        <p:spPr>
          <a:xfrm flipH="1">
            <a:off x="7707240" y="4968720"/>
            <a:ext cx="98640" cy="74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2040" bIns="320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38"/>
          <p:cNvSpPr/>
          <p:nvPr/>
        </p:nvSpPr>
        <p:spPr>
          <a:xfrm flipH="1">
            <a:off x="7708680" y="5032440"/>
            <a:ext cx="99720" cy="74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1680" bIns="316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39"/>
          <p:cNvSpPr/>
          <p:nvPr/>
        </p:nvSpPr>
        <p:spPr>
          <a:xfrm flipH="1">
            <a:off x="7708680" y="5106960"/>
            <a:ext cx="99720" cy="74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1680" bIns="316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40"/>
          <p:cNvSpPr/>
          <p:nvPr/>
        </p:nvSpPr>
        <p:spPr>
          <a:xfrm flipH="1">
            <a:off x="7708680" y="5178600"/>
            <a:ext cx="99720" cy="74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1680" bIns="316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41"/>
          <p:cNvSpPr/>
          <p:nvPr/>
        </p:nvSpPr>
        <p:spPr>
          <a:xfrm flipH="1">
            <a:off x="7708680" y="5253120"/>
            <a:ext cx="99720" cy="74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1680" bIns="316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42"/>
          <p:cNvSpPr/>
          <p:nvPr/>
        </p:nvSpPr>
        <p:spPr>
          <a:xfrm flipH="1">
            <a:off x="7711920" y="5316480"/>
            <a:ext cx="10008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240" bIns="302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43"/>
          <p:cNvSpPr/>
          <p:nvPr/>
        </p:nvSpPr>
        <p:spPr>
          <a:xfrm flipH="1">
            <a:off x="7711920" y="5389560"/>
            <a:ext cx="1000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3480" bIns="334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44"/>
          <p:cNvSpPr/>
          <p:nvPr/>
        </p:nvSpPr>
        <p:spPr>
          <a:xfrm flipH="1">
            <a:off x="7707240" y="5465880"/>
            <a:ext cx="98640" cy="74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1680" bIns="316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45"/>
          <p:cNvSpPr/>
          <p:nvPr/>
        </p:nvSpPr>
        <p:spPr>
          <a:xfrm flipH="1">
            <a:off x="7707240" y="5540400"/>
            <a:ext cx="98640" cy="74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1680" bIns="316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46"/>
          <p:cNvSpPr/>
          <p:nvPr/>
        </p:nvSpPr>
        <p:spPr>
          <a:xfrm flipH="1">
            <a:off x="7708680" y="5603760"/>
            <a:ext cx="99720" cy="74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2040" bIns="320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47"/>
          <p:cNvSpPr/>
          <p:nvPr/>
        </p:nvSpPr>
        <p:spPr>
          <a:xfrm flipH="1">
            <a:off x="7708680" y="5678640"/>
            <a:ext cx="99720" cy="74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1680" bIns="316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48"/>
          <p:cNvSpPr/>
          <p:nvPr/>
        </p:nvSpPr>
        <p:spPr>
          <a:xfrm>
            <a:off x="7889040" y="4925880"/>
            <a:ext cx="4759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Ligh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Trap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49"/>
          <p:cNvSpPr/>
          <p:nvPr/>
        </p:nvSpPr>
        <p:spPr>
          <a:xfrm flipH="1">
            <a:off x="7851240" y="5102280"/>
            <a:ext cx="96840" cy="763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33480" bIns="334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50"/>
          <p:cNvSpPr/>
          <p:nvPr/>
        </p:nvSpPr>
        <p:spPr>
          <a:xfrm>
            <a:off x="6453720" y="1550880"/>
            <a:ext cx="72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Polariz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51"/>
          <p:cNvSpPr/>
          <p:nvPr/>
        </p:nvSpPr>
        <p:spPr>
          <a:xfrm>
            <a:off x="7603920" y="1066680"/>
            <a:ext cx="9514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Beamsplitt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&amp;Pre-Filt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52"/>
          <p:cNvSpPr/>
          <p:nvPr/>
        </p:nvSpPr>
        <p:spPr>
          <a:xfrm>
            <a:off x="7104240" y="1744560"/>
            <a:ext cx="212400" cy="730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30240" bIns="302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3"/>
          <p:cNvSpPr/>
          <p:nvPr/>
        </p:nvSpPr>
        <p:spPr>
          <a:xfrm>
            <a:off x="5476320" y="1719360"/>
            <a:ext cx="4989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Cold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Filt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54"/>
          <p:cNvSpPr/>
          <p:nvPr/>
        </p:nvSpPr>
        <p:spPr>
          <a:xfrm flipV="1" rot="20696400">
            <a:off x="6230520" y="1961280"/>
            <a:ext cx="125640" cy="25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18000" bIns="-18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55"/>
          <p:cNvSpPr/>
          <p:nvPr/>
        </p:nvSpPr>
        <p:spPr>
          <a:xfrm>
            <a:off x="5891040" y="1920960"/>
            <a:ext cx="314640" cy="698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27000" bIns="27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56"/>
          <p:cNvSpPr/>
          <p:nvPr/>
        </p:nvSpPr>
        <p:spPr>
          <a:xfrm flipV="1" rot="52800">
            <a:off x="7326360" y="1811160"/>
            <a:ext cx="73080" cy="17640"/>
          </a:xfrm>
          <a:prstGeom prst="rect">
            <a:avLst/>
          </a:prstGeom>
          <a:solidFill>
            <a:srgbClr val="0000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5560" bIns="-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5400720" y="2944800"/>
            <a:ext cx="6710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Camer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4"/>
          <p:cNvSpPr/>
          <p:nvPr/>
        </p:nvSpPr>
        <p:spPr>
          <a:xfrm rot="3011400">
            <a:off x="6794640" y="5350320"/>
            <a:ext cx="1006560" cy="11916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66" descr="Instrument_Image_1"/>
          <p:cNvPicPr/>
          <p:nvPr/>
        </p:nvPicPr>
        <p:blipFill>
          <a:blip r:embed="rId4"/>
          <a:stretch/>
        </p:blipFill>
        <p:spPr>
          <a:xfrm>
            <a:off x="4394160" y="3556080"/>
            <a:ext cx="183204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06000" y="76320"/>
            <a:ext cx="6248520" cy="395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SAT provides key experience for OCO-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gosat - 2008-06-23"/>
          <p:cNvPicPr/>
          <p:nvPr/>
        </p:nvPicPr>
        <p:blipFill>
          <a:blip r:embed="rId1"/>
          <a:stretch/>
        </p:blipFill>
        <p:spPr>
          <a:xfrm>
            <a:off x="4819680" y="914400"/>
            <a:ext cx="3257640" cy="2641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oco_hires_3 copy.jpg"/>
          <p:cNvPicPr/>
          <p:nvPr/>
        </p:nvPicPr>
        <p:blipFill>
          <a:blip r:embed="rId2"/>
          <a:srcRect l="0" t="8334" r="0" b="28575"/>
          <a:stretch/>
        </p:blipFill>
        <p:spPr>
          <a:xfrm>
            <a:off x="152280" y="838080"/>
            <a:ext cx="4316400" cy="2722680"/>
          </a:xfrm>
          <a:prstGeom prst="rect">
            <a:avLst/>
          </a:prstGeom>
          <a:ln w="0">
            <a:noFill/>
          </a:ln>
        </p:spPr>
      </p:pic>
      <p:sp>
        <p:nvSpPr>
          <p:cNvPr id="177" name="TextBox 7"/>
          <p:cNvSpPr/>
          <p:nvPr/>
        </p:nvSpPr>
        <p:spPr>
          <a:xfrm>
            <a:off x="380880" y="3581280"/>
            <a:ext cx="79250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ile designed around different instruments, both GOSAT and OCO-2 have wavelength regions in common with differences in sensitivity (SN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OSAT baseline:  SNR ~300 for 30% albedo, 30 deg S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CO baseline: SNR ~300 for 5% albedo, 60 de S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laboration with Japanese GOSAT has provided OCO/ACOS team with data to test retrieval algorithms and validation approach developed for OCO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6168240" y="91440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S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1674000" y="91440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CO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06000" y="179280"/>
            <a:ext cx="6248520" cy="395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CO-2 vs. GOSAT: Global Sampling Strateg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Group 19"/>
          <p:cNvGrpSpPr/>
          <p:nvPr/>
        </p:nvGrpSpPr>
        <p:grpSpPr>
          <a:xfrm>
            <a:off x="4648320" y="914400"/>
            <a:ext cx="3504960" cy="3581280"/>
            <a:chOff x="4648320" y="914400"/>
            <a:chExt cx="3504960" cy="3581280"/>
          </a:xfrm>
        </p:grpSpPr>
        <p:pic>
          <p:nvPicPr>
            <p:cNvPr id="182" name="図 2" descr="GOSAT_orbit2.jpg"/>
            <p:cNvPicPr/>
            <p:nvPr/>
          </p:nvPicPr>
          <p:blipFill>
            <a:blip r:embed="rId1"/>
            <a:stretch/>
          </p:blipFill>
          <p:spPr>
            <a:xfrm>
              <a:off x="4648320" y="914400"/>
              <a:ext cx="350496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Oval 7"/>
            <p:cNvSpPr/>
            <p:nvPr/>
          </p:nvSpPr>
          <p:spPr>
            <a:xfrm>
              <a:off x="5470200" y="2962800"/>
              <a:ext cx="92160" cy="84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8"/>
            <p:cNvSpPr/>
            <p:nvPr/>
          </p:nvSpPr>
          <p:spPr>
            <a:xfrm>
              <a:off x="5753880" y="3074400"/>
              <a:ext cx="92160" cy="84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9"/>
            <p:cNvSpPr/>
            <p:nvPr/>
          </p:nvSpPr>
          <p:spPr>
            <a:xfrm>
              <a:off x="6033960" y="3209760"/>
              <a:ext cx="92160" cy="84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0"/>
            <p:cNvSpPr/>
            <p:nvPr/>
          </p:nvSpPr>
          <p:spPr>
            <a:xfrm>
              <a:off x="5593320" y="3007800"/>
              <a:ext cx="92160" cy="84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1"/>
            <p:cNvSpPr/>
            <p:nvPr/>
          </p:nvSpPr>
          <p:spPr>
            <a:xfrm>
              <a:off x="5895360" y="3135600"/>
              <a:ext cx="92160" cy="84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2"/>
            <p:cNvSpPr/>
            <p:nvPr/>
          </p:nvSpPr>
          <p:spPr>
            <a:xfrm>
              <a:off x="6357600" y="1934640"/>
              <a:ext cx="92160" cy="84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3"/>
            <p:cNvSpPr/>
            <p:nvPr/>
          </p:nvSpPr>
          <p:spPr>
            <a:xfrm>
              <a:off x="6403680" y="1934640"/>
              <a:ext cx="92160" cy="8496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TextBox 15"/>
          <p:cNvSpPr/>
          <p:nvPr/>
        </p:nvSpPr>
        <p:spPr>
          <a:xfrm>
            <a:off x="4621320" y="4495680"/>
            <a:ext cx="383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-day global repeat cy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Vs spaced 160 km apart in 5-point rast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int obs limited to ±35 de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34"/>
          <p:cNvGrpSpPr/>
          <p:nvPr/>
        </p:nvGrpSpPr>
        <p:grpSpPr>
          <a:xfrm>
            <a:off x="227160" y="769680"/>
            <a:ext cx="3988800" cy="4024080"/>
            <a:chOff x="227160" y="769680"/>
            <a:chExt cx="3988800" cy="4024080"/>
          </a:xfrm>
        </p:grpSpPr>
        <p:pic>
          <p:nvPicPr>
            <p:cNvPr id="192" name="Picture 4" descr="clouds"/>
            <p:cNvPicPr/>
            <p:nvPr/>
          </p:nvPicPr>
          <p:blipFill>
            <a:blip r:embed="rId2"/>
            <a:stretch/>
          </p:blipFill>
          <p:spPr>
            <a:xfrm>
              <a:off x="779400" y="1423440"/>
              <a:ext cx="3430080" cy="30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Freeform 5"/>
            <p:cNvSpPr/>
            <p:nvPr/>
          </p:nvSpPr>
          <p:spPr>
            <a:xfrm rot="1733400">
              <a:off x="1099800" y="2439360"/>
              <a:ext cx="2780280" cy="1794240"/>
            </a:xfrm>
            <a:custGeom>
              <a:avLst/>
              <a:gdLst>
                <a:gd name="textAreaLeft" fmla="*/ 0 w 2780280"/>
                <a:gd name="textAreaRight" fmla="*/ 2780640 w 2780280"/>
                <a:gd name="textAreaTop" fmla="*/ 0 h 1794240"/>
                <a:gd name="textAreaBottom" fmla="*/ 1794600 h 1794240"/>
              </a:gdLst>
              <a:ahLst/>
              <a:rect l="textAreaLeft" t="textAreaTop" r="textAreaRight" b="textAreaBottom"/>
              <a:pathLst>
                <a:path w="3180" h="2145">
                  <a:moveTo>
                    <a:pt x="140" y="1312"/>
                  </a:moveTo>
                  <a:cubicBezTo>
                    <a:pt x="327" y="1200"/>
                    <a:pt x="936" y="800"/>
                    <a:pt x="1268" y="640"/>
                  </a:cubicBezTo>
                  <a:cubicBezTo>
                    <a:pt x="1600" y="480"/>
                    <a:pt x="2028" y="448"/>
                    <a:pt x="2132" y="352"/>
                  </a:cubicBezTo>
                  <a:cubicBezTo>
                    <a:pt x="2236" y="256"/>
                    <a:pt x="1740" y="96"/>
                    <a:pt x="1892" y="64"/>
                  </a:cubicBezTo>
                  <a:cubicBezTo>
                    <a:pt x="2044" y="32"/>
                    <a:pt x="2908" y="0"/>
                    <a:pt x="3044" y="160"/>
                  </a:cubicBezTo>
                  <a:cubicBezTo>
                    <a:pt x="3180" y="320"/>
                    <a:pt x="2804" y="944"/>
                    <a:pt x="2708" y="1024"/>
                  </a:cubicBezTo>
                  <a:cubicBezTo>
                    <a:pt x="2612" y="1104"/>
                    <a:pt x="2795" y="477"/>
                    <a:pt x="2468" y="640"/>
                  </a:cubicBezTo>
                  <a:cubicBezTo>
                    <a:pt x="2141" y="803"/>
                    <a:pt x="1143" y="1855"/>
                    <a:pt x="748" y="2000"/>
                  </a:cubicBezTo>
                  <a:cubicBezTo>
                    <a:pt x="353" y="2145"/>
                    <a:pt x="200" y="1627"/>
                    <a:pt x="100" y="1512"/>
                  </a:cubicBezTo>
                  <a:cubicBezTo>
                    <a:pt x="0" y="1397"/>
                    <a:pt x="138" y="1354"/>
                    <a:pt x="148" y="1312"/>
                  </a:cubicBezTo>
                </a:path>
              </a:pathLst>
            </a:custGeom>
            <a:solidFill>
              <a:srgbClr val="ff0000">
                <a:alpha val="4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6"/>
            <p:cNvSpPr/>
            <p:nvPr/>
          </p:nvSpPr>
          <p:spPr>
            <a:xfrm>
              <a:off x="774000" y="2588400"/>
              <a:ext cx="2595600" cy="1886040"/>
            </a:xfrm>
            <a:custGeom>
              <a:avLst/>
              <a:gdLst>
                <a:gd name="textAreaLeft" fmla="*/ 0 w 2595600"/>
                <a:gd name="textAreaRight" fmla="*/ 2595960 w 2595600"/>
                <a:gd name="textAreaTop" fmla="*/ 0 h 1886040"/>
                <a:gd name="textAreaBottom" fmla="*/ 1886400 h 1886040"/>
              </a:gdLst>
              <a:ahLst/>
              <a:rect l="textAreaLeft" t="textAreaTop" r="textAreaRight" b="textAreaBottom"/>
              <a:pathLst>
                <a:path w="2968" h="2312">
                  <a:moveTo>
                    <a:pt x="0" y="233"/>
                  </a:moveTo>
                  <a:lnTo>
                    <a:pt x="184" y="355"/>
                  </a:lnTo>
                  <a:lnTo>
                    <a:pt x="856" y="803"/>
                  </a:lnTo>
                  <a:lnTo>
                    <a:pt x="1288" y="1130"/>
                  </a:lnTo>
                  <a:lnTo>
                    <a:pt x="1768" y="1497"/>
                  </a:lnTo>
                  <a:lnTo>
                    <a:pt x="2200" y="1864"/>
                  </a:lnTo>
                  <a:lnTo>
                    <a:pt x="2680" y="2312"/>
                  </a:lnTo>
                  <a:lnTo>
                    <a:pt x="2968" y="2304"/>
                  </a:lnTo>
                  <a:lnTo>
                    <a:pt x="2424" y="1789"/>
                  </a:lnTo>
                  <a:lnTo>
                    <a:pt x="2088" y="1472"/>
                  </a:lnTo>
                  <a:lnTo>
                    <a:pt x="1752" y="1200"/>
                  </a:lnTo>
                  <a:lnTo>
                    <a:pt x="1256" y="848"/>
                  </a:lnTo>
                  <a:lnTo>
                    <a:pt x="1016" y="688"/>
                  </a:lnTo>
                  <a:lnTo>
                    <a:pt x="776" y="512"/>
                  </a:lnTo>
                  <a:lnTo>
                    <a:pt x="448" y="304"/>
                  </a:lnTo>
                  <a:lnTo>
                    <a:pt x="152" y="128"/>
                  </a:lnTo>
                  <a:lnTo>
                    <a:pt x="0" y="0"/>
                  </a:lnTo>
                  <a:lnTo>
                    <a:pt x="0" y="226"/>
                  </a:lnTo>
                </a:path>
              </a:pathLst>
            </a:custGeom>
            <a:blipFill rotWithShape="0">
              <a:blip r:embed="rId3">
                <a:alphaModFix amt="70000"/>
              </a:blip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7"/>
            <p:cNvSpPr/>
            <p:nvPr/>
          </p:nvSpPr>
          <p:spPr>
            <a:xfrm>
              <a:off x="774000" y="1670400"/>
              <a:ext cx="3435480" cy="240264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2402640"/>
                <a:gd name="textAreaBottom" fmla="*/ 2403000 h 2402640"/>
              </a:gdLst>
              <a:ahLst/>
              <a:rect l="textAreaLeft" t="textAreaTop" r="textAreaRight" b="textAreaBottom"/>
              <a:pathLst>
                <a:path w="3928" h="2872">
                  <a:moveTo>
                    <a:pt x="4" y="218"/>
                  </a:moveTo>
                  <a:lnTo>
                    <a:pt x="273" y="374"/>
                  </a:lnTo>
                  <a:lnTo>
                    <a:pt x="1257" y="946"/>
                  </a:lnTo>
                  <a:lnTo>
                    <a:pt x="1896" y="1328"/>
                  </a:lnTo>
                  <a:lnTo>
                    <a:pt x="2576" y="1808"/>
                  </a:lnTo>
                  <a:lnTo>
                    <a:pt x="3264" y="2312"/>
                  </a:lnTo>
                  <a:lnTo>
                    <a:pt x="3928" y="2872"/>
                  </a:lnTo>
                  <a:lnTo>
                    <a:pt x="3916" y="2534"/>
                  </a:lnTo>
                  <a:lnTo>
                    <a:pt x="3553" y="2204"/>
                  </a:lnTo>
                  <a:lnTo>
                    <a:pt x="3061" y="1866"/>
                  </a:lnTo>
                  <a:lnTo>
                    <a:pt x="2593" y="1519"/>
                  </a:lnTo>
                  <a:lnTo>
                    <a:pt x="1843" y="1033"/>
                  </a:lnTo>
                  <a:lnTo>
                    <a:pt x="1163" y="634"/>
                  </a:lnTo>
                  <a:lnTo>
                    <a:pt x="636" y="339"/>
                  </a:lnTo>
                  <a:lnTo>
                    <a:pt x="226" y="105"/>
                  </a:lnTo>
                  <a:lnTo>
                    <a:pt x="0" y="0"/>
                  </a:lnTo>
                  <a:lnTo>
                    <a:pt x="4" y="209"/>
                  </a:lnTo>
                </a:path>
              </a:pathLst>
            </a:custGeom>
            <a:blipFill rotWithShape="0">
              <a:blip r:embed="rId4">
                <a:alphaModFix amt="68000"/>
              </a:blip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8"/>
            <p:cNvSpPr/>
            <p:nvPr/>
          </p:nvSpPr>
          <p:spPr>
            <a:xfrm>
              <a:off x="1207800" y="1423440"/>
              <a:ext cx="2987280" cy="1566360"/>
            </a:xfrm>
            <a:custGeom>
              <a:avLst/>
              <a:gdLst>
                <a:gd name="textAreaLeft" fmla="*/ 0 w 2987280"/>
                <a:gd name="textAreaRight" fmla="*/ 2987640 w 2987280"/>
                <a:gd name="textAreaTop" fmla="*/ 0 h 1566360"/>
                <a:gd name="textAreaBottom" fmla="*/ 1566720 h 1566360"/>
              </a:gdLst>
              <a:ahLst/>
              <a:rect l="textAreaLeft" t="textAreaTop" r="textAreaRight" b="textAreaBottom"/>
              <a:pathLst>
                <a:path w="3416" h="1872">
                  <a:moveTo>
                    <a:pt x="8" y="64"/>
                  </a:moveTo>
                  <a:lnTo>
                    <a:pt x="672" y="272"/>
                  </a:lnTo>
                  <a:lnTo>
                    <a:pt x="1192" y="480"/>
                  </a:lnTo>
                  <a:lnTo>
                    <a:pt x="1720" y="744"/>
                  </a:lnTo>
                  <a:lnTo>
                    <a:pt x="2308" y="1113"/>
                  </a:lnTo>
                  <a:lnTo>
                    <a:pt x="2841" y="1433"/>
                  </a:lnTo>
                  <a:lnTo>
                    <a:pt x="3416" y="1872"/>
                  </a:lnTo>
                  <a:lnTo>
                    <a:pt x="3416" y="1648"/>
                  </a:lnTo>
                  <a:lnTo>
                    <a:pt x="3112" y="1408"/>
                  </a:lnTo>
                  <a:lnTo>
                    <a:pt x="2703" y="1136"/>
                  </a:lnTo>
                  <a:lnTo>
                    <a:pt x="2304" y="888"/>
                  </a:lnTo>
                  <a:lnTo>
                    <a:pt x="1720" y="536"/>
                  </a:lnTo>
                  <a:lnTo>
                    <a:pt x="1104" y="264"/>
                  </a:lnTo>
                  <a:lnTo>
                    <a:pt x="662" y="93"/>
                  </a:lnTo>
                  <a:lnTo>
                    <a:pt x="352" y="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>
                <a:alphaModFix amt="70000"/>
              </a:blip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9"/>
            <p:cNvSpPr/>
            <p:nvPr/>
          </p:nvSpPr>
          <p:spPr>
            <a:xfrm>
              <a:off x="2068560" y="1423440"/>
              <a:ext cx="2147400" cy="876600"/>
            </a:xfrm>
            <a:custGeom>
              <a:avLst/>
              <a:gdLst>
                <a:gd name="textAreaLeft" fmla="*/ 0 w 2147400"/>
                <a:gd name="textAreaRight" fmla="*/ 2147760 w 2147400"/>
                <a:gd name="textAreaTop" fmla="*/ 0 h 876600"/>
                <a:gd name="textAreaBottom" fmla="*/ 876960 h 876600"/>
              </a:gdLst>
              <a:ahLst/>
              <a:rect l="textAreaLeft" t="textAreaTop" r="textAreaRight" b="textAreaBottom"/>
              <a:pathLst>
                <a:path w="2456" h="1048">
                  <a:moveTo>
                    <a:pt x="0" y="80"/>
                  </a:moveTo>
                  <a:lnTo>
                    <a:pt x="472" y="136"/>
                  </a:lnTo>
                  <a:lnTo>
                    <a:pt x="856" y="248"/>
                  </a:lnTo>
                  <a:lnTo>
                    <a:pt x="1256" y="392"/>
                  </a:lnTo>
                  <a:lnTo>
                    <a:pt x="1593" y="542"/>
                  </a:lnTo>
                  <a:lnTo>
                    <a:pt x="1970" y="746"/>
                  </a:lnTo>
                  <a:lnTo>
                    <a:pt x="2311" y="950"/>
                  </a:lnTo>
                  <a:lnTo>
                    <a:pt x="2456" y="1048"/>
                  </a:lnTo>
                  <a:lnTo>
                    <a:pt x="2448" y="856"/>
                  </a:lnTo>
                  <a:lnTo>
                    <a:pt x="2256" y="720"/>
                  </a:lnTo>
                  <a:lnTo>
                    <a:pt x="1968" y="544"/>
                  </a:lnTo>
                  <a:lnTo>
                    <a:pt x="1552" y="328"/>
                  </a:lnTo>
                  <a:lnTo>
                    <a:pt x="1184" y="176"/>
                  </a:lnTo>
                  <a:lnTo>
                    <a:pt x="920" y="88"/>
                  </a:lnTo>
                  <a:lnTo>
                    <a:pt x="763" y="36"/>
                  </a:lnTo>
                  <a:lnTo>
                    <a:pt x="579" y="0"/>
                  </a:lnTo>
                  <a:lnTo>
                    <a:pt x="8" y="8"/>
                  </a:lnTo>
                </a:path>
              </a:pathLst>
            </a:custGeom>
            <a:blipFill rotWithShape="0">
              <a:blip r:embed="rId6">
                <a:alphaModFix amt="70000"/>
              </a:blip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0"/>
            <p:cNvSpPr/>
            <p:nvPr/>
          </p:nvSpPr>
          <p:spPr>
            <a:xfrm>
              <a:off x="767520" y="2628720"/>
              <a:ext cx="2595600" cy="1879560"/>
            </a:xfrm>
            <a:custGeom>
              <a:avLst/>
              <a:gdLst>
                <a:gd name="textAreaLeft" fmla="*/ 0 w 2595600"/>
                <a:gd name="textAreaRight" fmla="*/ 2595960 w 259560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2968" h="2248">
                  <a:moveTo>
                    <a:pt x="0" y="227"/>
                  </a:moveTo>
                  <a:lnTo>
                    <a:pt x="184" y="346"/>
                  </a:lnTo>
                  <a:lnTo>
                    <a:pt x="856" y="784"/>
                  </a:lnTo>
                  <a:lnTo>
                    <a:pt x="1288" y="1103"/>
                  </a:lnTo>
                  <a:lnTo>
                    <a:pt x="1768" y="1461"/>
                  </a:lnTo>
                  <a:lnTo>
                    <a:pt x="2200" y="1819"/>
                  </a:lnTo>
                  <a:lnTo>
                    <a:pt x="2656" y="2208"/>
                  </a:lnTo>
                  <a:lnTo>
                    <a:pt x="2928" y="2216"/>
                  </a:lnTo>
                  <a:lnTo>
                    <a:pt x="2968" y="2248"/>
                  </a:lnTo>
                  <a:lnTo>
                    <a:pt x="2424" y="1746"/>
                  </a:lnTo>
                  <a:lnTo>
                    <a:pt x="2088" y="1436"/>
                  </a:lnTo>
                  <a:lnTo>
                    <a:pt x="1752" y="1171"/>
                  </a:lnTo>
                  <a:lnTo>
                    <a:pt x="1256" y="827"/>
                  </a:lnTo>
                  <a:lnTo>
                    <a:pt x="1016" y="671"/>
                  </a:lnTo>
                  <a:lnTo>
                    <a:pt x="776" y="500"/>
                  </a:lnTo>
                  <a:lnTo>
                    <a:pt x="448" y="297"/>
                  </a:lnTo>
                  <a:lnTo>
                    <a:pt x="152" y="125"/>
                  </a:lnTo>
                  <a:lnTo>
                    <a:pt x="0" y="0"/>
                  </a:lnTo>
                  <a:lnTo>
                    <a:pt x="0" y="221"/>
                  </a:lnTo>
                </a:path>
              </a:pathLst>
            </a:custGeom>
            <a:blipFill rotWithShape="0">
              <a:blip r:embed="rId7">
                <a:alphaModFix amt="70000"/>
              </a:blip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1"/>
            <p:cNvSpPr/>
            <p:nvPr/>
          </p:nvSpPr>
          <p:spPr>
            <a:xfrm>
              <a:off x="767520" y="1704240"/>
              <a:ext cx="3434040" cy="2402640"/>
            </a:xfrm>
            <a:custGeom>
              <a:avLst/>
              <a:gdLst>
                <a:gd name="textAreaLeft" fmla="*/ 0 w 3434040"/>
                <a:gd name="textAreaRight" fmla="*/ 3434400 w 3434040"/>
                <a:gd name="textAreaTop" fmla="*/ 0 h 2402640"/>
                <a:gd name="textAreaBottom" fmla="*/ 2403000 h 2402640"/>
              </a:gdLst>
              <a:ahLst/>
              <a:rect l="textAreaLeft" t="textAreaTop" r="textAreaRight" b="textAreaBottom"/>
              <a:pathLst>
                <a:path w="3928" h="2872">
                  <a:moveTo>
                    <a:pt x="4" y="218"/>
                  </a:moveTo>
                  <a:lnTo>
                    <a:pt x="273" y="374"/>
                  </a:lnTo>
                  <a:lnTo>
                    <a:pt x="1257" y="946"/>
                  </a:lnTo>
                  <a:lnTo>
                    <a:pt x="1896" y="1328"/>
                  </a:lnTo>
                  <a:lnTo>
                    <a:pt x="2576" y="1808"/>
                  </a:lnTo>
                  <a:lnTo>
                    <a:pt x="3264" y="2312"/>
                  </a:lnTo>
                  <a:lnTo>
                    <a:pt x="3928" y="2872"/>
                  </a:lnTo>
                  <a:lnTo>
                    <a:pt x="3916" y="2534"/>
                  </a:lnTo>
                  <a:lnTo>
                    <a:pt x="3553" y="2204"/>
                  </a:lnTo>
                  <a:lnTo>
                    <a:pt x="3061" y="1866"/>
                  </a:lnTo>
                  <a:lnTo>
                    <a:pt x="2593" y="1519"/>
                  </a:lnTo>
                  <a:lnTo>
                    <a:pt x="1843" y="1033"/>
                  </a:lnTo>
                  <a:lnTo>
                    <a:pt x="1163" y="634"/>
                  </a:lnTo>
                  <a:lnTo>
                    <a:pt x="636" y="339"/>
                  </a:lnTo>
                  <a:lnTo>
                    <a:pt x="226" y="105"/>
                  </a:lnTo>
                  <a:lnTo>
                    <a:pt x="0" y="0"/>
                  </a:lnTo>
                  <a:lnTo>
                    <a:pt x="4" y="209"/>
                  </a:lnTo>
                </a:path>
              </a:pathLst>
            </a:custGeom>
            <a:blipFill rotWithShape="0">
              <a:blip r:embed="rId8">
                <a:alphaModFix amt="68000"/>
              </a:blip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12"/>
            <p:cNvSpPr/>
            <p:nvPr/>
          </p:nvSpPr>
          <p:spPr>
            <a:xfrm>
              <a:off x="1215360" y="1429560"/>
              <a:ext cx="2994120" cy="1600200"/>
            </a:xfrm>
            <a:custGeom>
              <a:avLst/>
              <a:gdLst>
                <a:gd name="textAreaLeft" fmla="*/ 0 w 2994120"/>
                <a:gd name="textAreaRight" fmla="*/ 2994480 w 299412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3424" h="1912">
                  <a:moveTo>
                    <a:pt x="16" y="104"/>
                  </a:moveTo>
                  <a:lnTo>
                    <a:pt x="680" y="312"/>
                  </a:lnTo>
                  <a:lnTo>
                    <a:pt x="1200" y="520"/>
                  </a:lnTo>
                  <a:lnTo>
                    <a:pt x="1728" y="784"/>
                  </a:lnTo>
                  <a:lnTo>
                    <a:pt x="2316" y="1153"/>
                  </a:lnTo>
                  <a:lnTo>
                    <a:pt x="2849" y="1473"/>
                  </a:lnTo>
                  <a:lnTo>
                    <a:pt x="3424" y="1912"/>
                  </a:lnTo>
                  <a:lnTo>
                    <a:pt x="3424" y="1688"/>
                  </a:lnTo>
                  <a:lnTo>
                    <a:pt x="3120" y="1448"/>
                  </a:lnTo>
                  <a:lnTo>
                    <a:pt x="2711" y="1176"/>
                  </a:lnTo>
                  <a:lnTo>
                    <a:pt x="2312" y="928"/>
                  </a:lnTo>
                  <a:lnTo>
                    <a:pt x="1728" y="576"/>
                  </a:lnTo>
                  <a:lnTo>
                    <a:pt x="1112" y="304"/>
                  </a:lnTo>
                  <a:lnTo>
                    <a:pt x="670" y="133"/>
                  </a:lnTo>
                  <a:lnTo>
                    <a:pt x="248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>
                <a:alphaModFix amt="70000"/>
              </a:blip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13"/>
            <p:cNvSpPr/>
            <p:nvPr/>
          </p:nvSpPr>
          <p:spPr>
            <a:xfrm>
              <a:off x="2068560" y="1429560"/>
              <a:ext cx="2147400" cy="910440"/>
            </a:xfrm>
            <a:custGeom>
              <a:avLst/>
              <a:gdLst>
                <a:gd name="textAreaLeft" fmla="*/ 0 w 2147400"/>
                <a:gd name="textAreaRight" fmla="*/ 2147760 w 2147400"/>
                <a:gd name="textAreaTop" fmla="*/ 0 h 910440"/>
                <a:gd name="textAreaBottom" fmla="*/ 910800 h 910440"/>
              </a:gdLst>
              <a:ahLst/>
              <a:rect l="textAreaLeft" t="textAreaTop" r="textAreaRight" b="textAreaBottom"/>
              <a:pathLst>
                <a:path w="2456" h="1088">
                  <a:moveTo>
                    <a:pt x="0" y="96"/>
                  </a:moveTo>
                  <a:lnTo>
                    <a:pt x="472" y="176"/>
                  </a:lnTo>
                  <a:lnTo>
                    <a:pt x="856" y="288"/>
                  </a:lnTo>
                  <a:lnTo>
                    <a:pt x="1256" y="432"/>
                  </a:lnTo>
                  <a:lnTo>
                    <a:pt x="1593" y="582"/>
                  </a:lnTo>
                  <a:lnTo>
                    <a:pt x="1970" y="786"/>
                  </a:lnTo>
                  <a:lnTo>
                    <a:pt x="2311" y="990"/>
                  </a:lnTo>
                  <a:lnTo>
                    <a:pt x="2456" y="1088"/>
                  </a:lnTo>
                  <a:lnTo>
                    <a:pt x="2448" y="896"/>
                  </a:lnTo>
                  <a:lnTo>
                    <a:pt x="2256" y="760"/>
                  </a:lnTo>
                  <a:lnTo>
                    <a:pt x="1968" y="584"/>
                  </a:lnTo>
                  <a:lnTo>
                    <a:pt x="1552" y="368"/>
                  </a:lnTo>
                  <a:lnTo>
                    <a:pt x="1184" y="216"/>
                  </a:lnTo>
                  <a:lnTo>
                    <a:pt x="920" y="128"/>
                  </a:lnTo>
                  <a:lnTo>
                    <a:pt x="616" y="32"/>
                  </a:lnTo>
                  <a:lnTo>
                    <a:pt x="352" y="24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>
                <a:alphaModFix amt="70000"/>
              </a:blip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14"/>
            <p:cNvSpPr/>
            <p:nvPr/>
          </p:nvSpPr>
          <p:spPr>
            <a:xfrm>
              <a:off x="1607400" y="3033720"/>
              <a:ext cx="246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Near Surface Wind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15"/>
            <p:cNvSpPr/>
            <p:nvPr/>
          </p:nvSpPr>
          <p:spPr>
            <a:xfrm>
              <a:off x="824040" y="2903400"/>
              <a:ext cx="978480" cy="699480"/>
            </a:xfrm>
            <a:custGeom>
              <a:avLst/>
              <a:gdLst>
                <a:gd name="textAreaLeft" fmla="*/ 0 w 978480"/>
                <a:gd name="textAreaRight" fmla="*/ 978840 w 978480"/>
                <a:gd name="textAreaTop" fmla="*/ 0 h 699480"/>
                <a:gd name="textAreaBottom" fmla="*/ 699840 h 699480"/>
              </a:gdLst>
              <a:ahLst/>
              <a:rect l="textAreaLeft" t="textAreaTop" r="textAreaRight" b="textAreaBottom"/>
              <a:pathLst>
                <a:path w="1119" h="837">
                  <a:moveTo>
                    <a:pt x="128" y="215"/>
                  </a:moveTo>
                  <a:cubicBezTo>
                    <a:pt x="160" y="183"/>
                    <a:pt x="268" y="46"/>
                    <a:pt x="319" y="23"/>
                  </a:cubicBezTo>
                  <a:cubicBezTo>
                    <a:pt x="370" y="0"/>
                    <a:pt x="384" y="51"/>
                    <a:pt x="431" y="79"/>
                  </a:cubicBezTo>
                  <a:cubicBezTo>
                    <a:pt x="478" y="107"/>
                    <a:pt x="502" y="122"/>
                    <a:pt x="599" y="191"/>
                  </a:cubicBezTo>
                  <a:cubicBezTo>
                    <a:pt x="696" y="260"/>
                    <a:pt x="934" y="435"/>
                    <a:pt x="1015" y="495"/>
                  </a:cubicBezTo>
                  <a:cubicBezTo>
                    <a:pt x="1096" y="555"/>
                    <a:pt x="1119" y="498"/>
                    <a:pt x="1087" y="551"/>
                  </a:cubicBezTo>
                  <a:cubicBezTo>
                    <a:pt x="1055" y="604"/>
                    <a:pt x="984" y="837"/>
                    <a:pt x="822" y="815"/>
                  </a:cubicBezTo>
                  <a:cubicBezTo>
                    <a:pt x="660" y="793"/>
                    <a:pt x="229" y="519"/>
                    <a:pt x="115" y="418"/>
                  </a:cubicBezTo>
                  <a:cubicBezTo>
                    <a:pt x="0" y="318"/>
                    <a:pt x="131" y="257"/>
                    <a:pt x="136" y="214"/>
                  </a:cubicBezTo>
                </a:path>
              </a:pathLst>
            </a:custGeom>
            <a:solidFill>
              <a:srgbClr val="ff9900">
                <a:alpha val="4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16"/>
            <p:cNvSpPr/>
            <p:nvPr/>
          </p:nvSpPr>
          <p:spPr>
            <a:xfrm>
              <a:off x="2401200" y="1713240"/>
              <a:ext cx="1086120" cy="540000"/>
            </a:xfrm>
            <a:custGeom>
              <a:avLst/>
              <a:gdLst>
                <a:gd name="textAreaLeft" fmla="*/ 0 w 1086120"/>
                <a:gd name="textAreaRight" fmla="*/ 1086480 w 1086120"/>
                <a:gd name="textAreaTop" fmla="*/ 0 h 540000"/>
                <a:gd name="textAreaBottom" fmla="*/ 540360 h 540000"/>
              </a:gdLst>
              <a:ahLst/>
              <a:rect l="textAreaLeft" t="textAreaTop" r="textAreaRight" b="textAreaBottom"/>
              <a:pathLst>
                <a:path w="1243" h="646">
                  <a:moveTo>
                    <a:pt x="988" y="557"/>
                  </a:moveTo>
                  <a:cubicBezTo>
                    <a:pt x="888" y="501"/>
                    <a:pt x="517" y="293"/>
                    <a:pt x="388" y="221"/>
                  </a:cubicBezTo>
                  <a:cubicBezTo>
                    <a:pt x="259" y="149"/>
                    <a:pt x="252" y="145"/>
                    <a:pt x="212" y="125"/>
                  </a:cubicBezTo>
                  <a:cubicBezTo>
                    <a:pt x="172" y="105"/>
                    <a:pt x="0" y="109"/>
                    <a:pt x="148" y="101"/>
                  </a:cubicBezTo>
                  <a:cubicBezTo>
                    <a:pt x="296" y="93"/>
                    <a:pt x="957" y="0"/>
                    <a:pt x="1100" y="77"/>
                  </a:cubicBezTo>
                  <a:cubicBezTo>
                    <a:pt x="1243" y="154"/>
                    <a:pt x="1016" y="484"/>
                    <a:pt x="1004" y="565"/>
                  </a:cubicBezTo>
                  <a:cubicBezTo>
                    <a:pt x="992" y="646"/>
                    <a:pt x="1023" y="565"/>
                    <a:pt x="1028" y="565"/>
                  </a:cubicBezTo>
                </a:path>
              </a:pathLst>
            </a:custGeom>
            <a:solidFill>
              <a:srgbClr val="ff9900">
                <a:alpha val="4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7"/>
            <p:cNvSpPr/>
            <p:nvPr/>
          </p:nvSpPr>
          <p:spPr>
            <a:xfrm>
              <a:off x="1920600" y="1801080"/>
              <a:ext cx="1354320" cy="83268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832680"/>
                <a:gd name="textAreaBottom" fmla="*/ 833040 h 832680"/>
              </a:gdLst>
              <a:ahLst/>
              <a:rect l="textAreaLeft" t="textAreaTop" r="textAreaRight" b="textAreaBottom"/>
              <a:pathLst>
                <a:path w="1549" h="995">
                  <a:moveTo>
                    <a:pt x="137" y="644"/>
                  </a:moveTo>
                  <a:cubicBezTo>
                    <a:pt x="130" y="640"/>
                    <a:pt x="0" y="667"/>
                    <a:pt x="97" y="612"/>
                  </a:cubicBezTo>
                  <a:cubicBezTo>
                    <a:pt x="194" y="557"/>
                    <a:pt x="674" y="393"/>
                    <a:pt x="719" y="313"/>
                  </a:cubicBezTo>
                  <a:cubicBezTo>
                    <a:pt x="764" y="233"/>
                    <a:pt x="399" y="178"/>
                    <a:pt x="369" y="132"/>
                  </a:cubicBezTo>
                  <a:cubicBezTo>
                    <a:pt x="339" y="86"/>
                    <a:pt x="413" y="0"/>
                    <a:pt x="537" y="36"/>
                  </a:cubicBezTo>
                  <a:cubicBezTo>
                    <a:pt x="661" y="72"/>
                    <a:pt x="956" y="252"/>
                    <a:pt x="1113" y="348"/>
                  </a:cubicBezTo>
                  <a:cubicBezTo>
                    <a:pt x="1270" y="444"/>
                    <a:pt x="1413" y="563"/>
                    <a:pt x="1481" y="612"/>
                  </a:cubicBezTo>
                  <a:cubicBezTo>
                    <a:pt x="1549" y="661"/>
                    <a:pt x="1538" y="596"/>
                    <a:pt x="1521" y="644"/>
                  </a:cubicBezTo>
                  <a:cubicBezTo>
                    <a:pt x="1504" y="692"/>
                    <a:pt x="1452" y="917"/>
                    <a:pt x="1380" y="902"/>
                  </a:cubicBezTo>
                  <a:cubicBezTo>
                    <a:pt x="1308" y="887"/>
                    <a:pt x="1207" y="553"/>
                    <a:pt x="1091" y="554"/>
                  </a:cubicBezTo>
                  <a:cubicBezTo>
                    <a:pt x="975" y="555"/>
                    <a:pt x="753" y="838"/>
                    <a:pt x="681" y="908"/>
                  </a:cubicBezTo>
                  <a:cubicBezTo>
                    <a:pt x="609" y="978"/>
                    <a:pt x="716" y="995"/>
                    <a:pt x="657" y="972"/>
                  </a:cubicBezTo>
                  <a:cubicBezTo>
                    <a:pt x="598" y="949"/>
                    <a:pt x="397" y="814"/>
                    <a:pt x="329" y="772"/>
                  </a:cubicBezTo>
                </a:path>
              </a:pathLst>
            </a:custGeom>
            <a:solidFill>
              <a:srgbClr val="ff9900">
                <a:alpha val="4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8"/>
            <p:cNvSpPr/>
            <p:nvPr/>
          </p:nvSpPr>
          <p:spPr>
            <a:xfrm>
              <a:off x="1236600" y="2319120"/>
              <a:ext cx="1234080" cy="10432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1043280"/>
                <a:gd name="textAreaBottom" fmla="*/ 1043640 h 1043280"/>
              </a:gdLst>
              <a:ahLst/>
              <a:rect l="textAreaLeft" t="textAreaTop" r="textAreaRight" b="textAreaBottom"/>
              <a:pathLst>
                <a:path w="1412" h="1247">
                  <a:moveTo>
                    <a:pt x="0" y="650"/>
                  </a:moveTo>
                  <a:cubicBezTo>
                    <a:pt x="114" y="556"/>
                    <a:pt x="555" y="194"/>
                    <a:pt x="684" y="97"/>
                  </a:cubicBezTo>
                  <a:cubicBezTo>
                    <a:pt x="813" y="0"/>
                    <a:pt x="746" y="62"/>
                    <a:pt x="776" y="66"/>
                  </a:cubicBezTo>
                  <a:cubicBezTo>
                    <a:pt x="806" y="70"/>
                    <a:pt x="811" y="90"/>
                    <a:pt x="864" y="122"/>
                  </a:cubicBezTo>
                  <a:cubicBezTo>
                    <a:pt x="917" y="154"/>
                    <a:pt x="1017" y="209"/>
                    <a:pt x="1096" y="258"/>
                  </a:cubicBezTo>
                  <a:cubicBezTo>
                    <a:pt x="1175" y="307"/>
                    <a:pt x="1300" y="370"/>
                    <a:pt x="1336" y="418"/>
                  </a:cubicBezTo>
                  <a:cubicBezTo>
                    <a:pt x="1372" y="466"/>
                    <a:pt x="1412" y="423"/>
                    <a:pt x="1312" y="546"/>
                  </a:cubicBezTo>
                  <a:cubicBezTo>
                    <a:pt x="1212" y="669"/>
                    <a:pt x="848" y="1061"/>
                    <a:pt x="736" y="1154"/>
                  </a:cubicBezTo>
                  <a:cubicBezTo>
                    <a:pt x="624" y="1247"/>
                    <a:pt x="753" y="1182"/>
                    <a:pt x="640" y="1106"/>
                  </a:cubicBezTo>
                  <a:cubicBezTo>
                    <a:pt x="527" y="1030"/>
                    <a:pt x="178" y="783"/>
                    <a:pt x="56" y="698"/>
                  </a:cubicBezTo>
                </a:path>
              </a:pathLst>
            </a:custGeom>
            <a:solidFill>
              <a:srgbClr val="ff9900">
                <a:alpha val="4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7" name="Picture 28" descr=""/>
            <p:cNvPicPr/>
            <p:nvPr/>
          </p:nvPicPr>
          <p:blipFill>
            <a:blip r:embed="rId11"/>
            <a:stretch/>
          </p:blipFill>
          <p:spPr>
            <a:xfrm rot="725400">
              <a:off x="253800" y="927000"/>
              <a:ext cx="1547280" cy="41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Freeform 29"/>
            <p:cNvSpPr/>
            <p:nvPr/>
          </p:nvSpPr>
          <p:spPr>
            <a:xfrm>
              <a:off x="776520" y="1278000"/>
              <a:ext cx="137520" cy="134784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1347840"/>
                <a:gd name="textAreaBottom" fmla="*/ 1347840 h 1347840"/>
              </a:gdLst>
              <a:ahLst/>
              <a:rect l="textAreaLeft" t="textAreaTop" r="textAreaRight" b="textAreaBottom"/>
              <a:pathLst>
                <a:path w="90" h="921">
                  <a:moveTo>
                    <a:pt x="0" y="921"/>
                  </a:moveTo>
                  <a:lnTo>
                    <a:pt x="90" y="0"/>
                  </a:lnTo>
                  <a:lnTo>
                    <a:pt x="27" y="909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Text Box 32"/>
            <p:cNvSpPr/>
            <p:nvPr/>
          </p:nvSpPr>
          <p:spPr>
            <a:xfrm rot="19278000">
              <a:off x="937440" y="2412000"/>
              <a:ext cx="240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High Altitude Wind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TextBox 36"/>
          <p:cNvSpPr/>
          <p:nvPr/>
        </p:nvSpPr>
        <p:spPr>
          <a:xfrm>
            <a:off x="474840" y="4495680"/>
            <a:ext cx="4034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6-day global repeat cy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guous sampling along tr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jacent orbits 150 km a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obal Glint ob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int and stare Target 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06000" y="279360"/>
            <a:ext cx="6248520" cy="395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est OCO/ACOS Results Using GOSAT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2" descr="20090724-B2601L_xco2_world_map.png"/>
          <p:cNvPicPr/>
          <p:nvPr/>
        </p:nvPicPr>
        <p:blipFill>
          <a:blip r:embed="rId1"/>
          <a:stretch/>
        </p:blipFill>
        <p:spPr>
          <a:xfrm>
            <a:off x="76320" y="1022400"/>
            <a:ext cx="6325920" cy="4530600"/>
          </a:xfrm>
          <a:prstGeom prst="rect">
            <a:avLst/>
          </a:prstGeom>
          <a:ln w="0">
            <a:noFill/>
          </a:ln>
        </p:spPr>
      </p:pic>
      <p:sp>
        <p:nvSpPr>
          <p:cNvPr id="213" name="TextBox 3"/>
          <p:cNvSpPr/>
          <p:nvPr/>
        </p:nvSpPr>
        <p:spPr>
          <a:xfrm>
            <a:off x="6400800" y="1066680"/>
            <a:ext cx="22096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obal Mean (ppm): 376.5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th (20-60</a:t>
            </a:r>
            <a:r>
              <a:rPr b="0" lang="en-US" sz="1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n:  376.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D :   6.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uth (20-60</a:t>
            </a:r>
            <a:r>
              <a:rPr b="0" lang="en-US" sz="1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n: 376.9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D:   3.8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0:36:34Z</dcterms:created>
  <dc:creator/>
  <dc:description/>
  <dc:language>en-US</dc:language>
  <cp:lastModifiedBy>kekeith</cp:lastModifiedBy>
  <cp:lastPrinted>2009-06-03T13:22:22Z</cp:lastPrinted>
  <dcterms:modified xsi:type="dcterms:W3CDTF">2010-04-05T16:00:07Z</dcterms:modified>
  <cp:revision>1272</cp:revision>
  <dc:subject/>
  <dc:title>No Slide Title</dc:title>
</cp:coreProperties>
</file>