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9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CE01-9FF9-41D4-85ED-4FE6EDD59C0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B6B6-58F4-45AE-A2EC-783440F8B00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AC3-07C6-4A5B-9BC6-FC187480A1C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892080" y="736560"/>
            <a:ext cx="5023080" cy="3767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87040" y="4749840"/>
            <a:ext cx="5032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32AA-78D6-4D8C-9880-61AC7A68809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D843-4B1E-4B89-8725-A1A24D55CB6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4924-6CA4-4E03-906A-3845D1B63AD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1C94-61A8-4A00-942E-D2B7B32C6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B02E-E15B-4D25-8049-D5C6F31DE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03D6-6B08-40EB-8C50-4D0E2E237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2C31-F6C1-4864-8E78-F38F1A794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817B-93FC-4EE1-9BAA-4FC3A5342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09E8-10C3-4A61-9CEB-D478677F1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B5B0-5C0F-4FF2-8335-2A0981FE2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AB8F-9D78-47CF-864C-5FF5599CF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AD5E-E78E-433B-B0A7-44ECA6FD6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2A7F-8094-4836-B3AD-E1363FAF7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6670-D808-464F-A513-345E71C74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3327-6E04-4EE8-BF81-7AE1FB73B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84920" y="6419520"/>
            <a:ext cx="93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AE84-07B1-4B0F-B796-0D3247F7822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8"/>
          <p:cNvSpPr/>
          <p:nvPr/>
        </p:nvSpPr>
        <p:spPr>
          <a:xfrm>
            <a:off x="468360" y="630864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91736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1658880" y="476280"/>
            <a:ext cx="226548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ESA_logo_bleu"/>
          <p:cNvPicPr/>
          <p:nvPr/>
        </p:nvPicPr>
        <p:blipFill>
          <a:blip r:embed="rId2"/>
          <a:stretch/>
        </p:blipFill>
        <p:spPr>
          <a:xfrm>
            <a:off x="25560" y="6248520"/>
            <a:ext cx="14508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468360" y="630864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1658880" y="476280"/>
            <a:ext cx="226548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7" descr="GMES Logo black"/>
          <p:cNvPicPr/>
          <p:nvPr/>
        </p:nvPicPr>
        <p:blipFill>
          <a:blip r:embed="rId2"/>
          <a:stretch/>
        </p:blipFill>
        <p:spPr>
          <a:xfrm>
            <a:off x="8028000" y="6237360"/>
            <a:ext cx="1114560" cy="58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ESA_logo_bleu"/>
          <p:cNvPicPr/>
          <p:nvPr/>
        </p:nvPicPr>
        <p:blipFill>
          <a:blip r:embed="rId3"/>
          <a:stretch/>
        </p:blipFill>
        <p:spPr>
          <a:xfrm>
            <a:off x="25560" y="6248520"/>
            <a:ext cx="1450800" cy="56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1"/>
          <p:cNvSpPr/>
          <p:nvPr/>
        </p:nvSpPr>
        <p:spPr>
          <a:xfrm>
            <a:off x="1547640" y="6534000"/>
            <a:ext cx="6336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2009 EUMETSAT Meteorological Satellite Conference, Bath/UK, 21-25 Sep 200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BB9B-3DA4-423F-8C06-97321A2BC5C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84360" y="2060640"/>
            <a:ext cx="769608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Status / Scope of Sentinels 4&amp;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örg Langen, Paul Ingmann, Ben Veihelman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SA, Mission Science Divis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6F40-885D-49EC-8CEC-C87237B3A17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95280" y="333360"/>
            <a:ext cx="8352000" cy="69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Programmatic statu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ntinel 5 precurs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d and funded (NL co-funding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phase A/B1 kickoff so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 activities ongoing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 20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ntinel 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d and funded by ES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ial counci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ase A/B1 running in competi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 201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al approval of MTG-S by Eumets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ed 2010/1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ntinel 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tory activities approv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ase A to start 2010, laun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1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al approval and funding expec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11/12 (ESA and Eumetsa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CC66-74B8-40F6-9FAC-35355293B82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68360" y="279360"/>
            <a:ext cx="835164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cope of possible international cooperation / harmonis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 and require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mited possibilities for S5, closed for S4 and S5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trieval algorithms and OSS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n in principle. General methodology maybe more promising field than implementation (the latter instrument-specific for retrieval, and also scene-specific for OSSEs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 quality and acces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rge mutual benefit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cooperation has large potential for LEO mission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ng range transport of pollutants; climate aspec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observations on partner’s “terrain”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ound truth” for GEO da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D250-0DD5-4E85-A3DF-BCCAAEFE922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250920" y="620640"/>
            <a:ext cx="871380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O</a:t>
            </a:r>
            <a:r>
              <a:rPr b="1" lang="en-GB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Kyoto protocol verification mission out of rea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ndom and systematic measurement error require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certainties of inverse modelling (transport PBL – free tropospher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certainties in modelling of natural surface flux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ssion on total surface flux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ta available from AIRS, Sciamachy, IASI. ECMWF/MACC: confidence not good enough for data assimilation or inverse modelling. Only ground data shown to improve carbon budge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waiting demonstration of operational benefit before investing in long-term observation system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334E-4B5E-4366-BE33-DBD617A2A0F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9640" y="1052640"/>
            <a:ext cx="7920000" cy="56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H</a:t>
            </a:r>
            <a:r>
              <a:rPr b="1" lang="en-GB" sz="20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 retrieval: high sensitivity to cloud and aeroso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tion of AMF using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1.6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 band): sensitivity 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umed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bund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ation of 1.6 and 2.3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 bands required for high quality produc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ntinel-5 precursor : 2.3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 b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ntinel-5 : 1.6 and 2.3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 ban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F4D7-448A-436B-A73D-897591F6DE3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635280" y="3213000"/>
            <a:ext cx="15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Thank you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BE6C-6FD5-4500-9999-4DC8D591579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95280" y="692280"/>
            <a:ext cx="84247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Local time of Sentinel 5 precursor orbi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ollows advice from Camelot stud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ar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fternoon orbit most suitable for continuation of the long term record of short-lived tropospheric species, which has been started in 2004 with OMI at a local time of 13:45h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ynergistic exploitation of simultaneous measurements form NPOESS 13:30h platform possible: CRIS IR data and stratospheric ozone profiles by OMPS-limb, as well as cloud data from imager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arly afternoon provides better observation conditions in solar channels than late afternoon, due to more favourable solar zenith angles (see next slide)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6328-8EB5-480E-AA7B-1FF2D316E03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SZA (latitude, day of year) limit 80deg am+pm corrected"/>
          <p:cNvPicPr/>
          <p:nvPr/>
        </p:nvPicPr>
        <p:blipFill>
          <a:blip r:embed="rId1"/>
          <a:stretch/>
        </p:blipFill>
        <p:spPr>
          <a:xfrm>
            <a:off x="468360" y="549360"/>
            <a:ext cx="797868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611280" y="5157720"/>
            <a:ext cx="820872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ful data in solar range for SZA &lt; 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ref. TRAQ, Camelo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 afternoon (17.30h) implies summer only mission of UV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744480" y="56484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DC2B-5FDF-4308-B95A-53283C98EBD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611280" y="333360"/>
            <a:ext cx="7993080" cy="61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ntinels 4&amp;5 are to support GMES atmospheric servic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ore servic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operational products and information services providing direct support to European policy and information on global issu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tained public funding (EU &amp; Member States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lot service “GMES Atmospheric Service (GAS)”: EU FP7 activity “MACC” to start in Ju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ursor / development activities: GEMS (EU FP6 Integrated Project), PROMOTE (ESA GMES Service Elemen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ownstream servic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ed services that address specific user requirements, or trans-national, national, regional or local proble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not directly driving the service and not responsible for service requiremen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ore service data as in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to be issu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ursor / development activities: PROMOTE, national developmen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0D49-8796-4D71-8CCF-77593D0E308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611280" y="692280"/>
            <a:ext cx="799308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re Service compon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global and European air qualit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global and European air qualit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eca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istoric recor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Global and European atmospheric composi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mate forc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and sustaine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onitoring of the state of the climate 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surface and upper air meteorology and composition)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nd its vari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global, European and regional concentration fields of key greenhouse gases (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related tracers) enabling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termination of sources and sin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atospheric ozone and solar radi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and sustaine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onitoring of the current status and tren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stratospheric ozone depletion and ozone depleting gases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ine provision of update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zone, UV and solar radiation maps and forecas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istor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an UV and solar radiation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cor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apping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BA07-60B0-48BB-9DA3-F964132E3F1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11280" y="404640"/>
            <a:ext cx="799308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amples of downstream serv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air quality forecasts, e.g. as input t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affic regul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air-quality-related alerts an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ecasts for health servi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pporting vulnerable communities (COPD, asthma, pollen-induced allergies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ily compliance with air-quality legislation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reshold exceedance warn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to development of effectiv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ir pollution abatement measu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rough proper apportionment of sources and assessment of impacts (human exposure) et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s for extreme events involving th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bined effects of heat stress, high UV-B exposure and poor air qua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mate chan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for quick response t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xtreme weather events and natural catastroph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, assessment and monitoring of regional/local sources and sinks of greenhouse gases and pollutants and related tracers in support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mission and sink verification and mitigation polic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atospheric ozone and solar radi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urface UV-radiation monitoring and forecas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ersonalized skin-type specif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V inform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D533-E216-4F2B-8919-082D27B7A30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4000" y="260280"/>
            <a:ext cx="8569080" cy="57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lobal Monitoring for Environment and Security (GMES) – the European contribution to GEO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ervices Component –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ed by E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66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roduces information services in response to European policy priorities in environment and secur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66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Relies on data from in-situ and space componen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n-situ component –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ed by E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66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Observations mostly within national responsibility, with coordination at European level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pace Component –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ed by E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66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entinels - EO missions developed specifically for GM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66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ntributing Missions - EO missions built for purposes other than GMES but offering part of their capacity to GM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995640" y="6521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5DC-FDEA-4D61-967D-3F695F3FC83E}" type="slidenum">
              <a:rPr b="0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F785-796D-4AA2-99F4-FB937E82C0B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5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4861080" y="270000"/>
          <a:ext cx="3681360" cy="590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270000"/>
                    <a:ext cx="3681360" cy="59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611280" y="692280"/>
            <a:ext cx="38894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pping of services to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vel 2 data produc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simplifi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e core servi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e downstream serv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– target produc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– auxiliary produc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CBE0-4289-4E44-844B-A6E8BD082BE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684360" y="2602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Environmental themes,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data usage,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serv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1143000" y="790560"/>
            <a:ext cx="6781320" cy="5096160"/>
            <a:chOff x="1143000" y="790560"/>
            <a:chExt cx="6781320" cy="5096160"/>
          </a:xfrm>
        </p:grpSpPr>
        <p:grpSp>
          <p:nvGrpSpPr>
            <p:cNvPr id="208" name="Group 4"/>
            <p:cNvGrpSpPr/>
            <p:nvPr/>
          </p:nvGrpSpPr>
          <p:grpSpPr>
            <a:xfrm>
              <a:off x="1147680" y="792720"/>
              <a:ext cx="6771240" cy="5094000"/>
              <a:chOff x="1147680" y="792720"/>
              <a:chExt cx="6771240" cy="5094000"/>
            </a:xfrm>
          </p:grpSpPr>
          <p:grpSp>
            <p:nvGrpSpPr>
              <p:cNvPr id="209" name="Group 5"/>
              <p:cNvGrpSpPr/>
              <p:nvPr/>
            </p:nvGrpSpPr>
            <p:grpSpPr>
              <a:xfrm>
                <a:off x="1147680" y="792720"/>
                <a:ext cx="1378440" cy="886320"/>
                <a:chOff x="1147680" y="792720"/>
                <a:chExt cx="1378440" cy="886320"/>
              </a:xfrm>
            </p:grpSpPr>
            <p:sp>
              <p:nvSpPr>
                <p:cNvPr id="210" name="Rectangle 6"/>
                <p:cNvSpPr/>
                <p:nvPr/>
              </p:nvSpPr>
              <p:spPr>
                <a:xfrm>
                  <a:off x="1211760" y="793440"/>
                  <a:ext cx="1249200" cy="88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Environmental Theme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cc0000"/>
                      </a:solidFill>
                      <a:latin typeface="Times New Roman"/>
                      <a:ea typeface="Times New Roman"/>
                    </a:rPr>
                    <a:t>Data usage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7"/>
                <p:cNvSpPr/>
                <p:nvPr/>
              </p:nvSpPr>
              <p:spPr>
                <a:xfrm>
                  <a:off x="1147680" y="792720"/>
                  <a:ext cx="137844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8"/>
              <p:cNvGrpSpPr/>
              <p:nvPr/>
            </p:nvGrpSpPr>
            <p:grpSpPr>
              <a:xfrm>
                <a:off x="2526480" y="792720"/>
                <a:ext cx="1770840" cy="824760"/>
                <a:chOff x="2526480" y="792720"/>
                <a:chExt cx="1770840" cy="824760"/>
              </a:xfrm>
            </p:grpSpPr>
            <p:sp>
              <p:nvSpPr>
                <p:cNvPr id="213" name="Rectangle 9"/>
                <p:cNvSpPr/>
                <p:nvPr/>
              </p:nvSpPr>
              <p:spPr>
                <a:xfrm>
                  <a:off x="2590560" y="793440"/>
                  <a:ext cx="164160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Ozone Layer &amp;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Surface UV radiation </a:t>
                  </a: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)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0"/>
                <p:cNvSpPr/>
                <p:nvPr/>
              </p:nvSpPr>
              <p:spPr>
                <a:xfrm>
                  <a:off x="2526480" y="792720"/>
                  <a:ext cx="177084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11"/>
              <p:cNvGrpSpPr/>
              <p:nvPr/>
            </p:nvGrpSpPr>
            <p:grpSpPr>
              <a:xfrm>
                <a:off x="4298040" y="792720"/>
                <a:ext cx="1906920" cy="682920"/>
                <a:chOff x="4298040" y="792720"/>
                <a:chExt cx="1906920" cy="682920"/>
              </a:xfrm>
            </p:grpSpPr>
            <p:sp>
              <p:nvSpPr>
                <p:cNvPr id="216" name="Rectangle 12"/>
                <p:cNvSpPr/>
                <p:nvPr/>
              </p:nvSpPr>
              <p:spPr>
                <a:xfrm>
                  <a:off x="4362120" y="793440"/>
                  <a:ext cx="17780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Air Quality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3"/>
                <p:cNvSpPr/>
                <p:nvPr/>
              </p:nvSpPr>
              <p:spPr>
                <a:xfrm>
                  <a:off x="4298040" y="792720"/>
                  <a:ext cx="1906920" cy="68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14"/>
              <p:cNvGrpSpPr/>
              <p:nvPr/>
            </p:nvGrpSpPr>
            <p:grpSpPr>
              <a:xfrm>
                <a:off x="6205680" y="792720"/>
                <a:ext cx="1713240" cy="683280"/>
                <a:chOff x="6205680" y="792720"/>
                <a:chExt cx="1713240" cy="683280"/>
              </a:xfrm>
            </p:grpSpPr>
            <p:sp>
              <p:nvSpPr>
                <p:cNvPr id="219" name="Rectangle 15"/>
                <p:cNvSpPr/>
                <p:nvPr/>
              </p:nvSpPr>
              <p:spPr>
                <a:xfrm>
                  <a:off x="6270480" y="793440"/>
                  <a:ext cx="1584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Climate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6"/>
                <p:cNvSpPr/>
                <p:nvPr/>
              </p:nvSpPr>
              <p:spPr>
                <a:xfrm>
                  <a:off x="6205680" y="792720"/>
                  <a:ext cx="171324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Group 17"/>
              <p:cNvGrpSpPr/>
              <p:nvPr/>
            </p:nvGrpSpPr>
            <p:grpSpPr>
              <a:xfrm>
                <a:off x="1147680" y="1476000"/>
                <a:ext cx="1378440" cy="1450800"/>
                <a:chOff x="1147680" y="1476000"/>
                <a:chExt cx="1378440" cy="1450800"/>
              </a:xfrm>
            </p:grpSpPr>
            <p:sp>
              <p:nvSpPr>
                <p:cNvPr id="222" name="Rectangle 18"/>
                <p:cNvSpPr/>
                <p:nvPr/>
              </p:nvSpPr>
              <p:spPr>
                <a:xfrm>
                  <a:off x="1211760" y="1477080"/>
                  <a:ext cx="12492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cc0000"/>
                      </a:solidFill>
                      <a:latin typeface="Times New Roman"/>
                      <a:ea typeface="Times New Roman"/>
                    </a:rPr>
                    <a:t>Protocol monitoring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9"/>
                <p:cNvSpPr/>
                <p:nvPr/>
              </p:nvSpPr>
              <p:spPr>
                <a:xfrm>
                  <a:off x="1147680" y="1476000"/>
                  <a:ext cx="1378440" cy="14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Group 20"/>
              <p:cNvGrpSpPr/>
              <p:nvPr/>
            </p:nvGrpSpPr>
            <p:grpSpPr>
              <a:xfrm>
                <a:off x="2526480" y="1476000"/>
                <a:ext cx="1770840" cy="1466640"/>
                <a:chOff x="2526480" y="1476000"/>
                <a:chExt cx="1770840" cy="1466640"/>
              </a:xfrm>
            </p:grpSpPr>
            <p:sp>
              <p:nvSpPr>
                <p:cNvPr id="225" name="Rectangle 21"/>
                <p:cNvSpPr/>
                <p:nvPr/>
              </p:nvSpPr>
              <p:spPr>
                <a:xfrm>
                  <a:off x="2590560" y="1478160"/>
                  <a:ext cx="1641600" cy="14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UNEP Vienna Convention; Montreal and subs. Protocol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CFC emission verification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Stratospheric ozone, halogen and surface UV distribution and trend monitoring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22"/>
                <p:cNvSpPr/>
                <p:nvPr/>
              </p:nvSpPr>
              <p:spPr>
                <a:xfrm>
                  <a:off x="2526480" y="1476000"/>
                  <a:ext cx="1770840" cy="14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23"/>
              <p:cNvGrpSpPr/>
              <p:nvPr/>
            </p:nvGrpSpPr>
            <p:grpSpPr>
              <a:xfrm>
                <a:off x="4298040" y="1476000"/>
                <a:ext cx="1906920" cy="1450800"/>
                <a:chOff x="4298040" y="1476000"/>
                <a:chExt cx="1906920" cy="1450800"/>
              </a:xfrm>
            </p:grpSpPr>
            <p:sp>
              <p:nvSpPr>
                <p:cNvPr id="228" name="Rectangle 24"/>
                <p:cNvSpPr/>
                <p:nvPr/>
              </p:nvSpPr>
              <p:spPr>
                <a:xfrm>
                  <a:off x="4362120" y="1478160"/>
                  <a:ext cx="1778040" cy="11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UN/ECE CLRTAP; EMEP / Göteborg Protocol; </a:t>
                  </a: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EC directives EAP / CAFE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AQ emission verification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AQ distribution and trend monitoring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25"/>
                <p:cNvSpPr/>
                <p:nvPr/>
              </p:nvSpPr>
              <p:spPr>
                <a:xfrm>
                  <a:off x="4298040" y="1476000"/>
                  <a:ext cx="1906920" cy="14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Group 26"/>
              <p:cNvGrpSpPr/>
              <p:nvPr/>
            </p:nvGrpSpPr>
            <p:grpSpPr>
              <a:xfrm>
                <a:off x="6205680" y="1476000"/>
                <a:ext cx="1713240" cy="1450800"/>
                <a:chOff x="6205680" y="1476000"/>
                <a:chExt cx="1713240" cy="1450800"/>
              </a:xfrm>
            </p:grpSpPr>
            <p:sp>
              <p:nvSpPr>
                <p:cNvPr id="231" name="Rectangle 27"/>
                <p:cNvSpPr/>
                <p:nvPr/>
              </p:nvSpPr>
              <p:spPr>
                <a:xfrm>
                  <a:off x="6270480" y="1478160"/>
                  <a:ext cx="1586160" cy="13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UNFCCC Rio Convention; Kyoto Protocol; Climate policy EU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GHG and aerosol emission verification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GHG/aerosol distribution and trend monitoring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28"/>
                <p:cNvSpPr/>
                <p:nvPr/>
              </p:nvSpPr>
              <p:spPr>
                <a:xfrm>
                  <a:off x="6205680" y="1476000"/>
                  <a:ext cx="1713240" cy="14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Group 29"/>
              <p:cNvGrpSpPr/>
              <p:nvPr/>
            </p:nvGrpSpPr>
            <p:grpSpPr>
              <a:xfrm>
                <a:off x="1147680" y="2927160"/>
                <a:ext cx="1378440" cy="1036080"/>
                <a:chOff x="1147680" y="2927160"/>
                <a:chExt cx="1378440" cy="1036080"/>
              </a:xfrm>
            </p:grpSpPr>
            <p:sp>
              <p:nvSpPr>
                <p:cNvPr id="234" name="Rectangle 30"/>
                <p:cNvSpPr/>
                <p:nvPr/>
              </p:nvSpPr>
              <p:spPr>
                <a:xfrm>
                  <a:off x="1211760" y="2927160"/>
                  <a:ext cx="12492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cc0000"/>
                      </a:solidFill>
                      <a:latin typeface="Times New Roman"/>
                      <a:ea typeface="Times New Roman"/>
                    </a:rPr>
                    <a:t>Near real time service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31"/>
                <p:cNvSpPr/>
                <p:nvPr/>
              </p:nvSpPr>
              <p:spPr>
                <a:xfrm>
                  <a:off x="1147680" y="2927160"/>
                  <a:ext cx="1378440" cy="103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32"/>
              <p:cNvGrpSpPr/>
              <p:nvPr/>
            </p:nvGrpSpPr>
            <p:grpSpPr>
              <a:xfrm>
                <a:off x="2526480" y="2927160"/>
                <a:ext cx="1770840" cy="1036080"/>
                <a:chOff x="2526480" y="2927160"/>
                <a:chExt cx="1770840" cy="1036080"/>
              </a:xfrm>
            </p:grpSpPr>
            <p:sp>
              <p:nvSpPr>
                <p:cNvPr id="237" name="Rectangle 33"/>
                <p:cNvSpPr/>
                <p:nvPr/>
              </p:nvSpPr>
              <p:spPr>
                <a:xfrm>
                  <a:off x="2590560" y="2929320"/>
                  <a:ext cx="1641600" cy="85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Stratospheric composition and surface UV forecast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NWP assimilation and (re-) analysi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34"/>
                <p:cNvSpPr/>
                <p:nvPr/>
              </p:nvSpPr>
              <p:spPr>
                <a:xfrm>
                  <a:off x="2526480" y="2927160"/>
                  <a:ext cx="1770840" cy="103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35"/>
              <p:cNvGrpSpPr/>
              <p:nvPr/>
            </p:nvGrpSpPr>
            <p:grpSpPr>
              <a:xfrm>
                <a:off x="4298040" y="2927160"/>
                <a:ext cx="1906920" cy="1036080"/>
                <a:chOff x="4298040" y="2927160"/>
                <a:chExt cx="1906920" cy="1036080"/>
              </a:xfrm>
            </p:grpSpPr>
            <p:sp>
              <p:nvSpPr>
                <p:cNvPr id="240" name="Rectangle 36"/>
                <p:cNvSpPr/>
                <p:nvPr/>
              </p:nvSpPr>
              <p:spPr>
                <a:xfrm>
                  <a:off x="4362120" y="2929320"/>
                  <a:ext cx="1778040" cy="85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Local Air Quality (BL); Health warnings (BL)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Chemical Weather (BL/FT)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Aviation routing (UT)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37"/>
                <p:cNvSpPr/>
                <p:nvPr/>
              </p:nvSpPr>
              <p:spPr>
                <a:xfrm>
                  <a:off x="4298040" y="2927160"/>
                  <a:ext cx="1906920" cy="103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38"/>
              <p:cNvGrpSpPr/>
              <p:nvPr/>
            </p:nvGrpSpPr>
            <p:grpSpPr>
              <a:xfrm>
                <a:off x="6205680" y="2927160"/>
                <a:ext cx="1713240" cy="1036080"/>
                <a:chOff x="6205680" y="2927160"/>
                <a:chExt cx="1713240" cy="1036080"/>
              </a:xfrm>
            </p:grpSpPr>
            <p:sp>
              <p:nvSpPr>
                <p:cNvPr id="243" name="Rectangle 39"/>
                <p:cNvSpPr/>
                <p:nvPr/>
              </p:nvSpPr>
              <p:spPr>
                <a:xfrm>
                  <a:off x="6270480" y="2929320"/>
                  <a:ext cx="1586160" cy="85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NWP assimilation and (re-) analysi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Climate monitoring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Climate model validation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40"/>
                <p:cNvSpPr/>
                <p:nvPr/>
              </p:nvSpPr>
              <p:spPr>
                <a:xfrm>
                  <a:off x="6205680" y="2927160"/>
                  <a:ext cx="1713240" cy="103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41"/>
              <p:cNvGrpSpPr/>
              <p:nvPr/>
            </p:nvGrpSpPr>
            <p:grpSpPr>
              <a:xfrm>
                <a:off x="1147680" y="3963240"/>
                <a:ext cx="1378440" cy="1865520"/>
                <a:chOff x="1147680" y="3963240"/>
                <a:chExt cx="1378440" cy="1865520"/>
              </a:xfrm>
            </p:grpSpPr>
            <p:sp>
              <p:nvSpPr>
                <p:cNvPr id="246" name="Rectangle 42"/>
                <p:cNvSpPr/>
                <p:nvPr/>
              </p:nvSpPr>
              <p:spPr>
                <a:xfrm>
                  <a:off x="1211760" y="3965400"/>
                  <a:ext cx="1249200" cy="11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cc0000"/>
                      </a:solidFill>
                      <a:latin typeface="Times New Roman"/>
                      <a:ea typeface="Times New Roman"/>
                    </a:rPr>
                    <a:t>Assessment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cc0000"/>
                      </a:solidFill>
                      <a:latin typeface="Times New Roman"/>
                      <a:ea typeface="Times New Roman"/>
                    </a:rPr>
                    <a:t>(lower priority for operational mission)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43"/>
                <p:cNvSpPr/>
                <p:nvPr/>
              </p:nvSpPr>
              <p:spPr>
                <a:xfrm>
                  <a:off x="1147680" y="3963240"/>
                  <a:ext cx="1378440" cy="186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44"/>
              <p:cNvGrpSpPr/>
              <p:nvPr/>
            </p:nvGrpSpPr>
            <p:grpSpPr>
              <a:xfrm>
                <a:off x="2526480" y="3963240"/>
                <a:ext cx="1770840" cy="1865520"/>
                <a:chOff x="2526480" y="3963240"/>
                <a:chExt cx="1770840" cy="1865520"/>
              </a:xfrm>
            </p:grpSpPr>
            <p:sp>
              <p:nvSpPr>
                <p:cNvPr id="249" name="Rectangle 45"/>
                <p:cNvSpPr/>
                <p:nvPr/>
              </p:nvSpPr>
              <p:spPr>
                <a:xfrm>
                  <a:off x="2590560" y="3966480"/>
                  <a:ext cx="1644120" cy="176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Long-term global data record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WMO Ozone assessments 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Stratospheric chemistry and transport processes;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UV radiative transport processe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Halogen source attribution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UV health &amp; biological effect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46"/>
                <p:cNvSpPr/>
                <p:nvPr/>
              </p:nvSpPr>
              <p:spPr>
                <a:xfrm>
                  <a:off x="2526480" y="3963240"/>
                  <a:ext cx="1770840" cy="186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47"/>
              <p:cNvGrpSpPr/>
              <p:nvPr/>
            </p:nvGrpSpPr>
            <p:grpSpPr>
              <a:xfrm>
                <a:off x="4298040" y="3963240"/>
                <a:ext cx="1906920" cy="1865520"/>
                <a:chOff x="4298040" y="3963240"/>
                <a:chExt cx="1906920" cy="1865520"/>
              </a:xfrm>
            </p:grpSpPr>
            <p:sp>
              <p:nvSpPr>
                <p:cNvPr id="252" name="Rectangle 48"/>
                <p:cNvSpPr/>
                <p:nvPr/>
              </p:nvSpPr>
              <p:spPr>
                <a:xfrm>
                  <a:off x="4362120" y="3966480"/>
                  <a:ext cx="1778040" cy="16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Long-term global, regional, and local data record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UNEP, EEA assessment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Regional &amp; local boundary layer AQ processes; Tropospheric chemistry and long-range transport processe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AQ source attribution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AQ Health and safety effect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49"/>
                <p:cNvSpPr/>
                <p:nvPr/>
              </p:nvSpPr>
              <p:spPr>
                <a:xfrm>
                  <a:off x="4298040" y="3963240"/>
                  <a:ext cx="1906920" cy="186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50"/>
              <p:cNvGrpSpPr/>
              <p:nvPr/>
            </p:nvGrpSpPr>
            <p:grpSpPr>
              <a:xfrm>
                <a:off x="6205680" y="3963240"/>
                <a:ext cx="1713240" cy="1923480"/>
                <a:chOff x="6205680" y="3963240"/>
                <a:chExt cx="1713240" cy="1923480"/>
              </a:xfrm>
            </p:grpSpPr>
            <p:sp>
              <p:nvSpPr>
                <p:cNvPr id="255" name="Rectangle 51"/>
                <p:cNvSpPr/>
                <p:nvPr/>
              </p:nvSpPr>
              <p:spPr>
                <a:xfrm>
                  <a:off x="6265800" y="3965400"/>
                  <a:ext cx="1590840" cy="19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Long-term global data record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IPCC assessment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Earth System, climate, rad. forcing processes; UTLS transport-chemistry processe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Forcing agents source attribution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Socio-economic climate effects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52"/>
                <p:cNvSpPr/>
                <p:nvPr/>
              </p:nvSpPr>
              <p:spPr>
                <a:xfrm>
                  <a:off x="6205680" y="3963240"/>
                  <a:ext cx="1713240" cy="186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Rectangle 53"/>
            <p:cNvSpPr/>
            <p:nvPr/>
          </p:nvSpPr>
          <p:spPr>
            <a:xfrm>
              <a:off x="1143000" y="790560"/>
              <a:ext cx="6781320" cy="5040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1116000" y="765000"/>
          <a:ext cx="6807240" cy="5085000"/>
        </p:xfrm>
        <a:graphic>
          <a:graphicData uri="http://schemas.openxmlformats.org/drawingml/2006/table">
            <a:tbl>
              <a:tblPr/>
              <a:tblGrid>
                <a:gridCol w="1463760"/>
                <a:gridCol w="1757160"/>
                <a:gridCol w="1903680"/>
                <a:gridCol w="1682640"/>
              </a:tblGrid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4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8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9E67-6EFF-483D-A9B0-E3491369B64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611280" y="1413000"/>
            <a:ext cx="8153280" cy="37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mprehensive set of related observational requirements established in ESA “CAPACITY” stud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environmental the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application typ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consist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ly complete to perform trade-offs between space mission conce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an integrated observation strategy (IGACO) considering ground, airborne and space observations and assimilation / model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information from existing reviews and ongoing activi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8AFC-6FCA-474E-A36B-5927FDB35F8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755640" y="836640"/>
          <a:ext cx="76201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6201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3"/>
          <p:cNvSpPr/>
          <p:nvPr/>
        </p:nvSpPr>
        <p:spPr>
          <a:xfrm>
            <a:off x="173160" y="306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Observational requirements  –  example: AQ NRT satelli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726240" y="4554360"/>
          <a:ext cx="2162160" cy="1657440"/>
        </p:xfrm>
        <a:graphic>
          <a:graphicData uri="http://schemas.openxmlformats.org/drawingml/2006/table">
            <a:tbl>
              <a:tblPr/>
              <a:tblGrid>
                <a:gridCol w="465120"/>
                <a:gridCol w="557280"/>
                <a:gridCol w="604800"/>
                <a:gridCol w="534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5584-C6BD-411C-860D-1352530FC22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468360" y="907920"/>
            <a:ext cx="8675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ssessment of existing and planned missions (1/2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 Research miss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sat, Aura, Odin, Scisat, Mopitt, Gosat – all ongo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of data for scie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stratospheric compon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finders for tropospheric applic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deficienci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resolution, horizontal sampling / coverage in nadi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resolution in lim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expected to stop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≤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2014, no definitive new pla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B003-0EE9-409A-80EA-CE6612C412F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324000" y="549360"/>
            <a:ext cx="867564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ssessment of existing and planned missions (2/2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 Operational miss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O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go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ME-2, IAS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P / NPO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 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PS, CR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G-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E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/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 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ospheric ozone monitoring well cover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ntribution to NW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ntributions to tropospheric applic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deficienci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 resolution in UV-VIS/NI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resol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E887-00CD-4004-8B6C-72BFA5904CB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0" y="1628640"/>
            <a:ext cx="784872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1800" indent="-444600">
              <a:lnSpc>
                <a:spcPct val="100000"/>
              </a:lnSpc>
              <a:spcBef>
                <a:spcPts val="50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temporal and spatial resolution space-based measurements of tropospheric (PBL) composition for application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ir qua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spcBef>
                <a:spcPts val="50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imate ga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precursor CO)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erosol monito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sensitivity to the PB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spcBef>
                <a:spcPts val="50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vertical resolution measurement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n the UT/LS region for ozone and climate applic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97880" y="955800"/>
            <a:ext cx="62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Main gaps in current / planned operational syst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740720" y="1628640"/>
          <a:ext cx="1044360" cy="1008360"/>
        </p:xfrm>
        <a:graphic>
          <a:graphicData uri="http://schemas.openxmlformats.org/drawingml/2006/table">
            <a:tbl>
              <a:tblPr/>
              <a:tblGrid>
                <a:gridCol w="223920"/>
                <a:gridCol w="269640"/>
                <a:gridCol w="293760"/>
                <a:gridCol w="257040"/>
              </a:tblGrid>
              <a:tr h="2127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265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2649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265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7740720" y="4437000"/>
          <a:ext cx="1044360" cy="1009800"/>
        </p:xfrm>
        <a:graphic>
          <a:graphicData uri="http://schemas.openxmlformats.org/drawingml/2006/table">
            <a:tbl>
              <a:tblPr/>
              <a:tblGrid>
                <a:gridCol w="223920"/>
                <a:gridCol w="269640"/>
                <a:gridCol w="298440"/>
                <a:gridCol w="252360"/>
              </a:tblGrid>
              <a:tr h="2127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265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2664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65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7740720" y="3068640"/>
          <a:ext cx="1044360" cy="936720"/>
        </p:xfrm>
        <a:graphic>
          <a:graphicData uri="http://schemas.openxmlformats.org/drawingml/2006/table">
            <a:tbl>
              <a:tblPr/>
              <a:tblGrid>
                <a:gridCol w="223920"/>
                <a:gridCol w="269640"/>
                <a:gridCol w="293760"/>
                <a:gridCol w="257040"/>
              </a:tblGrid>
              <a:tr h="1969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58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2462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D292-9018-419F-8959-52C6760833D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24000" y="1773360"/>
            <a:ext cx="8569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Mission concept for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zone and climate applications in the UT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rumentation options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ther mm-wave or mid-IR limb-sound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ystem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n-synchronous LEO platfor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cc99"/>
                </a:solidFill>
                <a:latin typeface="Arial"/>
              </a:rPr>
              <a:t>Maturation of operational application to be pursued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cc99"/>
                </a:solidFill>
                <a:latin typeface="Arial"/>
              </a:rPr>
              <a:t>Choice of instrument type ope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cc99"/>
                </a:solidFill>
                <a:latin typeface="Arial"/>
              </a:rPr>
              <a:t>Mission to be considered after clarification of these point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104-B40B-417C-ABE2-5B129D868AD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68360" y="2781360"/>
          <a:ext cx="8218440" cy="3282840"/>
        </p:xfrm>
        <a:graphic>
          <a:graphicData uri="http://schemas.openxmlformats.org/drawingml/2006/table">
            <a:tbl>
              <a:tblPr/>
              <a:tblGrid>
                <a:gridCol w="860400"/>
                <a:gridCol w="1281240"/>
                <a:gridCol w="1647720"/>
                <a:gridCol w="2111400"/>
                <a:gridCol w="231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p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atitude range [deg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ongitude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ange [deg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visit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ement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p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 - 65 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 W - 45 E    @ 40 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.5 - 1 h solar ch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.5 - 2 h thermal ch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GE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 h @ fixed L.T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SS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 - 60 N &amp; 30 - 60 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stellation of drifting LE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 N - 30 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 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stellation of SS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45"/>
          <p:cNvSpPr/>
          <p:nvPr/>
        </p:nvSpPr>
        <p:spPr>
          <a:xfrm>
            <a:off x="539640" y="333360"/>
            <a:ext cx="842508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ystem trade-off for climate protocol monitoring and air qua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. Air quality and climate protocol monitoring missions can be combined due  to large overlap of requirements (CO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excluded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2. System concept driven by air quality geographical coverage and time resolution requirements.Trade-off between geographical coverage and temporal sampling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422F-5562-495C-ABA8-758466204D4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24000" y="549360"/>
            <a:ext cx="8640720" cy="55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Option 1: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1 GEO + 1 LEO in sun-synchronous or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st prohibitive for stand-alone realisa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nly possible as additional payloads on MTG and post-E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high temporal and spatial sampling over Europe and arou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east variation in observation geometri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→ facilitates data us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 redundancy: two MTG-Sounder platforms for 15 yea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ncompliant with GEO thermal IR requirements (O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, CO profile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 PBL-sensitive CO measurement at high temporal resolu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 multi-directional polarisation imag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ointing and co-registration difficul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ocus on European air quality, also stratospheric ozone monitor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616B-0B29-4459-ADD4-52CDE8A6185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981000"/>
            <a:ext cx="64072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763640" y="144360"/>
            <a:ext cx="7239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MES dedicated missions: Sentine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979640" y="907920"/>
            <a:ext cx="64072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inel 1 – SAR imag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weather, day/night applications, interferomet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inel 2 – Multispectral imag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nd applications: urban, forest, agriculture,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inuity of Landsat, SPO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inel 3 – Ocean and global land monitor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de-swath ocean color, vegetation, sea/land surface temperature, altimet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ntinel 4 – Geostationary atmospheri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mospheric composition monitor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ntinel 5 – Low-Earth orbit atmospheri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mospheric composition monitor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S5 Precursor launch in 201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916360" y="144360"/>
            <a:ext cx="5871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sentinel1spacecraft"/>
          <p:cNvPicPr/>
          <p:nvPr/>
        </p:nvPicPr>
        <p:blipFill>
          <a:blip r:embed="rId1"/>
          <a:stretch/>
        </p:blipFill>
        <p:spPr>
          <a:xfrm>
            <a:off x="468360" y="617400"/>
            <a:ext cx="1368360" cy="1025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rocket"/>
          <p:cNvPicPr/>
          <p:nvPr/>
        </p:nvPicPr>
        <p:blipFill>
          <a:blip r:embed="rId2"/>
          <a:stretch/>
        </p:blipFill>
        <p:spPr>
          <a:xfrm>
            <a:off x="7130880" y="3932280"/>
            <a:ext cx="392400" cy="1152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8101080" y="2060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20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494560" y="306864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7956720" y="3789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7020000" y="501336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2017+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372360" y="59500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2019+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1" descr="blurred MetOp.jpg"/>
          <p:cNvPicPr/>
          <p:nvPr/>
        </p:nvPicPr>
        <p:blipFill>
          <a:blip r:embed="rId3"/>
          <a:stretch/>
        </p:blipFill>
        <p:spPr>
          <a:xfrm>
            <a:off x="324000" y="5087880"/>
            <a:ext cx="1726920" cy="10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soyuz1"/>
          <p:cNvPicPr/>
          <p:nvPr/>
        </p:nvPicPr>
        <p:blipFill>
          <a:blip r:embed="rId4"/>
          <a:stretch/>
        </p:blipFill>
        <p:spPr>
          <a:xfrm>
            <a:off x="8244000" y="765000"/>
            <a:ext cx="320400" cy="13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soyuz1"/>
          <p:cNvPicPr/>
          <p:nvPr/>
        </p:nvPicPr>
        <p:blipFill>
          <a:blip r:embed="rId5"/>
          <a:stretch/>
        </p:blipFill>
        <p:spPr>
          <a:xfrm>
            <a:off x="6588000" y="4653000"/>
            <a:ext cx="320760" cy="136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vega1"/>
          <p:cNvPicPr/>
          <p:nvPr/>
        </p:nvPicPr>
        <p:blipFill>
          <a:blip r:embed="rId6"/>
          <a:stretch/>
        </p:blipFill>
        <p:spPr>
          <a:xfrm>
            <a:off x="8766000" y="1628640"/>
            <a:ext cx="378000" cy="136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vega1"/>
          <p:cNvPicPr/>
          <p:nvPr/>
        </p:nvPicPr>
        <p:blipFill>
          <a:blip r:embed="rId7"/>
          <a:stretch/>
        </p:blipFill>
        <p:spPr>
          <a:xfrm>
            <a:off x="8101080" y="2492280"/>
            <a:ext cx="377640" cy="136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SENTINEL4-01"/>
          <p:cNvPicPr/>
          <p:nvPr/>
        </p:nvPicPr>
        <p:blipFill>
          <a:blip r:embed="rId8"/>
          <a:stretch/>
        </p:blipFill>
        <p:spPr>
          <a:xfrm>
            <a:off x="468360" y="3933720"/>
            <a:ext cx="1439640" cy="107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Sentinel2-01-LR 052008"/>
          <p:cNvPicPr/>
          <p:nvPr/>
        </p:nvPicPr>
        <p:blipFill>
          <a:blip r:embed="rId9"/>
          <a:stretch/>
        </p:blipFill>
        <p:spPr>
          <a:xfrm>
            <a:off x="468360" y="1716120"/>
            <a:ext cx="1427040" cy="1069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Vue 1"/>
          <p:cNvPicPr/>
          <p:nvPr/>
        </p:nvPicPr>
        <p:blipFill>
          <a:blip r:embed="rId10"/>
          <a:stretch/>
        </p:blipFill>
        <p:spPr>
          <a:xfrm>
            <a:off x="468360" y="2867040"/>
            <a:ext cx="1439640" cy="1009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3995640" y="6521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6453-4EFB-41AA-A3C5-949E6AC7BBC0}" type="slidenum">
              <a:rPr b="0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FA4B-C830-4207-B8CE-F13568138DB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24000" y="620640"/>
            <a:ext cx="85690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Option 2: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onstellation of 3-4 LEO satellites in drifting or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high temporal sampling over most of the polluted areas global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avourable redundancy concept (all satellites identica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isses polar oz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lying on NPOESS or future S5 limb-sounding compon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isses CH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rom melting permafros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→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lying on NPOESS / post-E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mpact of non-sunsynch orbit on platform and payload concep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gher orbits (~1000km) would improve spatio-temporal coverage but are prohibited by radiation environment and decrease in radiometric sensitivi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ocus on quasi-global air quality – high population densi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3" descr="Afbeelding 3"/>
          <p:cNvPicPr/>
          <p:nvPr/>
        </p:nvPicPr>
        <p:blipFill>
          <a:blip r:embed="rId1"/>
          <a:stretch/>
        </p:blipFill>
        <p:spPr>
          <a:xfrm>
            <a:off x="4572000" y="2421000"/>
            <a:ext cx="4371840" cy="32814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7667640" y="5734080"/>
            <a:ext cx="11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urtesy: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. Veefki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92A4-B605-40BA-8FD8-894EBC7A32B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324000" y="907920"/>
            <a:ext cx="86407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Option 3: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onstellation of 3 LEO satellites in sun-synch or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ull global cover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highest synergy with meteorological measure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emporal resolution less favourable for air qualit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(however improving with increasing latitud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Climate, air quality and stratospheric ozone monitor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147D-F962-4F07-8845-F1E5D1B7A88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250920" y="3500280"/>
            <a:ext cx="8569080" cy="251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Mission concept for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limate protocol monitoring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 (lower troposphere) and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ir quality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 applications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trumentation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V-VIS-NIR-SWIR spectrometer for 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, C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CO, aeros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mal IR sounder for 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CO and C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files and HN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 oth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ud imag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GEO platform (Europe) and 1 sun-synchronous LEO platform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95280" y="549360"/>
            <a:ext cx="8352000" cy="23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election of system concep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tion 1 has been select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st cos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nergy with meteorological payload through implementation on Eumetsat platfo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st diurnal sampling frequency over Europ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3924360" y="2997360"/>
            <a:ext cx="574560" cy="215640"/>
          </a:xfrm>
          <a:prstGeom prst="rightArrow">
            <a:avLst>
              <a:gd name="adj1" fmla="val 50000"/>
              <a:gd name="adj2" fmla="val 6661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4C12-5090-4E53-BE5D-CB41B905D00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468360" y="549360"/>
            <a:ext cx="792000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Implementation of S4&amp;5 on Eumetsat platfo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Sentinel 4 will be a realised 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 of a UVN spectrometer on the MTG-S platforms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sation of TIR data from the IR sounder onboard the same platforms; 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sation of imager data from the MTG-I platform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Sentinel 5 will consist 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UVNS spectrometer embarked on the post-EPS platforms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sation of the EUMETSAT post-EPS IR sounder which addresses requirements for both meteorology and atmospheric chemistry (the latter consistent with the Sentinel 5 IR sounding requirements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sation of post-EPS imager data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sation of multi-directional polarisation imager if implement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E6A1-BDF0-4861-B40D-F82272495EA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468360" y="907920"/>
            <a:ext cx="8351640" cy="44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Requirements for Sentinel 5 precursor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ments are those of S5, excep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time  (see abov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ly in loose formation with NPP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synergy with imager, OMPS-limb, CRI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rmal  IR part is dropped, considering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ailability of IASI data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transitional nature of the precursor mission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atic constraint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3"/>
          <p:cNvSpPr/>
          <p:nvPr/>
        </p:nvSpPr>
        <p:spPr>
          <a:xfrm>
            <a:off x="1042920" y="2779560"/>
            <a:ext cx="504720" cy="358920"/>
          </a:xfrm>
          <a:prstGeom prst="rightArrow">
            <a:avLst>
              <a:gd name="adj1" fmla="val 50000"/>
              <a:gd name="adj2" fmla="val 351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3138-1839-4585-89A6-9694306A157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468360" y="189000"/>
            <a:ext cx="835164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ome results of Camelot study (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melot consortium: KNMI, RAL, U. Leicester, SRON, FMI, BIRA-IASB, CNR-IFAC, U. K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n, Novelt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zo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th UV and TIR have limited sensitivity to PB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ation of a posteriori covariances promises ~30-50% precision in PBL ( := 0-2km layer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ing kernel for “PBL” extends to ~7km altitu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erative synergistic retrieval remains to be demonstrat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tion of diurnal variation in PBL challeng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 benefit from 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A band in cloudy condi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od correlation OMI / ground-based (where expect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ed diurnal variation convolved with PBL dynamics (Av. Kernel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811C-4E05-449F-8855-655830D737A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468360" y="549360"/>
            <a:ext cx="835164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ome results of Camelot study (2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 retrieval: high sensitivity to cloud and aeroso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tion of AMF using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1.6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 band): sensitivity to assumed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bund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ation of 1.6 and 2.3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 bands require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implementation on Sentinel 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eroso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characterisation of aerosol requires multi-spectral, multi-directional, multi-polarisation imager (3MI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V and SWIR channels desirable in 3M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3889-3872-473A-A25B-EB7D953ED7A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468360" y="907920"/>
            <a:ext cx="8351640" cy="36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ome results of Camelot study (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rmal I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stic change of requirements following IASI succes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2-3 narrow bands (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CO [,HN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]) to wide-band instru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species: 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CO, HN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C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, N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C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H, PAN, volcanic S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HCN, CFC-11, CFC-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ctral resolution 0.075 – 0.3 c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apodis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tion in combined meteo – chem instrument on post-EP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777C-852B-480C-885E-AD229DC56D4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468360" y="549360"/>
            <a:ext cx="835164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ome results of Camelot study 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mpling statistics for orbit configu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SEVIRI cloud statistic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king account of retrieval sensitivity to cloud statistics and observation geomet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retrieval accuracies to require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 shown are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servation probabilities per 24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opospheric ozone column from U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ndon (5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°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km pixel size (GEO), 10km sub-satellite pixel size (LEO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0km field of regar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 should be seen as exampl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D955-862F-4928-B0FF-5C42643425B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1547640" y="477720"/>
            <a:ext cx="7777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ty of at least 1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loud fre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bserv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3652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 rot="16200000">
            <a:off x="334440" y="3736800"/>
            <a:ext cx="14209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166400" y="5373720"/>
            <a:ext cx="647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n      Mar     May    Jul       Sep    Nov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979640" y="2043000"/>
            <a:ext cx="5759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:30 Sun-synchronou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9:30+13:30 Sun-synchronou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6"/>
          <p:cNvGrpSpPr/>
          <p:nvPr/>
        </p:nvGrpSpPr>
        <p:grpSpPr>
          <a:xfrm>
            <a:off x="900000" y="1341360"/>
            <a:ext cx="7456320" cy="3916440"/>
            <a:chOff x="900000" y="1341360"/>
            <a:chExt cx="7456320" cy="3916440"/>
          </a:xfrm>
        </p:grpSpPr>
        <p:pic>
          <p:nvPicPr>
            <p:cNvPr id="330" name="Picture 7" descr=""/>
            <p:cNvPicPr/>
            <p:nvPr/>
          </p:nvPicPr>
          <p:blipFill>
            <a:blip r:embed="rId1"/>
            <a:stretch/>
          </p:blipFill>
          <p:spPr>
            <a:xfrm>
              <a:off x="900000" y="1341360"/>
              <a:ext cx="6737400" cy="391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Group 8"/>
            <p:cNvGrpSpPr/>
            <p:nvPr/>
          </p:nvGrpSpPr>
          <p:grpSpPr>
            <a:xfrm>
              <a:off x="1660320" y="1530360"/>
              <a:ext cx="6696000" cy="1371960"/>
              <a:chOff x="1660320" y="1530360"/>
              <a:chExt cx="6696000" cy="1371960"/>
            </a:xfrm>
          </p:grpSpPr>
          <p:sp>
            <p:nvSpPr>
              <p:cNvPr id="332" name="Text Box 9"/>
              <p:cNvSpPr/>
              <p:nvPr/>
            </p:nvSpPr>
            <p:spPr>
              <a:xfrm>
                <a:off x="1660320" y="1530360"/>
                <a:ext cx="575928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9:30 Sun-synch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9:30+13:30 Sun-synch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cc33"/>
                    </a:solidFill>
                    <a:latin typeface="Arial"/>
                    <a:ea typeface="ＭＳ Ｐゴシック"/>
                  </a:rPr>
                  <a:t>9:30+13:30+15:30 Sun-synch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ff"/>
                    </a:solidFill>
                    <a:latin typeface="Arial"/>
                    <a:ea typeface="ＭＳ Ｐゴシック"/>
                  </a:rPr>
                  <a:t>9:30+13:30+17:30 Sun-synch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"/>
              <p:cNvSpPr/>
              <p:nvPr/>
            </p:nvSpPr>
            <p:spPr>
              <a:xfrm>
                <a:off x="5295600" y="1621080"/>
                <a:ext cx="306072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ffff"/>
                    </a:solidFill>
                    <a:latin typeface="Arial"/>
                    <a:ea typeface="ＭＳ Ｐゴシック"/>
                  </a:rPr>
                  <a:t>9:30+13:30+Geo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cc"/>
                    </a:solidFill>
                    <a:latin typeface="Arial"/>
                    <a:ea typeface="ＭＳ Ｐゴシック"/>
                  </a:rPr>
                  <a:t>4x Non-sun-synch </a:t>
                </a:r>
                <a:br>
                  <a:rPr sz="1800"/>
                </a:br>
                <a:r>
                  <a:rPr b="1" lang="en-GB" sz="1800" spc="-1" strike="noStrike">
                    <a:solidFill>
                      <a:srgbClr val="ff33cc"/>
                    </a:solidFill>
                    <a:latin typeface="Arial"/>
                    <a:ea typeface="ＭＳ Ｐゴシック"/>
                  </a:rPr>
                  <a:t>      (inc.55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750-74DC-416C-A9B6-ECF5E78BD28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68360" y="333360"/>
            <a:ext cx="8675640" cy="56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Development of Sentinel 4 and 5 missions (1/2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ing point (2002): 5 GMES Sentinel missions of which 1 GEO and 1 LEO for atmospheric composi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” study (2003-5): top-down approach. Identified environmental themes, operational usage categories. Extensive survey of geophysical observation requirement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protocol monitoring and air quality applications to be combined in single mission, due to strong thematic coupling and large overlap in requirements. Basic stratospheric ozone monitoring possibly includ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limb mission needed to cover UTLS climate and ozone applications. Operational applications and instrument selection prematur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ed industrial system studies on nadir mission with preliminary requirements; extensive simulations on orbit option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GEO + 1 sun-synch LE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-4 inclined LE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-4 sun-synch LE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8CDC-F835-4B7E-ACC1-2B4D23A3ADD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395280" y="836640"/>
            <a:ext cx="874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ty of at least 1 observatio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eeting user requirement (20%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 rot="16200000">
            <a:off x="237960" y="3655440"/>
            <a:ext cx="1252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260360" y="5635800"/>
            <a:ext cx="647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n      Mar     May    Jul       Sep    Nov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36800" y="1749600"/>
            <a:ext cx="6777000" cy="396396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6"/>
          <p:cNvGrpSpPr/>
          <p:nvPr/>
        </p:nvGrpSpPr>
        <p:grpSpPr>
          <a:xfrm>
            <a:off x="2233440" y="4524480"/>
            <a:ext cx="6696000" cy="1371960"/>
            <a:chOff x="2233440" y="4524480"/>
            <a:chExt cx="6696000" cy="1371960"/>
          </a:xfrm>
        </p:grpSpPr>
        <p:sp>
          <p:nvSpPr>
            <p:cNvPr id="341" name="Text Box 7"/>
            <p:cNvSpPr/>
            <p:nvPr/>
          </p:nvSpPr>
          <p:spPr>
            <a:xfrm>
              <a:off x="2233440" y="4524480"/>
              <a:ext cx="575928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9:30 Sun-sync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9:30+13:30 Sun-sync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cc33"/>
                  </a:solidFill>
                  <a:latin typeface="Arial"/>
                  <a:ea typeface="ＭＳ Ｐゴシック"/>
                </a:rPr>
                <a:t>9:30+13:30+15:30 Sun-sync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ff"/>
                  </a:solidFill>
                  <a:latin typeface="Arial"/>
                  <a:ea typeface="ＭＳ Ｐゴシック"/>
                </a:rPr>
                <a:t>9:30+13:30+17:30 Sun-sync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8"/>
            <p:cNvSpPr/>
            <p:nvPr/>
          </p:nvSpPr>
          <p:spPr>
            <a:xfrm>
              <a:off x="5868720" y="4614840"/>
              <a:ext cx="30607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ffff"/>
                  </a:solidFill>
                  <a:latin typeface="Arial"/>
                  <a:ea typeface="ＭＳ Ｐゴシック"/>
                </a:rPr>
                <a:t>9:30+13:30+Ge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cc"/>
                  </a:solidFill>
                  <a:latin typeface="Arial"/>
                  <a:ea typeface="ＭＳ Ｐゴシック"/>
                </a:rPr>
                <a:t>4x Non-sun-synch </a:t>
              </a:r>
              <a:br>
                <a:rPr sz="1800"/>
              </a:br>
              <a:r>
                <a:rPr b="1" lang="en-GB" sz="1800" spc="-1" strike="noStrike">
                  <a:solidFill>
                    <a:srgbClr val="ff33cc"/>
                  </a:solidFill>
                  <a:latin typeface="Arial"/>
                  <a:ea typeface="ＭＳ Ｐゴシック"/>
                </a:rPr>
                <a:t>      (inc.55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E548-8B22-4D92-8889-28FEB92B8B6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368360" y="1719360"/>
            <a:ext cx="6620040" cy="38973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395280" y="476280"/>
            <a:ext cx="874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hours with observation meeting requirement during day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3652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t least one cloud free observation obtained during the da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 rot="16200000">
            <a:off x="-87480" y="3564720"/>
            <a:ext cx="22716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39640" y="5673600"/>
            <a:ext cx="647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n      Mar     May    Jul       Sep    Nov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1979640" y="1916280"/>
            <a:ext cx="6696000" cy="1371960"/>
            <a:chOff x="1979640" y="1916280"/>
            <a:chExt cx="6696000" cy="1371960"/>
          </a:xfrm>
        </p:grpSpPr>
        <p:sp>
          <p:nvSpPr>
            <p:cNvPr id="350" name="Text Box 7"/>
            <p:cNvSpPr/>
            <p:nvPr/>
          </p:nvSpPr>
          <p:spPr>
            <a:xfrm>
              <a:off x="1979640" y="1916280"/>
              <a:ext cx="575928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9:30 Sun-sync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9:30+13:30 Sun-sync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cc33"/>
                  </a:solidFill>
                  <a:latin typeface="Arial"/>
                  <a:ea typeface="ＭＳ Ｐゴシック"/>
                </a:rPr>
                <a:t>9:30+13:30+15:30 Sun-sync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ff"/>
                  </a:solidFill>
                  <a:latin typeface="Arial"/>
                  <a:ea typeface="ＭＳ Ｐゴシック"/>
                </a:rPr>
                <a:t>9:30+13:30+17:30 Sun-sync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8"/>
            <p:cNvSpPr/>
            <p:nvPr/>
          </p:nvSpPr>
          <p:spPr>
            <a:xfrm>
              <a:off x="5614920" y="2006640"/>
              <a:ext cx="30607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ffff"/>
                  </a:solidFill>
                  <a:latin typeface="Arial"/>
                  <a:ea typeface="ＭＳ Ｐゴシック"/>
                </a:rPr>
                <a:t>9:30+13:30+Ge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cc"/>
                  </a:solidFill>
                  <a:latin typeface="Arial"/>
                  <a:ea typeface="ＭＳ Ｐゴシック"/>
                </a:rPr>
                <a:t>4x Non-sun-synch </a:t>
              </a:r>
              <a:br>
                <a:rPr sz="1800"/>
              </a:br>
              <a:r>
                <a:rPr b="1" lang="en-GB" sz="1800" spc="-1" strike="noStrike">
                  <a:solidFill>
                    <a:srgbClr val="ff33cc"/>
                  </a:solidFill>
                  <a:latin typeface="Arial"/>
                  <a:ea typeface="ＭＳ Ｐゴシック"/>
                </a:rPr>
                <a:t>      (inc.55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9"/>
          <p:cNvSpPr/>
          <p:nvPr/>
        </p:nvSpPr>
        <p:spPr>
          <a:xfrm rot="16200000">
            <a:off x="-605520" y="3470400"/>
            <a:ext cx="33048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Observ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C0C5-A00F-42B1-A5F4-401C4A2068F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3635280" y="1125360"/>
          <a:ext cx="5040360" cy="484380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189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pplications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itoring changes in the atmospheric composition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e.g. ozone, NO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SO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BrO, formaldehyde and aerosol) at high temporal resolution (1 hour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osphere variabil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rrow field spectrometer covering UV (305-400 nm), visible (400-500 nm) and near-IR (750-775 nm) ba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tial sampling 8 km (over Europe) and spectral resolution between 0.12 nm and 0.5 nm (depending on band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stationary orbit, at 0</a:t>
                      </a:r>
                      <a:r>
                        <a:rPr b="1" lang="en-GB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longitu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barked on MTG-S and operated by EUMETS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56" name="Text Box 16"/>
          <p:cNvSpPr/>
          <p:nvPr/>
        </p:nvSpPr>
        <p:spPr>
          <a:xfrm>
            <a:off x="209520" y="85104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EO atmospheric composition mi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2440" y="163440"/>
            <a:ext cx="777528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entinel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18" descr="Picture1"/>
          <p:cNvPicPr/>
          <p:nvPr/>
        </p:nvPicPr>
        <p:blipFill>
          <a:blip r:embed="rId1"/>
          <a:stretch/>
        </p:blipFill>
        <p:spPr>
          <a:xfrm>
            <a:off x="468360" y="2708280"/>
            <a:ext cx="28465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DE77-D23B-4D98-B9ED-C6FE144F7AB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781440" y="957240"/>
          <a:ext cx="4967280" cy="5214960"/>
        </p:xfrm>
        <a:graphic>
          <a:graphicData uri="http://schemas.openxmlformats.org/drawingml/2006/table">
            <a:tbl>
              <a:tblPr/>
              <a:tblGrid>
                <a:gridCol w="4967280"/>
              </a:tblGrid>
              <a:tr h="192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pplications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itoring changes in the atmospheric composition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e.g. ozone, NO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SO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BrO, CO, CH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ormaldehyde and aerosol) at high temporal (daily) resolu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osphere variabil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O UVNS instrument with bands: UV1, UV2, VIS123 and SWIR-1 and SWIR-3. Option also to include SWIR 2 channel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tial resolution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x 15 km</a:t>
                      </a:r>
                      <a:r>
                        <a:rPr b="1" lang="en-GB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UV1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x 5 k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UV2/VIS/NIR/SWIR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Earth orbit (reference altitude of about 817 km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tinel-5 embarked on post-EPS and operated by EUMETS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62" name="Text Box 17"/>
          <p:cNvSpPr/>
          <p:nvPr/>
        </p:nvSpPr>
        <p:spPr>
          <a:xfrm>
            <a:off x="539640" y="1268280"/>
            <a:ext cx="309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EO atmospheric composition mi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2440" y="163440"/>
            <a:ext cx="777528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entinel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69"/>
          <p:cNvGrpSpPr/>
          <p:nvPr/>
        </p:nvGrpSpPr>
        <p:grpSpPr>
          <a:xfrm>
            <a:off x="285840" y="3586320"/>
            <a:ext cx="3097080" cy="2506680"/>
            <a:chOff x="285840" y="3586320"/>
            <a:chExt cx="3097080" cy="2506680"/>
          </a:xfrm>
        </p:grpSpPr>
        <p:grpSp>
          <p:nvGrpSpPr>
            <p:cNvPr id="365" name="Group 67"/>
            <p:cNvGrpSpPr/>
            <p:nvPr/>
          </p:nvGrpSpPr>
          <p:grpSpPr>
            <a:xfrm>
              <a:off x="285840" y="3586320"/>
              <a:ext cx="3097080" cy="2506680"/>
              <a:chOff x="285840" y="3586320"/>
              <a:chExt cx="3097080" cy="2506680"/>
            </a:xfrm>
          </p:grpSpPr>
          <p:grpSp>
            <p:nvGrpSpPr>
              <p:cNvPr id="366" name="Group 27"/>
              <p:cNvGrpSpPr/>
              <p:nvPr/>
            </p:nvGrpSpPr>
            <p:grpSpPr>
              <a:xfrm>
                <a:off x="2616120" y="4224240"/>
                <a:ext cx="365040" cy="98280"/>
                <a:chOff x="2616120" y="4224240"/>
                <a:chExt cx="365040" cy="98280"/>
              </a:xfrm>
            </p:grpSpPr>
            <p:sp>
              <p:nvSpPr>
                <p:cNvPr id="367" name="Freeform 25"/>
                <p:cNvSpPr/>
                <p:nvPr/>
              </p:nvSpPr>
              <p:spPr>
                <a:xfrm>
                  <a:off x="2616120" y="4224240"/>
                  <a:ext cx="365040" cy="98280"/>
                </a:xfrm>
                <a:custGeom>
                  <a:avLst/>
                  <a:gdLst>
                    <a:gd name="textAreaLeft" fmla="*/ 0 w 365040"/>
                    <a:gd name="textAreaRight" fmla="*/ 365040 w 36504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30" h="62">
                      <a:moveTo>
                        <a:pt x="174" y="0"/>
                      </a:moveTo>
                      <a:lnTo>
                        <a:pt x="173" y="15"/>
                      </a:lnTo>
                      <a:lnTo>
                        <a:pt x="1" y="9"/>
                      </a:lnTo>
                      <a:lnTo>
                        <a:pt x="0" y="40"/>
                      </a:lnTo>
                      <a:lnTo>
                        <a:pt x="172" y="46"/>
                      </a:lnTo>
                      <a:lnTo>
                        <a:pt x="171" y="62"/>
                      </a:lnTo>
                      <a:lnTo>
                        <a:pt x="230" y="33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26"/>
                <p:cNvSpPr/>
                <p:nvPr/>
              </p:nvSpPr>
              <p:spPr>
                <a:xfrm>
                  <a:off x="2616120" y="4224240"/>
                  <a:ext cx="365040" cy="98280"/>
                </a:xfrm>
                <a:custGeom>
                  <a:avLst/>
                  <a:gdLst>
                    <a:gd name="textAreaLeft" fmla="*/ 0 w 365040"/>
                    <a:gd name="textAreaRight" fmla="*/ 365040 w 36504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30" h="62">
                      <a:moveTo>
                        <a:pt x="174" y="0"/>
                      </a:moveTo>
                      <a:lnTo>
                        <a:pt x="173" y="15"/>
                      </a:lnTo>
                      <a:lnTo>
                        <a:pt x="1" y="9"/>
                      </a:lnTo>
                      <a:lnTo>
                        <a:pt x="0" y="40"/>
                      </a:lnTo>
                      <a:lnTo>
                        <a:pt x="172" y="46"/>
                      </a:lnTo>
                      <a:lnTo>
                        <a:pt x="171" y="62"/>
                      </a:lnTo>
                      <a:lnTo>
                        <a:pt x="230" y="33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30"/>
              <p:cNvGrpSpPr/>
              <p:nvPr/>
            </p:nvGrpSpPr>
            <p:grpSpPr>
              <a:xfrm>
                <a:off x="808200" y="4259160"/>
                <a:ext cx="355320" cy="150840"/>
                <a:chOff x="808200" y="4259160"/>
                <a:chExt cx="355320" cy="150840"/>
              </a:xfrm>
            </p:grpSpPr>
            <p:sp>
              <p:nvSpPr>
                <p:cNvPr id="370" name="Freeform 28"/>
                <p:cNvSpPr/>
                <p:nvPr/>
              </p:nvSpPr>
              <p:spPr>
                <a:xfrm>
                  <a:off x="808200" y="4259160"/>
                  <a:ext cx="355320" cy="15084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24" h="95">
                      <a:moveTo>
                        <a:pt x="64" y="95"/>
                      </a:moveTo>
                      <a:lnTo>
                        <a:pt x="59" y="80"/>
                      </a:lnTo>
                      <a:lnTo>
                        <a:pt x="224" y="30"/>
                      </a:lnTo>
                      <a:lnTo>
                        <a:pt x="214" y="0"/>
                      </a:lnTo>
                      <a:lnTo>
                        <a:pt x="50" y="50"/>
                      </a:lnTo>
                      <a:lnTo>
                        <a:pt x="46" y="35"/>
                      </a:lnTo>
                      <a:lnTo>
                        <a:pt x="0" y="82"/>
                      </a:lnTo>
                      <a:lnTo>
                        <a:pt x="64" y="95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29"/>
                <p:cNvSpPr/>
                <p:nvPr/>
              </p:nvSpPr>
              <p:spPr>
                <a:xfrm>
                  <a:off x="808200" y="4259160"/>
                  <a:ext cx="355320" cy="15084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24" h="95">
                      <a:moveTo>
                        <a:pt x="64" y="95"/>
                      </a:moveTo>
                      <a:lnTo>
                        <a:pt x="59" y="80"/>
                      </a:lnTo>
                      <a:lnTo>
                        <a:pt x="224" y="30"/>
                      </a:lnTo>
                      <a:lnTo>
                        <a:pt x="214" y="0"/>
                      </a:lnTo>
                      <a:lnTo>
                        <a:pt x="50" y="50"/>
                      </a:lnTo>
                      <a:lnTo>
                        <a:pt x="46" y="35"/>
                      </a:lnTo>
                      <a:lnTo>
                        <a:pt x="0" y="82"/>
                      </a:lnTo>
                      <a:lnTo>
                        <a:pt x="64" y="95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Rectangle 31"/>
              <p:cNvSpPr/>
              <p:nvPr/>
            </p:nvSpPr>
            <p:spPr>
              <a:xfrm>
                <a:off x="2616120" y="4325760"/>
                <a:ext cx="610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 Narrow"/>
                    <a:ea typeface="ＭＳ Ｐゴシック"/>
                  </a:rPr>
                  <a:t>Flight direction</a:t>
                </a:r>
                <a:endParaRPr b="1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>
                <a:off x="563040" y="4292640"/>
                <a:ext cx="223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 Narrow"/>
                    <a:ea typeface="ＭＳ Ｐゴシック"/>
                  </a:rPr>
                  <a:t>Nadir</a:t>
                </a:r>
                <a:endParaRPr b="1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35"/>
              <p:cNvSpPr/>
              <p:nvPr/>
            </p:nvSpPr>
            <p:spPr>
              <a:xfrm flipH="1" flipV="1">
                <a:off x="785520" y="3844800"/>
                <a:ext cx="530280" cy="30960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36"/>
              <p:cNvSpPr/>
              <p:nvPr/>
            </p:nvSpPr>
            <p:spPr>
              <a:xfrm>
                <a:off x="547560" y="3817800"/>
                <a:ext cx="15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 Narrow"/>
                    <a:ea typeface="ＭＳ Ｐゴシック"/>
                  </a:rPr>
                  <a:t>IRS</a:t>
                </a:r>
                <a:endParaRPr b="1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37"/>
              <p:cNvSpPr/>
              <p:nvPr/>
            </p:nvSpPr>
            <p:spPr>
              <a:xfrm flipH="1" flipV="1">
                <a:off x="1569960" y="3614760"/>
                <a:ext cx="217440" cy="44136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7" name="Picture 44" descr=""/>
              <p:cNvPicPr/>
              <p:nvPr/>
            </p:nvPicPr>
            <p:blipFill>
              <a:blip r:embed="rId1"/>
              <a:srcRect l="7315" t="0" r="12197" b="0"/>
              <a:stretch/>
            </p:blipFill>
            <p:spPr>
              <a:xfrm>
                <a:off x="285840" y="3735360"/>
                <a:ext cx="3097080" cy="2357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8" name="Group 47"/>
              <p:cNvGrpSpPr/>
              <p:nvPr/>
            </p:nvGrpSpPr>
            <p:grpSpPr>
              <a:xfrm>
                <a:off x="2616120" y="4224240"/>
                <a:ext cx="365040" cy="98280"/>
                <a:chOff x="2616120" y="4224240"/>
                <a:chExt cx="365040" cy="98280"/>
              </a:xfrm>
            </p:grpSpPr>
            <p:sp>
              <p:nvSpPr>
                <p:cNvPr id="379" name="Freeform 45"/>
                <p:cNvSpPr/>
                <p:nvPr/>
              </p:nvSpPr>
              <p:spPr>
                <a:xfrm>
                  <a:off x="2616120" y="4224240"/>
                  <a:ext cx="365040" cy="98280"/>
                </a:xfrm>
                <a:custGeom>
                  <a:avLst/>
                  <a:gdLst>
                    <a:gd name="textAreaLeft" fmla="*/ 0 w 365040"/>
                    <a:gd name="textAreaRight" fmla="*/ 365040 w 36504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30" h="62">
                      <a:moveTo>
                        <a:pt x="174" y="0"/>
                      </a:moveTo>
                      <a:lnTo>
                        <a:pt x="173" y="15"/>
                      </a:lnTo>
                      <a:lnTo>
                        <a:pt x="1" y="9"/>
                      </a:lnTo>
                      <a:lnTo>
                        <a:pt x="0" y="40"/>
                      </a:lnTo>
                      <a:lnTo>
                        <a:pt x="172" y="46"/>
                      </a:lnTo>
                      <a:lnTo>
                        <a:pt x="171" y="62"/>
                      </a:lnTo>
                      <a:lnTo>
                        <a:pt x="230" y="33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46"/>
                <p:cNvSpPr/>
                <p:nvPr/>
              </p:nvSpPr>
              <p:spPr>
                <a:xfrm>
                  <a:off x="2616120" y="4224240"/>
                  <a:ext cx="365040" cy="98280"/>
                </a:xfrm>
                <a:custGeom>
                  <a:avLst/>
                  <a:gdLst>
                    <a:gd name="textAreaLeft" fmla="*/ 0 w 365040"/>
                    <a:gd name="textAreaRight" fmla="*/ 365040 w 36504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30" h="62">
                      <a:moveTo>
                        <a:pt x="174" y="0"/>
                      </a:moveTo>
                      <a:lnTo>
                        <a:pt x="173" y="15"/>
                      </a:lnTo>
                      <a:lnTo>
                        <a:pt x="1" y="9"/>
                      </a:lnTo>
                      <a:lnTo>
                        <a:pt x="0" y="40"/>
                      </a:lnTo>
                      <a:lnTo>
                        <a:pt x="172" y="46"/>
                      </a:lnTo>
                      <a:lnTo>
                        <a:pt x="171" y="62"/>
                      </a:lnTo>
                      <a:lnTo>
                        <a:pt x="230" y="33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0"/>
              <p:cNvGrpSpPr/>
              <p:nvPr/>
            </p:nvGrpSpPr>
            <p:grpSpPr>
              <a:xfrm>
                <a:off x="808200" y="4259160"/>
                <a:ext cx="355320" cy="150840"/>
                <a:chOff x="808200" y="4259160"/>
                <a:chExt cx="355320" cy="150840"/>
              </a:xfrm>
            </p:grpSpPr>
            <p:sp>
              <p:nvSpPr>
                <p:cNvPr id="382" name="Freeform 48"/>
                <p:cNvSpPr/>
                <p:nvPr/>
              </p:nvSpPr>
              <p:spPr>
                <a:xfrm>
                  <a:off x="808200" y="4259160"/>
                  <a:ext cx="355320" cy="15084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24" h="95">
                      <a:moveTo>
                        <a:pt x="64" y="95"/>
                      </a:moveTo>
                      <a:lnTo>
                        <a:pt x="59" y="80"/>
                      </a:lnTo>
                      <a:lnTo>
                        <a:pt x="224" y="30"/>
                      </a:lnTo>
                      <a:lnTo>
                        <a:pt x="214" y="0"/>
                      </a:lnTo>
                      <a:lnTo>
                        <a:pt x="50" y="50"/>
                      </a:lnTo>
                      <a:lnTo>
                        <a:pt x="46" y="35"/>
                      </a:lnTo>
                      <a:lnTo>
                        <a:pt x="0" y="82"/>
                      </a:lnTo>
                      <a:lnTo>
                        <a:pt x="64" y="95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49"/>
                <p:cNvSpPr/>
                <p:nvPr/>
              </p:nvSpPr>
              <p:spPr>
                <a:xfrm>
                  <a:off x="808200" y="4259160"/>
                  <a:ext cx="355320" cy="15084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24" h="95">
                      <a:moveTo>
                        <a:pt x="64" y="95"/>
                      </a:moveTo>
                      <a:lnTo>
                        <a:pt x="59" y="80"/>
                      </a:lnTo>
                      <a:lnTo>
                        <a:pt x="224" y="30"/>
                      </a:lnTo>
                      <a:lnTo>
                        <a:pt x="214" y="0"/>
                      </a:lnTo>
                      <a:lnTo>
                        <a:pt x="50" y="50"/>
                      </a:lnTo>
                      <a:lnTo>
                        <a:pt x="46" y="35"/>
                      </a:lnTo>
                      <a:lnTo>
                        <a:pt x="0" y="82"/>
                      </a:lnTo>
                      <a:lnTo>
                        <a:pt x="64" y="95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Rectangle 51"/>
              <p:cNvSpPr/>
              <p:nvPr/>
            </p:nvSpPr>
            <p:spPr>
              <a:xfrm>
                <a:off x="2616120" y="4325760"/>
                <a:ext cx="610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 Narrow"/>
                    <a:ea typeface="ＭＳ Ｐゴシック"/>
                  </a:rPr>
                  <a:t>Flight direction</a:t>
                </a:r>
                <a:endParaRPr b="1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52"/>
              <p:cNvSpPr/>
              <p:nvPr/>
            </p:nvSpPr>
            <p:spPr>
              <a:xfrm>
                <a:off x="563040" y="4292640"/>
                <a:ext cx="223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 Narrow"/>
                    <a:ea typeface="ＭＳ Ｐゴシック"/>
                  </a:rPr>
                  <a:t>Nadir</a:t>
                </a:r>
                <a:endParaRPr b="1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Line 55"/>
              <p:cNvSpPr/>
              <p:nvPr/>
            </p:nvSpPr>
            <p:spPr>
              <a:xfrm flipH="1" flipV="1">
                <a:off x="785520" y="3844800"/>
                <a:ext cx="530280" cy="309600"/>
              </a:xfrm>
              <a:prstGeom prst="line">
                <a:avLst/>
              </a:prstGeom>
              <a:ln cap="rnd"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56"/>
              <p:cNvSpPr/>
              <p:nvPr/>
            </p:nvSpPr>
            <p:spPr>
              <a:xfrm>
                <a:off x="547560" y="3817800"/>
                <a:ext cx="20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Arial Narrow"/>
                    <a:ea typeface="ＭＳ Ｐゴシック"/>
                  </a:rPr>
                  <a:t>IR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57"/>
              <p:cNvSpPr/>
              <p:nvPr/>
            </p:nvSpPr>
            <p:spPr>
              <a:xfrm flipH="1" flipV="1">
                <a:off x="1569960" y="3614760"/>
                <a:ext cx="217440" cy="441360"/>
              </a:xfrm>
              <a:prstGeom prst="line">
                <a:avLst/>
              </a:prstGeom>
              <a:ln cap="rnd"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58"/>
              <p:cNvSpPr/>
              <p:nvPr/>
            </p:nvSpPr>
            <p:spPr>
              <a:xfrm>
                <a:off x="1188000" y="358632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Arial Narrow"/>
                    <a:ea typeface="ＭＳ Ｐゴシック"/>
                  </a:rPr>
                  <a:t>UVN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68"/>
            <p:cNvSpPr/>
            <p:nvPr/>
          </p:nvSpPr>
          <p:spPr>
            <a:xfrm>
              <a:off x="1909440" y="5157720"/>
              <a:ext cx="130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lementatio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485E-9724-478D-9C8D-7E53E4DBE16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468360" y="907920"/>
            <a:ext cx="8351640" cy="52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 Continuity of data 2014 – 2020 (Envisat/Aura – Sentinel 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tial resol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 and C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"/>
                <a:ea typeface="ＭＳ Ｐゴシック"/>
              </a:rPr>
              <a:t>4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PBL sensitiv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. Transition to operational sche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noon orbit required for AQ forecast (Metop: 9:30h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synergy S5 precursor – Metop to start into observation of diurnal variation, as needed for AQ monitoring.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be picked up by S4 la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radiometric sensitiv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. Implem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V-VIS-NIR-SWIR spectrometer on dedicated platform, flying in loose formation with NPP (13:30h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ntinel 5 pre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C03D-20B5-471A-BD99-BE8C2D224D6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3925800" y="838080"/>
          <a:ext cx="4967280" cy="5216760"/>
        </p:xfrm>
        <a:graphic>
          <a:graphicData uri="http://schemas.openxmlformats.org/drawingml/2006/table">
            <a:tbl>
              <a:tblPr/>
              <a:tblGrid>
                <a:gridCol w="4967280"/>
              </a:tblGrid>
              <a:tr h="192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pplications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itoring changes in the atmospheric composition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e.g. ozone, NO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SO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BrO, CO, CH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ormaldehyde and aerosol) at high temporal (daily) resolu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ospheric variabil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O UVNS instrument with priority bands in the UV12, VIS123, NIR and SWIR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tial resolu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x 28 km</a:t>
                      </a:r>
                      <a:r>
                        <a:rPr b="1" lang="en-GB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V1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x 7 k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UV2/VIS/NIR/SWIR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Earth orbit (reference altitude 828 km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tinel-5 precursor shall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fill data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gap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13-2019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in critical data streams between Envisat/Sciamachy, Aura/OMI and Sentinel-5 embarked on post-EP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98" name="Text Box 17"/>
          <p:cNvSpPr/>
          <p:nvPr/>
        </p:nvSpPr>
        <p:spPr>
          <a:xfrm>
            <a:off x="395280" y="141300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EO atmospheric composition mi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2440" y="163080"/>
            <a:ext cx="777528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entinel-5 Pre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43"/>
          <p:cNvGrpSpPr/>
          <p:nvPr/>
        </p:nvGrpSpPr>
        <p:grpSpPr>
          <a:xfrm>
            <a:off x="34920" y="3429000"/>
            <a:ext cx="3854880" cy="2634480"/>
            <a:chOff x="34920" y="3429000"/>
            <a:chExt cx="3854880" cy="2634480"/>
          </a:xfrm>
        </p:grpSpPr>
        <p:pic>
          <p:nvPicPr>
            <p:cNvPr id="401" name="Picture 3" descr="ContourSketch"/>
            <p:cNvPicPr/>
            <p:nvPr/>
          </p:nvPicPr>
          <p:blipFill>
            <a:blip r:embed="rId1"/>
            <a:stretch/>
          </p:blipFill>
          <p:spPr>
            <a:xfrm>
              <a:off x="839880" y="3743280"/>
              <a:ext cx="2120760" cy="2027160"/>
            </a:xfrm>
            <a:prstGeom prst="rect">
              <a:avLst/>
            </a:prstGeom>
            <a:ln w="0">
              <a:solidFill>
                <a:srgbClr val="000000"/>
              </a:solidFill>
            </a:ln>
          </p:spPr>
        </p:pic>
        <p:sp>
          <p:nvSpPr>
            <p:cNvPr id="402" name="Text Box 4"/>
            <p:cNvSpPr/>
            <p:nvPr/>
          </p:nvSpPr>
          <p:spPr>
            <a:xfrm>
              <a:off x="405000" y="499104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V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5"/>
            <p:cNvSpPr/>
            <p:nvPr/>
          </p:nvSpPr>
          <p:spPr>
            <a:xfrm>
              <a:off x="804960" y="54021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V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6"/>
            <p:cNvSpPr/>
            <p:nvPr/>
          </p:nvSpPr>
          <p:spPr>
            <a:xfrm>
              <a:off x="1640520" y="575640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IS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7"/>
            <p:cNvSpPr/>
            <p:nvPr/>
          </p:nvSpPr>
          <p:spPr>
            <a:xfrm>
              <a:off x="2301120" y="551664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IS3-NIR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8"/>
            <p:cNvSpPr/>
            <p:nvPr/>
          </p:nvSpPr>
          <p:spPr>
            <a:xfrm>
              <a:off x="311040" y="4618080"/>
              <a:ext cx="74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WIR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 Box 9"/>
            <p:cNvSpPr/>
            <p:nvPr/>
          </p:nvSpPr>
          <p:spPr>
            <a:xfrm>
              <a:off x="34920" y="42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WIR modul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10"/>
            <p:cNvSpPr/>
            <p:nvPr/>
          </p:nvSpPr>
          <p:spPr>
            <a:xfrm>
              <a:off x="2517120" y="4995720"/>
              <a:ext cx="123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VN modul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11"/>
            <p:cNvSpPr/>
            <p:nvPr/>
          </p:nvSpPr>
          <p:spPr>
            <a:xfrm>
              <a:off x="56520" y="3429000"/>
              <a:ext cx="197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WIR calibration unit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2005200" y="3429000"/>
              <a:ext cx="188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VN calibration unit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4600" y="3714840"/>
              <a:ext cx="503280" cy="26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43040" y="4489560"/>
              <a:ext cx="3128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795600" y="4729320"/>
              <a:ext cx="4838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6"/>
            <p:cNvSpPr/>
            <p:nvPr/>
          </p:nvSpPr>
          <p:spPr>
            <a:xfrm flipH="1">
              <a:off x="2225880" y="3695760"/>
              <a:ext cx="242640" cy="23796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7"/>
            <p:cNvSpPr/>
            <p:nvPr/>
          </p:nvSpPr>
          <p:spPr>
            <a:xfrm flipH="1" flipV="1">
              <a:off x="2485800" y="5014440"/>
              <a:ext cx="182520" cy="3996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8"/>
            <p:cNvSpPr/>
            <p:nvPr/>
          </p:nvSpPr>
          <p:spPr>
            <a:xfrm flipH="1" flipV="1">
              <a:off x="1973520" y="5413320"/>
              <a:ext cx="365040" cy="23976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9"/>
            <p:cNvSpPr/>
            <p:nvPr/>
          </p:nvSpPr>
          <p:spPr>
            <a:xfrm flipH="1" flipV="1">
              <a:off x="1900080" y="5571720"/>
              <a:ext cx="6120" cy="23652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 flipV="1">
              <a:off x="1063800" y="5294160"/>
              <a:ext cx="106200" cy="12240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21"/>
            <p:cNvSpPr/>
            <p:nvPr/>
          </p:nvSpPr>
          <p:spPr>
            <a:xfrm flipV="1">
              <a:off x="730440" y="5054400"/>
              <a:ext cx="255600" cy="6012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6931-8E9D-45AC-A77D-3D6A3196CDF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68360" y="333360"/>
            <a:ext cx="8675640" cy="52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Development of Sentinel 4 and 5 missions (2/2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elot” study (2007-9): Mapping of geophysical requirements to radiometric, spectral and spatial requirements; orbit trade-off accounting for sampling statistics, cloud interference and accuracy requirement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bit scenario selected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tinel 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 GEO (UVN instrument added to Eumetsat MTG sounder platform, usage of existing TIR sounder capabilitie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tinel 5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 sun-synch LEO at 9.30h (UVNS instrument added to Eumetsat post-EPS, combined met-chem IR sounder, usage of multi-spectral imager, usage of polarisation imager if implemented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ional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 (usage of existing platforms, non-redundant scheme for GE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ergy with meteorological observat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diurnal observation frequency over Europ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00C1-53D6-4A82-8C7D-7F6C50529BE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179280" y="476280"/>
            <a:ext cx="896472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ographical coverage require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Ozone Layer &amp;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urface UV radi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eshold : Europe + surrounding are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e.g. monitoring of EC directives and national AQ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gislation, short-term air quality forecast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ir Qua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: glob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monitoring, assessment and foreca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global air quality, the oxidising capacity, and 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fication of continental in/out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frica not strictly in scope of GMES AQ requirements –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emporal and spatial resolution considered mor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mportant than target geographical coverag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lim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27"/>
          <p:cNvSpPr/>
          <p:nvPr/>
        </p:nvSpPr>
        <p:spPr>
          <a:xfrm>
            <a:off x="250920" y="2205000"/>
            <a:ext cx="864216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28"/>
          <p:cNvSpPr/>
          <p:nvPr/>
        </p:nvSpPr>
        <p:spPr>
          <a:xfrm>
            <a:off x="250920" y="5229360"/>
            <a:ext cx="864216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29"/>
          <p:cNvSpPr/>
          <p:nvPr/>
        </p:nvSpPr>
        <p:spPr>
          <a:xfrm>
            <a:off x="2627280" y="1197000"/>
            <a:ext cx="0" cy="460692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7684920" y="6419880"/>
            <a:ext cx="93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35D4-E53C-4BD8-9B37-51E62B17AB3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1917720" y="6465960"/>
            <a:ext cx="52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ACC-5, CSA - Montreal, 30-31 March 2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468360" y="692280"/>
            <a:ext cx="8496360" cy="51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entinel 5 precurs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ional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ity of CO and C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ata with PBL sensitivity (Sciamachy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ity in high spatial resolution (OMI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into diurnal AQ observations (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ocal time: 13.30h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VN spectrometer as Sentinel 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3 micron band (CO, C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ata product from this mission would benefit strongly from an efficient cooperation with NPP/NPOESS if flying concurrently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179280" y="549360"/>
          <a:ext cx="878544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49360"/>
                    <a:ext cx="878544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Summary of Observation Requirements </a:t>
            </a: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UV-Vis-NIR-SWIR Band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3280" y="765000"/>
            <a:ext cx="5761080" cy="4896000"/>
            <a:chOff x="2843280" y="765000"/>
            <a:chExt cx="5761080" cy="4896000"/>
          </a:xfrm>
        </p:grpSpPr>
        <p:sp>
          <p:nvSpPr>
            <p:cNvPr id="139" name="AutoShape 5"/>
            <p:cNvSpPr/>
            <p:nvPr/>
          </p:nvSpPr>
          <p:spPr>
            <a:xfrm>
              <a:off x="2843280" y="1125360"/>
              <a:ext cx="1360440" cy="4535640"/>
            </a:xfrm>
            <a:custGeom>
              <a:avLst/>
              <a:gdLst>
                <a:gd name="textAreaLeft" fmla="*/ 66240 w 1360440"/>
                <a:gd name="textAreaRight" fmla="*/ 1294200 w 1360440"/>
                <a:gd name="textAreaTop" fmla="*/ 66240 h 4535640"/>
                <a:gd name="textAreaBottom" fmla="*/ 4469400 h 4535640"/>
              </a:gdLst>
              <a:ahLst/>
              <a:rect l="textAreaLeft" t="textAreaTop" r="textAreaRight" b="textAreaBottom"/>
              <a:pathLst>
                <a:path w="21600" h="72000">
                  <a:moveTo>
                    <a:pt x="3600" y="0"/>
                  </a:moveTo>
                  <a:arcTo wR="3600" hR="3600" stAng="16200000" swAng="-5400000"/>
                  <a:lnTo>
                    <a:pt x="0" y="68400"/>
                  </a:lnTo>
                  <a:arcTo wR="3600" hR="3600" stAng="10800000" swAng="-5400000"/>
                  <a:lnTo>
                    <a:pt x="18000" y="72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2843280" y="76500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cc33"/>
                  </a:solidFill>
                  <a:latin typeface="Arial"/>
                  <a:ea typeface="ＭＳ Ｐゴシック"/>
                </a:rPr>
                <a:t>Sentinel-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4203720" y="1125360"/>
              <a:ext cx="4400640" cy="4535640"/>
            </a:xfrm>
            <a:prstGeom prst="rect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2627280" y="765000"/>
            <a:ext cx="5977080" cy="4896000"/>
            <a:chOff x="2627280" y="765000"/>
            <a:chExt cx="5977080" cy="4896000"/>
          </a:xfrm>
        </p:grpSpPr>
        <p:sp>
          <p:nvSpPr>
            <p:cNvPr id="143" name="AutoShape 9"/>
            <p:cNvSpPr/>
            <p:nvPr/>
          </p:nvSpPr>
          <p:spPr>
            <a:xfrm>
              <a:off x="2627280" y="1125360"/>
              <a:ext cx="5977080" cy="4535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4642920" y="76500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Sentinel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2627280" y="765000"/>
            <a:ext cx="6050160" cy="5038920"/>
            <a:chOff x="2627280" y="765000"/>
            <a:chExt cx="6050160" cy="5038920"/>
          </a:xfrm>
        </p:grpSpPr>
        <p:sp>
          <p:nvSpPr>
            <p:cNvPr id="146" name="AutoShape 12"/>
            <p:cNvSpPr/>
            <p:nvPr/>
          </p:nvSpPr>
          <p:spPr>
            <a:xfrm>
              <a:off x="2843280" y="1125360"/>
              <a:ext cx="576360" cy="45356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4535640"/>
                <a:gd name="textAreaBottom" fmla="*/ 4507560 h 4535640"/>
              </a:gdLst>
              <a:ahLst/>
              <a:rect l="textAreaLeft" t="textAreaTop" r="textAreaRight" b="textAreaBottom"/>
              <a:pathLst>
                <a:path w="21600" h="169888">
                  <a:moveTo>
                    <a:pt x="3600" y="0"/>
                  </a:moveTo>
                  <a:arcTo wR="3600" hR="3600" stAng="16200000" swAng="-5400000"/>
                  <a:lnTo>
                    <a:pt x="0" y="166288"/>
                  </a:lnTo>
                  <a:arcTo wR="3600" hR="3600" stAng="10800000" swAng="-5400000"/>
                  <a:lnTo>
                    <a:pt x="18000" y="169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6084720" y="7650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Sentinel-5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14"/>
            <p:cNvSpPr/>
            <p:nvPr/>
          </p:nvSpPr>
          <p:spPr>
            <a:xfrm>
              <a:off x="3851280" y="1125360"/>
              <a:ext cx="504720" cy="4535640"/>
            </a:xfrm>
            <a:custGeom>
              <a:avLst/>
              <a:gdLst>
                <a:gd name="textAreaLeft" fmla="*/ 24480 w 504720"/>
                <a:gd name="textAreaRight" fmla="*/ 480240 w 504720"/>
                <a:gd name="textAreaTop" fmla="*/ 24480 h 4535640"/>
                <a:gd name="textAreaBottom" fmla="*/ 4511160 h 4535640"/>
              </a:gdLst>
              <a:ahLst/>
              <a:rect l="textAreaLeft" t="textAreaTop" r="textAreaRight" b="textAreaBottom"/>
              <a:pathLst>
                <a:path w="21600" h="193984">
                  <a:moveTo>
                    <a:pt x="3600" y="0"/>
                  </a:moveTo>
                  <a:arcTo wR="3600" hR="3600" stAng="16200000" swAng="-5400000"/>
                  <a:lnTo>
                    <a:pt x="0" y="190384"/>
                  </a:lnTo>
                  <a:arcTo wR="3600" hR="3600" stAng="10800000" swAng="-5400000"/>
                  <a:lnTo>
                    <a:pt x="18000" y="1939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15"/>
            <p:cNvSpPr/>
            <p:nvPr/>
          </p:nvSpPr>
          <p:spPr>
            <a:xfrm>
              <a:off x="7812000" y="1125360"/>
              <a:ext cx="865440" cy="4535640"/>
            </a:xfrm>
            <a:custGeom>
              <a:avLst/>
              <a:gdLst>
                <a:gd name="textAreaLeft" fmla="*/ 42120 w 865440"/>
                <a:gd name="textAreaRight" fmla="*/ 823320 w 865440"/>
                <a:gd name="textAreaTop" fmla="*/ 42120 h 4535640"/>
                <a:gd name="textAreaBottom" fmla="*/ 4493520 h 4535640"/>
              </a:gdLst>
              <a:ahLst/>
              <a:rect l="textAreaLeft" t="textAreaTop" r="textAreaRight" b="textAreaBottom"/>
              <a:pathLst>
                <a:path w="21600" h="113164">
                  <a:moveTo>
                    <a:pt x="3600" y="0"/>
                  </a:moveTo>
                  <a:arcTo wR="3600" hR="3600" stAng="16200000" swAng="-5400000"/>
                  <a:lnTo>
                    <a:pt x="0" y="109564"/>
                  </a:lnTo>
                  <a:arcTo wR="3600" hR="3600" stAng="10800000" swAng="-5400000"/>
                  <a:lnTo>
                    <a:pt x="18000" y="113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3419640" y="1125360"/>
              <a:ext cx="431640" cy="4535640"/>
            </a:xfrm>
            <a:prstGeom prst="rect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7"/>
            <p:cNvSpPr/>
            <p:nvPr/>
          </p:nvSpPr>
          <p:spPr>
            <a:xfrm>
              <a:off x="4356000" y="1125360"/>
              <a:ext cx="3456000" cy="4535640"/>
            </a:xfrm>
            <a:prstGeom prst="rect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8"/>
            <p:cNvSpPr/>
            <p:nvPr/>
          </p:nvSpPr>
          <p:spPr>
            <a:xfrm>
              <a:off x="2627280" y="1268280"/>
              <a:ext cx="216000" cy="4535640"/>
            </a:xfrm>
            <a:prstGeom prst="rect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Summary of Observation Requirements </a:t>
            </a: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TIR Band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685800" y="938160"/>
          <a:ext cx="811044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38160"/>
                    <a:ext cx="811044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4"/>
          <p:cNvGrpSpPr/>
          <p:nvPr/>
        </p:nvGrpSpPr>
        <p:grpSpPr>
          <a:xfrm>
            <a:off x="2771640" y="692280"/>
            <a:ext cx="5861160" cy="4897080"/>
            <a:chOff x="2771640" y="692280"/>
            <a:chExt cx="5861160" cy="4897080"/>
          </a:xfrm>
        </p:grpSpPr>
        <p:sp>
          <p:nvSpPr>
            <p:cNvPr id="157" name="AutoShape 5"/>
            <p:cNvSpPr/>
            <p:nvPr/>
          </p:nvSpPr>
          <p:spPr>
            <a:xfrm>
              <a:off x="2771640" y="1047240"/>
              <a:ext cx="5832720" cy="4542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6"/>
            <p:cNvSpPr/>
            <p:nvPr/>
          </p:nvSpPr>
          <p:spPr>
            <a:xfrm>
              <a:off x="7236000" y="6922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Sentinel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"/>
          <p:cNvGrpSpPr/>
          <p:nvPr/>
        </p:nvGrpSpPr>
        <p:grpSpPr>
          <a:xfrm>
            <a:off x="2843280" y="0"/>
            <a:ext cx="6381720" cy="5662440"/>
            <a:chOff x="2843280" y="0"/>
            <a:chExt cx="6381720" cy="5662440"/>
          </a:xfrm>
        </p:grpSpPr>
        <p:sp>
          <p:nvSpPr>
            <p:cNvPr id="160" name="AutoShape 8"/>
            <p:cNvSpPr/>
            <p:nvPr/>
          </p:nvSpPr>
          <p:spPr>
            <a:xfrm>
              <a:off x="3492360" y="1054080"/>
              <a:ext cx="3311640" cy="4535640"/>
            </a:xfrm>
            <a:custGeom>
              <a:avLst/>
              <a:gdLst>
                <a:gd name="textAreaLeft" fmla="*/ 161640 w 3311640"/>
                <a:gd name="textAreaRight" fmla="*/ 3150000 w 3311640"/>
                <a:gd name="textAreaTop" fmla="*/ 161640 h 4535640"/>
                <a:gd name="textAreaBottom" fmla="*/ 4374000 h 4535640"/>
              </a:gdLst>
              <a:ahLst/>
              <a:rect l="textAreaLeft" t="textAreaTop" r="textAreaRight" b="textAreaBottom"/>
              <a:pathLst>
                <a:path w="21600" h="29583">
                  <a:moveTo>
                    <a:pt x="3600" y="0"/>
                  </a:moveTo>
                  <a:arcTo wR="3600" hR="3600" stAng="16200000" swAng="-5400000"/>
                  <a:lnTo>
                    <a:pt x="0" y="25983"/>
                  </a:lnTo>
                  <a:arcTo wR="3600" hR="3600" stAng="10800000" swAng="-5400000"/>
                  <a:lnTo>
                    <a:pt x="18000" y="295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4357800" y="6922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Sentinel-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843280" y="907920"/>
              <a:ext cx="649080" cy="4681800"/>
            </a:xfrm>
            <a:prstGeom prst="rect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6804000" y="981000"/>
              <a:ext cx="1728720" cy="4681440"/>
            </a:xfrm>
            <a:prstGeom prst="rect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12"/>
            <p:cNvGrpSpPr/>
            <p:nvPr/>
          </p:nvGrpSpPr>
          <p:grpSpPr>
            <a:xfrm>
              <a:off x="5651640" y="0"/>
              <a:ext cx="3573360" cy="647640"/>
              <a:chOff x="5651640" y="0"/>
              <a:chExt cx="3573360" cy="647640"/>
            </a:xfrm>
          </p:grpSpPr>
          <p:sp>
            <p:nvSpPr>
              <p:cNvPr id="165" name="Text Box 13"/>
              <p:cNvSpPr/>
              <p:nvPr/>
            </p:nvSpPr>
            <p:spPr>
              <a:xfrm>
                <a:off x="7605720" y="92160"/>
                <a:ext cx="16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Using IR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14"/>
              <p:cNvSpPr/>
              <p:nvPr/>
            </p:nvSpPr>
            <p:spPr>
              <a:xfrm>
                <a:off x="5651640" y="0"/>
                <a:ext cx="1368360" cy="647640"/>
              </a:xfrm>
              <a:custGeom>
                <a:avLst/>
                <a:gdLst>
                  <a:gd name="textAreaLeft" fmla="*/ 199800 w 1368360"/>
                  <a:gd name="textAreaRight" fmla="*/ 1168560 w 1368360"/>
                  <a:gd name="textAreaTop" fmla="*/ 95040 h 647640"/>
                  <a:gd name="textAreaBottom" fmla="*/ 55260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401" y="15493"/>
                    </a:moveTo>
                    <a:cubicBezTo>
                      <a:pt x="18376" y="14122"/>
                      <a:pt x="18900" y="12482"/>
                      <a:pt x="18900" y="10800"/>
                    </a:cubicBezTo>
                    <a:cubicBezTo>
                      <a:pt x="18900" y="6326"/>
                      <a:pt x="15273" y="2700"/>
                      <a:pt x="10800" y="2700"/>
                    </a:cubicBezTo>
                    <a:cubicBezTo>
                      <a:pt x="9117" y="2699"/>
                      <a:pt x="7477" y="3223"/>
                      <a:pt x="6106" y="4198"/>
                    </a:cubicBezTo>
                    <a:close/>
                    <a:moveTo>
                      <a:pt x="4198" y="6106"/>
                    </a:moveTo>
                    <a:cubicBezTo>
                      <a:pt x="3223" y="7477"/>
                      <a:pt x="2700" y="9117"/>
                      <a:pt x="2700" y="10799"/>
                    </a:cubicBezTo>
                    <a:cubicBezTo>
                      <a:pt x="2700" y="15273"/>
                      <a:pt x="6326" y="18900"/>
                      <a:pt x="10800" y="18900"/>
                    </a:cubicBezTo>
                    <a:cubicBezTo>
                      <a:pt x="12482" y="18900"/>
                      <a:pt x="14122" y="18376"/>
                      <a:pt x="15493" y="17401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6Z</dcterms:created>
  <dc:creator/>
  <dc:description/>
  <dc:language>en-US</dc:language>
  <cp:lastModifiedBy>kekeith</cp:lastModifiedBy>
  <dcterms:modified xsi:type="dcterms:W3CDTF">2010-04-05T17:05:13Z</dcterms:modified>
  <cp:revision>211</cp:revision>
  <dc:subject/>
  <dc:title>Slide 1</dc:title>
</cp:coreProperties>
</file>