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713880" y="740880"/>
            <a:ext cx="536580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3"/>
          </p:nvPr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806BE-266F-4D7D-8CE6-0AB5A0D162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C5BA9-A005-4CFB-B95B-825A88CFF5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7440B-8E88-4140-BF04-C1D8E78864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3974E-2CBD-473C-B0C0-DC6D5018A8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37CFA-0315-4F2F-AFBF-E5026D6714E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142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862E9-793D-4306-A366-EEC9F86F37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D53F0-5B9E-47C6-B3BD-451C403644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CFE00-E8AF-4D49-B440-F05129EABC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4073C-3098-4B44-AF97-119DB73744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2E8-872A-4400-A1E6-9FD95DC2AF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DE290-7582-4FFF-948E-27BF73843A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D1E62-FEBD-4A1E-B60B-3B9C3E3CEB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E0633-D678-4437-85F9-61CC2F9796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5EA94-6477-46B0-845A-D3871DFCE4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09F8B-E34A-4EF6-AB6F-52B72B2AE2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EA86C-C024-49A4-BEF4-66D50EF0EA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40DF4-47CE-4AE4-9F45-40E9121BC4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CF687-DA25-4178-B39C-2C8527841B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3D18C-52DB-4756-87A2-6155C730D5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7142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81969-FF46-418E-863B-135A46C721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AF8D5-7112-445B-8CCC-35C68E3563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5E2FE-DDD8-4A47-AE40-E04BD313A4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86E11-3DA9-470A-A616-990E052A2E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1496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808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2184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1496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0808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5440" y="237600"/>
            <a:ext cx="9150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1496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808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2184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1496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0808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25440" y="237600"/>
            <a:ext cx="9150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D4615103-A6D6-4D39-AE91-015AFF868BD2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3" name="AutoShape 5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" name="Picture 14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Group 15"/>
          <p:cNvGrpSpPr/>
          <p:nvPr/>
        </p:nvGrpSpPr>
        <p:grpSpPr>
          <a:xfrm>
            <a:off x="4680" y="1090440"/>
            <a:ext cx="9901440" cy="128880"/>
            <a:chOff x="4680" y="1090440"/>
            <a:chExt cx="9901440" cy="128880"/>
          </a:xfrm>
        </p:grpSpPr>
        <p:sp>
          <p:nvSpPr>
            <p:cNvPr id="14" name="Rectangle 16"/>
            <p:cNvSpPr/>
            <p:nvPr/>
          </p:nvSpPr>
          <p:spPr>
            <a:xfrm>
              <a:off x="4680" y="1090440"/>
              <a:ext cx="386244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059360" y="1090440"/>
              <a:ext cx="7063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4998960" y="1090440"/>
              <a:ext cx="2365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5518080" y="1090440"/>
              <a:ext cx="1414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981840" y="1090440"/>
              <a:ext cx="29242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942840" y="6523200"/>
            <a:ext cx="3007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5f758d"/>
                </a:solidFill>
                <a:latin typeface="Century Gothic"/>
              </a:rPr>
              <a:t>EUMETSATS Contribution to Climate Monitor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EB19E8B1-7EB7-462E-A1D0-76A0FB75FD3F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0" y="3244680"/>
            <a:ext cx="9906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4680" y="3098880"/>
            <a:ext cx="9901440" cy="128520"/>
            <a:chOff x="4680" y="3098880"/>
            <a:chExt cx="9901440" cy="128520"/>
          </a:xfrm>
        </p:grpSpPr>
        <p:sp>
          <p:nvSpPr>
            <p:cNvPr id="60" name="Rectangle 7"/>
            <p:cNvSpPr/>
            <p:nvPr/>
          </p:nvSpPr>
          <p:spPr>
            <a:xfrm>
              <a:off x="4680" y="3098880"/>
              <a:ext cx="386244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4059360" y="3098880"/>
              <a:ext cx="70632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4998960" y="3098880"/>
              <a:ext cx="23652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5518080" y="3098880"/>
              <a:ext cx="14148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6981840" y="3098880"/>
              <a:ext cx="292428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2"/>
          <p:cNvSpPr/>
          <p:nvPr/>
        </p:nvSpPr>
        <p:spPr>
          <a:xfrm>
            <a:off x="1090800" y="6523200"/>
            <a:ext cx="262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758d"/>
                </a:solidFill>
                <a:latin typeface="Century Gothic"/>
              </a:rPr>
              <a:t>CEOS ACC Meeting, CSA, 30-31 March 201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67" name="AutoShape 14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15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16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18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19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20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21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22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76" name="Picture 23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60600" y="157320"/>
            <a:ext cx="5645160" cy="30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EUMETSAT’s Contribution to Climate Monitoring and support to ESA’s Climate Change Initiativ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164120" y="5032080"/>
            <a:ext cx="607536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Rosemary Munro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European Organisation for the Exploitation of Meteorological Satellites (EUMETSAT)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Upcoming reprocessing in 2009/2010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ETEOSAT First Generation Data Re-Processing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tmospheric Motion Vectors and Clear Sky Radiances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anuary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SG Data Re-Processing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VIRI Radiances (all channels)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rom January 2004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tmospheric Motion Vectors and Clear Sky Radiances from January 2004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etop Reprocessing (Full mission period)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ll Level 1: IASI, GRAS, (AVHRR/ATOVS, GOME, ASCAT)*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lected Level 2 : Trace gases, polar winds, NDVI, Soil moisture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* If required (already performed once)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atellite Application Facilities (SAFs): specific climate activitie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7466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SAF on Climate Monitoring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Generation of homogeneous data sets and continuous spatially and temporarily integrated satellite information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Meteosat, SSM/I, AVHRR reprocessing on radiation budget, clouds, water vapour parameters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Ocean and Sea Ice SAF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Reprocessing of global sea ice from SSM/I (1987-2007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GRAS SAF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Climate data (maps) from initial NRT products (T, p, humidity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Ozone and Atmospheric Monitoring SAF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Reprocessing of GOME-2 Total Ozone Column with the reprocessed Level 1 data (since January 2007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47" name="Picture 4" descr="CMSAFLogo_hor_noTagline_gradient_RGB"/>
          <p:cNvPicPr/>
          <p:nvPr/>
        </p:nvPicPr>
        <p:blipFill>
          <a:blip r:embed="rId1"/>
          <a:stretch/>
        </p:blipFill>
        <p:spPr>
          <a:xfrm>
            <a:off x="7770960" y="1920960"/>
            <a:ext cx="184788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OSISAFLogo_hor_noTagline_gradient_RGB"/>
          <p:cNvPicPr/>
          <p:nvPr/>
        </p:nvPicPr>
        <p:blipFill>
          <a:blip r:embed="rId2"/>
          <a:stretch/>
        </p:blipFill>
        <p:spPr>
          <a:xfrm>
            <a:off x="7746840" y="3154320"/>
            <a:ext cx="1874880" cy="615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GRASSAFLogo_hor_noTagline_gradient_RGB"/>
          <p:cNvPicPr/>
          <p:nvPr/>
        </p:nvPicPr>
        <p:blipFill>
          <a:blip r:embed="rId3"/>
          <a:stretch/>
        </p:blipFill>
        <p:spPr>
          <a:xfrm>
            <a:off x="7731000" y="4149720"/>
            <a:ext cx="2224080" cy="615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O3MSAFLogo_hor_noTagline_gradient_RGB"/>
          <p:cNvPicPr/>
          <p:nvPr/>
        </p:nvPicPr>
        <p:blipFill>
          <a:blip r:embed="rId4"/>
          <a:stretch/>
        </p:blipFill>
        <p:spPr>
          <a:xfrm>
            <a:off x="7777080" y="4915080"/>
            <a:ext cx="2044800" cy="61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ternational Partnership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2280" y="1544760"/>
            <a:ext cx="913752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EUMETSAT is contributing to International Initiatives related to climate monitoring: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ISCCP and GPCP (Cloud and Precipitation Climatology)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WMO GSICS (Satellite Intercalibration)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WMO SCOPE-CM (Global climate products)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EOS and GEO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UMETSAT’s partnership in International Initiatives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MO GSIC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0760" y="1606320"/>
            <a:ext cx="899136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Global Space-Based Intercalibration System (GSICS)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Objective is to create an operational system that monitors and evaluates the calibration of the global meteorological satellite observing system 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in a coherent and systematic manner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EUMETSAT is one of the founding members of GSICS and very actively pursues the realisation of such an operational system.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operational EUMETSAT intercalibration activities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have concentrated on: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Calibration of EUMETSAT geostationary satellites (Meteosat and MSG / MVIRI and SEVIRI instruments, resp.), based on intercalibration with the HIRS instruments on NOAA satellites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A major recent step has been the intercalibration with the IASI instrument on Metop; IASI is considered as a reference for the thermal infrared inter-calibration because of the excellent on-board calibration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xample from GSICS: Intercalibrating MSG with IASI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3" descr="iasi_msg_filter1"/>
          <p:cNvPicPr/>
          <p:nvPr/>
        </p:nvPicPr>
        <p:blipFill>
          <a:blip r:embed="rId1"/>
          <a:stretch/>
        </p:blipFill>
        <p:spPr>
          <a:xfrm>
            <a:off x="914400" y="1601640"/>
            <a:ext cx="8255160" cy="3953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76720" y="563868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IR13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986280" y="571500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99"/>
                </a:solidFill>
                <a:latin typeface="Arial"/>
              </a:rPr>
              <a:t>IR12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764240" y="56386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IR10.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630760" y="5791320"/>
            <a:ext cx="6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99"/>
                </a:solidFill>
                <a:latin typeface="Arial"/>
              </a:rPr>
              <a:t>IR9.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564240" y="5638680"/>
            <a:ext cx="6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IR8.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9" descr="msg-iasi_bias_gsics_news_0108"/>
          <p:cNvPicPr/>
          <p:nvPr/>
        </p:nvPicPr>
        <p:blipFill>
          <a:blip r:embed="rId2"/>
          <a:stretch/>
        </p:blipFill>
        <p:spPr>
          <a:xfrm>
            <a:off x="235080" y="3730680"/>
            <a:ext cx="5081400" cy="2658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0" y="1492200"/>
            <a:ext cx="4203720" cy="580680"/>
          </a:xfrm>
          <a:prstGeom prst="rect">
            <a:avLst/>
          </a:prstGeom>
          <a:solidFill>
            <a:srgbClr val="ed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569"/>
                </a:solidFill>
                <a:latin typeface="Arial"/>
              </a:rPr>
              <a:t>GSICS News, T. Hewison, EUMETSAT </a:t>
            </a:r>
            <a:r>
              <a:rPr b="1" lang="de-DE" sz="1600" spc="-1" strike="noStrike">
                <a:solidFill>
                  <a:srgbClr val="00256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MO’s SCOPE-CM initiative: goals and structur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2200" y="1401840"/>
            <a:ext cx="9437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Aim: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to address the requirements of GCOS in a cost-effective, coordinated manner, 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apitalising upon the existing expertise and infrastructures.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Objective: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ontinuous and sustained provision of high-quality Essential Climate Variables 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satellite products (Climate Data Records) on a global scale 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Structure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:  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2569"/>
                </a:solidFill>
                <a:latin typeface="Tahoma"/>
              </a:rPr>
              <a:t>The SCOPE-CM Network will be: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2b3461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3461"/>
                </a:solidFill>
                <a:latin typeface="Tahoma"/>
              </a:rPr>
              <a:t>Based on activities of </a:t>
            </a:r>
            <a:r>
              <a:rPr b="0" lang="en-GB" sz="1600" spc="-1" strike="noStrike">
                <a:solidFill>
                  <a:srgbClr val="ff9a00"/>
                </a:solidFill>
                <a:latin typeface="Tahoma"/>
              </a:rPr>
              <a:t>existing initiatives</a:t>
            </a:r>
            <a:r>
              <a:rPr b="0" lang="en-GB" sz="1600" spc="-1" strike="noStrike">
                <a:solidFill>
                  <a:srgbClr val="2b3461"/>
                </a:solidFill>
                <a:latin typeface="Tahoma"/>
              </a:rPr>
              <a:t> (GOS, GCOS and GSICS)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2b3461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3461"/>
                </a:solidFill>
                <a:latin typeface="Tahoma"/>
              </a:rPr>
              <a:t>Build upon existing operational infrastructures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2b3461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3461"/>
                </a:solidFill>
                <a:latin typeface="Tahoma"/>
              </a:rPr>
              <a:t>Serve users and other organisations (e.g. WMO Regional Climate Centres RCC, National Weather Services)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3360" y="4389480"/>
            <a:ext cx="841032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entury Gothic"/>
              </a:rPr>
              <a:t>EUGENE General Consideration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703260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EUGENE is a FP7 Support Action addressing Call </a:t>
            </a:r>
            <a:br>
              <a:rPr sz="1800"/>
            </a:b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FP7-ENV-2009-1, topic ENV.2009.4.1.2.1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569"/>
                </a:solidFill>
                <a:latin typeface="Tahoma"/>
              </a:rPr>
              <a:t>'Further structuring the European approach to Earth Observation‘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569"/>
                </a:solidFill>
                <a:latin typeface="Tahoma"/>
              </a:rPr>
              <a:t>Project Start: October 2009 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569"/>
                </a:solidFill>
                <a:latin typeface="Tahoma"/>
              </a:rPr>
              <a:t>Duration: 24 months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Main objective is to foster collaboration between pan-European organisations in the field of earth observation and to strengthen the coordination of national and regional programmes and organisations in their work towards GEO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Contributions to the European GEO strategy will be made by proposing a structured approach for selected GEO Societal Benefit Areas (SBAs): Climate, Disasters and Water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The overarching goal is to ultimately achieve a strong European GEOSS component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69" name="Picture 2" descr="eugene_logo"/>
          <p:cNvPicPr/>
          <p:nvPr/>
        </p:nvPicPr>
        <p:blipFill>
          <a:blip r:embed="rId1"/>
          <a:stretch/>
        </p:blipFill>
        <p:spPr>
          <a:xfrm>
            <a:off x="7397640" y="1427040"/>
            <a:ext cx="2175120" cy="14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entury Gothic"/>
              </a:rPr>
              <a:t>EUGENE Climat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2200" y="1401840"/>
            <a:ext cx="925344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EUMETSAT is the leader of the Climate Work Package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569"/>
                </a:solidFill>
                <a:latin typeface="Tahoma"/>
              </a:rPr>
              <a:t>Focus is on European climate capabilities in three areas: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569"/>
                </a:solidFill>
                <a:latin typeface="Tahoma"/>
              </a:rPr>
              <a:t>Required </a:t>
            </a: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Modelling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In-Situ Observations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Space-based Observations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569"/>
                </a:solidFill>
                <a:latin typeface="Tahoma"/>
              </a:rPr>
              <a:t>Requirements reference point is the set of ECVs defined by GCOS </a:t>
            </a:r>
            <a:br>
              <a:rPr sz="1800"/>
            </a:br>
            <a:r>
              <a:rPr b="0" lang="de-DE" sz="1800" spc="-1" strike="noStrike">
                <a:solidFill>
                  <a:srgbClr val="002569"/>
                </a:solidFill>
                <a:latin typeface="Tahoma"/>
              </a:rPr>
              <a:t>(to which these capabilities will be cross-referenced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569"/>
                </a:solidFill>
                <a:latin typeface="Tahoma"/>
              </a:rPr>
              <a:t>Approach takes benefit from, and builds upon, the recent climate coordination initiative of the EC (together with ESA and EUMETSAT) on the space segment which resulted in the JRC/Ispra Workshop Report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No need for questionnaires to determine capability in the area of space-based observations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Status quo determination concentrates on Modelling and In Situ Observations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72" name="Picture 2" descr="eugene_logo"/>
          <p:cNvPicPr/>
          <p:nvPr/>
        </p:nvPicPr>
        <p:blipFill>
          <a:blip r:embed="rId1"/>
          <a:stretch/>
        </p:blipFill>
        <p:spPr>
          <a:xfrm>
            <a:off x="7397640" y="1427040"/>
            <a:ext cx="2175120" cy="14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6240" y="387000"/>
            <a:ext cx="842004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entury Gothic"/>
              </a:rPr>
              <a:t>EUGENE Climate General Approach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4" name="Object 2" descr=""/>
          <p:cNvPicPr/>
          <p:nvPr/>
        </p:nvPicPr>
        <p:blipFill>
          <a:blip r:embed="rId1"/>
          <a:stretch/>
        </p:blipFill>
        <p:spPr>
          <a:xfrm>
            <a:off x="1359000" y="1352520"/>
            <a:ext cx="5572080" cy="490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eugene_logo"/>
          <p:cNvPicPr/>
          <p:nvPr/>
        </p:nvPicPr>
        <p:blipFill>
          <a:blip r:embed="rId2"/>
          <a:stretch/>
        </p:blipFill>
        <p:spPr>
          <a:xfrm>
            <a:off x="7397640" y="1427040"/>
            <a:ext cx="2175120" cy="14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entury Gothic"/>
              </a:rPr>
              <a:t>EUGENE Climate Progress to Date/Next Step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760" y="1447560"/>
            <a:ext cx="6738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December 2009 and January 2010 questionnaires were sent out: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14 centres involved in climate modelling </a:t>
            </a:r>
            <a:br>
              <a:rPr sz="1600"/>
            </a:b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(13 responses received to date)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3 centres/organisations concerned with in situ data provision </a:t>
            </a:r>
            <a:br>
              <a:rPr sz="1600"/>
            </a:b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(2 responses received so far, 1 in preparation).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Consolidation of information into Status Quo Report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Population of the Report started in 2nd week of March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256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Analysis of GCOS Requirements from a Policy-making perspective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Preparatory activities have been undertaken 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– </a:t>
            </a: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work will resume once 1</a:t>
            </a:r>
            <a:r>
              <a:rPr b="0" lang="de-DE" sz="1600" spc="-1" strike="noStrike" baseline="30000">
                <a:solidFill>
                  <a:srgbClr val="002569"/>
                </a:solidFill>
                <a:latin typeface="Tahoma"/>
              </a:rPr>
              <a:t>st</a:t>
            </a: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 draft of Status Quo Report has been completed 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– </a:t>
            </a:r>
            <a:r>
              <a:rPr b="0" lang="de-DE" sz="1600" spc="-1" strike="noStrike">
                <a:solidFill>
                  <a:srgbClr val="002569"/>
                </a:solidFill>
                <a:latin typeface="Tahoma"/>
              </a:rPr>
              <a:t>scheduled for end-March</a:t>
            </a: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78" name="Picture 2" descr="eugene_logo"/>
          <p:cNvPicPr/>
          <p:nvPr/>
        </p:nvPicPr>
        <p:blipFill>
          <a:blip r:embed="rId1"/>
          <a:stretch/>
        </p:blipFill>
        <p:spPr>
          <a:xfrm>
            <a:off x="7397640" y="1427040"/>
            <a:ext cx="2175120" cy="14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5160" y="1425600"/>
            <a:ext cx="893916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Providing observational data: EUMETSAT programmes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Generating Climate Monitoring Products: Application Ground Segmen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Fundamental Climate Data Records through Reprocessing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Thematical Climate Data Records (ECV) generation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International Cooperations and Initiatives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ummary and Conclusion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UMETSAT’s partnership in International Initiatives: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7840" y="1488960"/>
            <a:ext cx="943308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The activities described are well integrated in international frameworks at working level as well as at the policy-making level (</a:t>
            </a:r>
            <a:r>
              <a:rPr b="0" lang="en-GB" sz="18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CEOS, GEO, WMO Space Programme, CGMS, GCOS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), where EUMETSAT as operational satellite agency is a key partner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ommittee on Earth Observation Satellites CEOS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EUMETSAT involvement at working and organisational level in several CEOS groups (e.g. Climate SBA team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EOS Strategic Implementation Team SIT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EOS Plenary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Group on Earth Observations GEO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EUMETSAT participating organisation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In charge of fulfilling GEO’s climate tasks as CEOS active member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ummary and conclusio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5240" y="871200"/>
            <a:ext cx="9585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EUMETSAT undertakes many activities towards the operational monitoring of climate and the detection of global climatic changes in accordance with its convention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Current emphasis is on: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generation and 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re-processing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of long term series of FCDRs (main focus), also in support to reanalysis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Dedicated TCDR generation at Central Facilities and SAFs (CM SAF, OSI SAF, O3M SAF,…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Coordination of Reprocessing Plans and activities within the EUMETSAT Application Ground Segment (Central Facilities and SAFs)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Coordination with international partners within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451"/>
              </a:spcBef>
              <a:buClr>
                <a:srgbClr val="9f2d2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Global Space-based Inter Calibration System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(GSICS)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451"/>
              </a:spcBef>
              <a:buClr>
                <a:srgbClr val="9f2d2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Sustained Coordinated Processing of Environmental Satellite Data for Climate Monitoring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(SCOPE-CM)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Implementation Plan for the overall EUMETSAT Climate Activities in preparation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oviding data for climate monitoring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eteosat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entury Gothic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entury Gothic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Generation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9240" y="1538280"/>
            <a:ext cx="5295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Meteosat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programme is the well-established European contribution to the ring of geostationary satellite observations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first Meteosat satellite was launched more than 30 years ago by ESA in 1977. In 1995 EUMETSAT took over the operation of the Meteosat satellites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EUMETSAT operates two Meteosat satellites of the first generation (Meteosat-6 and -7) over the Indian Ocean and two satellites of the second generation (Meteosat-8 and -9) at 0° longitude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grpSp>
        <p:nvGrpSpPr>
          <p:cNvPr id="185" name="Group 8"/>
          <p:cNvGrpSpPr/>
          <p:nvPr/>
        </p:nvGrpSpPr>
        <p:grpSpPr>
          <a:xfrm>
            <a:off x="5464080" y="1528920"/>
            <a:ext cx="3930480" cy="2601360"/>
            <a:chOff x="5464080" y="1528920"/>
            <a:chExt cx="3930480" cy="2601360"/>
          </a:xfrm>
        </p:grpSpPr>
        <p:sp>
          <p:nvSpPr>
            <p:cNvPr id="186" name="Rectangle 7"/>
            <p:cNvSpPr/>
            <p:nvPr/>
          </p:nvSpPr>
          <p:spPr>
            <a:xfrm>
              <a:off x="5464080" y="1528920"/>
              <a:ext cx="3930480" cy="2601360"/>
            </a:xfrm>
            <a:prstGeom prst="rect">
              <a:avLst/>
            </a:prstGeom>
            <a:solidFill>
              <a:srgbClr val="5e9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87" name="Picture 6" descr="globalsatellites"/>
            <p:cNvPicPr/>
            <p:nvPr/>
          </p:nvPicPr>
          <p:blipFill>
            <a:blip r:embed="rId1"/>
            <a:stretch/>
          </p:blipFill>
          <p:spPr>
            <a:xfrm>
              <a:off x="5964840" y="1604160"/>
              <a:ext cx="3301920" cy="237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9" descr=""/>
          <p:cNvPicPr/>
          <p:nvPr/>
        </p:nvPicPr>
        <p:blipFill>
          <a:blip r:embed="rId2"/>
          <a:stretch/>
        </p:blipFill>
        <p:spPr>
          <a:xfrm>
            <a:off x="5478480" y="4124160"/>
            <a:ext cx="1979640" cy="1922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7456320" y="4135320"/>
            <a:ext cx="1946520" cy="19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"/>
          <p:cNvPicPr/>
          <p:nvPr/>
        </p:nvPicPr>
        <p:blipFill>
          <a:blip r:embed="rId4"/>
          <a:stretch/>
        </p:blipFill>
        <p:spPr>
          <a:xfrm>
            <a:off x="8209080" y="1677960"/>
            <a:ext cx="15732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oviding data for climate monitoring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eteosat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entury Gothic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entury Gothic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Generation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31920" y="2489040"/>
            <a:ext cx="626112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The larger number of spectral bands of MSG enables a better observation of important climate variables, especially those undergoing diurnal cycles.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Vital importance to climate observations: the improved on-board calibration of the thermal IR channels of the MSG.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638760" y="3024360"/>
            <a:ext cx="285768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oviding data for climate monitoring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etop satellites (EUMETSAT Polar System EPS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71480" y="2071440"/>
            <a:ext cx="4991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Since the Metop-A launch (October 2006) EUMETSAT – in partnership with NOAA - has a polar orbiting satellite system with a long-term operational perspective, that can provide information on a large number of climate key variables over at least 14 years of operations on a global scale.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209520" y="1847880"/>
            <a:ext cx="42274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oviding data for climate monitoring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etop satellites (EUMETSAT Polar System EPS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6702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hyper spectral sounding </a:t>
            </a: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Infrared Atmospheric Sounding Interferometer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IASI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) allows the retrieval of temperature and moisture profiles at high accuracy (1K, 15 %, respectively) over 1km layers. IASI also allows the observation of trace gases relevant for the greenhouse effect and for atmospheric chemistry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Global Ozone Monitoring Experiment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GOME-2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) continue the capability to measure Ozone profiles and related trace gases with high accuracy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Radio-occultation Atmospheric Sounder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GRAS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) provide absolute measurements on the temperature and humidity profiles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From the other instruments on Metop (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AVHRR, ATOVS, ASCAT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) long-term climate records can be derived as well, with regard to AVHRR and ATOVS this provides continuity of climate records of NOAA satellites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7455960" y="1479600"/>
            <a:ext cx="141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ASI Spectru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689880" y="1427040"/>
            <a:ext cx="3044520" cy="215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6575400" y="3687840"/>
            <a:ext cx="32148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oviding data for climate monitoring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Jaso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0760" y="1606680"/>
            <a:ext cx="537192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9f2d2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Jason-2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provide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essential observational data on the mean sea level (ocean altimetry)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A particular object of Jason-2 is to extend the mean sea level observations beyond TOPEX/Poseidon and Jason-1 to complete the first two decades of high-precision altimetry observations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9f2d2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Follow-on mission studies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are currently done by EUMETSAT in cooperation with NOAA to establish the basis for an </a:t>
            </a:r>
            <a:r>
              <a:rPr b="0" lang="en-US" sz="1800" spc="-1" strike="noStrike">
                <a:solidFill>
                  <a:srgbClr val="9f2d20"/>
                </a:solidFill>
                <a:latin typeface="Tahoma"/>
              </a:rPr>
              <a:t>Ocean Surface Topography Constellation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</a:rPr>
              <a:t> that satisfies the requirements for climate monitoring of sea level and sea state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204" name="Picture 4" descr="Jason"/>
          <p:cNvPicPr/>
          <p:nvPr/>
        </p:nvPicPr>
        <p:blipFill>
          <a:blip r:embed="rId1"/>
          <a:stretch/>
        </p:blipFill>
        <p:spPr>
          <a:xfrm>
            <a:off x="6959520" y="1576440"/>
            <a:ext cx="2760840" cy="181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MSL_Serie_MERGED_Global_IB_RWT_PGR_Adjust"/>
          <p:cNvPicPr/>
          <p:nvPr/>
        </p:nvPicPr>
        <p:blipFill>
          <a:blip r:embed="rId2"/>
          <a:stretch/>
        </p:blipFill>
        <p:spPr>
          <a:xfrm>
            <a:off x="5711760" y="3610080"/>
            <a:ext cx="39337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71440" y="1514520"/>
            <a:ext cx="9205920" cy="2103840"/>
          </a:xfrm>
          <a:prstGeom prst="rect">
            <a:avLst/>
          </a:prstGeom>
          <a:solidFill>
            <a:srgbClr val="ffcc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2569"/>
                </a:solidFill>
                <a:uFillTx/>
                <a:latin typeface="BankGothic Md BT"/>
              </a:rPr>
              <a:t>=&gt; Substantially improved coverage and impact of re-processed winds from Meteosat satellites (C. Desol, ECMWF, 20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569"/>
                </a:solidFill>
                <a:latin typeface="BankGothic Md BT"/>
              </a:rPr>
              <a:t>Period corresponds to time when Meteosat-5 was operational at 0</a:t>
            </a:r>
            <a:r>
              <a:rPr b="0" lang="en-US" sz="1600" spc="-1" strike="noStrike">
                <a:solidFill>
                  <a:srgbClr val="002569"/>
                </a:solidFill>
                <a:latin typeface="BankGothic Md BT"/>
              </a:rPr>
              <a:t>º</a:t>
            </a:r>
            <a:r>
              <a:rPr b="0" lang="en-GB" sz="1600" spc="-1" strike="noStrike">
                <a:solidFill>
                  <a:srgbClr val="002569"/>
                </a:solidFill>
                <a:latin typeface="BankGothic Md BT"/>
              </a:rPr>
              <a:t> and Meteosat-3 supported NOAA because there was only one GOES satelli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3" descr="Metview_interim_xadc_coverage"/>
          <p:cNvPicPr/>
          <p:nvPr/>
        </p:nvPicPr>
        <p:blipFill>
          <a:blip r:embed="rId1"/>
          <a:srcRect l="4489" t="31760" r="4489" b="3176"/>
          <a:stretch/>
        </p:blipFill>
        <p:spPr>
          <a:xfrm>
            <a:off x="0" y="3665520"/>
            <a:ext cx="4741920" cy="2211480"/>
          </a:xfrm>
          <a:prstGeom prst="rect">
            <a:avLst/>
          </a:prstGeom>
          <a:ln w="0">
            <a:noFill/>
          </a:ln>
        </p:spPr>
      </p:pic>
      <p:sp>
        <p:nvSpPr>
          <p:cNvPr id="208" name="Oval 4"/>
          <p:cNvSpPr/>
          <p:nvPr/>
        </p:nvSpPr>
        <p:spPr>
          <a:xfrm>
            <a:off x="1600200" y="4098960"/>
            <a:ext cx="1479600" cy="1366920"/>
          </a:xfrm>
          <a:prstGeom prst="ellipse">
            <a:avLst/>
          </a:prstGeom>
          <a:noFill/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760320" y="4097160"/>
            <a:ext cx="1462320" cy="1349640"/>
          </a:xfrm>
          <a:prstGeom prst="ellipse">
            <a:avLst/>
          </a:prstGeom>
          <a:noFill/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95320" y="5805360"/>
            <a:ext cx="2732040" cy="3070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BankGothic Md BT"/>
              </a:rPr>
              <a:t>Reprocessed Met3 and Met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7" descr="Metview_interim_xadc_old_coverage"/>
          <p:cNvPicPr/>
          <p:nvPr/>
        </p:nvPicPr>
        <p:blipFill>
          <a:blip r:embed="rId2"/>
          <a:srcRect l="4489" t="31760" r="4489" b="3176"/>
          <a:stretch/>
        </p:blipFill>
        <p:spPr>
          <a:xfrm>
            <a:off x="5030640" y="3645000"/>
            <a:ext cx="4745160" cy="2214360"/>
          </a:xfrm>
          <a:prstGeom prst="rect">
            <a:avLst/>
          </a:prstGeom>
          <a:ln w="0">
            <a:noFill/>
          </a:ln>
        </p:spPr>
      </p:pic>
      <p:sp>
        <p:nvSpPr>
          <p:cNvPr id="212" name="Oval 8"/>
          <p:cNvSpPr/>
          <p:nvPr/>
        </p:nvSpPr>
        <p:spPr>
          <a:xfrm>
            <a:off x="6772320" y="4005360"/>
            <a:ext cx="1458720" cy="13460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6867360" y="5791320"/>
            <a:ext cx="1595520" cy="3070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BankGothic Md BT"/>
              </a:rPr>
              <a:t>Original Met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292880" y="3429000"/>
            <a:ext cx="24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569"/>
                </a:solidFill>
                <a:latin typeface="BankGothic Md BT"/>
              </a:rPr>
              <a:t>Example of coverage: 1995010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0"/>
            <a:ext cx="9906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rocessing of Meteosat Atmospheric Motion Vectors (AMVs)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ant contribution to Re-analyses at NWP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eteosat Reprocessing: Surface Albed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2200" y="1401840"/>
            <a:ext cx="4991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Meteosat Surface Albedo Product: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Meteosat-2 to Meteosat-7: 1981 – 2006 from the 0</a:t>
            </a:r>
            <a:r>
              <a:rPr b="0" lang="en-US" sz="2400" spc="-1" strike="noStrike" baseline="30000">
                <a:solidFill>
                  <a:srgbClr val="003399"/>
                </a:solidFill>
                <a:latin typeface="Trebuchet MS"/>
              </a:rPr>
              <a:t>0</a:t>
            </a: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 Service 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Meteosat-5: 1998 – 2007 from the Indian Ocean Data Coverage Service 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Cooperation with JMA (and in the future possibly with NOAA) to generate a Global GEO Surface albedo Level 3 data set in the SCOPE-CM framework.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218" name="Picture 5" descr="albedoFullMap_96_151_160_03"/>
          <p:cNvPicPr/>
          <p:nvPr/>
        </p:nvPicPr>
        <p:blipFill>
          <a:blip r:embed="rId1"/>
          <a:stretch/>
        </p:blipFill>
        <p:spPr>
          <a:xfrm>
            <a:off x="5759280" y="1387440"/>
            <a:ext cx="37245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ntroduction: EUMETSAT’s commitment and activitie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760" y="1362240"/>
            <a:ext cx="9267840" cy="45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As stated in its </a:t>
            </a:r>
            <a:r>
              <a:rPr b="1" lang="en-GB" sz="2000" spc="-1" strike="noStrike" u="sng">
                <a:solidFill>
                  <a:srgbClr val="002569"/>
                </a:solidFill>
                <a:uFillTx/>
                <a:latin typeface="Tahoma"/>
                <a:ea typeface="ＭＳ Ｐゴシック"/>
              </a:rPr>
              <a:t>Convention</a:t>
            </a: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, EUMETSAT is committed to the contribution to the operational monitoring of the climate and the detection of global climate change.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This objective is addressed by EUMETSAT at different levels (recent Council Resolution from July 2009)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876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Taking into account </a:t>
            </a:r>
            <a:r>
              <a:rPr b="0" lang="en-GB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climate-specific requirements</a:t>
            </a: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in the planning of new programmes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876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Generation of </a:t>
            </a:r>
            <a:r>
              <a:rPr b="0" lang="en-GB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Fundamental Climate Data Records (FCDRs)</a:t>
            </a: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through re-calibration and re-processing is the main focus.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876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Generation of </a:t>
            </a:r>
            <a:r>
              <a:rPr b="0" lang="en-GB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Thematic Climate Data Records TCDRs</a:t>
            </a: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, making best use of SAF Network expertise, is a second focus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876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ontributions and coordination with international partners, organisations and initiatives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oviding data for climate monitor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6978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Past and Current Satellites and Programmes:</a:t>
            </a:r>
            <a:r>
              <a:rPr b="0" lang="en-US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Meteosat: since 1977, second generation since 2002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EPS/Metop: since 2006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Jason-2: since 2008, continuing Jason-1 and TOPEX Poseidon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130" name="Picture 4" descr="msg"/>
          <p:cNvPicPr/>
          <p:nvPr/>
        </p:nvPicPr>
        <p:blipFill>
          <a:blip r:embed="rId1"/>
          <a:stretch/>
        </p:blipFill>
        <p:spPr>
          <a:xfrm>
            <a:off x="7229520" y="1509840"/>
            <a:ext cx="2208240" cy="145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etop"/>
          <p:cNvPicPr/>
          <p:nvPr/>
        </p:nvPicPr>
        <p:blipFill>
          <a:blip r:embed="rId2"/>
          <a:stretch/>
        </p:blipFill>
        <p:spPr>
          <a:xfrm>
            <a:off x="7210440" y="3076560"/>
            <a:ext cx="2257560" cy="148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ason"/>
          <p:cNvPicPr/>
          <p:nvPr/>
        </p:nvPicPr>
        <p:blipFill>
          <a:blip r:embed="rId3"/>
          <a:stretch/>
        </p:blipFill>
        <p:spPr>
          <a:xfrm>
            <a:off x="7182000" y="4675320"/>
            <a:ext cx="230004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oviding data for climate monitoring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uture EUMETSAT Programme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5160" y="1581120"/>
            <a:ext cx="8677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The specific needs for climate monitoring are taken into account in the definition process for </a:t>
            </a:r>
            <a:r>
              <a:rPr b="0" lang="en-GB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new EUMETSAT programmes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, Meteosat Third Generation (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MTG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in 2015) and 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post-EPS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(in 2018) addressing requirements on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alibration,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haracterization,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ontinuity,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onsistency and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sustainability.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569"/>
                </a:solidFill>
                <a:latin typeface="Tahoma"/>
              </a:rPr>
              <a:t>Following requirements and principles of the </a:t>
            </a:r>
            <a:r>
              <a:rPr b="1" lang="en-GB" sz="2000" spc="-1" strike="noStrike">
                <a:solidFill>
                  <a:srgbClr val="9f2d20"/>
                </a:solidFill>
                <a:latin typeface="Tahoma"/>
              </a:rPr>
              <a:t>Global Climate Observing System</a:t>
            </a:r>
            <a:r>
              <a:rPr b="1" lang="en-GB" sz="2000" spc="-1" strike="noStrike">
                <a:solidFill>
                  <a:srgbClr val="002569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9f2d20"/>
                </a:solidFill>
                <a:latin typeface="Tahoma"/>
              </a:rPr>
              <a:t>(GCOS)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Generating Climate Product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0400" y="1434600"/>
            <a:ext cx="9266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The generation and preservation of homogeneous long-term data sets from satellites is in particular addressed through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the 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archive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services which include 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reprocessing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activities of winds, surface radiation and precipitation products, and EPS (Metop) data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dedicated activities of the 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SAF on Climate Monitoring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(radiation, clouds and atmospheric humidity)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Climate products generated in other SAFs e.g. 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sea ice concentration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(OSI SAF), 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climate maps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(GRAS SAF), </a:t>
            </a:r>
            <a:r>
              <a:rPr b="0" lang="en-US" sz="2000" spc="-1" strike="noStrike">
                <a:solidFill>
                  <a:srgbClr val="9f2d20"/>
                </a:solidFill>
                <a:latin typeface="Tahoma"/>
                <a:ea typeface="ＭＳ Ｐゴシック"/>
              </a:rPr>
              <a:t>Total ozone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 (O3M SAF)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  <a:ea typeface="ＭＳ Ｐゴシック"/>
              </a:rPr>
              <a:t>Generation of ECVs related products in NRT by SAFs and Central Facilities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eprocessing of EUMETSAT Archive Dat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Continuous activities related to reprocessing of image and Meteorological product data 1</a:t>
            </a:r>
            <a:r>
              <a:rPr b="0" lang="en-US" sz="2000" spc="-1" strike="noStrike" baseline="30000">
                <a:solidFill>
                  <a:srgbClr val="002569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 and 2</a:t>
            </a:r>
            <a:r>
              <a:rPr b="0" lang="en-US" sz="2000" spc="-1" strike="noStrike" baseline="30000">
                <a:solidFill>
                  <a:srgbClr val="002569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 Generation of Meteosat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Support to Reanalysis projects (ECMWF ERA40 and ERA-interim as well as JMA Reanalysis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Past and current reprocessing activities include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Meteosat surface albedo product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Multi-sensor Precipitation Estimates MPE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Atmospheric Motion Vectors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eteosat Level 1.5 and Winds Reprocess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1840" y="1693800"/>
            <a:ext cx="91486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Meteosat First Generation Wind products VIS and IR channels recalibrated for the following periods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Meteosat-2: 1982 – 1989 from the 0° Service (VIS only)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Meteosat-3 to Meteosat-7: 1989 – 2000 from the 0° Service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Meteosat-3: August 1991 – January 1993 from the Atlantic Data Coverage Service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256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Meteosat-3: August 1993 – May 1995 from the Extended Atlantic Data Coverage Service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Tahoma"/>
              </a:rPr>
              <a:t>Atmospheric Motion Vectors (wind information) has been processed for these periods as well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PS reprocess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EPS Data Re-Processing: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Level 1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GOME-2: January 2007 - June 2008 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ASCAT: June 2007 -  August 2008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IASI Level 1 Data: from July 2007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Level 2: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ASCAT Level 2, Soil Moisture Product: June 2007 -  August 2008</a:t>
            </a:r>
            <a:endParaRPr b="0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1:40:59Z</dcterms:created>
  <dc:creator>Lothar Schüller</dc:creator>
  <dc:description/>
  <dc:language>en-US</dc:language>
  <cp:lastModifiedBy>Rosemary Munro</cp:lastModifiedBy>
  <cp:lastPrinted>2006-03-06T14:11:17Z</cp:lastPrinted>
  <dcterms:modified xsi:type="dcterms:W3CDTF">2010-03-30T00:03:28Z</dcterms:modified>
  <cp:revision>70</cp:revision>
  <dc:subject/>
  <dc:title>EUMETSAT</dc:title>
</cp:coreProperties>
</file>