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604-3473-445B-A9D5-0BF938AC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8AC-A277-4653-8AFF-4BDCF2DA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3EE7-9395-47CF-B08A-5F11F134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1F3-F804-42EF-8F54-75B873E1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399-F221-4EBC-BBCF-72CCAF72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FEF-4969-434E-9526-2E2FC468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A19-4E8B-4D0B-90B5-E6FA352D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EDF-3155-4BEF-A47F-4E8D2927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C1B-6386-496B-97D8-DF8FC8D2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B8C-482F-4E99-B668-F6C0D9FF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CA44-12CC-4B9E-A848-1D303A5C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70A-D091-46CE-AF3E-4E185E9F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89F0-52FC-4A36-A78F-4598289952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4CF4-9121-41C5-B0AB-92AD0DA731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GB" sz="3400" spc="-1" strike="noStrike">
                <a:solidFill>
                  <a:srgbClr val="e5ffff"/>
                </a:solidFill>
                <a:latin typeface="Tahoma"/>
              </a:rPr>
              <a:t>Planning the CEOS Response to the new GCOS Implementation Plan 2010:</a:t>
            </a:r>
            <a:br>
              <a:rPr sz="3400"/>
            </a:br>
            <a:r>
              <a:rPr b="0" i="1" lang="en-GB" sz="3400" spc="-1" strike="noStrike">
                <a:solidFill>
                  <a:srgbClr val="ff0000"/>
                </a:solidFill>
                <a:latin typeface="Tahoma"/>
              </a:rPr>
              <a:t>Implications for ACC</a:t>
            </a:r>
            <a:r>
              <a:rPr b="0" lang="en-GB" sz="3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29718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ch Goldberg, CEOS Climate Coordin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scal Lecomte,  Co-Coordin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told by Richard Eck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7241-F351-4FF0-BD93-43D206EDF0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 opportunity for a new CEOS response with actionable 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actions can supersede the existing 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2006 CEOS response as a temp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imate level of effort and completion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gin with development of actionable 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urrent 59 Actions: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tmospheric Doma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6FAD-3779-4F73-9DD6-DDF5F345563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3332" t="19085" r="13332" b="5950"/>
          <a:stretch/>
        </p:blipFill>
        <p:spPr>
          <a:xfrm>
            <a:off x="914400" y="144792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28600" y="487440"/>
            <a:ext cx="55627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tmospheric Domain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304920" y="3048120"/>
            <a:ext cx="533160" cy="609480"/>
          </a:xfrm>
          <a:prstGeom prst="lightningBol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380880" y="3733920"/>
            <a:ext cx="533520" cy="609480"/>
          </a:xfrm>
          <a:prstGeom prst="lightningBol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380880" y="4419720"/>
            <a:ext cx="533520" cy="609480"/>
          </a:xfrm>
          <a:prstGeom prst="lightningBol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80880" y="5105520"/>
            <a:ext cx="533520" cy="685800"/>
          </a:xfrm>
          <a:prstGeom prst="lightningBol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380880" y="5562720"/>
            <a:ext cx="533520" cy="609480"/>
          </a:xfrm>
          <a:prstGeom prst="lightningBol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380880" y="5943600"/>
            <a:ext cx="533520" cy="609480"/>
          </a:xfrm>
          <a:prstGeom prst="lightningBol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6095880" y="762120"/>
            <a:ext cx="533520" cy="609480"/>
          </a:xfrm>
          <a:prstGeom prst="lightningBol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6783840" y="10666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priority 1 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Oval 13"/>
          <p:cNvSpPr/>
          <p:nvPr/>
        </p:nvSpPr>
        <p:spPr>
          <a:xfrm>
            <a:off x="457200" y="22860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Oval 15"/>
          <p:cNvSpPr/>
          <p:nvPr/>
        </p:nvSpPr>
        <p:spPr>
          <a:xfrm>
            <a:off x="1371600" y="304920"/>
            <a:ext cx="53352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16"/>
          <p:cNvSpPr/>
          <p:nvPr/>
        </p:nvSpPr>
        <p:spPr>
          <a:xfrm>
            <a:off x="380880" y="2362320"/>
            <a:ext cx="381240" cy="380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Oval 17"/>
          <p:cNvSpPr/>
          <p:nvPr/>
        </p:nvSpPr>
        <p:spPr>
          <a:xfrm>
            <a:off x="380880" y="1523880"/>
            <a:ext cx="381240" cy="3812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Oval 18"/>
          <p:cNvSpPr/>
          <p:nvPr/>
        </p:nvSpPr>
        <p:spPr>
          <a:xfrm>
            <a:off x="2743200" y="228600"/>
            <a:ext cx="380880" cy="380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3183480" y="281160"/>
            <a:ext cx="286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5ffff"/>
                </a:solidFill>
                <a:latin typeface="Arial"/>
              </a:rPr>
              <a:t>= new actions (at least 10, goal of 2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1580-E7EC-492C-BD32-6A7D57137EA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tmospheric Doma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rcRect l="9621" t="33924" r="11022" b="36540"/>
          <a:stretch/>
        </p:blipFill>
        <p:spPr>
          <a:xfrm>
            <a:off x="914400" y="205740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4"/>
          <p:cNvSpPr/>
          <p:nvPr/>
        </p:nvSpPr>
        <p:spPr>
          <a:xfrm>
            <a:off x="609480" y="1981080"/>
            <a:ext cx="533520" cy="609840"/>
          </a:xfrm>
          <a:prstGeom prst="lightningBol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Oval 5"/>
          <p:cNvSpPr/>
          <p:nvPr/>
        </p:nvSpPr>
        <p:spPr>
          <a:xfrm>
            <a:off x="685800" y="3962520"/>
            <a:ext cx="380880" cy="380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Oval 6"/>
          <p:cNvSpPr/>
          <p:nvPr/>
        </p:nvSpPr>
        <p:spPr>
          <a:xfrm>
            <a:off x="685800" y="2971800"/>
            <a:ext cx="380880" cy="380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Oval 7"/>
          <p:cNvSpPr/>
          <p:nvPr/>
        </p:nvSpPr>
        <p:spPr>
          <a:xfrm>
            <a:off x="685800" y="4876920"/>
            <a:ext cx="380880" cy="380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New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GCOS IP 2010 Actions: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tmospheric Doma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C791-FA70-4071-898E-3D6C0EC76C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80880" y="-85680"/>
            <a:ext cx="8205840" cy="67546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943600" y="1800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ahoma"/>
              </a:rPr>
              <a:t>A.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5334120" y="1800360"/>
            <a:ext cx="4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Tahoma"/>
              </a:rPr>
              <a:t>A19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669000" y="1424160"/>
            <a:ext cx="4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Tahoma"/>
              </a:rPr>
              <a:t>A-5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6A5B-5B9C-4764-A7AD-7B285D3521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92160" y="380880"/>
            <a:ext cx="97059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to proce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domain le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 groups to develop actions responding to the GCOS IP10 actions using a templ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oups need to reach into the expert commun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on must be actionable with resources identifi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80880" y="73080"/>
            <a:ext cx="838224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18 - Implement and evaluate a satellite climate calibration mission, e.g. CLARREO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int of Conta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ributors:  NASA, NOAA,  WGCV (Nigel Fox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gnific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ent Status:  CLARREO project proceeding.  Need status of TRUTHS (Nigel Fox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uracy requirements  (target (desired) and plann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EOS Action with current and planned resourc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upersede any existing CEOS climate action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EOS Action with additional resourc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clude significance of the shortfall without additional resourc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COS Implementation Plans provides the requirements for climate quality observations, products and cal/v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COS-92:  GCOS IP released in 20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COS-107:  2005 GCOS Satellite Supplement contains the attributes associated with satellite-based climate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GCOS IP for 201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quired Document Resour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COS92  - original GCOS 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COSIP-10  - updated GCOS 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COS107  Satellite Supp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OS 2006 Response Docu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80880" y="73080"/>
            <a:ext cx="838224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GCOS Satellite Suppleme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BFD9-CE8F-433F-A844-C999CF26F1A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57280" y="1523880"/>
            <a:ext cx="8488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CEOS 59 Climate Actions in response to GCOS-92 (IP2004) and GCOS-107 (satellite supplement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on plan adopted by CEOS in September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all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suring continuity of climate-relevant satellite measurements (13 action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ing a systematic approach to generating fundamental climate data records (FCDRs) (11 action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rving climate data records (4 action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suring access to climate data products (10 action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rdinating international communities and interaction with users (10 actions); 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dressing future measurement needs (11 action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OS 59 Climate A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first round of climate actions assessment, in coordination with GCOS, led in 2007 to identif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2 “Priority 1 action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eemed to be progressed immediate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pable of delivering significant outcomes within a 1-2 year timesca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2 “Priority 2 action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ntinuous, on-going, or require additional information from potential contributors in order to be suitably def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ill not necessarily deliver significant results in the 1-2 year timesca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 “Priority 3 action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nsidered premature at this stag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8" descr="NOAA logo_cropped"/>
          <p:cNvPicPr/>
          <p:nvPr/>
        </p:nvPicPr>
        <p:blipFill>
          <a:blip r:embed="rId1"/>
          <a:srcRect l="-8409" t="-6568" r="-6535" b="-6854"/>
          <a:stretch/>
        </p:blipFill>
        <p:spPr>
          <a:xfrm>
            <a:off x="7058160" y="-17640"/>
            <a:ext cx="81900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OS UNFCCC 2008 Repor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atus of the Priority 1 actions and plans for new tasks were detailed in the CEOS UNFCCC repo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pdated progress report was presented to the UNFCCC Subsidiary Body on Scientific and Technological Advice (SBSTA) at its 2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ession in December 200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FCCC SBSTA Respon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courages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Committee on Earth Observation Satellites to continue coordinating and supporting the implementation of the satellite component of the Global Climate Observing Syste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SBSTA invited CEOS to report at its thirty-third session on progress made in its efforts to meet the relevant needs of the Conven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BSTA also interested in terrestrial domain, particularly forest carbon track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hallenges with 2006 CEOS Actions and new opportuniti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3520" y="14475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number of CEOS Climate Actions were developed without  the prior commitment of the groups needed to do the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OS 2006 response document did always mapped CEOS actions with the GCOS 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opportunity to respond to the new GCOS IP report with actionable actions with a team assigned and with the necessary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2006,  CEOS is considerably more cap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1598-D581-4A0A-AB1F-228F9B0DB8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7:54:41Z</dcterms:created>
  <dc:creator>mgoldber</dc:creator>
  <dc:description/>
  <dc:language>en-US</dc:language>
  <cp:lastModifiedBy>kekeith</cp:lastModifiedBy>
  <dcterms:modified xsi:type="dcterms:W3CDTF">2010-04-05T17:03:05Z</dcterms:modified>
  <cp:revision>45</cp:revision>
  <dc:subject/>
  <dc:title>Review of GCOS Actions</dc:title>
</cp:coreProperties>
</file>