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wmf" ContentType="image/x-wmf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13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30.png" ContentType="image/png"/>
  <Override PartName="/ppt/media/image28.png" ContentType="image/png"/>
  <Override PartName="/ppt/media/image31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26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12760" y="93610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93E1-7A4A-4E93-AACA-0576F42F3D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.85 K &gt;&gt;&gt;&gt;&gt; 6 10-7 en rad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.2 K &gt;&gt;&gt;&gt; </a:t>
            </a:r>
            <a:r>
              <a:rPr b="0" lang="fr-FR" sz="1200" spc="-1" strike="noStrike">
                <a:solidFill>
                  <a:srgbClr val="003300"/>
                </a:solidFill>
                <a:latin typeface="Arial"/>
              </a:rPr>
              <a:t>2.45 10-6 en rad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2DD-C793-44DA-BEC1-122DE78B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7C2-2A7A-47A2-B44F-4A8B2234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C6F-6C77-4446-9B16-323AFD52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1A5-4939-40F5-820D-AE8EB19E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03B-2987-45F6-BEFC-F5FD6615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E4E-DF24-4ACC-B412-8C5EA6AA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38C-2BC7-4F06-92AD-58A974F5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F58-2D9A-473C-99CC-973B7FBF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43B-F1D0-4BAE-8BB3-A0879FBE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6E4-DB38-4AFB-A200-1F910DB2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565-DB32-4536-87F5-97F25133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998-8DC8-4FAB-93A0-996417E3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880" y="6244920"/>
            <a:ext cx="693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METSAT MTG Missions for AQ Monitoring ACC#5 , CSA, Montreal, 30-31 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67FB-187E-4746-8D76-89BA7F68A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543800" y="6400800"/>
            <a:ext cx="1218960" cy="314280"/>
            <a:chOff x="7543800" y="6400800"/>
            <a:chExt cx="1218960" cy="31428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7543800" y="6404400"/>
              <a:ext cx="356040" cy="3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381880" y="6400800"/>
              <a:ext cx="3808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8003520" y="6402600"/>
              <a:ext cx="410760" cy="3106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3632" r="21468" b="0"/>
          <a:stretch/>
        </p:blipFill>
        <p:spPr>
          <a:xfrm>
            <a:off x="4859280" y="1211400"/>
            <a:ext cx="1944720" cy="146520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13165" b="0"/>
          <a:stretch/>
        </p:blipFill>
        <p:spPr>
          <a:xfrm>
            <a:off x="4859280" y="2781360"/>
            <a:ext cx="1944720" cy="151128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rcRect l="13060" t="24369" r="26460" b="5098"/>
          <a:stretch/>
        </p:blipFill>
        <p:spPr>
          <a:xfrm>
            <a:off x="6877080" y="1216080"/>
            <a:ext cx="2014560" cy="149220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rcRect l="9893" t="0" r="1159" b="0"/>
          <a:stretch/>
        </p:blipFill>
        <p:spPr>
          <a:xfrm>
            <a:off x="4861080" y="4365720"/>
            <a:ext cx="1942920" cy="151920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rcRect l="0" t="0" r="0" b="24049"/>
          <a:stretch/>
        </p:blipFill>
        <p:spPr>
          <a:xfrm>
            <a:off x="6877080" y="4365720"/>
            <a:ext cx="2016000" cy="151128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6"/>
          <a:srcRect l="16693" t="14174" r="14961" b="10631"/>
          <a:stretch/>
        </p:blipFill>
        <p:spPr>
          <a:xfrm>
            <a:off x="6877080" y="2781360"/>
            <a:ext cx="2016000" cy="151128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242640" y="187560"/>
            <a:ext cx="84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potential of MTG-IRS to detect high pollution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urban and regional sca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540080"/>
            <a:ext cx="396072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tudy investigates the capability of IRS onboard MTG to detect enhanced levels of carbon monoxide (CO) and ozone (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at local and regional scales, in particular over Europ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77080"/>
            <a:ext cx="39610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ople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thy Clerbaux,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ne Boynar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A/IPSL- CNRS, Pa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ierre Coheur, Oliver Schar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ULB, Bruss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3080" y="4845240"/>
            <a:ext cx="32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ome slides extra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from a former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746360"/>
            <a:ext cx="86868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OFS is 1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only a total (tropospheric) column can be retrieved by MTG-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rror on the CO tropospheric column is ~15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Sentinel 4 – threshold improves slightly upon the vertical sensitivity and th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Sentinel 4- goal allows retrieving vertically resolved profiles of CO (DOFS up to 3). For that instrument tropospheric (0-12 km) and PBL (0-2 km) column errors are around 5% and 20% resp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Impact of thermal contrast (</a:t>
            </a:r>
            <a:r>
              <a:rPr b="0" lang="en-GB" sz="1600" spc="-1" strike="noStrike">
                <a:solidFill>
                  <a:srgbClr val="ff9933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T=T</a:t>
            </a:r>
            <a:r>
              <a:rPr b="0" lang="en-GB" sz="1600" spc="-1" strike="noStrike" baseline="-25000">
                <a:solidFill>
                  <a:srgbClr val="ff9933"/>
                </a:solidFill>
                <a:latin typeface="Century Gothic"/>
              </a:rPr>
              <a:t>ground</a:t>
            </a: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-T</a:t>
            </a:r>
            <a:r>
              <a:rPr b="0" lang="en-GB" sz="1600" spc="-1" strike="noStrike" baseline="-25000">
                <a:solidFill>
                  <a:srgbClr val="ff9933"/>
                </a:solidFill>
                <a:latin typeface="Century Gothic"/>
              </a:rPr>
              <a:t>atm@surface</a:t>
            </a: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):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Impact is in the lower troposp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The error on the tropospheric decreases below 10 % for high positive values (+5 K) of </a:t>
            </a:r>
            <a:r>
              <a:rPr b="0" i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entury Gothic"/>
              </a:rPr>
              <a:t>Conclusions of Part II: Sensitivity analyses - retrieval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09480"/>
            <a:ext cx="6400800" cy="825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entury Gothic"/>
              </a:rPr>
              <a:t>Carbon monoxide retrievals from IRS-M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440" y="11970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A. Sensitivity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516600"/>
            <a:ext cx="8991720" cy="51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entury Gothic"/>
              </a:rPr>
              <a:t>General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 and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pollution events in Europe are occurring in summer + daytime (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rmal contrast is higher during day and summer, over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urrent instruments show an improved sensitivity towards the surface when there is a thermal 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RS has a limited sensitivity for the PBL but is able to provide more measurements including in the after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RS-S4 provides improved measurements in terms of accuracy and vertical information/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534240"/>
            <a:ext cx="899172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entury Gothic"/>
              </a:rPr>
              <a:t>General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14840" y="3733920"/>
            <a:ext cx="85294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IRS/MTG be able to detect pollution event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Yes, because extreme events generally occur over land/du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ay when thermal contrast (and hence instrumental sensitivity) is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295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RS/MTG the instrument we would like to have to  perform TIR chemistry measurement from a ge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, because of limited vertical sensitivity and accuracy, in particular in the boundar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2819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RS/MTG able to detect the diurnal variability for O3 et 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robably not, because of limited sensitivity and low diurnal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112680" y="4876920"/>
            <a:ext cx="8029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the complementarity with UVN-S4  will help to improve O3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Yes, because  of different vertical sensitivity a combined retrie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will provide an improved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1400" y="1094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765000"/>
            <a:ext cx="12236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6000" y="1844640"/>
            <a:ext cx="1223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2924280"/>
            <a:ext cx="1223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4005360"/>
            <a:ext cx="1223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36000" y="5084640"/>
            <a:ext cx="12236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0360" y="1052640"/>
            <a:ext cx="1079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08720" y="2205000"/>
            <a:ext cx="107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0360" y="3213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72360" y="4149720"/>
            <a:ext cx="187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M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8720" y="5373720"/>
            <a:ext cx="107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0360" y="1341360"/>
            <a:ext cx="1008000" cy="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3357720"/>
            <a:ext cx="1008000" cy="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5516640"/>
            <a:ext cx="1008000" cy="0"/>
          </a:xfrm>
          <a:prstGeom prst="line">
            <a:avLst/>
          </a:prstGeom>
          <a:ln cap="rnd" w="63360">
            <a:solidFill>
              <a:srgbClr val="cc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27640" y="4581360"/>
            <a:ext cx="1008360" cy="0"/>
          </a:xfrm>
          <a:prstGeom prst="line">
            <a:avLst/>
          </a:prstGeom>
          <a:ln cap="rnd" w="63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2349360"/>
            <a:ext cx="1008000" cy="0"/>
          </a:xfrm>
          <a:prstGeom prst="line">
            <a:avLst/>
          </a:prstGeom>
          <a:ln w="63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1341360"/>
            <a:ext cx="0" cy="4175280"/>
          </a:xfrm>
          <a:prstGeom prst="line">
            <a:avLst/>
          </a:prstGeom>
          <a:ln w="63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6360" y="1557360"/>
            <a:ext cx="0" cy="410364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56360" y="5661000"/>
            <a:ext cx="1008000" cy="0"/>
          </a:xfrm>
          <a:prstGeom prst="line">
            <a:avLst/>
          </a:prstGeom>
          <a:ln w="63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56360" y="1557360"/>
            <a:ext cx="1008000" cy="0"/>
          </a:xfrm>
          <a:prstGeom prst="line">
            <a:avLst/>
          </a:prstGeom>
          <a:ln w="63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37480" y="12682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Comic Sans MS"/>
              </a:rPr>
              <a:t>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67440" y="9079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S4-UV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32360" y="5950080"/>
            <a:ext cx="29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+ VOC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cc0000"/>
                </a:solidFill>
                <a:latin typeface="Comic Sans MS"/>
              </a:rPr>
              <a:t>+ NOy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fr-FR" sz="1800" spc="-1" strike="noStrike">
                <a:solidFill>
                  <a:srgbClr val="9933ff"/>
                </a:solidFill>
                <a:latin typeface="Comic Sans MS"/>
              </a:rPr>
              <a:t>H</a:t>
            </a:r>
            <a:r>
              <a:rPr b="0" lang="fr-FR" sz="1800" spc="-1" strike="noStrike" baseline="-25000">
                <a:solidFill>
                  <a:srgbClr val="9933ff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9933ff"/>
                </a:solidFill>
                <a:latin typeface="Comic Sans MS"/>
              </a:rPr>
              <a:t>O 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492360" cy="2651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rcRect l="0" t="2375" r="0" b="2375"/>
          <a:stretch/>
        </p:blipFill>
        <p:spPr>
          <a:xfrm>
            <a:off x="152280" y="3962520"/>
            <a:ext cx="3457800" cy="2284200"/>
          </a:xfrm>
          <a:prstGeom prst="rect">
            <a:avLst/>
          </a:prstGeom>
          <a:ln w="50760">
            <a:solidFill>
              <a:srgbClr val="009999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-14400" y="3352680"/>
            <a:ext cx="465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urnal and day-to-day variations of key trace ga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d fine particulate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581280" y="1600200"/>
            <a:ext cx="2089440" cy="1817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0"/>
            <a:ext cx="3809880" cy="825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Introduction: 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-612720" y="981000"/>
            <a:ext cx="4537080" cy="2262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95280" y="4392720"/>
            <a:ext cx="3960720" cy="157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4788000" y="4365720"/>
            <a:ext cx="3851280" cy="15955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31200" y="3429000"/>
            <a:ext cx="85262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exceedance days of the threshold value for the information to th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0108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4581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067280" y="907920"/>
          <a:ext cx="5076360" cy="2368440"/>
        </p:xfrm>
        <a:graphic>
          <a:graphicData uri="http://schemas.openxmlformats.org/drawingml/2006/table">
            <a:tbl>
              <a:tblPr/>
              <a:tblGrid>
                <a:gridCol w="1888560"/>
                <a:gridCol w="1141560"/>
                <a:gridCol w="620280"/>
                <a:gridCol w="645480"/>
                <a:gridCol w="780480"/>
              </a:tblGrid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 2003, 2004 et 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9 days over lim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pollutan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all reg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zone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zone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u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oxy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'azote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ent forecas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-detected 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 alarm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971640" y="6237360"/>
            <a:ext cx="59767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stesy to Air Parif - http://www.airparif.asso.fr/pages/prevision/i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3809880" cy="825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Introduction: 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0" t="21131" r="22621" b="10041"/>
          <a:stretch/>
        </p:blipFill>
        <p:spPr>
          <a:xfrm>
            <a:off x="0" y="692280"/>
            <a:ext cx="3851280" cy="256680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2"/>
          <a:srcRect l="0" t="21131" r="22572" b="10041"/>
          <a:stretch/>
        </p:blipFill>
        <p:spPr>
          <a:xfrm>
            <a:off x="4140360" y="692280"/>
            <a:ext cx="3816360" cy="254304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0" y="609480"/>
            <a:ext cx="6629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MOPITT CO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20040" y="6553080"/>
            <a:ext cx="23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[Clerbaux et al, GRL, 200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175280" cy="313524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356000" y="3357720"/>
            <a:ext cx="3240360" cy="313056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800" y="81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46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115920"/>
            <a:ext cx="82087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Century Gothic"/>
              </a:rPr>
              <a:t>Fires in Greece, 25  August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3716280"/>
            <a:ext cx="36720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redit D. Hurtmans, S. Turquety (ULB, S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4390920" cy="3297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4390920" cy="3297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038120" y="3276720"/>
            <a:ext cx="11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00"/>
                </a:solidFill>
                <a:latin typeface="Times New Roman"/>
              </a:rPr>
              <a:t>IASI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295280" y="1143000"/>
            <a:ext cx="2735280" cy="2135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334120" y="1143000"/>
            <a:ext cx="2687400" cy="2093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971640" y="69228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moke plume (meteosat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0" y="6095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urquety, ACP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538920"/>
            <a:ext cx="89917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entury Gothic"/>
              </a:rPr>
              <a:t>&gt;&gt; Detection of pollution peaks with IR instrument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ontrolled pollutants are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, CO, N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,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, PM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entury Gothic"/>
              </a:rPr>
              <a:t>Ozone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: peaks in the afternoon. Alert levels exceeded several days per year. Current prediction scores around 5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entury Gothic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: Alert levels exceeded only when big fire events occ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ll controlled pollutants but ozone are continuously decreasing above Europ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-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and CO (and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-volcano) are measured by TI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ermal contrast is high during the day and during the spring/summer, over 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entury Gothic"/>
              </a:rPr>
              <a:t>Ozone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/IASI:   Profiles retrievable but low sensitivity near the groun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entury Gothic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/MOPITT and IASI: Cities can be seen if favorable thermal contrast.  Fires are easy to be detected because it is a large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90720" y="1981080"/>
          <a:ext cx="7238520" cy="3124080"/>
        </p:xfrm>
        <a:graphic>
          <a:graphicData uri="http://schemas.openxmlformats.org/drawingml/2006/table">
            <a:tbl>
              <a:tblPr/>
              <a:tblGrid>
                <a:gridCol w="1425600"/>
                <a:gridCol w="2953080"/>
                <a:gridCol w="285984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S/MT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R GEO 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fr-FR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fr-FR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CO, (HNO</a:t>
                      </a:r>
                      <a:r>
                        <a:rPr b="0" lang="fr-FR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atial r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x 4 km</a:t>
                      </a:r>
                      <a:r>
                        <a:rPr b="0" lang="fr-FR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x 5-15 x 15 km</a:t>
                      </a:r>
                      <a:r>
                        <a:rPr b="0" lang="fr-FR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G -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dt @28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(O</a:t>
                      </a:r>
                      <a:r>
                        <a:rPr b="0" lang="fr-FR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, 0.85 (CO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 - 0.15 (G -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tral r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unapodiz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 cm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- 2 cm (G -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 - 0.3 cm-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1452240" y="685800"/>
            <a:ext cx="580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mpared specifications of the propo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IRS/MTG and TIR/S4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5486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66ff"/>
                </a:solidFill>
                <a:latin typeface="Arial"/>
              </a:rPr>
              <a:t>IASI= ~TIR S4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76320" y="1465200"/>
            <a:ext cx="5105160" cy="3435480"/>
            <a:chOff x="76320" y="1465200"/>
            <a:chExt cx="5105160" cy="34354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rcRect l="0" t="0" r="9877" b="0"/>
            <a:stretch/>
          </p:blipFill>
          <p:spPr>
            <a:xfrm>
              <a:off x="76320" y="1465200"/>
              <a:ext cx="5105160" cy="34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914040" y="3779640"/>
              <a:ext cx="20570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0" y="191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1447920"/>
            <a:ext cx="3886200" cy="15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pectral resolution and sam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P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mp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WHM of non-apodized 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0.8 cm </a:t>
            </a:r>
            <a:r>
              <a:rPr b="1" lang="en-GB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0.625 cm</a:t>
            </a:r>
            <a:r>
              <a:rPr b="1" lang="en-GB" sz="12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0.75cm</a:t>
            </a:r>
            <a:r>
              <a:rPr b="0" lang="en-GB" sz="1200" spc="-1" strike="noStrike" baseline="30000">
                <a:solidFill>
                  <a:srgbClr val="ff0000"/>
                </a:solidFill>
                <a:latin typeface="Arial"/>
              </a:rPr>
              <a:t>-1 </a:t>
            </a:r>
            <a:r>
              <a:rPr b="0" lang="en-GB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IRS-M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4.0 cm </a:t>
            </a:r>
            <a:r>
              <a:rPr b="1" lang="en-GB" sz="1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0.125 cm</a:t>
            </a:r>
            <a:r>
              <a:rPr b="1" lang="en-GB" sz="1200" spc="-1" strike="noStrike" baseline="30000">
                <a:solidFill>
                  <a:srgbClr val="808080"/>
                </a:solidFill>
                <a:latin typeface="Arial"/>
              </a:rPr>
              <a:t>-1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 0.15cm</a:t>
            </a:r>
            <a:r>
              <a:rPr b="0" lang="en-GB" sz="1200" spc="-1" strike="noStrike" baseline="30000">
                <a:solidFill>
                  <a:srgbClr val="808080"/>
                </a:solidFill>
                <a:latin typeface="Arial"/>
              </a:rPr>
              <a:t>-1 </a:t>
            </a:r>
            <a:r>
              <a:rPr b="0" lang="en-GB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Sentinel 4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2.0 cm </a:t>
            </a:r>
            <a:r>
              <a:rPr b="1" lang="en-GB" sz="12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0.250 cm</a:t>
            </a:r>
            <a:r>
              <a:rPr b="1" lang="en-GB" sz="1200" spc="-1" strike="noStrike" baseline="30000">
                <a:solidFill>
                  <a:srgbClr val="0033cc"/>
                </a:solidFill>
                <a:latin typeface="Arial"/>
              </a:rPr>
              <a:t>-1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33cc"/>
                </a:solidFill>
                <a:latin typeface="Arial"/>
              </a:rPr>
              <a:t> 0.30cm</a:t>
            </a:r>
            <a:r>
              <a:rPr b="0" lang="en-GB" sz="1200" spc="-1" strike="noStrike" baseline="30000">
                <a:solidFill>
                  <a:srgbClr val="0033cc"/>
                </a:solidFill>
                <a:latin typeface="Arial"/>
              </a:rPr>
              <a:t>-1 </a:t>
            </a:r>
            <a:r>
              <a:rPr b="0" lang="en-GB" sz="1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Sentinel 4 (Thres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3352680"/>
            <a:ext cx="3886200" cy="15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diometric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D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f 280K blackbody) </a:t>
            </a:r>
            <a:r>
              <a:rPr b="1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0.20 K </a:t>
            </a:r>
            <a:r>
              <a:rPr b="1" lang="en-GB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2.45 10</a:t>
            </a:r>
            <a:r>
              <a:rPr b="1" lang="en-GB" sz="1200" spc="-1" strike="noStrike" baseline="30000">
                <a:solidFill>
                  <a:srgbClr val="ff0000"/>
                </a:solidFill>
                <a:latin typeface="Arial"/>
              </a:rPr>
              <a:t>-8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W/cm</a:t>
            </a:r>
            <a:r>
              <a:rPr b="1" lang="en-GB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sr cm</a:t>
            </a:r>
            <a:r>
              <a:rPr b="1" lang="en-GB" sz="12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IRS-M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0.05 K </a:t>
            </a:r>
            <a:r>
              <a:rPr b="1" lang="en-GB" sz="1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6.08 10</a:t>
            </a:r>
            <a:r>
              <a:rPr b="1" lang="en-GB" sz="1200" spc="-1" strike="noStrike" baseline="30000">
                <a:solidFill>
                  <a:srgbClr val="808080"/>
                </a:solidFill>
                <a:latin typeface="Arial"/>
              </a:rPr>
              <a:t>-9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W/cm</a:t>
            </a:r>
            <a:r>
              <a:rPr b="1" lang="en-GB" sz="12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sr cm</a:t>
            </a:r>
            <a:r>
              <a:rPr b="1" lang="en-GB" sz="1200" spc="-1" strike="noStrike" baseline="30000">
                <a:solidFill>
                  <a:srgbClr val="808080"/>
                </a:solidFill>
                <a:latin typeface="Arial"/>
              </a:rPr>
              <a:t>-1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Sentinel 4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0.10 K </a:t>
            </a:r>
            <a:r>
              <a:rPr b="1" lang="en-GB" sz="12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1.22 10</a:t>
            </a:r>
            <a:r>
              <a:rPr b="1" lang="en-GB" sz="1200" spc="-1" strike="noStrike" baseline="30000">
                <a:solidFill>
                  <a:srgbClr val="0033cc"/>
                </a:solidFill>
                <a:latin typeface="Arial"/>
              </a:rPr>
              <a:t>-8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W/cm</a:t>
            </a:r>
            <a:r>
              <a:rPr b="1" lang="en-GB" sz="1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sr cm</a:t>
            </a:r>
            <a:r>
              <a:rPr b="1" lang="en-GB" sz="1200" spc="-1" strike="noStrike" baseline="30000">
                <a:solidFill>
                  <a:srgbClr val="0033cc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7240" y="1770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IRS-MT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30440" y="207504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Sentinel 4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5160" y="3065400"/>
            <a:ext cx="97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Sentinel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(thres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5427720"/>
            <a:ext cx="65534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IRS-MTG IRS3: OPD = 0.8 cm NEDT = 0.2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2819520" cy="4597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entury Gothic"/>
              </a:rPr>
              <a:t>Results for 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85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A. Sensitivity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7925" t="0" r="0" b="0"/>
          <a:stretch/>
        </p:blipFill>
        <p:spPr>
          <a:xfrm>
            <a:off x="762120" y="1981080"/>
            <a:ext cx="3543120" cy="3595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4440" y="4419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ffff"/>
                </a:solidFill>
                <a:latin typeface="Arial"/>
              </a:rPr>
              <a:t>MTG-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21337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ff00"/>
                </a:solidFill>
                <a:latin typeface="Arial"/>
              </a:rPr>
              <a:t>Sentinel 4 (FWHM thresho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cc"/>
                </a:solidFill>
                <a:latin typeface="Arial"/>
              </a:rPr>
              <a:t>Sentinel 4 ( FWHM g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48120" y="4572000"/>
            <a:ext cx="533160" cy="763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6400" y="17524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5715000"/>
            <a:ext cx="3124080" cy="45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Varying spectral resolution and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= 0.96; </a:t>
            </a:r>
            <a:r>
              <a:rPr b="1" lang="en-GB" sz="1200" spc="-1" strike="noStrike">
                <a:solidFill>
                  <a:srgbClr val="ff6600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ff6600"/>
                </a:solidFill>
                <a:latin typeface="Arial"/>
              </a:rPr>
              <a:t>T = 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9680" y="1143000"/>
            <a:ext cx="133884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2819520" cy="4597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entury Gothic"/>
              </a:rPr>
              <a:t>Results for 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A. Sensitivity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12492" t="0" r="0" b="0"/>
          <a:stretch/>
        </p:blipFill>
        <p:spPr>
          <a:xfrm>
            <a:off x="5181480" y="533520"/>
            <a:ext cx="2556000" cy="27730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5029200" y="3429000"/>
            <a:ext cx="2819520" cy="2666520"/>
            <a:chOff x="5029200" y="3429000"/>
            <a:chExt cx="2819520" cy="2666520"/>
          </a:xfrm>
        </p:grpSpPr>
        <p:sp>
          <p:nvSpPr>
            <p:cNvPr id="98" name=""/>
            <p:cNvSpPr/>
            <p:nvPr/>
          </p:nvSpPr>
          <p:spPr>
            <a:xfrm>
              <a:off x="5029200" y="3429000"/>
              <a:ext cx="2819520" cy="18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029200" y="3578760"/>
              <a:ext cx="2819520" cy="25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510960" y="3792600"/>
              <a:ext cx="952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a priori vari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61880" y="4338000"/>
              <a:ext cx="82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ffff"/>
                  </a:solidFill>
                  <a:latin typeface="Arial"/>
                </a:rPr>
                <a:t>MTG-I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55560" y="3429000"/>
              <a:ext cx="169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BL (0-2 km) colum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72000" y="4519800"/>
              <a:ext cx="64080" cy="120960"/>
            </a:xfrm>
            <a:prstGeom prst="line">
              <a:avLst/>
            </a:prstGeom>
            <a:ln w="1908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940720" y="380880"/>
            <a:ext cx="18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T (0-6 km)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838080"/>
            <a:ext cx="94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0000"/>
                </a:solidFill>
                <a:latin typeface="Arial"/>
              </a:rPr>
              <a:t>a priori varia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6840" y="137160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ffff"/>
                </a:solidFill>
                <a:latin typeface="Arial"/>
              </a:rPr>
              <a:t>MTG-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114300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ffff"/>
                </a:solidFill>
                <a:latin typeface="Arial"/>
              </a:rPr>
              <a:t>MOPD=0.8 cm (IRS-MT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ff00"/>
                </a:solidFill>
                <a:latin typeface="Arial"/>
              </a:rPr>
              <a:t>MOPD = 2.0 cm (Sentinel 4 thresho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MOPD = 4.0 cm</a:t>
            </a:r>
            <a:r>
              <a:rPr b="1" lang="en-GB" sz="1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Sentinel 4 g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600200"/>
            <a:ext cx="868680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ertical sensitivity from the ground to about 40 km but low sensitivity to the 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OFS around 3.5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single information in the troposp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rrors range from 20 to 40 % on individual levels above 2 km while errors in the PBL are close to the a priori varia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rror on the tropospheric column is around 1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Improving noise and/or spectral resolution (IRS-MTG vs. Sentinel 4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) improves retrieval performances in the lower troposp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Impact of thermal contrast (</a:t>
            </a:r>
            <a:r>
              <a:rPr b="0" lang="en-GB" sz="1600" spc="-1" strike="noStrike">
                <a:solidFill>
                  <a:srgbClr val="ff9933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T=T</a:t>
            </a:r>
            <a:r>
              <a:rPr b="0" lang="en-GB" sz="1600" spc="-1" strike="noStrike" baseline="-25000">
                <a:solidFill>
                  <a:srgbClr val="ff9933"/>
                </a:solidFill>
                <a:latin typeface="Century Gothic"/>
              </a:rPr>
              <a:t>ground</a:t>
            </a: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-T</a:t>
            </a:r>
            <a:r>
              <a:rPr b="0" lang="en-GB" sz="1600" spc="-1" strike="noStrike" baseline="-25000">
                <a:solidFill>
                  <a:srgbClr val="ff9933"/>
                </a:solidFill>
                <a:latin typeface="Century Gothic"/>
              </a:rPr>
              <a:t>atm@surface</a:t>
            </a: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):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Impact is in the lower troposphere. The error on the tropospheric column reaches ~ 10 % for positive values of </a:t>
            </a:r>
            <a:r>
              <a:rPr b="0" i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340160"/>
            <a:ext cx="86868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entury Gothic"/>
              </a:rPr>
              <a:t>Despite a priori far from the targ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Significant improvement with respect to </a:t>
            </a:r>
            <a:r>
              <a:rPr b="0" i="1" lang="en-GB" sz="1600" spc="-1" strike="noStrike">
                <a:solidFill>
                  <a:srgbClr val="000000"/>
                </a:solidFill>
                <a:latin typeface="Century Gothic"/>
              </a:rPr>
              <a:t>a priori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over the entire troposp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rrors around 12 % on the tropospheric column for vanishing thermal constrast decrease to 5 % for </a:t>
            </a:r>
            <a:r>
              <a:rPr b="0" i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alues of 5 K or lar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Similarly  PBL errors decrease to 50 % for </a:t>
            </a:r>
            <a:r>
              <a:rPr b="0" i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alues of 5 K or lar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ff9933"/>
                </a:solidFill>
                <a:latin typeface="Century Gothic"/>
              </a:rPr>
              <a:t>Diurnal variations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are hardly reproduced for the case analyzed here (retrieval errors being of the order of the diurnal variability). Sentinel 4 goal closest to the truth in PB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entury Gothic"/>
              </a:rPr>
              <a:t>Conclusions of Part II: Sensitivity analyses - retrieval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5720" y="396252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B. Retrieval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440" y="11970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A. Sensitivity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9480"/>
            <a:ext cx="6400800" cy="4597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entury Gothic"/>
              </a:rPr>
              <a:t>Ozone retrievals from IRS-M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496880"/>
            <a:ext cx="5257800" cy="3380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1447920"/>
            <a:ext cx="38862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pectral resolution and sam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P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mp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WHM of non-apodized 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0.8 cm </a:t>
            </a:r>
            <a:r>
              <a:rPr b="1" lang="en-GB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0.625 cm</a:t>
            </a:r>
            <a:r>
              <a:rPr b="1" lang="en-GB" sz="12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0.75cm</a:t>
            </a:r>
            <a:r>
              <a:rPr b="0" lang="en-GB" sz="1200" spc="-1" strike="noStrike" baseline="30000">
                <a:solidFill>
                  <a:srgbClr val="ff0000"/>
                </a:solidFill>
                <a:latin typeface="Arial"/>
              </a:rPr>
              <a:t>-1 </a:t>
            </a:r>
            <a:r>
              <a:rPr b="0" lang="en-GB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IRS-M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4.0 cm </a:t>
            </a:r>
            <a:r>
              <a:rPr b="1" lang="en-GB" sz="1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0.125 cm</a:t>
            </a:r>
            <a:r>
              <a:rPr b="1" lang="en-GB" sz="1200" spc="-1" strike="noStrike" baseline="30000">
                <a:solidFill>
                  <a:srgbClr val="808080"/>
                </a:solidFill>
                <a:latin typeface="Arial"/>
              </a:rPr>
              <a:t>-1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 0.15cm</a:t>
            </a:r>
            <a:r>
              <a:rPr b="0" lang="en-GB" sz="1200" spc="-1" strike="noStrike" baseline="30000">
                <a:solidFill>
                  <a:srgbClr val="808080"/>
                </a:solidFill>
                <a:latin typeface="Arial"/>
              </a:rPr>
              <a:t>-1 </a:t>
            </a:r>
            <a:r>
              <a:rPr b="0" lang="en-GB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Sentinel 4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2.0 cm </a:t>
            </a:r>
            <a:r>
              <a:rPr b="1" lang="en-GB" sz="12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0.250 cm</a:t>
            </a:r>
            <a:r>
              <a:rPr b="1" lang="en-GB" sz="1200" spc="-1" strike="noStrike" baseline="30000">
                <a:solidFill>
                  <a:srgbClr val="0033cc"/>
                </a:solidFill>
                <a:latin typeface="Arial"/>
              </a:rPr>
              <a:t>-1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33cc"/>
                </a:solidFill>
                <a:latin typeface="Arial"/>
              </a:rPr>
              <a:t> 0.30cm</a:t>
            </a:r>
            <a:r>
              <a:rPr b="0" lang="en-GB" sz="1200" spc="-1" strike="noStrike" baseline="30000">
                <a:solidFill>
                  <a:srgbClr val="0033cc"/>
                </a:solidFill>
                <a:latin typeface="Arial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9900cc"/>
                </a:solidFill>
                <a:latin typeface="Arial"/>
              </a:rPr>
              <a:t>1.0 cm </a:t>
            </a:r>
            <a:r>
              <a:rPr b="1" lang="en-GB" sz="1200" spc="-1" strike="noStrike">
                <a:solidFill>
                  <a:srgbClr val="9900cc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9900cc"/>
                </a:solidFill>
                <a:latin typeface="Arial"/>
              </a:rPr>
              <a:t> 0.500 cm</a:t>
            </a:r>
            <a:r>
              <a:rPr b="1" lang="en-GB" sz="1200" spc="-1" strike="noStrike" baseline="30000">
                <a:solidFill>
                  <a:srgbClr val="9900cc"/>
                </a:solidFill>
                <a:latin typeface="Arial"/>
              </a:rPr>
              <a:t>-1</a:t>
            </a:r>
            <a:r>
              <a:rPr b="1" lang="en-GB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9900cc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9900cc"/>
                </a:solidFill>
                <a:latin typeface="Arial"/>
              </a:rPr>
              <a:t> 0.60cm</a:t>
            </a:r>
            <a:r>
              <a:rPr b="0" lang="en-GB" sz="1200" spc="-1" strike="noStrike" baseline="30000">
                <a:solidFill>
                  <a:srgbClr val="9900cc"/>
                </a:solidFill>
                <a:latin typeface="Arial"/>
              </a:rPr>
              <a:t>-1 </a:t>
            </a:r>
            <a:r>
              <a:rPr b="0" lang="en-GB" sz="1200" spc="-1" strike="noStrike">
                <a:solidFill>
                  <a:srgbClr val="9900cc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9900cc"/>
                </a:solidFill>
                <a:latin typeface="Arial"/>
              </a:rPr>
              <a:t>Sentinel 4 (Thres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9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3352680"/>
            <a:ext cx="3886200" cy="15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diometric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D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f 280K blackbody) </a:t>
            </a:r>
            <a:r>
              <a:rPr b="1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0.85 K </a:t>
            </a:r>
            <a:r>
              <a:rPr b="1" lang="en-GB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6.12 10</a:t>
            </a:r>
            <a:r>
              <a:rPr b="1" lang="en-GB" sz="1200" spc="-1" strike="noStrike" baseline="30000">
                <a:solidFill>
                  <a:srgbClr val="ff0000"/>
                </a:solidFill>
                <a:latin typeface="Arial"/>
              </a:rPr>
              <a:t>-9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W/cm</a:t>
            </a:r>
            <a:r>
              <a:rPr b="1" lang="en-GB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sr cm</a:t>
            </a:r>
            <a:r>
              <a:rPr b="1" lang="en-GB" sz="12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IRS-M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0.05 K </a:t>
            </a:r>
            <a:r>
              <a:rPr b="1" lang="en-GB" sz="1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3.60 10</a:t>
            </a:r>
            <a:r>
              <a:rPr b="1" lang="en-GB" sz="1200" spc="-1" strike="noStrike" baseline="30000">
                <a:solidFill>
                  <a:srgbClr val="808080"/>
                </a:solidFill>
                <a:latin typeface="Arial"/>
              </a:rPr>
              <a:t>-10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W/cm</a:t>
            </a:r>
            <a:r>
              <a:rPr b="1" lang="en-GB" sz="12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sr cm</a:t>
            </a:r>
            <a:r>
              <a:rPr b="1" lang="en-GB" sz="1200" spc="-1" strike="noStrike" baseline="30000">
                <a:solidFill>
                  <a:srgbClr val="808080"/>
                </a:solidFill>
                <a:latin typeface="Arial"/>
              </a:rPr>
              <a:t>-1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Sentinel 4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0.15 K </a:t>
            </a:r>
            <a:r>
              <a:rPr b="1" lang="en-GB" sz="12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1.08 10</a:t>
            </a:r>
            <a:r>
              <a:rPr b="1" lang="en-GB" sz="1200" spc="-1" strike="noStrike" baseline="30000">
                <a:solidFill>
                  <a:srgbClr val="0033cc"/>
                </a:solidFill>
                <a:latin typeface="Arial"/>
              </a:rPr>
              <a:t>-9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W/cm</a:t>
            </a:r>
            <a:r>
              <a:rPr b="1" lang="en-GB" sz="1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1200" spc="-1" strike="noStrike">
                <a:solidFill>
                  <a:srgbClr val="0033cc"/>
                </a:solidFill>
                <a:latin typeface="Arial"/>
              </a:rPr>
              <a:t> sr cm</a:t>
            </a:r>
            <a:r>
              <a:rPr b="1" lang="en-GB" sz="1200" spc="-1" strike="noStrike" baseline="30000">
                <a:solidFill>
                  <a:srgbClr val="0033cc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7240" y="1752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IRS-MT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0440" y="20574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Sentinel 4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5000" y="3657600"/>
            <a:ext cx="97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cc"/>
                </a:solidFill>
                <a:latin typeface="Arial"/>
              </a:rPr>
              <a:t>Sentinel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cc"/>
                </a:solidFill>
                <a:latin typeface="Arial"/>
              </a:rPr>
              <a:t>(thres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65534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IRS-MTG IRS7: OPD = 0.8 cm NEDT = 0.8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685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A. Sensitivity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4952880" cy="4597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entury Gothic"/>
              </a:rPr>
              <a:t>Results for 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3905280" cy="3513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3829320" cy="3529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3600360"/>
            <a:ext cx="2362320" cy="0"/>
          </a:xfrm>
          <a:prstGeom prst="line">
            <a:avLst/>
          </a:prstGeom>
          <a:ln cap="rnd" w="1908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66200" y="3448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66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24840" y="44006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TG-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19400" y="3657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80"/>
                </a:solidFill>
                <a:latin typeface="Arial"/>
              </a:rPr>
              <a:t>Sentinel 4 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236232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a priori var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6400" y="17524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1840" y="175248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tal colum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990720"/>
            <a:ext cx="3124080" cy="45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Varying spectral resolution and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= 0.96; </a:t>
            </a:r>
            <a:r>
              <a:rPr b="1" lang="en-GB" sz="1200" spc="-1" strike="noStrike">
                <a:solidFill>
                  <a:srgbClr val="ff6600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ff6600"/>
                </a:solidFill>
                <a:latin typeface="Arial"/>
              </a:rPr>
              <a:t>T = 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2209680"/>
            <a:ext cx="114300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Arial"/>
              </a:rPr>
              <a:t>NeDT 0.8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NeDT 0.1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DT 0.0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3800" y="3581280"/>
            <a:ext cx="228600" cy="228600"/>
          </a:xfrm>
          <a:prstGeom prst="ellipse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46440" y="4295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2428920"/>
            <a:ext cx="228600" cy="22860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24200" y="22003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Sentinel 4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25320" y="26290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TG-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657600"/>
            <a:ext cx="19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80"/>
                </a:solidFill>
                <a:latin typeface="Arial"/>
              </a:rPr>
              <a:t>Sentinel 4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22960" y="3909960"/>
            <a:ext cx="228600" cy="228600"/>
          </a:xfrm>
          <a:prstGeom prst="ellipse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58280" y="29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75320" y="4452840"/>
            <a:ext cx="228600" cy="22860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4602240"/>
            <a:ext cx="15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Sentinel 4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562720"/>
            <a:ext cx="32004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DOFS of 1 for MTG-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Up to 3 for Sentinel 4 - g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5543640"/>
            <a:ext cx="34290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13 % on total CO column for MTG-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Down to 5 % for Sentinel 4 - g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685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A. Sensitivity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680" y="1143000"/>
            <a:ext cx="133884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4952880" cy="4597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entury Gothic"/>
              </a:rPr>
              <a:t>Results for 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4080" y="3821040"/>
            <a:ext cx="236232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2362320" cy="2162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943600" y="2362320"/>
            <a:ext cx="3048120" cy="2868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rcRect l="0" t="6328" r="0" b="0"/>
          <a:stretch/>
        </p:blipFill>
        <p:spPr>
          <a:xfrm>
            <a:off x="0" y="2438280"/>
            <a:ext cx="3048120" cy="2884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108240" y="1139760"/>
            <a:ext cx="2362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43760" y="1482840"/>
            <a:ext cx="94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0000"/>
                </a:solidFill>
                <a:latin typeface="Arial"/>
              </a:rPr>
              <a:t>a priori varia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84240" y="1123920"/>
            <a:ext cx="134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T (0-6 km) colum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133720"/>
            <a:ext cx="3048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6440" y="255096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a priori vari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1440" y="213372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op. (0-12 km) col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359712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7400" y="3581280"/>
            <a:ext cx="142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T (6-12 km) colum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67440" y="3902040"/>
            <a:ext cx="94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0000"/>
                </a:solidFill>
                <a:latin typeface="Arial"/>
              </a:rPr>
              <a:t>a priori varia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2133720"/>
            <a:ext cx="3124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71440" y="249876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a priori vari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5040" y="2133720"/>
            <a:ext cx="169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BL (0-2 km) col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137160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ffff"/>
                </a:solidFill>
                <a:latin typeface="Arial"/>
              </a:rPr>
              <a:t>MOPD=0.8 cm (IRS-MT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ff00"/>
                </a:solidFill>
                <a:latin typeface="Arial"/>
              </a:rPr>
              <a:t>MOPD = 2.0 cm (Sentinel 4 thresho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MOPD = 4.0 cm</a:t>
            </a:r>
            <a:r>
              <a:rPr b="1" lang="en-GB" sz="1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Sentinel 4 g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838080"/>
            <a:ext cx="3124440" cy="45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Varying spectral resolution and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= 0.96; </a:t>
            </a:r>
            <a:r>
              <a:rPr b="1" lang="en-GB" sz="1200" spc="-1" strike="noStrike">
                <a:solidFill>
                  <a:srgbClr val="ff6600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ff6600"/>
                </a:solidFill>
                <a:latin typeface="Arial"/>
              </a:rPr>
              <a:t>T = 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048120" y="32000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34290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82920" y="37101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66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48680" y="303228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MTG-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387828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800080"/>
                </a:solidFill>
                <a:latin typeface="Arial"/>
              </a:rPr>
              <a:t>Sentinel 4 thresh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97080" y="4095720"/>
            <a:ext cx="228600" cy="228600"/>
          </a:xfrm>
          <a:prstGeom prst="ellipse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29080" y="322884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38160" y="4619520"/>
            <a:ext cx="228600" cy="22860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495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808080"/>
                </a:solidFill>
                <a:latin typeface="Arial"/>
              </a:rPr>
              <a:t>Sentinel 4 go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5880" y="3946680"/>
            <a:ext cx="2209680" cy="0"/>
          </a:xfrm>
          <a:prstGeom prst="line">
            <a:avLst/>
          </a:prstGeom>
          <a:ln cap="rnd" w="284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33960" y="18288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18240" y="2362320"/>
            <a:ext cx="228600" cy="228600"/>
          </a:xfrm>
          <a:prstGeom prst="ellipse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41920" y="2819520"/>
            <a:ext cx="228600" cy="22860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3680" y="437364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7080" y="4924440"/>
            <a:ext cx="228600" cy="228600"/>
          </a:xfrm>
          <a:prstGeom prst="ellipse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28960" y="5405400"/>
            <a:ext cx="228600" cy="22860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55080" y="3733920"/>
            <a:ext cx="228600" cy="228600"/>
          </a:xfrm>
          <a:prstGeom prst="ellipse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572680" y="309564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86440" y="4400640"/>
            <a:ext cx="228600" cy="22860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504280" y="4343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66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50000" y="4356000"/>
            <a:ext cx="2209680" cy="0"/>
          </a:xfrm>
          <a:prstGeom prst="line">
            <a:avLst/>
          </a:prstGeom>
          <a:ln cap="rnd" w="284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65360" y="294336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MTG-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91520" y="358128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800080"/>
                </a:solidFill>
                <a:latin typeface="Arial"/>
              </a:rPr>
              <a:t>Sentinel 4 thresh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42320" y="446076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808080"/>
                </a:solidFill>
                <a:latin typeface="Arial"/>
              </a:rPr>
              <a:t>Sentinel 4 go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685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A. Sensitivity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9680" y="1143000"/>
            <a:ext cx="133884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4952880" cy="4597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entury Gothic"/>
              </a:rPr>
              <a:t>Results for 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0:51:48Z</dcterms:created>
  <dc:creator>Coheur Pierre-François</dc:creator>
  <dc:description/>
  <dc:language>en-US</dc:language>
  <cp:lastModifiedBy>Rosemary Munro</cp:lastModifiedBy>
  <dcterms:modified xsi:type="dcterms:W3CDTF">2010-03-29T23:58:41Z</dcterms:modified>
  <cp:revision>189</cp:revision>
  <dc:subject/>
  <dc:title>Slide 1</dc:title>
</cp:coreProperties>
</file>