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D64E-D357-40F2-BAE9-48F5954F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099-8FBE-4786-8106-2B8166C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B81E-7C94-46F9-B326-DBF155E9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7088-D7B1-4214-B21C-CAA4E756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36AD-4D01-41F8-892D-3EB56C56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4FC0-8FD5-49AF-A452-E23C582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95B0-7DA5-411D-BD05-72B5BCB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37F0-7E0F-4153-BE97-24A158C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D7D9-EA01-4990-B773-F7B836E5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1C95-1927-42C8-BC89-917232D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6129-8CFD-4311-8E7E-80945B2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504E-C0BB-40C7-A457-387A7E5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ae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c0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AA7B-1536-4DB6-8ABC-06F996207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04560" y="6400440"/>
            <a:ext cx="1600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ACC Montre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cdc.noaa.gov/sds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C400-0816-4015-97F8-FCE828CC6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ooter Placeholder 5"/>
          <p:cNvSpPr/>
          <p:nvPr/>
        </p:nvSpPr>
        <p:spPr>
          <a:xfrm>
            <a:off x="304920" y="640080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ACC Montre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Book Antiqua"/>
              </a:rPr>
              <a:t>Climate Activities at NOAA</a:t>
            </a:r>
            <a:br>
              <a:rPr sz="3200"/>
            </a:br>
            <a:r>
              <a:rPr b="1" lang="en-US" sz="2800" spc="-1" strike="noStrike">
                <a:solidFill>
                  <a:srgbClr val="063de8"/>
                </a:solidFill>
                <a:latin typeface="Book Antiqua"/>
              </a:rPr>
              <a:t>L. E. Flyn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63de8"/>
                </a:solidFill>
                <a:latin typeface="Book Antiqua"/>
              </a:rPr>
              <a:t>NOAA/NESDIS Center for Satellite Applications and Research</a:t>
            </a:r>
            <a:endParaRPr b="1" lang="en-US" sz="2800" spc="-1" strike="noStrike">
              <a:solidFill>
                <a:srgbClr val="063de8"/>
              </a:solidFill>
              <a:latin typeface="Book Antiqua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7696080" y="228600"/>
            <a:ext cx="1218960" cy="1219320"/>
            <a:chOff x="7696080" y="228600"/>
            <a:chExt cx="1218960" cy="1219320"/>
          </a:xfrm>
        </p:grpSpPr>
        <p:sp>
          <p:nvSpPr>
            <p:cNvPr id="45" name="Oval 4"/>
            <p:cNvSpPr/>
            <p:nvPr/>
          </p:nvSpPr>
          <p:spPr>
            <a:xfrm>
              <a:off x="7711920" y="24444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5" descr="noaalogo"/>
            <p:cNvPicPr/>
            <p:nvPr/>
          </p:nvPicPr>
          <p:blipFill>
            <a:blip r:embed="rId1"/>
            <a:stretch/>
          </p:blipFill>
          <p:spPr>
            <a:xfrm>
              <a:off x="7696080" y="2286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6"/>
          <p:cNvGrpSpPr/>
          <p:nvPr/>
        </p:nvGrpSpPr>
        <p:grpSpPr>
          <a:xfrm>
            <a:off x="152280" y="228600"/>
            <a:ext cx="1295280" cy="1257480"/>
            <a:chOff x="152280" y="228600"/>
            <a:chExt cx="1295280" cy="1257480"/>
          </a:xfrm>
        </p:grpSpPr>
        <p:sp>
          <p:nvSpPr>
            <p:cNvPr id="48" name="Oval 7"/>
            <p:cNvSpPr/>
            <p:nvPr/>
          </p:nvSpPr>
          <p:spPr>
            <a:xfrm>
              <a:off x="206280" y="26352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8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1295280" cy="1257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8869-584D-44E3-B4E5-85D9BDC5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04920" y="640080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ACC Montre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Book Antiqua"/>
              </a:rPr>
              <a:t>Summary</a:t>
            </a:r>
            <a:endParaRPr b="1" lang="en-US" sz="3600" spc="-1" strike="noStrike">
              <a:solidFill>
                <a:srgbClr val="063de8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is starting a Climat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noaa.gov/climat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has a National Climat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ncdc.noaa.gov/sd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 supporting Science Data Steward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S and GCOS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 fo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s with NIST and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dl.usu.edu/conferences/asic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r.nesdis.noaa.gov/smcd/spb/calibration/icvs/GSICS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Center for Satellite Calibration and IC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r.nesdis.noaa.gov/smcd/spb/icv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97D-A0BF-4EDD-BC41-97348E05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04920" y="640080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ACC Montre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Book Antiqua"/>
              </a:rPr>
              <a:t>Proposed NOAA Climate Service (NCS)</a:t>
            </a:r>
            <a:endParaRPr b="1" lang="en-US" sz="3200" spc="-1" strike="noStrike">
              <a:solidFill>
                <a:srgbClr val="063de8"/>
              </a:solidFill>
              <a:latin typeface="Book Antiqu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" y="1076400"/>
            <a:ext cx="83818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07:02Z</dcterms:created>
  <dc:creator>Goldberg</dc:creator>
  <dc:description/>
  <cp:keywords/>
  <dc:language>en-US</dc:language>
  <cp:lastModifiedBy>kekeith</cp:lastModifiedBy>
  <cp:lastPrinted>1999-12-13T18:39:52Z</cp:lastPrinted>
  <dcterms:modified xsi:type="dcterms:W3CDTF">2010-04-05T20:05:31Z</dcterms:modified>
  <cp:revision>650</cp:revision>
  <dc:subject/>
  <dc:title>AWG Application Team template</dc:title>
</cp:coreProperties>
</file>