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9.jpeg" ContentType="image/jpe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472-D2C2-4CEC-97AD-08E5C110B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CBEF-0195-4DFC-B6B2-4A7A8DB6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B36-C4B6-44BB-BFAB-58BD7BCA9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1EE-8E27-4C83-BC72-640AE045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387-0B49-4674-83EB-3AF44304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90D8-F780-41CE-97BB-1925500D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01800" y="577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576360" y="4539960"/>
            <a:ext cx="5842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C8E-31BC-4DB5-8E19-71755FFB059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D380-C2BE-4891-852D-08D1A52F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C9CF-5D22-4C94-A8A3-78000BBB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B23-8302-4AF2-BE4E-2017D1F0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6B96-A553-4208-982B-FA2918F1A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5E6-7287-42E2-8EB7-0FA288CC4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1321-1431-4DB9-B695-65F9B8A2A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502-C959-4B8A-A02C-CB53E7A7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87A-BF2F-4B31-BDC3-915C25C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F33C9B-880F-4ABD-9429-92E0E439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930A8-BBC0-4447-A730-B946EE01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915C20-799B-475D-9D73-DA446778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1BF5A-1D7E-48D0-825B-0B3C03F4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30EE5-B481-4E1D-BE8F-0B170F4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42179-68AB-4071-8F94-53A2BCC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50D22E-8E11-4AED-B1EF-CDB5126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86386D-3E5D-412C-8149-50959AC7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FD6EC7-AE77-44A7-98CA-F24F01D9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E934B-D686-4CC5-B37A-CD8F098B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764-1DF3-4B2B-8A3C-7CB92461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5DC62-D544-4B67-913E-A6B2CD45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F2C61-26D5-49B3-B06E-41E1E1EC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0949F-A2AA-4EC9-8CA5-9A19BEA0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8DF82-9E74-416E-BA58-4978D54F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379BE-B640-49BA-B15D-85AAA68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F6C82-3BA3-4008-A5E7-D65C224B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A0300-6519-4DC7-904B-5889F3C9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F842D-00EB-4B2C-8903-EDB9357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D1C3C-538E-49F1-82B5-A2AA8503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DF04C-E17F-44D4-8257-BA7E68E1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E59-42A2-4653-A5C6-68B57EEA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C8DA1-28E0-4ADA-99AB-D21E8586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78AC1-4CB1-4E2D-8F5C-FA25F97C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7D349-956F-4CB0-A90E-775E158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F4961-E9BC-471D-A88C-4494D26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7BDAA-5320-4B8B-8457-FC2B57A4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A49D3-8023-4858-9EDA-2DB2CEB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5C642-8F0E-4ABD-9097-B6DE776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E34DF-3844-4485-A4C3-FF2E703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262EF-089F-4F43-B0A4-1399B12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7086F-BA8D-4CC3-A157-5E16EA8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468-853C-4768-8C8A-0FB812F4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A1DF-1942-4879-BE60-52C8FBEB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F300-017B-4907-9744-5DCDE815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9967-9A6B-4BFD-AC1B-98B4ADDC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7F437-D4F9-4BC6-8A20-89357847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0E95-F27C-4708-8EE2-9E8F18A6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27E6-D71C-403A-A352-341B0C0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79CF1-5339-4170-8346-1A6009AB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310CD-742C-4AD4-92B7-9442F5F3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35A40-ADDD-4C4F-A4C2-A7987E8C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3B30C-16C0-4261-8FDB-CBC4AC3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1E0E-8DD2-42E8-BDE7-F20B2126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DA0F3-DDC0-4F2E-A4BD-A79F458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4B1F9-18BB-4EA1-A52D-37F32BA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6F6E1-3537-4FED-B8B2-D65D50B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94EE6-16BE-4BCB-9B5B-D9297B82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D499E-066F-4882-9D42-604B6F84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9765-A861-46F8-9F22-78D3724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6BB6-E027-4593-A68F-A36AD84D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5561-9C0B-44CC-960E-F8B425DE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D9F-C31A-4CA7-8490-2A2259B6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C5E6-9AF9-48E7-95A4-2342436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42D-ACE4-4B64-B538-011721F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2443-3B0E-46C5-A6D0-CF10138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5F0C-7EF3-4B48-B1C9-C561D0A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A6A5-2D27-47F8-A617-BEE0185F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B7F-4AE7-4A42-8905-1E025493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55B9-4167-4F49-9CB3-F109ACEC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78FF-A3C8-4F64-A114-BB6C18FD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C233-28A3-4CC0-9CAD-B0AA1ED6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902A-619E-4A17-A9FC-230CC385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56EF-F9E4-4CFD-AE2A-449D9346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9BA5-886B-404A-BEFF-270E188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270-0F5D-4237-9A40-1D7ACEE0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D89A-8172-41CA-B16A-1BC0BD25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AF6D-38B5-4BBF-B8C0-EC6643D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5E08-4798-4592-8B76-2B83D5D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B09E-CAC4-42CF-9DB2-49FA410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0C95-7051-421F-9D08-B7C5239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6EEE-3D40-4B3A-A182-B9D2329C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33B5-4F3E-4297-9AB9-851B6D82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718A-BEF8-4521-8987-0BE5E62E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5B23-A12A-4960-943C-C95484FE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8FB58-359C-42AB-B922-3047781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9C3-EB88-414A-9091-23B5F3D6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D17EB-93D3-4E1B-B6F7-FDC51DB1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5EB6-EDA5-43ED-95F2-BD8BDA2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263E-33B0-4592-A13A-813E82B9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33D4-4278-42CE-81FD-8A2F348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A30E-91C7-47DF-9B83-B24A134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CCF81-5AFE-49A2-BD5B-7804F0E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7BFD-DC42-4CCF-B3FC-3D8DD66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8874-9143-4C60-A128-F705C725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06D6-2DFE-4384-B9AD-9FC56BB5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3B8C-98FD-44E6-8F4D-513BDF52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C49-43F9-46BA-A194-E364E7B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E044-C98F-41FE-8BB6-91E867B6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1BB50-8051-4246-AEC0-53F3492D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F971B-FC87-42CA-BADC-FE771C7D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A2946-0834-4707-85A7-B249981C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E7F9-021C-410E-B40C-BC1F49D1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C4B94-C70F-4148-A80B-F831CDA3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2999-0E3E-4D3B-8166-81AEB9C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60AA-C255-47C9-AF12-599549E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14D3-C678-4FEF-A416-8AA1BF91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612BC-D4D5-444D-8EE3-E3B1C5DA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05C-1D56-46A4-9761-34ECC72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0934-BC75-4121-BDA6-A22F8A27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1007-2BA3-40A1-AA69-E73BE147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4245-AE43-4DBF-B78F-671954D0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C417-5335-4BBE-BFE7-81D66441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9DAD-3256-4774-938A-27BE0D9D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8FDF-083A-4070-9EFD-95FF90CB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ED2F-B0F8-4F6A-A10F-E73A109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2E97-E3F8-4583-A181-A120F608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2063-E23A-49A9-89EF-59AAAE1C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06215-D1F7-4B64-B508-AE1DF51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741-1B1F-4389-9CF0-B8372E9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5A30-C96B-4775-920B-D6733874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BAE4F-EE86-41A1-B24B-71944B1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778D3-F185-4385-9DC8-977B34CE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F0864-98DF-4053-B408-774C216C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976FA-33EA-4235-B076-2C86A57F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15CE-DE90-4CD1-9473-B7CC1C32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E850D-BC7F-4BE4-9A06-0961EA04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75877-7157-4892-8160-DB31ABB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DAE4-60FC-412F-AA38-1181740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4458-C653-410E-AC37-68C0173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708-2886-40A4-BBCB-4CCA7DA1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09C0-09E2-4ADF-916C-9103C199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52AC0-3FD7-4CEE-A162-D2F9CFC7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42E3-3833-42A3-8015-7E087F8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21D5-F26E-4257-8753-F4455D99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D9A4-E993-4D4B-B834-A622503B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A5FC6-283C-4811-990F-5B121326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06A3-1C72-4C21-8AB1-3690FEA2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548C-9021-41AA-ABDA-76746A1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64603-6D23-4196-BBBC-A91196BF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69DA-6299-4E2D-9056-646F2C2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7E6-9F99-4696-9E97-7EE19E2C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5B4A1-ACFF-432B-BF49-51193C7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E62D-D93D-41D7-8377-F8F14DC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178E-D02A-46E7-A785-FCE4F77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FE0A-E06D-4E2B-AEF6-D8913B4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188B-C93E-4D53-8FAB-FC86D054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2A736-E4C4-466F-8E27-0506568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494B3-E844-43BF-B082-A3593257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C2EF7-A673-4968-98C7-9E9CAC9D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1AC06C-F329-4B9B-9245-E7E75B1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A51773-97B3-426C-8058-3B3D32C4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98520" y="-360"/>
            <a:ext cx="4500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3074-D9D0-4614-BD36-390ADBDE7D78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4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pic>
        <p:nvPicPr>
          <p:cNvPr id="13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45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2199960" y="-360"/>
            <a:ext cx="4498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1039-7D08-4CCE-93DD-9DD54739C10E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50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2199960" y="-360"/>
            <a:ext cx="4498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1D0E-BEE7-4968-8561-D4FEBED54F12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55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199960" y="-360"/>
            <a:ext cx="4498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9DE9-5377-4A4D-A64E-60BCB85FDC97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フリーフォーム 25"/>
          <p:cNvSpPr/>
          <p:nvPr/>
        </p:nvSpPr>
        <p:spPr>
          <a:xfrm>
            <a:off x="0" y="4040280"/>
            <a:ext cx="9134640" cy="490320"/>
          </a:xfrm>
          <a:custGeom>
            <a:avLst/>
            <a:gdLst>
              <a:gd name="textAreaLeft" fmla="*/ 0 w 9134640"/>
              <a:gd name="textAreaRight" fmla="*/ 9135000 w 913464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7411" h="398">
                <a:moveTo>
                  <a:pt x="0" y="340"/>
                </a:moveTo>
                <a:lnTo>
                  <a:pt x="332" y="365"/>
                </a:lnTo>
                <a:lnTo>
                  <a:pt x="713" y="382"/>
                </a:lnTo>
                <a:lnTo>
                  <a:pt x="1186" y="390"/>
                </a:lnTo>
                <a:lnTo>
                  <a:pt x="1742" y="398"/>
                </a:lnTo>
                <a:lnTo>
                  <a:pt x="2365" y="390"/>
                </a:lnTo>
                <a:lnTo>
                  <a:pt x="2689" y="382"/>
                </a:lnTo>
                <a:lnTo>
                  <a:pt x="3020" y="373"/>
                </a:lnTo>
                <a:lnTo>
                  <a:pt x="3344" y="348"/>
                </a:lnTo>
                <a:lnTo>
                  <a:pt x="3676" y="324"/>
                </a:lnTo>
                <a:lnTo>
                  <a:pt x="4058" y="257"/>
                </a:lnTo>
                <a:lnTo>
                  <a:pt x="4481" y="199"/>
                </a:lnTo>
                <a:lnTo>
                  <a:pt x="4996" y="133"/>
                </a:lnTo>
                <a:lnTo>
                  <a:pt x="5535" y="66"/>
                </a:lnTo>
                <a:lnTo>
                  <a:pt x="6075" y="25"/>
                </a:lnTo>
                <a:lnTo>
                  <a:pt x="6332" y="8"/>
                </a:lnTo>
                <a:lnTo>
                  <a:pt x="6564" y="0"/>
                </a:lnTo>
                <a:lnTo>
                  <a:pt x="6763" y="0"/>
                </a:lnTo>
                <a:lnTo>
                  <a:pt x="6946" y="17"/>
                </a:lnTo>
                <a:lnTo>
                  <a:pt x="7137" y="41"/>
                </a:lnTo>
                <a:lnTo>
                  <a:pt x="7295" y="58"/>
                </a:lnTo>
                <a:lnTo>
                  <a:pt x="7411" y="66"/>
                </a:lnTo>
              </a:path>
            </a:pathLst>
          </a:custGeom>
          <a:noFill/>
          <a:ln w="9360">
            <a:solidFill>
              <a:srgbClr val="fcd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フリーフォーム 26"/>
          <p:cNvSpPr/>
          <p:nvPr/>
        </p:nvSpPr>
        <p:spPr>
          <a:xfrm>
            <a:off x="0" y="3071880"/>
            <a:ext cx="9144000" cy="111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7411" h="904">
                <a:moveTo>
                  <a:pt x="0" y="887"/>
                </a:moveTo>
                <a:lnTo>
                  <a:pt x="240" y="896"/>
                </a:lnTo>
                <a:lnTo>
                  <a:pt x="888" y="904"/>
                </a:lnTo>
                <a:lnTo>
                  <a:pt x="1327" y="896"/>
                </a:lnTo>
                <a:lnTo>
                  <a:pt x="1817" y="887"/>
                </a:lnTo>
                <a:lnTo>
                  <a:pt x="2381" y="879"/>
                </a:lnTo>
                <a:lnTo>
                  <a:pt x="2971" y="846"/>
                </a:lnTo>
                <a:lnTo>
                  <a:pt x="3585" y="804"/>
                </a:lnTo>
                <a:lnTo>
                  <a:pt x="4199" y="755"/>
                </a:lnTo>
                <a:lnTo>
                  <a:pt x="4821" y="680"/>
                </a:lnTo>
                <a:lnTo>
                  <a:pt x="5128" y="638"/>
                </a:lnTo>
                <a:lnTo>
                  <a:pt x="5427" y="589"/>
                </a:lnTo>
                <a:lnTo>
                  <a:pt x="5718" y="539"/>
                </a:lnTo>
                <a:lnTo>
                  <a:pt x="6000" y="481"/>
                </a:lnTo>
                <a:lnTo>
                  <a:pt x="6274" y="414"/>
                </a:lnTo>
                <a:lnTo>
                  <a:pt x="6531" y="340"/>
                </a:lnTo>
                <a:lnTo>
                  <a:pt x="6780" y="257"/>
                </a:lnTo>
                <a:lnTo>
                  <a:pt x="7004" y="190"/>
                </a:lnTo>
                <a:lnTo>
                  <a:pt x="7220" y="91"/>
                </a:lnTo>
                <a:lnTo>
                  <a:pt x="7411" y="0"/>
                </a:lnTo>
              </a:path>
            </a:pathLst>
          </a:custGeom>
          <a:noFill/>
          <a:ln w="12600">
            <a:solidFill>
              <a:srgbClr val="de9e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フリーフォーム 27"/>
          <p:cNvSpPr/>
          <p:nvPr/>
        </p:nvSpPr>
        <p:spPr>
          <a:xfrm>
            <a:off x="0" y="3952800"/>
            <a:ext cx="9144000" cy="368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411" h="299">
                <a:moveTo>
                  <a:pt x="0" y="17"/>
                </a:moveTo>
                <a:lnTo>
                  <a:pt x="581" y="33"/>
                </a:lnTo>
                <a:lnTo>
                  <a:pt x="1933" y="75"/>
                </a:lnTo>
                <a:lnTo>
                  <a:pt x="2747" y="116"/>
                </a:lnTo>
                <a:lnTo>
                  <a:pt x="3552" y="141"/>
                </a:lnTo>
                <a:lnTo>
                  <a:pt x="4265" y="182"/>
                </a:lnTo>
                <a:lnTo>
                  <a:pt x="4581" y="216"/>
                </a:lnTo>
                <a:lnTo>
                  <a:pt x="4838" y="241"/>
                </a:lnTo>
                <a:lnTo>
                  <a:pt x="5145" y="274"/>
                </a:lnTo>
                <a:lnTo>
                  <a:pt x="5477" y="290"/>
                </a:lnTo>
                <a:lnTo>
                  <a:pt x="5875" y="299"/>
                </a:lnTo>
                <a:lnTo>
                  <a:pt x="6083" y="299"/>
                </a:lnTo>
                <a:lnTo>
                  <a:pt x="6290" y="290"/>
                </a:lnTo>
                <a:lnTo>
                  <a:pt x="6514" y="265"/>
                </a:lnTo>
                <a:lnTo>
                  <a:pt x="6722" y="232"/>
                </a:lnTo>
                <a:lnTo>
                  <a:pt x="6921" y="199"/>
                </a:lnTo>
                <a:lnTo>
                  <a:pt x="7104" y="141"/>
                </a:lnTo>
                <a:lnTo>
                  <a:pt x="7187" y="116"/>
                </a:lnTo>
                <a:lnTo>
                  <a:pt x="7270" y="83"/>
                </a:lnTo>
                <a:lnTo>
                  <a:pt x="7344" y="41"/>
                </a:lnTo>
                <a:lnTo>
                  <a:pt x="7411" y="0"/>
                </a:lnTo>
              </a:path>
            </a:pathLst>
          </a:custGeom>
          <a:noFill/>
          <a:ln w="9360">
            <a:solidFill>
              <a:srgbClr val="f9b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フリーフォーム 28"/>
          <p:cNvSpPr/>
          <p:nvPr/>
        </p:nvSpPr>
        <p:spPr>
          <a:xfrm>
            <a:off x="0" y="3809880"/>
            <a:ext cx="9144000" cy="490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411" h="398">
                <a:moveTo>
                  <a:pt x="0" y="340"/>
                </a:moveTo>
                <a:lnTo>
                  <a:pt x="332" y="365"/>
                </a:lnTo>
                <a:lnTo>
                  <a:pt x="713" y="382"/>
                </a:lnTo>
                <a:lnTo>
                  <a:pt x="1186" y="390"/>
                </a:lnTo>
                <a:lnTo>
                  <a:pt x="1742" y="398"/>
                </a:lnTo>
                <a:lnTo>
                  <a:pt x="2365" y="390"/>
                </a:lnTo>
                <a:lnTo>
                  <a:pt x="2689" y="382"/>
                </a:lnTo>
                <a:lnTo>
                  <a:pt x="3020" y="373"/>
                </a:lnTo>
                <a:lnTo>
                  <a:pt x="3344" y="348"/>
                </a:lnTo>
                <a:lnTo>
                  <a:pt x="3676" y="324"/>
                </a:lnTo>
                <a:lnTo>
                  <a:pt x="4058" y="257"/>
                </a:lnTo>
                <a:lnTo>
                  <a:pt x="4481" y="199"/>
                </a:lnTo>
                <a:lnTo>
                  <a:pt x="4996" y="133"/>
                </a:lnTo>
                <a:lnTo>
                  <a:pt x="5535" y="66"/>
                </a:lnTo>
                <a:lnTo>
                  <a:pt x="6075" y="25"/>
                </a:lnTo>
                <a:lnTo>
                  <a:pt x="6332" y="8"/>
                </a:lnTo>
                <a:lnTo>
                  <a:pt x="6564" y="0"/>
                </a:lnTo>
                <a:lnTo>
                  <a:pt x="6763" y="0"/>
                </a:lnTo>
                <a:lnTo>
                  <a:pt x="6946" y="17"/>
                </a:lnTo>
                <a:lnTo>
                  <a:pt x="7137" y="41"/>
                </a:lnTo>
                <a:lnTo>
                  <a:pt x="7295" y="58"/>
                </a:lnTo>
                <a:lnTo>
                  <a:pt x="7411" y="66"/>
                </a:lnTo>
              </a:path>
            </a:pathLst>
          </a:cu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フリーフォーム 29"/>
          <p:cNvSpPr/>
          <p:nvPr/>
        </p:nvSpPr>
        <p:spPr>
          <a:xfrm>
            <a:off x="0" y="4091040"/>
            <a:ext cx="9144000" cy="480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7411" h="390">
                <a:moveTo>
                  <a:pt x="0" y="92"/>
                </a:moveTo>
                <a:lnTo>
                  <a:pt x="265" y="141"/>
                </a:lnTo>
                <a:lnTo>
                  <a:pt x="589" y="191"/>
                </a:lnTo>
                <a:lnTo>
                  <a:pt x="1029" y="249"/>
                </a:lnTo>
                <a:lnTo>
                  <a:pt x="1585" y="307"/>
                </a:lnTo>
                <a:lnTo>
                  <a:pt x="1883" y="332"/>
                </a:lnTo>
                <a:lnTo>
                  <a:pt x="2224" y="349"/>
                </a:lnTo>
                <a:lnTo>
                  <a:pt x="2589" y="374"/>
                </a:lnTo>
                <a:lnTo>
                  <a:pt x="2979" y="382"/>
                </a:lnTo>
                <a:lnTo>
                  <a:pt x="3386" y="390"/>
                </a:lnTo>
                <a:lnTo>
                  <a:pt x="3809" y="390"/>
                </a:lnTo>
                <a:lnTo>
                  <a:pt x="4199" y="382"/>
                </a:lnTo>
                <a:lnTo>
                  <a:pt x="5120" y="349"/>
                </a:lnTo>
                <a:lnTo>
                  <a:pt x="5651" y="332"/>
                </a:lnTo>
                <a:lnTo>
                  <a:pt x="6174" y="299"/>
                </a:lnTo>
                <a:lnTo>
                  <a:pt x="6639" y="258"/>
                </a:lnTo>
                <a:lnTo>
                  <a:pt x="6830" y="233"/>
                </a:lnTo>
                <a:lnTo>
                  <a:pt x="6987" y="216"/>
                </a:lnTo>
                <a:lnTo>
                  <a:pt x="7046" y="191"/>
                </a:lnTo>
                <a:lnTo>
                  <a:pt x="7178" y="141"/>
                </a:lnTo>
                <a:lnTo>
                  <a:pt x="7253" y="108"/>
                </a:lnTo>
                <a:lnTo>
                  <a:pt x="7319" y="67"/>
                </a:lnTo>
                <a:lnTo>
                  <a:pt x="7378" y="34"/>
                </a:lnTo>
                <a:lnTo>
                  <a:pt x="7411" y="0"/>
                </a:lnTo>
              </a:path>
            </a:pathLst>
          </a:cu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フリーフォーム 31"/>
          <p:cNvSpPr/>
          <p:nvPr/>
        </p:nvSpPr>
        <p:spPr>
          <a:xfrm>
            <a:off x="0" y="4325760"/>
            <a:ext cx="9144000" cy="552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11" h="448">
                <a:moveTo>
                  <a:pt x="0" y="448"/>
                </a:moveTo>
                <a:lnTo>
                  <a:pt x="896" y="349"/>
                </a:lnTo>
                <a:lnTo>
                  <a:pt x="1850" y="258"/>
                </a:lnTo>
                <a:lnTo>
                  <a:pt x="3012" y="150"/>
                </a:lnTo>
                <a:lnTo>
                  <a:pt x="3635" y="108"/>
                </a:lnTo>
                <a:lnTo>
                  <a:pt x="4257" y="67"/>
                </a:lnTo>
                <a:lnTo>
                  <a:pt x="4879" y="34"/>
                </a:lnTo>
                <a:lnTo>
                  <a:pt x="5477" y="9"/>
                </a:lnTo>
                <a:lnTo>
                  <a:pt x="6050" y="0"/>
                </a:lnTo>
                <a:lnTo>
                  <a:pt x="6572" y="9"/>
                </a:lnTo>
                <a:lnTo>
                  <a:pt x="6813" y="17"/>
                </a:lnTo>
                <a:lnTo>
                  <a:pt x="7029" y="34"/>
                </a:lnTo>
                <a:lnTo>
                  <a:pt x="7228" y="50"/>
                </a:lnTo>
                <a:lnTo>
                  <a:pt x="7411" y="83"/>
                </a:lnTo>
              </a:path>
            </a:pathLst>
          </a:custGeom>
          <a:noFill/>
          <a:ln w="1260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フリーフォーム 35"/>
          <p:cNvSpPr/>
          <p:nvPr/>
        </p:nvSpPr>
        <p:spPr>
          <a:xfrm>
            <a:off x="142920" y="4071960"/>
            <a:ext cx="9001080" cy="492120"/>
          </a:xfrm>
          <a:custGeom>
            <a:avLst/>
            <a:gdLst>
              <a:gd name="textAreaLeft" fmla="*/ 0 w 9001080"/>
              <a:gd name="textAreaRight" fmla="*/ 9001440 w 90010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7411" h="398">
                <a:moveTo>
                  <a:pt x="0" y="340"/>
                </a:moveTo>
                <a:lnTo>
                  <a:pt x="332" y="365"/>
                </a:lnTo>
                <a:lnTo>
                  <a:pt x="713" y="382"/>
                </a:lnTo>
                <a:lnTo>
                  <a:pt x="1186" y="390"/>
                </a:lnTo>
                <a:lnTo>
                  <a:pt x="1742" y="398"/>
                </a:lnTo>
                <a:lnTo>
                  <a:pt x="2365" y="390"/>
                </a:lnTo>
                <a:lnTo>
                  <a:pt x="2689" y="382"/>
                </a:lnTo>
                <a:lnTo>
                  <a:pt x="3020" y="373"/>
                </a:lnTo>
                <a:lnTo>
                  <a:pt x="3344" y="348"/>
                </a:lnTo>
                <a:lnTo>
                  <a:pt x="3676" y="324"/>
                </a:lnTo>
                <a:lnTo>
                  <a:pt x="4058" y="257"/>
                </a:lnTo>
                <a:lnTo>
                  <a:pt x="4481" y="199"/>
                </a:lnTo>
                <a:lnTo>
                  <a:pt x="4996" y="133"/>
                </a:lnTo>
                <a:lnTo>
                  <a:pt x="5535" y="66"/>
                </a:lnTo>
                <a:lnTo>
                  <a:pt x="6075" y="25"/>
                </a:lnTo>
                <a:lnTo>
                  <a:pt x="6332" y="8"/>
                </a:lnTo>
                <a:lnTo>
                  <a:pt x="6564" y="0"/>
                </a:lnTo>
                <a:lnTo>
                  <a:pt x="6763" y="0"/>
                </a:lnTo>
                <a:lnTo>
                  <a:pt x="6946" y="17"/>
                </a:lnTo>
                <a:lnTo>
                  <a:pt x="7137" y="41"/>
                </a:lnTo>
                <a:lnTo>
                  <a:pt x="7295" y="58"/>
                </a:lnTo>
                <a:lnTo>
                  <a:pt x="7411" y="66"/>
                </a:lnTo>
              </a:path>
            </a:pathLst>
          </a:cu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フリーフォーム 36"/>
          <p:cNvSpPr/>
          <p:nvPr/>
        </p:nvSpPr>
        <p:spPr>
          <a:xfrm>
            <a:off x="152280" y="4019400"/>
            <a:ext cx="8991720" cy="481320"/>
          </a:xfrm>
          <a:custGeom>
            <a:avLst/>
            <a:gdLst>
              <a:gd name="textAreaLeft" fmla="*/ 0 w 8991720"/>
              <a:gd name="textAreaRight" fmla="*/ 8992080 w 899172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7411" h="390">
                <a:moveTo>
                  <a:pt x="0" y="92"/>
                </a:moveTo>
                <a:lnTo>
                  <a:pt x="265" y="141"/>
                </a:lnTo>
                <a:lnTo>
                  <a:pt x="589" y="191"/>
                </a:lnTo>
                <a:lnTo>
                  <a:pt x="1029" y="249"/>
                </a:lnTo>
                <a:lnTo>
                  <a:pt x="1585" y="307"/>
                </a:lnTo>
                <a:lnTo>
                  <a:pt x="1883" y="332"/>
                </a:lnTo>
                <a:lnTo>
                  <a:pt x="2224" y="349"/>
                </a:lnTo>
                <a:lnTo>
                  <a:pt x="2589" y="374"/>
                </a:lnTo>
                <a:lnTo>
                  <a:pt x="2979" y="382"/>
                </a:lnTo>
                <a:lnTo>
                  <a:pt x="3386" y="390"/>
                </a:lnTo>
                <a:lnTo>
                  <a:pt x="3809" y="390"/>
                </a:lnTo>
                <a:lnTo>
                  <a:pt x="4199" y="382"/>
                </a:lnTo>
                <a:lnTo>
                  <a:pt x="5120" y="349"/>
                </a:lnTo>
                <a:lnTo>
                  <a:pt x="5651" y="332"/>
                </a:lnTo>
                <a:lnTo>
                  <a:pt x="6174" y="299"/>
                </a:lnTo>
                <a:lnTo>
                  <a:pt x="6639" y="258"/>
                </a:lnTo>
                <a:lnTo>
                  <a:pt x="6830" y="233"/>
                </a:lnTo>
                <a:lnTo>
                  <a:pt x="6987" y="216"/>
                </a:lnTo>
                <a:lnTo>
                  <a:pt x="7046" y="191"/>
                </a:lnTo>
                <a:lnTo>
                  <a:pt x="7178" y="141"/>
                </a:lnTo>
                <a:lnTo>
                  <a:pt x="7253" y="108"/>
                </a:lnTo>
                <a:lnTo>
                  <a:pt x="7319" y="67"/>
                </a:lnTo>
                <a:lnTo>
                  <a:pt x="7378" y="34"/>
                </a:lnTo>
                <a:lnTo>
                  <a:pt x="7411" y="0"/>
                </a:lnTo>
              </a:path>
            </a:pathLst>
          </a:custGeom>
          <a:noFill/>
          <a:ln w="9360">
            <a:solidFill>
              <a:srgbClr val="fcd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フリーフォーム 37"/>
          <p:cNvSpPr/>
          <p:nvPr/>
        </p:nvSpPr>
        <p:spPr>
          <a:xfrm>
            <a:off x="142920" y="3714840"/>
            <a:ext cx="9001080" cy="492120"/>
          </a:xfrm>
          <a:custGeom>
            <a:avLst/>
            <a:gdLst>
              <a:gd name="textAreaLeft" fmla="*/ 0 w 9001080"/>
              <a:gd name="textAreaRight" fmla="*/ 9001440 w 90010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7411" h="398">
                <a:moveTo>
                  <a:pt x="0" y="340"/>
                </a:moveTo>
                <a:lnTo>
                  <a:pt x="332" y="365"/>
                </a:lnTo>
                <a:lnTo>
                  <a:pt x="713" y="382"/>
                </a:lnTo>
                <a:lnTo>
                  <a:pt x="1186" y="390"/>
                </a:lnTo>
                <a:lnTo>
                  <a:pt x="1742" y="398"/>
                </a:lnTo>
                <a:lnTo>
                  <a:pt x="2365" y="390"/>
                </a:lnTo>
                <a:lnTo>
                  <a:pt x="2689" y="382"/>
                </a:lnTo>
                <a:lnTo>
                  <a:pt x="3020" y="373"/>
                </a:lnTo>
                <a:lnTo>
                  <a:pt x="3344" y="348"/>
                </a:lnTo>
                <a:lnTo>
                  <a:pt x="3676" y="324"/>
                </a:lnTo>
                <a:lnTo>
                  <a:pt x="4058" y="257"/>
                </a:lnTo>
                <a:lnTo>
                  <a:pt x="4481" y="199"/>
                </a:lnTo>
                <a:lnTo>
                  <a:pt x="4996" y="133"/>
                </a:lnTo>
                <a:lnTo>
                  <a:pt x="5535" y="66"/>
                </a:lnTo>
                <a:lnTo>
                  <a:pt x="6075" y="25"/>
                </a:lnTo>
                <a:lnTo>
                  <a:pt x="6332" y="8"/>
                </a:lnTo>
                <a:lnTo>
                  <a:pt x="6564" y="0"/>
                </a:lnTo>
                <a:lnTo>
                  <a:pt x="6763" y="0"/>
                </a:lnTo>
                <a:lnTo>
                  <a:pt x="6946" y="17"/>
                </a:lnTo>
                <a:lnTo>
                  <a:pt x="7137" y="41"/>
                </a:lnTo>
                <a:lnTo>
                  <a:pt x="7295" y="58"/>
                </a:lnTo>
                <a:lnTo>
                  <a:pt x="7411" y="66"/>
                </a:lnTo>
              </a:path>
            </a:pathLst>
          </a:custGeom>
          <a:noFill/>
          <a:ln w="9360">
            <a:solidFill>
              <a:srgbClr val="fcd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フリーフォーム 38"/>
          <p:cNvSpPr/>
          <p:nvPr/>
        </p:nvSpPr>
        <p:spPr>
          <a:xfrm>
            <a:off x="152280" y="3881520"/>
            <a:ext cx="8991720" cy="480960"/>
          </a:xfrm>
          <a:custGeom>
            <a:avLst/>
            <a:gdLst>
              <a:gd name="textAreaLeft" fmla="*/ 0 w 8991720"/>
              <a:gd name="textAreaRight" fmla="*/ 8992080 w 89917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7411" h="390">
                <a:moveTo>
                  <a:pt x="0" y="92"/>
                </a:moveTo>
                <a:lnTo>
                  <a:pt x="265" y="141"/>
                </a:lnTo>
                <a:lnTo>
                  <a:pt x="589" y="191"/>
                </a:lnTo>
                <a:lnTo>
                  <a:pt x="1029" y="249"/>
                </a:lnTo>
                <a:lnTo>
                  <a:pt x="1585" y="307"/>
                </a:lnTo>
                <a:lnTo>
                  <a:pt x="1883" y="332"/>
                </a:lnTo>
                <a:lnTo>
                  <a:pt x="2224" y="349"/>
                </a:lnTo>
                <a:lnTo>
                  <a:pt x="2589" y="374"/>
                </a:lnTo>
                <a:lnTo>
                  <a:pt x="2979" y="382"/>
                </a:lnTo>
                <a:lnTo>
                  <a:pt x="3386" y="390"/>
                </a:lnTo>
                <a:lnTo>
                  <a:pt x="3809" y="390"/>
                </a:lnTo>
                <a:lnTo>
                  <a:pt x="4199" y="382"/>
                </a:lnTo>
                <a:lnTo>
                  <a:pt x="5120" y="349"/>
                </a:lnTo>
                <a:lnTo>
                  <a:pt x="5651" y="332"/>
                </a:lnTo>
                <a:lnTo>
                  <a:pt x="6174" y="299"/>
                </a:lnTo>
                <a:lnTo>
                  <a:pt x="6639" y="258"/>
                </a:lnTo>
                <a:lnTo>
                  <a:pt x="6830" y="233"/>
                </a:lnTo>
                <a:lnTo>
                  <a:pt x="6987" y="216"/>
                </a:lnTo>
                <a:lnTo>
                  <a:pt x="7046" y="191"/>
                </a:lnTo>
                <a:lnTo>
                  <a:pt x="7178" y="141"/>
                </a:lnTo>
                <a:lnTo>
                  <a:pt x="7253" y="108"/>
                </a:lnTo>
                <a:lnTo>
                  <a:pt x="7319" y="67"/>
                </a:lnTo>
                <a:lnTo>
                  <a:pt x="7378" y="34"/>
                </a:lnTo>
                <a:lnTo>
                  <a:pt x="7411" y="0"/>
                </a:lnTo>
              </a:path>
            </a:pathLst>
          </a:cu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グループ化 14" descr=""/>
          <p:cNvPicPr/>
          <p:nvPr/>
        </p:nvPicPr>
        <p:blipFill>
          <a:blip r:embed="rId3"/>
          <a:stretch/>
        </p:blipFill>
        <p:spPr>
          <a:xfrm>
            <a:off x="7523280" y="3865680"/>
            <a:ext cx="1554120" cy="1438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5F4-EA30-4664-8715-F344890105C2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103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F91-54E3-4D43-9F44-C305C3240BE9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グループ化 25"/>
          <p:cNvGrpSpPr/>
          <p:nvPr/>
        </p:nvGrpSpPr>
        <p:grpSpPr>
          <a:xfrm>
            <a:off x="-15840" y="0"/>
            <a:ext cx="9144000" cy="6858000"/>
            <a:chOff x="-15840" y="0"/>
            <a:chExt cx="9144000" cy="6858000"/>
          </a:xfrm>
        </p:grpSpPr>
        <p:sp>
          <p:nvSpPr>
            <p:cNvPr id="153" name="フリーフォーム 26"/>
            <p:cNvSpPr/>
            <p:nvPr/>
          </p:nvSpPr>
          <p:spPr>
            <a:xfrm>
              <a:off x="-3960" y="0"/>
              <a:ext cx="8600760" cy="6442200"/>
            </a:xfrm>
            <a:custGeom>
              <a:avLst/>
              <a:gdLst>
                <a:gd name="textAreaLeft" fmla="*/ 0 w 8600760"/>
                <a:gd name="textAreaRight" fmla="*/ 8601120 w 8600760"/>
                <a:gd name="textAreaTop" fmla="*/ 0 h 6442200"/>
                <a:gd name="textAreaBottom" fmla="*/ 6442560 h 6442200"/>
              </a:gdLst>
              <a:ahLst/>
              <a:rect l="textAreaLeft" t="textAreaTop" r="textAreaRight" b="textAreaBottom"/>
              <a:pathLst>
                <a:path w="5811" h="4091">
                  <a:moveTo>
                    <a:pt x="0" y="4069"/>
                  </a:moveTo>
                  <a:lnTo>
                    <a:pt x="161" y="4084"/>
                  </a:lnTo>
                  <a:lnTo>
                    <a:pt x="344" y="4084"/>
                  </a:lnTo>
                  <a:lnTo>
                    <a:pt x="593" y="4091"/>
                  </a:lnTo>
                  <a:lnTo>
                    <a:pt x="893" y="4084"/>
                  </a:lnTo>
                  <a:lnTo>
                    <a:pt x="1230" y="4069"/>
                  </a:lnTo>
                  <a:lnTo>
                    <a:pt x="1588" y="4033"/>
                  </a:lnTo>
                  <a:lnTo>
                    <a:pt x="1991" y="3996"/>
                  </a:lnTo>
                  <a:lnTo>
                    <a:pt x="2196" y="3959"/>
                  </a:lnTo>
                  <a:lnTo>
                    <a:pt x="2408" y="3923"/>
                  </a:lnTo>
                  <a:lnTo>
                    <a:pt x="2613" y="3879"/>
                  </a:lnTo>
                  <a:lnTo>
                    <a:pt x="2832" y="3828"/>
                  </a:lnTo>
                  <a:lnTo>
                    <a:pt x="3052" y="3776"/>
                  </a:lnTo>
                  <a:lnTo>
                    <a:pt x="3257" y="3718"/>
                  </a:lnTo>
                  <a:lnTo>
                    <a:pt x="3469" y="3645"/>
                  </a:lnTo>
                  <a:lnTo>
                    <a:pt x="3681" y="3572"/>
                  </a:lnTo>
                  <a:lnTo>
                    <a:pt x="3886" y="3484"/>
                  </a:lnTo>
                  <a:lnTo>
                    <a:pt x="4084" y="3381"/>
                  </a:lnTo>
                  <a:lnTo>
                    <a:pt x="4274" y="3279"/>
                  </a:lnTo>
                  <a:lnTo>
                    <a:pt x="4465" y="3169"/>
                  </a:lnTo>
                  <a:lnTo>
                    <a:pt x="4648" y="3037"/>
                  </a:lnTo>
                  <a:lnTo>
                    <a:pt x="4816" y="2898"/>
                  </a:lnTo>
                  <a:lnTo>
                    <a:pt x="4970" y="2759"/>
                  </a:lnTo>
                  <a:lnTo>
                    <a:pt x="5123" y="2591"/>
                  </a:lnTo>
                  <a:lnTo>
                    <a:pt x="5189" y="2510"/>
                  </a:lnTo>
                  <a:lnTo>
                    <a:pt x="5262" y="2415"/>
                  </a:lnTo>
                  <a:lnTo>
                    <a:pt x="5350" y="2269"/>
                  </a:lnTo>
                  <a:lnTo>
                    <a:pt x="5453" y="2093"/>
                  </a:lnTo>
                  <a:lnTo>
                    <a:pt x="5555" y="1873"/>
                  </a:lnTo>
                  <a:lnTo>
                    <a:pt x="5606" y="1756"/>
                  </a:lnTo>
                  <a:lnTo>
                    <a:pt x="5658" y="1625"/>
                  </a:lnTo>
                  <a:lnTo>
                    <a:pt x="5709" y="1485"/>
                  </a:lnTo>
                  <a:lnTo>
                    <a:pt x="5745" y="1332"/>
                  </a:lnTo>
                  <a:lnTo>
                    <a:pt x="5775" y="1207"/>
                  </a:lnTo>
                  <a:lnTo>
                    <a:pt x="5789" y="1068"/>
                  </a:lnTo>
                  <a:lnTo>
                    <a:pt x="5804" y="893"/>
                  </a:lnTo>
                  <a:lnTo>
                    <a:pt x="5811" y="790"/>
                  </a:lnTo>
                  <a:lnTo>
                    <a:pt x="5804" y="695"/>
                  </a:lnTo>
                  <a:lnTo>
                    <a:pt x="5797" y="578"/>
                  </a:lnTo>
                  <a:lnTo>
                    <a:pt x="5782" y="461"/>
                  </a:lnTo>
                  <a:lnTo>
                    <a:pt x="5760" y="344"/>
                  </a:lnTo>
                  <a:lnTo>
                    <a:pt x="5738" y="227"/>
                  </a:lnTo>
                  <a:lnTo>
                    <a:pt x="5694" y="109"/>
                  </a:lnTo>
                  <a:lnTo>
                    <a:pt x="5643" y="0"/>
                  </a:lnTo>
                </a:path>
              </a:pathLst>
            </a:cu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フリーフォーム 27"/>
            <p:cNvSpPr/>
            <p:nvPr/>
          </p:nvSpPr>
          <p:spPr>
            <a:xfrm>
              <a:off x="-15840" y="0"/>
              <a:ext cx="9144000" cy="668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6684480"/>
                <a:gd name="textAreaBottom" fmla="*/ 6684840 h 6684480"/>
              </a:gdLst>
              <a:ahLst/>
              <a:rect l="textAreaLeft" t="textAreaTop" r="textAreaRight" b="textAreaBottom"/>
              <a:pathLst>
                <a:path w="6177" h="4245">
                  <a:moveTo>
                    <a:pt x="0" y="4238"/>
                  </a:moveTo>
                  <a:lnTo>
                    <a:pt x="161" y="4245"/>
                  </a:lnTo>
                  <a:lnTo>
                    <a:pt x="607" y="4245"/>
                  </a:lnTo>
                  <a:lnTo>
                    <a:pt x="915" y="4238"/>
                  </a:lnTo>
                  <a:lnTo>
                    <a:pt x="1266" y="4223"/>
                  </a:lnTo>
                  <a:lnTo>
                    <a:pt x="1632" y="4208"/>
                  </a:lnTo>
                  <a:lnTo>
                    <a:pt x="2034" y="4172"/>
                  </a:lnTo>
                  <a:lnTo>
                    <a:pt x="2459" y="4135"/>
                  </a:lnTo>
                  <a:lnTo>
                    <a:pt x="2891" y="4069"/>
                  </a:lnTo>
                  <a:lnTo>
                    <a:pt x="3096" y="4033"/>
                  </a:lnTo>
                  <a:lnTo>
                    <a:pt x="3308" y="4003"/>
                  </a:lnTo>
                  <a:lnTo>
                    <a:pt x="3513" y="3952"/>
                  </a:lnTo>
                  <a:lnTo>
                    <a:pt x="3718" y="3901"/>
                  </a:lnTo>
                  <a:lnTo>
                    <a:pt x="3915" y="3850"/>
                  </a:lnTo>
                  <a:lnTo>
                    <a:pt x="4098" y="3791"/>
                  </a:lnTo>
                  <a:lnTo>
                    <a:pt x="4289" y="3725"/>
                  </a:lnTo>
                  <a:lnTo>
                    <a:pt x="4464" y="3652"/>
                  </a:lnTo>
                  <a:lnTo>
                    <a:pt x="4625" y="3586"/>
                  </a:lnTo>
                  <a:lnTo>
                    <a:pt x="4779" y="3498"/>
                  </a:lnTo>
                  <a:lnTo>
                    <a:pt x="4925" y="3410"/>
                  </a:lnTo>
                  <a:lnTo>
                    <a:pt x="5050" y="3308"/>
                  </a:lnTo>
                  <a:lnTo>
                    <a:pt x="5094" y="3271"/>
                  </a:lnTo>
                  <a:lnTo>
                    <a:pt x="5204" y="3154"/>
                  </a:lnTo>
                  <a:lnTo>
                    <a:pt x="5372" y="2971"/>
                  </a:lnTo>
                  <a:lnTo>
                    <a:pt x="5467" y="2862"/>
                  </a:lnTo>
                  <a:lnTo>
                    <a:pt x="5562" y="2722"/>
                  </a:lnTo>
                  <a:lnTo>
                    <a:pt x="5665" y="2583"/>
                  </a:lnTo>
                  <a:lnTo>
                    <a:pt x="5760" y="2422"/>
                  </a:lnTo>
                  <a:lnTo>
                    <a:pt x="5855" y="2247"/>
                  </a:lnTo>
                  <a:lnTo>
                    <a:pt x="5943" y="2071"/>
                  </a:lnTo>
                  <a:lnTo>
                    <a:pt x="6023" y="1881"/>
                  </a:lnTo>
                  <a:lnTo>
                    <a:pt x="6089" y="1683"/>
                  </a:lnTo>
                  <a:lnTo>
                    <a:pt x="6118" y="1573"/>
                  </a:lnTo>
                  <a:lnTo>
                    <a:pt x="6140" y="1471"/>
                  </a:lnTo>
                  <a:lnTo>
                    <a:pt x="6162" y="1361"/>
                  </a:lnTo>
                  <a:lnTo>
                    <a:pt x="6170" y="1244"/>
                  </a:lnTo>
                  <a:lnTo>
                    <a:pt x="6177" y="1105"/>
                  </a:lnTo>
                  <a:lnTo>
                    <a:pt x="6177" y="944"/>
                  </a:lnTo>
                  <a:lnTo>
                    <a:pt x="6170" y="754"/>
                  </a:lnTo>
                  <a:lnTo>
                    <a:pt x="6155" y="658"/>
                  </a:lnTo>
                  <a:lnTo>
                    <a:pt x="6133" y="549"/>
                  </a:lnTo>
                  <a:lnTo>
                    <a:pt x="6104" y="446"/>
                  </a:lnTo>
                  <a:lnTo>
                    <a:pt x="6075" y="344"/>
                  </a:lnTo>
                  <a:lnTo>
                    <a:pt x="6031" y="241"/>
                  </a:lnTo>
                  <a:lnTo>
                    <a:pt x="5987" y="153"/>
                  </a:lnTo>
                  <a:lnTo>
                    <a:pt x="5928" y="73"/>
                  </a:lnTo>
                  <a:lnTo>
                    <a:pt x="5862" y="0"/>
                  </a:lnTo>
                </a:path>
              </a:pathLst>
            </a:cu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フリーフォーム 28"/>
            <p:cNvSpPr/>
            <p:nvPr/>
          </p:nvSpPr>
          <p:spPr>
            <a:xfrm>
              <a:off x="-15840" y="2730240"/>
              <a:ext cx="9132120" cy="3804480"/>
            </a:xfrm>
            <a:custGeom>
              <a:avLst/>
              <a:gdLst>
                <a:gd name="textAreaLeft" fmla="*/ 0 w 9132120"/>
                <a:gd name="textAreaRight" fmla="*/ 9132480 w 9132120"/>
                <a:gd name="textAreaTop" fmla="*/ 0 h 3804480"/>
                <a:gd name="textAreaBottom" fmla="*/ 3804840 h 3804480"/>
              </a:gdLst>
              <a:ahLst/>
              <a:rect l="textAreaLeft" t="textAreaTop" r="textAreaRight" b="textAreaBottom"/>
              <a:pathLst>
                <a:path w="6170" h="2416">
                  <a:moveTo>
                    <a:pt x="0" y="2203"/>
                  </a:moveTo>
                  <a:lnTo>
                    <a:pt x="161" y="2233"/>
                  </a:lnTo>
                  <a:lnTo>
                    <a:pt x="600" y="2299"/>
                  </a:lnTo>
                  <a:lnTo>
                    <a:pt x="907" y="2335"/>
                  </a:lnTo>
                  <a:lnTo>
                    <a:pt x="1251" y="2365"/>
                  </a:lnTo>
                  <a:lnTo>
                    <a:pt x="1624" y="2394"/>
                  </a:lnTo>
                  <a:lnTo>
                    <a:pt x="2034" y="2408"/>
                  </a:lnTo>
                  <a:lnTo>
                    <a:pt x="2452" y="2416"/>
                  </a:lnTo>
                  <a:lnTo>
                    <a:pt x="2671" y="2416"/>
                  </a:lnTo>
                  <a:lnTo>
                    <a:pt x="2883" y="2401"/>
                  </a:lnTo>
                  <a:lnTo>
                    <a:pt x="3096" y="2394"/>
                  </a:lnTo>
                  <a:lnTo>
                    <a:pt x="3308" y="2379"/>
                  </a:lnTo>
                  <a:lnTo>
                    <a:pt x="3520" y="2357"/>
                  </a:lnTo>
                  <a:lnTo>
                    <a:pt x="3725" y="2328"/>
                  </a:lnTo>
                  <a:lnTo>
                    <a:pt x="3930" y="2291"/>
                  </a:lnTo>
                  <a:lnTo>
                    <a:pt x="4128" y="2247"/>
                  </a:lnTo>
                  <a:lnTo>
                    <a:pt x="4318" y="2196"/>
                  </a:lnTo>
                  <a:lnTo>
                    <a:pt x="4501" y="2138"/>
                  </a:lnTo>
                  <a:lnTo>
                    <a:pt x="4677" y="2072"/>
                  </a:lnTo>
                  <a:lnTo>
                    <a:pt x="4838" y="1991"/>
                  </a:lnTo>
                  <a:lnTo>
                    <a:pt x="4991" y="1911"/>
                  </a:lnTo>
                  <a:lnTo>
                    <a:pt x="5130" y="1816"/>
                  </a:lnTo>
                  <a:lnTo>
                    <a:pt x="5167" y="1786"/>
                  </a:lnTo>
                  <a:lnTo>
                    <a:pt x="5269" y="1684"/>
                  </a:lnTo>
                  <a:lnTo>
                    <a:pt x="5430" y="1530"/>
                  </a:lnTo>
                  <a:lnTo>
                    <a:pt x="5511" y="1435"/>
                  </a:lnTo>
                  <a:lnTo>
                    <a:pt x="5613" y="1318"/>
                  </a:lnTo>
                  <a:lnTo>
                    <a:pt x="5701" y="1193"/>
                  </a:lnTo>
                  <a:lnTo>
                    <a:pt x="5789" y="1054"/>
                  </a:lnTo>
                  <a:lnTo>
                    <a:pt x="5884" y="908"/>
                  </a:lnTo>
                  <a:lnTo>
                    <a:pt x="5957" y="747"/>
                  </a:lnTo>
                  <a:lnTo>
                    <a:pt x="6031" y="571"/>
                  </a:lnTo>
                  <a:lnTo>
                    <a:pt x="6096" y="396"/>
                  </a:lnTo>
                  <a:lnTo>
                    <a:pt x="6140" y="205"/>
                  </a:lnTo>
                  <a:lnTo>
                    <a:pt x="6162" y="103"/>
                  </a:lnTo>
                  <a:lnTo>
                    <a:pt x="6170" y="0"/>
                  </a:lnTo>
                </a:path>
              </a:pathLst>
            </a:cu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フリーフォーム 29"/>
            <p:cNvSpPr/>
            <p:nvPr/>
          </p:nvSpPr>
          <p:spPr>
            <a:xfrm>
              <a:off x="4966560" y="0"/>
              <a:ext cx="3792600" cy="6858000"/>
            </a:xfrm>
            <a:custGeom>
              <a:avLst/>
              <a:gdLst>
                <a:gd name="textAreaLeft" fmla="*/ 0 w 3792600"/>
                <a:gd name="textAreaRight" fmla="*/ 3792960 w 379260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2562" h="4355">
                  <a:moveTo>
                    <a:pt x="2108" y="0"/>
                  </a:moveTo>
                  <a:lnTo>
                    <a:pt x="2145" y="73"/>
                  </a:lnTo>
                  <a:lnTo>
                    <a:pt x="2196" y="175"/>
                  </a:lnTo>
                  <a:lnTo>
                    <a:pt x="2247" y="300"/>
                  </a:lnTo>
                  <a:lnTo>
                    <a:pt x="2321" y="453"/>
                  </a:lnTo>
                  <a:lnTo>
                    <a:pt x="2379" y="629"/>
                  </a:lnTo>
                  <a:lnTo>
                    <a:pt x="2438" y="827"/>
                  </a:lnTo>
                  <a:lnTo>
                    <a:pt x="2489" y="1054"/>
                  </a:lnTo>
                  <a:lnTo>
                    <a:pt x="2533" y="1288"/>
                  </a:lnTo>
                  <a:lnTo>
                    <a:pt x="2548" y="1412"/>
                  </a:lnTo>
                  <a:lnTo>
                    <a:pt x="2562" y="1537"/>
                  </a:lnTo>
                  <a:lnTo>
                    <a:pt x="2562" y="1668"/>
                  </a:lnTo>
                  <a:lnTo>
                    <a:pt x="2562" y="1793"/>
                  </a:lnTo>
                  <a:lnTo>
                    <a:pt x="2555" y="1932"/>
                  </a:lnTo>
                  <a:lnTo>
                    <a:pt x="2533" y="2064"/>
                  </a:lnTo>
                  <a:lnTo>
                    <a:pt x="2511" y="2195"/>
                  </a:lnTo>
                  <a:lnTo>
                    <a:pt x="2482" y="2327"/>
                  </a:lnTo>
                  <a:lnTo>
                    <a:pt x="2438" y="2459"/>
                  </a:lnTo>
                  <a:lnTo>
                    <a:pt x="2386" y="2591"/>
                  </a:lnTo>
                  <a:lnTo>
                    <a:pt x="2321" y="2730"/>
                  </a:lnTo>
                  <a:lnTo>
                    <a:pt x="2247" y="2862"/>
                  </a:lnTo>
                  <a:lnTo>
                    <a:pt x="2174" y="2993"/>
                  </a:lnTo>
                  <a:lnTo>
                    <a:pt x="2079" y="3118"/>
                  </a:lnTo>
                  <a:lnTo>
                    <a:pt x="2035" y="3169"/>
                  </a:lnTo>
                  <a:lnTo>
                    <a:pt x="1911" y="3293"/>
                  </a:lnTo>
                  <a:lnTo>
                    <a:pt x="1728" y="3484"/>
                  </a:lnTo>
                  <a:lnTo>
                    <a:pt x="1603" y="3586"/>
                  </a:lnTo>
                  <a:lnTo>
                    <a:pt x="1472" y="3689"/>
                  </a:lnTo>
                  <a:lnTo>
                    <a:pt x="1325" y="3791"/>
                  </a:lnTo>
                  <a:lnTo>
                    <a:pt x="1164" y="3908"/>
                  </a:lnTo>
                  <a:lnTo>
                    <a:pt x="996" y="4011"/>
                  </a:lnTo>
                  <a:lnTo>
                    <a:pt x="813" y="4106"/>
                  </a:lnTo>
                  <a:lnTo>
                    <a:pt x="623" y="4194"/>
                  </a:lnTo>
                  <a:lnTo>
                    <a:pt x="425" y="4267"/>
                  </a:lnTo>
                  <a:lnTo>
                    <a:pt x="322" y="4296"/>
                  </a:lnTo>
                  <a:lnTo>
                    <a:pt x="213" y="4318"/>
                  </a:lnTo>
                  <a:lnTo>
                    <a:pt x="110" y="4347"/>
                  </a:lnTo>
                  <a:lnTo>
                    <a:pt x="0" y="4355"/>
                  </a:lnTo>
                </a:path>
              </a:pathLst>
            </a:cu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フリーフォーム 31"/>
            <p:cNvSpPr/>
            <p:nvPr/>
          </p:nvSpPr>
          <p:spPr>
            <a:xfrm>
              <a:off x="6885360" y="3135240"/>
              <a:ext cx="2232360" cy="372240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3722400"/>
                <a:gd name="textAreaBottom" fmla="*/ 3722760 h 3722400"/>
              </a:gdLst>
              <a:ahLst/>
              <a:rect l="textAreaLeft" t="textAreaTop" r="textAreaRight" b="textAreaBottom"/>
              <a:pathLst>
                <a:path w="1508" h="2364">
                  <a:moveTo>
                    <a:pt x="0" y="2364"/>
                  </a:moveTo>
                  <a:lnTo>
                    <a:pt x="58" y="2320"/>
                  </a:lnTo>
                  <a:lnTo>
                    <a:pt x="212" y="2181"/>
                  </a:lnTo>
                  <a:lnTo>
                    <a:pt x="322" y="2086"/>
                  </a:lnTo>
                  <a:lnTo>
                    <a:pt x="439" y="1976"/>
                  </a:lnTo>
                  <a:lnTo>
                    <a:pt x="564" y="1837"/>
                  </a:lnTo>
                  <a:lnTo>
                    <a:pt x="695" y="1683"/>
                  </a:lnTo>
                  <a:lnTo>
                    <a:pt x="827" y="1529"/>
                  </a:lnTo>
                  <a:lnTo>
                    <a:pt x="959" y="1339"/>
                  </a:lnTo>
                  <a:lnTo>
                    <a:pt x="1090" y="1149"/>
                  </a:lnTo>
                  <a:lnTo>
                    <a:pt x="1208" y="936"/>
                  </a:lnTo>
                  <a:lnTo>
                    <a:pt x="1266" y="827"/>
                  </a:lnTo>
                  <a:lnTo>
                    <a:pt x="1310" y="717"/>
                  </a:lnTo>
                  <a:lnTo>
                    <a:pt x="1361" y="600"/>
                  </a:lnTo>
                  <a:lnTo>
                    <a:pt x="1405" y="490"/>
                  </a:lnTo>
                  <a:lnTo>
                    <a:pt x="1434" y="365"/>
                  </a:lnTo>
                  <a:lnTo>
                    <a:pt x="1471" y="248"/>
                  </a:lnTo>
                  <a:lnTo>
                    <a:pt x="1493" y="124"/>
                  </a:lnTo>
                  <a:lnTo>
                    <a:pt x="1508" y="0"/>
                  </a:lnTo>
                </a:path>
              </a:pathLst>
            </a:cu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グループ化 35" descr=""/>
          <p:cNvPicPr/>
          <p:nvPr/>
        </p:nvPicPr>
        <p:blipFill>
          <a:blip r:embed="rId3"/>
          <a:stretch/>
        </p:blipFill>
        <p:spPr>
          <a:xfrm>
            <a:off x="7265880" y="3865680"/>
            <a:ext cx="1554120" cy="1438200"/>
          </a:xfrm>
          <a:prstGeom prst="rect">
            <a:avLst/>
          </a:prstGeom>
          <a:ln w="0">
            <a:noFill/>
          </a:ln>
        </p:spPr>
      </p:pic>
      <p:pic>
        <p:nvPicPr>
          <p:cNvPr id="159" name="グループ化 39" descr=""/>
          <p:cNvPicPr/>
          <p:nvPr/>
        </p:nvPicPr>
        <p:blipFill>
          <a:blip r:embed="rId4"/>
          <a:stretch/>
        </p:blipFill>
        <p:spPr>
          <a:xfrm>
            <a:off x="6321600" y="501012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160" name="フリーフォーム 43"/>
          <p:cNvSpPr/>
          <p:nvPr/>
        </p:nvSpPr>
        <p:spPr>
          <a:xfrm>
            <a:off x="5842080" y="5857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51" h="144">
                <a:moveTo>
                  <a:pt x="86" y="0"/>
                </a:moveTo>
                <a:lnTo>
                  <a:pt x="50" y="6"/>
                </a:lnTo>
                <a:lnTo>
                  <a:pt x="28" y="22"/>
                </a:lnTo>
                <a:lnTo>
                  <a:pt x="0" y="66"/>
                </a:lnTo>
                <a:lnTo>
                  <a:pt x="0" y="87"/>
                </a:lnTo>
                <a:lnTo>
                  <a:pt x="36" y="79"/>
                </a:lnTo>
                <a:lnTo>
                  <a:pt x="28" y="102"/>
                </a:lnTo>
                <a:lnTo>
                  <a:pt x="13" y="108"/>
                </a:lnTo>
                <a:lnTo>
                  <a:pt x="36" y="131"/>
                </a:lnTo>
                <a:lnTo>
                  <a:pt x="65" y="144"/>
                </a:lnTo>
                <a:lnTo>
                  <a:pt x="94" y="144"/>
                </a:lnTo>
                <a:lnTo>
                  <a:pt x="115" y="137"/>
                </a:lnTo>
                <a:lnTo>
                  <a:pt x="151" y="116"/>
                </a:lnTo>
                <a:lnTo>
                  <a:pt x="151" y="66"/>
                </a:lnTo>
                <a:lnTo>
                  <a:pt x="138" y="35"/>
                </a:lnTo>
                <a:lnTo>
                  <a:pt x="115" y="22"/>
                </a:lnTo>
                <a:lnTo>
                  <a:pt x="94" y="0"/>
                </a:lnTo>
                <a:lnTo>
                  <a:pt x="86" y="0"/>
                </a:lnTo>
                <a:lnTo>
                  <a:pt x="86" y="66"/>
                </a:lnTo>
                <a:lnTo>
                  <a:pt x="78" y="71"/>
                </a:lnTo>
                <a:lnTo>
                  <a:pt x="50" y="66"/>
                </a:lnTo>
                <a:lnTo>
                  <a:pt x="36" y="58"/>
                </a:lnTo>
                <a:lnTo>
                  <a:pt x="42" y="29"/>
                </a:lnTo>
                <a:lnTo>
                  <a:pt x="73" y="22"/>
                </a:lnTo>
                <a:lnTo>
                  <a:pt x="86" y="29"/>
                </a:lnTo>
                <a:lnTo>
                  <a:pt x="86" y="50"/>
                </a:lnTo>
                <a:lnTo>
                  <a:pt x="86" y="66"/>
                </a:lnTo>
                <a:lnTo>
                  <a:pt x="86" y="0"/>
                </a:lnTo>
                <a:lnTo>
                  <a:pt x="94" y="123"/>
                </a:lnTo>
                <a:lnTo>
                  <a:pt x="123" y="123"/>
                </a:lnTo>
                <a:lnTo>
                  <a:pt x="107" y="131"/>
                </a:lnTo>
                <a:lnTo>
                  <a:pt x="94" y="123"/>
                </a:lnTo>
                <a:lnTo>
                  <a:pt x="86" y="0"/>
                </a:lnTo>
                <a:close/>
              </a:path>
            </a:pathLst>
          </a:custGeom>
          <a:gradFill rotWithShape="0">
            <a:gsLst>
              <a:gs pos="0">
                <a:srgbClr val="fcdccc"/>
              </a:gs>
              <a:gs pos="100000">
                <a:srgbClr val="e356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フリーフォーム 44"/>
          <p:cNvSpPr/>
          <p:nvPr/>
        </p:nvSpPr>
        <p:spPr>
          <a:xfrm rot="5400000">
            <a:off x="7322040" y="5055480"/>
            <a:ext cx="1895400" cy="167796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309" h="263">
                <a:moveTo>
                  <a:pt x="0" y="0"/>
                </a:moveTo>
                <a:lnTo>
                  <a:pt x="39" y="19"/>
                </a:lnTo>
                <a:lnTo>
                  <a:pt x="79" y="42"/>
                </a:lnTo>
                <a:lnTo>
                  <a:pt x="131" y="73"/>
                </a:lnTo>
                <a:lnTo>
                  <a:pt x="156" y="90"/>
                </a:lnTo>
                <a:lnTo>
                  <a:pt x="183" y="111"/>
                </a:lnTo>
                <a:lnTo>
                  <a:pt x="209" y="132"/>
                </a:lnTo>
                <a:lnTo>
                  <a:pt x="232" y="155"/>
                </a:lnTo>
                <a:lnTo>
                  <a:pt x="257" y="180"/>
                </a:lnTo>
                <a:lnTo>
                  <a:pt x="277" y="205"/>
                </a:lnTo>
                <a:lnTo>
                  <a:pt x="296" y="234"/>
                </a:lnTo>
                <a:lnTo>
                  <a:pt x="309" y="26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グループ化 45" descr=""/>
          <p:cNvPicPr/>
          <p:nvPr/>
        </p:nvPicPr>
        <p:blipFill>
          <a:blip r:embed="rId5"/>
          <a:stretch/>
        </p:blipFill>
        <p:spPr>
          <a:xfrm>
            <a:off x="7278840" y="3865680"/>
            <a:ext cx="1554120" cy="1438200"/>
          </a:xfrm>
          <a:prstGeom prst="rect">
            <a:avLst/>
          </a:prstGeom>
          <a:ln w="0">
            <a:noFill/>
          </a:ln>
        </p:spPr>
      </p:pic>
      <p:pic>
        <p:nvPicPr>
          <p:cNvPr id="163" name="グループ化 49" descr=""/>
          <p:cNvPicPr/>
          <p:nvPr/>
        </p:nvPicPr>
        <p:blipFill>
          <a:blip r:embed="rId6"/>
          <a:stretch/>
        </p:blipFill>
        <p:spPr>
          <a:xfrm>
            <a:off x="6340320" y="5010120"/>
            <a:ext cx="1090800" cy="1036800"/>
          </a:xfrm>
          <a:prstGeom prst="rect">
            <a:avLst/>
          </a:prstGeom>
          <a:ln w="0">
            <a:noFill/>
          </a:ln>
        </p:spPr>
      </p:pic>
      <p:sp>
        <p:nvSpPr>
          <p:cNvPr id="164" name="フリーフォーム 53"/>
          <p:cNvSpPr/>
          <p:nvPr/>
        </p:nvSpPr>
        <p:spPr>
          <a:xfrm>
            <a:off x="5857920" y="5857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51" h="144">
                <a:moveTo>
                  <a:pt x="86" y="0"/>
                </a:moveTo>
                <a:lnTo>
                  <a:pt x="50" y="6"/>
                </a:lnTo>
                <a:lnTo>
                  <a:pt x="28" y="22"/>
                </a:lnTo>
                <a:lnTo>
                  <a:pt x="0" y="66"/>
                </a:lnTo>
                <a:lnTo>
                  <a:pt x="0" y="87"/>
                </a:lnTo>
                <a:lnTo>
                  <a:pt x="36" y="79"/>
                </a:lnTo>
                <a:lnTo>
                  <a:pt x="28" y="102"/>
                </a:lnTo>
                <a:lnTo>
                  <a:pt x="13" y="108"/>
                </a:lnTo>
                <a:lnTo>
                  <a:pt x="36" y="131"/>
                </a:lnTo>
                <a:lnTo>
                  <a:pt x="65" y="144"/>
                </a:lnTo>
                <a:lnTo>
                  <a:pt x="94" y="144"/>
                </a:lnTo>
                <a:lnTo>
                  <a:pt x="115" y="137"/>
                </a:lnTo>
                <a:lnTo>
                  <a:pt x="151" y="116"/>
                </a:lnTo>
                <a:lnTo>
                  <a:pt x="151" y="66"/>
                </a:lnTo>
                <a:lnTo>
                  <a:pt x="138" y="35"/>
                </a:lnTo>
                <a:lnTo>
                  <a:pt x="115" y="22"/>
                </a:lnTo>
                <a:lnTo>
                  <a:pt x="94" y="0"/>
                </a:lnTo>
                <a:lnTo>
                  <a:pt x="86" y="0"/>
                </a:lnTo>
                <a:lnTo>
                  <a:pt x="86" y="66"/>
                </a:lnTo>
                <a:lnTo>
                  <a:pt x="78" y="71"/>
                </a:lnTo>
                <a:lnTo>
                  <a:pt x="50" y="66"/>
                </a:lnTo>
                <a:lnTo>
                  <a:pt x="36" y="58"/>
                </a:lnTo>
                <a:lnTo>
                  <a:pt x="42" y="29"/>
                </a:lnTo>
                <a:lnTo>
                  <a:pt x="73" y="22"/>
                </a:lnTo>
                <a:lnTo>
                  <a:pt x="86" y="29"/>
                </a:lnTo>
                <a:lnTo>
                  <a:pt x="86" y="50"/>
                </a:lnTo>
                <a:lnTo>
                  <a:pt x="86" y="66"/>
                </a:lnTo>
                <a:lnTo>
                  <a:pt x="86" y="0"/>
                </a:lnTo>
                <a:lnTo>
                  <a:pt x="94" y="123"/>
                </a:lnTo>
                <a:lnTo>
                  <a:pt x="123" y="123"/>
                </a:lnTo>
                <a:lnTo>
                  <a:pt x="107" y="131"/>
                </a:lnTo>
                <a:lnTo>
                  <a:pt x="94" y="123"/>
                </a:lnTo>
                <a:lnTo>
                  <a:pt x="86" y="0"/>
                </a:lnTo>
                <a:close/>
              </a:path>
            </a:pathLst>
          </a:custGeom>
          <a:gradFill rotWithShape="0">
            <a:gsLst>
              <a:gs pos="0">
                <a:srgbClr val="fcdccc"/>
              </a:gs>
              <a:gs pos="100000">
                <a:srgbClr val="e356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83D-E452-47B7-91BB-C74121202142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20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BCD-CFA2-4362-8FA7-EEADE9C43779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25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8FC3-8A8B-44F4-9B6F-C762A655E8F3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30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9F69-4A61-4A6B-B577-A11AB93BD4B0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35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B42D-E983-4FEE-8FC3-058E02CB8CDD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グループ化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407" name="フリーフォーム 17"/>
            <p:cNvSpPr/>
            <p:nvPr/>
          </p:nvSpPr>
          <p:spPr>
            <a:xfrm>
              <a:off x="-28440" y="5010120"/>
              <a:ext cx="5669640" cy="1821960"/>
            </a:xfrm>
            <a:custGeom>
              <a:avLst/>
              <a:gdLst>
                <a:gd name="textAreaLeft" fmla="*/ 0 w 5669640"/>
                <a:gd name="textAreaRight" fmla="*/ 5670000 w 566964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991" h="300">
                  <a:moveTo>
                    <a:pt x="0" y="0"/>
                  </a:moveTo>
                  <a:lnTo>
                    <a:pt x="15" y="14"/>
                  </a:lnTo>
                  <a:lnTo>
                    <a:pt x="32" y="33"/>
                  </a:lnTo>
                  <a:lnTo>
                    <a:pt x="57" y="54"/>
                  </a:lnTo>
                  <a:lnTo>
                    <a:pt x="92" y="79"/>
                  </a:lnTo>
                  <a:lnTo>
                    <a:pt x="132" y="106"/>
                  </a:lnTo>
                  <a:lnTo>
                    <a:pt x="182" y="133"/>
                  </a:lnTo>
                  <a:lnTo>
                    <a:pt x="236" y="163"/>
                  </a:lnTo>
                  <a:lnTo>
                    <a:pt x="301" y="192"/>
                  </a:lnTo>
                  <a:lnTo>
                    <a:pt x="374" y="219"/>
                  </a:lnTo>
                  <a:lnTo>
                    <a:pt x="457" y="244"/>
                  </a:lnTo>
                  <a:lnTo>
                    <a:pt x="501" y="255"/>
                  </a:lnTo>
                  <a:lnTo>
                    <a:pt x="545" y="267"/>
                  </a:lnTo>
                  <a:lnTo>
                    <a:pt x="595" y="275"/>
                  </a:lnTo>
                  <a:lnTo>
                    <a:pt x="647" y="282"/>
                  </a:lnTo>
                  <a:lnTo>
                    <a:pt x="699" y="290"/>
                  </a:lnTo>
                  <a:lnTo>
                    <a:pt x="752" y="294"/>
                  </a:lnTo>
                  <a:lnTo>
                    <a:pt x="810" y="298"/>
                  </a:lnTo>
                  <a:lnTo>
                    <a:pt x="868" y="300"/>
                  </a:lnTo>
                  <a:lnTo>
                    <a:pt x="927" y="298"/>
                  </a:lnTo>
                  <a:lnTo>
                    <a:pt x="991" y="296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フリーフォーム 18"/>
            <p:cNvSpPr/>
            <p:nvPr/>
          </p:nvSpPr>
          <p:spPr>
            <a:xfrm>
              <a:off x="4782240" y="0"/>
              <a:ext cx="3907800" cy="68554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6855480"/>
                <a:gd name="textAreaBottom" fmla="*/ 6855840 h 6855480"/>
              </a:gdLst>
              <a:ahLst/>
              <a:rect l="textAreaLeft" t="textAreaTop" r="textAreaRight" b="textAreaBottom"/>
              <a:pathLst>
                <a:path w="539" h="1129">
                  <a:moveTo>
                    <a:pt x="0" y="1129"/>
                  </a:moveTo>
                  <a:lnTo>
                    <a:pt x="42" y="1125"/>
                  </a:lnTo>
                  <a:lnTo>
                    <a:pt x="132" y="1115"/>
                  </a:lnTo>
                  <a:lnTo>
                    <a:pt x="188" y="1106"/>
                  </a:lnTo>
                  <a:lnTo>
                    <a:pt x="241" y="1094"/>
                  </a:lnTo>
                  <a:lnTo>
                    <a:pt x="289" y="1079"/>
                  </a:lnTo>
                  <a:lnTo>
                    <a:pt x="311" y="1071"/>
                  </a:lnTo>
                  <a:lnTo>
                    <a:pt x="328" y="1062"/>
                  </a:lnTo>
                  <a:lnTo>
                    <a:pt x="339" y="1056"/>
                  </a:lnTo>
                  <a:lnTo>
                    <a:pt x="351" y="1048"/>
                  </a:lnTo>
                  <a:lnTo>
                    <a:pt x="366" y="1037"/>
                  </a:lnTo>
                  <a:lnTo>
                    <a:pt x="385" y="1019"/>
                  </a:lnTo>
                  <a:lnTo>
                    <a:pt x="405" y="998"/>
                  </a:lnTo>
                  <a:lnTo>
                    <a:pt x="426" y="969"/>
                  </a:lnTo>
                  <a:lnTo>
                    <a:pt x="449" y="939"/>
                  </a:lnTo>
                  <a:lnTo>
                    <a:pt x="470" y="898"/>
                  </a:lnTo>
                  <a:lnTo>
                    <a:pt x="489" y="848"/>
                  </a:lnTo>
                  <a:lnTo>
                    <a:pt x="506" y="793"/>
                  </a:lnTo>
                  <a:lnTo>
                    <a:pt x="520" y="727"/>
                  </a:lnTo>
                  <a:lnTo>
                    <a:pt x="531" y="655"/>
                  </a:lnTo>
                  <a:lnTo>
                    <a:pt x="537" y="572"/>
                  </a:lnTo>
                  <a:lnTo>
                    <a:pt x="539" y="530"/>
                  </a:lnTo>
                  <a:lnTo>
                    <a:pt x="537" y="482"/>
                  </a:lnTo>
                  <a:lnTo>
                    <a:pt x="535" y="432"/>
                  </a:lnTo>
                  <a:lnTo>
                    <a:pt x="533" y="378"/>
                  </a:lnTo>
                  <a:lnTo>
                    <a:pt x="531" y="357"/>
                  </a:lnTo>
                  <a:lnTo>
                    <a:pt x="524" y="286"/>
                  </a:lnTo>
                  <a:lnTo>
                    <a:pt x="516" y="232"/>
                  </a:lnTo>
                  <a:lnTo>
                    <a:pt x="503" y="169"/>
                  </a:lnTo>
                  <a:lnTo>
                    <a:pt x="487" y="90"/>
                  </a:lnTo>
                  <a:lnTo>
                    <a:pt x="466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フリーフォーム 19"/>
            <p:cNvSpPr/>
            <p:nvPr/>
          </p:nvSpPr>
          <p:spPr>
            <a:xfrm>
              <a:off x="0" y="0"/>
              <a:ext cx="9131040" cy="647388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473880"/>
                <a:gd name="textAreaBottom" fmla="*/ 6474240 h 6473880"/>
              </a:gdLst>
              <a:ahLst/>
              <a:rect l="textAreaLeft" t="textAreaTop" r="textAreaRight" b="textAreaBottom"/>
              <a:pathLst>
                <a:path w="1607" h="1085">
                  <a:moveTo>
                    <a:pt x="0" y="929"/>
                  </a:moveTo>
                  <a:lnTo>
                    <a:pt x="40" y="941"/>
                  </a:lnTo>
                  <a:lnTo>
                    <a:pt x="148" y="966"/>
                  </a:lnTo>
                  <a:lnTo>
                    <a:pt x="305" y="1000"/>
                  </a:lnTo>
                  <a:lnTo>
                    <a:pt x="399" y="1019"/>
                  </a:lnTo>
                  <a:lnTo>
                    <a:pt x="501" y="1037"/>
                  </a:lnTo>
                  <a:lnTo>
                    <a:pt x="608" y="1052"/>
                  </a:lnTo>
                  <a:lnTo>
                    <a:pt x="718" y="1067"/>
                  </a:lnTo>
                  <a:lnTo>
                    <a:pt x="827" y="1077"/>
                  </a:lnTo>
                  <a:lnTo>
                    <a:pt x="937" y="1083"/>
                  </a:lnTo>
                  <a:lnTo>
                    <a:pt x="991" y="1085"/>
                  </a:lnTo>
                  <a:lnTo>
                    <a:pt x="1044" y="1085"/>
                  </a:lnTo>
                  <a:lnTo>
                    <a:pt x="1096" y="1083"/>
                  </a:lnTo>
                  <a:lnTo>
                    <a:pt x="1146" y="1079"/>
                  </a:lnTo>
                  <a:lnTo>
                    <a:pt x="1194" y="1073"/>
                  </a:lnTo>
                  <a:lnTo>
                    <a:pt x="1240" y="1065"/>
                  </a:lnTo>
                  <a:lnTo>
                    <a:pt x="1284" y="1058"/>
                  </a:lnTo>
                  <a:lnTo>
                    <a:pt x="1327" y="1046"/>
                  </a:lnTo>
                  <a:lnTo>
                    <a:pt x="1338" y="1042"/>
                  </a:lnTo>
                  <a:lnTo>
                    <a:pt x="1371" y="1031"/>
                  </a:lnTo>
                  <a:lnTo>
                    <a:pt x="1392" y="1019"/>
                  </a:lnTo>
                  <a:lnTo>
                    <a:pt x="1415" y="1008"/>
                  </a:lnTo>
                  <a:lnTo>
                    <a:pt x="1444" y="990"/>
                  </a:lnTo>
                  <a:lnTo>
                    <a:pt x="1469" y="971"/>
                  </a:lnTo>
                  <a:lnTo>
                    <a:pt x="1496" y="950"/>
                  </a:lnTo>
                  <a:lnTo>
                    <a:pt x="1520" y="923"/>
                  </a:lnTo>
                  <a:lnTo>
                    <a:pt x="1544" y="893"/>
                  </a:lnTo>
                  <a:lnTo>
                    <a:pt x="1565" y="854"/>
                  </a:lnTo>
                  <a:lnTo>
                    <a:pt x="1582" y="814"/>
                  </a:lnTo>
                  <a:lnTo>
                    <a:pt x="1590" y="791"/>
                  </a:lnTo>
                  <a:lnTo>
                    <a:pt x="1595" y="768"/>
                  </a:lnTo>
                  <a:lnTo>
                    <a:pt x="1601" y="743"/>
                  </a:lnTo>
                  <a:lnTo>
                    <a:pt x="1605" y="716"/>
                  </a:lnTo>
                  <a:lnTo>
                    <a:pt x="1607" y="689"/>
                  </a:lnTo>
                  <a:lnTo>
                    <a:pt x="1607" y="660"/>
                  </a:lnTo>
                  <a:lnTo>
                    <a:pt x="1607" y="643"/>
                  </a:lnTo>
                  <a:lnTo>
                    <a:pt x="1607" y="599"/>
                  </a:lnTo>
                  <a:lnTo>
                    <a:pt x="1599" y="530"/>
                  </a:lnTo>
                  <a:lnTo>
                    <a:pt x="1593" y="487"/>
                  </a:lnTo>
                  <a:lnTo>
                    <a:pt x="1586" y="441"/>
                  </a:lnTo>
                  <a:lnTo>
                    <a:pt x="1574" y="391"/>
                  </a:lnTo>
                  <a:lnTo>
                    <a:pt x="1559" y="340"/>
                  </a:lnTo>
                  <a:lnTo>
                    <a:pt x="1542" y="282"/>
                  </a:lnTo>
                  <a:lnTo>
                    <a:pt x="1519" y="226"/>
                  </a:lnTo>
                  <a:lnTo>
                    <a:pt x="1492" y="171"/>
                  </a:lnTo>
                  <a:lnTo>
                    <a:pt x="1461" y="113"/>
                  </a:lnTo>
                  <a:lnTo>
                    <a:pt x="1424" y="56"/>
                  </a:lnTo>
                  <a:lnTo>
                    <a:pt x="1378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フリーフォーム 21"/>
            <p:cNvSpPr/>
            <p:nvPr/>
          </p:nvSpPr>
          <p:spPr>
            <a:xfrm>
              <a:off x="16920" y="2575080"/>
              <a:ext cx="9126000" cy="398952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1620" h="657">
                  <a:moveTo>
                    <a:pt x="0" y="584"/>
                  </a:moveTo>
                  <a:lnTo>
                    <a:pt x="29" y="590"/>
                  </a:lnTo>
                  <a:lnTo>
                    <a:pt x="109" y="605"/>
                  </a:lnTo>
                  <a:lnTo>
                    <a:pt x="234" y="624"/>
                  </a:lnTo>
                  <a:lnTo>
                    <a:pt x="303" y="634"/>
                  </a:lnTo>
                  <a:lnTo>
                    <a:pt x="382" y="642"/>
                  </a:lnTo>
                  <a:lnTo>
                    <a:pt x="468" y="649"/>
                  </a:lnTo>
                  <a:lnTo>
                    <a:pt x="557" y="653"/>
                  </a:lnTo>
                  <a:lnTo>
                    <a:pt x="651" y="657"/>
                  </a:lnTo>
                  <a:lnTo>
                    <a:pt x="743" y="655"/>
                  </a:lnTo>
                  <a:lnTo>
                    <a:pt x="835" y="651"/>
                  </a:lnTo>
                  <a:lnTo>
                    <a:pt x="927" y="643"/>
                  </a:lnTo>
                  <a:lnTo>
                    <a:pt x="1017" y="630"/>
                  </a:lnTo>
                  <a:lnTo>
                    <a:pt x="1062" y="620"/>
                  </a:lnTo>
                  <a:lnTo>
                    <a:pt x="1104" y="611"/>
                  </a:lnTo>
                  <a:lnTo>
                    <a:pt x="1117" y="607"/>
                  </a:lnTo>
                  <a:lnTo>
                    <a:pt x="1156" y="597"/>
                  </a:lnTo>
                  <a:lnTo>
                    <a:pt x="1213" y="576"/>
                  </a:lnTo>
                  <a:lnTo>
                    <a:pt x="1246" y="563"/>
                  </a:lnTo>
                  <a:lnTo>
                    <a:pt x="1280" y="547"/>
                  </a:lnTo>
                  <a:lnTo>
                    <a:pt x="1319" y="528"/>
                  </a:lnTo>
                  <a:lnTo>
                    <a:pt x="1355" y="507"/>
                  </a:lnTo>
                  <a:lnTo>
                    <a:pt x="1394" y="482"/>
                  </a:lnTo>
                  <a:lnTo>
                    <a:pt x="1434" y="451"/>
                  </a:lnTo>
                  <a:lnTo>
                    <a:pt x="1471" y="419"/>
                  </a:lnTo>
                  <a:lnTo>
                    <a:pt x="1503" y="380"/>
                  </a:lnTo>
                  <a:lnTo>
                    <a:pt x="1536" y="338"/>
                  </a:lnTo>
                  <a:lnTo>
                    <a:pt x="1549" y="317"/>
                  </a:lnTo>
                  <a:lnTo>
                    <a:pt x="1563" y="294"/>
                  </a:lnTo>
                  <a:lnTo>
                    <a:pt x="1572" y="265"/>
                  </a:lnTo>
                  <a:lnTo>
                    <a:pt x="1582" y="235"/>
                  </a:lnTo>
                  <a:lnTo>
                    <a:pt x="1593" y="196"/>
                  </a:lnTo>
                  <a:lnTo>
                    <a:pt x="1605" y="150"/>
                  </a:lnTo>
                  <a:lnTo>
                    <a:pt x="1615" y="102"/>
                  </a:lnTo>
                  <a:lnTo>
                    <a:pt x="1620" y="52"/>
                  </a:lnTo>
                  <a:lnTo>
                    <a:pt x="1620" y="25"/>
                  </a:lnTo>
                  <a:lnTo>
                    <a:pt x="162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フリーフォーム 22"/>
            <p:cNvSpPr/>
            <p:nvPr/>
          </p:nvSpPr>
          <p:spPr>
            <a:xfrm>
              <a:off x="2408040" y="0"/>
              <a:ext cx="6533640" cy="6832080"/>
            </a:xfrm>
            <a:custGeom>
              <a:avLst/>
              <a:gdLst>
                <a:gd name="textAreaLeft" fmla="*/ 0 w 6533640"/>
                <a:gd name="textAreaRight" fmla="*/ 6534000 w 6533640"/>
                <a:gd name="textAreaTop" fmla="*/ 0 h 6832080"/>
                <a:gd name="textAreaBottom" fmla="*/ 6832440 h 6832080"/>
              </a:gdLst>
              <a:ahLst/>
              <a:rect l="textAreaLeft" t="textAreaTop" r="textAreaRight" b="textAreaBottom"/>
              <a:pathLst>
                <a:path w="1142" h="1146">
                  <a:moveTo>
                    <a:pt x="0" y="1144"/>
                  </a:moveTo>
                  <a:lnTo>
                    <a:pt x="36" y="1146"/>
                  </a:lnTo>
                  <a:lnTo>
                    <a:pt x="132" y="1144"/>
                  </a:lnTo>
                  <a:lnTo>
                    <a:pt x="200" y="1142"/>
                  </a:lnTo>
                  <a:lnTo>
                    <a:pt x="274" y="1136"/>
                  </a:lnTo>
                  <a:lnTo>
                    <a:pt x="355" y="1131"/>
                  </a:lnTo>
                  <a:lnTo>
                    <a:pt x="438" y="1119"/>
                  </a:lnTo>
                  <a:lnTo>
                    <a:pt x="526" y="1106"/>
                  </a:lnTo>
                  <a:lnTo>
                    <a:pt x="614" y="1087"/>
                  </a:lnTo>
                  <a:lnTo>
                    <a:pt x="658" y="1075"/>
                  </a:lnTo>
                  <a:lnTo>
                    <a:pt x="701" y="1064"/>
                  </a:lnTo>
                  <a:lnTo>
                    <a:pt x="743" y="1050"/>
                  </a:lnTo>
                  <a:lnTo>
                    <a:pt x="783" y="1035"/>
                  </a:lnTo>
                  <a:lnTo>
                    <a:pt x="822" y="1017"/>
                  </a:lnTo>
                  <a:lnTo>
                    <a:pt x="860" y="998"/>
                  </a:lnTo>
                  <a:lnTo>
                    <a:pt x="895" y="979"/>
                  </a:lnTo>
                  <a:lnTo>
                    <a:pt x="927" y="958"/>
                  </a:lnTo>
                  <a:lnTo>
                    <a:pt x="958" y="935"/>
                  </a:lnTo>
                  <a:lnTo>
                    <a:pt x="985" y="910"/>
                  </a:lnTo>
                  <a:lnTo>
                    <a:pt x="1012" y="883"/>
                  </a:lnTo>
                  <a:lnTo>
                    <a:pt x="1033" y="852"/>
                  </a:lnTo>
                  <a:lnTo>
                    <a:pt x="1040" y="841"/>
                  </a:lnTo>
                  <a:lnTo>
                    <a:pt x="1060" y="808"/>
                  </a:lnTo>
                  <a:lnTo>
                    <a:pt x="1073" y="783"/>
                  </a:lnTo>
                  <a:lnTo>
                    <a:pt x="1085" y="751"/>
                  </a:lnTo>
                  <a:lnTo>
                    <a:pt x="1098" y="712"/>
                  </a:lnTo>
                  <a:lnTo>
                    <a:pt x="1112" y="664"/>
                  </a:lnTo>
                  <a:lnTo>
                    <a:pt x="1123" y="610"/>
                  </a:lnTo>
                  <a:lnTo>
                    <a:pt x="1133" y="551"/>
                  </a:lnTo>
                  <a:lnTo>
                    <a:pt x="1140" y="482"/>
                  </a:lnTo>
                  <a:lnTo>
                    <a:pt x="1142" y="403"/>
                  </a:lnTo>
                  <a:lnTo>
                    <a:pt x="1142" y="317"/>
                  </a:lnTo>
                  <a:lnTo>
                    <a:pt x="1136" y="219"/>
                  </a:lnTo>
                  <a:lnTo>
                    <a:pt x="1127" y="115"/>
                  </a:lnTo>
                  <a:lnTo>
                    <a:pt x="1110" y="0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フリーフォーム 23"/>
            <p:cNvSpPr/>
            <p:nvPr/>
          </p:nvSpPr>
          <p:spPr>
            <a:xfrm>
              <a:off x="7448400" y="0"/>
              <a:ext cx="1694160" cy="149400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309" h="263">
                  <a:moveTo>
                    <a:pt x="0" y="0"/>
                  </a:moveTo>
                  <a:lnTo>
                    <a:pt x="39" y="19"/>
                  </a:lnTo>
                  <a:lnTo>
                    <a:pt x="79" y="42"/>
                  </a:lnTo>
                  <a:lnTo>
                    <a:pt x="131" y="73"/>
                  </a:lnTo>
                  <a:lnTo>
                    <a:pt x="156" y="90"/>
                  </a:lnTo>
                  <a:lnTo>
                    <a:pt x="183" y="111"/>
                  </a:lnTo>
                  <a:lnTo>
                    <a:pt x="209" y="132"/>
                  </a:lnTo>
                  <a:lnTo>
                    <a:pt x="232" y="155"/>
                  </a:lnTo>
                  <a:lnTo>
                    <a:pt x="257" y="180"/>
                  </a:lnTo>
                  <a:lnTo>
                    <a:pt x="277" y="205"/>
                  </a:lnTo>
                  <a:lnTo>
                    <a:pt x="296" y="234"/>
                  </a:lnTo>
                  <a:lnTo>
                    <a:pt x="309" y="263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フリーフォーム 24"/>
            <p:cNvSpPr/>
            <p:nvPr/>
          </p:nvSpPr>
          <p:spPr>
            <a:xfrm>
              <a:off x="0" y="5877720"/>
              <a:ext cx="5439960" cy="954360"/>
            </a:xfrm>
            <a:custGeom>
              <a:avLst/>
              <a:gdLst>
                <a:gd name="textAreaLeft" fmla="*/ 0 w 5439960"/>
                <a:gd name="textAreaRight" fmla="*/ 5440320 w 543996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960" h="157">
                  <a:moveTo>
                    <a:pt x="0" y="0"/>
                  </a:moveTo>
                  <a:lnTo>
                    <a:pt x="98" y="27"/>
                  </a:lnTo>
                  <a:lnTo>
                    <a:pt x="209" y="53"/>
                  </a:lnTo>
                  <a:lnTo>
                    <a:pt x="340" y="84"/>
                  </a:lnTo>
                  <a:lnTo>
                    <a:pt x="493" y="113"/>
                  </a:lnTo>
                  <a:lnTo>
                    <a:pt x="572" y="126"/>
                  </a:lnTo>
                  <a:lnTo>
                    <a:pt x="654" y="138"/>
                  </a:lnTo>
                  <a:lnTo>
                    <a:pt x="735" y="146"/>
                  </a:lnTo>
                  <a:lnTo>
                    <a:pt x="812" y="153"/>
                  </a:lnTo>
                  <a:lnTo>
                    <a:pt x="887" y="157"/>
                  </a:lnTo>
                  <a:lnTo>
                    <a:pt x="960" y="155"/>
                  </a:lnTo>
                </a:path>
              </a:pathLst>
            </a:cu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4" name="グループ化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6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411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BF6-8D7A-4849-AC78-103D4630869D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7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タイトル 1"/>
          <p:cNvGrpSpPr/>
          <p:nvPr/>
        </p:nvGrpSpPr>
        <p:grpSpPr>
          <a:xfrm>
            <a:off x="853920" y="1206360"/>
            <a:ext cx="7369200" cy="1481400"/>
            <a:chOff x="853920" y="1206360"/>
            <a:chExt cx="7369200" cy="1481400"/>
          </a:xfrm>
        </p:grpSpPr>
        <p:pic>
          <p:nvPicPr>
            <p:cNvPr id="614" name="タイトル 1" descr=""/>
            <p:cNvPicPr/>
            <p:nvPr/>
          </p:nvPicPr>
          <p:blipFill>
            <a:blip r:embed="rId1"/>
            <a:stretch/>
          </p:blipFill>
          <p:spPr>
            <a:xfrm>
              <a:off x="853920" y="1206360"/>
              <a:ext cx="736920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857160" y="1214280"/>
              <a:ext cx="735804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Status/Scope of Japanese Geostationary Satellite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213840" y="4600080"/>
            <a:ext cx="76438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huji Kawakami (kawakami.shuji@jaxa.jp)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Corbel"/>
              </a:rPr>
              <a:t>Earth Observation Research Center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Corbel"/>
              </a:rPr>
              <a:t>Japan Aerospace Exploration Agency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Corbel"/>
              </a:rPr>
              <a:t>(JAXA/EORC)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タイトル 1"/>
          <p:cNvGrpSpPr/>
          <p:nvPr/>
        </p:nvGrpSpPr>
        <p:grpSpPr>
          <a:xfrm>
            <a:off x="208080" y="133200"/>
            <a:ext cx="8802720" cy="731880"/>
            <a:chOff x="208080" y="133200"/>
            <a:chExt cx="8802720" cy="731880"/>
          </a:xfrm>
        </p:grpSpPr>
        <p:pic>
          <p:nvPicPr>
            <p:cNvPr id="780" name="タイトル 1" descr=""/>
            <p:cNvPicPr/>
            <p:nvPr/>
          </p:nvPicPr>
          <p:blipFill>
            <a:blip r:embed="rId1"/>
            <a:stretch/>
          </p:blipFill>
          <p:spPr>
            <a:xfrm>
              <a:off x="208080" y="133200"/>
              <a:ext cx="88027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214200" y="142920"/>
              <a:ext cx="87868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Organizations’ needs which presented at JAXA MD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 txBox="1"/>
          <p:nvPr/>
        </p:nvSpPr>
        <p:spPr>
          <a:xfrm>
            <a:off x="500040" y="85716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Ministry of Environment(http://www.env.go.jp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National Institute for Environmental Studies(http://www.nies.go.jp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Contribution to better public service on Air Quality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Tropospheric Ozone/PM2.5/Kosa(yellow sand dust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Japan Meteorological Agency(http://www.jma.go.jp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Weather forcasts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Vertical profiles of Temperature and wator vapor with higher frequency and higher vertical resolution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Meteorological Research Institute(http://www.mri-jma.go.jp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Contribution to improvement of public service on Environmental Meteorology(Air pollution, Kosa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Tropospheric Ozone/NO2/Aerosols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Japan Petroleum Energy Center (http://www.pecj.or.jp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JATOP:Japan Auto-Oil Program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2" marL="74304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Utilization and improvement of air quality model</a:t>
            </a:r>
            <a:endParaRPr b="0" lang="en-US" sz="14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National Maritime Research Institute (http://www.nmri.go.jp)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Ocean Environment: Air Quality over coasts/oceans : NO2/SO2 from ships 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タイトル 3"/>
          <p:cNvGrpSpPr/>
          <p:nvPr/>
        </p:nvGrpSpPr>
        <p:grpSpPr>
          <a:xfrm>
            <a:off x="420840" y="353880"/>
            <a:ext cx="8242200" cy="865440"/>
            <a:chOff x="420840" y="353880"/>
            <a:chExt cx="8242200" cy="865440"/>
          </a:xfrm>
        </p:grpSpPr>
        <p:pic>
          <p:nvPicPr>
            <p:cNvPr id="784" name="タイトル 3" descr=""/>
            <p:cNvPicPr/>
            <p:nvPr/>
          </p:nvPicPr>
          <p:blipFill>
            <a:blip r:embed="rId1"/>
            <a:stretch/>
          </p:blipFill>
          <p:spPr>
            <a:xfrm>
              <a:off x="420840" y="353880"/>
              <a:ext cx="8242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428760" y="357120"/>
              <a:ext cx="82296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40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Mission Study Issues in 2010</a:t>
              </a:r>
              <a:br>
                <a:rPr sz="4000"/>
              </a:br>
              <a:r>
                <a:rPr b="1" lang="is-IS" sz="40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(Action Items of the MDR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 txBox="1"/>
          <p:nvPr/>
        </p:nvSpPr>
        <p:spPr>
          <a:xfrm>
            <a:off x="428760" y="142884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825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To merge Ministry and Agency’s further needs into the requirement</a:t>
            </a:r>
            <a:endParaRPr b="0" lang="en-US" sz="3300" spc="-1" strike="noStrike">
              <a:solidFill>
                <a:srgbClr val="975c1e"/>
              </a:solidFill>
              <a:latin typeface="Corbel"/>
            </a:endParaRPr>
          </a:p>
          <a:p>
            <a:pPr lvl="2" marL="74304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Studies for SO2 and aerosols (especially PM2.5) are needed</a:t>
            </a:r>
            <a:endParaRPr b="0" lang="en-US" sz="30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Listen to requirements from users in Asia</a:t>
            </a:r>
            <a:endParaRPr b="0" lang="en-US" sz="33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Imaging FTS</a:t>
            </a:r>
            <a:endParaRPr b="0" lang="en-US" sz="3300" spc="-1" strike="noStrike">
              <a:solidFill>
                <a:srgbClr val="975c1e"/>
              </a:solidFill>
              <a:latin typeface="Corbel"/>
            </a:endParaRPr>
          </a:p>
          <a:p>
            <a:pPr lvl="1" marL="343080" indent="-343080">
              <a:lnSpc>
                <a:spcPct val="80000"/>
              </a:lnSpc>
              <a:spcBef>
                <a:spcPts val="825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Study of key technology of  Imaging FTS </a:t>
            </a:r>
            <a:endParaRPr b="0" lang="en-US" sz="3300" spc="-1" strike="noStrike">
              <a:solidFill>
                <a:srgbClr val="975c1e"/>
              </a:solidFill>
              <a:latin typeface="Corbel"/>
            </a:endParaRPr>
          </a:p>
          <a:p>
            <a:pPr lvl="1" marL="343080" indent="-343080">
              <a:lnSpc>
                <a:spcPct val="80000"/>
              </a:lnSpc>
              <a:spcBef>
                <a:spcPts val="825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Calibration/data processing</a:t>
            </a:r>
            <a:endParaRPr b="0" lang="en-US" sz="3300" spc="-1" strike="noStrike">
              <a:solidFill>
                <a:srgbClr val="975c1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タイトル 1"/>
          <p:cNvGrpSpPr/>
          <p:nvPr/>
        </p:nvGrpSpPr>
        <p:grpSpPr>
          <a:xfrm>
            <a:off x="281160" y="281160"/>
            <a:ext cx="8654760" cy="725400"/>
            <a:chOff x="281160" y="281160"/>
            <a:chExt cx="8654760" cy="725400"/>
          </a:xfrm>
        </p:grpSpPr>
        <p:pic>
          <p:nvPicPr>
            <p:cNvPr id="788" name="タイトル 1" descr=""/>
            <p:cNvPicPr/>
            <p:nvPr/>
          </p:nvPicPr>
          <p:blipFill>
            <a:blip r:embed="rId1"/>
            <a:stretch/>
          </p:blipFill>
          <p:spPr>
            <a:xfrm>
              <a:off x="281160" y="281160"/>
              <a:ext cx="8654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85840" y="285840"/>
              <a:ext cx="8643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Summar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 txBox="1"/>
          <p:nvPr/>
        </p:nvSpPr>
        <p:spPr>
          <a:xfrm>
            <a:off x="499680" y="11426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Overview of Japanese Geostationary Satellite Mission (Currently Unnamed)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The scopes are Air Quality/Meteorology/ Climate Change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Geosynchronous orbit with two instruments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UV/Vis Spectrometer for O3, NO2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Thermal infrared Imaging FTS for Temperature/Humidity/Ozone/CO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Observation area: Asia; Japan and East China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frequency: hourly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75c1e"/>
                </a:solidFill>
                <a:latin typeface="Times New Roman"/>
                <a:ea typeface="Times New Roman"/>
              </a:rPr>
              <a:t>In 2010 Study of key technology of  Imaging FTS</a:t>
            </a:r>
            <a:endParaRPr b="0" lang="en-US" sz="2800" spc="-1" strike="noStrike">
              <a:solidFill>
                <a:srgbClr val="975c1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スライド番号プレースホルダ 4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FB4-CD9E-4155-84AD-A36258A5D935}" type="slidenum">
              <a:rPr b="0" lang="en-US" sz="1200" spc="-1" strike="noStrike">
                <a:solidFill>
                  <a:srgbClr val="6e41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2" descr="災害"/>
          <p:cNvPicPr/>
          <p:nvPr/>
        </p:nvPicPr>
        <p:blipFill>
          <a:blip r:embed="rId1"/>
          <a:stretch/>
        </p:blipFill>
        <p:spPr>
          <a:xfrm>
            <a:off x="1847880" y="3660840"/>
            <a:ext cx="1382760" cy="1712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19" name="Rectangle 3"/>
          <p:cNvSpPr/>
          <p:nvPr/>
        </p:nvSpPr>
        <p:spPr>
          <a:xfrm>
            <a:off x="1886040" y="3263760"/>
            <a:ext cx="140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504"/>
                </a:solidFill>
                <a:latin typeface="Times New Roman"/>
                <a:ea typeface="Lucida Sans Unicode"/>
              </a:rPr>
              <a:t>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 flipV="1" rot="10800000">
            <a:off x="6003720" y="537264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5" descr="気候"/>
          <p:cNvPicPr/>
          <p:nvPr/>
        </p:nvPicPr>
        <p:blipFill>
          <a:blip r:embed="rId2"/>
          <a:stretch/>
        </p:blipFill>
        <p:spPr>
          <a:xfrm>
            <a:off x="3811680" y="3700440"/>
            <a:ext cx="1544400" cy="1401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22" name="Text Box 6"/>
          <p:cNvSpPr/>
          <p:nvPr/>
        </p:nvSpPr>
        <p:spPr>
          <a:xfrm>
            <a:off x="3889440" y="3255840"/>
            <a:ext cx="1305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504"/>
                </a:solidFill>
                <a:latin typeface="Times New Roman"/>
                <a:ea typeface="Lucida Sans Unicode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7" descr="図4"/>
          <p:cNvPicPr/>
          <p:nvPr/>
        </p:nvPicPr>
        <p:blipFill>
          <a:blip r:embed="rId3"/>
          <a:stretch/>
        </p:blipFill>
        <p:spPr>
          <a:xfrm>
            <a:off x="5875200" y="3691080"/>
            <a:ext cx="1668600" cy="1392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24" name="Text Box 8"/>
          <p:cNvSpPr/>
          <p:nvPr/>
        </p:nvSpPr>
        <p:spPr>
          <a:xfrm>
            <a:off x="6224760" y="3270240"/>
            <a:ext cx="990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504"/>
                </a:solidFill>
                <a:latin typeface="Times New Roman"/>
                <a:ea typeface="Lucida Sans Unicode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図3"/>
          <p:cNvPicPr/>
          <p:nvPr/>
        </p:nvPicPr>
        <p:blipFill>
          <a:blip r:embed="rId4"/>
          <a:stretch/>
        </p:blipFill>
        <p:spPr>
          <a:xfrm>
            <a:off x="849240" y="5643720"/>
            <a:ext cx="1108080" cy="9126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0"/>
          <p:cNvSpPr/>
          <p:nvPr/>
        </p:nvSpPr>
        <p:spPr>
          <a:xfrm>
            <a:off x="870120" y="5362560"/>
            <a:ext cx="11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1" descr="図5"/>
          <p:cNvPicPr/>
          <p:nvPr/>
        </p:nvPicPr>
        <p:blipFill>
          <a:blip r:embed="rId5"/>
          <a:stretch/>
        </p:blipFill>
        <p:spPr>
          <a:xfrm>
            <a:off x="3330720" y="5646600"/>
            <a:ext cx="1025280" cy="9352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12"/>
          <p:cNvSpPr/>
          <p:nvPr/>
        </p:nvSpPr>
        <p:spPr>
          <a:xfrm>
            <a:off x="3132000" y="5373720"/>
            <a:ext cx="135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13" descr="図6"/>
          <p:cNvPicPr/>
          <p:nvPr/>
        </p:nvPicPr>
        <p:blipFill>
          <a:blip r:embed="rId6"/>
          <a:stretch/>
        </p:blipFill>
        <p:spPr>
          <a:xfrm>
            <a:off x="4567320" y="5702400"/>
            <a:ext cx="1290600" cy="7444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4"/>
          <p:cNvSpPr/>
          <p:nvPr/>
        </p:nvSpPr>
        <p:spPr>
          <a:xfrm>
            <a:off x="4397400" y="5373720"/>
            <a:ext cx="1469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co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15" descr="図7"/>
          <p:cNvPicPr/>
          <p:nvPr/>
        </p:nvPicPr>
        <p:blipFill>
          <a:blip r:embed="rId7"/>
          <a:stretch/>
        </p:blipFill>
        <p:spPr>
          <a:xfrm>
            <a:off x="2117880" y="5654520"/>
            <a:ext cx="1044360" cy="75564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6"/>
          <p:cNvSpPr/>
          <p:nvPr/>
        </p:nvSpPr>
        <p:spPr>
          <a:xfrm>
            <a:off x="1947960" y="5357880"/>
            <a:ext cx="145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gri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17" descr="図8"/>
          <p:cNvPicPr/>
          <p:nvPr/>
        </p:nvPicPr>
        <p:blipFill>
          <a:blip r:embed="rId8"/>
          <a:stretch/>
        </p:blipFill>
        <p:spPr>
          <a:xfrm>
            <a:off x="7188120" y="5703840"/>
            <a:ext cx="1076400" cy="822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8"/>
          <p:cNvSpPr/>
          <p:nvPr/>
        </p:nvSpPr>
        <p:spPr>
          <a:xfrm>
            <a:off x="6986520" y="5397480"/>
            <a:ext cx="154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io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20" descr=""/>
          <p:cNvPicPr/>
          <p:nvPr/>
        </p:nvPicPr>
        <p:blipFill>
          <a:blip r:embed="rId9"/>
          <a:stretch/>
        </p:blipFill>
        <p:spPr>
          <a:xfrm>
            <a:off x="5979960" y="5700600"/>
            <a:ext cx="1073160" cy="1113120"/>
          </a:xfrm>
          <a:prstGeom prst="rect">
            <a:avLst/>
          </a:prstGeom>
          <a:ln w="0">
            <a:noFill/>
          </a:ln>
        </p:spPr>
      </p:pic>
      <p:grpSp>
        <p:nvGrpSpPr>
          <p:cNvPr id="636" name="Rectangle 22"/>
          <p:cNvGrpSpPr/>
          <p:nvPr/>
        </p:nvGrpSpPr>
        <p:grpSpPr>
          <a:xfrm>
            <a:off x="30240" y="36360"/>
            <a:ext cx="8832600" cy="1024200"/>
            <a:chOff x="30240" y="36360"/>
            <a:chExt cx="8832600" cy="1024200"/>
          </a:xfrm>
        </p:grpSpPr>
        <p:pic>
          <p:nvPicPr>
            <p:cNvPr id="637" name="Rectangle 22" descr=""/>
            <p:cNvPicPr/>
            <p:nvPr/>
          </p:nvPicPr>
          <p:blipFill>
            <a:blip r:embed="rId10"/>
            <a:stretch/>
          </p:blipFill>
          <p:spPr>
            <a:xfrm>
              <a:off x="30240" y="36360"/>
              <a:ext cx="883260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34920" y="44280"/>
              <a:ext cx="882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en-US" sz="29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GEOSS and Japan’s priority </a:t>
              </a:r>
              <a:br>
                <a:rPr sz="2900"/>
              </a:br>
              <a:r>
                <a:rPr b="0" lang="en-US" sz="29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(Global Earth Observation System of  Systems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Rectangle 23"/>
          <p:cNvSpPr/>
          <p:nvPr/>
        </p:nvSpPr>
        <p:spPr>
          <a:xfrm>
            <a:off x="1042920" y="1052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’s 3 priority areas among 9 GEOSS societal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Reduction and Prevention of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limate change, including Water-cycl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Global warming and Carbon cycl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ocus on Asia-Pacific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24"/>
          <p:cNvSpPr/>
          <p:nvPr/>
        </p:nvSpPr>
        <p:spPr>
          <a:xfrm>
            <a:off x="468360" y="3139920"/>
            <a:ext cx="8064360" cy="367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2989440" y="2900520"/>
            <a:ext cx="316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504"/>
                </a:solidFill>
                <a:latin typeface="Times New Roman"/>
                <a:ea typeface="Lucida Sans Unicode"/>
              </a:rPr>
              <a:t>9 Societal Benefit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スライド番号プレースホルダ 5"/>
          <p:cNvSpPr/>
          <p:nvPr/>
        </p:nvSpPr>
        <p:spPr>
          <a:xfrm>
            <a:off x="7238880" y="6572160"/>
            <a:ext cx="1905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6F1-8326-46A1-8915-9329D0A59E2F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203040" y="165240"/>
            <a:ext cx="8213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alibri"/>
              </a:rPr>
              <a:t>Long-Term Plan of JAXA Earth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85840" y="836640"/>
          <a:ext cx="8675640" cy="4759200"/>
        </p:xfrm>
        <a:graphic>
          <a:graphicData uri="http://schemas.openxmlformats.org/drawingml/2006/table">
            <a:tbl>
              <a:tblPr/>
              <a:tblGrid>
                <a:gridCol w="1124280"/>
                <a:gridCol w="72000"/>
                <a:gridCol w="576000"/>
                <a:gridCol w="574200"/>
                <a:gridCol w="576000"/>
                <a:gridCol w="576000"/>
                <a:gridCol w="575640"/>
                <a:gridCol w="576000"/>
                <a:gridCol w="576000"/>
                <a:gridCol w="574200"/>
                <a:gridCol w="576000"/>
                <a:gridCol w="576000"/>
                <a:gridCol w="575640"/>
                <a:gridCol w="576000"/>
                <a:gridCol w="571680"/>
              </a:tblGrid>
              <a:tr h="271440">
                <a:tc>
                  <a:txBody>
                    <a:bodyPr lIns="18000" rIns="18000" tIns="18000" bIns="18000" anchor="ctr">
                      <a:noAutofit/>
                    </a:bodyPr>
                    <a:p>
                      <a:pPr marL="8424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842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ＭＳ Ｐゴシック"/>
                          <a:ea typeface="ＭＳ Ｐゴシック"/>
                        </a:rPr>
                        <a:t>Disasters &amp; 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18000" rIns="18000" tIns="18000" bIns="18000" anchor="ctr">
                      <a:noAutofit/>
                    </a:bodyPr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ＭＳ Ｐゴシック"/>
                          <a:ea typeface="ＭＳ Ｐゴシック"/>
                        </a:rPr>
                        <a:t>Climate Change &amp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ＭＳ Ｐゴシック"/>
                          <a:ea typeface="ＭＳ Ｐゴシック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ater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18000" rIns="18000" tIns="18000" bIns="18000" anchor="ctr">
                      <a:noAutofit/>
                    </a:bodyPr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limat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18000" rIns="18000" tIns="18000" bIns="18000" anchor="ctr">
                      <a:noAutofit/>
                    </a:bodyPr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Greenhouse g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04"/>
          <p:cNvSpPr/>
          <p:nvPr/>
        </p:nvSpPr>
        <p:spPr>
          <a:xfrm>
            <a:off x="4619520" y="6019920"/>
            <a:ext cx="7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00"/>
                </a:solidFill>
                <a:latin typeface="Trebuchet MS"/>
                <a:ea typeface="System"/>
              </a:rPr>
              <a:t>　</a:t>
            </a:r>
            <a:r>
              <a:rPr b="0" lang="en-US" sz="1200" spc="-1" strike="noStrike">
                <a:solidFill>
                  <a:srgbClr val="ff3300"/>
                </a:solidFill>
                <a:latin typeface="Trebuchet MS"/>
                <a:ea typeface="System"/>
              </a:rPr>
              <a:t>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05"/>
          <p:cNvSpPr/>
          <p:nvPr/>
        </p:nvSpPr>
        <p:spPr>
          <a:xfrm>
            <a:off x="2156040" y="6026040"/>
            <a:ext cx="5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rebuchet MS"/>
                <a:ea typeface="System"/>
              </a:rPr>
              <a:t>O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06"/>
          <p:cNvSpPr/>
          <p:nvPr/>
        </p:nvSpPr>
        <p:spPr>
          <a:xfrm>
            <a:off x="7476480" y="6000840"/>
            <a:ext cx="70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System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7"/>
          <p:cNvSpPr/>
          <p:nvPr/>
        </p:nvSpPr>
        <p:spPr>
          <a:xfrm>
            <a:off x="379440" y="596736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Mi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8"/>
          <p:cNvSpPr/>
          <p:nvPr/>
        </p:nvSpPr>
        <p:spPr>
          <a:xfrm>
            <a:off x="1614600" y="6118200"/>
            <a:ext cx="485640" cy="0"/>
          </a:xfrm>
          <a:prstGeom prst="line">
            <a:avLst/>
          </a:prstGeom>
          <a:ln w="152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09"/>
          <p:cNvSpPr/>
          <p:nvPr/>
        </p:nvSpPr>
        <p:spPr>
          <a:xfrm>
            <a:off x="7054920" y="6108840"/>
            <a:ext cx="461880" cy="1440"/>
          </a:xfrm>
          <a:prstGeom prst="line">
            <a:avLst/>
          </a:prstGeom>
          <a:ln w="1396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10"/>
          <p:cNvSpPr/>
          <p:nvPr/>
        </p:nvSpPr>
        <p:spPr>
          <a:xfrm>
            <a:off x="4314960" y="6118200"/>
            <a:ext cx="442800" cy="0"/>
          </a:xfrm>
          <a:prstGeom prst="line">
            <a:avLst/>
          </a:prstGeom>
          <a:ln w="152280">
            <a:solidFill>
              <a:srgbClr val="ff33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11"/>
          <p:cNvSpPr/>
          <p:nvPr/>
        </p:nvSpPr>
        <p:spPr>
          <a:xfrm flipV="1">
            <a:off x="4000680" y="1706400"/>
            <a:ext cx="1749240" cy="6480"/>
          </a:xfrm>
          <a:prstGeom prst="line">
            <a:avLst/>
          </a:prstGeom>
          <a:ln w="13968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13"/>
          <p:cNvSpPr/>
          <p:nvPr/>
        </p:nvSpPr>
        <p:spPr>
          <a:xfrm>
            <a:off x="6578640" y="1143000"/>
            <a:ext cx="1890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[Land and Disaster monitoring]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14"/>
          <p:cNvSpPr/>
          <p:nvPr/>
        </p:nvSpPr>
        <p:spPr>
          <a:xfrm>
            <a:off x="3857760" y="2549520"/>
            <a:ext cx="1643040" cy="0"/>
          </a:xfrm>
          <a:prstGeom prst="line">
            <a:avLst/>
          </a:prstGeom>
          <a:ln w="13968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16"/>
          <p:cNvSpPr/>
          <p:nvPr/>
        </p:nvSpPr>
        <p:spPr>
          <a:xfrm>
            <a:off x="7601040" y="2548080"/>
            <a:ext cx="809640" cy="0"/>
          </a:xfrm>
          <a:prstGeom prst="line">
            <a:avLst/>
          </a:prstGeom>
          <a:ln w="139680">
            <a:solidFill>
              <a:srgbClr val="0066ff">
                <a:alpha val="7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17"/>
          <p:cNvSpPr/>
          <p:nvPr/>
        </p:nvSpPr>
        <p:spPr>
          <a:xfrm>
            <a:off x="3857760" y="3228840"/>
            <a:ext cx="1071360" cy="0"/>
          </a:xfrm>
          <a:prstGeom prst="line">
            <a:avLst/>
          </a:prstGeom>
          <a:ln w="13968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グループ化 94"/>
          <p:cNvGrpSpPr/>
          <p:nvPr/>
        </p:nvGrpSpPr>
        <p:grpSpPr>
          <a:xfrm>
            <a:off x="5643720" y="2490840"/>
            <a:ext cx="1823760" cy="152640"/>
            <a:chOff x="5643720" y="2490840"/>
            <a:chExt cx="1823760" cy="152640"/>
          </a:xfrm>
        </p:grpSpPr>
        <p:sp>
          <p:nvSpPr>
            <p:cNvPr id="658" name="Line 115"/>
            <p:cNvSpPr/>
            <p:nvPr/>
          </p:nvSpPr>
          <p:spPr>
            <a:xfrm>
              <a:off x="5643720" y="2566800"/>
              <a:ext cx="1823760" cy="0"/>
            </a:xfrm>
            <a:prstGeom prst="line">
              <a:avLst/>
            </a:prstGeom>
            <a:ln w="152280">
              <a:solidFill>
                <a:srgbClr val="0066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118"/>
            <p:cNvSpPr/>
            <p:nvPr/>
          </p:nvSpPr>
          <p:spPr>
            <a:xfrm>
              <a:off x="6262560" y="2490840"/>
              <a:ext cx="58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GPM/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D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Text Box 119"/>
          <p:cNvSpPr/>
          <p:nvPr/>
        </p:nvSpPr>
        <p:spPr>
          <a:xfrm>
            <a:off x="2337120" y="3000240"/>
            <a:ext cx="826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Aqua/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MSR-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グループ化 95"/>
          <p:cNvGrpSpPr/>
          <p:nvPr/>
        </p:nvGrpSpPr>
        <p:grpSpPr>
          <a:xfrm>
            <a:off x="6143760" y="4000680"/>
            <a:ext cx="2786040" cy="152640"/>
            <a:chOff x="6143760" y="4000680"/>
            <a:chExt cx="2786040" cy="152640"/>
          </a:xfrm>
        </p:grpSpPr>
        <p:sp>
          <p:nvSpPr>
            <p:cNvPr id="662" name="Line 121"/>
            <p:cNvSpPr/>
            <p:nvPr/>
          </p:nvSpPr>
          <p:spPr>
            <a:xfrm>
              <a:off x="6143760" y="4072320"/>
              <a:ext cx="2786040" cy="0"/>
            </a:xfrm>
            <a:prstGeom prst="line">
              <a:avLst/>
            </a:prstGeom>
            <a:ln w="152280">
              <a:solidFill>
                <a:srgbClr val="ff33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22"/>
            <p:cNvSpPr/>
            <p:nvPr/>
          </p:nvSpPr>
          <p:spPr>
            <a:xfrm>
              <a:off x="6581520" y="4000680"/>
              <a:ext cx="102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ＭＳ ゴシック"/>
                </a:rPr>
                <a:t>GCOM-C1/ SG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23"/>
          <p:cNvSpPr/>
          <p:nvPr/>
        </p:nvSpPr>
        <p:spPr>
          <a:xfrm>
            <a:off x="5198760" y="3571920"/>
            <a:ext cx="2661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[Vegetation, aerosol, cloud, SST, ocean color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24"/>
          <p:cNvSpPr/>
          <p:nvPr/>
        </p:nvSpPr>
        <p:spPr>
          <a:xfrm>
            <a:off x="5852160" y="4286160"/>
            <a:ext cx="1945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[Cloud and Aerosol 3D structur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27"/>
          <p:cNvSpPr/>
          <p:nvPr/>
        </p:nvSpPr>
        <p:spPr>
          <a:xfrm>
            <a:off x="4488840" y="5000760"/>
            <a:ext cx="871200" cy="1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[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rebuchet MS"/>
                <a:ea typeface="ＭＳ ゴシック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Methan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28"/>
          <p:cNvSpPr/>
          <p:nvPr/>
        </p:nvSpPr>
        <p:spPr>
          <a:xfrm>
            <a:off x="2336760" y="2286000"/>
            <a:ext cx="58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TRMM/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グループ化 92"/>
          <p:cNvGrpSpPr/>
          <p:nvPr/>
        </p:nvGrpSpPr>
        <p:grpSpPr>
          <a:xfrm>
            <a:off x="4929120" y="3143160"/>
            <a:ext cx="2857680" cy="152640"/>
            <a:chOff x="4929120" y="3143160"/>
            <a:chExt cx="2857680" cy="152640"/>
          </a:xfrm>
        </p:grpSpPr>
        <p:sp>
          <p:nvSpPr>
            <p:cNvPr id="669" name="Line 120"/>
            <p:cNvSpPr/>
            <p:nvPr/>
          </p:nvSpPr>
          <p:spPr>
            <a:xfrm>
              <a:off x="4929120" y="3224160"/>
              <a:ext cx="2857680" cy="0"/>
            </a:xfrm>
            <a:prstGeom prst="line">
              <a:avLst/>
            </a:prstGeom>
            <a:ln w="152280">
              <a:solidFill>
                <a:srgbClr val="0066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130"/>
            <p:cNvSpPr/>
            <p:nvPr/>
          </p:nvSpPr>
          <p:spPr>
            <a:xfrm>
              <a:off x="5551200" y="3143160"/>
              <a:ext cx="161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ＭＳ ゴシック"/>
                </a:rPr>
                <a:t>GCOM-W1/ AMS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131"/>
          <p:cNvSpPr/>
          <p:nvPr/>
        </p:nvSpPr>
        <p:spPr>
          <a:xfrm>
            <a:off x="5633280" y="3000240"/>
            <a:ext cx="1498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[Wind, SST , Water vapor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33"/>
          <p:cNvSpPr/>
          <p:nvPr/>
        </p:nvSpPr>
        <p:spPr>
          <a:xfrm>
            <a:off x="2914560" y="6118200"/>
            <a:ext cx="486000" cy="0"/>
          </a:xfrm>
          <a:prstGeom prst="line">
            <a:avLst/>
          </a:prstGeom>
          <a:ln w="152280">
            <a:solidFill>
              <a:srgbClr val="0066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34"/>
          <p:cNvSpPr/>
          <p:nvPr/>
        </p:nvSpPr>
        <p:spPr>
          <a:xfrm>
            <a:off x="3431880" y="6016680"/>
            <a:ext cx="65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rebuchet MS"/>
                <a:ea typeface="System"/>
              </a:rPr>
              <a:t>Phase B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135" descr=""/>
          <p:cNvPicPr/>
          <p:nvPr/>
        </p:nvPicPr>
        <p:blipFill>
          <a:blip r:embed="rId1"/>
          <a:stretch/>
        </p:blipFill>
        <p:spPr>
          <a:xfrm>
            <a:off x="2857680" y="4929120"/>
            <a:ext cx="630000" cy="2635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36"/>
          <p:cNvSpPr/>
          <p:nvPr/>
        </p:nvSpPr>
        <p:spPr>
          <a:xfrm>
            <a:off x="6143400" y="2286000"/>
            <a:ext cx="834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[Precipit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137" descr=""/>
          <p:cNvPicPr/>
          <p:nvPr/>
        </p:nvPicPr>
        <p:blipFill>
          <a:blip r:embed="rId2"/>
          <a:stretch/>
        </p:blipFill>
        <p:spPr>
          <a:xfrm>
            <a:off x="5143680" y="2071800"/>
            <a:ext cx="539640" cy="380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38" descr="ALOS詳細"/>
          <p:cNvPicPr/>
          <p:nvPr/>
        </p:nvPicPr>
        <p:blipFill>
          <a:blip r:embed="rId3"/>
          <a:stretch/>
        </p:blipFill>
        <p:spPr>
          <a:xfrm>
            <a:off x="3166920" y="1108080"/>
            <a:ext cx="925560" cy="3175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40"/>
          <p:cNvSpPr/>
          <p:nvPr/>
        </p:nvSpPr>
        <p:spPr>
          <a:xfrm>
            <a:off x="7060680" y="5143680"/>
            <a:ext cx="871200" cy="1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[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rebuchet MS"/>
                <a:ea typeface="ＭＳ ゴシック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Methan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グループ化 93"/>
          <p:cNvGrpSpPr/>
          <p:nvPr/>
        </p:nvGrpSpPr>
        <p:grpSpPr>
          <a:xfrm>
            <a:off x="7215120" y="3000240"/>
            <a:ext cx="1714680" cy="152640"/>
            <a:chOff x="7215120" y="3000240"/>
            <a:chExt cx="1714680" cy="152640"/>
          </a:xfrm>
        </p:grpSpPr>
        <p:sp>
          <p:nvSpPr>
            <p:cNvPr id="680" name="Line 141"/>
            <p:cNvSpPr/>
            <p:nvPr/>
          </p:nvSpPr>
          <p:spPr>
            <a:xfrm>
              <a:off x="7215120" y="3077280"/>
              <a:ext cx="1714680" cy="0"/>
            </a:xfrm>
            <a:prstGeom prst="line">
              <a:avLst/>
            </a:prstGeom>
            <a:ln w="152280">
              <a:solidFill>
                <a:srgbClr val="ffcc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42"/>
            <p:cNvSpPr/>
            <p:nvPr/>
          </p:nvSpPr>
          <p:spPr>
            <a:xfrm>
              <a:off x="7659000" y="3000240"/>
              <a:ext cx="82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ＭＳ ゴシック"/>
                </a:rPr>
                <a:t>GCOM-W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グループ化 97"/>
          <p:cNvGrpSpPr/>
          <p:nvPr/>
        </p:nvGrpSpPr>
        <p:grpSpPr>
          <a:xfrm>
            <a:off x="6072120" y="5357880"/>
            <a:ext cx="2879640" cy="152640"/>
            <a:chOff x="6072120" y="5357880"/>
            <a:chExt cx="2879640" cy="152640"/>
          </a:xfrm>
        </p:grpSpPr>
        <p:sp>
          <p:nvSpPr>
            <p:cNvPr id="683" name="Line 139"/>
            <p:cNvSpPr/>
            <p:nvPr/>
          </p:nvSpPr>
          <p:spPr>
            <a:xfrm>
              <a:off x="6072120" y="5433120"/>
              <a:ext cx="2879640" cy="1440"/>
            </a:xfrm>
            <a:prstGeom prst="line">
              <a:avLst/>
            </a:prstGeom>
            <a:ln w="152280">
              <a:solidFill>
                <a:srgbClr val="ffcc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43"/>
            <p:cNvSpPr/>
            <p:nvPr/>
          </p:nvSpPr>
          <p:spPr>
            <a:xfrm>
              <a:off x="6814080" y="5357880"/>
              <a:ext cx="139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ＭＳ ゴシック"/>
                </a:rPr>
                <a:t>GOSAT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グループ化 84"/>
          <p:cNvGrpSpPr/>
          <p:nvPr/>
        </p:nvGrpSpPr>
        <p:grpSpPr>
          <a:xfrm>
            <a:off x="6359400" y="1776240"/>
            <a:ext cx="2355840" cy="152640"/>
            <a:chOff x="6359400" y="1776240"/>
            <a:chExt cx="2355840" cy="152640"/>
          </a:xfrm>
        </p:grpSpPr>
        <p:sp>
          <p:nvSpPr>
            <p:cNvPr id="686" name="Line 112"/>
            <p:cNvSpPr/>
            <p:nvPr/>
          </p:nvSpPr>
          <p:spPr>
            <a:xfrm>
              <a:off x="6359400" y="1852560"/>
              <a:ext cx="2355840" cy="0"/>
            </a:xfrm>
            <a:prstGeom prst="line">
              <a:avLst/>
            </a:prstGeom>
            <a:ln w="152280">
              <a:solidFill>
                <a:srgbClr val="ff33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145"/>
            <p:cNvSpPr/>
            <p:nvPr/>
          </p:nvSpPr>
          <p:spPr>
            <a:xfrm>
              <a:off x="7072200" y="1776240"/>
              <a:ext cx="93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ALOS-3 Op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グループ化 81"/>
          <p:cNvGrpSpPr/>
          <p:nvPr/>
        </p:nvGrpSpPr>
        <p:grpSpPr>
          <a:xfrm>
            <a:off x="5857920" y="1357200"/>
            <a:ext cx="3071880" cy="152640"/>
            <a:chOff x="5857920" y="1357200"/>
            <a:chExt cx="3071880" cy="152640"/>
          </a:xfrm>
        </p:grpSpPr>
        <p:sp>
          <p:nvSpPr>
            <p:cNvPr id="689" name="Line 144"/>
            <p:cNvSpPr/>
            <p:nvPr/>
          </p:nvSpPr>
          <p:spPr>
            <a:xfrm>
              <a:off x="5857920" y="1433520"/>
              <a:ext cx="3071880" cy="0"/>
            </a:xfrm>
            <a:prstGeom prst="line">
              <a:avLst/>
            </a:prstGeom>
            <a:ln w="152280">
              <a:solidFill>
                <a:srgbClr val="ff33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146"/>
            <p:cNvSpPr/>
            <p:nvPr/>
          </p:nvSpPr>
          <p:spPr>
            <a:xfrm>
              <a:off x="7035480" y="1357200"/>
              <a:ext cx="71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ALOS-2 S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Text Box 148"/>
          <p:cNvSpPr/>
          <p:nvPr/>
        </p:nvSpPr>
        <p:spPr>
          <a:xfrm>
            <a:off x="3175200" y="148428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LOS/PAL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49"/>
          <p:cNvSpPr/>
          <p:nvPr/>
        </p:nvSpPr>
        <p:spPr>
          <a:xfrm>
            <a:off x="3228840" y="1827360"/>
            <a:ext cx="144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LOS/PRISM AVNI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150" descr="EarhCARE5"/>
          <p:cNvPicPr/>
          <p:nvPr/>
        </p:nvPicPr>
        <p:blipFill>
          <a:blip r:embed="rId4"/>
          <a:stretch/>
        </p:blipFill>
        <p:spPr>
          <a:xfrm>
            <a:off x="4857840" y="4143240"/>
            <a:ext cx="503280" cy="400320"/>
          </a:xfrm>
          <a:prstGeom prst="rect">
            <a:avLst/>
          </a:prstGeom>
          <a:ln w="0">
            <a:noFill/>
          </a:ln>
        </p:spPr>
      </p:pic>
      <p:grpSp>
        <p:nvGrpSpPr>
          <p:cNvPr id="694" name="グループ化 69"/>
          <p:cNvGrpSpPr/>
          <p:nvPr/>
        </p:nvGrpSpPr>
        <p:grpSpPr>
          <a:xfrm>
            <a:off x="1500120" y="1643040"/>
            <a:ext cx="2286000" cy="152640"/>
            <a:chOff x="1500120" y="1643040"/>
            <a:chExt cx="2286000" cy="152640"/>
          </a:xfrm>
        </p:grpSpPr>
        <p:sp>
          <p:nvSpPr>
            <p:cNvPr id="695" name="Line 129"/>
            <p:cNvSpPr/>
            <p:nvPr/>
          </p:nvSpPr>
          <p:spPr>
            <a:xfrm>
              <a:off x="1500120" y="1704600"/>
              <a:ext cx="2286000" cy="0"/>
            </a:xfrm>
            <a:prstGeom prst="line">
              <a:avLst/>
            </a:prstGeom>
            <a:ln w="1522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51"/>
            <p:cNvSpPr/>
            <p:nvPr/>
          </p:nvSpPr>
          <p:spPr>
            <a:xfrm>
              <a:off x="2362680" y="164304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cc"/>
                  </a:solidFill>
                  <a:latin typeface="Trebuchet MS"/>
                </a:rPr>
                <a:t>AL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グループ化 99"/>
          <p:cNvGrpSpPr/>
          <p:nvPr/>
        </p:nvGrpSpPr>
        <p:grpSpPr>
          <a:xfrm>
            <a:off x="5500800" y="4500720"/>
            <a:ext cx="2757240" cy="152640"/>
            <a:chOff x="5500800" y="4500720"/>
            <a:chExt cx="2757240" cy="152640"/>
          </a:xfrm>
        </p:grpSpPr>
        <p:sp>
          <p:nvSpPr>
            <p:cNvPr id="698" name="Line 126"/>
            <p:cNvSpPr/>
            <p:nvPr/>
          </p:nvSpPr>
          <p:spPr>
            <a:xfrm>
              <a:off x="7358040" y="4556160"/>
              <a:ext cx="900000" cy="0"/>
            </a:xfrm>
            <a:prstGeom prst="line">
              <a:avLst/>
            </a:prstGeom>
            <a:ln w="139680">
              <a:solidFill>
                <a:srgbClr val="0066ff">
                  <a:alpha val="7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グループ化 98"/>
            <p:cNvGrpSpPr/>
            <p:nvPr/>
          </p:nvGrpSpPr>
          <p:grpSpPr>
            <a:xfrm>
              <a:off x="5500800" y="4500720"/>
              <a:ext cx="1728000" cy="152640"/>
              <a:chOff x="5500800" y="4500720"/>
              <a:chExt cx="1728000" cy="152640"/>
            </a:xfrm>
          </p:grpSpPr>
          <p:sp>
            <p:nvSpPr>
              <p:cNvPr id="700" name="Line 125"/>
              <p:cNvSpPr/>
              <p:nvPr/>
            </p:nvSpPr>
            <p:spPr>
              <a:xfrm>
                <a:off x="5500800" y="4576680"/>
                <a:ext cx="1728000" cy="0"/>
              </a:xfrm>
              <a:prstGeom prst="line">
                <a:avLst/>
              </a:prstGeom>
              <a:ln w="152280">
                <a:solidFill>
                  <a:srgbClr val="0066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Rectangle 153"/>
              <p:cNvSpPr/>
              <p:nvPr/>
            </p:nvSpPr>
            <p:spPr>
              <a:xfrm>
                <a:off x="5946120" y="4500720"/>
                <a:ext cx="10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ＭＳ ゴシック"/>
                  </a:rPr>
                  <a:t>EarthCARE/CP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Line 155"/>
          <p:cNvSpPr/>
          <p:nvPr/>
        </p:nvSpPr>
        <p:spPr>
          <a:xfrm>
            <a:off x="8372520" y="3857760"/>
            <a:ext cx="557280" cy="0"/>
          </a:xfrm>
          <a:prstGeom prst="line">
            <a:avLst/>
          </a:prstGeom>
          <a:ln w="152280">
            <a:solidFill>
              <a:srgbClr val="ffcc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56"/>
          <p:cNvSpPr/>
          <p:nvPr/>
        </p:nvSpPr>
        <p:spPr>
          <a:xfrm>
            <a:off x="8338320" y="3786120"/>
            <a:ext cx="58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GCOM-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57"/>
          <p:cNvSpPr/>
          <p:nvPr/>
        </p:nvSpPr>
        <p:spPr>
          <a:xfrm>
            <a:off x="3214800" y="5253120"/>
            <a:ext cx="2879640" cy="0"/>
          </a:xfrm>
          <a:prstGeom prst="line">
            <a:avLst/>
          </a:prstGeom>
          <a:ln w="152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58"/>
          <p:cNvSpPr/>
          <p:nvPr/>
        </p:nvSpPr>
        <p:spPr>
          <a:xfrm>
            <a:off x="4456080" y="517680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ＭＳ ゴシック"/>
              </a:rPr>
              <a:t>GO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159" descr="amsr2"/>
          <p:cNvPicPr/>
          <p:nvPr/>
        </p:nvPicPr>
        <p:blipFill>
          <a:blip r:embed="rId5"/>
          <a:stretch/>
        </p:blipFill>
        <p:spPr>
          <a:xfrm rot="1800000">
            <a:off x="4462560" y="2658600"/>
            <a:ext cx="723960" cy="3272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" descr="C1_Orbit_-Z-Up"/>
          <p:cNvPicPr/>
          <p:nvPr/>
        </p:nvPicPr>
        <p:blipFill>
          <a:blip r:embed="rId6"/>
          <a:stretch/>
        </p:blipFill>
        <p:spPr>
          <a:xfrm>
            <a:off x="5286240" y="3786120"/>
            <a:ext cx="870120" cy="4827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3" descr=""/>
          <p:cNvPicPr/>
          <p:nvPr/>
        </p:nvPicPr>
        <p:blipFill>
          <a:blip r:embed="rId7"/>
          <a:stretch/>
        </p:blipFill>
        <p:spPr>
          <a:xfrm>
            <a:off x="1500120" y="2000160"/>
            <a:ext cx="336600" cy="532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64" descr="aqua_sm"/>
          <p:cNvPicPr/>
          <p:nvPr/>
        </p:nvPicPr>
        <p:blipFill>
          <a:blip r:embed="rId8"/>
          <a:stretch/>
        </p:blipFill>
        <p:spPr>
          <a:xfrm>
            <a:off x="1500120" y="2857680"/>
            <a:ext cx="514440" cy="317160"/>
          </a:xfrm>
          <a:prstGeom prst="rect">
            <a:avLst/>
          </a:prstGeom>
          <a:ln w="0">
            <a:noFill/>
          </a:ln>
        </p:spPr>
      </p:pic>
      <p:grpSp>
        <p:nvGrpSpPr>
          <p:cNvPr id="710" name="グループ化 88"/>
          <p:cNvGrpSpPr/>
          <p:nvPr/>
        </p:nvGrpSpPr>
        <p:grpSpPr>
          <a:xfrm>
            <a:off x="1500120" y="2463840"/>
            <a:ext cx="2286000" cy="152640"/>
            <a:chOff x="1500120" y="2463840"/>
            <a:chExt cx="2286000" cy="152640"/>
          </a:xfrm>
        </p:grpSpPr>
        <p:sp>
          <p:nvSpPr>
            <p:cNvPr id="711" name="Line 162"/>
            <p:cNvSpPr/>
            <p:nvPr/>
          </p:nvSpPr>
          <p:spPr>
            <a:xfrm>
              <a:off x="1500120" y="2549520"/>
              <a:ext cx="2286000" cy="0"/>
            </a:xfrm>
            <a:prstGeom prst="line">
              <a:avLst/>
            </a:prstGeom>
            <a:ln w="139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165"/>
            <p:cNvSpPr/>
            <p:nvPr/>
          </p:nvSpPr>
          <p:spPr>
            <a:xfrm>
              <a:off x="2469960" y="2463840"/>
              <a:ext cx="458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cc"/>
                  </a:solidFill>
                  <a:latin typeface="Trebuchet MS"/>
                </a:rPr>
                <a:t>TR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Rectangle 104"/>
          <p:cNvSpPr/>
          <p:nvPr/>
        </p:nvSpPr>
        <p:spPr>
          <a:xfrm>
            <a:off x="5891400" y="5973840"/>
            <a:ext cx="104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00"/>
                </a:solidFill>
                <a:latin typeface="Trebuchet MS"/>
                <a:ea typeface="System"/>
              </a:rPr>
              <a:t>　</a:t>
            </a:r>
            <a:r>
              <a:rPr b="0" lang="en-US" sz="1200" spc="-1" strike="noStrike">
                <a:solidFill>
                  <a:srgbClr val="ff3300"/>
                </a:solidFill>
                <a:latin typeface="Trebuchet MS"/>
                <a:ea typeface="System"/>
              </a:rPr>
              <a:t>Pre-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10"/>
          <p:cNvSpPr/>
          <p:nvPr/>
        </p:nvSpPr>
        <p:spPr>
          <a:xfrm>
            <a:off x="5500800" y="6072120"/>
            <a:ext cx="442800" cy="0"/>
          </a:xfrm>
          <a:prstGeom prst="line">
            <a:avLst/>
          </a:prstGeom>
          <a:ln w="152280">
            <a:solidFill>
              <a:srgbClr val="ffcc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図 5" descr="ALOS-2_trans.png"/>
          <p:cNvPicPr/>
          <p:nvPr/>
        </p:nvPicPr>
        <p:blipFill>
          <a:blip r:embed="rId9"/>
          <a:stretch/>
        </p:blipFill>
        <p:spPr>
          <a:xfrm>
            <a:off x="5143680" y="1071720"/>
            <a:ext cx="603000" cy="4842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52" descr="次期陸域OPT"/>
          <p:cNvPicPr/>
          <p:nvPr/>
        </p:nvPicPr>
        <p:blipFill>
          <a:blip r:embed="rId10"/>
          <a:stretch/>
        </p:blipFill>
        <p:spPr>
          <a:xfrm>
            <a:off x="5824440" y="1571760"/>
            <a:ext cx="604800" cy="315720"/>
          </a:xfrm>
          <a:prstGeom prst="rect">
            <a:avLst/>
          </a:prstGeom>
          <a:ln w="0">
            <a:noFill/>
          </a:ln>
        </p:spPr>
      </p:pic>
      <p:grpSp>
        <p:nvGrpSpPr>
          <p:cNvPr id="717" name="グループ化 89"/>
          <p:cNvGrpSpPr/>
          <p:nvPr/>
        </p:nvGrpSpPr>
        <p:grpSpPr>
          <a:xfrm>
            <a:off x="1500120" y="3143160"/>
            <a:ext cx="2286000" cy="304920"/>
            <a:chOff x="1500120" y="3143160"/>
            <a:chExt cx="2286000" cy="304920"/>
          </a:xfrm>
        </p:grpSpPr>
        <p:sp>
          <p:nvSpPr>
            <p:cNvPr id="718" name="Line 162"/>
            <p:cNvSpPr/>
            <p:nvPr/>
          </p:nvSpPr>
          <p:spPr>
            <a:xfrm>
              <a:off x="1500120" y="3228840"/>
              <a:ext cx="2286000" cy="0"/>
            </a:xfrm>
            <a:prstGeom prst="line">
              <a:avLst/>
            </a:prstGeom>
            <a:ln w="139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65"/>
            <p:cNvSpPr/>
            <p:nvPr/>
          </p:nvSpPr>
          <p:spPr>
            <a:xfrm>
              <a:off x="2469960" y="3143160"/>
              <a:ext cx="345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cc"/>
                  </a:solidFill>
                  <a:latin typeface="Trebuchet MS"/>
                </a:rPr>
                <a:t>AQ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Rectangle 154"/>
          <p:cNvSpPr/>
          <p:nvPr/>
        </p:nvSpPr>
        <p:spPr>
          <a:xfrm>
            <a:off x="6318360" y="3848040"/>
            <a:ext cx="1774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250m, multi-angle, pola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スライド番号プレースホルダ 80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DD1-F86B-4922-8661-ED28C0758921}" type="slidenum">
              <a:rPr b="0" lang="en-US" sz="1200" spc="-1" strike="noStrike">
                <a:solidFill>
                  <a:srgbClr val="6e411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テキスト ボックス 81"/>
          <p:cNvSpPr/>
          <p:nvPr/>
        </p:nvSpPr>
        <p:spPr>
          <a:xfrm>
            <a:off x="2357280" y="3714840"/>
            <a:ext cx="1822680" cy="495000"/>
          </a:xfrm>
          <a:prstGeom prst="wedgeRoundRectCallout">
            <a:avLst>
              <a:gd name="adj1" fmla="val 284833"/>
              <a:gd name="adj2" fmla="val 153194"/>
              <a:gd name="adj3" fmla="val 16667"/>
            </a:avLst>
          </a:prstGeom>
          <a:solidFill>
            <a:srgbClr val="92d050"/>
          </a:solidFill>
          <a:ln w="19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bel"/>
                <a:ea typeface="ＭＳ ゴシック"/>
              </a:rPr>
              <a:t>Geostationary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テキスト ボックス 82"/>
          <p:cNvSpPr/>
          <p:nvPr/>
        </p:nvSpPr>
        <p:spPr>
          <a:xfrm>
            <a:off x="428760" y="4500720"/>
            <a:ext cx="2857320" cy="459000"/>
          </a:xfrm>
          <a:prstGeom prst="rect">
            <a:avLst/>
          </a:prstGeom>
          <a:solidFill>
            <a:srgbClr val="92d050"/>
          </a:solidFill>
          <a:ln w="19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ＭＳ ゴシック"/>
              </a:rPr>
              <a:t>Air Quality/Climate Change/Meteo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39"/>
          <p:cNvSpPr/>
          <p:nvPr/>
        </p:nvSpPr>
        <p:spPr>
          <a:xfrm>
            <a:off x="8358120" y="4714920"/>
            <a:ext cx="642960" cy="0"/>
          </a:xfrm>
          <a:prstGeom prst="line">
            <a:avLst/>
          </a:prstGeom>
          <a:ln w="152280">
            <a:solidFill>
              <a:srgbClr val="92d05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C:\manish\trend\global_emission.JPG"/>
          <p:cNvPicPr/>
          <p:nvPr/>
        </p:nvPicPr>
        <p:blipFill>
          <a:blip r:embed="rId1"/>
          <a:srcRect l="1210" t="15830" r="3024" b="19253"/>
          <a:stretch/>
        </p:blipFill>
        <p:spPr>
          <a:xfrm>
            <a:off x="0" y="1600200"/>
            <a:ext cx="4572000" cy="382752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3"/>
          <p:cNvSpPr/>
          <p:nvPr/>
        </p:nvSpPr>
        <p:spPr>
          <a:xfrm>
            <a:off x="457200" y="914400"/>
            <a:ext cx="84582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crease of Anthropogenic Emissions of NOx in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152280" y="64800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kimoto, Science,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Picture 3" descr="_x001f_文書名 -報告書案_4章#3EB289.psd                                00073B98_x000c_Macintosh HD                   C017B030:"/>
          <p:cNvPicPr/>
          <p:nvPr/>
        </p:nvPicPr>
        <p:blipFill>
          <a:blip r:embed="rId2"/>
          <a:stretch/>
        </p:blipFill>
        <p:spPr>
          <a:xfrm>
            <a:off x="4724280" y="2666880"/>
            <a:ext cx="4267440" cy="2617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" descr="_x001f_acp-7-4419-2007, pub#3EB266.psd                                00073B98_x000c_Macintosh HD                   C017B030:"/>
          <p:cNvPicPr/>
          <p:nvPr/>
        </p:nvPicPr>
        <p:blipFill>
          <a:blip r:embed="rId3"/>
          <a:stretch/>
        </p:blipFill>
        <p:spPr>
          <a:xfrm>
            <a:off x="4876920" y="1828800"/>
            <a:ext cx="4114800" cy="8492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8"/>
          <p:cNvSpPr/>
          <p:nvPr/>
        </p:nvSpPr>
        <p:spPr>
          <a:xfrm>
            <a:off x="4876920" y="6480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Ohara, Akimoto, et al. ACP,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5105520" y="54100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y a factor of 3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sian total (×4 in Ch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5029200" y="1447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: 1980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1"/>
          <p:cNvSpPr/>
          <p:nvPr/>
        </p:nvSpPr>
        <p:spPr>
          <a:xfrm>
            <a:off x="1219320" y="1447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0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228600" y="5410080"/>
            <a:ext cx="4495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an Emission is Overwhel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正方形/長方形 11"/>
          <p:cNvSpPr/>
          <p:nvPr/>
        </p:nvSpPr>
        <p:spPr>
          <a:xfrm>
            <a:off x="285840" y="285840"/>
            <a:ext cx="8358120" cy="459720"/>
          </a:xfrm>
          <a:prstGeom prst="rect">
            <a:avLst/>
          </a:prstGeom>
          <a:solidFill>
            <a:srgbClr val="ffeab8"/>
          </a:solidFill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Needs of Geostationary Satellite for Air Pollution in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テキスト ボックス 12"/>
          <p:cNvSpPr/>
          <p:nvPr/>
        </p:nvSpPr>
        <p:spPr>
          <a:xfrm>
            <a:off x="6765120" y="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 Dr H. Akimoto’s AGU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52280" y="762120"/>
            <a:ext cx="8839440" cy="1752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observation sites for continuous measurement of air quality are very scarce. 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ational data are not necessarily open to public in many countries except for international network sites.   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</p:txBody>
      </p:sp>
      <p:pic>
        <p:nvPicPr>
          <p:cNvPr id="738" name="Picture 4" descr="_x001f_WMO/GAW O3 Stations in Asia.jpg                                001C2DD8_x000c_Macintosh HD                   C017B030:"/>
          <p:cNvPicPr/>
          <p:nvPr/>
        </p:nvPicPr>
        <p:blipFill>
          <a:blip r:embed="rId1"/>
          <a:stretch/>
        </p:blipFill>
        <p:spPr>
          <a:xfrm>
            <a:off x="0" y="2971800"/>
            <a:ext cx="4114800" cy="3174840"/>
          </a:xfrm>
          <a:prstGeom prst="rect">
            <a:avLst/>
          </a:prstGeom>
          <a:ln w="0">
            <a:noFill/>
          </a:ln>
        </p:spPr>
      </p:pic>
      <p:sp>
        <p:nvSpPr>
          <p:cNvPr id="739" name="Oval 5"/>
          <p:cNvSpPr/>
          <p:nvPr/>
        </p:nvSpPr>
        <p:spPr>
          <a:xfrm>
            <a:off x="533520" y="4267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6"/>
          <p:cNvSpPr/>
          <p:nvPr/>
        </p:nvSpPr>
        <p:spPr>
          <a:xfrm>
            <a:off x="1828800" y="5029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7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8"/>
          <p:cNvSpPr/>
          <p:nvPr/>
        </p:nvSpPr>
        <p:spPr>
          <a:xfrm>
            <a:off x="2666880" y="4648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9"/>
          <p:cNvSpPr/>
          <p:nvPr/>
        </p:nvSpPr>
        <p:spPr>
          <a:xfrm>
            <a:off x="2743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0"/>
          <p:cNvSpPr/>
          <p:nvPr/>
        </p:nvSpPr>
        <p:spPr>
          <a:xfrm>
            <a:off x="3200400" y="5029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1"/>
          <p:cNvSpPr/>
          <p:nvPr/>
        </p:nvSpPr>
        <p:spPr>
          <a:xfrm>
            <a:off x="228600" y="64008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61db"/>
                </a:solidFill>
                <a:latin typeface="Times New Roman"/>
                <a:ea typeface="Times New Roman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e Sonde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urface Oz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2"/>
          <p:cNvSpPr/>
          <p:nvPr/>
        </p:nvSpPr>
        <p:spPr>
          <a:xfrm>
            <a:off x="228600" y="2590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O/GAW Ozone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3886200" y="25909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NET Stations: wet 55/gas, aerosol 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6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3886200" cy="373212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1038"/>
          <p:cNvSpPr/>
          <p:nvPr/>
        </p:nvSpPr>
        <p:spPr>
          <a:xfrm>
            <a:off x="2743200" y="152280"/>
            <a:ext cx="2895480" cy="459720"/>
          </a:xfrm>
          <a:prstGeom prst="rect">
            <a:avLst/>
          </a:prstGeom>
          <a:solidFill>
            <a:srgbClr val="ffe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テキスト ボックス 14"/>
          <p:cNvSpPr/>
          <p:nvPr/>
        </p:nvSpPr>
        <p:spPr>
          <a:xfrm>
            <a:off x="6765120" y="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 Dr H. Akimoto’s AGU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7" descr="&#13;スライド1.jpg                                                  00711B1B_x000c_Macintosh HD                   C59409E8:"/>
          <p:cNvPicPr/>
          <p:nvPr/>
        </p:nvPicPr>
        <p:blipFill>
          <a:blip r:embed="rId1"/>
          <a:stretch/>
        </p:blipFill>
        <p:spPr>
          <a:xfrm>
            <a:off x="5257800" y="2786040"/>
            <a:ext cx="3886200" cy="343548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2"/>
          <p:cNvSpPr/>
          <p:nvPr/>
        </p:nvSpPr>
        <p:spPr>
          <a:xfrm>
            <a:off x="26640" y="214200"/>
            <a:ext cx="7107480" cy="642600"/>
          </a:xfrm>
          <a:prstGeom prst="rect">
            <a:avLst/>
          </a:prstGeom>
          <a:solidFill>
            <a:srgbClr val="ffeab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cientific Requirement of Air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0" y="19861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297180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0" y="2928960"/>
            <a:ext cx="57862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is-IS" sz="2000" spc="-1" strike="noStrike">
                <a:solidFill>
                  <a:srgbClr val="000000"/>
                </a:solidFill>
                <a:latin typeface="Times New Roman"/>
              </a:rPr>
              <a:t>Asia; Japan and East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&amp;IFO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ly 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nstruments on Geostationary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s-IS" sz="2400" spc="-1" strike="noStrike">
                <a:solidFill>
                  <a:srgbClr val="000000"/>
                </a:solidFill>
                <a:latin typeface="Times New Roman"/>
              </a:rPr>
              <a:t>UV/Vis Spectrometer for O3, N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infrared Imaging FTS for Ozone/CO/Temperature/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opes are Air Quality, Climate Change and Meteor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Un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228600" y="1000080"/>
            <a:ext cx="89154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observe temporal and spatial distributions of ozone, aerosol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ir precursors in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identify emission sources, transport and photochemical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serve for atmospheric environment policy by clarifying atm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 issues in each region and transboundary air poll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aim for accurate chemical weather forecasting by data assim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テキスト ボックス 8"/>
          <p:cNvSpPr/>
          <p:nvPr/>
        </p:nvSpPr>
        <p:spPr>
          <a:xfrm>
            <a:off x="6765120" y="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 Dr H. Akimoto’s AGU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屈折矢印 26"/>
          <p:cNvSpPr/>
          <p:nvPr/>
        </p:nvSpPr>
        <p:spPr>
          <a:xfrm flipH="1" rot="16200000">
            <a:off x="6500880" y="3786120"/>
            <a:ext cx="928800" cy="928800"/>
          </a:xfrm>
          <a:custGeom>
            <a:avLst/>
            <a:gdLst>
              <a:gd name="textAreaLeft" fmla="*/ 0 w 928800"/>
              <a:gd name="textAreaRight" fmla="*/ 812880 w 928800"/>
              <a:gd name="textAreaTop" fmla="*/ 696600 h 928800"/>
              <a:gd name="textAreaBottom" fmla="*/ 929160 h 928800"/>
            </a:gdLst>
            <a:ahLst/>
            <a:rect l="textAreaLeft" t="textAreaTop" r="textAreaRight" b="textAreaBottom"/>
            <a:pathLst>
              <a:path w="928687" h="928687">
                <a:moveTo>
                  <a:pt x="0" y="696515"/>
                </a:moveTo>
                <a:lnTo>
                  <a:pt x="580429" y="696515"/>
                </a:lnTo>
                <a:lnTo>
                  <a:pt x="580429" y="232172"/>
                </a:lnTo>
                <a:lnTo>
                  <a:pt x="464344" y="232172"/>
                </a:lnTo>
                <a:lnTo>
                  <a:pt x="696515" y="0"/>
                </a:lnTo>
                <a:lnTo>
                  <a:pt x="928687" y="232172"/>
                </a:lnTo>
                <a:lnTo>
                  <a:pt x="812601" y="232172"/>
                </a:lnTo>
                <a:lnTo>
                  <a:pt x="812601" y="928687"/>
                </a:lnTo>
                <a:lnTo>
                  <a:pt x="0" y="928687"/>
                </a:lnTo>
                <a:close/>
              </a:path>
            </a:pathLst>
          </a:custGeom>
          <a:solidFill>
            <a:srgbClr val="e3560e"/>
          </a:solidFill>
          <a:ln w="19440">
            <a:solidFill>
              <a:srgbClr val="a73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下矢印 22"/>
          <p:cNvSpPr/>
          <p:nvPr/>
        </p:nvSpPr>
        <p:spPr>
          <a:xfrm>
            <a:off x="3071880" y="1714680"/>
            <a:ext cx="571320" cy="2500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e3560e"/>
          </a:solidFill>
          <a:ln w="1944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"/>
          <p:cNvSpPr/>
          <p:nvPr/>
        </p:nvSpPr>
        <p:spPr>
          <a:xfrm>
            <a:off x="285840" y="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of JAXA Geostationary Air Quality and Meteolorogy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1357200" y="5214960"/>
            <a:ext cx="593244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 key technology of  an imaging 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C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6"/>
          <p:cNvSpPr/>
          <p:nvPr/>
        </p:nvSpPr>
        <p:spPr>
          <a:xfrm>
            <a:off x="428760" y="5143680"/>
            <a:ext cx="8458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テキスト ボックス 4"/>
          <p:cNvSpPr/>
          <p:nvPr/>
        </p:nvSpPr>
        <p:spPr>
          <a:xfrm>
            <a:off x="928800" y="857160"/>
            <a:ext cx="4786200" cy="916920"/>
          </a:xfrm>
          <a:prstGeom prst="rect">
            <a:avLst/>
          </a:prstGeom>
          <a:solidFill>
            <a:srgbClr val="fff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Society of Atmospheric Chemistry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 on Atmospheric Environment Observation Satellite (Leader: Dr. H. Akimo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テキスト ボックス 5"/>
          <p:cNvSpPr/>
          <p:nvPr/>
        </p:nvSpPr>
        <p:spPr>
          <a:xfrm>
            <a:off x="928800" y="1857240"/>
            <a:ext cx="4786200" cy="1191240"/>
          </a:xfrm>
          <a:prstGeom prst="rect">
            <a:avLst/>
          </a:prstGeom>
          <a:solidFill>
            <a:srgbClr val="fff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WG@the committee abo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Requirement Team (SR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s and Sensitivity Study Team (S3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テキスト ボックス 6"/>
          <p:cNvSpPr/>
          <p:nvPr/>
        </p:nvSpPr>
        <p:spPr>
          <a:xfrm>
            <a:off x="928800" y="2928960"/>
            <a:ext cx="4786200" cy="642600"/>
          </a:xfrm>
          <a:prstGeom prst="rect">
            <a:avLst/>
          </a:prstGeom>
          <a:solidFill>
            <a:srgbClr val="fff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XA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 for Discussion on Geostationary Atmospheric Observation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テキスト ボックス 7"/>
          <p:cNvSpPr/>
          <p:nvPr/>
        </p:nvSpPr>
        <p:spPr>
          <a:xfrm>
            <a:off x="142920" y="1000080"/>
            <a:ext cx="71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テキスト ボックス 8"/>
          <p:cNvSpPr/>
          <p:nvPr/>
        </p:nvSpPr>
        <p:spPr>
          <a:xfrm>
            <a:off x="142920" y="2143080"/>
            <a:ext cx="71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テキスト ボックス 9"/>
          <p:cNvSpPr/>
          <p:nvPr/>
        </p:nvSpPr>
        <p:spPr>
          <a:xfrm>
            <a:off x="142920" y="2928960"/>
            <a:ext cx="71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テキスト ボックス 11"/>
          <p:cNvSpPr/>
          <p:nvPr/>
        </p:nvSpPr>
        <p:spPr>
          <a:xfrm>
            <a:off x="5835600" y="2936880"/>
            <a:ext cx="3214800" cy="916920"/>
          </a:xfrm>
          <a:prstGeom prst="rect">
            <a:avLst/>
          </a:prstGeom>
          <a:solidFill>
            <a:srgbClr val="fff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XA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</a:t>
            </a:r>
            <a:r>
              <a:rPr b="0" lang="is-IS" sz="1800" spc="-1" strike="noStrike">
                <a:solidFill>
                  <a:srgbClr val="000000"/>
                </a:solidFill>
                <a:latin typeface="Times New Roman"/>
              </a:rPr>
              <a:t>Japan Meteorological Agency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 </a:t>
            </a:r>
            <a:r>
              <a:rPr b="0" lang="is-I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テキスト ボックス 12"/>
          <p:cNvSpPr/>
          <p:nvPr/>
        </p:nvSpPr>
        <p:spPr>
          <a:xfrm>
            <a:off x="2071800" y="4214880"/>
            <a:ext cx="4357440" cy="642600"/>
          </a:xfrm>
          <a:prstGeom prst="rect">
            <a:avLst/>
          </a:prstGeom>
          <a:solidFill>
            <a:srgbClr val="fff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XA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R (Mission Definition Review) on 24th Dec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テキスト ボックス 13"/>
          <p:cNvSpPr/>
          <p:nvPr/>
        </p:nvSpPr>
        <p:spPr>
          <a:xfrm>
            <a:off x="142920" y="4143240"/>
            <a:ext cx="71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テキスト ボックス 15"/>
          <p:cNvSpPr/>
          <p:nvPr/>
        </p:nvSpPr>
        <p:spPr>
          <a:xfrm>
            <a:off x="5883480" y="2643120"/>
            <a:ext cx="34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next generation of Met. Sat. not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940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4" name=""/>
          <p:cNvGraphicFramePr/>
          <p:nvPr/>
        </p:nvGraphicFramePr>
        <p:xfrm>
          <a:off x="214200" y="1371600"/>
          <a:ext cx="8817120" cy="5370480"/>
        </p:xfrm>
        <a:graphic>
          <a:graphicData uri="http://schemas.openxmlformats.org/drawingml/2006/table">
            <a:tbl>
              <a:tblPr/>
              <a:tblGrid>
                <a:gridCol w="2597400"/>
                <a:gridCol w="2992320"/>
                <a:gridCol w="322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V/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rmal 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htnessTe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esearch produc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(SO2, HCHO, Aerosol(AOT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pper/lower Trop.) , CO, (HN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Te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urnal Observ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time only (hour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and Night (hour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s-I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Japan and East China</a:t>
                      </a:r>
                      <a:br>
                        <a:rPr sz="1800"/>
                      </a:br>
                      <a:r>
                        <a:rPr b="0" lang="is-I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(4000 km×4000 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tral 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-60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753-784 nm (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1200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-2250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tr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ampling interv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6nm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1nm@310-600 n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&lt;0.12 nm (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F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km   (280-310 n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 km   (310-600 n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less than 10 km (4k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requirement to inst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50@500 n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00@33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K(SN290)@1030cm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5K(SN30)@2160cm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タイトル 1"/>
          <p:cNvGrpSpPr/>
          <p:nvPr/>
        </p:nvGrpSpPr>
        <p:grpSpPr>
          <a:xfrm>
            <a:off x="706320" y="133200"/>
            <a:ext cx="7785360" cy="549360"/>
            <a:chOff x="706320" y="133200"/>
            <a:chExt cx="7785360" cy="549360"/>
          </a:xfrm>
        </p:grpSpPr>
        <p:pic>
          <p:nvPicPr>
            <p:cNvPr id="776" name="タイトル 1" descr=""/>
            <p:cNvPicPr/>
            <p:nvPr/>
          </p:nvPicPr>
          <p:blipFill>
            <a:blip r:embed="rId1"/>
            <a:stretch/>
          </p:blipFill>
          <p:spPr>
            <a:xfrm>
              <a:off x="706320" y="133200"/>
              <a:ext cx="7785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714240" y="14292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4000" spc="-1" strike="noStrike">
                  <a:solidFill>
                    <a:srgbClr val="975c1e"/>
                  </a:solidFill>
                  <a:latin typeface="Calibri"/>
                  <a:ea typeface="HGｺﾞｼｯｸE"/>
                </a:rPr>
                <a:t>Mission Study Statu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400" spc="-1" strike="noStrike">
                <a:solidFill>
                  <a:srgbClr val="975c1e"/>
                </a:solidFill>
                <a:latin typeface="Corbel"/>
              </a:rPr>
              <a:t>Requirements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5c1e"/>
                </a:solidFill>
                <a:latin typeface="Corbel"/>
              </a:rPr>
              <a:t>Air Quality: Baseline requirements from 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2" marL="1131480" indent="-226080">
              <a:spcBef>
                <a:spcPts val="550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Commisson for Discussion on Geostationary Atmospheric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Observation Mission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2" marL="1131480" indent="-226080">
              <a:spcBef>
                <a:spcPts val="550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this requirements based on originally proposed by Japan Society of Atmospheric Chemistry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：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Committee on Atmospheric Environment Observation Satellite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5c1e"/>
                </a:solidFill>
                <a:latin typeface="Corbel"/>
              </a:rPr>
              <a:t>Meteorology: Baseline requirements from 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2" marL="1131480" indent="-226080">
              <a:spcBef>
                <a:spcPts val="550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975c1e"/>
                </a:solidFill>
                <a:latin typeface="Corbel"/>
              </a:rPr>
              <a:t>WMO GOS-2009 and communication with Japan Meteorological Agency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400" spc="-1" strike="noStrike">
                <a:solidFill>
                  <a:srgbClr val="975c1e"/>
                </a:solidFill>
                <a:latin typeface="Corbel"/>
              </a:rPr>
              <a:t>Status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Measurement, instrument and retrieval requirements have been defined at MDR, but it’s still preliminary level and refining is necessary.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35480" indent="-282960"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Study of instrumentation will be made in 2010. Especially key technology on imaging FTS 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2:58:08Z</dcterms:created>
  <dc:creator/>
  <dc:description/>
  <dc:language>en-US</dc:language>
  <cp:lastModifiedBy>JAXA/EORC</cp:lastModifiedBy>
  <cp:lastPrinted>2009-12-09T03:00:06Z</cp:lastPrinted>
  <dcterms:modified xsi:type="dcterms:W3CDTF">2010-03-31T16:13:26Z</dcterms:modified>
  <cp:revision>385</cp:revision>
  <dc:subject/>
  <dc:title>PowerPoint プレゼンテーション</dc:title>
</cp:coreProperties>
</file>