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3812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3400" y="685800"/>
            <a:ext cx="47754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4956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9917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38120" y="89917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8E54-2EB6-4F6B-B5E3-D856C42B63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038480" y="89917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D6E0-A801-4A53-9F04-32A53E3231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038480" y="89917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3074-DB0B-4655-8D6A-47F3B70142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1F1-9488-420E-9BCC-C5EA6A78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9AE-1B16-43E3-BDDE-52BA1B21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78C-B141-4BEB-A791-63C1C474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E3A-EC37-4A28-91A9-75935FFF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883-CE47-4928-875E-D1E258EB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B41-ACA6-4F35-BBE2-50D15685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8D1-5679-4040-988C-3836A312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834-316A-42AA-95AC-62B2A3EA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2481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991-78CB-4203-8233-B616EC2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C21-C6B8-4158-ACAE-0E1A795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3CF-F30B-45A7-A1C3-09250DB4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BFA-476F-42B6-A8FD-071EA80F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7A38-C09F-477F-934F-80935CD93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38160">
            <a:solidFill>
              <a:srgbClr val="61a2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CEOSlogo-downsized"/>
          <p:cNvPicPr/>
          <p:nvPr/>
        </p:nvPicPr>
        <p:blipFill>
          <a:blip r:embed="rId2"/>
          <a:stretch/>
        </p:blipFill>
        <p:spPr>
          <a:xfrm>
            <a:off x="304920" y="152280"/>
            <a:ext cx="9903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tmospheric Composition Constellation (ACC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CC-19 – 04/05 June – Washington</a:t>
            </a:r>
            <a:br>
              <a:rPr sz="2800"/>
            </a:b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us Zeh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1" descr=""/>
          <p:cNvPicPr/>
          <p:nvPr/>
        </p:nvPicPr>
        <p:blipFill>
          <a:blip r:embed="rId1"/>
          <a:stretch/>
        </p:blipFill>
        <p:spPr>
          <a:xfrm>
            <a:off x="8381880" y="6124680"/>
            <a:ext cx="609840" cy="54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3" descr=""/>
          <p:cNvPicPr/>
          <p:nvPr/>
        </p:nvPicPr>
        <p:blipFill>
          <a:blip r:embed="rId2"/>
          <a:srcRect l="0" t="0" r="63032" b="0"/>
          <a:stretch/>
        </p:blipFill>
        <p:spPr>
          <a:xfrm>
            <a:off x="7020000" y="6168960"/>
            <a:ext cx="838080" cy="5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"/>
          <p:cNvPicPr/>
          <p:nvPr/>
        </p:nvPicPr>
        <p:blipFill>
          <a:blip r:embed="rId3"/>
          <a:stretch/>
        </p:blipFill>
        <p:spPr>
          <a:xfrm>
            <a:off x="15228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"/>
          <p:cNvPicPr/>
          <p:nvPr/>
        </p:nvPicPr>
        <p:blipFill>
          <a:blip r:embed="rId4"/>
          <a:stretch/>
        </p:blipFill>
        <p:spPr>
          <a:xfrm>
            <a:off x="6300720" y="6165720"/>
            <a:ext cx="523800" cy="524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"/>
          <p:cNvPicPr/>
          <p:nvPr/>
        </p:nvPicPr>
        <p:blipFill>
          <a:blip r:embed="rId5"/>
          <a:stretch/>
        </p:blipFill>
        <p:spPr>
          <a:xfrm>
            <a:off x="4932360" y="6165720"/>
            <a:ext cx="114300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9" descr=""/>
          <p:cNvPicPr/>
          <p:nvPr/>
        </p:nvPicPr>
        <p:blipFill>
          <a:blip r:embed="rId6"/>
          <a:srcRect l="69357" t="0" r="0" b="0"/>
          <a:stretch/>
        </p:blipFill>
        <p:spPr>
          <a:xfrm>
            <a:off x="3708360" y="6165720"/>
            <a:ext cx="838080" cy="489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2" descr=""/>
          <p:cNvPicPr/>
          <p:nvPr/>
        </p:nvPicPr>
        <p:blipFill>
          <a:blip r:embed="rId7"/>
          <a:stretch/>
        </p:blipFill>
        <p:spPr>
          <a:xfrm>
            <a:off x="1905120" y="6276960"/>
            <a:ext cx="790560" cy="42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3" descr=""/>
          <p:cNvPicPr/>
          <p:nvPr/>
        </p:nvPicPr>
        <p:blipFill>
          <a:blip r:embed="rId8"/>
          <a:stretch/>
        </p:blipFill>
        <p:spPr>
          <a:xfrm>
            <a:off x="838080" y="6248520"/>
            <a:ext cx="990720" cy="39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7" descr="dlr_logo"/>
          <p:cNvPicPr/>
          <p:nvPr/>
        </p:nvPicPr>
        <p:blipFill>
          <a:blip r:embed="rId9"/>
          <a:srcRect l="0" t="21336" r="0" b="21336"/>
          <a:stretch/>
        </p:blipFill>
        <p:spPr>
          <a:xfrm>
            <a:off x="2771640" y="6165720"/>
            <a:ext cx="62892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cope of Meeting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-10 Meeting at Washingt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 to address/highlight the limb/occultation mission gab (ACC gab analysis Nov. 200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ef Review of the AQ Constellation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 follow up of the CEOS Task Force recommendation on establishing a GHG Constel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n Volcanic Ash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ef Workshop on combining USA and European long term total ozone data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22:32:44Z</dcterms:created>
  <dc:creator>HP Authorized Customer</dc:creator>
  <dc:description/>
  <dc:language>en-US</dc:language>
  <cp:lastModifiedBy>Claus Zehner</cp:lastModifiedBy>
  <dcterms:modified xsi:type="dcterms:W3CDTF">2014-06-03T19:24:40Z</dcterms:modified>
  <cp:revision>421</cp:revision>
  <dc:subject/>
  <dc:title>CEOS  Constellation Study  SIT-19 Lo Jallo, CA  September 19, 2006</dc:title>
</cp:coreProperties>
</file>