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907588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713880" y="740880"/>
            <a:ext cx="536580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2"/>
          </p:nvPr>
        </p:nvSpPr>
        <p:spPr>
          <a:xfrm>
            <a:off x="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"/>
          </p:nvPr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ECA21-7803-42F0-8962-C03288751F1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51280" y="941076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D5BA8-24F2-44E3-B08E-B8DBE09C916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714240" y="7412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5040" y="4703400"/>
            <a:ext cx="49845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25440" y="55080"/>
            <a:ext cx="915048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41496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808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2184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41496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50808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325440" y="55080"/>
            <a:ext cx="915048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496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08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184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496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808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41496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808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2184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41496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0808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325440" y="55080"/>
            <a:ext cx="915048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41496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50808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32184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41496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50808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325440" y="55080"/>
            <a:ext cx="915048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41496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50808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32184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41496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50808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5440" y="55080"/>
            <a:ext cx="915048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496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0808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184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496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0808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25440" y="55080"/>
            <a:ext cx="915048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1496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0808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2184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41496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0808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25440" y="55080"/>
            <a:ext cx="915048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41496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0808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2184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41496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50808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25440" y="55080"/>
            <a:ext cx="915048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5440" y="55080"/>
            <a:ext cx="915048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41496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0808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2184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41496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0808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25440" y="55080"/>
            <a:ext cx="915048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41496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50808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2184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41496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50808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25440" y="55080"/>
            <a:ext cx="915048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41496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50808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2184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41496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50808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25440" y="55080"/>
            <a:ext cx="915048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1840" y="3998160"/>
            <a:ext cx="91486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09760" y="145728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2184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009760" y="3998160"/>
            <a:ext cx="4464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41496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508080" y="145728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2184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41496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508080" y="3998160"/>
            <a:ext cx="29455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Rectangle 39"/>
          <p:cNvSpPr/>
          <p:nvPr/>
        </p:nvSpPr>
        <p:spPr>
          <a:xfrm>
            <a:off x="12564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8B8320FD-642F-4694-969D-BCC45D6AF7EF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" name="Rectangle 61"/>
          <p:cNvSpPr/>
          <p:nvPr/>
        </p:nvSpPr>
        <p:spPr>
          <a:xfrm>
            <a:off x="1109520" y="6523200"/>
            <a:ext cx="3478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IT-24 |Darmstadt, Germany | 9-11 September 200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8613720" y="0"/>
            <a:ext cx="1292400" cy="77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9"/>
          <p:cNvSpPr/>
          <p:nvPr/>
        </p:nvSpPr>
        <p:spPr>
          <a:xfrm>
            <a:off x="12564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C3F3FFEF-2DBB-4673-881B-15AC1372F541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Rectangle 61"/>
          <p:cNvSpPr/>
          <p:nvPr/>
        </p:nvSpPr>
        <p:spPr>
          <a:xfrm>
            <a:off x="1109520" y="6523200"/>
            <a:ext cx="3478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IT-24 |Darmstadt, Germany | 9-11 September 200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3"/>
          <a:stretch/>
        </p:blipFill>
        <p:spPr>
          <a:xfrm>
            <a:off x="8613720" y="0"/>
            <a:ext cx="1292400" cy="7747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9"/>
          <p:cNvSpPr/>
          <p:nvPr/>
        </p:nvSpPr>
        <p:spPr>
          <a:xfrm>
            <a:off x="12564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6B01C604-5346-4FBE-AD5E-3A42895F4BEA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61"/>
          <p:cNvSpPr/>
          <p:nvPr/>
        </p:nvSpPr>
        <p:spPr>
          <a:xfrm>
            <a:off x="1109520" y="6523200"/>
            <a:ext cx="3478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IT-24 |Darmstadt, Germany | 9-11 September 200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3"/>
          <a:stretch/>
        </p:blipFill>
        <p:spPr>
          <a:xfrm>
            <a:off x="8613720" y="0"/>
            <a:ext cx="1292400" cy="7747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39"/>
          <p:cNvSpPr/>
          <p:nvPr/>
        </p:nvSpPr>
        <p:spPr>
          <a:xfrm>
            <a:off x="12564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175D3357-109A-490E-899C-28FC621DB978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61"/>
          <p:cNvSpPr/>
          <p:nvPr/>
        </p:nvSpPr>
        <p:spPr>
          <a:xfrm>
            <a:off x="1109520" y="6523200"/>
            <a:ext cx="3478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IT-24 |Darmstadt, Germany | 9-11 September 200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3"/>
          <a:stretch/>
        </p:blipFill>
        <p:spPr>
          <a:xfrm>
            <a:off x="8613720" y="0"/>
            <a:ext cx="1292400" cy="774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2564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052DB740-77F6-4341-A6A4-D3C4D4AE6FC1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0" y="3244680"/>
            <a:ext cx="99061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36"/>
          <p:cNvSpPr/>
          <p:nvPr/>
        </p:nvSpPr>
        <p:spPr>
          <a:xfrm>
            <a:off x="1108440" y="6523200"/>
            <a:ext cx="354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IT-24 |Darmstadt, Germany | 10-11 September 200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8354880" y="4881600"/>
            <a:ext cx="1551240" cy="933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9"/>
          <p:cNvSpPr/>
          <p:nvPr/>
        </p:nvSpPr>
        <p:spPr>
          <a:xfrm>
            <a:off x="12564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893A5E90-6B5E-4B88-A02A-5B4218376D77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61"/>
          <p:cNvSpPr/>
          <p:nvPr/>
        </p:nvSpPr>
        <p:spPr>
          <a:xfrm>
            <a:off x="1109520" y="6523200"/>
            <a:ext cx="3478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IT-24 |Darmstadt, Germany | 9-11 September 200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8613720" y="0"/>
            <a:ext cx="1292400" cy="774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9"/>
          <p:cNvSpPr/>
          <p:nvPr/>
        </p:nvSpPr>
        <p:spPr>
          <a:xfrm>
            <a:off x="12564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AD135F5D-5C11-4EA9-9EF9-70934B015FA7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61"/>
          <p:cNvSpPr/>
          <p:nvPr/>
        </p:nvSpPr>
        <p:spPr>
          <a:xfrm>
            <a:off x="1109520" y="6523200"/>
            <a:ext cx="3478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IT-24 |Darmstadt, Germany | 9-11 September 200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8613720" y="0"/>
            <a:ext cx="1292400" cy="774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9"/>
          <p:cNvSpPr/>
          <p:nvPr/>
        </p:nvSpPr>
        <p:spPr>
          <a:xfrm>
            <a:off x="12564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0EF85EE8-9B1A-4A16-AA5C-CE7E2B4FA926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61"/>
          <p:cNvSpPr/>
          <p:nvPr/>
        </p:nvSpPr>
        <p:spPr>
          <a:xfrm>
            <a:off x="1109520" y="6523200"/>
            <a:ext cx="3478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IT-24 |Darmstadt, Germany | 9-11 September 200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3"/>
          <a:stretch/>
        </p:blipFill>
        <p:spPr>
          <a:xfrm>
            <a:off x="8613720" y="0"/>
            <a:ext cx="1292400" cy="774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12564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E5C83743-9266-4197-8A26-2D18D0DBBE2E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61"/>
          <p:cNvSpPr/>
          <p:nvPr/>
        </p:nvSpPr>
        <p:spPr>
          <a:xfrm>
            <a:off x="1109520" y="6523200"/>
            <a:ext cx="3478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IT-24 |Darmstadt, Germany | 9-11 September 200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3"/>
          <a:stretch/>
        </p:blipFill>
        <p:spPr>
          <a:xfrm>
            <a:off x="8613720" y="0"/>
            <a:ext cx="1292400" cy="7747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9"/>
          <p:cNvSpPr/>
          <p:nvPr/>
        </p:nvSpPr>
        <p:spPr>
          <a:xfrm>
            <a:off x="12564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4FF01915-D5D8-45C7-B644-1E3D891D6EA2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61"/>
          <p:cNvSpPr/>
          <p:nvPr/>
        </p:nvSpPr>
        <p:spPr>
          <a:xfrm>
            <a:off x="1109520" y="6523200"/>
            <a:ext cx="3478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IT-24 |Darmstadt, Germany | 9-11 September 200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3"/>
          <a:stretch/>
        </p:blipFill>
        <p:spPr>
          <a:xfrm>
            <a:off x="8613720" y="0"/>
            <a:ext cx="1292400" cy="7747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39"/>
          <p:cNvSpPr/>
          <p:nvPr/>
        </p:nvSpPr>
        <p:spPr>
          <a:xfrm>
            <a:off x="12564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F201C277-1BB5-464C-AF20-9BD017EC88D5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61"/>
          <p:cNvSpPr/>
          <p:nvPr/>
        </p:nvSpPr>
        <p:spPr>
          <a:xfrm>
            <a:off x="1109520" y="6523200"/>
            <a:ext cx="3478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IT-24 |Darmstadt, Germany | 9-11 September 200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3"/>
          <a:stretch/>
        </p:blipFill>
        <p:spPr>
          <a:xfrm>
            <a:off x="8613720" y="0"/>
            <a:ext cx="1292400" cy="7747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9"/>
          <p:cNvSpPr/>
          <p:nvPr/>
        </p:nvSpPr>
        <p:spPr>
          <a:xfrm>
            <a:off x="12564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EA061BC2-3032-4233-B73A-26371DB58002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61"/>
          <p:cNvSpPr/>
          <p:nvPr/>
        </p:nvSpPr>
        <p:spPr>
          <a:xfrm>
            <a:off x="1109520" y="6523200"/>
            <a:ext cx="3478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IT-24 |Darmstadt, Germany | 9-11 September 200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3"/>
          <a:stretch/>
        </p:blipFill>
        <p:spPr>
          <a:xfrm>
            <a:off x="8613720" y="0"/>
            <a:ext cx="1292400" cy="77472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421160" y="2722680"/>
            <a:ext cx="52293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A perspective from the </a:t>
            </a:r>
            <a:endParaRPr b="1" lang="en-US" sz="1800" spc="-1" strike="noStrike">
              <a:solidFill>
                <a:srgbClr val="002569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Constellation Co-Leads </a:t>
            </a:r>
            <a:endParaRPr b="1" lang="en-US" sz="1800" spc="-1" strike="noStrike">
              <a:solidFill>
                <a:srgbClr val="002569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prepared by Stan Wilson</a:t>
            </a:r>
            <a:endParaRPr b="1" lang="en-US" sz="18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4430520" y="666720"/>
            <a:ext cx="521172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What lessons have        we learned from           the Constellations?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Responses solicited from the Co-Leads 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56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2569"/>
                </a:solidFill>
                <a:latin typeface="Tahoma"/>
              </a:rPr>
              <a:t>Opportunities</a:t>
            </a:r>
            <a:endParaRPr b="1" lang="en-US" sz="32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What opportunities do the Constellations offer?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569"/>
                </a:solidFill>
                <a:latin typeface="Tahoma"/>
              </a:rPr>
              <a:t> </a:t>
            </a:r>
            <a:r>
              <a:rPr b="1" lang="en-US" sz="3400" spc="-1" strike="noStrike">
                <a:solidFill>
                  <a:srgbClr val="002569"/>
                </a:solidFill>
                <a:latin typeface="Tahoma"/>
              </a:rPr>
              <a:t>Positives</a:t>
            </a:r>
            <a:endParaRPr b="1" lang="en-US" sz="3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What would not have otherwise occurred? 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569"/>
                </a:solidFill>
                <a:latin typeface="Tahoma"/>
              </a:rPr>
              <a:t> </a:t>
            </a:r>
            <a:r>
              <a:rPr b="1" lang="en-US" sz="3400" spc="-1" strike="noStrike">
                <a:solidFill>
                  <a:srgbClr val="002569"/>
                </a:solidFill>
                <a:latin typeface="Tahoma"/>
              </a:rPr>
              <a:t>Negatives</a:t>
            </a:r>
            <a:endParaRPr b="1" lang="en-US" sz="3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Tahoma"/>
              </a:rPr>
              <a:t>What are your constructive complaints?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entury Gothic"/>
              </a:rPr>
              <a:t>Who are the Constellation Co-Leads?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23360" y="1360440"/>
            <a:ext cx="449748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69"/>
                </a:solidFill>
                <a:latin typeface="Tahoma"/>
              </a:rPr>
              <a:t>Atmospheric Chemistry</a:t>
            </a:r>
            <a:endParaRPr b="1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569"/>
                </a:solidFill>
                <a:latin typeface="Tahoma"/>
              </a:rPr>
              <a:t>Ernest Hilsenrath, NASA</a:t>
            </a: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569"/>
                </a:solidFill>
                <a:latin typeface="Tahoma"/>
              </a:rPr>
              <a:t>Claus Zehner, ESA  </a:t>
            </a: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569"/>
                </a:solidFill>
                <a:latin typeface="Tahoma"/>
              </a:rPr>
              <a:t> </a:t>
            </a: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69"/>
                </a:solidFill>
                <a:latin typeface="Tahoma"/>
              </a:rPr>
              <a:t>Land Surface Imaging</a:t>
            </a:r>
            <a:endParaRPr b="1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569"/>
                </a:solidFill>
                <a:latin typeface="Tahoma"/>
              </a:rPr>
              <a:t>Tom Holm, USGS</a:t>
            </a: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569"/>
                </a:solidFill>
                <a:latin typeface="Tahoma"/>
              </a:rPr>
              <a:t>V.S. Hegde, ISRO      </a:t>
            </a: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569"/>
                </a:solidFill>
                <a:latin typeface="Tahoma"/>
              </a:rPr>
              <a:t>Bryan Bailey, USGS (former)</a:t>
            </a: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569"/>
                </a:solidFill>
                <a:latin typeface="Tahoma"/>
              </a:rPr>
              <a:t>V. Jayaraman, ISRO (former) </a:t>
            </a: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69"/>
                </a:solidFill>
                <a:latin typeface="Tahoma"/>
              </a:rPr>
              <a:t>Precipitation </a:t>
            </a:r>
            <a:endParaRPr b="1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569"/>
                </a:solidFill>
                <a:latin typeface="Tahoma"/>
              </a:rPr>
              <a:t>Riko Oki, JAXA   </a:t>
            </a: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569"/>
                </a:solidFill>
                <a:latin typeface="Tahoma"/>
              </a:rPr>
              <a:t>Steven Neeck, NASA   </a:t>
            </a: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971600" y="1457280"/>
            <a:ext cx="449892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69"/>
                </a:solidFill>
                <a:latin typeface="Tahoma"/>
              </a:rPr>
              <a:t>Ocean Surface Topography </a:t>
            </a:r>
            <a:endParaRPr b="1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569"/>
                </a:solidFill>
                <a:latin typeface="Tahoma"/>
              </a:rPr>
              <a:t>Francois Parisot, EUMETSAT   </a:t>
            </a: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569"/>
                </a:solidFill>
                <a:latin typeface="Tahoma"/>
              </a:rPr>
              <a:t>Stan Wilson, NOAA   </a:t>
            </a: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69"/>
                </a:solidFill>
                <a:latin typeface="Tahoma"/>
              </a:rPr>
              <a:t>Ocean Surface Vector Winds </a:t>
            </a:r>
            <a:r>
              <a:rPr b="1" lang="en-US" sz="1600" spc="-1" strike="noStrike">
                <a:solidFill>
                  <a:srgbClr val="002569"/>
                </a:solidFill>
                <a:latin typeface="Tahoma"/>
              </a:rPr>
              <a:t> </a:t>
            </a: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569"/>
                </a:solidFill>
                <a:latin typeface="Tahoma"/>
              </a:rPr>
              <a:t>Hans Bonekamp, EUMETSAT   </a:t>
            </a: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569"/>
                </a:solidFill>
                <a:latin typeface="Tahoma"/>
              </a:rPr>
              <a:t>Stan Wilson, NOAA   </a:t>
            </a: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569"/>
                </a:solidFill>
                <a:latin typeface="Tahoma"/>
              </a:rPr>
              <a:t>B.S. Gohil, ISRO</a:t>
            </a: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69"/>
                </a:solidFill>
                <a:latin typeface="Tahoma"/>
              </a:rPr>
              <a:t>Ocean Color Radiometry</a:t>
            </a:r>
            <a:endParaRPr b="1" lang="en-US" sz="18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569"/>
                </a:solidFill>
                <a:latin typeface="Tahoma"/>
              </a:rPr>
              <a:t>Mark Dowell, JRC</a:t>
            </a: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569"/>
                </a:solidFill>
                <a:latin typeface="Tahoma"/>
              </a:rPr>
              <a:t>Hiroshi Murakami, JAXA   </a:t>
            </a: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569"/>
                </a:solidFill>
                <a:latin typeface="Tahoma"/>
              </a:rPr>
              <a:t>James Yoder, IOCCG/WHOI (support)    </a:t>
            </a: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569"/>
                </a:solidFill>
                <a:latin typeface="Tahoma"/>
              </a:rPr>
              <a:t>  </a:t>
            </a: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07" name="TextBox 4"/>
          <p:cNvSpPr/>
          <p:nvPr/>
        </p:nvSpPr>
        <p:spPr>
          <a:xfrm>
            <a:off x="568440" y="6027840"/>
            <a:ext cx="82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569"/>
                </a:solidFill>
                <a:latin typeface="Tahoma"/>
              </a:rPr>
              <a:t>Responses were received from eight of the Co-L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Opportunitie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Tahoma"/>
              </a:rPr>
              <a:t>CEOS provides an international forum of space agency leaders with the potential to address issues of mutual interest :</a:t>
            </a:r>
            <a:endParaRPr b="1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Tahoma"/>
              </a:rPr>
              <a:t>Data policy</a:t>
            </a:r>
            <a:endParaRPr b="1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Tahoma"/>
              </a:rPr>
              <a:t>Share experience</a:t>
            </a:r>
            <a:endParaRPr b="1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Tahoma"/>
              </a:rPr>
              <a:t>Program and mission optimization</a:t>
            </a:r>
            <a:endParaRPr b="1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Tahoma"/>
              </a:rPr>
              <a:t>Building community awareness</a:t>
            </a:r>
            <a:endParaRPr b="1" lang="en-US" sz="2000" spc="-1" strike="noStrike">
              <a:solidFill>
                <a:srgbClr val="002569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Tahoma"/>
              </a:rPr>
              <a:t>Facilitate long-term planning</a:t>
            </a:r>
            <a:endParaRPr b="1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Tahoma"/>
              </a:rPr>
              <a:t>As such, the Constellations provide an improved means to seek and implement collaboration at levels below the leaders themselves </a:t>
            </a:r>
            <a:endParaRPr b="1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Tahoma"/>
              </a:rPr>
              <a:t>But Constellations are voluntary and they themselves do not necessarily have the resources to support what may be needed</a:t>
            </a:r>
            <a:endParaRPr b="1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Tahoma"/>
              </a:rPr>
              <a:t>Unless agencies are willing engage in the process – contributing manpower, funding and/or an enlightened data policy – it can be  very difficult to make progress</a:t>
            </a:r>
            <a:endParaRPr b="1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Positives – 1 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What would not have otherwise occurred?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2569"/>
                </a:solidFill>
                <a:latin typeface="Tahoma"/>
              </a:rPr>
              <a:t>Data Portals – recognizing the need for  accessibility and interoperability</a:t>
            </a:r>
            <a:endParaRPr b="1" lang="en-US" sz="2600" spc="-1" strike="noStrike">
              <a:solidFill>
                <a:srgbClr val="002569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569"/>
                </a:solidFill>
                <a:latin typeface="Tahoma"/>
              </a:rPr>
              <a:t>Development of a prototype LSI Data Portal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569"/>
                </a:solidFill>
                <a:latin typeface="Tahoma"/>
              </a:rPr>
              <a:t>ACC Data Portal just getting underway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569"/>
                </a:solidFill>
                <a:latin typeface="Tahoma"/>
              </a:rPr>
              <a:t>Both supported by WIGISS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569"/>
                </a:solidFill>
                <a:latin typeface="Tahoma"/>
              </a:rPr>
              <a:t>Contribution of LSI data to the Forest Resources Assessment 2010 Project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569"/>
                </a:solidFill>
                <a:latin typeface="Tahoma"/>
              </a:rPr>
              <a:t>Establishment of a WG on Regional Data to coordinate LSI data contribution to the Global Land Survey 2010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569"/>
                </a:solidFill>
                <a:latin typeface="Tahoma"/>
              </a:rPr>
              <a:t>ISRO &amp; CNES have augmented ground-station coverage for MegaTropique to reduce data latency – but PC estimates a success rate of ~1 in 4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Positives – 2 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What would not have otherwise occurred? 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21840" y="1457280"/>
            <a:ext cx="914868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569"/>
                </a:solidFill>
                <a:latin typeface="Tahoma"/>
              </a:rPr>
              <a:t>ACC conducted an analysis to highlight gaps when missions end &amp; has recommended how to mitigate those gaps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569"/>
                </a:solidFill>
                <a:latin typeface="Tahoma"/>
              </a:rPr>
              <a:t>Provides greater exposure for OCR Constellation within space agencies, facilitating connections between OCR and other CEOS groups like the WGCV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569"/>
                </a:solidFill>
                <a:latin typeface="Tahoma"/>
              </a:rPr>
              <a:t>While not essential, provides a context for: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569"/>
                </a:solidFill>
                <a:latin typeface="Tahoma"/>
              </a:rPr>
              <a:t>Addressing deficiencies in the operational utilization of  observations from OSVW &amp; OST Constellations </a:t>
            </a:r>
            <a:endParaRPr b="1" lang="en-US" sz="22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569"/>
                </a:solidFill>
                <a:latin typeface="Tahoma"/>
              </a:rPr>
              <a:t>Defining future Mission Requirements for OST</a:t>
            </a:r>
            <a:endParaRPr b="1" lang="en-US" sz="22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569"/>
                </a:solidFill>
                <a:latin typeface="Tahoma"/>
              </a:rPr>
              <a:t>Note that some Constellations are more mature and have derived benefits on their own initiative working via bilateral agreements (OST) 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Negatives 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12480" y="1572840"/>
            <a:ext cx="922788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569"/>
                </a:solidFill>
                <a:latin typeface="Tahoma"/>
              </a:rPr>
              <a:t>We are working on Constellations in addition to normal jobs, so there is a need to focus emails, actions, etc… only on target people and/or Constellations 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569"/>
                </a:solidFill>
                <a:latin typeface="Tahoma"/>
              </a:rPr>
              <a:t>Involvement in Constellations may not be appreciated in an agency, resulting in poor incentives for involvement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569"/>
                </a:solidFill>
                <a:latin typeface="Tahoma"/>
              </a:rPr>
              <a:t>Constellations are tasked with reporting that frequently is more procedural than substantive – especially when done to “check a box” and little is done as a result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569"/>
                </a:solidFill>
                <a:latin typeface="Tahoma"/>
              </a:rPr>
              <a:t>Some have little patience for CEOS bureaucracy and little time for Constellations, and are skeptical of CEOS and Constellations making a difference and being worth the time</a:t>
            </a: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25440" y="55080"/>
            <a:ext cx="915048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This concludes the presentation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12480" y="1572840"/>
            <a:ext cx="922788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569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002569"/>
                </a:solidFill>
                <a:latin typeface="Tahoma"/>
              </a:rPr>
              <a:t>Thank you for your attention</a:t>
            </a:r>
            <a:endParaRPr b="1" lang="en-US" sz="28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569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002569"/>
                </a:solidFill>
                <a:latin typeface="Tahoma"/>
              </a:rPr>
              <a:t>The Constellation Co-Leads welcome your response and stand ready to engage in a discussion of these ideas with the CEOS SIT</a:t>
            </a:r>
            <a:endParaRPr b="1" lang="en-US" sz="2800" spc="-1" strike="noStrike">
              <a:solidFill>
                <a:srgbClr val="00256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25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3T08:21:02Z</dcterms:created>
  <dc:creator>Thomas Staudte</dc:creator>
  <dc:description/>
  <dc:language>en-US</dc:language>
  <cp:lastModifiedBy>swilson</cp:lastModifiedBy>
  <cp:lastPrinted>2006-03-06T14:11:17Z</cp:lastPrinted>
  <dcterms:modified xsi:type="dcterms:W3CDTF">2009-09-10T22:14:36Z</dcterms:modified>
  <cp:revision>747</cp:revision>
  <dc:subject/>
  <dc:title>No Slide Title</dc:title>
</cp:coreProperties>
</file>