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2440" y="1568520"/>
            <a:ext cx="843912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2440" y="4195440"/>
            <a:ext cx="843912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2440" y="1568520"/>
            <a:ext cx="41180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6760" y="1568520"/>
            <a:ext cx="41180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2440" y="4195440"/>
            <a:ext cx="41180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6760" y="4195440"/>
            <a:ext cx="41180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52440" y="1568520"/>
            <a:ext cx="271728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05800" y="1568520"/>
            <a:ext cx="271728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59520" y="1568520"/>
            <a:ext cx="271728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52440" y="4195440"/>
            <a:ext cx="271728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05800" y="4195440"/>
            <a:ext cx="271728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59520" y="4195440"/>
            <a:ext cx="271728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52440" y="1568520"/>
            <a:ext cx="84391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spcAft>
                <a:spcPts val="1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2440" y="1568520"/>
            <a:ext cx="8439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2440" y="1568520"/>
            <a:ext cx="41180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760" y="1568520"/>
            <a:ext cx="41180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592000" y="-360"/>
            <a:ext cx="633564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99"/>
              </a:lnSpc>
              <a:spcAft>
                <a:spcPts val="10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2440" y="1568520"/>
            <a:ext cx="41180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568520"/>
            <a:ext cx="41180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2440" y="4195440"/>
            <a:ext cx="41180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2440" y="1568520"/>
            <a:ext cx="41180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568520"/>
            <a:ext cx="41180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6760" y="4195440"/>
            <a:ext cx="41180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2440" y="1568520"/>
            <a:ext cx="41180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568520"/>
            <a:ext cx="411804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2440" y="4195440"/>
            <a:ext cx="843912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ts val="2999"/>
              </a:lnSpc>
              <a:spcAft>
                <a:spcPts val="10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2440" y="1568520"/>
            <a:ext cx="8439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0520" indent="-290520">
              <a:lnSpc>
                <a:spcPts val="2999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lnSpc>
                <a:spcPts val="2999"/>
              </a:lnSpc>
              <a:spcAft>
                <a:spcPts val="1001"/>
              </a:spcAft>
              <a:buClr>
                <a:srgbClr val="000000"/>
              </a:buClr>
              <a:buFont typeface="Arial Unicode MS"/>
              <a:buChar char="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00320" indent="-343080">
              <a:lnSpc>
                <a:spcPts val="2999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228600">
              <a:lnSpc>
                <a:spcPts val="2999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38400" indent="-228600">
              <a:lnSpc>
                <a:spcPts val="2999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38400" indent="-228600">
              <a:lnSpc>
                <a:spcPts val="2999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38400" indent="-228600">
              <a:lnSpc>
                <a:spcPts val="2999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15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ccff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50a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3" name="Line 9"/>
          <p:cNvSpPr/>
          <p:nvPr/>
        </p:nvSpPr>
        <p:spPr>
          <a:xfrm>
            <a:off x="216000" y="792000"/>
            <a:ext cx="8712000" cy="0"/>
          </a:xfrm>
          <a:prstGeom prst="line">
            <a:avLst/>
          </a:prstGeom>
          <a:ln w="38160">
            <a:solidFill>
              <a:srgbClr val="78a7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5861160" y="6138720"/>
            <a:ext cx="3153960" cy="456480"/>
            <a:chOff x="5861160" y="6138720"/>
            <a:chExt cx="3153960" cy="456480"/>
          </a:xfrm>
        </p:grpSpPr>
        <p:pic>
          <p:nvPicPr>
            <p:cNvPr id="5" name="Picture 7" descr="ICSUlogo4c"/>
            <p:cNvPicPr/>
            <p:nvPr/>
          </p:nvPicPr>
          <p:blipFill>
            <a:blip r:embed="rId2"/>
            <a:stretch/>
          </p:blipFill>
          <p:spPr>
            <a:xfrm>
              <a:off x="7805520" y="6141960"/>
              <a:ext cx="1209600" cy="3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8" descr="IOC_UNESCO_color"/>
            <p:cNvPicPr/>
            <p:nvPr/>
          </p:nvPicPr>
          <p:blipFill>
            <a:blip r:embed="rId3"/>
            <a:stretch/>
          </p:blipFill>
          <p:spPr>
            <a:xfrm>
              <a:off x="6334560" y="6141960"/>
              <a:ext cx="794160" cy="45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9" descr="UNEP279E"/>
            <p:cNvPicPr/>
            <p:nvPr/>
          </p:nvPicPr>
          <p:blipFill>
            <a:blip r:embed="rId4"/>
            <a:stretch/>
          </p:blipFill>
          <p:spPr>
            <a:xfrm>
              <a:off x="7298280" y="6152400"/>
              <a:ext cx="350280" cy="41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0" descr="WMO"/>
            <p:cNvPicPr/>
            <p:nvPr/>
          </p:nvPicPr>
          <p:blipFill>
            <a:blip r:embed="rId5"/>
            <a:stretch/>
          </p:blipFill>
          <p:spPr>
            <a:xfrm>
              <a:off x="5861160" y="6138720"/>
              <a:ext cx="355320" cy="45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" name="Picture 15" descr="GCOS_logo[1]-June 2011"/>
          <p:cNvPicPr/>
          <p:nvPr/>
        </p:nvPicPr>
        <p:blipFill>
          <a:blip r:embed="rId6"/>
          <a:stretch/>
        </p:blipFill>
        <p:spPr>
          <a:xfrm>
            <a:off x="152280" y="6095880"/>
            <a:ext cx="1905120" cy="60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2457360" y="566640"/>
            <a:ext cx="6558120" cy="33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74600" indent="-174600">
              <a:spcBef>
                <a:spcPts val="4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"/>
          <p:cNvSpPr/>
          <p:nvPr/>
        </p:nvSpPr>
        <p:spPr>
          <a:xfrm>
            <a:off x="0" y="5616720"/>
            <a:ext cx="2238480" cy="12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74600" indent="-174600">
              <a:spcBef>
                <a:spcPts val="4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2484360" y="3652920"/>
            <a:ext cx="426456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74600" indent="-17460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Stephen Brigg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Chair, GCOS Steeering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1808640" y="2057400"/>
            <a:ext cx="5656680" cy="14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74600" indent="-174600" algn="ctr"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600" spc="-1" strike="noStrike">
                <a:solidFill>
                  <a:srgbClr val="003366"/>
                </a:solidFill>
                <a:latin typeface="Arial"/>
              </a:rPr>
              <a:t>GCOS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Scoping of the Progress Report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the new Implementation Plan 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>
            <a:off x="216000" y="1197000"/>
            <a:ext cx="8712000" cy="0"/>
          </a:xfrm>
          <a:prstGeom prst="line">
            <a:avLst/>
          </a:prstGeom>
          <a:ln w="57240">
            <a:solidFill>
              <a:srgbClr val="78a7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0"/>
          <p:cNvGrpSpPr/>
          <p:nvPr/>
        </p:nvGrpSpPr>
        <p:grpSpPr>
          <a:xfrm>
            <a:off x="216000" y="108000"/>
            <a:ext cx="1971720" cy="1028520"/>
            <a:chOff x="216000" y="108000"/>
            <a:chExt cx="1971720" cy="1028520"/>
          </a:xfrm>
        </p:grpSpPr>
        <p:pic>
          <p:nvPicPr>
            <p:cNvPr id="52" name="Picture 8" descr="GCOS_new_logo.PNG"/>
            <p:cNvPicPr/>
            <p:nvPr/>
          </p:nvPicPr>
          <p:blipFill>
            <a:blip r:embed="rId1"/>
            <a:srcRect l="25780" t="3176" r="17033" b="25409"/>
            <a:stretch/>
          </p:blipFill>
          <p:spPr>
            <a:xfrm>
              <a:off x="1114920" y="332640"/>
              <a:ext cx="1072800" cy="38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9" descr="GCOS_new_logo.PNG"/>
            <p:cNvPicPr/>
            <p:nvPr/>
          </p:nvPicPr>
          <p:blipFill>
            <a:blip r:embed="rId2"/>
            <a:srcRect l="26517" t="79419" r="0" b="1588"/>
            <a:stretch/>
          </p:blipFill>
          <p:spPr>
            <a:xfrm>
              <a:off x="216000" y="990000"/>
              <a:ext cx="1952640" cy="14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8" descr="GCOS_new_logo.PNG"/>
            <p:cNvPicPr/>
            <p:nvPr/>
          </p:nvPicPr>
          <p:blipFill>
            <a:blip r:embed="rId3"/>
            <a:srcRect l="0" t="0" r="77801" b="23821"/>
            <a:stretch/>
          </p:blipFill>
          <p:spPr>
            <a:xfrm>
              <a:off x="216360" y="108000"/>
              <a:ext cx="884880" cy="88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Rectangle 1"/>
          <p:cNvSpPr/>
          <p:nvPr/>
        </p:nvSpPr>
        <p:spPr>
          <a:xfrm>
            <a:off x="106200" y="0"/>
            <a:ext cx="2446560" cy="11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74600" indent="-174600">
              <a:spcBef>
                <a:spcPts val="4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216000" y="0"/>
            <a:ext cx="871200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50a0"/>
                </a:solidFill>
                <a:latin typeface="Arial"/>
              </a:rPr>
              <a:t>Global Climate Observ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7" descr="GCOS_logo[1]-June 2011"/>
          <p:cNvPicPr/>
          <p:nvPr/>
        </p:nvPicPr>
        <p:blipFill>
          <a:blip r:embed="rId4"/>
          <a:stretch/>
        </p:blipFill>
        <p:spPr>
          <a:xfrm>
            <a:off x="152280" y="152280"/>
            <a:ext cx="297180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600" spc="-1" strike="noStrike">
                <a:solidFill>
                  <a:srgbClr val="0050a0"/>
                </a:solidFill>
                <a:latin typeface="Arial"/>
              </a:rPr>
              <a:t>Milestones 1992 - 2011</a:t>
            </a: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04920" y="990720"/>
            <a:ext cx="83214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992: Establishment of GCOS as an outcome of the Second World Climate Conference (199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1995: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Plan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 for the Global Climate Observing System (GCOS), Publication No. GCOS-14, GCOS Plan for Space-based Observations, Publication No. GCOS-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  <a:ea typeface="宋体"/>
              </a:rPr>
              <a:t>1998: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  <a:ea typeface="宋体"/>
              </a:rPr>
              <a:t>Report on the Adequacy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  <a:ea typeface="宋体"/>
              </a:rPr>
              <a:t> of the Global Climate Observing Systems – United Nations Framework Convention on Climate Change, Publication No. GCOS-48, COP-4, Buenos Aires, Argen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  <a:ea typeface="宋体"/>
              </a:rPr>
              <a:t>2003: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  <a:ea typeface="宋体"/>
              </a:rPr>
              <a:t>Second Report on the Adequacy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  <a:ea typeface="宋体"/>
              </a:rPr>
              <a:t> of the Global Observing Systems for Climate in Support of the UNFCCC, Publication No. GCOS-82, COP- 9, Milan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2004: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Implementation Plan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 for the Global Observing System for Climate in Support of the UNFCCC, Publication No. GCOS-92, COP-10, Buenos Aires, Argen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06:   Systematic   Observation   Requirements   for   Satellite-based Products for Climate –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upplemental Details to the Satellite-based Component of the Implementation P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for the Global Observing System for Climate in Support of the UNFCCC, Publication No. GCOS-1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  <a:ea typeface="宋体"/>
              </a:rPr>
              <a:t>2009: 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  <a:ea typeface="宋体"/>
              </a:rPr>
              <a:t>Progress Report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  <a:ea typeface="宋体"/>
              </a:rPr>
              <a:t> on the Implementation of the Global Observing System for Climate in Support of the UNFCCC 2004–2008, Publication No. GCOS 129, COP-15, Copenhagen, Den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2010: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Implementation Plan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 for the Global Observing System for Climate in Support of the UNFCCC (2010 Update), Publication No. GCOS-138, COP-16, Cancun, Mex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11:   Systematic   Observation   Requirements   for   Satellite-based Products for Climat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upplemental details to the satellite-based compon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of the Implementation Plan for the Global Observing System for Climate in Support of the UNFCCC - 2011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85"/>
          <p:cNvSpPr/>
          <p:nvPr/>
        </p:nvSpPr>
        <p:spPr>
          <a:xfrm>
            <a:off x="0" y="838080"/>
            <a:ext cx="9144000" cy="2362320"/>
          </a:xfrm>
          <a:prstGeom prst="rect">
            <a:avLst/>
          </a:prstGeom>
          <a:gradFill rotWithShape="0">
            <a:gsLst>
              <a:gs pos="0">
                <a:srgbClr val="919191">
                  <a:alpha val="49019"/>
                </a:srgbClr>
              </a:gs>
              <a:gs pos="50000">
                <a:srgbClr val="cecece">
                  <a:alpha val="49019"/>
                </a:srgbClr>
              </a:gs>
              <a:gs pos="100000">
                <a:srgbClr val="919191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000" y="-360"/>
            <a:ext cx="6335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ctr">
            <a:noAutofit/>
          </a:bodyPr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2600" spc="-1" strike="noStrike">
                <a:solidFill>
                  <a:srgbClr val="0050a0"/>
                </a:solidFill>
                <a:latin typeface="Arial"/>
              </a:rPr>
              <a:t>Road Map for 2014 to 2016</a:t>
            </a:r>
            <a:endParaRPr b="1" lang="en-US" sz="2600" spc="-1" strike="noStrike">
              <a:solidFill>
                <a:srgbClr val="0050a0"/>
              </a:solidFill>
              <a:latin typeface="Arial"/>
            </a:endParaRPr>
          </a:p>
        </p:txBody>
      </p:sp>
      <p:sp>
        <p:nvSpPr>
          <p:cNvPr id="62" name="Text Box 45"/>
          <p:cNvSpPr/>
          <p:nvPr/>
        </p:nvSpPr>
        <p:spPr>
          <a:xfrm>
            <a:off x="2880" y="1447920"/>
            <a:ext cx="161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  <a:ea typeface="Arial"/>
              </a:rPr>
              <a:t>WCRP Conferenc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6324480" y="3200400"/>
            <a:ext cx="2819520" cy="762120"/>
          </a:xfrm>
          <a:prstGeom prst="rect">
            <a:avLst/>
          </a:prstGeom>
          <a:gradFill rotWithShape="0">
            <a:gsLst>
              <a:gs pos="0">
                <a:srgbClr val="ccff33">
                  <a:alpha val="60392"/>
                </a:srgbClr>
              </a:gs>
              <a:gs pos="50000">
                <a:srgbClr val="ffffff">
                  <a:alpha val="58039"/>
                </a:srgbClr>
              </a:gs>
              <a:gs pos="100000">
                <a:srgbClr val="ccff33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3429000" y="3200400"/>
            <a:ext cx="2819520" cy="762120"/>
          </a:xfrm>
          <a:prstGeom prst="rect">
            <a:avLst/>
          </a:prstGeom>
          <a:gradFill rotWithShape="0">
            <a:gsLst>
              <a:gs pos="0">
                <a:srgbClr val="ffff00">
                  <a:alpha val="60392"/>
                </a:srgbClr>
              </a:gs>
              <a:gs pos="50000">
                <a:srgbClr val="ffffff">
                  <a:alpha val="58039"/>
                </a:srgbClr>
              </a:gs>
              <a:gs pos="100000">
                <a:srgbClr val="ffff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533520" y="3200400"/>
            <a:ext cx="2819160" cy="762120"/>
          </a:xfrm>
          <a:prstGeom prst="rect">
            <a:avLst/>
          </a:prstGeom>
          <a:gradFill rotWithShape="0">
            <a:gsLst>
              <a:gs pos="0">
                <a:srgbClr val="ff9900">
                  <a:alpha val="60392"/>
                </a:srgbClr>
              </a:gs>
              <a:gs pos="50000">
                <a:srgbClr val="ffffff">
                  <a:alpha val="58039"/>
                </a:srgbClr>
              </a:gs>
              <a:gs pos="100000">
                <a:srgbClr val="ff99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916920" y="434340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Arial"/>
              </a:rPr>
              <a:t>Progres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603080" y="3352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Arial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4419720" y="335268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7394040" y="3352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Arial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3"/>
          <p:cNvSpPr/>
          <p:nvPr/>
        </p:nvSpPr>
        <p:spPr>
          <a:xfrm>
            <a:off x="5867280" y="3657600"/>
            <a:ext cx="609840" cy="60948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ffffff"/>
                </a:solidFill>
                <a:latin typeface="Arial"/>
                <a:ea typeface="Arial"/>
              </a:rPr>
              <a:t>COP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6"/>
          <p:cNvSpPr/>
          <p:nvPr/>
        </p:nvSpPr>
        <p:spPr>
          <a:xfrm>
            <a:off x="8534520" y="3581280"/>
            <a:ext cx="609480" cy="60984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ffffff"/>
                </a:solidFill>
                <a:latin typeface="Arial"/>
                <a:ea typeface="Arial"/>
              </a:rPr>
              <a:t>COP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7"/>
          <p:cNvSpPr/>
          <p:nvPr/>
        </p:nvSpPr>
        <p:spPr>
          <a:xfrm>
            <a:off x="2743200" y="3657600"/>
            <a:ext cx="609480" cy="60948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ffffff"/>
                </a:solidFill>
                <a:latin typeface="Arial"/>
                <a:ea typeface="Arial"/>
              </a:rPr>
              <a:t>COP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9"/>
          <p:cNvSpPr/>
          <p:nvPr/>
        </p:nvSpPr>
        <p:spPr>
          <a:xfrm>
            <a:off x="609480" y="4495680"/>
            <a:ext cx="30492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0"/>
          <p:cNvSpPr/>
          <p:nvPr/>
        </p:nvSpPr>
        <p:spPr>
          <a:xfrm>
            <a:off x="2895480" y="4495680"/>
            <a:ext cx="2286000" cy="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1"/>
          <p:cNvSpPr/>
          <p:nvPr/>
        </p:nvSpPr>
        <p:spPr>
          <a:xfrm flipV="1">
            <a:off x="6172200" y="4266720"/>
            <a:ext cx="0" cy="22860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2"/>
          <p:cNvSpPr/>
          <p:nvPr/>
        </p:nvSpPr>
        <p:spPr>
          <a:xfrm>
            <a:off x="4954320" y="571500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Arial"/>
              </a:rPr>
              <a:t>New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3"/>
          <p:cNvSpPr/>
          <p:nvPr/>
        </p:nvSpPr>
        <p:spPr>
          <a:xfrm>
            <a:off x="2819520" y="5791320"/>
            <a:ext cx="2057400" cy="0"/>
          </a:xfrm>
          <a:prstGeom prst="line">
            <a:avLst/>
          </a:prstGeom>
          <a:ln w="5724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4"/>
          <p:cNvSpPr/>
          <p:nvPr/>
        </p:nvSpPr>
        <p:spPr>
          <a:xfrm>
            <a:off x="6172200" y="5715000"/>
            <a:ext cx="1828800" cy="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5"/>
          <p:cNvSpPr/>
          <p:nvPr/>
        </p:nvSpPr>
        <p:spPr>
          <a:xfrm flipV="1">
            <a:off x="8839080" y="4190760"/>
            <a:ext cx="0" cy="152388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7"/>
          <p:cNvSpPr/>
          <p:nvPr/>
        </p:nvSpPr>
        <p:spPr>
          <a:xfrm flipV="1">
            <a:off x="5181480" y="4114800"/>
            <a:ext cx="0" cy="53352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8"/>
          <p:cNvSpPr/>
          <p:nvPr/>
        </p:nvSpPr>
        <p:spPr>
          <a:xfrm>
            <a:off x="4878720" y="3809880"/>
            <a:ext cx="61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  <a:ea typeface="Arial"/>
              </a:rPr>
              <a:t>Aug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9"/>
          <p:cNvSpPr/>
          <p:nvPr/>
        </p:nvSpPr>
        <p:spPr>
          <a:xfrm flipV="1">
            <a:off x="5638680" y="3809880"/>
            <a:ext cx="0" cy="152424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0"/>
          <p:cNvSpPr/>
          <p:nvPr/>
        </p:nvSpPr>
        <p:spPr>
          <a:xfrm>
            <a:off x="5335560" y="3581280"/>
            <a:ext cx="66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  <a:ea typeface="Arial"/>
              </a:rPr>
              <a:t>Octo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2"/>
          <p:cNvSpPr/>
          <p:nvPr/>
        </p:nvSpPr>
        <p:spPr>
          <a:xfrm>
            <a:off x="5257800" y="4495680"/>
            <a:ext cx="91440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3"/>
          <p:cNvSpPr/>
          <p:nvPr/>
        </p:nvSpPr>
        <p:spPr>
          <a:xfrm>
            <a:off x="4954320" y="5410080"/>
            <a:ext cx="1270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  <a:ea typeface="Arial"/>
              </a:rPr>
              <a:t>For Public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  <a:ea typeface="Arial"/>
              </a:rPr>
              <a:t>Draft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4"/>
          <p:cNvSpPr/>
          <p:nvPr/>
        </p:nvSpPr>
        <p:spPr>
          <a:xfrm>
            <a:off x="4649400" y="4648320"/>
            <a:ext cx="88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  <a:ea typeface="Arial"/>
              </a:rPr>
              <a:t>Final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7"/>
          <p:cNvSpPr/>
          <p:nvPr/>
        </p:nvSpPr>
        <p:spPr>
          <a:xfrm>
            <a:off x="0" y="3200400"/>
            <a:ext cx="457200" cy="762120"/>
          </a:xfrm>
          <a:prstGeom prst="rect">
            <a:avLst/>
          </a:prstGeom>
          <a:gradFill rotWithShape="0">
            <a:gsLst>
              <a:gs pos="0">
                <a:srgbClr val="ff3300">
                  <a:alpha val="60392"/>
                </a:srgbClr>
              </a:gs>
              <a:gs pos="50000">
                <a:srgbClr val="ffffff">
                  <a:alpha val="63137"/>
                </a:srgbClr>
              </a:gs>
              <a:gs pos="100000">
                <a:srgbClr val="ff33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8"/>
          <p:cNvSpPr/>
          <p:nvPr/>
        </p:nvSpPr>
        <p:spPr>
          <a:xfrm flipV="1">
            <a:off x="7924680" y="4038480"/>
            <a:ext cx="0" cy="60984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9"/>
          <p:cNvSpPr/>
          <p:nvPr/>
        </p:nvSpPr>
        <p:spPr>
          <a:xfrm>
            <a:off x="7621920" y="3809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  <a:ea typeface="Arial"/>
              </a:rPr>
              <a:t>Sum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0"/>
          <p:cNvSpPr/>
          <p:nvPr/>
        </p:nvSpPr>
        <p:spPr>
          <a:xfrm>
            <a:off x="7468560" y="4648320"/>
            <a:ext cx="88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  <a:ea typeface="Arial"/>
              </a:rPr>
              <a:t>Final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1"/>
          <p:cNvSpPr/>
          <p:nvPr/>
        </p:nvSpPr>
        <p:spPr>
          <a:xfrm flipV="1">
            <a:off x="7924680" y="4876560"/>
            <a:ext cx="0" cy="6858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2"/>
          <p:cNvSpPr/>
          <p:nvPr/>
        </p:nvSpPr>
        <p:spPr>
          <a:xfrm>
            <a:off x="8001000" y="5715000"/>
            <a:ext cx="83808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4"/>
          <p:cNvSpPr/>
          <p:nvPr/>
        </p:nvSpPr>
        <p:spPr>
          <a:xfrm>
            <a:off x="3240" y="1600200"/>
            <a:ext cx="190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  <a:ea typeface="Arial"/>
              </a:rPr>
              <a:t>SPARC Data Workshop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6"/>
          <p:cNvSpPr/>
          <p:nvPr/>
        </p:nvSpPr>
        <p:spPr>
          <a:xfrm>
            <a:off x="459000" y="2743200"/>
            <a:ext cx="140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  <a:ea typeface="Arial"/>
              </a:rPr>
              <a:t>IPCC AR5 2013/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8"/>
          <p:cNvSpPr/>
          <p:nvPr/>
        </p:nvSpPr>
        <p:spPr>
          <a:xfrm>
            <a:off x="304920" y="18288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  <a:ea typeface="Arial"/>
              </a:rPr>
              <a:t>UNFCCC National Repo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1"/>
          <p:cNvSpPr/>
          <p:nvPr/>
        </p:nvSpPr>
        <p:spPr>
          <a:xfrm>
            <a:off x="1221120" y="2971800"/>
            <a:ext cx="175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  <a:ea typeface="Arial"/>
              </a:rPr>
              <a:t>GCOS AOPC TOPC OOP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3"/>
          <p:cNvSpPr/>
          <p:nvPr/>
        </p:nvSpPr>
        <p:spPr>
          <a:xfrm>
            <a:off x="839880" y="2286000"/>
            <a:ext cx="259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  <a:ea typeface="Arial"/>
              </a:rPr>
              <a:t>GEO Work Plan Symposium (April 201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5"/>
          <p:cNvSpPr/>
          <p:nvPr/>
        </p:nvSpPr>
        <p:spPr>
          <a:xfrm>
            <a:off x="2059200" y="1371600"/>
            <a:ext cx="118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  <a:ea typeface="Arial"/>
              </a:rPr>
              <a:t>WIGOS Pl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7"/>
          <p:cNvSpPr/>
          <p:nvPr/>
        </p:nvSpPr>
        <p:spPr>
          <a:xfrm>
            <a:off x="3277080" y="1371600"/>
            <a:ext cx="139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  <a:ea typeface="Arial"/>
              </a:rPr>
              <a:t>IOC GOOS Pl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973600" y="2971800"/>
            <a:ext cx="191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  <a:ea typeface="Arial"/>
              </a:rPr>
              <a:t>Space Architecture–ECV In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1"/>
          <p:cNvSpPr/>
          <p:nvPr/>
        </p:nvSpPr>
        <p:spPr>
          <a:xfrm>
            <a:off x="2060280" y="160020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  <a:ea typeface="Arial"/>
              </a:rPr>
              <a:t>ESA CC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3"/>
          <p:cNvSpPr/>
          <p:nvPr/>
        </p:nvSpPr>
        <p:spPr>
          <a:xfrm>
            <a:off x="3888360" y="1600200"/>
            <a:ext cx="7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  <a:ea typeface="Arial"/>
              </a:rPr>
              <a:t>QA4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5"/>
          <p:cNvSpPr/>
          <p:nvPr/>
        </p:nvSpPr>
        <p:spPr>
          <a:xfrm>
            <a:off x="2823120" y="160020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  <a:ea typeface="Arial"/>
              </a:rPr>
              <a:t>CORE-CLIM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7"/>
          <p:cNvSpPr/>
          <p:nvPr/>
        </p:nvSpPr>
        <p:spPr>
          <a:xfrm>
            <a:off x="2160" y="2133720"/>
            <a:ext cx="222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  <a:ea typeface="Arial"/>
              </a:rPr>
              <a:t>GCOS Adaptation Workshop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9"/>
          <p:cNvSpPr/>
          <p:nvPr/>
        </p:nvSpPr>
        <p:spPr>
          <a:xfrm>
            <a:off x="2160" y="2514600"/>
            <a:ext cx="355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  <a:ea typeface="Arial"/>
              </a:rPr>
              <a:t>GCOS GOFC-GOLD Mitigation Workshop (5-7 May 201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1"/>
          <p:cNvSpPr/>
          <p:nvPr/>
        </p:nvSpPr>
        <p:spPr>
          <a:xfrm>
            <a:off x="1833840" y="2743200"/>
            <a:ext cx="25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  <a:ea typeface="Arial"/>
              </a:rPr>
              <a:t>WCRP-IPCC WG I Workshop (Sep 201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3"/>
          <p:cNvSpPr/>
          <p:nvPr/>
        </p:nvSpPr>
        <p:spPr>
          <a:xfrm>
            <a:off x="3509280" y="2514600"/>
            <a:ext cx="315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  <a:ea typeface="Arial"/>
              </a:rPr>
              <a:t>GCOS-IPCC WG II and DRR Workshop (Nov 201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4"/>
          <p:cNvSpPr/>
          <p:nvPr/>
        </p:nvSpPr>
        <p:spPr>
          <a:xfrm>
            <a:off x="2595960" y="2057400"/>
            <a:ext cx="167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  <a:ea typeface="Arial"/>
              </a:rPr>
              <a:t>WCRP WDAC (May 201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8"/>
          <p:cNvSpPr/>
          <p:nvPr/>
        </p:nvSpPr>
        <p:spPr>
          <a:xfrm>
            <a:off x="2043000" y="874800"/>
            <a:ext cx="28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Arial"/>
                <a:ea typeface="Arial"/>
              </a:rPr>
              <a:t>Input to the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9"/>
          <p:cNvSpPr/>
          <p:nvPr/>
        </p:nvSpPr>
        <p:spPr>
          <a:xfrm>
            <a:off x="3512880" y="2286000"/>
            <a:ext cx="1600920" cy="24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  <a:ea typeface="Arial"/>
              </a:rPr>
              <a:t>CEOS-CGMS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20"/>
          <p:cNvSpPr/>
          <p:nvPr/>
        </p:nvSpPr>
        <p:spPr>
          <a:xfrm flipV="1">
            <a:off x="3048120" y="4266720"/>
            <a:ext cx="0" cy="22860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21"/>
          <p:cNvSpPr/>
          <p:nvPr/>
        </p:nvSpPr>
        <p:spPr>
          <a:xfrm flipV="1">
            <a:off x="3048120" y="4572000"/>
            <a:ext cx="0" cy="53352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2"/>
          <p:cNvSpPr/>
          <p:nvPr/>
        </p:nvSpPr>
        <p:spPr>
          <a:xfrm>
            <a:off x="2517480" y="5105520"/>
            <a:ext cx="1348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  <a:ea typeface="Arial"/>
              </a:rPr>
              <a:t>Report to SBSTA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  <a:ea typeface="Arial"/>
              </a:rPr>
              <a:t>on stat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23"/>
          <p:cNvSpPr/>
          <p:nvPr/>
        </p:nvSpPr>
        <p:spPr>
          <a:xfrm flipV="1">
            <a:off x="6172200" y="4495680"/>
            <a:ext cx="0" cy="53352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4"/>
          <p:cNvSpPr/>
          <p:nvPr/>
        </p:nvSpPr>
        <p:spPr>
          <a:xfrm>
            <a:off x="5652720" y="5029200"/>
            <a:ext cx="2079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3300"/>
                </a:solidFill>
                <a:latin typeface="Arial"/>
                <a:ea typeface="Arial"/>
              </a:rPr>
              <a:t>Report to SBSTA4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3300"/>
                </a:solidFill>
                <a:latin typeface="Arial"/>
                <a:ea typeface="Arial"/>
              </a:rPr>
              <a:t>Submission of Progress Re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25"/>
          <p:cNvSpPr/>
          <p:nvPr/>
        </p:nvSpPr>
        <p:spPr>
          <a:xfrm flipV="1">
            <a:off x="8839080" y="5638320"/>
            <a:ext cx="0" cy="38124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6"/>
          <p:cNvSpPr/>
          <p:nvPr/>
        </p:nvSpPr>
        <p:spPr>
          <a:xfrm>
            <a:off x="7514640" y="5791320"/>
            <a:ext cx="163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3300"/>
                </a:solidFill>
                <a:latin typeface="Arial"/>
                <a:ea typeface="Arial"/>
              </a:rPr>
              <a:t>Report to SBSTA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3300"/>
                </a:solidFill>
                <a:latin typeface="Arial"/>
                <a:ea typeface="Arial"/>
              </a:rPr>
              <a:t>Submission of new 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7"/>
          <p:cNvSpPr/>
          <p:nvPr/>
        </p:nvSpPr>
        <p:spPr>
          <a:xfrm>
            <a:off x="2137680" y="1828800"/>
            <a:ext cx="319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00000"/>
                </a:solidFill>
                <a:latin typeface="Arial"/>
                <a:ea typeface="Arial"/>
              </a:rPr>
              <a:t>EUMETSAT-WCRP Climate Symposium (Oct 201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7T09:59:37Z</dcterms:created>
  <dc:creator>CRichter</dc:creator>
  <dc:description/>
  <dc:language>en-US</dc:language>
  <cp:lastModifiedBy>Stephen Briggs</cp:lastModifiedBy>
  <dcterms:modified xsi:type="dcterms:W3CDTF">2014-04-10T07:53:04Z</dcterms:modified>
  <cp:revision>43</cp:revision>
  <dc:subject/>
  <dc:title>Slide 1</dc:title>
</cp:coreProperties>
</file>