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E07ED2-19B0-45CA-BB9A-49CD07E876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A090A5-5376-4919-879F-8211640E4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FE347E-F17A-4C73-8440-13BBD3B01C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1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78DA9A-A483-4B85-923D-5F68ACA83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3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ype of data, frequency and timing of acquisitions, geographical areas, etc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ering Group, Earth Observations Implementation Team, etc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; this could involve Prasad Thenkabail (CEOS Ag SBA Coordinator) and Yves Crevier (space data liaison for GEOGLAM), or possibly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, GFOI, Geohazards and other disasters, GEO BON, etc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, implications for LSI and SDC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90B8F-DEC4-4ACE-BDA3-69D81A00ED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09894-F600-4F7C-A05D-A64D2E177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4F898-E61C-4CEB-AC5B-D5C9A5EA69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8AB308-7441-4638-ABDC-61FE65235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3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FC266F-A238-4D8D-90F4-BF3DEEE8B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2F848-0D22-4C13-8473-8AAE19EC6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1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434CD-80A9-4F08-94F3-346A717BD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731E94-A6B4-48A0-A041-146419B7B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AC0B1-CFCE-4894-8F87-22929D11B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4EEB5-291C-4739-8B1D-0FDBC5ECB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554E0-FB74-4F73-B669-F722627E96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9EB1D-AF72-421B-B9D7-FBB6389C92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7C927-96E5-4A22-BDB7-691EF57019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65C9C-A16C-4AEF-9A1E-34E0C79C0B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D69A5-C4F9-4ACE-A2AC-8A9EEEAD6D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6AA12-5648-425F-9EAD-340AABA168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773F8-CEB6-4944-BB91-031727CFD6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E0763-ABDC-409C-A44D-938A263715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C6171-8553-4FFE-B29F-1A417D17BD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E3CD-1803-483E-BA9D-563FF2DB70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539D3-1FDA-48C7-96A3-228100E1AA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A618D-6AA6-4DD6-A52F-DA1721CDB5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4825E-1D17-4B22-8648-8B19966DC0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46B44-3CBD-4CBD-8FFF-CA65445B27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010D7-59EA-4A6F-980A-73E5CF9B042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3E6B5-B82A-4060-A14C-90C8D0CF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091D0-A45B-4132-9609-78AB6EAA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98262-58FD-4C6A-955A-892F0804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9D5F2-476F-474B-9E17-0947557C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0954E-5910-47F8-BDD2-68DFB994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E60BF-DCCC-4B1E-8025-4DA95E3F5C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EE521-3559-4C1B-B147-2F0079DB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076C8-BDE0-4182-888A-22476F58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FF043-5CE1-4620-BC5A-C83E1445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5E2CF-9BF0-48E0-B3F7-76D3C341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998CB-3160-4428-8944-FDE3799C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A2ECA-464A-4F58-88C2-DD607184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FF2F1-076F-486B-B3BC-064C8868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12898-FA42-481A-80A5-E322B09BB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D0E67-DF9A-4B40-A9B1-597161757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A75E-54E5-48DA-8E72-0ABC0498A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74DCA-F3D9-46CD-B190-7B414EEE2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9AD50-FAC4-4D4D-AE5E-292937883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46A96-0887-4B33-BBA7-E992F27B8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9720" y="528480"/>
            <a:ext cx="1172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SIT-27 Meeting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La Jolla, CA, USA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March 26-28, 2012</a:t>
            </a:r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" name="Picture 4" descr="CEOS_logo_transparent.png"/>
          <p:cNvPicPr/>
          <p:nvPr/>
        </p:nvPicPr>
        <p:blipFill>
          <a:blip r:embed="rId3"/>
          <a:stretch/>
        </p:blipFill>
        <p:spPr>
          <a:xfrm>
            <a:off x="95400" y="71280"/>
            <a:ext cx="1206360" cy="478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0B8D5-FC62-4A24-A12B-C9C9601BEB17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9720" y="528480"/>
            <a:ext cx="1172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SIT-27 Meeting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La Jolla, CA, USA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March 26-28, 2012</a:t>
            </a:r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4" name="Picture 4" descr="CEOS_logo_transparent.png"/>
          <p:cNvPicPr/>
          <p:nvPr/>
        </p:nvPicPr>
        <p:blipFill>
          <a:blip r:embed="rId3"/>
          <a:stretch/>
        </p:blipFill>
        <p:spPr>
          <a:xfrm>
            <a:off x="95400" y="71280"/>
            <a:ext cx="1206360" cy="478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1991C-5789-48F5-8511-232707097F30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9720" y="528480"/>
            <a:ext cx="1172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SIT-27 Meeting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La Jolla, CA, USA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March 26-28, 2012</a:t>
            </a:r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4" descr="CEOS_logo_transparent.png"/>
          <p:cNvPicPr/>
          <p:nvPr/>
        </p:nvPicPr>
        <p:blipFill>
          <a:blip r:embed="rId3"/>
          <a:stretch/>
        </p:blipFill>
        <p:spPr>
          <a:xfrm>
            <a:off x="95400" y="71280"/>
            <a:ext cx="1206360" cy="478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256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5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96FAB7-8307-4703-AA91-FA2AEFC4CB8A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DA15C8-9262-48BF-A32D-7FDB40D2E19A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  <a:ea typeface="Tahoma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00160" y="3078000"/>
            <a:ext cx="87357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CEOS participation in GEOGLAM</a:t>
            </a:r>
            <a:endParaRPr b="0" lang="en-US" sz="4000" spc="-1" strike="noStrike">
              <a:solidFill>
                <a:srgbClr val="002569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imothy Stryker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EOS Executive Officer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Yves Crevier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adian Space Agency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02865-0F30-491F-8CDE-224E6C044437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Highlights of CEOS Analys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72960" y="1536840"/>
            <a:ext cx="85629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Space-based Earth observation (EO) data sets are expected to play a foundational role in the successful achievement of the GEOGLAM objective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514440" indent="-51444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GEOGLAM work plan does not provide the level of details required to develop and cost the implementation strategy and operation sustainability – it is more a guidance and advisory document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514440" indent="-51444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400" spc="-1" strike="noStrike">
                <a:solidFill>
                  <a:srgbClr val="002569"/>
                </a:solidFill>
                <a:latin typeface="Arial"/>
              </a:rPr>
              <a:t>The implementation will be phased and scalable according to the availability of funds for each component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514440" indent="-51444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Many further details of implementation will need to be developed with the appropriate partners. 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Of particular interest to CEOS should be scoping effort for the types and amounts of EO satellite data from CEOS members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514440" indent="-51444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EC55B7-C1AE-4715-9F35-1852223B02F7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3720" y="101520"/>
            <a:ext cx="8301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Recommendations - Requested Decision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23920" y="1427040"/>
            <a:ext cx="88614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That CEOS agree to serve as a partner to GEO in GEOGLAM program development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2.    That CEOS work closely with the GEOGLAM task team and GEO Agriculture (CoP) to define the data requirements and related attributes for GEOGLAM operations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That CEOS work with GEOGLAM to develop a fluid, sustained and continuous framework for data provision and dissemination, to meet GEOGLAM needs in whole or in part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That CEOS agree to participate in the GEOGLAM governance structure though designation of appropriate representatives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That CEOS not consider this effort in isolation, but in tandem with ongoing/potential future CEOS efforts involving similar EO data sets to maximize efficiency and cost-effectiveness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0C858D-902D-49AB-B1F4-750EDA20E0AB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Purpose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72960" y="1866960"/>
            <a:ext cx="8562960" cy="42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o provide CEOS SIT members with information on the GEOGLAM initiative;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o facilitate a CEOS decision on suggested partnership with GEOGLAM during its initial implementation phase.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000" spc="-1" strike="noStrike" u="sng">
                <a:solidFill>
                  <a:srgbClr val="002569"/>
                </a:solidFill>
                <a:uFillTx/>
                <a:latin typeface="Arial"/>
              </a:rPr>
              <a:t>Reference documents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</a:rPr>
              <a:t>SIT-27 Background Paper on GEOGLAM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</a:rPr>
              <a:t>G20 Ministerial Declaration on Food Price Volatility and Agriculture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</a:rPr>
              <a:t>Draft March 19 GEOGLAM Work Plan – w/CEOS edits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EE979E-54BF-40F3-85B8-6D54EA3A150D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EOS Contex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457200" y="223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“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Agencies have decided at the recent plenary in Lucca to focus on the following priority initiatives which will constitute the core of their program for the years ahead: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...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The definition and implementation of new activities in support of sustainable development and environmental management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The Joint Experiment for Crop Agricultural Monitoring (JECAM) and a </a:t>
            </a:r>
            <a:r>
              <a:rPr b="1" lang="en-US" sz="2000" spc="-1" strike="noStrike" u="sng">
                <a:solidFill>
                  <a:srgbClr val="002569"/>
                </a:solidFill>
                <a:uFillTx/>
                <a:latin typeface="Arial"/>
                <a:ea typeface="ＭＳ Ｐゴシック"/>
              </a:rPr>
              <a:t>potential response </a:t>
            </a:r>
            <a:r>
              <a:rPr b="1" lang="en-US" sz="20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to G20 requirements for Global Agricultural Monitoring, as part of hunger relief and food security initiatives…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...”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6" name="Title 1"/>
          <p:cNvSpPr/>
          <p:nvPr/>
        </p:nvSpPr>
        <p:spPr>
          <a:xfrm>
            <a:off x="415800" y="1488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9999ff"/>
                </a:solidFill>
                <a:latin typeface="Arial"/>
              </a:rPr>
              <a:t>2011 CEOS Lucca Statement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158C7-DA4E-461B-B236-14203CA774CB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20680" y="101520"/>
            <a:ext cx="7964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  <a:ea typeface="Tahoma"/>
              </a:rPr>
              <a:t>GEOGLAM Overview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60360" y="1522440"/>
            <a:ext cx="841536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Goal:  Improve operational global and national crop production estimates using EO data and their timely dissemination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Desired Outcome:  An improved and more harmonized system of systems taking advantage of new satellite assets and a higher level of international coordination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2569"/>
                </a:solidFill>
                <a:latin typeface="Arial"/>
              </a:rPr>
              <a:t>Basically, GEOGLAM is the means to implement the vision of the GEO Agricultural Monitoring Task AG-01 (Global Agricultural Monitoring and Early Warning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7748B-E6A4-46D1-A6AC-371E3CCFA421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20680" y="101520"/>
            <a:ext cx="7964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GEOGLAM Assumptions - Enhanced Ag Monito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360360" y="1206360"/>
            <a:ext cx="841536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Ensuring the full and open exchange of timely data and information about crop status, crop yield forecasts and food-commodity supply predictions can lower uncertainty and increase the transparency of global food supply.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Enhanced understanding of global production would contribute to reduced price volatility by allowing local, national and international operators to make decisions and anticipate market trends with reduced uncertainty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se developments would improve national agricultural policies and further the cause of food security.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88880" y="58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ckground Relevance of GEO-GLAM </a:t>
            </a:r>
            <a:br>
              <a:rPr sz="36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1310760"/>
            <a:ext cx="9156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It is assumed that a better monitoring process, using satellite based and in-situ data, contributed and shared under a transparent framework, would have an influence on: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569"/>
                </a:solidFill>
                <a:latin typeface="Arial"/>
              </a:rPr>
              <a:t>Markets (Economic)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25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</a:rPr>
              <a:t>Confidence and transparency to promote a well-functioning commodities market</a:t>
            </a:r>
            <a:endParaRPr b="1" lang="en-US" sz="1600" spc="-1" strike="noStrike">
              <a:solidFill>
                <a:srgbClr val="002569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25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</a:rPr>
              <a:t>Inform international trade policies and strategies (trade restrictions/subsidies)</a:t>
            </a:r>
            <a:endParaRPr b="1" lang="en-US" sz="1600" spc="-1" strike="noStrike">
              <a:solidFill>
                <a:srgbClr val="002569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25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</a:rPr>
              <a:t>Guide investments and partnerships (where and in what to invest to effectively increase food output)</a:t>
            </a:r>
            <a:endParaRPr b="1" lang="en-US" sz="1600" spc="-1" strike="noStrike">
              <a:solidFill>
                <a:srgbClr val="002569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569"/>
                </a:solidFill>
                <a:latin typeface="Arial"/>
              </a:rPr>
              <a:t>Food Aid (Humanitarian)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25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</a:rPr>
              <a:t>Help to identify, respond and  avert food crises</a:t>
            </a:r>
            <a:endParaRPr b="1" lang="en-US" sz="1600" spc="-1" strike="noStrike">
              <a:solidFill>
                <a:srgbClr val="002569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25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</a:rPr>
              <a:t>Mobilize timely food aid to at-risk areas</a:t>
            </a:r>
            <a:endParaRPr b="1" lang="en-US" sz="1600" spc="-1" strike="noStrike">
              <a:solidFill>
                <a:srgbClr val="002569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25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</a:rPr>
              <a:t>Improved national agricultural policies, particularly for developing countries </a:t>
            </a:r>
            <a:endParaRPr b="1" lang="en-US" sz="1600" spc="-1" strike="noStrike">
              <a:solidFill>
                <a:srgbClr val="002569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569"/>
                </a:solidFill>
                <a:latin typeface="Arial"/>
              </a:rPr>
              <a:t>National Security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25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</a:rPr>
              <a:t>Prevent potential food shortages from triggering/exacerbating civil unrest in at-risk regions (e.g., 2008 food crisis triggered food riots in 40 countries)</a:t>
            </a:r>
            <a:endParaRPr b="1" lang="en-US" sz="1600" spc="-1" strike="noStrike">
              <a:solidFill>
                <a:srgbClr val="002569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569"/>
                </a:solidFill>
                <a:latin typeface="Arial"/>
              </a:rPr>
              <a:t>Better national monitoring systems </a:t>
            </a:r>
            <a:r>
              <a:rPr b="1" lang="en-US" sz="2000" spc="-1" strike="noStrike">
                <a:solidFill>
                  <a:srgbClr val="002569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2569"/>
                </a:solidFill>
                <a:latin typeface="Arial"/>
              </a:rPr>
              <a:t> increased international market confidence and food security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4017960" y="6561000"/>
            <a:ext cx="51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CA" sz="1400" spc="-1" strike="noStrike">
                <a:solidFill>
                  <a:srgbClr val="002569"/>
                </a:solidFill>
                <a:latin typeface="Arial"/>
              </a:rPr>
              <a:t>Adapted from Justice, 2012, GEOGLAM Workplan Workshop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109E59-CC77-4559-A26D-4EC0B1E8D6B8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ngoing Policy Framew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372960" y="1406520"/>
            <a:ext cx="856296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Under France’s G20 Presidency, the Agricultural Ministers Action Plan on Food Price Volatility and Agriculture in (ref 1) Calls for: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Wide-ranging cooperation to address the issues of food price volatility, agricultural productivity, and food security.  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A combination of enhanced cooperation among existing programs, and new initiatives to ensure a safe, sufficient, and nutritious food supply for the World’s population. 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A key goal under Mexico’s G20 Presidency is “Enhancing food security and addressing commodity price volatility…”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GEOGLAM Work Plan (see draft Ref 3) will be provided to a G20 Agricultural Preparatory Meeting of experts in Mexico in mid-April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GEO representatives Jose Achache (GEO Secretariat) and Pascal Kosuth (Cemagref) will participate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4.    Aggressive Development Schedule in Accordance with G20 Guidance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E66E49-F587-44D5-9D43-492DA089C12A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GEOGLAM Workplan Component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72960" y="1406520"/>
            <a:ext cx="8562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</a:rPr>
              <a:t>Enhancing global agricultural system;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</a:rPr>
              <a:t>Building capacity at national level to utilize Earth observation;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800" spc="-1" strike="noStrike">
                <a:solidFill>
                  <a:srgbClr val="002569"/>
                </a:solidFill>
                <a:latin typeface="Arial"/>
              </a:rPr>
              <a:t>Supporting monitoring of countries at risk to improve food security;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800" spc="-1" strike="noStrike">
                <a:solidFill>
                  <a:srgbClr val="002569"/>
                </a:solidFill>
                <a:latin typeface="Arial"/>
              </a:rPr>
              <a:t>Improved coordination of Earth observations for agricultural monitoring;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800" spc="-1" strike="noStrike">
                <a:solidFill>
                  <a:srgbClr val="002569"/>
                </a:solidFill>
                <a:latin typeface="Arial"/>
              </a:rPr>
              <a:t>Coordinating R&amp;D in support of improved operational agricultural monitoring;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800" spc="-1" strike="noStrike">
                <a:solidFill>
                  <a:srgbClr val="002569"/>
                </a:solidFill>
                <a:latin typeface="Arial"/>
              </a:rPr>
              <a:t>Disseminating data products and information.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81740-BA6E-4CBE-B353-47FE03434D0A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Workplan Component – Earth Observ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72960" y="1536840"/>
            <a:ext cx="85629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Arial"/>
              </a:rPr>
              <a:t>Improved coordination of satellite observations for agricultural monitoring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514440" indent="-51444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514440" indent="-51444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Activity 4-1: Development of a coordinated observation strategy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514440" indent="-51444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514440" indent="-51444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Activity 4-2: Development of tools, systems and guideline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514440" indent="-51444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514440" indent="-51444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Activity 4-3: Implementation of the data acquisition strategy and dissemination proces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514440" indent="-51444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002569"/>
                </a:solidFill>
                <a:latin typeface="Arial"/>
              </a:rPr>
              <a:t>Extensive comments/edits provided by CEOS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002569"/>
                </a:solidFill>
                <a:latin typeface="Arial"/>
              </a:rPr>
              <a:t>and incorporated by GEO Secretariat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23:13Z</dcterms:created>
  <dc:creator>Brian Killough</dc:creator>
  <dc:description/>
  <dc:language>en-US</dc:language>
  <cp:lastModifiedBy>ycrevier</cp:lastModifiedBy>
  <dcterms:modified xsi:type="dcterms:W3CDTF">2012-03-27T14:08:11Z</dcterms:modified>
  <cp:revision>19</cp:revision>
  <dc:subject/>
  <dc:title>Title</dc:title>
</cp:coreProperties>
</file>