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6D8EB-A45E-43EA-A0E8-C5ED202C34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59C80-7DA2-4C6C-9834-5061A28B3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3137C-EB05-4AB9-97B0-A37EE6A0F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48B7F-D68C-4271-9E56-159EE7C6F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ype of data, frequency and timing of acquisitions, geographical areas, etc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ing Group, Earth Observations Implementation Team, et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 this could involve Prasad Thenkabail (CEOS Ag SBA Coordinator) and Yves Crevier (space data liaison for GEOGLAM), or possibly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, GFOI, Geohazards and other disasters, GEO BON, et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, implications for LSI and SDC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12645-47C5-4495-BFEE-8F06D2DC0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366FB-6FF5-4086-87BA-F22E19945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F97E7-3AAE-468E-B0DB-EC39A94B0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5EAA0-6997-48EC-98CD-FD77FB716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0FDDD-2574-4A28-8BCD-73D0A10CB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A89E8-3C14-42E5-A6E9-1F5BDCF99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B07B6-8A08-4EBF-9043-B3DC770F2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F56E1-3021-4F84-9930-ECB689C00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BDAE-4F97-45E3-A25B-665E30808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2C49-6303-42D8-900F-DE7048C3B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A294-475E-4152-96ED-C8234B021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ED4B-2A2D-4A88-9E27-253C289C5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6BA0-8202-4852-A72E-BA3727DA51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2F6E-BAE6-4392-AC5B-CF4CD88C2C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BE92-07AF-4B60-A214-2315761A70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00B4-E93F-4478-8610-6DD04B306A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448C-E71B-4E35-946C-339406406B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28F3-BCDD-4F6C-B0D0-3C734E7E48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DCF1-18AD-411E-AA31-E8E8F7075C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8B8C-7B54-43B7-98DD-486491A0D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76E5-129C-4466-8BCC-E0BACE22A6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AF88-D8BC-478D-8FA1-744003B2BE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AFCB-61CD-4ED1-9CD0-EFA3876EAE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029D-5D8B-4463-92A1-838EFA298B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CE9F-7AC5-403E-AA03-2B8FEA0680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BCAD2-CD06-49B6-963E-4F68E940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C38F-4B7A-4599-AE2B-84A2825E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5BB75-5CF9-45CC-8A91-29F31D6A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18DE9-977A-4154-8AC6-D91314FB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467B3-9706-489B-A157-FC3D1610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2A07-95D2-4307-B1B0-DD57E99C18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811EE-354A-4822-B883-FD15744A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D7AEA-9FC3-45C2-892C-D3AF1756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3F0A9-2FA9-472D-96B6-AA7DC7C8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3483E-B065-4917-BAAA-06489804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FCF3A-07C8-41B3-A360-EE9514FD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ABFE5-A0D8-4418-A45C-3A4261F3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DCB76-0344-4FCC-A0BB-C93A5070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A017-89A3-460A-B67F-AC8BFBF66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EAD2-4654-4799-9639-4D155A500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4663-F460-4EF2-AC98-FE5D0F582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0CA0-359C-48D2-8E3E-1E7565D06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EBD8-F663-4718-9280-58DBA6D7F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B6A3-06C1-4B67-860E-5E8911B64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74677-F34E-4180-B3F0-92223A2EC44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77B06-229A-47D3-B06D-A738C389B30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256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363F3-259F-43A5-9337-35CC203B9E2D}" type="datetime">
              <a:rPr b="0" lang="en-US" sz="1800" spc="-1" strike="noStrike">
                <a:solidFill>
                  <a:srgbClr val="002569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5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AAF5E-C84E-447A-B9A8-ED15378DBD83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735A5-7E50-4D0E-B5D9-000D2F16B85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00160" y="3078000"/>
            <a:ext cx="87357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EOS participation in GEOGLAM</a:t>
            </a:r>
            <a:endParaRPr b="0" lang="en-US" sz="40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othy Stryk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EOS Executive Officer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ves Crevi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adian Space Agency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05B27-AC52-4A66-8BE1-EB4E1ED0DF83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Highlights of CEOS Analy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72960" y="1536840"/>
            <a:ext cx="856296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Space-based Earth observation (EO) data sets are expected to play a foundational role in the successful achievement of the GEOGLAM objectiv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GEOGLAM work plan does not provide the level of details required to develop and cost the implementation strategy and operation sustainability – it is more a guidance and advisory documen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Many further details of implementation will need to be developed with the appropriate partners. 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Of particular interest to CEOS should be scoping effort for the types and amounts of EO satellite data from CEOS member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97858-25A4-4731-A435-FF1EA31291E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3720" y="101520"/>
            <a:ext cx="8301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commendations - Requested Decis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23920" y="1427040"/>
            <a:ext cx="8861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at CEOS agree to serve as a full partner to GEO in GEOGLAM program development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2.    That CEOS work closely with the GEOGLAM task team and GEO Agriculture (CoP) to define the data requirements and related attributes for GEOGLAM operation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at CEOS work with GEOGLAM to develop a fluid, sustained and continuous framework for data provision and dissemination, to meet GEOGLAM needs in whole or in part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at CEOS agree to participate in the GEOGLAM governance structure though designation of appropriate representative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at CEOS not consider this effort in isolation, but in tandem with ongoing/potential future CEOS efforts involving similar EO data sets to maximize efficiency and cost-effectivenes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6C73B-5EE4-453E-A91E-636E68158B7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urpose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72960" y="1866960"/>
            <a:ext cx="856296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o provide CEOS SIT members with information on the GEOGLAM initiative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o facilitate a CEOS decision on suggested partnership with GEOGLAM during its initial implementation phase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 u="sng">
                <a:solidFill>
                  <a:srgbClr val="002569"/>
                </a:solidFill>
                <a:uFillTx/>
                <a:latin typeface="Arial"/>
              </a:rPr>
              <a:t>Reference document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SIT-27 Background Paper on GEOGLAM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G20 Ministerial Declaration on Food Price Volatility and Agriculture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Draft March 19 GEOGLAM Work Plan – w/CEOS edits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455D5-B8D0-40E5-AB38-7F50D0849A0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Contex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223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CEOS Agencies have decided at the recent plenary in Lucca to focus on the following priority initiatives which will constitute the core of their program for the years ahead: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2569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The definition and implementation of new activities in support of sustainable development and environmental management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he Joint Experiment for Crop Agricultural Monitoring (JECAM) and a </a:t>
            </a:r>
            <a:r>
              <a:rPr b="1" lang="en-US" sz="2000" spc="-1" strike="noStrike" u="sng">
                <a:solidFill>
                  <a:srgbClr val="002569"/>
                </a:solidFill>
                <a:uFillTx/>
                <a:latin typeface="Arial"/>
                <a:ea typeface="ＭＳ Ｐゴシック"/>
              </a:rPr>
              <a:t>potential response </a:t>
            </a:r>
            <a:r>
              <a:rPr b="1" lang="en-US" sz="20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o G20 requirements for Global Agricultural Monitoring, as part of hunger relief and food security initiatives…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2569"/>
                </a:solidFill>
                <a:latin typeface="Arial"/>
              </a:rPr>
              <a:t>...”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415800" y="1488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999ff"/>
                </a:solidFill>
                <a:latin typeface="Arial"/>
              </a:rPr>
              <a:t>2011 CEOS Lucca Statemen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5F095-FE93-4FAD-941F-DD3964DCFC0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20680" y="101520"/>
            <a:ext cx="7964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  <a:ea typeface="Tahoma"/>
              </a:rPr>
              <a:t>GEOGLAM 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60360" y="1522440"/>
            <a:ext cx="841536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Goal:  Improve operational global and national crop production estimates using EO data and their timely disseminatio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Desired Outcome:  An improved and more harmonized system of systems taking advantage of new satellite assets and a higher level of international coordinatio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Arial"/>
              </a:rPr>
              <a:t>Basically, GEOGLAM is the means to implement the vision of the GEO Agricultural Monitoring Task AG-01 (Global Agricultural Monitoring and Early Warning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9408E-9E33-4FDD-86F2-09067DDBEDF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20680" y="101520"/>
            <a:ext cx="7964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GEOGLAM Assumptions - Enhanced Ag Monito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60360" y="1206360"/>
            <a:ext cx="84153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Ensuring the full and open exchange of timely data and information about crop status, crop yield forecasts and food-commodity supply predictions can lower uncertainty and increase the transparency of global food supply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Enhanced understanding of global production would contribute to reduced price volatility by allowing local, national and international operators to make decisions and anticipate market trends with reduced uncertainty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se developments would improve national agricultural policies and further the cause of food security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8880" y="58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 Relevance of GEO-GLAM </a:t>
            </a:r>
            <a:br>
              <a:rPr sz="36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310760"/>
            <a:ext cx="9156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It is assumed that a better monitoring process, using satellite based and in-situ data, contributed and shared under a transparent framework, would have an influence on: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Markets (Economic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Confidence and transparency to promote a well-functioning commodities market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Inform international trade policies and strategies (trade restrictions/subsidies)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Guide investments and partnerships (where and in what to invest to effectively increase food output)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Food Aid (Humanitarian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Help to identify, respond and  avert food crises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Mobilize timely food aid to at-risk areas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Improved national agricultural policies, particularly for developing countries 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National Security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25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Prevent potential food shortages from triggering/exacerbating civil unrest in at-risk regions (e.g., 2008 food crisis triggered food riots in 40 countries)</a:t>
            </a:r>
            <a:endParaRPr b="1" lang="en-US" sz="1600" spc="-1" strike="noStrike">
              <a:solidFill>
                <a:srgbClr val="002569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Better national monitoring systems </a:t>
            </a:r>
            <a:r>
              <a:rPr b="1" lang="en-US" sz="20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 increased international market confidence and food security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017960" y="6561000"/>
            <a:ext cx="51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CA" sz="1400" spc="-1" strike="noStrike">
                <a:solidFill>
                  <a:srgbClr val="002569"/>
                </a:solidFill>
                <a:latin typeface="Arial"/>
              </a:rPr>
              <a:t>Adapted from Justice, 2012, GEOGLAM Workplan Workshop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A5073-66B6-4B55-80EE-12AEC5BBC90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ngoing Policy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72960" y="1406520"/>
            <a:ext cx="856296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Under France’s G20 Presidency, the Agricultural Ministers Action Plan on Food Price Volatility and Agriculture in (ref 1) Calls for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ide-ranging cooperation to address the issues of food price volatility, agricultural productivity, and food security. 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A combination of enhanced cooperation among existing programs, and new initiatives to ensure a safe, sufficient, and nutritious food supply for the World’s population.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A key goal under Mexico’s G20 Presidency is “Enhancing food security and addressing commodity price volatility…”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GEOGLAM Work Plan (see draft Ref 3) will be provided to a G20 Agricultural Preparatory Meeting of experts in Mexico in mid-April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representatives Jose Achache (GEO Secretariat) and Pascal Kosuth (Cemagref) will participat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4.    Aggressive Development Schedule in Accordance with G20 Guidance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251F8-EB0E-4D55-A40D-E39D9A27F79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EOGLAM Workplan Componen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72960" y="1406520"/>
            <a:ext cx="8562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Enhancing global agricultural system;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Building capacity at national level to utilize Earth observation;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800" spc="-1" strike="noStrike">
                <a:solidFill>
                  <a:srgbClr val="002569"/>
                </a:solidFill>
                <a:latin typeface="Arial"/>
              </a:rPr>
              <a:t>Supporting monitoring of countries at risk to improve food security;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800" spc="-1" strike="noStrike">
                <a:solidFill>
                  <a:srgbClr val="002569"/>
                </a:solidFill>
                <a:latin typeface="Arial"/>
              </a:rPr>
              <a:t>Improved coordination of Earth observations for agricultural monitoring;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800" spc="-1" strike="noStrike">
                <a:solidFill>
                  <a:srgbClr val="002569"/>
                </a:solidFill>
                <a:latin typeface="Arial"/>
              </a:rPr>
              <a:t>Coordinating R&amp;D in support of improved operational agricultural monitoring;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800" spc="-1" strike="noStrike">
                <a:solidFill>
                  <a:srgbClr val="002569"/>
                </a:solidFill>
                <a:latin typeface="Arial"/>
              </a:rPr>
              <a:t>Disseminating data products and information.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DC2C4-F461-43D0-A175-5A41D9273A63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20840" y="101520"/>
            <a:ext cx="776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Workplan Component – Earth Obser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00160" y="3078000"/>
            <a:ext cx="873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72960" y="1536840"/>
            <a:ext cx="85629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Improved coordination of satellite observations for agricultural monitoring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Activity 4-1: Development of a coordinated observation strateg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Activity 4-2: Development of tools, systems and guidelin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Activity 4-3: Implementation of the data acquisition strategy and dissemination proces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2569"/>
                </a:solidFill>
                <a:latin typeface="Arial"/>
              </a:rPr>
              <a:t>Extensive comments/edits provided by CEOS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2569"/>
                </a:solidFill>
                <a:latin typeface="Arial"/>
              </a:rPr>
              <a:t>and incorporated by GEO Secretaria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Brian Killough</cp:lastModifiedBy>
  <dcterms:modified xsi:type="dcterms:W3CDTF">2012-03-27T18:27:24Z</dcterms:modified>
  <cp:revision>19</cp:revision>
  <dc:subject/>
  <dc:title>Title</dc:title>
</cp:coreProperties>
</file>