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B199-9872-4B25-B906-41D2EDF95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0020-764D-4C48-A6B8-86C1313D9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CE3A-880D-412E-A2D6-A2AB78D12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BD26-6127-415A-B6C5-630E5B34F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BE31-3887-4C7D-A6B1-77E9C663EF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2EC6-4C6B-45FA-9BF5-82FC4E3D53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5F1F-FA92-4632-AA73-AE321511F3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A29F-54B3-441B-93F9-8D6F8C4C67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7C25-1476-4B6D-97B8-AF9601F40F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DB2A-17CE-468C-B846-C925C10F39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2607-BC10-4446-BCCD-07888D398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2D67-062F-4F74-B869-C6982C459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6FEA-3B36-4EB9-BC48-48E6371F23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8A10-986E-413A-BA72-6D7541C375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8A5C-968F-427A-8314-173F7FB70A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8F36-81FE-4AA9-AEBD-3CCB5A92EE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9B8A-43D9-42CA-A35E-BC3F531B58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F8F1-F40D-4E95-944E-26F8461DC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1ABF-3CAF-484B-8CEE-0A08FC9F9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2FA9-FE71-4D05-83AD-120AFF4E6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19120" y="188640"/>
            <a:ext cx="76485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6C16-086B-402E-BC4E-E3269D0DE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FE1E-1AEA-43B0-A2C5-1F7822A64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6AE4-A333-45AE-8F20-2E0097A0F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9120" y="148680"/>
            <a:ext cx="7648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0411-EBCC-4C49-9565-26CF3BC9C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8525F-E945-4720-ABD8-DD59DA13E87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720" y="528480"/>
            <a:ext cx="1172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SIT-27 Meeting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La Jolla, CA, USA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 Unicode MS"/>
              </a:rPr>
              <a:t>March 26-28, 2012</a:t>
            </a:r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4" name="Picture 4" descr="CEOS_logo_transparent.png"/>
          <p:cNvPicPr/>
          <p:nvPr/>
        </p:nvPicPr>
        <p:blipFill>
          <a:blip r:embed="rId3"/>
          <a:stretch/>
        </p:blipFill>
        <p:spPr>
          <a:xfrm>
            <a:off x="95400" y="71280"/>
            <a:ext cx="120636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19120" y="188640"/>
            <a:ext cx="76485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27FB6-901C-43F3-B5AA-EEBD1745365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81200" y="1468440"/>
            <a:ext cx="713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Discussions last year with UNFCCC (Rocio Lichte) on CEOS status at COPs – not conclusiv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SIT Technical meeting &amp; Plenary Agreed CEOS representations at COP every two year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2012 (COP-18) requires significant CEOS representation: CEOS response GCOS IP, Strategy document on Climate Monitoring Architecture, EOHB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781200" y="4332240"/>
            <a:ext cx="713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</a:rPr>
              <a:t>Proposal/Options: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EOS members solicit their UNFCCC Parties to make statemen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Mark Dowell will investigate side session in EC Pavilion on Systematic Observation for Climate with CEOS (and others) – he  does plan on attend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Additional CEOS attendanc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WGClimate will draft a statement for SEC to review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946160" y="152280"/>
            <a:ext cx="51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Representation &amp; Repor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SBSTA-37/COP-18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1:10:37Z</dcterms:created>
  <dc:creator>Brian Killough</dc:creator>
  <dc:description/>
  <dc:language>en-US</dc:language>
  <cp:lastModifiedBy>kekeith</cp:lastModifiedBy>
  <dcterms:modified xsi:type="dcterms:W3CDTF">2012-03-26T22:59:27Z</dcterms:modified>
  <cp:revision>66</cp:revision>
  <dc:subject/>
  <dc:title>Title</dc:title>
</cp:coreProperties>
</file>