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B96F-4589-4B4E-80D4-587E7AE68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CD3A-F476-4933-83FC-FE8D7ECCE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DF18-3DF7-44F0-9DD8-90998D238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26D6-C73B-46E9-80F8-94B73911A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E845-B82D-4123-881D-AA16C9A60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sponse to the findings of the CEOS Self-Study, the SIT Chair laid out three top-level documents that should be developed in order to implement accepted recommendations, and chart the course for CEOS over the coming yea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trategic Guidance Document (10-12 year longe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mplementation Plan (5-7 year longe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Work Plan (3-year longevity, updated annual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ced with the need for such documents and the structural and strategic guidance they will provide, the temptation for any organization would be to eagerly move directly into their production. In the case of an evolving organization like CEOS, however, the first step is not to write; it is to identify what the overarching, strategic-level Essential Questions are that underlie CEOS’s mission and overall goals, and that therefore also determine the structure CEOS needs to achieve those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nutshell, the Essential Questions add up to this: </a:t>
            </a:r>
            <a:r>
              <a:rPr b="0" i="1" lang="en-US" sz="1200" spc="-1" strike="noStrike">
                <a:solidFill>
                  <a:srgbClr val="000000"/>
                </a:solidFill>
                <a:latin typeface="Calibri"/>
              </a:rPr>
              <a:t>Who are we, and what is our mission?</a:t>
            </a:r>
            <a:r>
              <a:rPr b="0" lang="en-US" sz="1200" spc="-1" strike="noStrike">
                <a:solidFill>
                  <a:srgbClr val="000000"/>
                </a:solidFill>
                <a:latin typeface="Calibri"/>
              </a:rPr>
              <a:t> Over the past 25 years, CEOS has evolved from a small space-based coordination group to a much larger organization that encompasses both internal and external relationships, coordination, tasks, and goals.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05B-F194-4C1A-AB70-40E8CE216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sponse to the findings of the CEOS Self-Study, the SIT Chair laid out three top-level documents that should be developed in order to implement accepted recommendations, and chart the course for CEOS over the coming yea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trategic Guidance Document (10-12 year longe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mplementation Plan (5-7 year longe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Work Plan (3-year longevity, updated annual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ced with the need for such documents and the structural and strategic guidance they will provide, the temptation for any organization would be to eagerly move directly into their production. In the case of an evolving organization like CEOS, however, the first step is not to write; it is to identify what the overarching, strategic-level Essential Questions are that underlie CEOS’s mission and overall goals, and that therefore also determine the structure CEOS needs to achieve those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nutshell, the Essential Questions add up to this: </a:t>
            </a:r>
            <a:r>
              <a:rPr b="0" i="1" lang="en-US" sz="1200" spc="-1" strike="noStrike">
                <a:solidFill>
                  <a:srgbClr val="000000"/>
                </a:solidFill>
                <a:latin typeface="Calibri"/>
              </a:rPr>
              <a:t>Who are we, and what is our mission?</a:t>
            </a:r>
            <a:r>
              <a:rPr b="0" lang="en-US" sz="1200" spc="-1" strike="noStrike">
                <a:solidFill>
                  <a:srgbClr val="000000"/>
                </a:solidFill>
                <a:latin typeface="Calibri"/>
              </a:rPr>
              <a:t> Over the past 25 years, CEOS has evolved from a small space-based coordination group to a much larger organization that encompasses both internal and external relationships, coordination, tasks, and goals. </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1C59-E355-4EAB-A772-E4F19217C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D936-DCEB-427C-A80C-F534D911D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EFBC-FA6B-4215-BD64-184DE3D8B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80A2-5F75-4C04-AF92-00F72645D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 relevant findings from the 2011 CEOS Self-Study Report (including Study Team Reports)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ain and synthesize input based on collective CEOS experience of M&amp;P Team Member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e M&amp;P Study with CEO/DCEO/SEO efforts to update the CEOS contact database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CEOS membership list to understand distribution of active and inactive members (including associates), and prioritize for subsequent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past CEOS meetings minutes, attendance lists, and notes as an independent measure of broad member participation (ongo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questions and background material for conducting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establish contact with inactive members and conduct interviews (make new contacts where necessary)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 a selection of active members to better understand their reasons for being active in CEOS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nthesize results and develop recommendations for consideration by CEOS leadership, including follow-up by CEOS leadership, and invitation to next Plenary (preliminary report here; final report to come).</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F704-8F20-434A-ADBD-AFD993682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list of examples for discussion that may be candidates for “Essential Questions.” Attendees for SIT-27 are enthusiastically encouraged to reflect on these and to propose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1765-B8FD-440E-9B53-F353ED174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CB983-1A36-4B00-8CDD-53A1DA659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482CA-BBDC-4471-B7A4-E92224CF3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B7BE84-367E-4B59-B97D-E0CB453AC1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4244B6-F64B-49D8-8F56-78FE662A9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CB22C8-057C-4DF7-8D02-D36CA944C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37D94D-312B-4BBB-9044-619FFA7E6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DC008-C90A-4095-BFD7-8B06FAE19B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D06E5-5017-47EA-BD05-FCC0CBDAA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AD93F-6BF7-49EE-AC5A-9A0D1F3DA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878301-BED6-414C-B9F6-62FBEAFBD7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FC320C-4D30-436E-B386-57B0234142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899304-F4C5-4C2F-85DB-50A26F9E3E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3CEC-A7AD-4381-80B4-0806A3A5B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143B45-D967-4ED5-9DC1-AD366D63F9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5D0971-AEFE-4D2D-A922-E86BDF702D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2CD825-F453-4CA3-9EA2-A2C5699042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CF6ED9-59A8-4AD9-A989-31F18881AC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4934EE-EFA8-4E29-B824-2B3F2D24DC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97E4F1-4113-4EA4-9B24-8C3EC2F7F9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93D349-D348-420C-AE32-81BC4B3320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5FBB12-BD33-44C8-8B98-A42970BF0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63E637-10CE-4A15-B6E6-D984E75C50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EBE1F2-65B8-44D6-B38A-BD5102EE01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B5D05-4F0F-47F6-8B24-CA1B51360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D05C3C6-A9BA-4192-9771-F5F648A601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86345C-F47D-4C31-86AE-DA255F5A72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69B2CA-52BC-48C9-82A6-03B9FA1197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78B858-C994-4680-AAC5-510B2B0EC5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8B40F6-94E6-4405-A0C2-7E0259CE60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7DE68B-5EB6-4661-A408-5C8AE6AD93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265E4A-F4A8-40B1-A9E6-E9FA62FAA2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287D08-42D2-4E32-8D8D-6342F9A093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CE857-1981-4BB7-8492-4ADF60918A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91DF5C-4B76-4BE9-BA39-4A4C89EF67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845C7-7196-4919-94DE-043422AA7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9E8B50-52BE-4555-9161-ABBB37D591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9DD823-36E2-4DEE-ACF4-36464EAB93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A430BF-65D2-486F-8637-1DA87B8AF4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6AA4CA-CEB6-48EB-A6A6-C158053E7B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5E8A1F-EAB9-4164-9329-9136563F00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298D18-C5FD-444E-BABE-246300FC72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1AAAB2-46DA-4D8E-8D08-900620A3A0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1FB0D5-9879-4100-90F3-D17958B1D7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40D5CB-B973-4ECE-9248-88C7CFE7C3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32F3F-E1C4-45D7-AC68-E62D8DD734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C4761-D5C9-4B79-B381-64D9E647F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C25CDA-FA6F-47C9-BD61-53EA76685E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3F84A8-DB07-44F5-9CD0-CB7E21B5B8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3025C6-A24A-4850-BC99-E8EC3FE8B8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8A9204F-DEC6-4DD2-B15D-171ABBE3C5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68B094-34C8-46FA-8F4E-4078A4FA86B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D1330-EAEF-4B28-B453-040D0F008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A9B2-7C38-4348-BA1B-4671935A3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34C6D-FB11-4EC8-BBE1-BF74F8FFF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2B973-2F9A-4115-BB84-E823A40DA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1D2B0-1889-4282-A50A-5074129FF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EF9CB-8771-4761-AECB-ECA1788B8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870C3-1F48-4471-B3BB-B64947C3D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31A5A-1095-49C9-8F0E-3F36D6048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E744D-959C-45AE-AA6B-1B45603A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50082-DD30-4E9C-B04E-B535D0619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31855-D89C-4F12-A382-D998E00F2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246E34-56F9-43F3-AD16-1E5EF594A3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69CA9-6951-467D-9DC9-194173348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A6EEC-BF38-43DC-AAC1-220D1B1BC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34840-DAB1-4FB3-AE9C-86AF152BB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8B5CE-6973-493C-9AE0-870103C29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ABF6-B8DB-4B3B-BA8E-DA9E7A219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8B2CA-1A33-4D21-B73C-9A4E4F677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88859-71AD-4018-85F2-3BE087275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AEF1C-47AE-4013-B58B-7B2F1582A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3D885-747D-4D7C-880E-4DE737AAA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68DD6-6047-4106-BC39-B3DA368C8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CE45C3-BBA5-4BC6-9FCB-96D3A24CA7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43A5EA-E96D-4840-AFF5-FD13ECD566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8509C8-0A8E-4B92-B7A5-5C14C3D1FD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E573A-7C1F-44AD-B2D3-5719048B1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843FE-B409-4E59-8542-8CDD1D764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0D8F2-7646-41BD-B25E-95A1010A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1EE25-722A-47E0-A6A4-D33401E0C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EFC5C-ACAA-4A88-B091-BF8C8B4091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3030F-8FF9-4165-942F-E06655182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1A415-58E8-4D5B-8700-E1D695E00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69FEF-5235-4103-8495-34B1F507C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D82CE-16A2-4B57-9F13-0918B7E7C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A36F5-6B70-4280-9A31-41A15332C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5FF8AA-2792-4E74-B9C0-97C262BFD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6D89F4-C03E-4B93-ACA2-E33BC78BB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291C7-8227-4A2C-971C-75AF26698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62B3-8C96-47B7-943F-F6502353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FE5AA8-7733-46CA-A32A-AB6DA2374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F5578-0765-49F4-A404-CE11D9D04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155AE-ACDF-431B-8614-87021D662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5EB22-2490-487B-9A15-36B65544A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7E6C3-4DEA-45EC-9727-82243EB7F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D5A0D-EB44-4F48-9112-E6341DDC5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28A94-860B-43E3-9301-6D92B9C53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C6E01-0F0E-4B8D-878E-BC1F22BEC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F8D68-1FC3-4EB3-BC3D-4482CD9B6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A0F2C5-4238-45E0-9E97-31DCC2CF15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29DD-5936-44A2-B1A6-3627A174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39B70-ABB1-4095-A3BD-DB0B12F23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DB1DC0-1502-4A04-A742-6E41FAC611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1EFE8-FF8A-4F98-86CE-6A0B8C196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84CBF-38E2-43A8-B1BF-15FFE9AFE0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245A40-DEC2-4FAB-9FA7-F470C2A37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27119-04B4-4F4C-8720-0D6AC333F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3F20FB-4965-46A5-BD58-26BEBCE7D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CEC26-5B3F-4592-8A15-7D9CAB64F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AEA32-E729-41DC-9CD7-319951990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50858-F2F5-4BFC-8F3A-EF4396B01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E503-1F71-4321-BA06-2818B923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13A9C-8FE2-4634-95FD-52B8682BC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CB79FC-43F8-4842-AB77-C4849CA3A7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F0732-FA77-4A61-B648-A5850F390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DC45D6-262E-40E4-82B0-C00F67A61E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2D8D9B-F3B3-4382-B6A1-08FABE8BD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2B55E-83D8-48A2-AD79-30F4D5158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8D1B7-7432-415C-85EE-09FDC1271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74657-F5E2-4938-B3A8-33F13C050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8991B-F9AC-46B5-8201-58C62BA90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D1F4E-A437-4CDE-A175-63CC2D2E1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3677-5613-48E4-B776-1CFCF9EA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EB753-6509-4F36-9D04-7154744E4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5DCB5-902B-4DBB-A11F-DE5008D29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99D45-46E6-4300-BE63-591ACFC16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0BFA59-63FF-4785-9028-3D4E1DC17D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5F0B1E-577F-4E86-984E-903F0A1305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433889-E4DC-4176-8EA6-B9DD7D5B91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E862C-C64B-454B-97C2-2B520C8DD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A84077-31E2-474A-ABB1-D58017FBB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9B8D9-E79D-48DE-8E47-64C5B6EE9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F15440-B235-4311-B100-28BB1B230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4730-F637-4530-8531-E265DC46E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42575-67BE-42FA-B6A2-2E4934429D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98685-43FF-4D53-823A-1D1340FD4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38B76-5805-4106-AA7E-1120C1E06C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05335-2E1E-4A8F-985C-C9D104F11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7A325-2533-4193-942A-A9668A4F5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98EF3-0B4A-4082-9D10-C524181AE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2F42AD-F7E8-41A4-8DBF-B672FEFE0B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ABD33F-430F-4C05-BBC4-45A1F3E1E3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C9C19-1D5F-4BC1-8838-FB0468062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AC50A-3AC2-4A23-91D1-300DA1D888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E7FF-0A5A-45F0-A7B4-20EDE963E19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Rectangle 36"/>
          <p:cNvSpPr/>
          <p:nvPr/>
        </p:nvSpPr>
        <p:spPr>
          <a:xfrm>
            <a:off x="-111600" y="6588000"/>
            <a:ext cx="42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Bodoni MT"/>
              </a:rPr>
              <a:t>CEOS SIT Technical Workshop | Washington DC | 13-14 Septem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311E-3EC8-4EC7-9E1C-7F90311FD86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4223-3CB2-48DC-8BF4-EB9C8F76AC28}"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3E28-7B82-4F0C-840E-23C65C3756F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D1E3-ED3D-42F7-8EF0-5B00FC46CC8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6853320" y="853920"/>
            <a:ext cx="396720" cy="425520"/>
          </a:xfrm>
          <a:prstGeom prst="rect">
            <a:avLst/>
          </a:prstGeom>
          <a:ln w="0">
            <a:noFill/>
          </a:ln>
        </p:spPr>
      </p:pic>
      <p:pic>
        <p:nvPicPr>
          <p:cNvPr id="84" name="Picture 3" descr=""/>
          <p:cNvPicPr/>
          <p:nvPr/>
        </p:nvPicPr>
        <p:blipFill>
          <a:blip r:embed="rId3"/>
          <a:stretch/>
        </p:blipFill>
        <p:spPr>
          <a:xfrm>
            <a:off x="7213680" y="847800"/>
            <a:ext cx="396720" cy="423720"/>
          </a:xfrm>
          <a:prstGeom prst="rect">
            <a:avLst/>
          </a:prstGeom>
          <a:ln w="0">
            <a:noFill/>
          </a:ln>
        </p:spPr>
      </p:pic>
      <p:pic>
        <p:nvPicPr>
          <p:cNvPr id="85" name="Picture 4" descr=""/>
          <p:cNvPicPr/>
          <p:nvPr/>
        </p:nvPicPr>
        <p:blipFill>
          <a:blip r:embed="rId4"/>
          <a:stretch/>
        </p:blipFill>
        <p:spPr>
          <a:xfrm>
            <a:off x="7554960" y="847800"/>
            <a:ext cx="414360" cy="423720"/>
          </a:xfrm>
          <a:prstGeom prst="rect">
            <a:avLst/>
          </a:prstGeom>
          <a:ln w="0">
            <a:noFill/>
          </a:ln>
        </p:spPr>
      </p:pic>
      <p:pic>
        <p:nvPicPr>
          <p:cNvPr id="86" name="Picture 5" descr=""/>
          <p:cNvPicPr/>
          <p:nvPr/>
        </p:nvPicPr>
        <p:blipFill>
          <a:blip r:embed="rId5"/>
          <a:stretch/>
        </p:blipFill>
        <p:spPr>
          <a:xfrm>
            <a:off x="7927920" y="847800"/>
            <a:ext cx="401760" cy="423720"/>
          </a:xfrm>
          <a:prstGeom prst="rect">
            <a:avLst/>
          </a:prstGeom>
          <a:ln w="0">
            <a:noFill/>
          </a:ln>
        </p:spPr>
      </p:pic>
      <p:pic>
        <p:nvPicPr>
          <p:cNvPr id="87" name="Picture 6" descr=""/>
          <p:cNvPicPr/>
          <p:nvPr/>
        </p:nvPicPr>
        <p:blipFill>
          <a:blip r:embed="rId6"/>
          <a:stretch/>
        </p:blipFill>
        <p:spPr>
          <a:xfrm>
            <a:off x="8288280" y="847800"/>
            <a:ext cx="401760" cy="423720"/>
          </a:xfrm>
          <a:prstGeom prst="rect">
            <a:avLst/>
          </a:prstGeom>
          <a:ln w="0">
            <a:noFill/>
          </a:ln>
        </p:spPr>
      </p:pic>
      <p:pic>
        <p:nvPicPr>
          <p:cNvPr id="88" name="Picture 7" descr=""/>
          <p:cNvPicPr/>
          <p:nvPr/>
        </p:nvPicPr>
        <p:blipFill>
          <a:blip r:embed="rId7"/>
          <a:stretch/>
        </p:blipFill>
        <p:spPr>
          <a:xfrm>
            <a:off x="8637480" y="847800"/>
            <a:ext cx="398520" cy="423720"/>
          </a:xfrm>
          <a:prstGeom prst="rect">
            <a:avLst/>
          </a:prstGeom>
          <a:ln w="0">
            <a:noFill/>
          </a:ln>
        </p:spPr>
      </p:pic>
      <p:pic>
        <p:nvPicPr>
          <p:cNvPr id="89" name="Picture 12" descr=""/>
          <p:cNvPicPr/>
          <p:nvPr/>
        </p:nvPicPr>
        <p:blipFill>
          <a:blip r:embed="rId8"/>
          <a:srcRect l="0" t="8198" r="0" b="9866"/>
          <a:stretch/>
        </p:blipFill>
        <p:spPr>
          <a:xfrm>
            <a:off x="7483320" y="44280"/>
            <a:ext cx="1552680" cy="7621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D0DB-973A-40B9-ACCB-7EE447C852B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D553-DB79-45D6-829C-42531F9F6C8D}"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A628-DBE8-480F-9BE1-E29A0714730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A94D-A39C-4C8F-9CAC-A80046EE613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8566-23DD-4CF6-BF7E-09BC0833E35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80DB-C49F-4D9E-9AA6-B55ED95A537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0D16-4430-4396-985F-F9BBCDDE3B14}"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EOS Essential Questions</a:t>
            </a:r>
            <a:br>
              <a:rPr sz="4000"/>
            </a:b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762120"/>
            <a:ext cx="792504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61645"/>
                </a:solidFill>
                <a:latin typeface="Calibri"/>
                <a:ea typeface="ＭＳ Ｐゴシック"/>
              </a:rPr>
              <a:t>Others?</a:t>
            </a:r>
            <a:br>
              <a:rPr sz="4400"/>
            </a:br>
            <a:br>
              <a:rPr sz="4400"/>
            </a:br>
            <a:br>
              <a:rPr sz="4400"/>
            </a:b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8"/>
          <p:cNvSpPr/>
          <p:nvPr/>
        </p:nvSpPr>
        <p:spPr>
          <a:xfrm>
            <a:off x="1905120" y="457200"/>
            <a:ext cx="523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Arial"/>
            </a:endParaRPr>
          </a:p>
        </p:txBody>
      </p:sp>
      <p:graphicFrame>
        <p:nvGraphicFramePr>
          <p:cNvPr id="526" name=""/>
          <p:cNvGraphicFramePr/>
          <p:nvPr/>
        </p:nvGraphicFramePr>
        <p:xfrm>
          <a:off x="914400" y="1523880"/>
          <a:ext cx="7467480" cy="4023000"/>
        </p:xfrm>
        <a:graphic>
          <a:graphicData uri="http://schemas.openxmlformats.org/drawingml/2006/table">
            <a:tbl>
              <a:tblPr/>
              <a:tblGrid>
                <a:gridCol w="3429000"/>
                <a:gridCol w="4038480"/>
              </a:tblGrid>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2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27 selects/decides on list of Essential Questions</a:t>
                      </a:r>
                      <a:endParaRPr b="0" lang="en-US" sz="2400" spc="-1" strike="noStrike">
                        <a:solidFill>
                          <a:srgbClr val="000000"/>
                        </a:solidFill>
                        <a:latin typeface="Arial"/>
                      </a:endParaRPr>
                    </a:p>
                  </a:txBody>
                  <a:tcPr anchor="t" marL="90000" marR="90000">
                    <a:lnL w="5760">
                      <a:solidFill>
                        <a:srgbClr val="000000"/>
                      </a:solidFill>
                    </a:lnL>
                    <a:lnR w="5760">
                      <a:solidFill>
                        <a:srgbClr val="2d2d8a"/>
                      </a:solidFill>
                    </a:lnR>
                    <a:lnT w="5760">
                      <a:solidFill>
                        <a:srgbClr val="2d2d8a"/>
                      </a:solidFill>
                    </a:lnT>
                    <a:lnB w="5760">
                      <a:solidFill>
                        <a:srgbClr val="2d2d8a"/>
                      </a:solidFill>
                    </a:lnB>
                    <a:solidFill>
                      <a:srgbClr val="2d2d8a">
                        <a:alpha val="20000"/>
                      </a:srgbClr>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 August 2012</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000000"/>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 community discussions continue</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12</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 comes to decision on Essential Question answers</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2 Plenary</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OS begins using answers to inform development of top-level planning document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142640"/>
            <a:ext cx="82296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333399"/>
                </a:solidFill>
                <a:latin typeface="Arial"/>
              </a:rPr>
              <a:t>“</a:t>
            </a:r>
            <a:r>
              <a:rPr b="0" i="1" lang="en-US" sz="3100" spc="-1" strike="noStrike">
                <a:solidFill>
                  <a:srgbClr val="333399"/>
                </a:solidFill>
                <a:latin typeface="Arial"/>
              </a:rPr>
              <a:t>The most serious mistakes are not being made as a result of wrong answers. The truly dangerous thing is asking the wrong questions.”</a:t>
            </a:r>
            <a:br>
              <a:rPr sz="3100"/>
            </a:br>
            <a:br>
              <a:rPr sz="3100"/>
            </a:br>
            <a:r>
              <a:rPr b="0" i="1" lang="en-US" sz="2000" spc="-1" strike="noStrike">
                <a:solidFill>
                  <a:srgbClr val="333399"/>
                </a:solidFill>
                <a:latin typeface="Arial"/>
              </a:rPr>
              <a:t>-Peter F. Drucker</a:t>
            </a:r>
            <a:br>
              <a:rPr sz="2000"/>
            </a:br>
            <a:br>
              <a:rPr sz="2000"/>
            </a:b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EOS Essential Questions:</a:t>
            </a:r>
            <a:br>
              <a:rPr sz="4000"/>
            </a:br>
            <a:endParaRPr b="0" lang="en-US" sz="4000" spc="-1" strike="noStrike">
              <a:solidFill>
                <a:srgbClr val="333399"/>
              </a:solidFill>
              <a:latin typeface="Arial"/>
            </a:endParaRPr>
          </a:p>
        </p:txBody>
      </p:sp>
      <p:sp>
        <p:nvSpPr>
          <p:cNvPr id="510" name=""/>
          <p:cNvSpPr txBox="1"/>
          <p:nvPr/>
        </p:nvSpPr>
        <p:spPr>
          <a:xfrm>
            <a:off x="468360" y="1447560"/>
            <a:ext cx="8229600" cy="493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embark on the development of the three Strategic Documents that were identified at the 2011 CEOS Plenary, CEOS needs fundamental information to inform the development of those documen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omponent of that information is to identify the high-level “Essential Questions” that underlie CEOS mission and goals.</a:t>
            </a:r>
            <a:endParaRPr b="0" lang="en-US" sz="2400" spc="-1" strike="noStrike">
              <a:solidFill>
                <a:srgbClr val="000000"/>
              </a:solidFill>
              <a:latin typeface="Arial"/>
            </a:endParaRPr>
          </a:p>
          <a:p>
            <a:pPr marL="343080" indent="-34308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EOS Essential Questions:</a:t>
            </a:r>
            <a:br>
              <a:rPr sz="4000"/>
            </a:br>
            <a:endParaRPr b="0" lang="en-US" sz="4000" spc="-1" strike="noStrike">
              <a:solidFill>
                <a:srgbClr val="333399"/>
              </a:solidFill>
              <a:latin typeface="Arial"/>
            </a:endParaRPr>
          </a:p>
        </p:txBody>
      </p:sp>
      <p:sp>
        <p:nvSpPr>
          <p:cNvPr id="512" name=""/>
          <p:cNvSpPr txBox="1"/>
          <p:nvPr/>
        </p:nvSpPr>
        <p:spPr>
          <a:xfrm>
            <a:off x="468360" y="1447560"/>
            <a:ext cx="8229600" cy="493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for SIT-27:</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and come to agreement on the overarching, strategic-level Essential Questions that underlie CEOS’s mission and overall goals.</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for September SIT Technical Workshop:</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e to agreement on the answers to the Essential Questions that will help to define needed structure and functions and thus will inform the development of new CEOS top-level planning documents.</a:t>
            </a:r>
            <a:endParaRPr b="0" lang="en-US" sz="2400" spc="-1" strike="noStrike">
              <a:solidFill>
                <a:srgbClr val="000000"/>
              </a:solidFill>
              <a:latin typeface="Arial"/>
            </a:endParaRPr>
          </a:p>
          <a:p>
            <a:pPr marL="343080" indent="-34308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inder: What are the Top Level Planning Documents to be developed?</a:t>
            </a:r>
            <a:endParaRPr b="0" lang="en-US" sz="3200" spc="-1" strike="noStrike">
              <a:solidFill>
                <a:srgbClr val="333399"/>
              </a:solidFill>
              <a:latin typeface="Arial"/>
            </a:endParaRPr>
          </a:p>
        </p:txBody>
      </p:sp>
      <p:sp>
        <p:nvSpPr>
          <p:cNvPr id="514" name=""/>
          <p:cNvSpPr txBox="1"/>
          <p:nvPr/>
        </p:nvSpPr>
        <p:spPr>
          <a:xfrm>
            <a:off x="533520" y="1600200"/>
            <a:ext cx="8610480" cy="4525920"/>
          </a:xfrm>
          <a:prstGeom prst="rect">
            <a:avLst/>
          </a:prstGeom>
          <a:noFill/>
          <a:ln w="0">
            <a:noFill/>
          </a:ln>
        </p:spPr>
        <p:txBody>
          <a:bodyPr anchor="t">
            <a:normAutofit/>
          </a:bodyPr>
          <a:p>
            <a:pPr marL="343080" indent="-343080">
              <a:spcBef>
                <a:spcPts val="700"/>
              </a:spcBef>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Guidance Document (10-12 year longevity)</a:t>
            </a:r>
            <a:endParaRPr b="0" lang="en-US" sz="2800" spc="-1" strike="noStrike">
              <a:solidFill>
                <a:srgbClr val="000000"/>
              </a:solidFill>
              <a:latin typeface="Arial"/>
            </a:endParaRPr>
          </a:p>
          <a:p>
            <a:pPr marL="343080" indent="-343080">
              <a:spcBef>
                <a:spcPts val="700"/>
              </a:spcBef>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Plan (5-7 year longevity)</a:t>
            </a:r>
            <a:endParaRPr b="0" lang="en-US" sz="2800" spc="-1" strike="noStrike">
              <a:solidFill>
                <a:srgbClr val="000000"/>
              </a:solidFill>
              <a:latin typeface="Arial"/>
            </a:endParaRPr>
          </a:p>
          <a:p>
            <a:pPr marL="343080" indent="-343080">
              <a:spcBef>
                <a:spcPts val="700"/>
              </a:spcBef>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lan (3-year longevity, updated annu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inder: What were CEOS’s original goals?</a:t>
            </a:r>
            <a:endParaRPr b="0" lang="en-US" sz="3200" spc="-1" strike="noStrike">
              <a:solidFill>
                <a:srgbClr val="333399"/>
              </a:solidFill>
              <a:latin typeface="Arial"/>
            </a:endParaRPr>
          </a:p>
        </p:txBody>
      </p:sp>
      <p:sp>
        <p:nvSpPr>
          <p:cNvPr id="516" name=""/>
          <p:cNvSpPr txBox="1"/>
          <p:nvPr/>
        </p:nvSpPr>
        <p:spPr>
          <a:xfrm>
            <a:off x="533520" y="1600200"/>
            <a:ext cx="8610480" cy="4525920"/>
          </a:xfrm>
          <a:prstGeom prst="rect">
            <a:avLst/>
          </a:prstGeom>
          <a:noFill/>
          <a:ln w="0">
            <a:noFill/>
          </a:ln>
        </p:spPr>
        <p:txBody>
          <a:bodyPr anchor="t">
            <a:normAutofit/>
          </a:bodyPr>
          <a:p>
            <a:pPr marL="343080" indent="-34308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ptimize benefits of space-borne Earth observations through cooperation of its Members in mission planning and in development of compatible data products, formats, services, applications and policies;</a:t>
            </a:r>
            <a:endParaRPr b="0" lang="en-US" sz="2400" spc="-1" strike="noStrike">
              <a:solidFill>
                <a:srgbClr val="000000"/>
              </a:solidFill>
              <a:latin typeface="Arial"/>
            </a:endParaRPr>
          </a:p>
          <a:p>
            <a:pPr marL="343080" indent="-34308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rve as a focal point for international coordination of space-related Earth observation activities; and</a:t>
            </a:r>
            <a:endParaRPr b="0" lang="en-US" sz="2400" spc="-1" strike="noStrike">
              <a:solidFill>
                <a:srgbClr val="000000"/>
              </a:solidFill>
              <a:latin typeface="Arial"/>
            </a:endParaRPr>
          </a:p>
          <a:p>
            <a:pPr marL="343080" indent="-343080">
              <a:spcBef>
                <a:spcPts val="601"/>
              </a:spcBef>
              <a:spcAft>
                <a:spcPts val="29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change policy and technical information to encourage complementarity and compatibility of observation and data exchang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What are the characteristics of a</a:t>
            </a:r>
            <a:br>
              <a:rPr sz="3300"/>
            </a:br>
            <a:r>
              <a:rPr b="0" lang="en-US" sz="3300" spc="-1" strike="noStrike">
                <a:solidFill>
                  <a:srgbClr val="333399"/>
                </a:solidFill>
                <a:latin typeface="Arial"/>
              </a:rPr>
              <a:t>“CEOS Essential Question?”</a:t>
            </a:r>
            <a:endParaRPr b="0" lang="en-US" sz="3300" spc="-1" strike="noStrike">
              <a:solidFill>
                <a:srgbClr val="333399"/>
              </a:solidFill>
              <a:latin typeface="Arial"/>
            </a:endParaRPr>
          </a:p>
        </p:txBody>
      </p:sp>
      <p:sp>
        <p:nvSpPr>
          <p:cNvPr id="518" name=""/>
          <p:cNvSpPr txBox="1"/>
          <p:nvPr/>
        </p:nvSpPr>
        <p:spPr>
          <a:xfrm>
            <a:off x="456840" y="1066680"/>
            <a:ext cx="8342280" cy="548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rategic, not tactical (i.e. it does not descend into processes, procedures, or particulars)</a:t>
            </a:r>
            <a:endParaRPr b="0" lang="en-US" sz="2800" spc="-1" strike="noStrike">
              <a:solidFill>
                <a:srgbClr val="000000"/>
              </a:solidFill>
              <a:latin typeface="Arial"/>
            </a:endParaRPr>
          </a:p>
          <a:p>
            <a:pPr marL="343080" indent="-343080">
              <a:spcBef>
                <a:spcPts val="700"/>
              </a:spcBef>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relevant to and consistent with, but not wholly constrained by, the original CEOS objectives </a:t>
            </a:r>
            <a:endParaRPr b="0" lang="en-US" sz="2800" spc="-1" strike="noStrike">
              <a:solidFill>
                <a:srgbClr val="000000"/>
              </a:solidFill>
              <a:latin typeface="Arial"/>
            </a:endParaRPr>
          </a:p>
          <a:p>
            <a:pPr marL="343080" indent="-343080">
              <a:spcBef>
                <a:spcPts val="700"/>
              </a:spcBef>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swerable (i.e. has realism and specificity)</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Essential Questions identified thus far:</a:t>
            </a:r>
            <a:endParaRPr b="0" lang="en-US" sz="3300" spc="-1" strike="noStrike">
              <a:solidFill>
                <a:srgbClr val="333399"/>
              </a:solidFill>
              <a:latin typeface="Arial"/>
            </a:endParaRPr>
          </a:p>
        </p:txBody>
      </p:sp>
      <p:pic>
        <p:nvPicPr>
          <p:cNvPr id="520" name="Object 2" descr=""/>
          <p:cNvPicPr/>
          <p:nvPr/>
        </p:nvPicPr>
        <p:blipFill>
          <a:blip r:embed="rId1"/>
          <a:stretch/>
        </p:blipFill>
        <p:spPr>
          <a:xfrm>
            <a:off x="380880" y="1371600"/>
            <a:ext cx="83394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Additional Candidates for Discussion</a:t>
            </a:r>
            <a:r>
              <a:rPr b="0" lang="en-US" sz="3600" spc="-1" strike="noStrike">
                <a:solidFill>
                  <a:srgbClr val="333399"/>
                </a:solidFill>
                <a:latin typeface="Arial"/>
              </a:rPr>
              <a:t>:</a:t>
            </a:r>
            <a:endParaRPr b="0" lang="en-US" sz="3600" spc="-1" strike="noStrike">
              <a:solidFill>
                <a:srgbClr val="333399"/>
              </a:solidFill>
              <a:latin typeface="Arial"/>
            </a:endParaRPr>
          </a:p>
        </p:txBody>
      </p:sp>
      <p:sp>
        <p:nvSpPr>
          <p:cNvPr id="522" name=""/>
          <p:cNvSpPr txBox="1"/>
          <p:nvPr/>
        </p:nvSpPr>
        <p:spPr>
          <a:xfrm>
            <a:off x="457200" y="1295280"/>
            <a:ext cx="8229600" cy="5345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304920" y="1219320"/>
            <a:ext cx="8839080" cy="5276160"/>
          </a:xfrm>
          <a:prstGeom prst="rect">
            <a:avLst/>
          </a:prstGeom>
          <a:noFill/>
          <a:ln w="0">
            <a:noFill/>
          </a:ln>
        </p:spPr>
        <p:style>
          <a:lnRef idx="0"/>
          <a:fillRef idx="0"/>
          <a:effectRef idx="0"/>
          <a:fontRef idx="minor"/>
        </p:style>
        <p:txBody>
          <a:bodyPr lIns="90000" rIns="90000" tIns="46800" bIns="46800" anchor="t">
            <a:spAutoFit/>
          </a:bodyPr>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key things that CEOS absolutely must do well to achieve its goals?</a:t>
            </a:r>
            <a:endParaRPr b="0" lang="en-US" sz="2400" spc="-1" strike="noStrike">
              <a:solidFill>
                <a:srgbClr val="000000"/>
              </a:solidFill>
              <a:latin typeface="Arial"/>
            </a:endParaRPr>
          </a:p>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most valuable outcomes that CEOS provides/enables for its user communities?</a:t>
            </a:r>
            <a:endParaRPr b="0" lang="en-US" sz="2400" spc="-1" strike="noStrike">
              <a:solidFill>
                <a:srgbClr val="000000"/>
              </a:solidFill>
              <a:latin typeface="Arial"/>
            </a:endParaRPr>
          </a:p>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conditions would pose the greatest risk to CEOS achieving its objectives now, or in the future?</a:t>
            </a:r>
            <a:endParaRPr b="0" lang="en-US" sz="2400" spc="-1" strike="noStrike">
              <a:solidFill>
                <a:srgbClr val="000000"/>
              </a:solidFill>
              <a:latin typeface="Arial"/>
            </a:endParaRPr>
          </a:p>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sustainable are CEOS’s activities?</a:t>
            </a:r>
            <a:endParaRPr b="0" lang="en-US" sz="2400" spc="-1" strike="noStrike">
              <a:solidFill>
                <a:srgbClr val="000000"/>
              </a:solidFill>
              <a:latin typeface="Arial"/>
            </a:endParaRPr>
          </a:p>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big accomplishments does CEOS want to look back on, ten years into the future?</a:t>
            </a:r>
            <a:endParaRPr b="0" lang="en-US" sz="2400" spc="-1" strike="noStrike">
              <a:solidFill>
                <a:srgbClr val="000000"/>
              </a:solidFill>
              <a:latin typeface="Arial"/>
            </a:endParaRPr>
          </a:p>
          <a:p>
            <a:pPr>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6:08:52Z</dcterms:created>
  <dc:creator>ipetitev</dc:creator>
  <dc:description/>
  <dc:language>en-US</dc:language>
  <cp:lastModifiedBy>kekeith</cp:lastModifiedBy>
  <cp:lastPrinted>2011-09-14T01:34:17Z</cp:lastPrinted>
  <dcterms:modified xsi:type="dcterms:W3CDTF">2012-03-25T03:20:02Z</dcterms:modified>
  <cp:revision>55</cp:revision>
  <dc:subject/>
  <dc:title>SIT Workshop TEMPLATE</dc:title>
</cp:coreProperties>
</file>