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2B1-64D1-462E-BF78-2F1CD1CA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B95-EBDF-4461-87D0-A88F92C4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5CB-778F-4137-BA18-2576115C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CA8-7222-435C-8F03-22231505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C78E-B23E-4EB1-B005-6A11C40F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BFB0-81B7-4B5C-8FEE-762A2455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E61F-700A-4F5B-BC76-4278ADCE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9A11-FA83-45F9-A513-BD55BD3C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1B73-9CF9-4E33-AF4E-AEC24589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B9F0-584C-440A-AED0-B815DF96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B2B9-7639-4559-91FD-F4818D5A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03C-D987-444F-9FF2-7EF20F37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481C-7C1C-4097-AF88-6414C75E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4828-F568-4FA3-BFC7-43ED4CF4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D278-6207-497F-A8EE-75773D2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B369-C39F-4217-99F8-955D4C34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79C1-AA85-4143-817B-1EF948C3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F8A-BE8A-42F2-8AB2-D2FABA18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936-BA66-48EE-919C-0EAA6F9C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83B-B644-41EF-B89D-42E21AFE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453-1C71-4B78-8CBE-4EA40831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836-ECCD-405E-BEC6-8A8F0F94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FB9-4D8C-467F-9548-43850FD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D38-B5A1-4B1F-8094-E3A130A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F45B-0A80-43FA-B5E3-E9B556ADB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0" descr="CEOS_logo_reconstruction.png"/>
          <p:cNvPicPr/>
          <p:nvPr/>
        </p:nvPicPr>
        <p:blipFill>
          <a:blip r:embed="rId3"/>
          <a:stretch/>
        </p:blipFill>
        <p:spPr>
          <a:xfrm>
            <a:off x="169920" y="76320"/>
            <a:ext cx="2116080" cy="838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6629400" y="7632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ffff00"/>
                </a:solidFill>
                <a:latin typeface="Arial"/>
              </a:rPr>
              <a:t>SIT-27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ffff00"/>
                </a:solidFill>
                <a:latin typeface="Arial"/>
              </a:rPr>
              <a:t>La Jolla, CA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ffff00"/>
                </a:solidFill>
                <a:latin typeface="Arial"/>
              </a:rPr>
              <a:t>March 27-28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F4CD-DC3A-460C-898E-8A22DCF2E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1371600" y="21877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IO+20 INPUTS FROM C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19520" y="3962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60020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OS SIT-27 Meeting, La Jolla, March 2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04920" y="1841400"/>
            <a:ext cx="8534160" cy="44830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S Exhibit in GEO Exhibition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S Outreach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S Speaking Opportunities at four important events of Rio+20 as of 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razilian Government event with theme related to GE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EOSS side event sponsored by Japan Govern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uropean Commission event on GEOSS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OOSA event o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pace and sustainab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600200" y="115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CEOS @ Rio+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522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OS Outreach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304920" y="1701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OS EO Handbook print edition for Rio+20 – more details by 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380880" y="106668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 GEO has reserved 18 square meters (6m x 3m) of exhibit space for GEO and C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hibit will be open from Wednesday June 13 through Friday June 22 (the Rio+20 conference will be June 20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s of Contact for Exhibit:  Toshio Koike and Osamu Ochiai, Michael Williams, Brian Kill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600200" y="-112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CEOS Exhibit @ Rio+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図 1" descr=""/>
          <p:cNvPicPr/>
          <p:nvPr/>
        </p:nvPicPr>
        <p:blipFill>
          <a:blip r:embed="rId2"/>
          <a:srcRect l="16618" t="17343" r="14737" b="25809"/>
          <a:stretch/>
        </p:blipFill>
        <p:spPr>
          <a:xfrm>
            <a:off x="1676520" y="4076640"/>
            <a:ext cx="53719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1676520" y="-33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Outreach materi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@ Rio+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228600" y="160020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S EO Handbook print edition for Rio+20 - 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al for Related One-page CEOS Handout on CEOS Contributions to Sustainable Development - SEO, CEO/D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S Exhibit Visuals – S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S Newsletter  - JA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S Souvenirs - S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53125" t="17003" r="10001" b="6000"/>
          <a:stretch/>
        </p:blipFill>
        <p:spPr>
          <a:xfrm>
            <a:off x="6510240" y="3352680"/>
            <a:ext cx="2451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981080" y="-1116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liver Talk in Sid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@ Rio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52280" y="190512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70c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Brazilian Government-sponsored 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ported by INPE; INPE to provide CEOS coordin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ate: TB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me: 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 and Open Sharing of EO Data to Suppor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Sustainable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articipants:  Brazilian Government Offici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EOS Speaker: IN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EOS organizing POC: INPE (D’Alge/Ferreira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981080" y="-1116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liver Talk in Sid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@ Rio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152280" y="19051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(2)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Japanese Government-sponsored 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ported by Prof Koike and JAX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ate: June 19, 15:00-16:30 (tent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me: 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Unique Role of GEOSS in Green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articipants:  Ministers, DGs, GEO Secretariat Director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propo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EOS Speaker: To be identified (ISRO, INPE, JAXA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NASA, CEO are op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EOS organizing POC: JAXA (Ochiai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981080" y="-1116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liver Talk in Sid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@ Rio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152280" y="190512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3) European Commission 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ported by European Commiss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ate: June 18, exact time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me: 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BD technical GEOSS Focus, e.g., one of the S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Venue: EU Pavi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Participants:  TB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EOS Speaker: Stephen Briggs(?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EOS organizing POC: ESA (Cheli or Petiteville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981080" y="-1116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liver Talk in Sid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@ Rio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152280" y="1447920"/>
            <a:ext cx="87631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4) UN Office of Outer Space Affairs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ported by European Commiss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ate: June 19 proposed, exact date/time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me:  </a:t>
            </a: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2400" spc="-1" strike="noStrike">
                <a:solidFill>
                  <a:srgbClr val="ff0000"/>
                </a:solidFill>
                <a:latin typeface="Arial"/>
              </a:rPr>
              <a:t>Space-derived geospatial data, highlighting the </a:t>
            </a:r>
            <a:br>
              <a:rPr sz="2400"/>
            </a:br>
            <a:r>
              <a:rPr b="0" lang="en-IN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IN" sz="2400" spc="-1" strike="noStrike">
                <a:solidFill>
                  <a:srgbClr val="ff0000"/>
                </a:solidFill>
                <a:latin typeface="Arial"/>
              </a:rPr>
              <a:t>         data sharing principles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O/C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articipa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/CEOS,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WFP/FAO on food security, CONAE on </a:t>
            </a:r>
            <a:br>
              <a:rPr sz="2000"/>
            </a:b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health, Austria on cities/ energy, TBD on ocean and a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Charter representative on dis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COPUOS incoming chairman will chair the session and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   Ade Abiodun of Nigeria will moderate the pa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EOS Speaker: Need to identif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EOS organizing POC: Mazlan Othman, UNO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1752480" y="1922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Proposed A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228600" y="1523880"/>
            <a:ext cx="8534520" cy="52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T-2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lanned CEOS presence at Rio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back on exhibit and side even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 on GEO Exhibit Layout and Content and Develop CEOS Outreach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irm on-site CEOS staffing for entire exhibi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CEOS Agency representatives who will be in Rio and arrange CEOS speakers as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CEOS presentation materials with consistent theme in support of various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9:47:25Z</dcterms:created>
  <dc:creator>Rajeev</dc:creator>
  <dc:description/>
  <dc:language>en-US</dc:language>
  <cp:lastModifiedBy>Timothy Schilling Stryker</cp:lastModifiedBy>
  <dcterms:modified xsi:type="dcterms:W3CDTF">2012-03-24T15:02:08Z</dcterms:modified>
  <cp:revision>75</cp:revision>
  <dc:subject/>
  <dc:title>Slide 1</dc:title>
</cp:coreProperties>
</file>