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5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11FF6-5DFE-455C-BB62-9D3E4079D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tructure and governance of CEOS are the framework upon which its activities reside. A key recommendation of the 2011 CEOS Self-Study was to assess this framework and ensure that it remains well matched to CEOS goals and is able to sustain CEOS objectives as the organization grows. A resilient and adaptable framework will support and facilitate the work of the many individuals who contribute to CEOS’s essential activities.  The purpose of this session is to further the governance discussion that began at the 2011 Plenary, and to come to agreement on the lines of responsibility and web of participation for CEOS’s four top-level categories of activities.</a:t>
            </a:r>
            <a:r>
              <a:rPr b="0"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C005-DD1B-439F-AE79-C0949A23E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outcome of the CEOS Self-Study was the acknowledgment that CEOS’s structure has become more complex and confusing through time, and the corresponding key recommendation was to re-articulate the core functions needed to accomplish CEOS’s mission, and to consider modifying current structure to best suit the functions that are needed today. Increased complexity is an expected result of organizational growth and change, and periodic evaluations of structure and governance are important to an organization’s health. This is especially true of a nearly all-volunteer organization like CEO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 best-efforts organization, CEOS naturally tends to focus on who participates in each activity, without necessarily specifying who is responsible for carrying out the activity. Over the years, the question of responsibility has become more complex as the structure has become more intricate. The CEOS Chair and SIT Chair, CEOS Plenary, SIT, CEO/DCEO, and SEO all have roles, as do the Working Groups, Virtual Constellations, and SBA Teams and their leadership. As a result, lines of communication are complicated, the tracking of activities and measurement of progress has become (in many cases) cumbersome, and there is risk that the urgent will overwhelm the important. The CSS recommendation to ensure that the structure fits the goals is intended to help CEOS achieve a state in which organizational form follows fun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FE458-65F3-409E-9F1D-3564BD16B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2611-C310-4CC9-82F3-2CE6A28B6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5CDC-02AB-46AF-821C-3F9B3C3ED3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17508-36ED-4C77-BBF5-3225E6EDF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4765C-14ED-430C-A61A-3D34FE7464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5C28C-21A5-43B2-A4D9-02902C3CF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BF045-134B-4FB2-ADB9-7CDCFF9FD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D6493-54CD-4C7A-A918-CAE72A9EB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BAA9A-3574-4305-B919-A6C3678E9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93C0C-C995-4E2B-BD9F-FC998B128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0A8AD8-FC41-4015-9568-F806827C7F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2800DE-948A-4CD1-B76F-E242A41E94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0CFE4A-21C7-4CAE-A695-DB87955925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F333D9-D134-4596-B419-C1F37EF276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E8814C-F840-4BB5-B6D2-834C7D2A23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3E6513-0F99-46AD-812F-1B05D21339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6901ED-0247-4F69-A966-2083957744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2E60C6-5934-4A75-8BD5-5BCF2D1339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92B0F2-AA1B-4DFB-BD6F-5674F848C1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30DDED1-93AE-4830-8E68-E6F64F4BE28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15BEC-FCCD-4134-A961-52E6883C8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573223-FF07-43C3-AD8B-00A043FCF7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1D1D43-D41B-445D-A7FB-1387B172F9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4F6AC92-5789-4B80-94D7-68C40A244B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561730F-F8E9-44D8-B688-C6BCD64237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87B57EB-F307-4EF6-AE85-F48FD9CBB2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BEE34C-810C-434E-9410-A256BCF4B9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9A348B-C3B8-48B4-9633-7461F9D351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EC21F8-9E0D-4492-8728-CF49B07EC3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C128A6-72FA-4128-BFF2-EC5154419D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15A83A3-75EB-496D-9EE1-1492A21AFCD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06DE3-94D5-4378-975A-931D02C23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B2F8654-217F-4654-BCCB-FD8078A27CC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804650D-84BC-4528-B78E-3C59020EFAD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0430A9-51A9-4AA6-82C7-A8A02590A4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911CB4-796B-4A04-8FB7-F2C794B35B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7C4563-3E7D-499F-B5F3-59C548B7E5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9CC9A80-0E24-4C27-8596-2A915AC6B1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DB6D630-1AA2-4BD1-8E5A-8F9E8F332E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288806-AFDD-476F-B0AA-569F25720A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A202DA-792C-4244-A453-0B2AF58BC8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65567D-B382-4BA7-A762-172B026D9A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B2474F-DF21-4243-8ADE-9143274972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E13C6B-2028-40C1-B60C-4F8BB2E018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5DFEE5B-B5D9-45B7-99B3-B4A0167A8FD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ADD4429-89BF-4EAC-A078-4572D922989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6FE1026-CCAB-4CCD-84F3-AFE0577E013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9C6FCF-33CE-49DA-8646-A1D7B1402FF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366C6A3-9E08-4466-9051-3BED225D78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BB4083D-096E-4BF9-9B1D-15809A3A68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5AF339-D05F-4858-AB08-F9AF65D603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ED6C776-74B5-410F-BA04-0569769537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2B643C-E632-4B8B-9241-DAF3CB3FD9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D9814-EA20-4EEA-BEBB-F63B9C425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8AFC16-2BF8-4FA6-B151-7697B39FF3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97DC53-01D4-46D9-B150-8D322FF1D5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6A025C4-912F-4C0E-98F5-263B62A02ED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1F7B935-F695-4E9F-8C4D-CF95ED5B306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1CE9CA4-070B-4A1B-8CC4-2BAD38120FC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13943-DBB6-4C9A-8E40-D31DACD50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99A83-111F-4C22-A5B1-9BA2ADF83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19713-04FD-455A-AF2E-2F30A17E4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371B3-5EE7-48AD-A4B4-CFE81BD75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6B844-3294-49E9-8E44-0DC19C2E4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7AF85-C7AE-46C2-811F-4ADB90DD5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03757-9310-45A7-86BD-8B5641B7A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78DB6-26E6-48F4-A716-C095C4D04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25CAD-900F-43E9-B54F-2790FCD0E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AC108-D6AA-48FE-92E7-77B09FD8B2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4DBBB0-4FAD-424B-BDA2-1862857720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D09FCF-7837-4C69-A291-D696A184ED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19C14D-65CA-473A-A4FB-2AD40FA9EE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AA45E6-5554-45A6-B0B1-3AE0417410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DAFDA6-1148-4CC0-9B53-7E9C333859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AEBA16-7820-4A94-B5EB-1B84759D8E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546D4-C984-45DA-9DD3-F13998258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BA61B8-2786-45C5-974D-711C852BF9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E18B47-8674-4809-9EBA-74EB08F5CB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1E92DE-5CC5-4BBA-A9D8-4B82F98773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915064-DA23-450A-BAD9-2FF8D4A7EC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580F79-FDD1-4043-9D75-6F508AA9D3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AC7394-678B-4F01-9947-1206089698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FB2319-1724-4D9F-8EE3-91167920FF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15D7C3-C389-4110-B210-FEEA452B75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33B60B-C70D-40D2-9CCE-6487E17B31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5844ED-355D-4B1C-A8C8-0846465F8D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CB95E-2723-434A-940E-67F09E295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0518D0-9B48-477C-910B-7EEB50E422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664C00-DCE2-472C-BCF8-108649DC74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10EA7D-1A00-47DE-9C23-CF37EAEE9A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B61222-9C2B-4510-87C9-43A1A276EC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A86E12-2FAC-4D93-B577-C57E2B54B2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7D30BB-4D5C-4336-93EC-6561D42361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486A9F-5395-4329-B98F-75A3AFD734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35DD2B-B807-4F31-BB80-69C995B456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3164D0-0164-475A-B1B2-B752518212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86FDFD-9C64-4D50-965F-2A204F357A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E4BBD-AE0C-4909-BD3F-D8F2D2352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AD5F1A-8F86-436D-9F46-0D6A498A50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63D374-ABA3-4992-8657-EBC5403EAC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E99424-9A6E-4EB0-950F-08CF825235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D78D5E-9CFF-4F63-9933-7239B8C8BD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17450E-D652-4437-A75F-690B792D65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DC1798-FE00-4081-BD90-5089586639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2199D5-2DF2-4125-A3AF-76E3E16598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336420-E7D6-4C8C-B141-9A999F506E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D58823-765D-48A3-94FF-DDAFCFCED7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46C119-D14F-487D-9594-0A2E44DBE5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5FD9F-4D73-4D3F-ACF3-7BDCE8F8F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626A59-5218-4066-9483-3EC78D00F4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8C6AD7-D91C-477C-8388-4F2A292695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9F3324-F897-48DA-B81E-3458A44027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C4FDCB-3BB7-4A01-BC65-94F7F3F0EE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7D5BD2-70B0-4E23-9B08-847A21AFD2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142273-282A-417F-92BD-9F519DB826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4D9BD3-2213-4965-9C01-12CE3E25D6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BA69F1-89E2-4DD6-8195-E64C7AC592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06A767-F417-4992-9422-2C7FD77EAA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3F11AF-70D1-4ADB-B98D-ACE65E2D07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00303-E39D-4951-8950-45D6F6893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D16134-F5B2-4A46-83E1-EAC156F4CF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7054DE-0E2D-4270-A6C2-4AF25F878A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BF8B61-EB76-4881-98B6-759A5DBA2A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4498FA-5103-4B11-9230-CEBAE09484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6A13DC-C457-45BC-97F6-78ABB20EBA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FDFA6A-8533-4490-A2AC-C8800E16C5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984671-3D81-497F-92CB-6CEB4CEBDB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8E8385-35F9-471C-B469-8686FB5DB4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38C1A7-9228-4FF8-B413-A878162EEB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C6C8C7-BADF-4C10-A6F6-6A1FDCF7DD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F6D83-B28E-4975-9C3C-87B2C795A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A67348-BFE1-432A-81FE-5B77271596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D3F95B-3846-4952-A20E-79BC9B2D2E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A9A67D-8331-4F30-B940-AF5FBEB2E0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406001-B5C3-4D90-8B1D-13A2FEA3AA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5FA7BF-3D9F-4CF8-93E0-04A94F339D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7F3EE7-938B-431F-AB73-795EAB2959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2BCCDF-07A7-45A7-B67E-C91D6C1068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380B8F-FC30-4069-89CB-CCDA8677B1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AC477E-013D-43BB-902E-DCCDB15198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7F7653-C9C3-445C-8F0A-875F7845AF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2B458-F1EE-4199-ABE3-566F9ED04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2DCB80-67BF-4641-99CA-C2CEEE94E5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33CB06-64CA-4400-9F86-BABA8668DD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1E6627-6EE3-47CB-9483-4DE7864F01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694FB9-6FD9-4A41-A9E2-4096E7F8B0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ED9BA7-9FD3-4095-9EF1-E5C4741B06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015AEE-608A-4FE2-8D89-43CC6A3149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22FE62-1526-49EA-9527-96048E436C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65D87A-33B0-4302-86C1-4D9CA031C9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794650-DEB2-4D2E-9AF7-DE18CA037A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FC4DEC-563C-44B3-9C1C-BB12AE24201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AD69-4F10-4F9A-AF9C-48497D4E49D9}"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5" name="Rectangle 36"/>
          <p:cNvSpPr/>
          <p:nvPr/>
        </p:nvSpPr>
        <p:spPr>
          <a:xfrm>
            <a:off x="-111600" y="6588000"/>
            <a:ext cx="4295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Bodoni MT"/>
              </a:rPr>
              <a:t>CEOS SIT Technical Workshop | Washington DC | 13-14 September 2011</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3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9"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9BED0-C34F-499D-80F2-6756293BFDB5}"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F4D2-90DC-46F3-AB35-8EF1431EC843}"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1"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6932F-1EDC-4862-BEE6-0502AFE4D00B}"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35989-F212-47C9-A2B9-72942E1FC114}"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83" name="Picture 2" descr=""/>
          <p:cNvPicPr/>
          <p:nvPr/>
        </p:nvPicPr>
        <p:blipFill>
          <a:blip r:embed="rId2"/>
          <a:stretch/>
        </p:blipFill>
        <p:spPr>
          <a:xfrm>
            <a:off x="6853320" y="853920"/>
            <a:ext cx="396720" cy="425520"/>
          </a:xfrm>
          <a:prstGeom prst="rect">
            <a:avLst/>
          </a:prstGeom>
          <a:ln w="0">
            <a:noFill/>
          </a:ln>
        </p:spPr>
      </p:pic>
      <p:pic>
        <p:nvPicPr>
          <p:cNvPr id="84" name="Picture 3" descr=""/>
          <p:cNvPicPr/>
          <p:nvPr/>
        </p:nvPicPr>
        <p:blipFill>
          <a:blip r:embed="rId3"/>
          <a:stretch/>
        </p:blipFill>
        <p:spPr>
          <a:xfrm>
            <a:off x="7213680" y="847800"/>
            <a:ext cx="396720" cy="423720"/>
          </a:xfrm>
          <a:prstGeom prst="rect">
            <a:avLst/>
          </a:prstGeom>
          <a:ln w="0">
            <a:noFill/>
          </a:ln>
        </p:spPr>
      </p:pic>
      <p:pic>
        <p:nvPicPr>
          <p:cNvPr id="85" name="Picture 4" descr=""/>
          <p:cNvPicPr/>
          <p:nvPr/>
        </p:nvPicPr>
        <p:blipFill>
          <a:blip r:embed="rId4"/>
          <a:stretch/>
        </p:blipFill>
        <p:spPr>
          <a:xfrm>
            <a:off x="7554960" y="847800"/>
            <a:ext cx="414360" cy="423720"/>
          </a:xfrm>
          <a:prstGeom prst="rect">
            <a:avLst/>
          </a:prstGeom>
          <a:ln w="0">
            <a:noFill/>
          </a:ln>
        </p:spPr>
      </p:pic>
      <p:pic>
        <p:nvPicPr>
          <p:cNvPr id="86" name="Picture 5" descr=""/>
          <p:cNvPicPr/>
          <p:nvPr/>
        </p:nvPicPr>
        <p:blipFill>
          <a:blip r:embed="rId5"/>
          <a:stretch/>
        </p:blipFill>
        <p:spPr>
          <a:xfrm>
            <a:off x="7927920" y="847800"/>
            <a:ext cx="401760" cy="423720"/>
          </a:xfrm>
          <a:prstGeom prst="rect">
            <a:avLst/>
          </a:prstGeom>
          <a:ln w="0">
            <a:noFill/>
          </a:ln>
        </p:spPr>
      </p:pic>
      <p:pic>
        <p:nvPicPr>
          <p:cNvPr id="87" name="Picture 6" descr=""/>
          <p:cNvPicPr/>
          <p:nvPr/>
        </p:nvPicPr>
        <p:blipFill>
          <a:blip r:embed="rId6"/>
          <a:stretch/>
        </p:blipFill>
        <p:spPr>
          <a:xfrm>
            <a:off x="8288280" y="847800"/>
            <a:ext cx="401760" cy="423720"/>
          </a:xfrm>
          <a:prstGeom prst="rect">
            <a:avLst/>
          </a:prstGeom>
          <a:ln w="0">
            <a:noFill/>
          </a:ln>
        </p:spPr>
      </p:pic>
      <p:pic>
        <p:nvPicPr>
          <p:cNvPr id="88" name="Picture 7" descr=""/>
          <p:cNvPicPr/>
          <p:nvPr/>
        </p:nvPicPr>
        <p:blipFill>
          <a:blip r:embed="rId7"/>
          <a:stretch/>
        </p:blipFill>
        <p:spPr>
          <a:xfrm>
            <a:off x="8637480" y="847800"/>
            <a:ext cx="398520" cy="423720"/>
          </a:xfrm>
          <a:prstGeom prst="rect">
            <a:avLst/>
          </a:prstGeom>
          <a:ln w="0">
            <a:noFill/>
          </a:ln>
        </p:spPr>
      </p:pic>
      <p:pic>
        <p:nvPicPr>
          <p:cNvPr id="89" name="Picture 12" descr=""/>
          <p:cNvPicPr/>
          <p:nvPr/>
        </p:nvPicPr>
        <p:blipFill>
          <a:blip r:embed="rId8"/>
          <a:srcRect l="0" t="8198" r="0" b="9866"/>
          <a:stretch/>
        </p:blipFill>
        <p:spPr>
          <a:xfrm>
            <a:off x="7483320" y="44280"/>
            <a:ext cx="1552680" cy="7621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C38D7-9CF0-4513-BC71-AE57BFDED983}"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E6DB-B3BA-4B1D-9106-7A1928FFB3ED}"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6C0F2-8AC7-4853-9A24-246AADD3E1BB}"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D5AA5-5F43-47AA-8C69-2FFDF494A898}"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0A5D3-406F-4935-A78A-7FF1CDD1D785}"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FA214-F001-4F3A-B9E3-474C2F0D11DE}"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F32F-3C15-4762-B303-DE155666C054}"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533520" y="1371240"/>
            <a:ext cx="82296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EOS Top-Level Activities:</a:t>
            </a:r>
            <a:br>
              <a:rPr sz="4000"/>
            </a:br>
            <a:br>
              <a:rPr sz="4000"/>
            </a:br>
            <a:r>
              <a:rPr b="0" i="1" lang="en-US" sz="4000" spc="-1" strike="noStrike">
                <a:solidFill>
                  <a:srgbClr val="333399"/>
                </a:solidFill>
                <a:latin typeface="Arial"/>
              </a:rPr>
              <a:t>Who is Responsible?</a:t>
            </a:r>
            <a:br>
              <a:rPr sz="4000"/>
            </a:br>
            <a:br>
              <a:rPr sz="4000"/>
            </a:br>
            <a:r>
              <a:rPr b="0" i="1" lang="en-US" sz="4000" spc="-1" strike="noStrike">
                <a:solidFill>
                  <a:srgbClr val="333399"/>
                </a:solidFill>
                <a:latin typeface="Arial"/>
              </a:rPr>
              <a:t>Who Participates?</a:t>
            </a:r>
            <a:br>
              <a:rPr sz="4000"/>
            </a:br>
            <a:br>
              <a:rPr sz="4000"/>
            </a:br>
            <a:r>
              <a:rPr b="0" lang="en-US" sz="2900" spc="-1" strike="noStrike">
                <a:solidFill>
                  <a:srgbClr val="333399"/>
                </a:solidFill>
                <a:latin typeface="Arial"/>
              </a:rPr>
              <a:t>Pat Jacobberger-Jellison</a:t>
            </a:r>
            <a:endParaRPr b="0"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533520" y="151920"/>
            <a:ext cx="82296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Rationale:</a:t>
            </a:r>
            <a:br>
              <a:rPr sz="4000"/>
            </a:br>
            <a:endParaRPr b="0" lang="en-US" sz="4000" spc="-1" strike="noStrike">
              <a:solidFill>
                <a:srgbClr val="333399"/>
              </a:solidFill>
              <a:latin typeface="Arial"/>
            </a:endParaRPr>
          </a:p>
        </p:txBody>
      </p:sp>
      <p:sp>
        <p:nvSpPr>
          <p:cNvPr id="509" name=""/>
          <p:cNvSpPr txBox="1"/>
          <p:nvPr/>
        </p:nvSpPr>
        <p:spPr>
          <a:xfrm>
            <a:off x="468360" y="1447560"/>
            <a:ext cx="8229600" cy="4933800"/>
          </a:xfrm>
          <a:prstGeom prst="rect">
            <a:avLst/>
          </a:prstGeom>
          <a:noFill/>
          <a:ln w="0">
            <a:noFill/>
          </a:ln>
        </p:spPr>
        <p:txBody>
          <a:bodyPr anchor="t">
            <a:normAutofit fontScale="96000"/>
          </a:bodyPr>
          <a:p>
            <a:pPr marL="438840" indent="-438840">
              <a:spcBef>
                <a:spcPts val="601"/>
              </a:spcBef>
              <a:spcAft>
                <a:spcPts val="18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jor finding of the 2011 CEOS Self-Study was the acknowledgment that CEOS’s structure has become more complex and confusing through time. </a:t>
            </a:r>
            <a:endParaRPr b="0" lang="en-US" sz="2400" spc="-1" strike="noStrike">
              <a:solidFill>
                <a:srgbClr val="000000"/>
              </a:solidFill>
              <a:latin typeface="Arial"/>
            </a:endParaRPr>
          </a:p>
          <a:p>
            <a:pPr marL="438840" indent="-438840">
              <a:spcBef>
                <a:spcPts val="601"/>
              </a:spcBef>
              <a:spcAft>
                <a:spcPts val="18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rresponding key recommendation was to re-articulate the core functions needed to accomplish CEOS’s mission, and to consider modifying current structure to better suit the functions that are needed today.</a:t>
            </a:r>
            <a:endParaRPr b="0" lang="en-US" sz="2400" spc="-1" strike="noStrike">
              <a:solidFill>
                <a:srgbClr val="000000"/>
              </a:solidFill>
              <a:latin typeface="Arial"/>
            </a:endParaRPr>
          </a:p>
          <a:p>
            <a:pPr marL="438840" indent="-438840">
              <a:spcBef>
                <a:spcPts val="601"/>
              </a:spcBef>
              <a:spcAft>
                <a:spcPts val="18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what parts of the organization have responsibility (as opposed to participation) for core functions is a fundamental step toward a stronger structure.</a:t>
            </a:r>
            <a:endParaRPr b="0" lang="en-US" sz="2400" spc="-1" strike="noStrike">
              <a:solidFill>
                <a:srgbClr val="000000"/>
              </a:solidFill>
              <a:latin typeface="Arial"/>
            </a:endParaRPr>
          </a:p>
          <a:p>
            <a:pPr marL="438840" indent="-438840">
              <a:spcBef>
                <a:spcPts val="6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38840" indent="-438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38840" indent="-438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38840" indent="-438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80520" y="151920"/>
            <a:ext cx="853452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EOS’s Four Top-Level Activities:</a:t>
            </a:r>
            <a:br>
              <a:rPr sz="4000"/>
            </a:br>
            <a:endParaRPr b="0" lang="en-US" sz="4000" spc="-1" strike="noStrike">
              <a:solidFill>
                <a:srgbClr val="333399"/>
              </a:solidFill>
              <a:latin typeface="Arial"/>
            </a:endParaRPr>
          </a:p>
        </p:txBody>
      </p:sp>
      <p:sp>
        <p:nvSpPr>
          <p:cNvPr id="511" name=""/>
          <p:cNvSpPr txBox="1"/>
          <p:nvPr/>
        </p:nvSpPr>
        <p:spPr>
          <a:xfrm>
            <a:off x="468360" y="1196640"/>
            <a:ext cx="8229600" cy="4933800"/>
          </a:xfrm>
          <a:prstGeom prst="rect">
            <a:avLst/>
          </a:prstGeom>
          <a:noFill/>
          <a:ln w="0">
            <a:noFill/>
          </a:ln>
        </p:spPr>
        <p:txBody>
          <a:bodyPr anchor="t">
            <a:normAutofit fontScale="96000"/>
          </a:bodyPr>
          <a:p>
            <a:pPr marL="493560" indent="-493560">
              <a:spcBef>
                <a:spcPts val="700"/>
              </a:spcBef>
              <a:spcAft>
                <a:spcPts val="24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tive space-borne coordination, scientific, and user-focused activities </a:t>
            </a:r>
            <a:endParaRPr b="0" lang="en-US" sz="2800" spc="-1" strike="noStrike">
              <a:solidFill>
                <a:srgbClr val="000000"/>
              </a:solidFill>
              <a:latin typeface="Arial"/>
            </a:endParaRPr>
          </a:p>
          <a:p>
            <a:pPr marL="493560" indent="-493560">
              <a:spcBef>
                <a:spcPts val="700"/>
              </a:spcBef>
              <a:spcAft>
                <a:spcPts val="24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level strategy development and guidance</a:t>
            </a:r>
            <a:endParaRPr b="0" lang="en-US" sz="2800" spc="-1" strike="noStrike">
              <a:solidFill>
                <a:srgbClr val="000000"/>
              </a:solidFill>
              <a:latin typeface="Arial"/>
            </a:endParaRPr>
          </a:p>
          <a:p>
            <a:pPr marL="493560" indent="-493560">
              <a:spcBef>
                <a:spcPts val="700"/>
              </a:spcBef>
              <a:spcAft>
                <a:spcPts val="24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CEOS coordination (coordination among members/associates, and between CEOS management [Plenary, SIT, SEC, CEO/DCEO] and CEOS sub-organizations.)</a:t>
            </a:r>
            <a:endParaRPr b="0" lang="en-US" sz="2800" spc="-1" strike="noStrike">
              <a:solidFill>
                <a:srgbClr val="000000"/>
              </a:solidFill>
              <a:latin typeface="Arial"/>
            </a:endParaRPr>
          </a:p>
          <a:p>
            <a:pPr marL="493560" indent="-493560">
              <a:spcBef>
                <a:spcPts val="700"/>
              </a:spcBef>
              <a:spcAft>
                <a:spcPts val="24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CEOS coordination (coordination between CEOS and outside organizations) </a:t>
            </a:r>
            <a:endParaRPr b="0" lang="en-US" sz="2800" spc="-1" strike="noStrike">
              <a:solidFill>
                <a:srgbClr val="000000"/>
              </a:solidFill>
              <a:latin typeface="Arial"/>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3560" indent="-493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3560" indent="-493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3560" indent="-493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2" name="Rectangle 8"/>
          <p:cNvSpPr/>
          <p:nvPr/>
        </p:nvSpPr>
        <p:spPr>
          <a:xfrm>
            <a:off x="1905120" y="457200"/>
            <a:ext cx="5236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Reminder of the Goal:</a:t>
            </a:r>
            <a:endParaRPr b="0" lang="en-US" sz="3600" spc="-1" strike="noStrike">
              <a:solidFill>
                <a:srgbClr val="000000"/>
              </a:solidFill>
              <a:latin typeface="Arial"/>
            </a:endParaRPr>
          </a:p>
        </p:txBody>
      </p:sp>
      <p:sp>
        <p:nvSpPr>
          <p:cNvPr id="513" name="TextBox 6"/>
          <p:cNvSpPr/>
          <p:nvPr/>
        </p:nvSpPr>
        <p:spPr>
          <a:xfrm>
            <a:off x="304920" y="1295280"/>
            <a:ext cx="86104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27: The goal for SIT-27 is to come to agreement on who participates in, and who is responsible for, CEOS top-level core func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vernance discussion thus begun will continue over the summer and into sessions at CEOS 2012 fall and winter meeting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o that CEOS can fully incorporate governance and structure into the guiding documents that the CEOS membership will develop over the next year and a half.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Rectangle 8"/>
          <p:cNvSpPr/>
          <p:nvPr/>
        </p:nvSpPr>
        <p:spPr>
          <a:xfrm>
            <a:off x="861840" y="333360"/>
            <a:ext cx="7239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What do we mean by “WHO”?:</a:t>
            </a:r>
            <a:endParaRPr b="0" lang="en-US" sz="3600" spc="-1" strike="noStrike">
              <a:solidFill>
                <a:srgbClr val="000000"/>
              </a:solidFill>
              <a:latin typeface="Arial"/>
            </a:endParaRPr>
          </a:p>
        </p:txBody>
      </p:sp>
      <p:sp>
        <p:nvSpPr>
          <p:cNvPr id="515" name="TextBox 6"/>
          <p:cNvSpPr/>
          <p:nvPr/>
        </p:nvSpPr>
        <p:spPr>
          <a:xfrm>
            <a:off x="1116000" y="1295280"/>
            <a:ext cx="8610480" cy="478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EOS Chai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T Chai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C</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EO/DCEO</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C or WG Chai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C</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G</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len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80520" y="533520"/>
            <a:ext cx="853452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Substantive space-borne coordination, scientific, and user-focused activities:</a:t>
            </a:r>
            <a:br>
              <a:rPr sz="3200"/>
            </a:br>
            <a:endParaRPr b="0" lang="en-US" sz="3200" spc="-1" strike="noStrike">
              <a:solidFill>
                <a:srgbClr val="333399"/>
              </a:solidFill>
              <a:latin typeface="Arial"/>
            </a:endParaRPr>
          </a:p>
        </p:txBody>
      </p:sp>
      <p:sp>
        <p:nvSpPr>
          <p:cNvPr id="517" name=""/>
          <p:cNvSpPr txBox="1"/>
          <p:nvPr/>
        </p:nvSpPr>
        <p:spPr>
          <a:xfrm>
            <a:off x="533160" y="1447560"/>
            <a:ext cx="8164440" cy="4933800"/>
          </a:xfrm>
          <a:prstGeom prst="rect">
            <a:avLst/>
          </a:prstGeom>
          <a:noFill/>
          <a:ln w="0">
            <a:noFill/>
          </a:ln>
        </p:spPr>
        <p:txBody>
          <a:bodyPr anchor="t">
            <a:normAutofit/>
          </a:bodyPr>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 is </a:t>
            </a:r>
            <a:r>
              <a:rPr b="0" i="1" lang="en-US" sz="2600" spc="-1" strike="noStrike">
                <a:solidFill>
                  <a:srgbClr val="000000"/>
                </a:solidFill>
                <a:latin typeface="Arial"/>
              </a:rPr>
              <a:t>responsibl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 </a:t>
            </a:r>
            <a:r>
              <a:rPr b="0" i="1" lang="en-US" sz="2600" spc="-1" strike="noStrike">
                <a:solidFill>
                  <a:srgbClr val="000000"/>
                </a:solidFill>
                <a:latin typeface="Arial"/>
              </a:rPr>
              <a:t>participate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380520" y="533520"/>
            <a:ext cx="853452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Top-Level Strategy Development and Guidance:</a:t>
            </a:r>
            <a:br>
              <a:rPr sz="3200"/>
            </a:br>
            <a:endParaRPr b="0" lang="en-US" sz="3200" spc="-1" strike="noStrike">
              <a:solidFill>
                <a:srgbClr val="333399"/>
              </a:solidFill>
              <a:latin typeface="Arial"/>
            </a:endParaRPr>
          </a:p>
        </p:txBody>
      </p:sp>
      <p:sp>
        <p:nvSpPr>
          <p:cNvPr id="519" name=""/>
          <p:cNvSpPr txBox="1"/>
          <p:nvPr/>
        </p:nvSpPr>
        <p:spPr>
          <a:xfrm>
            <a:off x="533160" y="1447560"/>
            <a:ext cx="8164440" cy="4933800"/>
          </a:xfrm>
          <a:prstGeom prst="rect">
            <a:avLst/>
          </a:prstGeom>
          <a:noFill/>
          <a:ln w="0">
            <a:noFill/>
          </a:ln>
        </p:spPr>
        <p:txBody>
          <a:bodyPr anchor="t">
            <a:normAutofit/>
          </a:bodyPr>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 is </a:t>
            </a:r>
            <a:r>
              <a:rPr b="0" i="1" lang="en-US" sz="2600" spc="-1" strike="noStrike">
                <a:solidFill>
                  <a:srgbClr val="000000"/>
                </a:solidFill>
                <a:latin typeface="Arial"/>
              </a:rPr>
              <a:t>responsibl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 </a:t>
            </a:r>
            <a:r>
              <a:rPr b="0" i="1" lang="en-US" sz="2600" spc="-1" strike="noStrike">
                <a:solidFill>
                  <a:srgbClr val="000000"/>
                </a:solidFill>
                <a:latin typeface="Arial"/>
              </a:rPr>
              <a:t>participate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0" y="53352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Internal CEOS Coordination</a:t>
            </a:r>
            <a:br>
              <a:rPr sz="3200"/>
            </a:br>
            <a:r>
              <a:rPr b="1" lang="en-US" sz="3200" spc="-1" strike="noStrike">
                <a:solidFill>
                  <a:srgbClr val="333399"/>
                </a:solidFill>
                <a:latin typeface="Arial"/>
              </a:rPr>
              <a:t>(coordination among members / associates, and between management and sub-organizations):</a:t>
            </a:r>
            <a:br>
              <a:rPr sz="3200"/>
            </a:br>
            <a:endParaRPr b="0" lang="en-US" sz="3200" spc="-1" strike="noStrike">
              <a:solidFill>
                <a:srgbClr val="333399"/>
              </a:solidFill>
              <a:latin typeface="Arial"/>
            </a:endParaRPr>
          </a:p>
        </p:txBody>
      </p:sp>
      <p:sp>
        <p:nvSpPr>
          <p:cNvPr id="521" name=""/>
          <p:cNvSpPr txBox="1"/>
          <p:nvPr/>
        </p:nvSpPr>
        <p:spPr>
          <a:xfrm>
            <a:off x="533160" y="1447560"/>
            <a:ext cx="8164440" cy="4933800"/>
          </a:xfrm>
          <a:prstGeom prst="rect">
            <a:avLst/>
          </a:prstGeom>
          <a:noFill/>
          <a:ln w="0">
            <a:noFill/>
          </a:ln>
        </p:spPr>
        <p:txBody>
          <a:bodyPr anchor="t">
            <a:normAutofit/>
          </a:bodyPr>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 is </a:t>
            </a:r>
            <a:r>
              <a:rPr b="0" i="1" lang="en-US" sz="2600" spc="-1" strike="noStrike">
                <a:solidFill>
                  <a:srgbClr val="000000"/>
                </a:solidFill>
                <a:latin typeface="Arial"/>
              </a:rPr>
              <a:t>responsibl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 </a:t>
            </a:r>
            <a:r>
              <a:rPr b="0" i="1" lang="en-US" sz="2600" spc="-1" strike="noStrike">
                <a:solidFill>
                  <a:srgbClr val="000000"/>
                </a:solidFill>
                <a:latin typeface="Arial"/>
              </a:rPr>
              <a:t>participate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0" y="53352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4. External CEOS Coordination</a:t>
            </a:r>
            <a:br>
              <a:rPr sz="3200"/>
            </a:br>
            <a:r>
              <a:rPr b="1" lang="en-US" sz="3200" spc="-1" strike="noStrike">
                <a:solidFill>
                  <a:srgbClr val="333399"/>
                </a:solidFill>
                <a:latin typeface="Arial"/>
              </a:rPr>
              <a:t>(coordination between CEOS and outside organizations):</a:t>
            </a:r>
            <a:br>
              <a:rPr sz="3200"/>
            </a:br>
            <a:endParaRPr b="0" lang="en-US" sz="3200" spc="-1" strike="noStrike">
              <a:solidFill>
                <a:srgbClr val="333399"/>
              </a:solidFill>
              <a:latin typeface="Arial"/>
            </a:endParaRPr>
          </a:p>
        </p:txBody>
      </p:sp>
      <p:sp>
        <p:nvSpPr>
          <p:cNvPr id="523" name=""/>
          <p:cNvSpPr txBox="1"/>
          <p:nvPr/>
        </p:nvSpPr>
        <p:spPr>
          <a:xfrm>
            <a:off x="533160" y="1447560"/>
            <a:ext cx="8164440" cy="4933800"/>
          </a:xfrm>
          <a:prstGeom prst="rect">
            <a:avLst/>
          </a:prstGeom>
          <a:noFill/>
          <a:ln w="0">
            <a:noFill/>
          </a:ln>
        </p:spPr>
        <p:txBody>
          <a:bodyPr anchor="t">
            <a:normAutofit/>
          </a:bodyPr>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 is </a:t>
            </a:r>
            <a:r>
              <a:rPr b="0" i="1" lang="en-US" sz="2600" spc="-1" strike="noStrike">
                <a:solidFill>
                  <a:srgbClr val="000000"/>
                </a:solidFill>
                <a:latin typeface="Arial"/>
              </a:rPr>
              <a:t>responsibl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 </a:t>
            </a:r>
            <a:r>
              <a:rPr b="0" i="1" lang="en-US" sz="2600" spc="-1" strike="noStrike">
                <a:solidFill>
                  <a:srgbClr val="000000"/>
                </a:solidFill>
                <a:latin typeface="Arial"/>
              </a:rPr>
              <a:t>participate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2T13:58:40Z</dcterms:created>
  <dc:creator>ipetitev</dc:creator>
  <dc:description/>
  <dc:language>en-US</dc:language>
  <cp:lastModifiedBy>kekeith</cp:lastModifiedBy>
  <cp:lastPrinted>2011-09-14T01:34:17Z</cp:lastPrinted>
  <dcterms:modified xsi:type="dcterms:W3CDTF">2012-03-28T15:43:37Z</dcterms:modified>
  <cp:revision>61</cp:revision>
  <dc:subject/>
  <dc:title>SIT Workshop TEMPLATE</dc:title>
</cp:coreProperties>
</file>