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630-7C14-414C-8C72-D35E886F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1C7-DD95-4778-A3D1-F654148A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102-3DF3-460A-B463-B90CE5DF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1D7-E42A-4F1D-98BD-B5FFB4C4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88E7-F97B-427C-9794-1D188D6D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670E-CC46-4BEC-9429-D0288DF0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F458-5BE8-4D83-B08C-0D914C43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5149-C8C4-4B8A-ABA7-B6E926DF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844E-D1E7-42E0-8CD2-687D12B7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1D59-5B56-4463-870C-467B6388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FD0D-3DAA-4A20-A954-16B26F32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916-2621-4804-8EA7-60D36CC4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573D-A70C-4CD7-868A-420A5DDB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E6BC-0721-491A-A79D-574E23CC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B22F-D98D-497D-8F4F-AB1BFD21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9E68-D4BE-48CF-8DE1-F0398493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AC50-9145-462B-9E0B-2687FD25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A8C-F657-4016-A5DF-6E5FCB47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F73-D925-4E9E-B169-90827E9D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CF9-DCB8-4788-A0C7-D551EFCA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EA5-497D-461B-9381-E2E67BD6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158-2FBE-4B5F-A40E-DFE10EFE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FDB-7EE5-4FB6-987F-0767F676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2E7-33F2-4B44-8725-11306B73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3294-496A-4B7A-87BE-FBEC017BE5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magem 10" descr="CEOS_logo_reconstruction.png"/>
          <p:cNvPicPr/>
          <p:nvPr/>
        </p:nvPicPr>
        <p:blipFill>
          <a:blip r:embed="rId3"/>
          <a:stretch/>
        </p:blipFill>
        <p:spPr>
          <a:xfrm>
            <a:off x="169920" y="76320"/>
            <a:ext cx="2116080" cy="838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6629400" y="7632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T-27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La Jolla, CA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arch 27-28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9902-EF4C-4A98-939C-25E2B9AEDED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1371600" y="21877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RIO+20 INPUTS FROM C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819520" y="3962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600200" y="6172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OS SIT-27 Meeting, La Jolla, March 2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76320" y="1752480"/>
            <a:ext cx="9067680" cy="41457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Exhibit in GEO Exhibition B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Outreac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Speaking Opportunities as important events of        Rio+20, as of 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8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GEOSS side event sponsored by Japan Govern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8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European Commission event on GEOSS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8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UNOOSA event on space and sustainabl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600200" y="115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CEOS @ Rio+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52280" y="457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OS Outreach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304920" y="1701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OS EO Handbook print edition for Rio+20 – more details by 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-228600" y="955800"/>
            <a:ext cx="9753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apan GEO has reserved 18 square meters (6m x 3m) of exhibit space for GEO and CE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xhibit will be open from Wednesday June 13 through Friday June 22 (the Rio+20 conference will be June 20-2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ints of Contact for Exhibit:  Toshio Koike and Osamu Ochiai, Michael Williams, Brian Killoug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600200" y="-112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CEOS Exhibit @ Rio+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図 1" descr=""/>
          <p:cNvPicPr/>
          <p:nvPr/>
        </p:nvPicPr>
        <p:blipFill>
          <a:blip r:embed="rId2"/>
          <a:srcRect l="16618" t="17343" r="14737" b="25809"/>
          <a:stretch/>
        </p:blipFill>
        <p:spPr>
          <a:xfrm>
            <a:off x="4145040" y="4191120"/>
            <a:ext cx="5151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1676520" y="-334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Outreach materi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@ Rio+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228600" y="1600200"/>
            <a:ext cx="853452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EO Handbook print edition for Rio+20 - 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al for Related One-page CEOS Handout on CEOS Contributions to Sustainable Development - SEO, CEO/DC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Exhibit Visuals – S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Newsletter  - JA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Souvenirs - SE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53125" t="17003" r="10001" b="6000"/>
          <a:stretch/>
        </p:blipFill>
        <p:spPr>
          <a:xfrm>
            <a:off x="5943600" y="3200400"/>
            <a:ext cx="2743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981080" y="-1116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liver Talk in Side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@ Rio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152280" y="1905120"/>
            <a:ext cx="85345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(1)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Japanese Government-sponsored 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ported by Prof Koike and JAX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ate: June 19, 15:00-16:30 (tent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me: 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Unique Role of GEOSS in Green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articipants:  Ministers, DGs, GEO Secretariat Director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propo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EOS Speaker: To be identified (ISRO, INPE, JAXA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NASA, CEO are op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CEOS organizing POC: JAXA (Ochiai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981080" y="-1116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liver Talk in Side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@ Rio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152280" y="1905120"/>
            <a:ext cx="876312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2) European Commission 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ported by European Commiss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ate: June 18, exact time 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me: 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BD technical GEOSS Focus, e.g., one of the S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Venue: EU Pavi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Participants:  TB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EOS Speaker: Stephen Briggs(?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CEOS organizing POC: ESA (Cheli or Petiteville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1981080" y="-1116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liver Talk in Side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@ Rio+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152280" y="1447920"/>
            <a:ext cx="8763120" cy="56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3) UN Office of Outer Space Affairs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ported by European Commiss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ate: June 19 proposed, exact date/time 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me: 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ace-derived geospatial data, highlighting th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data sharing principles by GEO/C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articipa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/CEOS, WFP/FAO on food security, CONAE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health, Austria on cities/ energy, TBD on ocean and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harter representative on dis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UOS incoming chairman will chair the session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Ade Abiodun of Nigeria will moderate the pa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EOS Speaker: Need to identif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CEOS organizing POC: Mazlan Othman, UNO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1752480" y="1922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Proposed A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152280" y="1295280"/>
            <a:ext cx="8991720" cy="55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alibri"/>
                <a:ea typeface="Arial"/>
              </a:rPr>
              <a:t>SIT-2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pproval of the planned CEOS presence at Rio+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eedback on exhibit and side event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alibri"/>
                <a:ea typeface="Arial"/>
              </a:rPr>
              <a:t>CE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ment on GEO Exhibit Layout and Content and Develop CEOS Outreach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firm on-site CEOS staffing for entire exhibi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dentify CEOS Agency representatives who will be in Rio and arrange CEOS speakers as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velop CEOS presentation materials with consistent theme in support of various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800000"/>
                </a:solidFill>
                <a:latin typeface="Calibri"/>
                <a:ea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9:47:25Z</dcterms:created>
  <dc:creator>Rajeev</dc:creator>
  <dc:description/>
  <dc:language>en-US</dc:language>
  <cp:lastModifiedBy>Diwakar P G</cp:lastModifiedBy>
  <dcterms:modified xsi:type="dcterms:W3CDTF">2012-03-27T04:56:07Z</dcterms:modified>
  <cp:revision>82</cp:revision>
  <dc:subject/>
  <dc:title>Slide 1</dc:title>
</cp:coreProperties>
</file>