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012D-0FC2-4E01-92BB-0126B142B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20CD-87EE-4BD0-AD63-9CBFD2CC2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DC4D-F487-42B8-A136-16A567A52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220D-186E-4E3B-A66A-49BDAC381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4F22-28EF-44DD-BF43-6163A3EDE9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12E4-7E80-48AF-9B57-2965C9E74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5AA3-5776-4BA6-9FDE-1D2A847D20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2965-63AE-4B09-8890-8A7E27A028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96B6-36E0-465B-B081-B69F25E47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9BE4-7F7F-488A-8BB1-0C66F1E950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C61F-4C2E-4171-847D-53DC5090C6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4A8C-D09C-4184-A779-9DD511859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B904-6C2B-4204-B580-CCD99FAD13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F594-0118-4B90-9AC1-6B1B09C2F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ECF4-EF31-4749-9C36-031FEA3E95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2686-E456-46A9-8A07-AD9AB6DECA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D628-BE99-424E-BF2E-A84D0F7D0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D552-25F9-4A82-AD4F-D0AF224CC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8AEB-1AE0-4A42-9BE0-6E73E2F53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3923-6746-4381-90C4-FD652CBAF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E3D0-2F65-4437-9C2D-ED0B73867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262E-8373-4F3F-AD71-7FD3BC7FB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A9D1-0C21-4850-A2D8-5F6DF82CF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EC99-E406-475B-9888-2A4430CC3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CC4EC-23C7-4E6B-8729-B2F1CA0CE73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F21AF-F952-4D92-8ADF-6F8A07BFD4F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81200" y="1587600"/>
            <a:ext cx="713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Discussions last year with UNFCCC (Rocio Lichte) on CEOS status at COPs – not conclusiv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SIT Technical meeting &amp; Plenary Agreed CEOS representations at COP every two year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2012 (COP-18) requires significant CEOS representation: CEOS response GCOS IP, Strategy document on Climate Monitoring Architecture, EOHB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781200" y="4332240"/>
            <a:ext cx="713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Proposal/Options: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EOS members solicit their UNFCCC Parties to make statemen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k Dowell will investigate side session in EC Pavilion on Systematic Observation for Climate with CEOS (and others) – he  does plan on attend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Additional CEOS attendanc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WGClimate will draft a statement for SEC to review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946160" y="152280"/>
            <a:ext cx="51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Representation &amp; Repor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SBSTA-37/COP-1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1:10:37Z</dcterms:created>
  <dc:creator>Brian Killough</dc:creator>
  <dc:description/>
  <dc:language>en-US</dc:language>
  <cp:lastModifiedBy>Mark DOWELL</cp:lastModifiedBy>
  <dcterms:modified xsi:type="dcterms:W3CDTF">2012-03-26T22:24:38Z</dcterms:modified>
  <cp:revision>64</cp:revision>
  <dc:subject/>
  <dc:title>Title</dc:title>
</cp:coreProperties>
</file>