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92F3B-1041-4E1C-9152-E5B379ABF7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5DDDD-3F98-49DC-BF97-8E4A458C3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E8820-C8E0-479B-AD02-8149FDF26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AF910-0DDD-41CF-8EF6-738E9B5DF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1579B-63F4-40E0-BC88-9C21F6885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C2912-00C2-45A4-9564-DB4250360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28144-F78D-4FE2-9174-D3B364991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BF5B4-8E2F-4713-993E-049D05C53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AA402-863D-43F1-8B22-A1703AFD2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70C4-2B7A-4B23-886E-8E2646377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BAFB-70BF-491F-B6E1-DDD443322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9662-2BC8-4FAE-9B53-EAB33BF87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FE4A-DF98-467A-8D02-0AEBD6C64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E9688-A3E2-4EC9-AD55-C5D7A4F331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D31B-7792-4A7F-BA52-D564E754C1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9047A-DE34-4203-A558-4FAADA8C01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ADAD6-5C33-4695-B7AC-EC586A2357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1F317-0CAA-4DED-A779-5BE8F85F50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84AFD-A7F6-46E3-AE21-C0D069438A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11023-8C75-4C68-B84A-F86B333961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90BD-B1ED-4C6F-A887-2E88E6476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0AC9B-AFD1-4117-93B9-89E6A8DC69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22E7A-5DFA-4709-8139-A612D4476C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63726-66AE-42E8-9F83-1ABE00067E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41A70-E715-45A7-B7AA-9010185D35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91BC8-5E4B-4115-919F-89A26EDCD8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8336-E3FA-468F-ACBE-370E448F5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B9D1-4D7E-42B8-A3DA-1A7C9A754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5A7F-C7B7-4954-BE33-1601E18C3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0AC1-CB7C-4BDB-BCEA-6D40867D5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D49A-712F-4A65-B453-866FD8C81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A265-3667-43D5-9D98-ED1DBA8EE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BB2D-EC7C-4634-B061-EECBC994D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9720" y="528480"/>
            <a:ext cx="1172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IT-27 Meeting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La Jolla, CA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March 26-28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89710-B029-4B8E-B772-66BB2D376294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720" y="528480"/>
            <a:ext cx="1172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IT-27 Meeting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La Jolla, CA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March 26-28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4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EE67E-EF56-4930-BD0E-76B628AEA3C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037EA-7B75-4410-B35A-2126F7A4EAB9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  <a:ea typeface="Tahoma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00160" y="3078000"/>
            <a:ext cx="87357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EOS Priorities for 2012</a:t>
            </a:r>
            <a:endParaRPr b="0" lang="en-US" sz="4000" spc="-1" strike="noStrike">
              <a:solidFill>
                <a:srgbClr val="002569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othy Stryke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OS Executive Office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1E827-EFB2-442A-B24D-ECDE34990EE1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EOS Objectiv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72960" y="1866960"/>
            <a:ext cx="8562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Arial"/>
              </a:rPr>
              <a:t>To optimize benefits of space-borne Earth observations through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operation of its Members in mission planning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evelopment of compatible data products, formats, services, applications, and policie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Arial"/>
              </a:rPr>
              <a:t>To serve as a focal point for international coordination of space-related Earth observation activitie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Arial"/>
              </a:rPr>
              <a:t>To exchange policy and technical information to encourage complementarity and compatibility of observation and data exchange systems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F7485-1766-47E4-9078-681CB1C7490C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xpected CEOS 2012 Outcom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72960" y="1406520"/>
            <a:ext cx="85629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Improved Coordination of Space Agency Activities Related to Climate  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EOS Response to 2010 GCOS IP and improvement in coordinated outputs for monitoring of ECV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EOS Input to Systematic Observation Requirements for GCOS Satellite Supplemen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Development of FCDRs and related data sets (WG Climate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ooperation with GEO, WMO, and CGMS on space-based  system to support climate information and adaptation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Further alignment of VCs to contribute to GCOS IP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39CC8-2F20-46AC-9A6A-618E7F102F80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xpected CEOS 2012 Outcomes  (cont’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60360" y="1854360"/>
            <a:ext cx="84153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Progress Towards Established CEOS-GEO Prioriti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EOS leadership within and support to the GEO Global Forest Observation Task (including GFOI IP and SDCG) 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ontinued development of the CEOS Strategy for Carbon Observations from Spac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Advancement of CEOS Data Democracy activities within the reorganized WGCBDD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Further alignment of the CEOS VC objectives/activities to GEO 2012-2015 Work Plan Task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3C31C-178C-4291-9FDF-25FEB180836F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xpected CEOS 2012 Outcomes  (cont’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72960" y="1406520"/>
            <a:ext cx="85629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Progress Towards Established CEOS-GEO Priorities (cont’d)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ontinued support to development and operationalization of the GEOSS Common Infrastructure (GCI) and its element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development of a more integrated approach in the areas of disaster mitigation and disaster managemen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ontinued support to the Joint Experiments on Crop Assessment and Monitoring (JECAM) initiativ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ontinued CEOS leadership of/support to the QA4EO initiativ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554E7-AA68-4F8C-BA4A-A07DD5538763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xpected CEOS 2012 Outcomes  (cont’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72960" y="1841400"/>
            <a:ext cx="85629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Considering CEOS Support to Further Key GEO Priority Initiativ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Exploratory dialogue on data requirements and CEOS Agency capacities to support the G20/GEO Global Agricultural Monitoring (GEOGLAM) initiativ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ontinued dialogue on potential CEOS contributions to integrated water cycle products and service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ontinued dialogue on potential CEOS contributions to the GEO Biodiversity Observation Network (GEO BON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A0664-53EC-43A6-87FF-1A06BECC6E64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xpected CEOS 2012 Outcomes  (cont’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223920" y="1700280"/>
            <a:ext cx="871200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Continued and Enhanced CEOS Outreach to Key Stakeholders: GEO, COP, UNFCCC, SBSTA, G8/G20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Maintenance to CEOS online services such as the CEOS website and Missions, Instruments and Measurements (MIM) databas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Publication of the CEOS Newslette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EOS inputs for Rio+20 Summit, including a print update of the CEOS Earth Observation Handbook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Further review/adoption of CSS recommendation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(see SIT-27 agenda…..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kekeith</cp:lastModifiedBy>
  <dcterms:modified xsi:type="dcterms:W3CDTF">2012-03-20T20:48:10Z</dcterms:modified>
  <cp:revision>6</cp:revision>
  <dc:subject/>
  <dc:title>Title</dc:title>
</cp:coreProperties>
</file>