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9E5E0-CA32-4999-A593-CF00F6D650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166A5-6B18-478C-8F66-7CFD6411C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69CCD-C5ED-4654-854B-AAB7AA66D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E4E33-FF49-4D57-9AF3-31C8D06F0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044BD-AAA7-4EF4-970A-1E6CA40F4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58BC0-BF74-45D5-BF06-65C45C4FB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67579-6724-42F3-9C97-CDD9B683D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69647-68C4-476B-A4F1-B4E93F9D2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CB358-7C25-4286-8EF5-A7FDAC581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8D141-3D55-470B-BC61-6B1AD8F67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C5B3-D6B2-4966-94DD-2EFAE6E69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D06E-03E6-40D8-9055-A5BD7D95D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B0C3-179B-4309-94D4-0CD14484B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EB45-E846-4366-B05B-046FA7CCF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FA61-E07E-496A-95F1-5415115318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C240-5FF1-4261-A176-2D85111E97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D8E1-3DC5-4A6F-BE30-65ABEABCFA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53A7-4D1B-4B0E-9A2E-8A60060FB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997B-E6E7-432B-9FD7-0BCBA2CED3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A861-4655-4683-B035-A54D46BE12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B05E-0B48-4C5D-BD71-4C2FBD77B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3A9D-2046-4928-A958-76280CF96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D251-5CDD-4D23-A936-96DAB18EC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15B7-E714-4C4F-8528-412B291D36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ACDB-E972-44D4-86E0-DD8BF4FA84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1699-A11A-4930-AB65-4331339F7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5AD3-CAAF-44A9-AF4A-D515556FF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E66D-F336-4D61-AC32-BA3D00C7C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A8BE-C1CC-4ED2-9211-822C6AD2F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265D-4413-433B-B282-DE322E4FC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0475-F8EF-4EED-9FC3-E464D5E0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723B-38CF-4C7D-B32B-32DB0AD6B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1FD2-31BE-44C3-82C7-A46B73BEA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7ABF-2664-4C91-9C04-D6857CF9E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8EC14-92A2-4642-A359-50D94FA8DB9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7D82A-DDFA-432E-BB67-2297A6ACC62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00160" y="2468520"/>
            <a:ext cx="8735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eport on the  </a:t>
            </a:r>
            <a:endParaRPr b="0" lang="en-US" sz="4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EO Post-2015 Working Group</a:t>
            </a:r>
            <a:endParaRPr b="0" lang="en-US" sz="4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othy  Stryker, CEO and Brent Smith, NOA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OS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 Jolla, Californ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ch 27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EO Post-2015 WG Background 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72960" y="1498680"/>
            <a:ext cx="832032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WG Established by GEO-VIII Plenary, Istanbul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r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“…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ssess options and scenarios for the next phase of GEOSS implementation, including the scope of activities, institutional arrangements, internal governance, and resourcing of GEO.”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en to all GEO Members and Participating Organization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im reporting to GEO ExCom and 2012 GEO-IX Plenary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 Report to 2013 GEO-X Plenary/Ministerial Summit with detailed recommendations for the post-2015 future of GEO and GEOSS (“GEOSS 2.0”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im Reporting to GEO ExCom and Plenary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952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ramework for Post-2015 Discussion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72960" y="1496880"/>
            <a:ext cx="85629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2569"/>
                </a:solidFill>
                <a:latin typeface="Arial"/>
              </a:rPr>
              <a:t>Starting Material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Vision” papers provided by GEO Member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razil, Canada, Germany, Japa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ustaining GEOSS Beyond 2015: A GEO ExCom Discussion Paper on the Future of GEOSS and GEO”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ssues and options for GEOSS (scope, updating the framework and guiding documents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ssues and options for GEO (institutional, governance, resourcing, new priorities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ur Possible Post-2015 Scenarios Outlined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tional and evolv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ange from “Business as Usual Plus” to Radical Chang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952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Participants in Post-2015 WG 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00160" y="1560600"/>
            <a:ext cx="87357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Involved in WG as a Participating Organiz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interest in GEO as an organizing framework for space-based and in-situ EO to meet societal need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sire for strong and effective GEO leadership and Secretariat as partners to CEO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-wide Representation in W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rent Smith, NOAA, and Tim Stryker, CEO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Agency Representation in National/Other PO Deleg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Luc Brûlé (Canada), Stefano Bruzzi (Italy), Gilberto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âmara </a:t>
            </a: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Brazil), Per-Erik Skrøvseth (Norway), Laura Frulla (Argentina), Robert Husband (EUMETSAT), Barbara Ryan (WMO), Helmut Staudenrausch (Germany), Wenjian Zhang (WMO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952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opics Addressed in First Meeting 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1200240"/>
            <a:ext cx="856296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dministrativ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-Chairs P. Collohan, USA; M. Muofhe, S. Africa; and G. Ollier, EC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view/Approve modified Terms of Reference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ening Statement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uture of GEOS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uture operational GEOS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trengthening observing networks; space and </a:t>
            </a:r>
            <a:r>
              <a:rPr b="0" i="1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 situ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rchitecture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 sharing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ation products and key initiative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view Discussion Paper scenario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uture of GEO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sourcing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stitutional issues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overnance within GEO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ole of PO’s and private sector</a:t>
            </a:r>
            <a:endParaRPr b="0" lang="en-US" sz="13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enary, ExCom, Boards, Work Plan, Working Groups, what needs improvement</a:t>
            </a:r>
            <a:endParaRPr b="0" lang="en-US" sz="13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uture actions and schedul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velop new improved scenarios to examine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ay 25 telecon; provide report to July 12-13 ExCom; post-ExCom telcon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2</a:t>
            </a:r>
            <a:r>
              <a:rPr b="0" lang="en-US" sz="1400" spc="-1" strike="noStrike" baseline="30000">
                <a:solidFill>
                  <a:srgbClr val="002569"/>
                </a:solidFill>
                <a:latin typeface="Arial"/>
                <a:ea typeface="ＭＳ Ｐゴシック"/>
              </a:rPr>
              <a:t>nd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WG meeting likely in September 2012 to finalize report to GEO Plenary-IX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nitial Observations on Potentially Emerging Viewpoints within WG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314280" y="1430280"/>
            <a:ext cx="82296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should not claim to be operational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should not claim to organize everything else, but rather work productively/proactively with existing mechanisms to fill gaps in observations and provision of needed information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t will be important to determine to what degree GEO should be responsible for (a) observations (definitely), (b) information provision (possibly), and (c) service provision (very unlikely)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ould GEO be “deeper”  or “wider”?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ore rapid progress on a smaller number of end-to-end initiatives, or a broader enabling environment for many projects, often with a slower rate of progress?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here have been some notable successes in data sharing and this activity should remain a high priority of GEO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plaints about GEO Work Plan and Management Structure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iscontinuity between the old and new GEO Work Plan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ork Plan is no more than a “Wish List” in many areas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mplementation Board structure seems cumbersome and opaque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nitial Observations on Potentially Emerging Viewpoints within W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314280" y="1430280"/>
            <a:ext cx="82296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iffering opinions on the initial success of GEO; most participants cautiously optimistic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pace community (CEOS and individual agencies) well-organized and well-funded as significant contributor to the GEOSS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nrealized goals with the </a:t>
            </a:r>
            <a:r>
              <a:rPr b="0" i="1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-situ</a:t>
            </a: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mmunity figured prominently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   Further development and maintenance of, and coordination with, the </a:t>
            </a:r>
            <a:r>
              <a:rPr b="0" i="1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-situ</a:t>
            </a: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mmunity is needed 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no </a:t>
            </a:r>
            <a:r>
              <a:rPr b="0" i="1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-situ</a:t>
            </a: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presentatives were present for first meeting)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as an “incubator” for large-scale initiatives that may become (proto-) operational and separate from GEO with their own dedicated organization and fundin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Question of whether “visibility” translates into utility and success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nitial Observations on Potentially Emerging Viewpoints within WG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314280" y="1022400"/>
            <a:ext cx="822960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 major programmatic/organizational changes envisioned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unding vision and scope were not seriously contested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uch discussion on whether GEO is living up to its claims and “holding its own” </a:t>
            </a:r>
            <a:r>
              <a:rPr b="0" i="1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vis-a-vis</a:t>
            </a: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UN organizations or programs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likely to remain within WMO administrative structure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Voluntary nature of GEO is strongly supported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Secretariat needs to be stabilized and strengthened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mount in Trust Fund is insufficient for resources that are needed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y emerging idea (broached in side discussions, not at large) is the need for all members to be vested in GEO, and pay some level of dues on a sliding scale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0256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est in the possibility of endowments from external donors</a:t>
            </a:r>
            <a:endParaRPr b="0" lang="en-US" sz="19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eed to augment role of private sector in GEOSS implementation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812520" y="403056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--  Floor Open for CEOS Discussion  --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279880" y="206280"/>
            <a:ext cx="68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ther CEOS Input to Working Group?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647640" y="187632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569"/>
                </a:solidFill>
                <a:latin typeface="Arial"/>
              </a:rPr>
              <a:t>Do you have any CEOS-specific comments relating to the issues discussed at last week’s first meeting of GEO Post-2015 WG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Timothy Schilling Stryker</cp:lastModifiedBy>
  <dcterms:modified xsi:type="dcterms:W3CDTF">2012-03-24T13:54:45Z</dcterms:modified>
  <cp:revision>52</cp:revision>
  <dc:subject/>
  <dc:title>Title</dc:title>
</cp:coreProperties>
</file>