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A0A1D-2611-40DE-BCA1-178B502E44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3D903-2D8E-4B5F-BF0E-B550C8ABD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F27DE-1377-411E-8CA0-A63AB1B2F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CC74B-155B-4CB6-AB36-F76BB23A1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6D839-F51E-492D-A15C-81737DE84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65E54-A9A6-498A-859D-ECDBEC648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3ADBC-59DE-44EA-A621-5A4FDD7E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D9838-9B36-4548-8017-B27F8F5CE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2405-A2EA-4525-AC50-3CFBF98AD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5641-7687-4DFB-B52E-FE549826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3EE6-2A2A-4CF9-9EB8-6374CC839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3F2E-69E2-409E-96D6-C69A68C26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ACF4-D544-4336-A2C3-EC9733581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E9BA-8F34-4B0C-BFCE-797547375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71F5-32D1-457F-A6E0-4A79C1908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3AD2-7937-4E1A-996C-F3B368913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16EE-111F-4B5C-B484-F42972C7F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51D8-E5C0-41B3-8247-D548794F5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9D50-5FDD-4C35-8E04-94070BC3D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A783-A0B8-4BDF-B7DA-1E8B6C3AA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8692-95C8-49A4-A248-46C717B50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8D9F-D5F3-4FDC-A520-EA6BEFA00C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CCB1-2A43-47E6-8036-AD147094D1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CE62-DD0D-458C-9AC1-18DD75555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6A0E-16D5-4C05-B36B-02DEC23BC1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9F0B-E7AC-4B0F-B286-F7E2378A8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C00D-0B8D-47A1-8310-475925674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5CC0-38F3-4234-ADA4-EE1C8B58C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974C-366A-49EC-8C85-E7451DF05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F4C9-3182-4BA2-BD4E-971FB7C5A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D3E9-15FA-4B9D-B3A1-D4AE28C02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E002-D661-4D29-971B-B4BD35CBF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19FB-E7C1-4E5A-B38F-6CCCC12CE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E2E65-3A02-4732-A3AD-A20985AC1C1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187ED-DF14-45F1-828B-7AD4C72A5B0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2609A-69B2-4C68-8E25-AB5E8DAF9A4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00160" y="3078000"/>
            <a:ext cx="8735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EOS Priorities for 2012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othy Stryk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OS Executive Offic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FE261-EFE8-4E6C-88F1-AD0EBDEF10A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Objec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72960" y="1866960"/>
            <a:ext cx="856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optimize benefits of space-borne Earth observations through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operation of its Members in mission planning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velopment of compatible data products, formats, services, applications, and polic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serve as a focal point for international coordination of space-related Earth observation activit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o exchange policy and technical information to encourage complementarity and compatibility of observation and data exchange system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6005F-3765-46D4-AFDC-A5A0F55E144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72960" y="1406520"/>
            <a:ext cx="856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Improved Coordination of Space Agency Activities Related to Climate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Response to 2010 GCOS IP and its satellite supplement, and improvement in coordinated outputs for monitoring of ECV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velopment of FCDRs and related data sets (WG Climat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operation with GEO, WMO, and CGMS on space-based  system to support climate information and adapt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urther alignment of VCs to contribute to GCOS I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368BF-848F-4F45-876F-55CB1D6BC73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0360" y="1854360"/>
            <a:ext cx="8415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Progress Towards Established CEOS-GEO Priorit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leadership within and support to the GEO Global Forest Observation Task (including GFOI IP and SDCG)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evelopment of the CEOS Strategy for Carbon Observations from Spa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dvancement of CEOS Data Democracy activities within the reorganized WGCBDD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urther alignment of the CEOS VC objectives/activities to GEO 2012-2015 Work Plan Task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76D80-3975-4A60-BA2B-15A1F1DD2E4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72960" y="1406520"/>
            <a:ext cx="85629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Progress Towards Established CEOS-GEO Priorities (cont’d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support to development and operationalization of the GEOSS Common Infrastructure (GCI) and its elemen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development of a more integrated approach in the areas of disaster mitigation and disaster manage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support to the Joint Experiments on Crop Assessment and Monitoring (JECAM)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CEOS leadership of/support to the QA4EO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9C72F-8710-4A95-ADCD-F7753002C13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72960" y="1841400"/>
            <a:ext cx="8562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sidering CEOS Support to Further Key GEO Priority Initiativ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xploratory dialogue on data requirements and CEOS Agency capacities to support the G20/GEO Global Agricultural Monitoring (GEOGLAM) initia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ialogue on potential CEOS contributions to integrated water cycle products and servic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ntinued dialogue on potential CEOS contributions to the GEO Biodiversity Observation Network (GEO BON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080B3-53D2-4A05-8403-7718B4BBDBF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pected CEOS 2012 Outcomes  (cont’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3920" y="1700280"/>
            <a:ext cx="87120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Continued and Enhanced CEOS Outreach to Key Stakeholders: GEO, COP, UNFCCC, SBSTA, G8/G20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Maintenance to CEOS online services such as the CEOS website and Missions, Instruments and Measurements (MIM) databas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Publication of the CEOS Newslette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inputs for Rio+20 Summit, including a print update of the CEOS Earth Observation Handbook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Further review/adoption of CSS recommendati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(see SIT-27 agenda…..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Timothy Schilling Stryker</cp:lastModifiedBy>
  <dcterms:modified xsi:type="dcterms:W3CDTF">2012-03-27T15:17:54Z</dcterms:modified>
  <cp:revision>8</cp:revision>
  <dc:subject/>
  <dc:title>Title</dc:title>
</cp:coreProperties>
</file>