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F402-D4BE-43B2-9C88-539311C23D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8715-B2E8-49A3-BD66-7B3C5B4C2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other end of the spectrum, examination of the patterns of membership activity showed that seven or eight currently-inactive CEOS members joined CEOS to participate in a very specific activity – IGOS – and when that activity drew to a close, so did their participation in CEOS. Those members are now active in GEO, but they did not remain active in CEOS (this is especially pertinent for UN organizations).  Of this latter group, there is a sense through casual conversation that they remain supportive of CEOS even though they no longer participate direct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CEOS takes on new activities, it may be expected that similar patterns could recur, and any such “loss” of active members should not necessarily be viewed as a negative; in contrast, it can be construed as beneficial if CEOS is viewed as a group where other organizations can gather at will to accomplish specific goals that are relevant to them. No value judgment is made here as to which is the correct course. However, if CEOS should decide that it is important to re-activate members who participated for a particular goal, purpose, or activity, CEOS will need to be able to articulate and demonstrate to those organizations the value proposition of CEOS, i.e. not just the benefit to CEOS of having these members engage, but the benefit that accrues to a member agency or organization through its participation in current CEOS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better understand this aspect of membership and participation, it is essential that the M&amp;P Study not only reach out to inactive members, but also to include conversations with members who have remained active, especially among smaller agencies and organizations, to understand the value that they place upon CEOS membership. This is the activity alluded to in Step 8 of the “Approach” section above.</a:t>
            </a: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D06E-FF87-436B-BC88-BF75F0765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k of resources to come to meetings and participate in activities is a known challenge for some members and associates. Travel funds are chronically limited, and smaller organizations also have limited human resources to devote to the business of an organization like CEOS. In the current world budget climate, it is likely that resource constraints will remain a considerable challenge for many if not all CEOS members, as they do for other consultative and professional organizations as we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OS already conducts monthly Secretariat meetings via telecon, and CEOS leverages its in-person major meetings through the inclusion of VC, Working Group and other side meetings. In the short term, CEOS may also wish to develop new ideas and to look at ways to increase the use of other successful mechanisms, including greater use of telecommunications technology, and/or holding side meetings at appropriate international conferences. </a:t>
            </a: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EE1D-8257-4612-AEE9-10D824633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necdotal evidence that some members / associates are active in working groups and possibly other working-level interactions and activities, but not at the Plenary level, and there is strong anecdotal evidence that such participation tends to be overlooked when CEOS talks about membership and participation. A better assessment on the extent of such participation will be forthcoming when the review of past meeting notes, minutes, and attendance lists is complete (although as a caveat, the existence of those materials is itself incomplete, so a perfectly clean dataset is not possible at this t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y case, it is crucial that CEOS recognize and value the contributions of members who participate in only those parts of the organization that are of relevance to them. An immediate step that CEOS could take to ensure that there is no “activity with invisibility” would be to institute a policy going forward of recording who participates in any and all CEOS meetings, including Plenary, SIT, Working Groups, Virtual Constellations, SBAs, and any associated groups, and establishing a central repository for meeting notes and attendance lists so that the information is accessible to CEOS leadership. It would also be valuable to CEOS if members were to take an action to ensure that existing past lists currently held in disparate locations be gathered and placed in that repository. A complete list of annual participation would also help to support the ongoing efforts of the CEO/DCEO/SEO to maintain up to date contact information. </a:t>
            </a: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08BE-1277-4627-9DCA-D068EB71D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C4E9-15B1-4EB6-9C4C-41B19BE24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DD02-57A8-4842-8046-8489C3F13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02BB-8CFF-4DA6-892B-8758DF1C4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act relevant findings from the 2011 CEOS Self-Study Report (including Study Team Reports) (comple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tain and synthesize input based on collective CEOS experience of M&amp;P Team Member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rdinate M&amp;P Study with CEO/DCEO/SEO efforts to update the CEOS contact database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CEOS membership list to understand distribution of active and inactive members (including associates), and prioritize for subsequent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past CEOS meetings minutes, attendance lists, and notes as an independent measure of broad member participation (ongo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questions and background material for conducting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establish contact with inactive members and conduct interviews (make new contacts where necessary)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view a selection of active members to better understand their reasons for being active in CEOS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ynthesize results and develop recommendations for consideration by CEOS leadership, including follow-up by CEOS leadership, and invitation to next Plenary (preliminary report here; final report to come).</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9E49-D58C-4692-9848-495A8DE76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act relevant findings from the 2011 CEOS Self-Study Report (including Study Team Reports) (comple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tain and synthesize input based on collective CEOS experience of M&amp;P Team Member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rdinate M&amp;P Study with CEO/DCEO/SEO efforts to update the CEOS contact database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CEOS membership list to understand distribution of active and inactive members (including associates), and prioritize for subsequent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past CEOS meetings minutes, attendance lists, and notes as an independent measure of broad member participation (ongo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questions and background material for conducting interviews (comple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establish contact with inactive members and conduct interviews (make new contacts where necessary)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view a selection of active members to better understand their reasons for being active in CEOS (ong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ynthesize results and develop recommendations for consideration by CEOS leadership, including follow-up by CEOS leadership, and invitation to next Plenary (preliminary report here; final report to come).</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3FE1-39E4-4E8A-865D-3E6E4F098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al was to have preliminary results ready for distribution prior to SIT-27.  This initial report contains the approach, statement of progress and outcomes of study team deliberations and information-gathering efforts. An important component of the M&amp;P study is the collection of direct information from inactive members through a sequence of interviews, which is a process that takes time. In order to balance SIT-27 schedule constraints against the time required to develop thoughtful questions and conduct interviews with inactive members and other sources of input, the work of the M&amp;P Team will continue after SIT-27, and this initial report will be followed by a final report at the conclusion of the interview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43FF-0DDB-452A-B423-10DB627BE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6CA2-01F6-46FC-A21E-20D7D6CD7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liminary analysis of the CEOS membership list, supported by M&amp;P members’ insights and recollections, reveal a wide range of reasons why members become inactive. These reasons can be divided into four very broad catego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manag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ignment of CEOS with particular members’ agency or organizational go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tutional barriers and impedi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ctivity with invisib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496E-3E17-4EC1-A1CA-078CCE07B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one end of the spectrum, individuals retire and/or move into different agencies or roles, and the connectivity to CEOS is lost when they do so unless there is a known secondary point of contact and/or institutionalization of the membership, including a shared sense of the benefit of CEOS membership within the agency in ques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e dynamic nature of membership and participation, especially in a completely voluntary/participatory organization like CEOS, routine contact management will always be a challenge. In the very short term, this challenge can be ameliorated through establishment of both primary- and secondary points of contact wherever possible. In the longer term, CEOS may wish to look at ways to ensure that member organizations will realize benefit from active participation in CEOS, so that CEOS is valued at an institutional level in member organiz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AAC6-AEE4-42E5-800E-0303E38B8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4D51D-DBB0-405D-A056-D51362CF8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F57FE-5745-4C25-8A42-6C6E25CBE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6D279B-8B9E-4B89-AC6E-32E7F3DA39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D94BA3-05A8-41E7-90FB-AE62295A6F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02D2A5-204B-404C-AE63-D23C1F8E86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05371-D475-4298-BD39-81ABCA1388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6C9B7E-ED94-41E8-A9B5-FF4DC20864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E65152-40B6-4D79-B1B5-3E4898DE6E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10CFC7-19F2-47DA-9B94-F81F256F0C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93DA22-C761-48B7-A28A-219CA621BE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86EAC7-8268-4370-A747-8389326FA5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84E995-4230-43EC-8AC1-45896C01E1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B0653-1BA1-4125-B7DE-D30317C95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A49E77-A1C4-4DD8-869D-385AAD477C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F2B6FC-231A-4D73-A4D4-9C63897102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95E5C7-8CFB-4DEE-ABA7-BA42141595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C5B38D-92BD-47F2-878C-60C748F66C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D34AA6-6260-40C4-812D-EEE0136F6B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2FF0DF-4039-4204-A1A3-CD729D8F34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FF5862-F5CB-4CEA-981F-17BA4303E9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6DAD81-66FF-4A52-A7C1-52632A2563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A7A672-A33A-4C70-9DBB-CF263036B7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7A726E-33EC-48EC-AC79-2B93604DE6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F21F1-AEDA-4D30-A0BE-C5E989630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A424B7-9275-47C5-BD8F-4F0122D860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A1E7CB-FC9F-4B00-8A31-D2844C87F0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07F5C5-83DB-4181-A886-EF6132F3B2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E2D192-7915-4E0C-AAD7-879AD5957C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A4304E-A2E9-4FB0-9D3C-DBB45EA441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9250AF-9BFE-4E05-8199-E510849F76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16C3C2-CE33-4CE3-93AE-2BE87B9E14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D289F1-C4ED-4DBF-BEA2-8F90C117AA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A5B504-995F-4D9A-A939-3EB797CD7B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513436-671F-47B5-8523-E408394CC9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D30B5-00BC-4297-A07C-AD1358840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E3DD7A-74DE-4ECD-84DC-928E1E30C4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C3EA9F-D572-48F7-9ADB-07DFC7DBB2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B39DDF-7B41-49D5-8E0E-6F12B1BF7B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665105-75CC-4DEF-A23A-6272CDCB32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E3B3E7-03B1-4E76-A965-58F507C603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FF3574-6A42-4E25-A46B-BBE69744B0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3652F3-7DDA-47E6-A11A-8E51F8FB31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449C8D-80E9-450B-A54A-3309BADCE0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027C38-BBDE-41ED-8A64-47F73563B3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08DEA4-7015-408B-AD72-140340882E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64000-1435-44F8-8085-BA1C7781A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711CBE-E39F-42E9-9700-5FAC782101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5FCFB6-56AF-433B-8464-E3A15BD6C7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8814C3-7047-4844-A8AA-88232B9F8F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24CBDB-B8AE-42BF-8783-E0700DC5C9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A254BB-E06F-470C-853B-A60D0706FB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A99E5-91B2-4AA9-B1B1-04F69B4B4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CB662-C086-4019-A45F-60EB13BA8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2E723-762F-4AEF-B662-8829C5397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11FDC-CC64-4084-B895-D7CCE4160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8C382-1D4B-4EC4-AB87-58E20142F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9C3D6-E9D5-4DD0-AF3F-A91597B61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568A9-91FF-4E15-A22A-F7E106A31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6D5C8-6808-48AB-B521-EB6CA8CB4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D30FF-BF8F-43E0-8C93-FBDBF2417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20BD2-6595-4E2B-8DFF-D728A38F0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F0761-FA7B-4A32-A377-D394681DF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F7B9CC-653C-454E-857A-38EC257532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56C767-1F56-49C0-851D-8054945C04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B410B-42FC-49FA-8920-F395A77A7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D2541-E80B-495D-80A8-ED6BC2E9A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BECC5-14A9-4CF6-B5F7-FBC5AF09D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ED13E-EF76-4192-B432-E10A0F04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5FB72-F101-4887-AED6-B35B5ADF77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2658E-864F-4EEB-8C6A-F22800837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84C5A-54E0-49A1-B3DE-ADB10F108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9065A-969D-4F4F-8C1E-42032C956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4AEBAF-96CE-4E44-BFD0-D660962F46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72D1D8-0C3D-4ACC-9381-69A98785A2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FCDE41-54FF-4494-B264-7CE7BB937B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7E8A32-5440-48CD-95C9-386122A67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B4C4F8-431F-4F6B-BEFE-261999B47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898D5-615F-4695-95D0-5A5FEC464C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48A66-48C4-42D1-9447-EC8B54821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820A5-840E-4E81-A079-82554529F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B7CE2-F6D2-44BD-A6E8-111D402DD8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F1EA62-A244-4501-A9D0-B420F7E92E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0CE2F-41C4-4B1C-A2F0-75780DA99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71DD4-C103-41B2-A835-2BA0C2B40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5350A-8C92-4878-BBAF-5F792864F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4F0A1-FA3C-4B40-9282-1ED22E0A03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F621E4-4BBD-4431-A2C8-E319AAE061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E3C11B-3D82-4032-984C-7CF9D3CE72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1DDD40-C8DD-49BF-801A-6F138EE436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2DC5B-6883-490A-B2B7-C67E2CF59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2B6FBC-1747-4978-90CD-CB5B9BFBBE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23D4DD-9F85-44FA-9949-313F454A8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6E3F7-D0F2-4159-B91B-CAD528BEB0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1CAEB-025B-44B4-9D06-2802346C6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AB200E-CC55-45DC-9CB9-0183A459EE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F95A3-D678-4E68-9009-1681473BC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CB677-C7EB-43E4-BC46-15A9862C0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3B562-F5B3-4244-B6A9-3813303BCF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AC4267-78B2-4BD5-BBEC-01C4B4AE2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5DF8C5-3D5A-4585-8C71-BCA9B6583E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5DF63-4E56-4E06-9736-559E1E24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4DAE86-A94F-44B0-AB69-6C924933E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7B6896-8001-4DA5-809F-7E78963CAE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8B3EA6-ED65-4F91-9651-40FA55A9A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6460A9-6BC3-4EEB-BF1A-9B04363B0D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2F25D8-EFEF-4768-A506-8B0A9C1ED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F1161-BAB7-4FA5-BD68-5C617E705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F02C8A-26B3-4870-8A6E-700A4AE210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86E13-C6AC-4FB7-82BD-07A2B84F2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A9063F-2C57-4EA5-A650-1ED9DDFEA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04982-AB1B-45F8-AE02-3570218CD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6605-19D9-494C-B443-CFDB42C9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69A2F0-F5D3-4A58-975E-AD5E95C6FA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3E0CB5-FFBF-4639-AD70-98717D49E1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9CF36C-17DD-4E09-9917-718262EAB0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A3D7AD-B9B0-4DA6-A6F8-3B2ADC05FB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FB9093-4C19-4FCE-82CC-CA20F94D7D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4978C5-4627-4625-8AE4-2AEF743178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6EC5E-75D4-420E-89E7-FA2C0F603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5B571-97EC-4AD4-AEE3-24C7C08FD3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487FB-1651-4044-9E01-A7759D9905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D0F6A-6847-4CDE-8C85-117925F15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0EDA-B0DB-4879-83D2-70876AF03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71602-10B6-47B1-84EF-35CB232DB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B8EFE-0B47-487B-B25F-9919E69E7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74E9F2-A7C9-4DEA-9448-337D01D64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C92ED4-FA4D-4594-B510-43926F79E0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8C648C-1457-4F90-8249-1D223F675C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A041CD-DE7D-496D-B096-207EAE4A18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02BCE3-F401-4FDC-BA9A-44A3122F55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A1F37-4554-4B79-B370-5CDB78F0B6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5AF99F-A6CA-4AF5-993D-C2EEF06EEF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1510F4-2EA3-4677-AF91-37261D74B5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45631-D272-4A3E-BACE-667D6CF3D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D9FB0E-5835-4877-936F-8138F0FA3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BAAFF6-9D33-49A8-9C6B-1D8C6B618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21922-ACC5-4BA7-AEAA-30C255DBDF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49205-F3DA-46C8-9697-4CD8093F34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033EB5-28CF-40F4-979A-D2D6A10175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C60C44-41C0-4A44-8016-516DB2017A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7034A9-F962-4E8C-A2AE-534D68D03F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ECD510-2957-47B8-8854-7E48BC66F6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1C04DF-79ED-4AA9-8F78-D0E08B7356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1C8161-E0CF-4B5E-9CBC-71629A6DD1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D933-537F-442C-9866-08D9CD7D5F60}"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5" name="Rectangle 36"/>
          <p:cNvSpPr/>
          <p:nvPr/>
        </p:nvSpPr>
        <p:spPr>
          <a:xfrm>
            <a:off x="-111600" y="6588000"/>
            <a:ext cx="429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Bodoni MT"/>
              </a:rPr>
              <a:t>CEOS SIT Technical Workshop | Washington DC | 13-14 Septem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C700-3BC3-43E3-A2F0-04DBC7FF2B1E}"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561E-BDA1-46DA-9A08-2085BB3B1AE5}"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0996-340C-43BA-8374-2ADB5A55F69D}"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AC5F-FC76-44C4-94DA-7AC501F6AA06}"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83" name="Picture 2" descr=""/>
          <p:cNvPicPr/>
          <p:nvPr/>
        </p:nvPicPr>
        <p:blipFill>
          <a:blip r:embed="rId2"/>
          <a:stretch/>
        </p:blipFill>
        <p:spPr>
          <a:xfrm>
            <a:off x="6853320" y="853920"/>
            <a:ext cx="396720" cy="425520"/>
          </a:xfrm>
          <a:prstGeom prst="rect">
            <a:avLst/>
          </a:prstGeom>
          <a:ln w="0">
            <a:noFill/>
          </a:ln>
        </p:spPr>
      </p:pic>
      <p:pic>
        <p:nvPicPr>
          <p:cNvPr id="84" name="Picture 3" descr=""/>
          <p:cNvPicPr/>
          <p:nvPr/>
        </p:nvPicPr>
        <p:blipFill>
          <a:blip r:embed="rId3"/>
          <a:stretch/>
        </p:blipFill>
        <p:spPr>
          <a:xfrm>
            <a:off x="7213680" y="847800"/>
            <a:ext cx="396720" cy="423720"/>
          </a:xfrm>
          <a:prstGeom prst="rect">
            <a:avLst/>
          </a:prstGeom>
          <a:ln w="0">
            <a:noFill/>
          </a:ln>
        </p:spPr>
      </p:pic>
      <p:pic>
        <p:nvPicPr>
          <p:cNvPr id="85" name="Picture 4" descr=""/>
          <p:cNvPicPr/>
          <p:nvPr/>
        </p:nvPicPr>
        <p:blipFill>
          <a:blip r:embed="rId4"/>
          <a:stretch/>
        </p:blipFill>
        <p:spPr>
          <a:xfrm>
            <a:off x="7554960" y="847800"/>
            <a:ext cx="414360" cy="423720"/>
          </a:xfrm>
          <a:prstGeom prst="rect">
            <a:avLst/>
          </a:prstGeom>
          <a:ln w="0">
            <a:noFill/>
          </a:ln>
        </p:spPr>
      </p:pic>
      <p:pic>
        <p:nvPicPr>
          <p:cNvPr id="86" name="Picture 5" descr=""/>
          <p:cNvPicPr/>
          <p:nvPr/>
        </p:nvPicPr>
        <p:blipFill>
          <a:blip r:embed="rId5"/>
          <a:stretch/>
        </p:blipFill>
        <p:spPr>
          <a:xfrm>
            <a:off x="7927920" y="847800"/>
            <a:ext cx="401760" cy="423720"/>
          </a:xfrm>
          <a:prstGeom prst="rect">
            <a:avLst/>
          </a:prstGeom>
          <a:ln w="0">
            <a:noFill/>
          </a:ln>
        </p:spPr>
      </p:pic>
      <p:pic>
        <p:nvPicPr>
          <p:cNvPr id="87" name="Picture 6" descr=""/>
          <p:cNvPicPr/>
          <p:nvPr/>
        </p:nvPicPr>
        <p:blipFill>
          <a:blip r:embed="rId6"/>
          <a:stretch/>
        </p:blipFill>
        <p:spPr>
          <a:xfrm>
            <a:off x="8288280" y="847800"/>
            <a:ext cx="401760" cy="423720"/>
          </a:xfrm>
          <a:prstGeom prst="rect">
            <a:avLst/>
          </a:prstGeom>
          <a:ln w="0">
            <a:noFill/>
          </a:ln>
        </p:spPr>
      </p:pic>
      <p:pic>
        <p:nvPicPr>
          <p:cNvPr id="88" name="Picture 7" descr=""/>
          <p:cNvPicPr/>
          <p:nvPr/>
        </p:nvPicPr>
        <p:blipFill>
          <a:blip r:embed="rId7"/>
          <a:stretch/>
        </p:blipFill>
        <p:spPr>
          <a:xfrm>
            <a:off x="8637480" y="847800"/>
            <a:ext cx="398520" cy="423720"/>
          </a:xfrm>
          <a:prstGeom prst="rect">
            <a:avLst/>
          </a:prstGeom>
          <a:ln w="0">
            <a:noFill/>
          </a:ln>
        </p:spPr>
      </p:pic>
      <p:pic>
        <p:nvPicPr>
          <p:cNvPr id="89" name="Picture 12" descr=""/>
          <p:cNvPicPr/>
          <p:nvPr/>
        </p:nvPicPr>
        <p:blipFill>
          <a:blip r:embed="rId8"/>
          <a:srcRect l="0" t="8198" r="0" b="9866"/>
          <a:stretch/>
        </p:blipFill>
        <p:spPr>
          <a:xfrm>
            <a:off x="7483320" y="44280"/>
            <a:ext cx="1552680" cy="7621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76A7-F633-42B9-85DD-AA8C7B467340}"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7D1B-3173-477A-809E-932AEF4325FB}"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79D1-90B3-49FA-BA2A-CF695DA05D83}"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03DA-79B3-4928-BF57-0BF98B90A83A}"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9F49-3217-4093-8EDB-12A216850493}"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B68C-20E1-402F-8CB1-8979B7B16D92}"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0225-8E1D-49D9-A65A-BF87DCB3FC00}"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EOS Membership &amp; Participation:</a:t>
            </a:r>
            <a:br>
              <a:rPr sz="4000"/>
            </a:br>
            <a:r>
              <a:rPr b="0" lang="en-US" sz="4000" spc="-1" strike="noStrike">
                <a:solidFill>
                  <a:srgbClr val="333399"/>
                </a:solidFill>
                <a:latin typeface="Arial"/>
              </a:rPr>
              <a:t>A First Look</a:t>
            </a:r>
            <a:br>
              <a:rPr sz="4000"/>
            </a:b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Alignment of CEOS with Institutional Goals or Objectives:  </a:t>
            </a:r>
            <a:br>
              <a:rPr sz="3600"/>
            </a:br>
            <a:endParaRPr b="0" lang="en-US" sz="3600" spc="-1" strike="noStrike">
              <a:solidFill>
                <a:srgbClr val="333399"/>
              </a:solidFill>
              <a:latin typeface="Arial"/>
            </a:endParaRPr>
          </a:p>
        </p:txBody>
      </p:sp>
      <p:sp>
        <p:nvSpPr>
          <p:cNvPr id="528" name=""/>
          <p:cNvSpPr txBox="1"/>
          <p:nvPr/>
        </p:nvSpPr>
        <p:spPr>
          <a:xfrm>
            <a:off x="457200" y="1371240"/>
            <a:ext cx="822960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s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Members may join/become active to participate in a specific, time-limited activity, after which their participation ends or redu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itial Recommend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Understand this as a positive organizational dynamic</a:t>
            </a:r>
            <a:endParaRPr b="0" lang="en-US" sz="2400" spc="-1" strike="noStrike">
              <a:solidFill>
                <a:srgbClr val="000000"/>
              </a:solidFill>
              <a:latin typeface="Arial"/>
            </a:endParaRPr>
          </a:p>
          <a:p>
            <a:pPr marL="343080" indent="-34308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Facilitate and encourage continued involvement by understanding and articulating the value proposition of CEOS to member organiz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Institutional Barriers and Impediments:  </a:t>
            </a:r>
            <a:br>
              <a:rPr sz="3600"/>
            </a:br>
            <a:endParaRPr b="0" lang="en-US" sz="3600" spc="-1" strike="noStrike">
              <a:solidFill>
                <a:srgbClr val="333399"/>
              </a:solidFill>
              <a:latin typeface="Arial"/>
            </a:endParaRPr>
          </a:p>
        </p:txBody>
      </p:sp>
      <p:sp>
        <p:nvSpPr>
          <p:cNvPr id="530" name=""/>
          <p:cNvSpPr txBox="1"/>
          <p:nvPr/>
        </p:nvSpPr>
        <p:spPr>
          <a:xfrm>
            <a:off x="457200" y="1371240"/>
            <a:ext cx="8229600" cy="525780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sue:  </a:t>
            </a:r>
            <a:endParaRPr b="0" lang="en-US" sz="2400" spc="-1" strike="noStrike">
              <a:solidFill>
                <a:srgbClr val="000000"/>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Lack of resources (travel funds, personnel to devote to CEOS activities) is an ongoing challenge to members</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itial Recommendations:  </a:t>
            </a:r>
            <a:endParaRPr b="0" lang="en-US" sz="2400" spc="-1" strike="noStrike">
              <a:solidFill>
                <a:srgbClr val="000000"/>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Continue leveraging major meetings with side meetings</a:t>
            </a:r>
            <a:endParaRPr b="0" lang="en-US" sz="2400" spc="-1" strike="noStrike">
              <a:solidFill>
                <a:srgbClr val="000000"/>
              </a:solidFill>
              <a:latin typeface="Arial"/>
            </a:endParaRPr>
          </a:p>
          <a:p>
            <a:pPr marL="332640" indent="-3326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Continue using telecons where possible</a:t>
            </a:r>
            <a:endParaRPr b="0" lang="en-US" sz="2400" spc="-1" strike="noStrike">
              <a:solidFill>
                <a:srgbClr val="000000"/>
              </a:solidFill>
              <a:latin typeface="Arial"/>
            </a:endParaRPr>
          </a:p>
          <a:p>
            <a:pPr marL="332640" indent="-3326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Explore more use of telecommunications technology for virtual meetings</a:t>
            </a:r>
            <a:endParaRPr b="0" lang="en-US" sz="2400" spc="-1" strike="noStrike">
              <a:solidFill>
                <a:srgbClr val="000000"/>
              </a:solidFill>
              <a:latin typeface="Arial"/>
            </a:endParaRPr>
          </a:p>
          <a:p>
            <a:pPr marL="332640" indent="-3326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Consider additional use of side meetings at appropriate international meetings</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a:t>
            </a:r>
            <a:r>
              <a:rPr b="1" lang="en-US" sz="3600" spc="-1" strike="noStrike">
                <a:solidFill>
                  <a:srgbClr val="333399"/>
                </a:solidFill>
                <a:latin typeface="Calibri"/>
              </a:rPr>
              <a:t>Activity with Invisibility:”  </a:t>
            </a:r>
            <a:br>
              <a:rPr sz="3600"/>
            </a:br>
            <a:endParaRPr b="0" lang="en-US" sz="3600" spc="-1" strike="noStrike">
              <a:solidFill>
                <a:srgbClr val="333399"/>
              </a:solidFill>
              <a:latin typeface="Arial"/>
            </a:endParaRPr>
          </a:p>
        </p:txBody>
      </p:sp>
      <p:sp>
        <p:nvSpPr>
          <p:cNvPr id="532" name=""/>
          <p:cNvSpPr txBox="1"/>
          <p:nvPr/>
        </p:nvSpPr>
        <p:spPr>
          <a:xfrm>
            <a:off x="456840" y="837720"/>
            <a:ext cx="8381880" cy="57913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sue:  </a:t>
            </a:r>
            <a:endParaRPr b="0" lang="en-US" sz="2400" spc="-1" strike="noStrike">
              <a:solidFill>
                <a:srgbClr val="000000"/>
              </a:solidFill>
              <a:latin typeface="Arial"/>
            </a:endParaRPr>
          </a:p>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Strong anecdotal evidence suggests that members active at particular working levels but not Plenary are overlooked as a whole</a:t>
            </a:r>
            <a:endParaRPr b="0" lang="en-US" sz="2400" spc="-1" strike="noStrike">
              <a:solidFill>
                <a:srgbClr val="000000"/>
              </a:solidFill>
              <a:latin typeface="Arial"/>
            </a:endParaRPr>
          </a:p>
          <a:p>
            <a:pPr marL="329040" indent="-329040">
              <a:spcBef>
                <a:spcPts val="2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itial Recommendations:  </a:t>
            </a:r>
            <a:endParaRPr b="0" lang="en-US" sz="2400" spc="-1" strike="noStrike">
              <a:solidFill>
                <a:srgbClr val="000000"/>
              </a:solidFill>
              <a:latin typeface="Arial"/>
            </a:endParaRPr>
          </a:p>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It is crucial that CEOS recognize and value the contributions of members who participate in only those parts of CEOS that are of relevance to them</a:t>
            </a:r>
            <a:endParaRPr b="0" lang="en-US" sz="2400" spc="-1" strike="noStrike">
              <a:solidFill>
                <a:srgbClr val="000000"/>
              </a:solidFill>
              <a:latin typeface="Arial"/>
            </a:endParaRPr>
          </a:p>
          <a:p>
            <a:pPr marL="329040" indent="-3290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Consider instituting a policy of recording attendance/participation for all working level activities to ensure that participation is not overlooked</a:t>
            </a:r>
            <a:endParaRPr b="0" lang="en-US" sz="2400" spc="-1" strike="noStrike">
              <a:solidFill>
                <a:srgbClr val="000000"/>
              </a:solidFill>
              <a:latin typeface="Arial"/>
            </a:endParaRPr>
          </a:p>
          <a:p>
            <a:pPr marL="329040" indent="-329040">
              <a:spcBef>
                <a:spcPts val="601"/>
              </a:spcBef>
              <a:spcAft>
                <a:spcPts val="1199"/>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Establish a central repository for attendance lists so that participation is more readily visible to CEOS leadership</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Rectangle 4"/>
          <p:cNvSpPr/>
          <p:nvPr/>
        </p:nvSpPr>
        <p:spPr>
          <a:xfrm>
            <a:off x="243000" y="2057400"/>
            <a:ext cx="8901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201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T-27 decides on immediate a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 May 2012:  </a:t>
            </a:r>
            <a:r>
              <a:rPr b="0" lang="en-US" sz="2400" spc="-1" strike="noStrike">
                <a:solidFill>
                  <a:srgbClr val="000000"/>
                </a:solidFill>
                <a:latin typeface="Arial"/>
              </a:rPr>
              <a:t>	</a:t>
            </a:r>
            <a:r>
              <a:rPr b="0" lang="en-US" sz="2400" spc="-1" strike="noStrike">
                <a:solidFill>
                  <a:srgbClr val="000000"/>
                </a:solidFill>
                <a:latin typeface="Arial"/>
              </a:rPr>
              <a:t>Complete interview 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201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ynthesis of 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201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pare  M&amp;P Final Repo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2012:</a:t>
            </a:r>
            <a:r>
              <a:rPr b="0" lang="en-US" sz="2400" spc="-1" strike="noStrike">
                <a:solidFill>
                  <a:srgbClr val="000000"/>
                </a:solidFill>
                <a:latin typeface="Arial"/>
              </a:rPr>
              <a:t>	</a:t>
            </a:r>
            <a:r>
              <a:rPr b="0" lang="en-US" sz="2400" spc="-1" strike="noStrike">
                <a:solidFill>
                  <a:srgbClr val="000000"/>
                </a:solidFill>
                <a:latin typeface="Arial"/>
              </a:rPr>
              <a:t>SIT Workshop addresses final repo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commendations prior to submissi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cision at October Plena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Rectangle 8"/>
          <p:cNvSpPr/>
          <p:nvPr/>
        </p:nvSpPr>
        <p:spPr>
          <a:xfrm>
            <a:off x="1905120" y="457200"/>
            <a:ext cx="523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151920"/>
            <a:ext cx="8229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embership &amp; Participation  Study</a:t>
            </a:r>
            <a:br>
              <a:rPr sz="4000"/>
            </a:br>
            <a:endParaRPr b="0" lang="en-US" sz="4000" spc="-1" strike="noStrike">
              <a:solidFill>
                <a:srgbClr val="333399"/>
              </a:solidFill>
              <a:latin typeface="Arial"/>
            </a:endParaRPr>
          </a:p>
        </p:txBody>
      </p:sp>
      <p:sp>
        <p:nvSpPr>
          <p:cNvPr id="509" name=""/>
          <p:cNvSpPr txBox="1"/>
          <p:nvPr/>
        </p:nvSpPr>
        <p:spPr>
          <a:xfrm>
            <a:off x="468360" y="1447560"/>
            <a:ext cx="8229600" cy="4933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understand why some CEOS members and associate members, including important CEOS partner organizations, are not currently participating in CEO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pose concrete steps to encourage, empower and support full engagement in CEOS activities by the widest possible range of CEOS members. </a:t>
            </a:r>
            <a:endParaRPr b="0" lang="en-US" sz="2400" spc="-1" strike="noStrike">
              <a:solidFill>
                <a:srgbClr val="000000"/>
              </a:solidFill>
              <a:latin typeface="Arial"/>
            </a:endParaRPr>
          </a:p>
          <a:p>
            <a:pPr marL="343080" indent="-343080">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amp;P Team Members:</a:t>
            </a:r>
            <a:endParaRPr b="0" lang="en-US" sz="3600" spc="-1" strike="noStrike">
              <a:solidFill>
                <a:srgbClr val="333399"/>
              </a:solidFill>
              <a:latin typeface="Arial"/>
            </a:endParaRPr>
          </a:p>
        </p:txBody>
      </p:sp>
      <p:sp>
        <p:nvSpPr>
          <p:cNvPr id="511" name=""/>
          <p:cNvSpPr txBox="1"/>
          <p:nvPr/>
        </p:nvSpPr>
        <p:spPr>
          <a:xfrm>
            <a:off x="990720" y="1600200"/>
            <a:ext cx="8153280" cy="4525920"/>
          </a:xfrm>
          <a:prstGeom prst="rect">
            <a:avLst/>
          </a:prstGeom>
          <a:noFill/>
          <a:ln w="0">
            <a:noFill/>
          </a:ln>
        </p:spPr>
        <p:txBody>
          <a:bodyPr anchor="t">
            <a:normAutofit/>
          </a:bodyPr>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Dowell</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vek Singh</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nt Smith</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 Stryker</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cia Jacobberger-Jellison (Chair) </a:t>
            </a:r>
            <a:endParaRPr b="0" lang="en-US" sz="3200" spc="-1" strike="noStrike">
              <a:solidFill>
                <a:srgbClr val="000000"/>
              </a:solidFill>
              <a:latin typeface="Arial"/>
            </a:endParaRPr>
          </a:p>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M&amp;P Study Approach:</a:t>
            </a:r>
            <a:endParaRPr b="0" lang="en-US" sz="3300" spc="-1" strike="noStrike">
              <a:solidFill>
                <a:srgbClr val="333399"/>
              </a:solidFill>
              <a:latin typeface="Arial"/>
            </a:endParaRPr>
          </a:p>
        </p:txBody>
      </p:sp>
      <p:sp>
        <p:nvSpPr>
          <p:cNvPr id="513" name=""/>
          <p:cNvSpPr txBox="1"/>
          <p:nvPr/>
        </p:nvSpPr>
        <p:spPr>
          <a:xfrm>
            <a:off x="456840" y="1066680"/>
            <a:ext cx="8342280" cy="5483520"/>
          </a:xfrm>
          <a:prstGeom prst="rect">
            <a:avLst/>
          </a:prstGeom>
          <a:noFill/>
          <a:ln w="0">
            <a:noFill/>
          </a:ln>
        </p:spPr>
        <p:txBody>
          <a:bodyPr anchor="t">
            <a:normAutofit/>
          </a:bodyPr>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tract relevant findings from the 2011 CEOS Self-Study Report (including Study Team Reports) (complete); </a:t>
            </a:r>
            <a:endParaRPr b="0" lang="en-US" sz="2100" spc="-1" strike="noStrike">
              <a:solidFill>
                <a:srgbClr val="000000"/>
              </a:solidFill>
              <a:latin typeface="Arial"/>
            </a:endParaRPr>
          </a:p>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btain and synthesize input from M&amp;P Team Members (complete);</a:t>
            </a:r>
            <a:endParaRPr b="0" lang="en-US" sz="2100" spc="-1" strike="noStrike">
              <a:solidFill>
                <a:srgbClr val="000000"/>
              </a:solidFill>
              <a:latin typeface="Arial"/>
            </a:endParaRPr>
          </a:p>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ordinate M&amp;P Study with CEO/DCEO/SEO efforts to update the CEOS contact database (ongoing);</a:t>
            </a:r>
            <a:endParaRPr b="0" lang="en-US" sz="2100" spc="-1" strike="noStrike">
              <a:solidFill>
                <a:srgbClr val="000000"/>
              </a:solidFill>
              <a:latin typeface="Arial"/>
            </a:endParaRPr>
          </a:p>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sess CEOS membership list to understand distribution of active and inactive members (including associates), and prioritize for subsequent interviews (complete);</a:t>
            </a:r>
            <a:endParaRPr b="0" lang="en-US" sz="2100" spc="-1" strike="noStrike">
              <a:solidFill>
                <a:srgbClr val="000000"/>
              </a:solidFill>
              <a:latin typeface="Arial"/>
            </a:endParaRPr>
          </a:p>
          <a:p>
            <a:pPr marL="514440" indent="-514440">
              <a:spcBef>
                <a:spcPts val="524"/>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past CEOS meetings minutes, attendance lists, and notes as an independent measure of broad member participation (ongoing); </a:t>
            </a:r>
            <a:endParaRPr b="0" lang="en-US" sz="2100" spc="-1" strike="noStrike">
              <a:solidFill>
                <a:srgbClr val="000000"/>
              </a:solidFill>
              <a:latin typeface="Arial"/>
            </a:endParaRPr>
          </a:p>
          <a:p>
            <a:pPr marL="514440" indent="-51444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TextBox 3"/>
          <p:cNvSpPr/>
          <p:nvPr/>
        </p:nvSpPr>
        <p:spPr>
          <a:xfrm>
            <a:off x="6519960" y="632448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inued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M&amp;P Study Approach:</a:t>
            </a:r>
            <a:endParaRPr b="0" lang="en-US" sz="3300" spc="-1" strike="noStrike">
              <a:solidFill>
                <a:srgbClr val="333399"/>
              </a:solidFill>
              <a:latin typeface="Arial"/>
            </a:endParaRPr>
          </a:p>
        </p:txBody>
      </p:sp>
      <p:sp>
        <p:nvSpPr>
          <p:cNvPr id="516" name=""/>
          <p:cNvSpPr txBox="1"/>
          <p:nvPr/>
        </p:nvSpPr>
        <p:spPr>
          <a:xfrm>
            <a:off x="456840" y="1374480"/>
            <a:ext cx="8342280" cy="5483160"/>
          </a:xfrm>
          <a:prstGeom prst="rect">
            <a:avLst/>
          </a:prstGeom>
          <a:noFill/>
          <a:ln w="0">
            <a:noFill/>
          </a:ln>
        </p:spPr>
        <p:txBody>
          <a:bodyPr anchor="t">
            <a:normAutofit/>
          </a:bodyPr>
          <a:p>
            <a:pPr marL="457200" indent="-457200">
              <a:spcBef>
                <a:spcPts val="524"/>
              </a:spcBef>
              <a:spcAft>
                <a:spcPts val="1199"/>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 questions and background material for conducting interviews (complete);</a:t>
            </a:r>
            <a:endParaRPr b="0" lang="en-US" sz="2100" spc="-1" strike="noStrike">
              <a:solidFill>
                <a:srgbClr val="000000"/>
              </a:solidFill>
              <a:latin typeface="Arial"/>
            </a:endParaRPr>
          </a:p>
          <a:p>
            <a:pPr marL="457200" indent="-457200">
              <a:spcBef>
                <a:spcPts val="524"/>
              </a:spcBef>
              <a:spcAft>
                <a:spcPts val="1199"/>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establish contact with inactive members and conduct interviews (make new contacts where necessary) (ongoing);</a:t>
            </a:r>
            <a:endParaRPr b="0" lang="en-US" sz="2100" spc="-1" strike="noStrike">
              <a:solidFill>
                <a:srgbClr val="000000"/>
              </a:solidFill>
              <a:latin typeface="Arial"/>
            </a:endParaRPr>
          </a:p>
          <a:p>
            <a:pPr marL="457200" indent="-457200">
              <a:spcBef>
                <a:spcPts val="524"/>
              </a:spcBef>
              <a:spcAft>
                <a:spcPts val="1199"/>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view a selection of active members to better understand their reasons for being active in CEOS (ongoing);</a:t>
            </a:r>
            <a:endParaRPr b="0" lang="en-US" sz="2100" spc="-1" strike="noStrike">
              <a:solidFill>
                <a:srgbClr val="000000"/>
              </a:solidFill>
              <a:latin typeface="Arial"/>
            </a:endParaRPr>
          </a:p>
          <a:p>
            <a:pPr marL="457200" indent="-457200">
              <a:spcBef>
                <a:spcPts val="524"/>
              </a:spcBef>
              <a:spcAft>
                <a:spcPts val="1199"/>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ynthesize results and develop recommendations for consideration by CEOS leadership, including follow-up by CEOS leadership, and invitation to next Plenary (preliminary report here; final report to come). </a:t>
            </a:r>
            <a:endParaRPr b="0" lang="en-US" sz="2100" spc="-1" strike="noStrike">
              <a:solidFill>
                <a:srgbClr val="000000"/>
              </a:solidFill>
              <a:latin typeface="Arial"/>
            </a:endParaRPr>
          </a:p>
          <a:p>
            <a:pPr marL="457200" indent="-457200">
              <a:spcBef>
                <a:spcPts val="400"/>
              </a:spcBef>
              <a:spcAft>
                <a:spcPts val="601"/>
              </a:spcAft>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Arial"/>
              </a:rPr>
              <a:t>Timeline</a:t>
            </a:r>
            <a:r>
              <a:rPr b="0" lang="en-US" sz="3600" spc="-1" strike="noStrike">
                <a:solidFill>
                  <a:srgbClr val="333399"/>
                </a:solidFill>
                <a:latin typeface="Arial"/>
              </a:rPr>
              <a:t>:</a:t>
            </a:r>
            <a:endParaRPr b="0" lang="en-US" sz="3600" spc="-1" strike="noStrike">
              <a:solidFill>
                <a:srgbClr val="333399"/>
              </a:solidFill>
              <a:latin typeface="Arial"/>
            </a:endParaRPr>
          </a:p>
        </p:txBody>
      </p:sp>
      <p:sp>
        <p:nvSpPr>
          <p:cNvPr id="518" name=""/>
          <p:cNvSpPr txBox="1"/>
          <p:nvPr/>
        </p:nvSpPr>
        <p:spPr>
          <a:xfrm>
            <a:off x="457200" y="1295280"/>
            <a:ext cx="8229600" cy="5345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9" name=""/>
          <p:cNvGraphicFramePr/>
          <p:nvPr/>
        </p:nvGraphicFramePr>
        <p:xfrm>
          <a:off x="1371600" y="1600200"/>
          <a:ext cx="6553080" cy="4572000"/>
        </p:xfrm>
        <a:graphic>
          <a:graphicData uri="http://schemas.openxmlformats.org/drawingml/2006/table">
            <a:tbl>
              <a:tblPr/>
              <a:tblGrid>
                <a:gridCol w="2540160"/>
                <a:gridCol w="4012920"/>
              </a:tblGrid>
              <a:tr h="762120">
                <a:tc>
                  <a:txBody>
                    <a:bodyPr lIns="90000" rIns="90000" tIns="46800" bIns="46800" anchor="ctr">
                      <a:noAutofit/>
                    </a:bodyPr>
                    <a:p>
                      <a:pPr>
                        <a:spcAft>
                          <a:spcPts val="36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2011</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e M&amp;P Team</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3f9fa"/>
                    </a:solidFill>
                  </a:tcPr>
                </a:tc>
              </a:tr>
              <a:tr h="76176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 – Mar 2012</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p;P Team Telecons &amp; Fact-Finding</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fffff"/>
                    </a:solidFill>
                  </a:tcPr>
                </a:tc>
              </a:tr>
              <a:tr h="76212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Mar 2012 </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irst Look” Report at SIT-27</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3f9fa"/>
                    </a:solidFill>
                  </a:tcPr>
                </a:tc>
              </a:tr>
              <a:tr h="76212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 – May 2012</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iews</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fffff"/>
                    </a:solidFill>
                  </a:tcPr>
                </a:tc>
              </a:tr>
              <a:tr h="76176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2012</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sis of Results</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3f9fa"/>
                    </a:solidFill>
                  </a:tcPr>
                </a:tc>
              </a:tr>
              <a:tr h="762120">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12</a:t>
                      </a:r>
                      <a:endParaRPr b="0" lang="en-US" sz="1800" spc="-1" strike="noStrike">
                        <a:solidFill>
                          <a:srgbClr val="000000"/>
                        </a:solidFill>
                        <a:latin typeface="Arial"/>
                      </a:endParaRPr>
                    </a:p>
                  </a:txBody>
                  <a:tcPr anchor="ctr"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ctr">
                      <a:no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of M&amp;P Final Report</a:t>
                      </a:r>
                      <a:endParaRPr b="0" lang="en-US" sz="1800" spc="-1" strike="noStrike">
                        <a:solidFill>
                          <a:srgbClr val="000000"/>
                        </a:solidFill>
                        <a:latin typeface="Arial"/>
                      </a:endParaRPr>
                    </a:p>
                  </a:txBody>
                  <a:tcPr anchor="ctr" marL="90000" marR="90000">
                    <a:lnL>
                      <a:noFill/>
                    </a:lnL>
                    <a:lnR w="5760">
                      <a:solidFill>
                        <a:srgbClr val="bbe0e3"/>
                      </a:solidFill>
                    </a:lnR>
                    <a:lnT w="5760">
                      <a:solidFill>
                        <a:srgbClr val="bbe0e3"/>
                      </a:solidFill>
                    </a:lnT>
                    <a:lnB w="5760">
                      <a:solidFill>
                        <a:srgbClr val="bbe0e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42840"/>
            <a:ext cx="7925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c1c1d"/>
                </a:solidFill>
                <a:latin typeface="Calibri"/>
                <a:ea typeface="ＭＳ Ｐゴシック"/>
              </a:rPr>
              <a:t>Initial Findings</a:t>
            </a:r>
            <a:br>
              <a:rPr sz="4400"/>
            </a:br>
            <a:r>
              <a:rPr b="1" lang="en-GB" sz="4400" spc="-1" strike="noStrike">
                <a:solidFill>
                  <a:srgbClr val="0c1c1d"/>
                </a:solidFill>
                <a:latin typeface="Calibri"/>
                <a:ea typeface="ＭＳ Ｐゴシック"/>
              </a:rPr>
              <a:t>and</a:t>
            </a:r>
            <a:br>
              <a:rPr sz="4400"/>
            </a:br>
            <a:r>
              <a:rPr b="1" lang="en-GB" sz="4400" spc="-1" strike="noStrike">
                <a:solidFill>
                  <a:srgbClr val="0c1c1d"/>
                </a:solidFill>
                <a:latin typeface="Calibri"/>
                <a:ea typeface="ＭＳ Ｐゴシック"/>
              </a:rPr>
              <a:t>Recommendations</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1920"/>
            <a:ext cx="7772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amp;P Study:</a:t>
            </a:r>
            <a:br>
              <a:rPr sz="4000"/>
            </a:br>
            <a:endParaRPr b="0" lang="en-US" sz="4000" spc="-1" strike="noStrike">
              <a:solidFill>
                <a:srgbClr val="333399"/>
              </a:solidFill>
              <a:latin typeface="Arial"/>
            </a:endParaRPr>
          </a:p>
        </p:txBody>
      </p:sp>
      <p:sp>
        <p:nvSpPr>
          <p:cNvPr id="522" name="PlaceHolder 2"/>
          <p:cNvSpPr>
            <a:spLocks noGrp="1"/>
          </p:cNvSpPr>
          <p:nvPr>
            <p:ph type="subTitle"/>
          </p:nvPr>
        </p:nvSpPr>
        <p:spPr>
          <a:xfrm>
            <a:off x="380520" y="609120"/>
            <a:ext cx="8356680" cy="838440"/>
          </a:xfrm>
          <a:prstGeom prst="rect">
            <a:avLst/>
          </a:prstGeom>
          <a:noFill/>
          <a:ln w="0">
            <a:noFill/>
          </a:ln>
        </p:spPr>
        <p:txBody>
          <a:bodyPr anchor="t">
            <a:noAutofit/>
          </a:bodyPr>
          <a:p>
            <a:pPr indent="0" algn="ctr">
              <a:spcBef>
                <a:spcPts val="85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bbe0e3"/>
                </a:solidFill>
                <a:latin typeface="Arial"/>
              </a:rPr>
              <a:t> </a:t>
            </a:r>
            <a:r>
              <a:rPr b="0" i="1" lang="en-US" sz="3400" spc="-1" strike="noStrike">
                <a:solidFill>
                  <a:srgbClr val="222268"/>
                </a:solidFill>
                <a:latin typeface="Arial"/>
              </a:rPr>
              <a:t>Four Broad Themes</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23" name="Title 1"/>
          <p:cNvSpPr/>
          <p:nvPr/>
        </p:nvSpPr>
        <p:spPr>
          <a:xfrm>
            <a:off x="914400" y="1447920"/>
            <a:ext cx="7543800" cy="5257800"/>
          </a:xfrm>
          <a:prstGeom prst="rect">
            <a:avLst/>
          </a:prstGeom>
          <a:noFill/>
          <a:ln w="0">
            <a:noFill/>
          </a:ln>
        </p:spPr>
        <p:style>
          <a:lnRef idx="0"/>
          <a:fillRef idx="0"/>
          <a:effectRef idx="0"/>
          <a:fontRef idx="minor"/>
        </p:style>
        <p:txBody>
          <a:bodyPr lIns="90000" rIns="90000" tIns="46800" bIns="46800" anchor="ctr">
            <a:noAutofit/>
          </a:bodyPr>
          <a:p>
            <a:pPr>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act management</a:t>
            </a:r>
            <a:endParaRPr b="0" lang="en-US" sz="2400" spc="-1" strike="noStrike">
              <a:solidFill>
                <a:srgbClr val="000000"/>
              </a:solidFill>
              <a:latin typeface="Arial"/>
            </a:endParaRPr>
          </a:p>
          <a:p>
            <a:pPr>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ignment of CEOS with particular members’ agency   or organizational goals</a:t>
            </a:r>
            <a:endParaRPr b="0" lang="en-US" sz="2400" spc="-1" strike="noStrike">
              <a:solidFill>
                <a:srgbClr val="000000"/>
              </a:solidFill>
              <a:latin typeface="Arial"/>
            </a:endParaRPr>
          </a:p>
          <a:p>
            <a:pPr>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itutional barriers and impediments</a:t>
            </a:r>
            <a:endParaRPr b="0" lang="en-US" sz="2400" spc="-1" strike="noStrike">
              <a:solidFill>
                <a:srgbClr val="000000"/>
              </a:solidFill>
              <a:latin typeface="Arial"/>
            </a:endParaRPr>
          </a:p>
          <a:p>
            <a:pPr>
              <a:spcAft>
                <a:spcPts val="36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ity with invi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TextBox 6"/>
          <p:cNvSpPr/>
          <p:nvPr/>
        </p:nvSpPr>
        <p:spPr>
          <a:xfrm>
            <a:off x="518148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Contact Management:  </a:t>
            </a:r>
            <a:br>
              <a:rPr sz="3600"/>
            </a:br>
            <a:endParaRPr b="0" lang="en-US" sz="3600" spc="-1" strike="noStrike">
              <a:solidFill>
                <a:srgbClr val="333399"/>
              </a:solidFill>
              <a:latin typeface="Arial"/>
            </a:endParaRPr>
          </a:p>
        </p:txBody>
      </p:sp>
      <p:sp>
        <p:nvSpPr>
          <p:cNvPr id="526" name=""/>
          <p:cNvSpPr txBox="1"/>
          <p:nvPr/>
        </p:nvSpPr>
        <p:spPr>
          <a:xfrm>
            <a:off x="468360" y="18558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s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Individuals Move or Retire &amp; Institutional Contact is Los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itial Recommend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Establish Secondary Points of Contact</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0"/>
                </a:solidFill>
                <a:latin typeface="Arial"/>
              </a:rPr>
              <a:t>Work to support CEOS visibility to members at organizational leve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16:11:09Z</dcterms:created>
  <dc:creator>ipetitev</dc:creator>
  <dc:description/>
  <dc:language>en-US</dc:language>
  <cp:lastModifiedBy>kekeith</cp:lastModifiedBy>
  <cp:lastPrinted>2011-09-14T01:34:17Z</cp:lastPrinted>
  <dcterms:modified xsi:type="dcterms:W3CDTF">2012-03-27T20:50:07Z</dcterms:modified>
  <cp:revision>55</cp:revision>
  <dc:subject/>
  <dc:title>SIT Workshop TEMPLATE</dc:title>
</cp:coreProperties>
</file>