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8.jpeg" ContentType="image/jpe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92E-1AFC-452A-9B13-9FC3E02D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F9B-4523-4E6B-8C1C-8AF607CB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EAB-A9E8-4AB8-AD11-343055AA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661-05FF-4F36-9497-A2250912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D23-A1A4-448F-AA33-8D7DE4A6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35E-F07A-4304-A4D8-85EE5E93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64B-C97E-40C1-B662-13A3A514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5ED-D288-427D-8F96-337C6CC4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E75-C332-4BF9-840C-5B292B8E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119D-0F7A-40D5-8A90-3C370890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882-ECF6-4F66-91A0-B6783F70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8C7-5E4B-4B2E-AEA8-2356BAE6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F6B7-2311-4884-A479-CEF6F5449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2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23.png"/><Relationship Id="rId2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image" Target="../media/image38.png"/><Relationship Id="rId17" Type="http://schemas.openxmlformats.org/officeDocument/2006/relationships/image" Target="../media/image39.png"/><Relationship Id="rId18" Type="http://schemas.openxmlformats.org/officeDocument/2006/relationships/image" Target="../media/image40.png"/><Relationship Id="rId19" Type="http://schemas.openxmlformats.org/officeDocument/2006/relationships/image" Target="../media/image41.png"/><Relationship Id="rId20" Type="http://schemas.openxmlformats.org/officeDocument/2006/relationships/image" Target="../media/image42.png"/><Relationship Id="rId21" Type="http://schemas.openxmlformats.org/officeDocument/2006/relationships/image" Target="../media/image43.png"/><Relationship Id="rId22" Type="http://schemas.openxmlformats.org/officeDocument/2006/relationships/image" Target="../media/image44.png"/><Relationship Id="rId23" Type="http://schemas.openxmlformats.org/officeDocument/2006/relationships/image" Target="../media/image45.png"/><Relationship Id="rId24" Type="http://schemas.openxmlformats.org/officeDocument/2006/relationships/image" Target="../media/image46.png"/><Relationship Id="rId25" Type="http://schemas.openxmlformats.org/officeDocument/2006/relationships/image" Target="../media/image46.png"/><Relationship Id="rId26" Type="http://schemas.openxmlformats.org/officeDocument/2006/relationships/image" Target="../media/image47.png"/><Relationship Id="rId2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6440" y="355320"/>
            <a:ext cx="83185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3rd CEOS-CTF Objective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4680" y="1828800"/>
            <a:ext cx="9188280" cy="60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put current activities and progresses of CTF in 2009, and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plan in 20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roduction and discussion on “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GEO Carbon Strategy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 for final revision. CEOS is in charge of responding the science requirements on GHG which describes in the strategy, and implement harmonized long term GHG monitoring from space through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Gap Analysi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ussion on collaboration with ACC(Atmospheric Chemistry Composition) constelllations and GHG, including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stablish GHG constellation group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roduction of idea of 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GEO Carbon Showcas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 for GEO ministerial summit based on the 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A Global Carbon Tracking System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 proposed by GEO Carbon Co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port agency efforts to GHG monitoring and analysis to reflect “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GHG High Profile Publicatio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” for policy makers and stake hold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08480" y="5343480"/>
            <a:ext cx="11160" cy="371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3480" y="5343480"/>
            <a:ext cx="20880" cy="351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79400" y="1036800"/>
            <a:ext cx="7250400" cy="1228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63640" y="1260360"/>
            <a:ext cx="708516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: IN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90560" y="2846520"/>
            <a:ext cx="3919680" cy="1112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74800" y="2936880"/>
            <a:ext cx="37526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tegic Implementation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ir: JAX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Vice Chair: NA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456240" y="1184400"/>
            <a:ext cx="2327400" cy="965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40480" y="1272600"/>
            <a:ext cx="21654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retari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NASA/NOAA,MEXT/JAXA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SA/EUMETSA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6700680" y="2984400"/>
            <a:ext cx="2473560" cy="561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70520" y="3056760"/>
            <a:ext cx="23274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EOS Executive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8160" y="5470560"/>
            <a:ext cx="1280880" cy="110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0600" y="5672880"/>
            <a:ext cx="11206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B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ord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44560" y="206280"/>
            <a:ext cx="64594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OS Organizational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1376280" y="5460840"/>
            <a:ext cx="4251240" cy="196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52600" y="5539320"/>
            <a:ext cx="4094280" cy="18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and Surface Imaging (LSI)</a:t>
            </a:r>
            <a:r>
              <a:rPr b="1" lang="zh-CN" sz="13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USG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cean Surface Altimetry (OST)</a:t>
            </a:r>
            <a:r>
              <a:rPr b="1" lang="zh-CN" sz="13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tmospheric Chemistry Composition (ACC)</a:t>
            </a:r>
            <a:r>
              <a:rPr b="1" lang="zh-CN" sz="13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NASA/E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cipitation (PC) </a:t>
            </a:r>
            <a:r>
              <a:rPr b="1" lang="zh-CN" sz="13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AXA/NA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cean Color Radiometer (OCR)</a:t>
            </a:r>
            <a:r>
              <a:rPr b="1" lang="zh-CN" sz="13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AXA/EC/NA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cean Surface Vector Wind (OSVW)</a:t>
            </a:r>
            <a:r>
              <a:rPr b="1" lang="zh-CN" sz="13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NA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3290760" y="4073400"/>
            <a:ext cx="2024280" cy="774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368520" y="4022640"/>
            <a:ext cx="187020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Engineer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fice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NA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2782800" y="2655720"/>
            <a:ext cx="2562480" cy="223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4200480" y="3925800"/>
            <a:ext cx="20520" cy="181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3"/>
          <a:stretch/>
        </p:blipFill>
        <p:spPr>
          <a:xfrm>
            <a:off x="6338880" y="5354640"/>
            <a:ext cx="12600" cy="37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7942320" y="5354640"/>
            <a:ext cx="20520" cy="371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5"/>
          <a:stretch/>
        </p:blipFill>
        <p:spPr>
          <a:xfrm>
            <a:off x="9475920" y="5334120"/>
            <a:ext cx="20520" cy="37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6"/>
          <a:stretch/>
        </p:blipFill>
        <p:spPr>
          <a:xfrm>
            <a:off x="5334120" y="2655720"/>
            <a:ext cx="2647800" cy="351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7"/>
          <a:stretch/>
        </p:blipFill>
        <p:spPr>
          <a:xfrm>
            <a:off x="1846440" y="1301760"/>
            <a:ext cx="2179440" cy="974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927080" y="1393920"/>
            <a:ext cx="20224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28 Memb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20 Associa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8"/>
          <a:stretch/>
        </p:blipFill>
        <p:spPr>
          <a:xfrm>
            <a:off x="0" y="4073400"/>
            <a:ext cx="3273480" cy="96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5440" y="4172040"/>
            <a:ext cx="3133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EOS Carbon Task Force: JAX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GreenHouse Gas Monitoring from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Forest Carbon Trac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Integrated Global Carbon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9"/>
          <a:stretch/>
        </p:blipFill>
        <p:spPr>
          <a:xfrm>
            <a:off x="1630440" y="3925800"/>
            <a:ext cx="20520" cy="18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0"/>
          <a:stretch/>
        </p:blipFill>
        <p:spPr>
          <a:xfrm>
            <a:off x="5294160" y="2232000"/>
            <a:ext cx="79560" cy="3133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1"/>
          <a:stretch/>
        </p:blipFill>
        <p:spPr>
          <a:xfrm>
            <a:off x="5694480" y="5460840"/>
            <a:ext cx="1301760" cy="1789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772240" y="5877000"/>
            <a:ext cx="11397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GC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ir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2"/>
          <a:stretch/>
        </p:blipFill>
        <p:spPr>
          <a:xfrm>
            <a:off x="7072200" y="5450040"/>
            <a:ext cx="1749600" cy="1811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148520" y="5952960"/>
            <a:ext cx="15908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GI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ir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IST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Vice Chair: JAX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3"/>
          <a:stretch/>
        </p:blipFill>
        <p:spPr>
          <a:xfrm>
            <a:off x="8869320" y="5438880"/>
            <a:ext cx="1222560" cy="1811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945640" y="5605200"/>
            <a:ext cx="106668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G-Ed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i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UMETS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4"/>
          <a:stretch/>
        </p:blipFill>
        <p:spPr>
          <a:xfrm>
            <a:off x="663480" y="5311800"/>
            <a:ext cx="8813880" cy="65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5"/>
          <a:stretch/>
        </p:blipFill>
        <p:spPr>
          <a:xfrm>
            <a:off x="8292960" y="0"/>
            <a:ext cx="18669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43000" y="5533920"/>
            <a:ext cx="4992840" cy="700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338880" y="3481560"/>
            <a:ext cx="901800" cy="106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296120" y="2444760"/>
            <a:ext cx="2581200" cy="4424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275600" y="2476440"/>
            <a:ext cx="26272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EO-Carbon CoP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Global Carbon Observ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*highlight the observational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quirements for global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bon cyc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*provide strategy advice 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 and carbon commun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818400" y="1978200"/>
            <a:ext cx="3030480" cy="572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773760" y="2117160"/>
            <a:ext cx="3121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-09-03a Task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26040" y="2529000"/>
            <a:ext cx="452520" cy="2847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5880" y="2948040"/>
            <a:ext cx="2858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p analysis //Users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6486480" y="4433760"/>
            <a:ext cx="773280" cy="106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7296120" y="4116240"/>
            <a:ext cx="2590920" cy="679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405560" y="4243320"/>
            <a:ext cx="2305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Updates IGCO Carbon Theme Repo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316640" y="6286680"/>
            <a:ext cx="79560" cy="285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223120" y="50760"/>
            <a:ext cx="1865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s of 120410 moriyam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4160880" y="6603840"/>
            <a:ext cx="69840" cy="730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97360" y="6500880"/>
            <a:ext cx="2166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GOSAT,AI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IASI,SCIAM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3467160" y="5883120"/>
            <a:ext cx="1379520" cy="743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521160" y="6116040"/>
            <a:ext cx="12780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E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ACC /GHG por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7307280" y="5958000"/>
            <a:ext cx="1514520" cy="677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418520" y="6087240"/>
            <a:ext cx="1252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HG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etrie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4805280" y="6275520"/>
            <a:ext cx="2522520" cy="107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4"/>
          <a:stretch/>
        </p:blipFill>
        <p:spPr>
          <a:xfrm>
            <a:off x="4191120" y="7291440"/>
            <a:ext cx="4895640" cy="74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5"/>
          <a:stretch/>
        </p:blipFill>
        <p:spPr>
          <a:xfrm>
            <a:off x="8977320" y="6835680"/>
            <a:ext cx="128520" cy="498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1738440" y="5227560"/>
            <a:ext cx="3693960" cy="541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93800" y="5382360"/>
            <a:ext cx="3786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CEOS-Virtual Constell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34160" y="6900840"/>
            <a:ext cx="27604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ata will be distributed from each spa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Agency by respecting their own data polic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7"/>
          <a:stretch/>
        </p:blipFill>
        <p:spPr>
          <a:xfrm>
            <a:off x="4433760" y="3565440"/>
            <a:ext cx="1683000" cy="1346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11600" y="3968280"/>
            <a:ext cx="13129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Next generation satellite mission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ata produc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8"/>
          <a:stretch/>
        </p:blipFill>
        <p:spPr>
          <a:xfrm>
            <a:off x="985680" y="1025640"/>
            <a:ext cx="5053320" cy="2711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41480" y="1658160"/>
            <a:ext cx="4949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EOS Carbon Task Fo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for fulfilling GEO task CL-09-03c , reporting to CEOS SI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*Cross-communication &amp; coordination among CL-09-03 task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*Create synergistic implementation plan for the long ter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lobal carbon observations and global warming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*To support / facilitate space GHG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5680" y="6740640"/>
            <a:ext cx="14176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GCV, WG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9"/>
          <a:stretch/>
        </p:blipFill>
        <p:spPr>
          <a:xfrm>
            <a:off x="1552680" y="6676920"/>
            <a:ext cx="1612800" cy="66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0"/>
          <a:stretch/>
        </p:blipFill>
        <p:spPr>
          <a:xfrm>
            <a:off x="2197080" y="6191280"/>
            <a:ext cx="109440" cy="519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97080" y="6308640"/>
            <a:ext cx="8856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ata qual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assur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7440" y="6308640"/>
            <a:ext cx="12319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atase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tandard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1"/>
          <a:stretch/>
        </p:blipFill>
        <p:spPr>
          <a:xfrm>
            <a:off x="1415880" y="708120"/>
            <a:ext cx="4211640" cy="847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2"/>
          <a:stretch/>
        </p:blipFill>
        <p:spPr>
          <a:xfrm>
            <a:off x="3613320" y="3946680"/>
            <a:ext cx="372960" cy="1239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3"/>
          <a:stretch/>
        </p:blipFill>
        <p:spPr>
          <a:xfrm>
            <a:off x="6808680" y="1015920"/>
            <a:ext cx="3049560" cy="804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96160" y="986040"/>
            <a:ext cx="2876400" cy="8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-09-03b Task t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Forest Carbon Tracking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4"/>
          <a:stretch/>
        </p:blipFill>
        <p:spPr>
          <a:xfrm>
            <a:off x="6016680" y="1163520"/>
            <a:ext cx="831960" cy="297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5"/>
          <a:stretch/>
        </p:blipFill>
        <p:spPr>
          <a:xfrm>
            <a:off x="6016680" y="2116080"/>
            <a:ext cx="831960" cy="298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6"/>
          <a:stretch/>
        </p:blipFill>
        <p:spPr>
          <a:xfrm>
            <a:off x="1474920" y="3143160"/>
            <a:ext cx="2531880" cy="857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96960" y="3412440"/>
            <a:ext cx="22827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HG 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ｇｒｏｕｐ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39800" y="866880"/>
            <a:ext cx="37609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-09-03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lobal Carbon Observation and Analysis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9160" y="4041720"/>
            <a:ext cx="29480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* Improve spatial / temporal cover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* Cross instrument CAL/V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* Enhanced data products and util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* Algorithm &amp; validation collabo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llect &amp; deliver data for synergetic 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7520" y="216000"/>
            <a:ext cx="52909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EOS supports GEO Carbon task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65880" y="4772160"/>
            <a:ext cx="253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 Carbon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6440" y="50760"/>
            <a:ext cx="96742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 CL-09-03c scope and pro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360" y="1082520"/>
            <a:ext cx="9475920" cy="75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 The task will foster the use of space-based greenhouse gas (GHG) observations and consolidate data requirements for the next-generation GHG monitoring missions from space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&gt;&gt; Re-started GEO Carbon CoP to create GEO Carbon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 The task will create a synergistic strategy for easy access to GHG satellite observations, including GOSAT and current observations, and to harmonise the next generation of GHG satellite observ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&gt;&gt; Develop “Carbon from space web portal 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) Includes comparison and potential integration of GOSAT GHG products with mid tropospheric AIRS and IASI GHG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&gt;&gt; Underway by NO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) The task will pursue the technical and organisational progress required for the application and integration of results with those of the other GEO Carbon CL-09-03 tasks, to which it is closely linked CL-09-03a (Integrated Global Carbon Observations (IGCO)) and CL-09-03b (Forest Carbon Tracking)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) To ensure the necessary coordination and integration of outcomes of these tasks, the task (CL-09-03c) will also serve as a vehicle for the purposes of coordinated reporting to CEOS and GE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&gt;&gt; Establishe CEOS Carbon Task Force as a vehicle for all CL-09-03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6440" y="355320"/>
            <a:ext cx="83185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Events in 2009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4680" y="1828800"/>
            <a:ext cx="9042120" cy="54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EOS SIT23, launch Carbon Task Force, 3-5 March 2009, Flor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O Carbon Task Workshop, 20-21 May 2009, Canber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EOS SIT24, 1st Carbon Task Force, 9-11 September 2009, Darmsta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O Carbon CoP kick-off, 14 September 2009, J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AF Plenary event (climate day) , 14 October 2009, Daeje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O Plenary &amp; Carbon CoP side meeting, 14 November 2009, Washington D.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GOS Symposium , 15 November 2009, Washington D.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3rd CEOS Plenary, 2-4 November 2009, Phu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P-15 side event, 7-18 December 2009, Copenh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&gt;&gt; CEOS Contribution to Greenhouse Gas Observ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Organized by EUMETSA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18400" y="4921200"/>
            <a:ext cx="2590560" cy="1197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175520" y="5045040"/>
            <a:ext cx="1117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CO-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38120" y="1438200"/>
            <a:ext cx="1974960" cy="1069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327320" y="2263680"/>
            <a:ext cx="2482560" cy="1101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027240" y="3354480"/>
            <a:ext cx="1438560" cy="1461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9040" y="212760"/>
            <a:ext cx="617076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Greenhouse Gases Monitoring from Space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 Current and future prospects 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2120" y="1054080"/>
            <a:ext cx="17445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qua AI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89360" y="3139920"/>
            <a:ext cx="115416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op IAS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93840" y="1960560"/>
            <a:ext cx="221616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viSat SCIAMACH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783400" y="7089840"/>
            <a:ext cx="1984320" cy="468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837400" y="7159680"/>
            <a:ext cx="187164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CROCA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6232680" y="5343480"/>
            <a:ext cx="547560" cy="106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3789360" y="4803840"/>
            <a:ext cx="2454120" cy="1430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92520" y="4749840"/>
            <a:ext cx="1227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OS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5021280" y="1270080"/>
            <a:ext cx="4788000" cy="2995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7746840" y="7089840"/>
            <a:ext cx="2413080" cy="531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797960" y="7159680"/>
            <a:ext cx="23176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rbonS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7716960" y="5683320"/>
            <a:ext cx="2444760" cy="1428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267760" y="5738760"/>
            <a:ext cx="18558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OSAT F/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3819600" y="7089840"/>
            <a:ext cx="1984320" cy="531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76840" y="7159680"/>
            <a:ext cx="18716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4 DI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2680" y="181080"/>
            <a:ext cx="9901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otential Solutions to the Atmospheric CO2 Gap Analysi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4680" y="1003320"/>
            <a:ext cx="88660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xtend existing missio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Utilize the full mission capacity of ENVISAT and GOSAT to make total column CO2 measurements in the lower troposphere at least until OCO or ASCENDS are launch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Future mission lifetim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Consider designing future space missions with more capacity for extended operations beyond 10 or 15-years. Many existing missions, designed for 3 to 5 years, have lasted much longer and provided significant contribu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djust new missio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Optimize time overlap of current and future missions by adjusting launch schedules or adjusting orbits to maximize coverage or sampl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dd new missio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Consider the design and approval of new CEOS missions focused on near-surface (lower troposphere) atmospheric CO2 measurements with a direct benefit to studies of sources and sinks and transport. The current plans only include NASA’s OCO-2 and ASCEN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dd new instrument capabilitie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sider adding CO2 channels to existing instruments for incremental increases in cost or complex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onstellatio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Consider a long-term plan utilizing multiple satellites to maximize data acquisition and secure the required data for science and policy-mak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6440" y="50760"/>
            <a:ext cx="83185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Events in 2010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4680" y="1320840"/>
            <a:ext cx="8894520" cy="63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SAF-16, 26-29 January 2010, Bangko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OSS-AP4, 10-12 March 2010, Bal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EOS ACC ,30-01 March 2010, Montri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EOS SIT25 &amp; 3rd Carbon Task Force, 12-14 April 2010, Toky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O Work Plan Symposium, 17-19 May, Pretor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rbon from Space Workshop &amp; ACC, 6-8 September 2010, Oxfo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EOS Plenary, 13-15 October 2010, Ri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O Ministerial Summit , 3-5 November 2010, Beij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P-16 side event, 29-10 December 2010, New Mex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