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AC9-EA34-47D3-8B96-BE272D16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EA0-93A4-4989-A42B-88885481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7A8-36B2-463B-B1AD-D0AD28AE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FE5-2BD2-4E07-83CB-0EB97730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10A-0910-4329-B0E3-C42EBC5B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9E1-2AC6-4A17-A67B-48EC6A7D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9FA-2EEC-40AB-BEA3-134CDF9F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58E-DED1-4F21-959D-D01941B3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896-361F-42E1-AE11-AF3D43DB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2E9-9F8D-4639-9F25-80FFD2B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F34-F771-4073-ACD6-4C48C35D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531-A15B-4CF6-A0C5-B79E4224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0A4C-73DB-4D33-A731-A50E415F4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CT requests to SIT 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2600" y="1828800"/>
            <a:ext cx="905508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key supporting systems to be clarified by releva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m resolution is the useful limit for FCT; coarser data is not use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SAR data for NDs WTW at 25m or bet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resolution radar (COSMO/TERRASAR) data for VS stud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optical &lt; 30m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dertaking for best efforts response to the expanded acquisition strategy fo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7 NDs repeated [mid-2010 campaign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us as new NDs: Peru, Colombia, DR Congo, Sumatra [mid-2010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REDD countries (UN-REDD and Worldbank’s FCPF) coverage very welcome [2011+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y of emissions estimates demons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ffort on new NDs should not compromise th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CT requests to SIT 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2600" y="1828800"/>
            <a:ext cx="90550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evelopment by the CEOS FCT participants of: A CEOS Strategy Report on continuity and coverage plans year by year for 2010 – 2015 using public good data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S &amp; SIT Chairs asked to convene a small study to consider institutional arrangements for management of the CEOS role in supporting FCT development an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by CEOS agencies within their national GEO frameworks in support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obal Forest Monitoring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itiative and making linkages to national funding processes for RE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FMN information event at GEOSE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efing Ministerial represent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CT requests to SIT 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2600" y="1828800"/>
            <a:ext cx="90550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est SIT Chair to seek clarification from GEO Ministerial TF and SEC regarding expectations on FCT for Ministerial show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