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FBE-98C0-474D-88C5-2080E4A8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E1A-4298-4F3C-B307-C928A5C3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0B1-D64E-4BCE-B544-1AD463D7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8F7-3CAB-4050-9719-584F8F6E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856-F088-49FD-A4BB-D4BEF3C0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29F-A34C-4E33-9E16-3132A668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677-E3A4-4224-B3E8-CA250381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B82-2160-4D6F-8D91-99D180B8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C42-992A-4A71-8601-DFCF1A52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BCC-9412-4E31-BD23-9D5B9E39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6D5-D74C-4647-AB33-5DB2E26B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C7B-28F3-44EC-972F-40068414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3CAE-66F0-4775-90DC-996582093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8880" y="4687920"/>
            <a:ext cx="75740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Poonthip Sirikulchayanon, Osamu Ochiai, Satomi Ab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JAXA and GIST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SIT-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Pacific Hotel Tokyo, April 13-14, 2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145960" y="1895400"/>
            <a:ext cx="527220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569"/>
                </a:solidFill>
                <a:latin typeface="Arial"/>
              </a:rPr>
              <a:t>Plan of the High Level CEOS Pub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9720" y="50760"/>
            <a:ext cx="9312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2569"/>
                </a:solidFill>
                <a:latin typeface="Arial"/>
              </a:rPr>
              <a:t>BackGroun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6840" y="1670040"/>
            <a:ext cx="9310680" cy="46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CEOS agreed on producing this publication referring to minutes of the 23rd Plenary item 29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JAXA and GISTDA will take a responsibility together as a co-lea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CEOS publication will distribute not only at GEO relevant but other key events as we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The publication must highlights key major tasks which CEOS have done in past yea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SBAs, VCs, WGs and others who may related to the key tasks will be asked for submitting their writing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6840" y="1630440"/>
            <a:ext cx="931068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Title of Document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CEOS Contribution to the Global Society” (tentativ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Objectiv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Appeal and Report the CEOS activiti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2569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to </a:t>
            </a:r>
            <a:r>
              <a:rPr b="0" lang="en-US" sz="2200" spc="-1" strike="noStrike" u="sng">
                <a:solidFill>
                  <a:srgbClr val="002569"/>
                </a:solidFill>
                <a:uFillTx/>
                <a:latin typeface="Arial"/>
              </a:rPr>
              <a:t>high level stake holders outside CEOS community</a:t>
            </a: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2569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(such as GEO Members, UNFCCC Part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Expected outco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To enhance stake holders’ recognition and understanding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the CEOS activities and significance of its contribution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Further outcomes: Supporting the each CEOS member activi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(e.g. budget requ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720" y="272880"/>
            <a:ext cx="9312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569"/>
                </a:solidFill>
                <a:latin typeface="Arial"/>
              </a:rPr>
              <a:t>General Information 1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6840" y="1533600"/>
            <a:ext cx="931068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Editing methodolog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Based on “CEOS Deliverables for 2009-2010” 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(developed last y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Priority and Highlight of this Publication will be in the items o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2569"/>
                </a:solidFill>
                <a:uFillTx/>
                <a:latin typeface="Arial"/>
              </a:rPr>
              <a:t>FCT, GHG from Space, Data Democracy and Climate Chang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and some other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Those items will be introduced as CEOS contributions with many pictures and very simple but politically impacted tex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How to release</a:t>
            </a:r>
            <a:r>
              <a:rPr b="0" lang="en-US" sz="2700" spc="-1" strike="noStrike">
                <a:solidFill>
                  <a:srgbClr val="00256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Delivered with the CEOS Chair formal letter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Ministers of each CEOS member country, GEO Principal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UNFCCC Partie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Distribution at the CEOS exhibition boo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GEO-VII Plenary and Ministerial Summit, COP-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272880"/>
            <a:ext cx="9312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569"/>
                </a:solidFill>
                <a:latin typeface="Arial"/>
              </a:rPr>
              <a:t>General Information 2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6840" y="1598760"/>
            <a:ext cx="93106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Pream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Societal Background): CEOS Cha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Editorial Background): SIT Cha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CEOS Plenary (Rio) Statement/Recommend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Substantial Deliver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FCT, GHG from Space, Data Democracy, Climate Chang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10 pages e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Few others: 2-3 pages e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Appendix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Appendix 1: CEOS History, Orga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Appendix 2: CEOS Virtual Constellations for G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Appendix 3: Technical Appendix – link to more source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256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Appendix 4: National Contributions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9720" y="272880"/>
            <a:ext cx="9312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569"/>
                </a:solidFill>
                <a:latin typeface="Arial"/>
              </a:rPr>
              <a:t>Contents of the Pub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272880"/>
            <a:ext cx="9312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569"/>
                </a:solidFill>
                <a:latin typeface="Arial"/>
              </a:rPr>
              <a:t>CEOS Deliverable for 2009-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18440" cy="7440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077240" y="4734000"/>
            <a:ext cx="281448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* These items will includ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rief backgrou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Purpose/sco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Tangible outcom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Associate pict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Sponsored/Implementing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d User Commun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nefit to End Us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7760" y="1644480"/>
            <a:ext cx="35146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 algn="ctr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Content Outline 1/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9720" y="272880"/>
            <a:ext cx="9312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569"/>
                </a:solidFill>
                <a:latin typeface="Arial"/>
              </a:rPr>
              <a:t>CEOS Deliverable for 2009-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78680" y="4786200"/>
            <a:ext cx="281448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* These items will includ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rief backgrou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Purpose/sco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Tangible outcom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Associate pict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Sponsored/Implementing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d User Commun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nefit to End Us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102440" cy="7250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7760" y="1644480"/>
            <a:ext cx="35146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 algn="ctr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Content Outline 2/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360" y="242640"/>
            <a:ext cx="9310680" cy="9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569"/>
                </a:solidFill>
                <a:latin typeface="Arial"/>
              </a:rPr>
              <a:t>Publication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68400" y="932040"/>
            <a:ext cx="8223120" cy="4282920"/>
            <a:chOff x="968400" y="932040"/>
            <a:chExt cx="8223120" cy="4282920"/>
          </a:xfrm>
        </p:grpSpPr>
        <p:sp>
          <p:nvSpPr>
            <p:cNvPr id="61" name=""/>
            <p:cNvSpPr/>
            <p:nvPr/>
          </p:nvSpPr>
          <p:spPr>
            <a:xfrm>
              <a:off x="968400" y="932040"/>
              <a:ext cx="4591080" cy="987120"/>
            </a:xfrm>
            <a:prstGeom prst="rect">
              <a:avLst/>
            </a:prstGeom>
            <a:solidFill>
              <a:srgbClr val="00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59480" y="932040"/>
              <a:ext cx="3632040" cy="987120"/>
            </a:xfrm>
            <a:prstGeom prst="rect">
              <a:avLst/>
            </a:prstGeom>
            <a:solidFill>
              <a:srgbClr val="00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68400" y="1919160"/>
              <a:ext cx="4591080" cy="824040"/>
            </a:xfrm>
            <a:prstGeom prst="rect">
              <a:avLst/>
            </a:prstGeom>
            <a:solidFill>
              <a:srgbClr val="a2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569"/>
                  </a:solidFill>
                  <a:latin typeface="Arial"/>
                </a:rPr>
                <a:t>Skel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59480" y="1919160"/>
              <a:ext cx="3632040" cy="824040"/>
            </a:xfrm>
            <a:prstGeom prst="rect">
              <a:avLst/>
            </a:prstGeom>
            <a:solidFill>
              <a:srgbClr val="a2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569"/>
                  </a:solidFill>
                  <a:latin typeface="Arial"/>
                </a:rPr>
                <a:t>agreed at SIT-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68400" y="2743200"/>
              <a:ext cx="4591080" cy="824040"/>
            </a:xfrm>
            <a:prstGeom prst="rect">
              <a:avLst/>
            </a:prstGeom>
            <a:solidFill>
              <a:srgbClr val="a2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569"/>
                  </a:solidFill>
                  <a:latin typeface="Arial"/>
                </a:rPr>
                <a:t>Each section arti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59480" y="2743200"/>
              <a:ext cx="3632040" cy="824040"/>
            </a:xfrm>
            <a:prstGeom prst="rect">
              <a:avLst/>
            </a:prstGeom>
            <a:solidFill>
              <a:srgbClr val="a2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569"/>
                  </a:solidFill>
                  <a:latin typeface="Arial"/>
                </a:rPr>
                <a:t>due at Mid of Ju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68400" y="3567240"/>
              <a:ext cx="4591080" cy="823680"/>
            </a:xfrm>
            <a:prstGeom prst="rect">
              <a:avLst/>
            </a:prstGeom>
            <a:solidFill>
              <a:srgbClr val="a2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569"/>
                  </a:solidFill>
                  <a:latin typeface="Arial"/>
                </a:rPr>
                <a:t>Ready to print the first ed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59480" y="3567240"/>
              <a:ext cx="3632040" cy="823680"/>
            </a:xfrm>
            <a:prstGeom prst="rect">
              <a:avLst/>
            </a:prstGeom>
            <a:solidFill>
              <a:srgbClr val="a2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569"/>
                  </a:solidFill>
                  <a:latin typeface="Arial"/>
                </a:rPr>
                <a:t>due at End of Septe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68400" y="4390920"/>
              <a:ext cx="4591080" cy="824040"/>
            </a:xfrm>
            <a:prstGeom prst="rect">
              <a:avLst/>
            </a:prstGeom>
            <a:solidFill>
              <a:srgbClr val="a2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569"/>
                  </a:solidFill>
                  <a:latin typeface="Arial"/>
                </a:rPr>
                <a:t>Insert the CEOS Plenary 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59480" y="4390920"/>
              <a:ext cx="3632040" cy="824040"/>
            </a:xfrm>
            <a:prstGeom prst="rect">
              <a:avLst/>
            </a:prstGeom>
            <a:solidFill>
              <a:srgbClr val="a2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569"/>
                  </a:solidFill>
                  <a:latin typeface="Arial"/>
                </a:rPr>
                <a:t>After endorsed by CEOS Plen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59480" y="932040"/>
              <a:ext cx="3632040" cy="0"/>
            </a:xfrm>
            <a:prstGeom prst="line">
              <a:avLst/>
            </a:prstGeom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59480" y="1919160"/>
              <a:ext cx="3632040" cy="0"/>
            </a:xfrm>
            <a:prstGeom prst="line">
              <a:avLst/>
            </a:prstGeom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59480" y="2743200"/>
              <a:ext cx="3632040" cy="0"/>
            </a:xfrm>
            <a:prstGeom prst="line">
              <a:avLst/>
            </a:prstGeom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9480" y="3567240"/>
              <a:ext cx="3632040" cy="0"/>
            </a:xfrm>
            <a:prstGeom prst="line">
              <a:avLst/>
            </a:prstGeom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59480" y="4390920"/>
              <a:ext cx="3632040" cy="0"/>
            </a:xfrm>
            <a:prstGeom prst="line">
              <a:avLst/>
            </a:prstGeom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59480" y="5214960"/>
              <a:ext cx="3632040" cy="0"/>
            </a:xfrm>
            <a:prstGeom prst="line">
              <a:avLst/>
            </a:prstGeom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68400" y="4390920"/>
              <a:ext cx="0" cy="824040"/>
            </a:xfrm>
            <a:prstGeom prst="line">
              <a:avLst/>
            </a:prstGeom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59480" y="4390920"/>
              <a:ext cx="0" cy="824040"/>
            </a:xfrm>
            <a:prstGeom prst="line">
              <a:avLst/>
            </a:prstGeom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191520" y="4390920"/>
              <a:ext cx="0" cy="824040"/>
            </a:xfrm>
            <a:prstGeom prst="line">
              <a:avLst/>
            </a:prstGeom>
            <a:ln cap="sq"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68400" y="932040"/>
              <a:ext cx="4591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68400" y="932040"/>
              <a:ext cx="45910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68400" y="932040"/>
              <a:ext cx="0" cy="9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68400" y="932040"/>
              <a:ext cx="0" cy="987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59480" y="932040"/>
              <a:ext cx="0" cy="9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59480" y="932040"/>
              <a:ext cx="0" cy="987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68400" y="1919160"/>
              <a:ext cx="4591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68400" y="1919160"/>
              <a:ext cx="4591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59480" y="932040"/>
              <a:ext cx="363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91520" y="932040"/>
              <a:ext cx="0" cy="9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91520" y="932040"/>
              <a:ext cx="0" cy="987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59480" y="1919160"/>
              <a:ext cx="363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68400" y="1919160"/>
              <a:ext cx="0" cy="8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68400" y="1919160"/>
              <a:ext cx="0" cy="824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59480" y="1919160"/>
              <a:ext cx="0" cy="8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59480" y="1919160"/>
              <a:ext cx="0" cy="824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8400" y="2743200"/>
              <a:ext cx="4591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68400" y="2743200"/>
              <a:ext cx="4591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191520" y="1919160"/>
              <a:ext cx="0" cy="8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191520" y="1919160"/>
              <a:ext cx="0" cy="824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59480" y="2743200"/>
              <a:ext cx="363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68400" y="2743200"/>
              <a:ext cx="0" cy="8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2743200"/>
              <a:ext cx="0" cy="824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9480" y="2743200"/>
              <a:ext cx="0" cy="8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59480" y="2743200"/>
              <a:ext cx="0" cy="824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8400" y="3567240"/>
              <a:ext cx="4591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68400" y="3567240"/>
              <a:ext cx="4591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191520" y="2743200"/>
              <a:ext cx="0" cy="8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91520" y="2743200"/>
              <a:ext cx="0" cy="824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59480" y="3567240"/>
              <a:ext cx="363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68400" y="3567240"/>
              <a:ext cx="0" cy="82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68400" y="3567240"/>
              <a:ext cx="0" cy="8236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59480" y="3567240"/>
              <a:ext cx="0" cy="82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59480" y="3567240"/>
              <a:ext cx="0" cy="8236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8400" y="4390920"/>
              <a:ext cx="4591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8400" y="4390920"/>
              <a:ext cx="4591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91520" y="3567240"/>
              <a:ext cx="0" cy="82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91520" y="3567240"/>
              <a:ext cx="0" cy="8236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59480" y="4390920"/>
              <a:ext cx="363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68400" y="439092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59480" y="439092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68400" y="5214960"/>
              <a:ext cx="4591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68400" y="5214960"/>
              <a:ext cx="45910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191520" y="439092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59480" y="5214960"/>
              <a:ext cx="363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9720" y="50760"/>
            <a:ext cx="9312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2569"/>
                </a:solidFill>
                <a:latin typeface="Arial"/>
              </a:rPr>
              <a:t>Role Sharing Ide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6840" y="1670040"/>
            <a:ext cx="931068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JAXA: Management of edition, collecting artic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GISTDA: Support Management of edition, collecting article, Printing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SEO: Support Designing the publi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569"/>
                </a:solidFill>
                <a:latin typeface="Arial"/>
              </a:rPr>
              <a:t>Members: contributing artic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