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022-699E-428B-B900-B7EFC392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2E1-2737-430A-B4BF-77DE320B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FE0-17DB-4B70-9506-2E2DD02A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139-3140-46D9-8109-E3F8C718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49D-AE98-487C-B837-C5728C7D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A9D-75FF-4874-B2C0-C0ADFB37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C19-1455-4381-943B-A4821164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283-0972-47A9-A2E9-4C9015B5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255-20A5-4E85-B17B-C264CE9E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4A8-6492-4F0B-8A2F-F2C908C7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717-8428-4712-8586-205CDFC9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280-A959-428A-ADA6-2C7D1CE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B782-2870-412F-A299-702D61D32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0240" y="1819080"/>
            <a:ext cx="854712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mate Coordination for CEOS Response to GCOS</a:t>
            </a:r>
            <a:br>
              <a:rPr sz="49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IT-25 Side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1480" y="4051080"/>
            <a:ext cx="80769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Arial"/>
              </a:rPr>
              <a:t>Mitch Goldberg, CEOS Climate Coordi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68520" y="5345280"/>
            <a:ext cx="7022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</a:rPr>
              <a:t>Monday 12th April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</a:rPr>
              <a:t>Tokyo, Ja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52880" y="6010200"/>
            <a:ext cx="96516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itiated Priority 2 Ac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90280" y="2082600"/>
            <a:ext cx="8970840" cy="45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ted 17 CEOS-GCOS climate actions based on readiness and critical mass from CEOS in working these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 to report on the progress of these tasks in the progress report to SBSTA, due September 20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rganizational groups where CEOS agencies are member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52240" y="196056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OPE-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G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CR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Working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96960" y="6137280"/>
            <a:ext cx="6805800" cy="425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50960" y="6194520"/>
            <a:ext cx="670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apture these activities in CEOS Progres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 CEOS Response to GCOS Nee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" y="-34920"/>
            <a:ext cx="905544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Satellite-based ECV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76440" y="1946160"/>
            <a:ext cx="8902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CEOS Response to GCOS-IP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0280" y="1996560"/>
            <a:ext cx="8970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ood opportunity for a new CEOS response with actionable 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actions can supersede the existing 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2006 CEOS response as a templ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imate level of effort and completion ti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gin with development of actionable 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600" y="1298520"/>
            <a:ext cx="956304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ied domain leads (atmos, ocean, lan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ign working groups, constellations, and experts to develop actions responding to the GCOS IP10 ac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on must be actionable with resources identified. (see following examp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oups need to reach into the expert community, including authors contributing to the original CEO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EOS Response will be made available for com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omain Lea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2600" y="1828800"/>
            <a:ext cx="9055080" cy="36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osphere -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oldber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ckman, Zehner, Osamu, Wilson, 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ean –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we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Digiacomo,Lindstrom, Wilson, Cou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restrial –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sisz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ecil, Ho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/Val –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ens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Lecom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- Pako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EOS Virtual Constella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OS Response supported by the 6 CEOS Virtual Constellations .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nd Surface Imag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mospheric Composi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cean Surface Topograp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cean Col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cean Surface Vector Win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304920"/>
            <a:ext cx="96472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OS Working Groups Support to G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2600" y="1574640"/>
            <a:ext cx="4566960" cy="58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orking Group on Cal/V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 Data Quality Assurance Guidelin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rctic Dome C calibration campa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ed Dome C as excellent satellite intercalibration and long term monitoring s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SeaWiFS stable lunar calibration to AVHRR and other sensors at Dome 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orking Group on Information Systems and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 portal for easy access to climate diagno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orking Group on Edu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s/training for data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07200" y="4560840"/>
            <a:ext cx="4340160" cy="2509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756400" y="1692360"/>
            <a:ext cx="36637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800" y="401760"/>
            <a:ext cx="891396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eeting Objectiv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2600" y="1828800"/>
            <a:ext cx="905508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) Overall strategy discussion to develop the CEOS response to the new GCOS-IP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) Development of the timeline to provide updates to the CEOS Progress Report to SBSTA, which will include a section on the highlights of the new CEOS response.  This is due September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) Development of the timeline to produce the final CEOS response document  (Spring 2011??)   The official GCOS IP does not come out until August 2010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) Report from each lead on status of development of new CEOS actions in response to the new GCOS IP action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2280" y="0"/>
            <a:ext cx="9124920" cy="74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48480" y="2050920"/>
            <a:ext cx="5889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Arial"/>
              </a:rPr>
              <a:t>A.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70600" y="2050920"/>
            <a:ext cx="41904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54880" y="1631880"/>
            <a:ext cx="41904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22280"/>
            <a:ext cx="101599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5640" y="750960"/>
            <a:ext cx="918864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8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3600" y="254160"/>
            <a:ext cx="8172720" cy="71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2280" y="2708280"/>
            <a:ext cx="9018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2280" y="73080"/>
            <a:ext cx="9315360" cy="74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2240" y="55440"/>
            <a:ext cx="905508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18 - Implement and evaluate a satellite climate calibration mission, e.g. CLARRE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52240" y="1574640"/>
            <a:ext cx="90550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 of Cont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ibutors: </a:t>
            </a:r>
            <a:r>
              <a:rPr b="0" lang="en-US" sz="2200" spc="-1" strike="noStrike">
                <a:solidFill>
                  <a:srgbClr val="d3fbfd"/>
                </a:solidFill>
                <a:latin typeface="Arial"/>
              </a:rPr>
              <a:t>NASA, NOAA, WGCV (Nigel Fo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requirements (target (desired) and plan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OS Action with current and planned resourc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sede any existing CEOS climate ac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OS Action with additional resourc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significance of the shortfall without additional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44080" y="1996920"/>
            <a:ext cx="71089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s from domain le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218880"/>
            <a:ext cx="905508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wo main tasks: Task 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6480" y="1488960"/>
            <a:ext cx="9055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OS Progress Report to UNFCCC SBSTA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highlights of CEOS climate actions, including 17 priority 2 actions which were started last yea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include Forest Carbon Trac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 “movie trailer” of the new CEOS respon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rst draft – June 3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nal review by CEOS – July 3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l draft for review August 3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nt to UNFCCC – September 3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51240" y="6440400"/>
            <a:ext cx="255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(for discus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2600" y="2082960"/>
            <a:ext cx="905508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OS Response to new GCOS-IP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OS provided final review comments to GCOS-IP Feb 201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COS-IP released August 20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OS Response First Draft November 2010 (INP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Draft January 2010 (CEOS planning meeting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l Draft for CEOS Climate Advisory Group February 20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lease in May 2010 (CEOS SI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1240" y="6440400"/>
            <a:ext cx="255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(for discus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EOS response to GCO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2600" y="1574640"/>
            <a:ext cx="905508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OS climate actions responds to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GCOS Implementation Plans (IP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COS IP provides the requirements for climate quality observations, products and cal/v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GCOS-92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GCOS IP released in 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GCOS-107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2005 GCOS Satellite Supplemen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ontains the attributes associated with satellite-based climate produ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New GCOS IP for 201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233960" y="161280"/>
            <a:ext cx="56815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0000"/>
                </a:solidFill>
                <a:latin typeface="Arial"/>
              </a:rPr>
              <a:t>Two climate action paths</a:t>
            </a:r>
            <a:r>
              <a:rPr b="0" lang="en-US" sz="31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8120" y="2496960"/>
            <a:ext cx="339840" cy="46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10040" y="2496960"/>
            <a:ext cx="339840" cy="46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311960" y="2496960"/>
            <a:ext cx="339840" cy="46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264200" y="5873760"/>
            <a:ext cx="1631880" cy="42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2760" y="4260960"/>
            <a:ext cx="339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OS IP for GEOSS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400" y="4260960"/>
            <a:ext cx="340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S 10-year plan in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2880" y="1058760"/>
            <a:ext cx="245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respons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24600" y="1058760"/>
            <a:ext cx="211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COS-107 in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05120" y="1058760"/>
            <a:ext cx="1987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COS-92 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80" y="1058760"/>
            <a:ext cx="1989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COS-82 in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937120" cy="7620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433600" y="0"/>
            <a:ext cx="5505480" cy="7620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100320" y="0"/>
            <a:ext cx="5515200" cy="762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4667400" y="0"/>
            <a:ext cx="5492520" cy="762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22280" y="1270080"/>
            <a:ext cx="3875040" cy="5419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5270400" y="1036800"/>
            <a:ext cx="432936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5872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OS 59 Climate Actions in response to GCOS-92 (IP2004) and GCOS-107 (satellite supplement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36480" y="2166840"/>
            <a:ext cx="897120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 plan adopted by CEOS in Sep. 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all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ing continuity of climate-relevant satellite measurements (13 action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ing a systematic approach to generating fundamental climate data records (FCDRs) (11 action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rving climate data records (4 action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ing access to climate data products (10 action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inating international communities and interaction with users (10 actions);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ing future measurement needs (11 action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EOS UNFCCC 2008 Repor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90280" y="1996920"/>
            <a:ext cx="897084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tatus of the Priority 1 actions and plans for new tasks were detailed in the CEOS UNFCCC repor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updated progress report was presented to the UNFCCC Subsidiary Body on Scientific and Technological Advice (SBSTA) at its 29th session in December 2008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240" y="304920"/>
            <a:ext cx="79549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FCCC SBSTA Respons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ncourage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OS to continue coordinating and supporting the implementation of the satellite component of the Global Climate Observing System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BSTA invited CEOS to report at its thirty-third session on progress made in its efforts to meet the relevant needs of the Conven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BSTA also interested in terrestrial domain, particularly forest carbon track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