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466-5300-446F-9A5D-21A9F1D2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CDF-AF18-4D0C-A8AE-8AF10C43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714-C569-493C-86A2-1CD20F8E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96F-A917-4E13-9EB6-9BE45606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F07-F518-420D-9893-BFCD6D8B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F10-BDA4-4638-88E0-08FD970A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558-6F10-44CA-BFA1-A717573C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8AD-8B3D-4090-B603-7FC7BFF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C22-6628-4710-8488-9D1F4475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0A6-4AF5-4026-A362-ECDB69A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367-5B6B-449B-8F7E-C4B4D361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FF6-2E8C-4B0D-9C77-C4816A9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D7B2-9BA3-458B-BC82-773B9A2B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CEOS Implementation Plan Activity Statu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van Petiteville (CE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European Space Ag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1832040" cy="66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0640" y="6683400"/>
            <a:ext cx="568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-25 meeting, Tokyo (Japan), April 13-14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010 CEOS Actions Wor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6320" y="2082960"/>
            <a:ext cx="89694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EOS – GEO Secretariat coordination mee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Geneva, Dec. 23-24, 2009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l for proposals of CEOS Ac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ent to CEO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Jan. 4, 201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2010 CEOS Actions Worksho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Arlington, Jan. 25-27, 201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2010 CEOS Actions Worksho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06400" y="1996920"/>
            <a:ext cx="8547120" cy="51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5 Participants: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SBAs Coordinators, Constellations Leads, WGs Chairs, CEOS Chair rep, the CEOS SIT team, SEO and CE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n workshop outcomes: 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Definition of action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in support of updated GEO 2009-2011 WP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about </a:t>
            </a:r>
            <a:r>
              <a:rPr b="0" lang="en-US" sz="2700" spc="-1" strike="noStrike">
                <a:solidFill>
                  <a:srgbClr val="0066ff"/>
                </a:solidFill>
                <a:latin typeface="Arial"/>
              </a:rPr>
              <a:t>20 new CEOS Actions</a:t>
            </a: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consolidation of the existing </a:t>
            </a:r>
            <a:r>
              <a:rPr b="0" lang="en-US" sz="2700" spc="-1" strike="noStrike">
                <a:solidFill>
                  <a:srgbClr val="0066ff"/>
                </a:solidFill>
                <a:latin typeface="Arial"/>
              </a:rPr>
              <a:t>2009 CEOS actions</a:t>
            </a: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particula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IT-24-7(CEOS Action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n malari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have been merged – CLO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CEOS Ac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2680" y="1699920"/>
            <a:ext cx="9478800" cy="18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respect to the 2009 workshop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About 50 Actions (decreased by 40%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Actions better formulated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51280" y="3639960"/>
            <a:ext cx="5091120" cy="1791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03840" y="3311640"/>
            <a:ext cx="2276640" cy="22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4640" y="5861160"/>
            <a:ext cx="9477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very different nature and resources required for their execution vary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CEOS Actions and GEO Task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68000" y="1996560"/>
            <a:ext cx="913932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 2010, CEOS will conduct activities related to 25 GEO Tas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0 % of all GEO Task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nsversal: 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architecture, data, capacity build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All SBAs except biodiversity and weath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Action Priority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ority scheme simplified w.r.t. previous yea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Cat. 1 or 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p priority (“Cat. 1”) if 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related to both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GEO Tasks co-led by CEOS</a:t>
            </a: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CEOS list of major deliver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critical* for the CEOS contribution to GEO and 2010 GEO Ministerial (showcases and demo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bout 30 “cat. 1” and 20 “cat. 2” Action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640" y="6683400"/>
            <a:ext cx="8574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: delay in its execution could have negative consequences for the timely CEOS support to GEO in 2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Some CEOS Priorit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mong the top priority activities for CEOS in 201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Forest Carbon Tracking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lobal Monitoring of Greenhouse Gases from Spa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ata Democrac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Climate Chang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” (e.g. response to GCOS IP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of CEOS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82680" y="2082960"/>
            <a:ext cx="939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of Cat 1 actions relies on activities either on-going or already planned by the CEOS Agencie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ever the </a:t>
            </a: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level of efforts (financial, human, ..) overall is considerable</a:t>
            </a:r>
            <a:r>
              <a:rPr b="0" lang="en-US" sz="27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7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distributed equally between CEOS Agenc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Actions are heterogeneou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n terms of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ncial implications, resources required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tu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e.g. political, technical, scientific, ..)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n-going or future activities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Families of CEOS Ac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14200" y="1996920"/>
            <a:ext cx="97315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 types of Cat 1 actions may be distinguish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ata provis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incl. data reprocessing),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ata acce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incl. data interoperability, user porta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Scientific and Calibration/Valid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Programmati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planning of future missions/sensors, requirements/gaps analysis, funding, promotio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Capacity buil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6800" y="295200"/>
            <a:ext cx="9166320" cy="129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57280" y="360000"/>
            <a:ext cx="904536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Typical New CEOS Ac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1680" y="1830240"/>
            <a:ext cx="9154800" cy="870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27120" y="1895400"/>
            <a:ext cx="9043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 TRMM operations through 2010 to support GPM Preparatory Phase (Precipitation Constell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71680" y="2994120"/>
            <a:ext cx="9154800" cy="509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27120" y="3056040"/>
            <a:ext cx="90439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ing Software Tools in developing countries (Data Democrac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71680" y="3798720"/>
            <a:ext cx="9154800" cy="1133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27120" y="3860640"/>
            <a:ext cx="9043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son of Jason Microwave radiometer measurements with AMSU on NOAA and MetOP satellites to assess their stability and consistency (sensor Inter-calibratio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71680" y="6413400"/>
            <a:ext cx="915480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27120" y="6483240"/>
            <a:ext cx="90439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sion of optical and SAR satellite data products (FCT 2010 Data Requir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571680" y="5164200"/>
            <a:ext cx="9154800" cy="901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7120" y="5226120"/>
            <a:ext cx="9043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f quality of “surface solar irradiance” product using few months of GOES data and ground measurement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317520" y="1501920"/>
            <a:ext cx="2508120" cy="1282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1940040"/>
            <a:ext cx="2376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programmat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263520" y="2603520"/>
            <a:ext cx="2997360" cy="142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4000" y="3112920"/>
            <a:ext cx="2876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capacity buil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507960" y="4073400"/>
            <a:ext cx="3133800" cy="1482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57280" y="4608360"/>
            <a:ext cx="3030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Scientific, cal / v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158760" y="5925960"/>
            <a:ext cx="3281400" cy="1695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7920" y="6458040"/>
            <a:ext cx="30463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Provision of data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data ac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10 CEOS Actions Worksh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0440" y="1798560"/>
            <a:ext cx="9620280" cy="16210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Areas of Attention (1/3)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44080" y="1828800"/>
            <a:ext cx="93632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tions by CEOS Agencies are needed to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involve more Agencies / Mission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better coordinate the plans of future mission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 fill potential data gaps or to improve the accuracy of produc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Scatterometer dat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on-to-fly scatterometers: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OA/CNSA'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Y-2A (launch in 2011),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oshydromet/Roscosmos'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teor-M3 (2012),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NES/SOA/CNSA'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FOSat (2013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Radar altimete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on-to-fly altimeters: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SA'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ryosat-2 (April 2010),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SRO/CNES'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ARAL/AltiKa (later in 2010), and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OA/CNSA'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Y-2A (2011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Areas of Attention (2/3)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44080" y="1828800"/>
            <a:ext cx="93632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Atmospheric composition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limate-chemistry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gaps in the UT/LS and stratosphere after the end of Aura, Envisat, and SciSAT-1 mission lifetime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1) Restore OMPS Limb Sensor on NPOESS. 2) Re-fly SciSat with SAGE-III for stratospheric aerosols.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ir Quality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Europe, NASA, KARI, JAXA to coordinate their missions to set up a GEO Air Quality constellation with at least a 1-year overlap between the mi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Areas of Attention (3/3)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44080" y="1828800"/>
            <a:ext cx="93632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jor coordination efforts needed in the coming months f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paration of CEOS response to GCOS IP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OS response to 2010 FCT requir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bined use of GHG measurements from multiple GHG miss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Next Steps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1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location of resources by CEOS Agencies top manag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tag up telecons, before SIT-25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EOS Agencies to address the areas of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ecution of CEOS Actions according to milestones &amp; deliverab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icular attention when related to major events like GEO Ministerial, SBSTA, etc.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Next Steps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2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52600" y="1828440"/>
            <a:ext cx="928512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EOS IP v3 to be update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May 201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nsition of CEOS Action Management from Excel table to On-line System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May 201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response to action SIT-24-13 (still O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chnical Worksho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Sep. 2010, date &amp; location TB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assess readiness of CEOS Activities wrt major 2010 events GEO Plenary &amp; GEO Ministerial, COP-16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2011 CEOS Actions workshop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(Jan. 2011, date &amp; location TB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311640" y="0"/>
            <a:ext cx="6850080" cy="7345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4440" y="1139760"/>
            <a:ext cx="2790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Arial"/>
              </a:rPr>
              <a:t>CEOS Actions</a:t>
            </a:r>
            <a:br>
              <a:rPr sz="4900"/>
            </a:br>
            <a:br>
              <a:rPr sz="4900"/>
            </a:b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On-line Management Syste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397320" y="200160"/>
            <a:ext cx="660384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fficulty to monitor the progress of activities because of lack of report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OS co-lead of 17 GEO Tasks and Contributor to several GEO Task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need to obtain concrete results in a timely mann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ificant support needed from all CEOS Agenc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2120" y="127080"/>
            <a:ext cx="4635720" cy="3186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65240" y="3452760"/>
            <a:ext cx="4136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jor 2010 events are not that far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14680" y="846000"/>
            <a:ext cx="5302080" cy="4054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38240" y="5084640"/>
            <a:ext cx="501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ill some issues to solv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152880" y="1809720"/>
            <a:ext cx="6404040" cy="4784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62320" y="6683400"/>
            <a:ext cx="6394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ybe my perception of risks is not shared by every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600" y="305928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560520"/>
            <a:ext cx="3714840" cy="7059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05280" y="420840"/>
            <a:ext cx="4227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hank you !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095560" y="1957320"/>
            <a:ext cx="4911840" cy="2827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649680" y="2122560"/>
            <a:ext cx="318132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Let’s get to work Folks !!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CEOS Support to GEO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(1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4200" y="1996920"/>
            <a:ext cx="9901440" cy="51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fold suppor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Coordination rol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OS is Point of Contact for 13 GEO Tasks (out of 17 co-led by CEO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Support to GEO group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 Committees, adhoc GEO groups (e.g. Target Team), GEO Task Tea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Specific activities in contribution to GEO Task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either as co-Lead or as Contributo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CEOS Support to GEO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(2/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52600" y="2421000"/>
            <a:ext cx="91389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ong involvement of CEOS Support Grou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817e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817e"/>
                </a:solidFill>
                <a:latin typeface="Arial"/>
              </a:rPr>
              <a:t>3 Working Groups, 6 Virtual Constellation teams, 8 CEOS SBA teams of experts, SE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 resources from CEOS Ag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600" y="355320"/>
            <a:ext cx="45734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CEOS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56240" y="5322960"/>
            <a:ext cx="3905280" cy="2139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556240" y="200160"/>
            <a:ext cx="4149720" cy="482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92200" y="1809720"/>
            <a:ext cx="39067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GEO Tasks Led by CEOS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06400" y="2505240"/>
            <a:ext cx="85471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 Tasks from GEO 2009-2011 WP led / co-led by C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 out of 17 GEO Tasks are coordinated by the same CEOS P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1240" y="-219600"/>
            <a:ext cx="90550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3399"/>
                </a:solidFill>
                <a:latin typeface="Arial"/>
              </a:rPr>
              <a:t>List of Tasks + PO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8120" y="2624040"/>
            <a:ext cx="1271880" cy="1069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6920" y="2741760"/>
            <a:ext cx="1198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nly CEOS PO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920" y="3267000"/>
            <a:ext cx="1282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oth CEOS &amp; GEO PO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031840" y="825480"/>
            <a:ext cx="799164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746840" y="7331040"/>
            <a:ext cx="3129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24080" cy="593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280" y="579600"/>
            <a:ext cx="97934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EOS Activities in Support to G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9720" y="4295880"/>
            <a:ext cx="8764560" cy="190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86360" y="3774960"/>
            <a:ext cx="41385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CEOS GEO Actions 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9720" y="6243480"/>
            <a:ext cx="8764560" cy="890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94160" y="7162920"/>
            <a:ext cx="3500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CEOS GCOS 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36120" y="1828440"/>
            <a:ext cx="922500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activities related to 2009-2011 GEO Task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sources for definition of 2009-2011 CEOS activities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GEO task sheet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particular where CEOS is PO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Proposals from CEOS Membe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Jan. 10 - questionnai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Virtual Constellations plans of activ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Continuation of open CEOS Actions defined in 200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CEOS response to GCOS nee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