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3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0EDCF4-09F1-4631-A7D7-8BEB6E7BC8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5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EC5D63-6534-4758-9E56-A9032A0CC9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145042-3AB3-417C-9673-4B09684A7046}" type="slidenum">
              <a:rPr b="0" lang="de-DE" sz="12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F08A37-FB43-4229-821D-CACB445C85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8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FA7891-D7A6-43BA-84B3-DD8E8E81C4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2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3342BC-F3A1-4B80-8D50-B48F2C9C2D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6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C1BA22-9C5F-4797-ABC3-BD8D091CB2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0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C320E2-FB4F-46B1-B193-E25CEC102D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4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05662E-3405-4550-993E-FA2448460E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8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6DD884-9BDB-4FE1-9A80-83E65A22EE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92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2B574-1BBA-4B23-BB5E-A3B912155F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A01E4-64C1-4457-9683-4B3899D286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F9190-79E0-4DB2-9515-9149A800E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7CA03-F2C8-4A46-8658-D25484177C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4A300-1286-43AE-B342-49B5B962AB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E1890-8035-4911-B1E2-DDE6AA19BED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16DAB-EB3D-48AB-AE36-B7E3FDE6BF4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47F07-4D5D-477A-BF6C-A59B873948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454E5-3DFE-473E-AEA6-2B448674E8A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ADEA1-BE31-499E-9D0E-FDFD392E33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FFF1B-042B-430B-86F5-AE87D966DF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D5EB9-B736-4489-AFC8-328C426B851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20593-2907-454C-91B4-F6F71EAB867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B915B-EBF8-45AE-962D-ACD35DCF3E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17EFB-F254-4222-B1BC-7CBB7C2ADD4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44D01-7B3C-4B27-A5D9-9F3A2CA3A6F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86DA6-D069-4517-BF68-B30C344DFF5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9CAB3-A770-4541-98BF-5CB6DC1896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6714F-76CD-40F1-B4AE-A027C5A2EC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8778F-10F3-4A2A-85F6-D572634541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96445-8B4A-4217-A429-209436FCCF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7B55F-E23C-44EF-948F-E13015DDE0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0C2FE-A71E-4E90-BF06-3FE8094710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DD9BF-014E-41AE-91DA-2B4EDC3665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72720" y="558720"/>
            <a:ext cx="176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 11-12,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9BE610-9D30-41BE-8AB5-7D493E2A9791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7910640" y="6494400"/>
            <a:ext cx="11728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7B45A20A-8D6D-4FAC-B2C6-86B65EFB1C51}" type="slidenum">
              <a:rPr b="0" lang="de-DE" sz="12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3244680"/>
            <a:ext cx="914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" name="Rectangle 36"/>
          <p:cNvSpPr/>
          <p:nvPr/>
        </p:nvSpPr>
        <p:spPr>
          <a:xfrm>
            <a:off x="324360" y="6494400"/>
            <a:ext cx="7513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1335"/>
                </a:solidFill>
                <a:latin typeface="Century Gothic"/>
              </a:rPr>
              <a:t>CEOS SIT Technical Workshop |Caltech, Pasadena, California, USA| 11-12 September 2013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7711920" y="4881600"/>
            <a:ext cx="143208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72720" y="558720"/>
            <a:ext cx="176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 11-12,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86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725940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1D1F43-E5C3-4733-8FA6-46708FBE3D65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033720" y="2722680"/>
            <a:ext cx="5873760" cy="10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CEOS Support to Further Key GEO Priority Initiatives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Kazuo UMEZAWA, JAXA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771640" y="666720"/>
            <a:ext cx="6129360" cy="18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OSS Water Strategy Repo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he GEO Water Strategy  Repor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569"/>
                </a:solidFill>
                <a:latin typeface="Arial"/>
              </a:rPr>
              <a:t>The latest version of the report is available at: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 u="sng">
                <a:solidFill>
                  <a:srgbClr val="0c62ff"/>
                </a:solidFill>
                <a:uFillTx/>
                <a:latin typeface="Arial"/>
              </a:rPr>
              <a:t>ftp://ftp.earthobservations.org/TEMP/Water</a:t>
            </a:r>
            <a:r>
              <a:rPr b="1" lang="en-CA" sz="2400" spc="-1" strike="noStrike">
                <a:solidFill>
                  <a:srgbClr val="002569"/>
                </a:solidFill>
                <a:latin typeface="Arial"/>
              </a:rPr>
              <a:t>/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569"/>
                </a:solidFill>
                <a:latin typeface="Arial"/>
              </a:rPr>
              <a:t>under the name “August 31 version of the GEOSS WSR for posting.”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569"/>
                </a:solidFill>
                <a:latin typeface="Arial"/>
              </a:rPr>
              <a:t>This version is open for comment until the third week in September.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2760120" y="3173400"/>
            <a:ext cx="315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4800" spc="-1" strike="noStrike">
                <a:solidFill>
                  <a:srgbClr val="002569"/>
                </a:solidFill>
                <a:latin typeface="Brush Script MT"/>
              </a:rPr>
              <a:t>Thank you</a:t>
            </a:r>
            <a:endParaRPr b="0" lang="en-US" sz="48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3"/>
          <p:cNvSpPr/>
          <p:nvPr/>
        </p:nvSpPr>
        <p:spPr>
          <a:xfrm>
            <a:off x="441360" y="1379520"/>
            <a:ext cx="8353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002569"/>
                </a:solidFill>
                <a:uFillTx/>
                <a:latin typeface="Arial"/>
              </a:rPr>
              <a:t>Scope of the report</a:t>
            </a:r>
            <a:r>
              <a:rPr b="1" lang="en-US" sz="2000" spc="-1" strike="noStrike">
                <a:solidFill>
                  <a:srgbClr val="002569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 The revised report will cover the contributions of satellite data, in-situ data, modeling capabilities and the interpretation of data to meet the needs of users.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002569"/>
                </a:solidFill>
                <a:uFillTx/>
                <a:latin typeface="Arial"/>
              </a:rPr>
              <a:t>Who will read the report</a:t>
            </a:r>
            <a:r>
              <a:rPr b="1" lang="en-US" sz="2000" spc="-1" strike="noStrike">
                <a:solidFill>
                  <a:srgbClr val="002569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 The report is being written for GEO members, CEOS and the space agencies, national agencies responsible for in-situ data, producers and users of water information, and the water cycle scientific community, 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002569"/>
                </a:solidFill>
                <a:uFillTx/>
                <a:latin typeface="Arial"/>
              </a:rPr>
              <a:t>Changes since 2004: </a:t>
            </a:r>
            <a:r>
              <a:rPr b="0" lang="en-US" sz="2000" spc="-1" strike="noStrike">
                <a:solidFill>
                  <a:srgbClr val="002569"/>
                </a:solidFill>
                <a:latin typeface="Arial"/>
              </a:rPr>
              <a:t>In 2005</a:t>
            </a:r>
            <a:r>
              <a:rPr b="0" lang="en-CA" sz="2000" spc="-1" strike="noStrike">
                <a:solidFill>
                  <a:srgbClr val="002569"/>
                </a:solidFill>
                <a:latin typeface="Arial"/>
              </a:rPr>
              <a:t>, many IGOS-P water cycle theme activities became part of the GEO water task.  The current water task is directed at the following target:</a:t>
            </a: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41360" y="5263560"/>
            <a:ext cx="8353440" cy="1434600"/>
          </a:xfrm>
          <a:prstGeom prst="rect">
            <a:avLst/>
          </a:prstGeom>
          <a:solidFill>
            <a:srgbClr val="ffffff">
              <a:alpha val="75000"/>
            </a:srgbClr>
          </a:solidFill>
          <a:ln w="25560">
            <a:solidFill>
              <a:srgbClr val="002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2569"/>
                </a:solidFill>
                <a:latin typeface="Arial"/>
                <a:ea typeface="SimSun"/>
              </a:rPr>
              <a:t>By 2015, p</a:t>
            </a:r>
            <a:r>
              <a:rPr b="0" lang="en-US" sz="2200" spc="-1" strike="noStrike">
                <a:solidFill>
                  <a:srgbClr val="002569"/>
                </a:solidFill>
                <a:latin typeface="Arial"/>
                <a:ea typeface="SimSun"/>
              </a:rPr>
              <a:t>roduce comprehensive sets of data and information products to support decision-making for efficient management of the world's water resources, based on coordinated, sustained observations of the water cycle on multiple scales.</a:t>
            </a: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he GEO Water Strategy  Repo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189709-8BF6-4348-85A9-46B85E2F594D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2360" y="101160"/>
            <a:ext cx="7032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rpose of the Repo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6900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o update and synthesize the available information about the status of water cycle observations and information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systems </a:t>
            </a: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since </a:t>
            </a:r>
            <a:r>
              <a:rPr b="1" lang="en-US" sz="2400" spc="-1" strike="noStrike" u="sng">
                <a:solidFill>
                  <a:srgbClr val="002569"/>
                </a:solidFill>
                <a:uFillTx/>
                <a:latin typeface="Arial"/>
              </a:rPr>
              <a:t>the IGWCO report of 2004</a:t>
            </a: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o describe a strategy for water cycle observations and information that will enable the short- term GEO objectives and the long-term community goals to be achieved. 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o provide CEOS, GEO, WMO and other agencies with guidance about strategies for water cycle observations, information systems, interoperability, capacity building, etc.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o propose major initiatives that will advance this overall concept. 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DFABE1-3D59-48DF-8919-2FBE84572716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52360" y="101160"/>
            <a:ext cx="7032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 of 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6900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499"/>
              </a:spcBef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2569"/>
                </a:solidFill>
                <a:latin typeface="Arial"/>
              </a:rPr>
              <a:t>Introduction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2569"/>
                </a:solidFill>
                <a:latin typeface="Arial"/>
              </a:rPr>
              <a:t>Background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2569"/>
                </a:solidFill>
                <a:latin typeface="Arial"/>
              </a:rPr>
              <a:t>User Needs for Water Data and User Engagement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2569"/>
                </a:solidFill>
                <a:latin typeface="Arial"/>
              </a:rPr>
              <a:t>Overview of observational systems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xisting and Planned Observational Systems for Priority Water Cycle Variables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2569"/>
                </a:solidFill>
                <a:latin typeface="Arial"/>
              </a:rPr>
              <a:t>Existing and Planned Observational Systems for Priority Water Quality Variables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2569"/>
                </a:solidFill>
                <a:latin typeface="Arial"/>
              </a:rPr>
              <a:t>Quality, Management, and Integration of Water Cycle Data: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2569"/>
                </a:solidFill>
                <a:latin typeface="Arial"/>
              </a:rPr>
              <a:t>Water Cycle Integration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2569"/>
                </a:solidFill>
                <a:latin typeface="Arial"/>
              </a:rPr>
              <a:t>Capacity Building and Regional Perspectives of water cycle information applications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2569"/>
                </a:solidFill>
                <a:latin typeface="Arial"/>
              </a:rPr>
              <a:t>Linkages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2569"/>
                </a:solidFill>
                <a:latin typeface="Arial"/>
              </a:rPr>
              <a:t>Institutional and Funding Issues  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256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2569"/>
                </a:solidFill>
                <a:latin typeface="Arial"/>
              </a:rPr>
              <a:t>Towards an Implementation Plan </a:t>
            </a:r>
            <a:endParaRPr b="1" lang="en-US" sz="2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569"/>
                </a:solidFill>
                <a:uFillTx/>
                <a:latin typeface="Arial"/>
              </a:rPr>
              <a:t>2012: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v. 30 and Dec. 1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 : North American Workshop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cember 3 - 5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 : AGU Science session and town hall meeting dealing with the North American Workshop on the GEO Water Strategy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cember 31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 : Revised draft distributed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569"/>
                </a:solidFill>
                <a:uFillTx/>
                <a:latin typeface="Arial"/>
              </a:rPr>
              <a:t>2013</a:t>
            </a: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ebruary 23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 : Draft report distributed to the writing team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ebruary 26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 : Water Strategy Session at the Asia-Pacific GEO Symposium in Ahmedabad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ECD2EF-F795-4756-B7D7-5AA140BF4A16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2052360" y="101160"/>
            <a:ext cx="7032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ccomplishments since the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2012 Plena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569"/>
                </a:solidFill>
                <a:uFillTx/>
                <a:latin typeface="Arial"/>
              </a:rPr>
              <a:t>2013</a:t>
            </a: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rch </a:t>
            </a:r>
            <a:r>
              <a:rPr b="1" lang="en-US" sz="2400" spc="-1" strike="noStrike">
                <a:solidFill>
                  <a:srgbClr val="001335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Presentation and summary document sent to CEOS SIT and GEO Executive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April 11 </a:t>
            </a:r>
            <a:r>
              <a:rPr b="1" lang="en-CA" sz="2400" spc="-1" strike="noStrike">
                <a:solidFill>
                  <a:srgbClr val="001335"/>
                </a:solidFill>
                <a:latin typeface="Arial"/>
              </a:rPr>
              <a:t>: </a:t>
            </a:r>
            <a:r>
              <a:rPr b="1" lang="en-CA" sz="2200" spc="-1" strike="noStrike">
                <a:solidFill>
                  <a:srgbClr val="002569"/>
                </a:solidFill>
                <a:latin typeface="Arial"/>
              </a:rPr>
              <a:t>EGU Town Hall on the GEO Water Strategy  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April 17, 18 </a:t>
            </a:r>
            <a:r>
              <a:rPr b="1" lang="en-CA" sz="2400" spc="-1" strike="noStrike">
                <a:solidFill>
                  <a:srgbClr val="001335"/>
                </a:solidFill>
                <a:latin typeface="Arial"/>
              </a:rPr>
              <a:t>: </a:t>
            </a:r>
            <a:r>
              <a:rPr b="1" lang="en-CA" sz="2200" spc="-1" strike="noStrike">
                <a:solidFill>
                  <a:srgbClr val="002569"/>
                </a:solidFill>
                <a:latin typeface="Arial"/>
              </a:rPr>
              <a:t>European GEO Water Strategy Workshop – Barcelona, Spain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y 15 </a:t>
            </a:r>
            <a:r>
              <a:rPr b="1" lang="en-US" sz="2400" spc="-1" strike="noStrike">
                <a:solidFill>
                  <a:srgbClr val="001335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Revised draft document circulated to CEOS and GEO members for comment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uly 1 </a:t>
            </a:r>
            <a:r>
              <a:rPr b="1" lang="en-US" sz="2400" spc="-1" strike="noStrike">
                <a:solidFill>
                  <a:srgbClr val="001335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Document revised and circulated to the writing team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ugust 31 </a:t>
            </a:r>
            <a:r>
              <a:rPr b="1" lang="en-US" sz="2400" spc="-1" strike="noStrike">
                <a:solidFill>
                  <a:srgbClr val="001335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Final thorough technical edit of the report completed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ptember 1 </a:t>
            </a:r>
            <a:r>
              <a:rPr b="1" lang="en-US" sz="2400" spc="-1" strike="noStrike">
                <a:solidFill>
                  <a:srgbClr val="001335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Documents circulated to writing team and other groups for final review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5F2470-1799-4505-889A-88C850E676B2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2052360" y="101160"/>
            <a:ext cx="7032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ccomplishments since the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ast SIT me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569"/>
                </a:solidFill>
                <a:uFillTx/>
                <a:latin typeface="Arial"/>
              </a:rPr>
              <a:t>2013: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ctober 1 </a:t>
            </a:r>
            <a:r>
              <a:rPr b="1" lang="en-US" sz="2400" spc="-1" strike="noStrike">
                <a:solidFill>
                  <a:srgbClr val="001335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Agency selected to print the report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ctober 10 </a:t>
            </a:r>
            <a:r>
              <a:rPr b="1" lang="en-US" sz="2400" spc="-1" strike="noStrike">
                <a:solidFill>
                  <a:srgbClr val="001335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Final comments on the report received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ctober 25 </a:t>
            </a:r>
            <a:r>
              <a:rPr b="1" lang="en-US" sz="2400" spc="-1" strike="noStrike">
                <a:solidFill>
                  <a:srgbClr val="001335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InDesign version of the report submitted to the agency which will print the report (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and Management Overview)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vember 1 </a:t>
            </a:r>
            <a:r>
              <a:rPr b="1" lang="en-US" sz="2400" spc="-1" strike="noStrike">
                <a:solidFill>
                  <a:srgbClr val="001335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Interactions with the agency printing the report would begin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vember 30 </a:t>
            </a:r>
            <a:r>
              <a:rPr b="1" lang="en-US" sz="2400" spc="-1" strike="noStrike">
                <a:solidFill>
                  <a:srgbClr val="001335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Copies of the report and 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the Management 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Overview would be printed and made available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569"/>
                </a:solidFill>
                <a:uFillTx/>
                <a:latin typeface="Arial"/>
              </a:rPr>
              <a:t>2014: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anuary </a:t>
            </a:r>
            <a:r>
              <a:rPr b="1" lang="en-US" sz="2400" spc="-1" strike="noStrike">
                <a:solidFill>
                  <a:srgbClr val="001335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Copies of the report and 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the Management </a:t>
            </a:r>
            <a:r>
              <a:rPr b="1" lang="en-US" sz="2200" spc="-1" strike="noStrike">
                <a:solidFill>
                  <a:srgbClr val="002569"/>
                </a:solidFill>
                <a:latin typeface="Arial"/>
              </a:rPr>
              <a:t>Overview would be distributed at the GEO Summit</a:t>
            </a:r>
            <a:endParaRPr b="1" lang="en-US" sz="2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09745-D3D8-4A67-9168-B637C2A11AED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2052360" y="101160"/>
            <a:ext cx="7032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uture remaining activities and milesto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569"/>
                </a:solidFill>
                <a:latin typeface="Arial"/>
              </a:rPr>
              <a:t>After the GEO Water Strategy report is adopted by the GEO as a basis for its post-2015 water activities, </a:t>
            </a:r>
            <a:r>
              <a:rPr b="1" lang="en-CA" sz="2400" spc="-1" strike="noStrike" u="sng">
                <a:solidFill>
                  <a:srgbClr val="002569"/>
                </a:solidFill>
                <a:uFillTx/>
                <a:latin typeface="Arial"/>
              </a:rPr>
              <a:t>GEO will request CEOS (satellites) and WMO (in-situ) to develop action plans</a:t>
            </a:r>
            <a:r>
              <a:rPr b="1" lang="en-CA" sz="2400" spc="-1" strike="noStrike">
                <a:solidFill>
                  <a:srgbClr val="002569"/>
                </a:solidFill>
                <a:latin typeface="Arial"/>
              </a:rPr>
              <a:t> for how they will contribute to the new water programme.  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569"/>
                </a:solidFill>
                <a:latin typeface="Arial"/>
              </a:rPr>
              <a:t>A structured report consolidating these and possibly other commitments will serve as the new GEO Water Implementation plan and the basis for the post-2015 GEO water task.  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569"/>
                </a:solidFill>
                <a:latin typeface="Arial"/>
              </a:rPr>
              <a:t>The completion of CEOS action items will be used an important metric for tracking the progress of post-2015 GEO water activities.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0E2742-11C5-410E-B9A0-898C718D4D06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2052360" y="101160"/>
            <a:ext cx="7032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EO Expect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68200" y="1457280"/>
            <a:ext cx="844560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e report needs to be reviewed and considered in its final form.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How should CEOS respond to the report? What is the best approach?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A combined CEOS/CGMS response may be most appropriate because water is so much a part of the meteorological operational system.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It is also important to harmonize activities between CEOS and GEO (e.g. CEOS water portal or GEO water portal; TIGER and AfWCCI, etc.).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B7DE22-F511-4361-88F8-ED0600679C32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2052360" y="101160"/>
            <a:ext cx="7032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ussion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find a Way Forw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9:23:13Z</dcterms:created>
  <dc:creator>Brian Killough</dc:creator>
  <dc:description/>
  <dc:language>en-US</dc:language>
  <cp:lastModifiedBy>Keith, Kim Elizabeth (LARC-D2)[SCIENCE SYSTEMS AND APPLICATIONS, INC]</cp:lastModifiedBy>
  <cp:lastPrinted>2013-07-23T19:08:48Z</cp:lastPrinted>
  <dcterms:modified xsi:type="dcterms:W3CDTF">2013-09-16T15:11:12Z</dcterms:modified>
  <cp:revision>106</cp:revision>
  <dc:subject/>
  <dc:title>Title</dc:title>
</cp:coreProperties>
</file>