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DD562-BD66-45BF-8AA2-C44D43F808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AD52F-682B-4BD1-916C-65A7D13D4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10218-A648-4135-BE81-9065A2BF87D8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52F86-5EDD-405D-AD6C-FD637D5AA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92159-45DA-48D3-B40A-0966E413D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CA459-57C4-4F1F-ADD6-F43EE2F78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8E04B-F4C5-437C-8E8A-714692428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B401B-CA38-4C9A-B274-3B476C956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39E2E-831F-4419-A766-30EB2DFD8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79555-7D73-4043-98FF-9AE171CB9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47E57-58EF-40FD-BD24-AE93D4A5B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0796-17D1-4799-B448-0FA3AD73D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9F7E-FEA6-4C97-AB5C-08EBC5B5D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DCB1-AD24-4F43-913E-9E7BECCFF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0DAF-EEC0-457B-B374-3A3504D26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5489-18C2-4E12-B967-5E05A74FA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BFCE-656D-4F3D-BC6A-756D4FD922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A6A8-B30D-4859-8026-6A527EAFBA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118F-F1AF-472B-8BE6-286A10E56F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77FD-2318-41B7-9F2B-CEBFA2071B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FBA1-8404-4387-99FA-A03CDC7E4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CDB8-E2EB-4D3B-99E1-D2BDE26F49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8EF8-341E-494D-B723-3E754BE1E4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6E3F-081A-4EBF-A48A-B4FBD466BD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2735-0ECB-45A6-B19D-238422FC42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3B08-461F-4025-BE1D-87E89829D3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0D34-E777-4AD8-AEFD-2AA737DA8E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4200-97A6-4C65-99D4-0039FEEC22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6349-CFED-465B-BE82-85EF63399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9007-F3D5-497A-B044-9C6AE8C77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CDF6-3A8D-4EBC-8E6B-5EA4E2998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EE89-8991-47AC-B689-2E78565B3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3921-57A2-4D23-92A2-355462122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41FE-D6FE-4A62-8125-B29AF3BAA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C463-1E37-4BE3-9127-64E904B94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C0F9D-521B-458A-B373-B7ED7FF65A56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69A6E10E-CA5B-4BF5-8997-4941FA62BADF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0B377-1004-40CE-82AF-D08D6F329FF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734840"/>
            <a:ext cx="48261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Wednesday, September 11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12384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Self Study (CSS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Guidance Documents for Plenar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rs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C3EFC-9088-4AFC-BD9A-7E2F6427922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History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71056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a reminder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... 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EOS Self Study (CSS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tarted in February 2011 and will end at the November 2013 CEOS Plenary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of the CSS were to ..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and evaluate CEOS successes and strengths in achieving real coordination in space-based Earth observations for societal benefi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CEOS challenges and areas needing improvemen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trategic Guidance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SzPct val="7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To identify potential new CEOS initiatives for the coming years.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ork Plan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0AC83-A46F-4DCD-ABD8-5102157AFA0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SS Outpu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23920" y="1576440"/>
            <a:ext cx="871056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final output of the CEOS Self Study effort is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rategic document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will guide CEOS in the futur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Terms of Referenc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ToR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trategic Guidance (SG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10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Governance &amp; Processes (GP)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(~5 year life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C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IT Chair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SEO ToR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Work Pla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ming in early 2014 ...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99960" indent="-34272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61ABC-8FFD-46C3-9CBF-FE7EC9E3022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teering Committe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38240" y="1376280"/>
            <a:ext cx="566568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ian Killough – NASA, SEO, CSS Chair #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Pat Jacoberger-Jellison – NASA, CSS Chair #1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Lena Braatz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ristine Bognar – NASA SIT Tea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Brent Smith - NOA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erry Sawyer – NOAA, CEO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Ivan Petiteville - E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Robert Husband - EUMETSA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Steven Hosford - CNE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ie-Josee Bourassa - CS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Marcia Alvarenga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Julio Dalge - INP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Kazuo Umezawa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Takayuki Kawai -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</a:rPr>
              <a:t>Chu Ishida – JAXA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425840" y="4089240"/>
            <a:ext cx="3882960" cy="24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803920" y="1536840"/>
            <a:ext cx="2751120" cy="22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E8055-B110-48F9-A9B4-BCE41BD6027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put and Feedback Proces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08080" y="1500120"/>
            <a:ext cx="871056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Broadly engag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 and leadership during the CSS development and review process to produce a set of strategic documents for endorsement at the 2013 CEOS Plenary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Multiple SIT and Plenary Meeting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9 Past and Present Leadership Interview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0 individuals contributed to the Study Repor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contributed to the Topical Teams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8 Agencies represented on the Steering Team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11 Agencies provided feedback during 4 Town Hall telecon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6C298-6A5C-4AB2-A683-85056D34E57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eam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66680" y="1500120"/>
            <a:ext cx="87328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udy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for in-depth review of CEOS function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ecutive Functions, Working Groups and SBAs, Constellations. 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se teams contributed to the Synthesis Report (15 pages) and Annex material (200 pages)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pical Team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o perform an in-depth study of 5 theme areas that contribute to the Governance and Processes document.  These themes included ..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egic Thinking, Decision-making and New Initiatives, Organizational Roles and Responsibilities, Membership and Participation, and Objectives of Meeting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70D92-DDAC-44BD-A545-A6AB45B32138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Other Contributio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11160" y="1393920"/>
            <a:ext cx="58705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S community, through several CEOS SIT and Plenary meetings, developed a set of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Essential Questions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at contributed to the CEOS Strategic Guidance documen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15 member 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teering Team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utilized </a:t>
            </a:r>
            <a:r>
              <a:rPr b="0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 weekly telecons (2 more than 4+ hours) to develop the document content and discuss issues.  Much of this was accomplished during the summer holiday period ..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ANKS AGAIN!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6107040" y="1514520"/>
            <a:ext cx="2749680" cy="2441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6114960" y="4245120"/>
            <a:ext cx="2741760" cy="17539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7867800" y="19828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6178680" y="4289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78A16-DFE6-4AC3-8876-8DFBF5AF30F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here to find the document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208080" y="150012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EOS websit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ww.ceos.org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) - Governing Document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72960" y="2171880"/>
            <a:ext cx="786780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88E69-28FF-4A1E-8E81-54A6A123552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ming tomorrow ...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08080" y="1500120"/>
            <a:ext cx="871056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Path to Plenary ... 2 months until Plenary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Document Highlights ... CEOS ToR, SG, GP, ToR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Feedback Highlights ... Town Hall telec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569"/>
                </a:solidFill>
                <a:latin typeface="Arial"/>
              </a:rPr>
              <a:t>Side Meeting Summary from Tuesday ... 8 topic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1T15:45:18Z</dcterms:modified>
  <cp:revision>85</cp:revision>
  <dc:subject/>
  <dc:title>Title</dc:title>
</cp:coreProperties>
</file>