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2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F74FF-5E04-45E5-A73C-5D9B573D5458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2928-4A81-419E-BF36-CF7F0CD5787A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ECC2F6D0-BE5E-4172-8E9F-00FD60BFC28A}" type="slidenum">
              <a:rPr b="0" lang="en-IE" sz="1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13E7-0418-4D10-A3FD-15E1D57352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703E-F3FC-42C1-8E64-4912E7F66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74DB-E50F-46F2-8756-2979E22DB4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B1DD-6C18-49BC-BA17-69384AD2A4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1E57-822C-49BB-8EAE-916D383520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0FE6-BBE0-4926-8D0A-0788D10384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350C-6EB4-4012-B85F-668636498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2942-4CCA-4A4A-90BE-3D402BAACE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C7A8-A6DE-4B79-89C4-B8BF01E598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6732-DE15-4D6F-99B4-FD0A850E1D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269D-2443-4864-A74E-82C6B002AC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9172-F82C-4063-B00B-2E3A44BEA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-35280" y="482760"/>
            <a:ext cx="1663920" cy="54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SIT-28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Hampton, Virginia, USA</a:t>
            </a:r>
            <a:br>
              <a:rPr sz="1000"/>
            </a:b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11-15 March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74520" y="120600"/>
            <a:ext cx="91440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AutoShape 4"/>
          <p:cNvSpPr/>
          <p:nvPr/>
        </p:nvSpPr>
        <p:spPr>
          <a:xfrm>
            <a:off x="0" y="3244680"/>
            <a:ext cx="9144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88880" y="666360"/>
            <a:ext cx="4807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723852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1C4342-A23F-481D-8FE8-9B99AEDBCCCA}" type="slidenum">
              <a: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720" y="558720"/>
            <a:ext cx="1761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8720" y="-360"/>
            <a:ext cx="549108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NES SIT chair planning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14560" y="2201760"/>
            <a:ext cx="4825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Pascale Ultré-Guérard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CN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324360" y="6494400"/>
            <a:ext cx="751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494000"/>
            <a:ext cx="78483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1000"/>
          </a:bodyPr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…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looking forward to nov 2013 …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EO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SSII process almost completed – recommendations and documents to be stabilised and agreed at plenary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New procedures and structures to « test drive » …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… 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ll the while, CEOS will still have to be delivering on its core business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GEO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2 years and counting to the « implementation » of the System of Systems ...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12120" indent="-312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... demonstrating concrete progress will be the priority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723888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6A5D7A-4C1E-4B58-B288-5CA9FC35CCA0}" type="slidenum">
              <a:rPr b="0" lang="fr-FR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à coins arrondis 5"/>
          <p:cNvSpPr/>
          <p:nvPr/>
        </p:nvSpPr>
        <p:spPr>
          <a:xfrm rot="18997200">
            <a:off x="3568320" y="2847960"/>
            <a:ext cx="1649520" cy="45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8004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à coins arrondis 6"/>
          <p:cNvSpPr/>
          <p:nvPr/>
        </p:nvSpPr>
        <p:spPr>
          <a:xfrm rot="18997200">
            <a:off x="3596760" y="5564160"/>
            <a:ext cx="16480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8004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000" y="1500120"/>
            <a:ext cx="8042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7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NES will endeavour to balance these two objectives: managing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change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while continuing to </a:t>
            </a:r>
            <a:r>
              <a:rPr b="1" lang="en-IE" sz="2000" spc="-1" strike="noStrike">
                <a:solidFill>
                  <a:srgbClr val="ff0000"/>
                </a:solidFill>
                <a:latin typeface="Arial"/>
              </a:rPr>
              <a:t>deliver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on CEOS “core business”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Two main priorities 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Implementation of CSSII recommendations 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Manage the evolution of CEOS as described in the recoms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passed at Montréal plenary 2013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Implement the processes agreed on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Tidy up any “loose ends” …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   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Support GEO in showing concrete progres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Continuity in the development of programmes (GFOI, GEOGLAM, Disasters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297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Improve access to space based EO dat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3" marL="117324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1400" spc="-1" strike="noStrike">
              <a:solidFill>
                <a:srgbClr val="002569"/>
              </a:solidFill>
              <a:latin typeface="Arial"/>
            </a:endParaRPr>
          </a:p>
          <a:p>
            <a:pPr lvl="1" marL="3416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723888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4839FF-DD6E-4E8B-8E3D-3572A03322AC}" type="slidenum">
              <a:rPr b="0" lang="fr-FR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80840" y="115560"/>
            <a:ext cx="5267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2569"/>
                </a:solidFill>
                <a:latin typeface="Arial"/>
              </a:rPr>
              <a:t>C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SSI Outcome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04" name="Image 3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924360" cy="5496120"/>
          </a:xfrm>
          <a:prstGeom prst="rect">
            <a:avLst/>
          </a:prstGeom>
          <a:ln w="0">
            <a:noFill/>
          </a:ln>
        </p:spPr>
      </p:pic>
      <p:pic>
        <p:nvPicPr>
          <p:cNvPr id="105" name="Image 4" descr=""/>
          <p:cNvPicPr/>
          <p:nvPr/>
        </p:nvPicPr>
        <p:blipFill>
          <a:blip r:embed="rId2"/>
          <a:srcRect l="18052" t="0" r="15619" b="2551"/>
          <a:stretch/>
        </p:blipFill>
        <p:spPr>
          <a:xfrm>
            <a:off x="4859280" y="1125360"/>
            <a:ext cx="3924360" cy="5507280"/>
          </a:xfrm>
          <a:prstGeom prst="rect">
            <a:avLst/>
          </a:prstGeom>
          <a:ln w="0">
            <a:noFill/>
          </a:ln>
        </p:spPr>
      </p:pic>
      <p:sp>
        <p:nvSpPr>
          <p:cNvPr id="106" name="Interdiction 7"/>
          <p:cNvSpPr/>
          <p:nvPr/>
        </p:nvSpPr>
        <p:spPr>
          <a:xfrm>
            <a:off x="4643280" y="801720"/>
            <a:ext cx="4321440" cy="5940360"/>
          </a:xfrm>
          <a:custGeom>
            <a:avLst/>
            <a:gdLst/>
            <a:ahLst/>
            <a:rect l="l" t="t" r="r" b="b"/>
            <a:pathLst>
              <a:path w="4320480" h="5940048">
                <a:moveTo>
                  <a:pt x="0" y="2970024"/>
                </a:moveTo>
                <a:cubicBezTo>
                  <a:pt x="0" y="1329725"/>
                  <a:pt x="967172" y="0"/>
                  <a:pt x="2160240" y="0"/>
                </a:cubicBezTo>
                <a:cubicBezTo>
                  <a:pt x="3353308" y="0"/>
                  <a:pt x="4320480" y="1329725"/>
                  <a:pt x="4320480" y="2970024"/>
                </a:cubicBezTo>
                <a:cubicBezTo>
                  <a:pt x="4320480" y="4610323"/>
                  <a:pt x="3353308" y="5940048"/>
                  <a:pt x="2160240" y="5940048"/>
                </a:cubicBezTo>
                <a:cubicBezTo>
                  <a:pt x="967172" y="5940048"/>
                  <a:pt x="0" y="4610323"/>
                  <a:pt x="0" y="2970024"/>
                </a:cubicBezTo>
                <a:close/>
                <a:moveTo>
                  <a:pt x="3626110" y="4825151"/>
                </a:moveTo>
                <a:cubicBezTo>
                  <a:pt x="4171580" y="3966691"/>
                  <a:pt x="4284702" y="2721997"/>
                  <a:pt x="3910404" y="1697046"/>
                </a:cubicBezTo>
                <a:cubicBezTo>
                  <a:pt x="3310456" y="54193"/>
                  <a:pt x="1762409" y="-319639"/>
                  <a:pt x="809550" y="948234"/>
                </a:cubicBezTo>
                <a:lnTo>
                  <a:pt x="3626110" y="4825151"/>
                </a:lnTo>
                <a:close/>
                <a:moveTo>
                  <a:pt x="694370" y="1114897"/>
                </a:moveTo>
                <a:cubicBezTo>
                  <a:pt x="148900" y="1973357"/>
                  <a:pt x="35778" y="3218051"/>
                  <a:pt x="410076" y="4243002"/>
                </a:cubicBezTo>
                <a:cubicBezTo>
                  <a:pt x="1010024" y="5885855"/>
                  <a:pt x="2558071" y="6259687"/>
                  <a:pt x="3510930" y="4991814"/>
                </a:cubicBezTo>
                <a:lnTo>
                  <a:pt x="694370" y="11148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à coins arrondis 6"/>
          <p:cNvSpPr/>
          <p:nvPr/>
        </p:nvSpPr>
        <p:spPr>
          <a:xfrm rot="19712400">
            <a:off x="539280" y="3212640"/>
            <a:ext cx="8136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E" sz="5400" spc="-1" strike="noStrike">
                <a:solidFill>
                  <a:srgbClr val="000000"/>
                </a:solidFill>
                <a:latin typeface="Arial"/>
              </a:rPr>
              <a:t>Evolution not revolution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SSII Outcomes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2000"/>
          </a:bodyPr>
          <a:p>
            <a:pPr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SSII process (still … ) converging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Process has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</a:rPr>
              <a:t>clarified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many aspects of CEOS operation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doption of documents at Plenary 2013 will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800" spc="-1" strike="noStrike">
                <a:solidFill>
                  <a:srgbClr val="ff0000"/>
                </a:solidFill>
                <a:latin typeface="Arial"/>
              </a:rPr>
              <a:t>formalise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this</a:t>
            </a:r>
            <a:r>
              <a:rPr b="1" lang="en-IE" sz="1800" spc="-1" strike="noStrike">
                <a:solidFill>
                  <a:srgbClr val="00256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Key point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Organisation’s objectives and goal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Internal organisation and reporting lines for WGs and VCs (CEOS Chair/ SIT Chair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Decision making (how decisions are made, who decides what, when )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CEOS calendar of major meeting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442440" indent="-205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A few loose ends to tie up …. ?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80840" y="115560"/>
            <a:ext cx="5267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upport to GEO 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ontinued high priority for CEOS activities supporting GEO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FOI, GEOGLAM, Disasters…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orking group priorities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Including  on-going work in WGISS &amp; SEO&amp; VCs on improving access to space based EO data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272880"/>
            <a:ext cx="65595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NES SIT Chair te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16040"/>
            <a:ext cx="83628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8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SIT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ascale Ultré-Guérard (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Steven Hosford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ISS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Richard Moreno (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Jérôme Gaspéri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EOS support 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Mireille Paulin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Danielle Barrère (meetings/logistics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CalVal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atrice Henry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WG Climat, PVC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Philippe Veyre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VC OST,VC OCR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Juliette Lambin (OST co-chair)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72880"/>
            <a:ext cx="655956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NES SIT Chair team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16040"/>
            <a:ext cx="836280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ACVC, CTF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arole Deni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EOGLAM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Gérard Dedieu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Health PoC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Cécile Vignolles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000" spc="-1" strike="noStrike">
                <a:solidFill>
                  <a:srgbClr val="002569"/>
                </a:solidFill>
                <a:latin typeface="Arial"/>
              </a:rPr>
              <a:t>plus external support  in progress (TBC) …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E" sz="2400" spc="-1" strike="noStrike">
                <a:solidFill>
                  <a:srgbClr val="002569"/>
                </a:solidFill>
                <a:latin typeface="Arial"/>
              </a:rPr>
              <a:t>and last but not least, we would like to have a </a:t>
            </a:r>
            <a:r>
              <a:rPr b="1" lang="en-IE" sz="3200" spc="-1" strike="noStrike">
                <a:solidFill>
                  <a:srgbClr val="ff0000"/>
                </a:solidFill>
                <a:latin typeface="Arial"/>
              </a:rPr>
              <a:t>SIT Vice-Chair (TBF)</a:t>
            </a:r>
            <a:endParaRPr b="1" lang="en-US" sz="3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7:10:19Z</dcterms:created>
  <dc:creator/>
  <dc:description/>
  <dc:language>en-US</dc:language>
  <cp:lastModifiedBy>Keith, Kim Elizabeth (LARC-D2)[SCIENCE SYSTEMS AND APPLICATIONS, INC]</cp:lastModifiedBy>
  <dcterms:modified xsi:type="dcterms:W3CDTF">2013-09-17T13:12:36Z</dcterms:modified>
  <cp:revision>69</cp:revision>
  <dc:subject/>
  <dc:title>Leveraging VCs to improve CEOS data access </dc:title>
</cp:coreProperties>
</file>