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2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48D96-548E-4F17-BD27-723A8CF1B5A5}" type="slidenum">
              <a: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39F78-7B6E-48B9-BE91-768C731B8DFC}" type="slidenum">
              <a: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B740DCDC-6BBB-436B-BF22-4D1746E96052}" type="slidenum">
              <a:rPr b="0" lang="en-IE" sz="14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IE" sz="20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2FFF2-C2D5-42AE-A233-F9F38815423F}" type="slidenum">
              <a: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IE" sz="20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C48C2C61-C297-436C-B00D-93C29C6B3495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28004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1E609-6B3A-40DA-A606-0DC44C70DE8C}" type="slidenum">
              <a:rPr b="0" lang="en-I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IE" sz="20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350B9A6A-1231-414F-B92B-8312D4FABBAC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70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968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1382-7CB1-4F7A-8132-5EAB45A0D3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00AF-4B9D-4A40-988F-770A3CDCA9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AD65-EE45-4132-8ACC-D018D58D69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AA69-371E-4C09-A605-0A04C7AC23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E0F3-55BA-4F21-8E19-39DAE4CA3B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EFC3-467B-46E3-AA80-F7017EC089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F3E0-FEA0-460C-89E8-F9D1FC580B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A947-C307-417E-ABDC-7B5E9AB42F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51B9-D42A-4A29-AACD-58B72B778A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C294-F4B7-444D-88AB-B8B43EC4A9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A11F-2DF0-4E49-B8C1-87F6593818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70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96800" y="160488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70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96800" y="3680640"/>
            <a:ext cx="2589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2531-9D1A-4F30-96F0-B25AAE9967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8840" y="368064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8840" y="1604880"/>
            <a:ext cx="392508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0640"/>
            <a:ext cx="80438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 hidden="1"/>
          <p:cNvSpPr/>
          <p:nvPr/>
        </p:nvSpPr>
        <p:spPr>
          <a:xfrm>
            <a:off x="0" y="1347840"/>
            <a:ext cx="9144000" cy="551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 hidden="1"/>
          <p:cNvSpPr/>
          <p:nvPr/>
        </p:nvSpPr>
        <p:spPr>
          <a:xfrm>
            <a:off x="-35280" y="482760"/>
            <a:ext cx="1663920" cy="54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1000" spc="-1" strike="noStrike">
                <a:solidFill>
                  <a:srgbClr val="ffffff"/>
                </a:solidFill>
                <a:latin typeface="Arial Unicode MS"/>
              </a:rPr>
              <a:t>SIT-28 Mee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1000" spc="-1" strike="noStrike">
                <a:solidFill>
                  <a:srgbClr val="ffffff"/>
                </a:solidFill>
                <a:latin typeface="Arial Unicode MS"/>
              </a:rPr>
              <a:t>Hampton, Virginia, USA</a:t>
            </a:r>
            <a:br>
              <a:rPr sz="1000"/>
            </a:br>
            <a:r>
              <a:rPr b="1" lang="en-IE" sz="1000" spc="-1" strike="noStrike">
                <a:solidFill>
                  <a:srgbClr val="ffffff"/>
                </a:solidFill>
                <a:latin typeface="Arial Unicode MS"/>
              </a:rPr>
              <a:t>11-15 March 20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74520" y="120600"/>
            <a:ext cx="914400" cy="362160"/>
          </a:xfrm>
          <a:prstGeom prst="rect">
            <a:avLst/>
          </a:prstGeom>
          <a:ln w="0">
            <a:noFill/>
          </a:ln>
        </p:spPr>
      </p:pic>
      <p:sp>
        <p:nvSpPr>
          <p:cNvPr id="3" name="AutoShape 4"/>
          <p:cNvSpPr/>
          <p:nvPr/>
        </p:nvSpPr>
        <p:spPr>
          <a:xfrm>
            <a:off x="0" y="3244680"/>
            <a:ext cx="91440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88880" y="666360"/>
            <a:ext cx="4807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0" y="1347840"/>
            <a:ext cx="9144000" cy="551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1"/>
          </p:nvPr>
        </p:nvSpPr>
        <p:spPr>
          <a:xfrm>
            <a:off x="7238520" y="6546960"/>
            <a:ext cx="19018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IE" sz="1800" spc="-1" strike="noStrike">
                <a:solidFill>
                  <a:srgbClr val="002569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48244F-588F-40A5-A70D-AE43E1591889}" type="slidenum">
              <a:rPr b="0" lang="en-IE" sz="1800" spc="-1" strike="noStrike">
                <a:solidFill>
                  <a:srgbClr val="002569"/>
                </a:solidFill>
                <a:latin typeface="Times New Roman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56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384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72720" y="558720"/>
            <a:ext cx="17611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T Technical Worksho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pt 11-12, 20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7561440" cy="16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asters Study Group Recommendations</a:t>
            </a:r>
            <a:endParaRPr b="0" lang="en-US" sz="2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14560" y="2201760"/>
            <a:ext cx="4825800" cy="15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entury Gothic"/>
              </a:rPr>
              <a:t>Steven Hosford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entury Gothic"/>
              </a:rPr>
              <a:t>on behalf of the Disasters Study Group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4" name="Rectangle 36"/>
          <p:cNvSpPr/>
          <p:nvPr/>
        </p:nvSpPr>
        <p:spPr>
          <a:xfrm>
            <a:off x="324360" y="6494400"/>
            <a:ext cx="751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28440" y="1387440"/>
            <a:ext cx="8766360" cy="5238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Disasters Study Group starting point – Recommendations of CSSII topical team on Roles and Responsabilities.  Group established by CEOS SIT-28 with the following mand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Arial"/>
                <a:ea typeface="Arial"/>
              </a:rPr>
              <a:t>Overall Objective: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  <a:ea typeface="Arial"/>
              </a:rPr>
              <a:t>  The study group will recommend internal CEOS organizational structures for ensuring sustained coordination of the disaster activ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1.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Review and list current and future likely needs for significant disaster related activiti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2.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Review activities in CEOS related to disasters including those of the CEOS Disaster SBA Team, DRM </a:t>
            </a:r>
            <a:r>
              <a:rPr b="0" i="1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ad hoc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 team, Working Groups, VCs and other group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3.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Review the objectives and requirements for all aspects related to disasters in line with the agreed and emerging CEOS strategic prioriti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4.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Consider the implementation which will best satisfy all the above needs in future, including recommendations as to the future of relevant current bodi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5.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2569"/>
                </a:solidFill>
                <a:latin typeface="Arial"/>
                <a:ea typeface="Arial"/>
              </a:rPr>
              <a:t>Make recommendations on the way forward to the CEOS SIT chai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2569"/>
                </a:solidFill>
                <a:latin typeface="Arial"/>
                <a:ea typeface="Arial"/>
              </a:rPr>
              <a:t>Deadline: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  <a:ea typeface="Arial"/>
              </a:rPr>
              <a:t>  SIT technical workshop, September 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9A37E-F1F1-410A-842E-18CC2021C119}" type="slidenum">
              <a:rPr b="0" lang="en-IE" sz="1800" spc="-1" strike="noStrike">
                <a:solidFill>
                  <a:srgbClr val="002569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28440" y="1787400"/>
            <a:ext cx="8766360" cy="3809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Disasters Study Group composed of representatives from all disaster activities within CEOS and a broad range of agenc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1800" spc="-1" strike="noStrike">
                <a:solidFill>
                  <a:srgbClr val="002060"/>
                </a:solidFill>
                <a:latin typeface="Arial"/>
              </a:rPr>
              <a:t>Francis Lindsay (NASA), Stuart Frye (NASA), Guy Seguin (NASA), Christine Giguère (CSA), Ivan Petiteville (ESA), Karen Moe (NASA - WGISS), Mark Dowell (EC - WGClimate), Kerry Sawyer (CEO), Shelley Stover (NASA), Steven Hosford (CNES - Study Group L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Study group discussions conducted by teleconference during May - Ju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</a:rPr>
              <a:t>“</a:t>
            </a:r>
            <a:r>
              <a:rPr b="0" lang="en-IE" sz="2000" spc="-1" strike="noStrike">
                <a:solidFill>
                  <a:srgbClr val="002569"/>
                </a:solidFill>
                <a:latin typeface="Arial"/>
              </a:rPr>
              <a:t>Note on the organisation of disaster related activities within CEOS” </a:t>
            </a: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presented to CEOS SEC 178 (11</a:t>
            </a:r>
            <a:r>
              <a:rPr b="0" lang="en-IE" sz="2000" spc="-1" strike="noStrike" baseline="30000">
                <a:solidFill>
                  <a:srgbClr val="002569"/>
                </a:solidFill>
                <a:latin typeface="Arial"/>
                <a:ea typeface="Arial"/>
              </a:rPr>
              <a:t>th </a:t>
            </a: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Ju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SEC comments taken into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Note v2 is presented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"/>
          <p:cNvSpPr/>
          <p:nvPr/>
        </p:nvSpPr>
        <p:spPr>
          <a:xfrm>
            <a:off x="7238880" y="654696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ED831-3201-4CD6-835C-9FB0803C4382}" type="slidenum">
              <a:rPr b="0" lang="en-IE" sz="1800" spc="-1" strike="noStrike">
                <a:solidFill>
                  <a:srgbClr val="002569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/>
          <p:cNvSpPr/>
          <p:nvPr/>
        </p:nvSpPr>
        <p:spPr>
          <a:xfrm>
            <a:off x="127080" y="1787400"/>
            <a:ext cx="8766000" cy="3871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Three distinct disaster activities are currently conducted by C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CEOS Disaster SBA Team. Put together to support the CEOS Disasters SBA Coordina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CEOS Disaster Risk Management  </a:t>
            </a:r>
            <a:r>
              <a:rPr b="0" i="1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ad hoc</a:t>
            </a: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 Working Gro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2569"/>
                </a:solidFill>
                <a:latin typeface="Arial"/>
                <a:ea typeface="Arial"/>
              </a:rPr>
              <a:t>CEOS WGISS </a:t>
            </a:r>
            <a:r>
              <a:rPr b="0" lang="en-US" sz="2000" spc="-1" strike="noStrike">
                <a:solidFill>
                  <a:srgbClr val="002569"/>
                </a:solidFill>
                <a:latin typeface="Arial"/>
                <a:ea typeface="Arial"/>
              </a:rPr>
              <a:t>GEOSS Architecture for Disasters (GA.4D). Focused project team addressing technical issues and best practices for information systems and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Current disaster activities in CE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3"/>
          <p:cNvSpPr/>
          <p:nvPr/>
        </p:nvSpPr>
        <p:spPr>
          <a:xfrm>
            <a:off x="54000" y="1484280"/>
            <a:ext cx="8766000" cy="11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tarting point for Study Group discussions were the recommendations of the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CSSII, the Roles and Responsibilities Task Tea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Seed thou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47640" y="2637000"/>
          <a:ext cx="6193080" cy="4128840"/>
        </p:xfrm>
        <a:graphic>
          <a:graphicData uri="http://schemas.openxmlformats.org/drawingml/2006/table">
            <a:tbl>
              <a:tblPr/>
              <a:tblGrid>
                <a:gridCol w="1354320"/>
                <a:gridCol w="483876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Descri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ed all of the existing CEOS Disaster activities within just one of the existing three mechanisms addressing Disasters and suppress the other two activities/mechanis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553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ress the CEOS Disaster SBA Coordinator, the ad hoc Working Group on DRM and the Disaster activities within WGISS, and transfer all activities to a new WG on Disas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202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ve "as is"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"/>
          <p:cNvSpPr/>
          <p:nvPr/>
        </p:nvSpPr>
        <p:spPr>
          <a:xfrm>
            <a:off x="54000" y="1308240"/>
            <a:ext cx="8766000" cy="5576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These options can be “expanded out”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 and embed all of the existing CEOS Disaster activities within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 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and embed all of the existing CEOS Disaster activities within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both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 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and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 and transfer all activities to a new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WG on Disa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Leave "as i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à coins arrondis 3"/>
          <p:cNvSpPr/>
          <p:nvPr/>
        </p:nvSpPr>
        <p:spPr>
          <a:xfrm>
            <a:off x="41400" y="4748040"/>
            <a:ext cx="9088200" cy="1584360"/>
          </a:xfrm>
          <a:prstGeom prst="roundRect">
            <a:avLst>
              <a:gd name="adj" fmla="val 16667"/>
            </a:avLst>
          </a:prstGeom>
          <a:solidFill>
            <a:srgbClr val="4cd45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4000" y="1308240"/>
            <a:ext cx="8766000" cy="5576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These options can be “expanded out”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 and embed all of the existing CEOS Disaster activities within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 and embed all of the existing CEOS Disaster activities within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both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 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and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 and transfer all activities to a new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WG on Disa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Leave "as i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à coins arrondis 3"/>
          <p:cNvSpPr/>
          <p:nvPr/>
        </p:nvSpPr>
        <p:spPr>
          <a:xfrm>
            <a:off x="41400" y="1413000"/>
            <a:ext cx="9088200" cy="1295280"/>
          </a:xfrm>
          <a:prstGeom prst="roundRect">
            <a:avLst>
              <a:gd name="adj" fmla="val 16667"/>
            </a:avLst>
          </a:prstGeom>
          <a:solidFill>
            <a:srgbClr val="4cd45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54000" y="1500120"/>
            <a:ext cx="8766000" cy="5211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8640" indent="-45720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 startAt="3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uppress both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CEOS Disaster SBA Team 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and the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ad hoc Working Group on DRM</a:t>
            </a: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 and transfer all activities to a new </a:t>
            </a:r>
            <a:r>
              <a:rPr b="0" i="1" lang="en-IE" sz="2400" spc="-1" strike="noStrike">
                <a:solidFill>
                  <a:srgbClr val="002569"/>
                </a:solidFill>
                <a:latin typeface="Arial"/>
              </a:rPr>
              <a:t>WG on Disa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buClr>
                <a:srgbClr val="002569"/>
              </a:buClr>
              <a:buFont typeface="Arial"/>
              <a:buAutoNum type="alphaUcPeriod" startAt="3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Parallels with “Climate” th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Both themes of long-term strategic importance to C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Both themes are characterised by a complex context of national, regional and global 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Both themes have a broad range of potential external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buClr>
                <a:srgbClr val="00256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Many established space actors or groupings already contribute to focused aspects of both t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Standing WG would be most effective in constituting a common “CEOS voi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Optio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3"/>
          <p:cNvSpPr/>
          <p:nvPr/>
        </p:nvSpPr>
        <p:spPr>
          <a:xfrm>
            <a:off x="54000" y="1500120"/>
            <a:ext cx="8766000" cy="441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Disasters Study Group proposes to SIT that the following decisions be presented to Plena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Creation of a new standing Working Group on Disas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Adoption of the proposed Terms of Reference for this Working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buClr>
                <a:srgbClr val="002569"/>
              </a:buClr>
              <a:buFont typeface="Arial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002569"/>
                </a:solidFill>
                <a:latin typeface="Arial"/>
              </a:rPr>
              <a:t>Nominations of (interim?) Chair and Vice-C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just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IE" sz="2000" spc="-1" strike="noStrike">
                <a:solidFill>
                  <a:srgbClr val="002569"/>
                </a:solidFill>
                <a:latin typeface="Arial"/>
              </a:rPr>
              <a:t>NB. The proposed WG TORs have been included as an annexe to the no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"/>
          <p:cNvSpPr/>
          <p:nvPr/>
        </p:nvSpPr>
        <p:spPr>
          <a:xfrm>
            <a:off x="1550880" y="109440"/>
            <a:ext cx="7243920" cy="609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17:10:19Z</dcterms:created>
  <dc:creator>Kerry Sawyer</dc:creator>
  <dc:description/>
  <dc:language>en-US</dc:language>
  <cp:lastModifiedBy>Keith, Kim Elizabeth (LARC-D2)[SCIENCE SYSTEMS AND APPLICATIONS, INC]</cp:lastModifiedBy>
  <dcterms:modified xsi:type="dcterms:W3CDTF">2013-09-16T15:10:56Z</dcterms:modified>
  <cp:revision>72</cp:revision>
  <dc:subject/>
  <dc:title>Recommendations - DisastersStudyGroup</dc:title>
</cp:coreProperties>
</file>