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3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95F85-3CBF-4559-9621-75E76EBAA3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5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D591B-6134-4219-98FA-DCC0115CB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77015-0CFC-48D1-97E7-2C9C1115ABC0}" type="slidenum">
              <a:rPr b="0" lang="de-DE" sz="1200" spc="-1" strike="noStrike">
                <a:solidFill>
                  <a:srgbClr val="00256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C278D-20C2-4F84-94B4-018159C4E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0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E0232-81B9-4E47-87DE-F3434B34F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4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575C2-7CE2-4D48-B160-1A7E95D76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58" name="Header Placeholder 4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5126-606A-4DA3-9FC2-71217AF62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F2EF-90F1-4EAF-B7F3-0D3021E31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B76B-9F0E-43BD-80C3-970F7E30F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5EEE-C6B6-49DE-9357-3BB892645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F898-A478-4DE5-9596-5FF7FA5D3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7C23-8C74-49A2-8069-E3FDB7E41F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2C6A-D93B-4800-9D99-BDC9B2F90E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4EB7-98FE-4D45-AA6C-4FDDA903D9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4F67-1F3B-4B2F-9E24-51645D0070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5A4C-DDCE-4BEB-8C64-CE35548495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6DC2-20F8-4098-A4C3-312B53574E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C492-505C-4A8A-B4AB-444D4E9D83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8818-638E-4FE8-B26C-D2175D9E54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AF62-4A22-4B4E-B9D8-E97F2A1DF1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5E1F-EDF5-4F1B-90CA-92D947674C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4D76-CA85-4934-A074-6E217B81CA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3E50-67D6-4FFF-A8A0-18012E7677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216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7320" y="145728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664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216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7320" y="3998160"/>
            <a:ext cx="271908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5A38-9B54-4FAD-8628-25D2F5F37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162F-0F2E-4D5D-9F52-73C863C69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F354-7D64-483A-B94F-A47C6C944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6240" y="188640"/>
            <a:ext cx="6931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FC65-8F9B-4045-8BEE-3B2222713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53BC-13DA-4039-B8B2-A4BD07850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3840" y="399816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F608-804A-4413-8AD2-1382DA38F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6240" y="148680"/>
            <a:ext cx="693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66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3840" y="1457280"/>
            <a:ext cx="412092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6640" y="3998160"/>
            <a:ext cx="844524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56A6-2CCC-4B6D-8C30-E67FFD6D3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00960"/>
            <a:ext cx="19051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256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3A274-8D81-4C32-BEC8-CDA90C1EBC1D}" type="slidenum">
              <a:rPr b="0" lang="en-US" sz="1000" spc="-1" strike="noStrike">
                <a:solidFill>
                  <a:srgbClr val="00256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7910640" y="6494400"/>
            <a:ext cx="11728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Slide: </a:t>
            </a:r>
            <a:fld id="{1D88E248-C581-40AC-8C0E-7756DA36843D}" type="slidenum">
              <a:rPr b="0" lang="de-DE" sz="1200" spc="-1" strike="noStrike">
                <a:solidFill>
                  <a:srgbClr val="5f758d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324468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44" name="Rectangle 36"/>
          <p:cNvSpPr/>
          <p:nvPr/>
        </p:nvSpPr>
        <p:spPr>
          <a:xfrm>
            <a:off x="324360" y="6494400"/>
            <a:ext cx="751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001335"/>
                </a:solidFill>
                <a:latin typeface="Century Gothic"/>
              </a:rPr>
              <a:t>CEOS SIT Technical Workshop |Caltech, Pasadena, California, USA| 11-12 September 2013</a:t>
            </a:r>
            <a:endParaRPr b="0" lang="en-US" sz="14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7711920" y="4881600"/>
            <a:ext cx="14320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1347840"/>
            <a:ext cx="9144000" cy="55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720" y="558720"/>
            <a:ext cx="176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T Technical Workshop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adena, California, US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 11-12, 2013</a:t>
            </a:r>
            <a:endParaRPr b="0" lang="en-US" sz="1000" spc="-1" strike="noStrike">
              <a:solidFill>
                <a:srgbClr val="002569"/>
              </a:solidFill>
              <a:latin typeface="Arial"/>
            </a:endParaRPr>
          </a:p>
        </p:txBody>
      </p:sp>
      <p:pic>
        <p:nvPicPr>
          <p:cNvPr id="86" name="Picture 34" descr=""/>
          <p:cNvPicPr/>
          <p:nvPr/>
        </p:nvPicPr>
        <p:blipFill>
          <a:blip r:embed="rId3"/>
          <a:srcRect l="0" t="16211" r="0" b="0"/>
          <a:stretch/>
        </p:blipFill>
        <p:spPr>
          <a:xfrm>
            <a:off x="0" y="0"/>
            <a:ext cx="1374840" cy="69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6240" y="188640"/>
            <a:ext cx="693108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96640" y="1457280"/>
            <a:ext cx="84452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56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5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2"/>
          </p:nvPr>
        </p:nvSpPr>
        <p:spPr>
          <a:xfrm>
            <a:off x="725940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137F8-5864-4701-A7C7-474B21DA188D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081320" y="2722680"/>
            <a:ext cx="48261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&lt;CEOS Work Plan section reference&gt;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&lt;Your name&gt;</a:t>
            </a:r>
            <a:endParaRPr b="1" lang="en-US" sz="18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89240" y="666720"/>
            <a:ext cx="4811760" cy="18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SIT Technical Worksho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sert TITLE HERE&gt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847D0-1F2A-4B3E-94FE-ADEDB74E6AA0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2360" y="101160"/>
            <a:ext cx="7032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&lt;Title&gt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n a few slides, describe the “Activity Status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Short summary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Accomplishments since the 2012 Plenary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Future remaining activities and milestones 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1c4f"/>
                </a:solidFill>
                <a:latin typeface="Arial"/>
                <a:ea typeface="Arial"/>
              </a:rPr>
              <a:t>Main Issues/concerns</a:t>
            </a:r>
            <a:endParaRPr b="0" lang="en-US" sz="18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Main 2013 achievements/outcomes: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1c4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329F8-5212-451F-B9F1-0E787F9DC707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79440" y="0"/>
            <a:ext cx="69642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&lt;Title&gt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n a few slides, describe the “Near Future Plan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18960" y="1417680"/>
            <a:ext cx="863280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Additional expected achievements by the end of 2013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Contribution to 2013 Events (</a:t>
            </a:r>
            <a:r>
              <a:rPr b="1" i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e.g., 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GEO Ministerial Summit, COP-19/SBSTA-38)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Information on any decision(s) that need to be made at CEOS Plenary: (</a:t>
            </a:r>
            <a:r>
              <a:rPr b="1" lang="en-GB" sz="2400" spc="-1" strike="noStrike">
                <a:solidFill>
                  <a:srgbClr val="0c62ff"/>
                </a:solidFill>
                <a:latin typeface="Arial"/>
                <a:ea typeface="Arial"/>
              </a:rPr>
              <a:t>if any</a:t>
            </a:r>
            <a:r>
              <a:rPr b="1" lang="en-GB" sz="2400" spc="-1" strike="noStrike">
                <a:solidFill>
                  <a:srgbClr val="001c4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59760" y="6453360"/>
            <a:ext cx="16398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E12BD-C4EC-437D-B766-028C396E0634}" type="slidenum">
              <a:rPr b="0" lang="en-US" sz="1200" spc="-1" strike="noStrike">
                <a:solidFill>
                  <a:srgbClr val="002569"/>
                </a:solidFill>
                <a:latin typeface="Century Gothic"/>
                <a:ea typeface="Calibri"/>
              </a:rPr>
              <a:t>&lt;number&gt;</a:t>
            </a:fld>
            <a:endParaRPr b="0" lang="en-US" sz="1200" spc="-1" strike="noStrike">
              <a:solidFill>
                <a:srgbClr val="00256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20480" y="85680"/>
            <a:ext cx="756756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raming of Topics for CEOS Ple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47600" y="1417680"/>
            <a:ext cx="8831160" cy="51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c4f"/>
                </a:solidFill>
                <a:latin typeface="Arial"/>
                <a:ea typeface="Arial"/>
              </a:rPr>
              <a:t>The following guidance is provided for the framing of issues to be discussed at the SIT Technical Workshop that need to be raised at CEOS Plenary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What is the topic/issue to be presented at the CEOS Plenary?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569"/>
                </a:solidFill>
                <a:uFillTx/>
                <a:latin typeface="Arial"/>
                <a:ea typeface="ＭＳ Ｐゴシック"/>
              </a:rPr>
              <a:t>Specify</a:t>
            </a:r>
            <a:r>
              <a:rPr b="1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: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  <a:ea typeface="ＭＳ Ｐゴシック"/>
              </a:rPr>
              <a:t>for decision, for endorsement, requesting guidance, or mainly for information?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If for decision: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describe the decision required and options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569"/>
                </a:solidFill>
                <a:latin typeface="Arial"/>
              </a:rPr>
              <a:t>If for endorsement: </a:t>
            </a: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describe the implications of the  endorsement and non-endorsement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5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569"/>
                </a:solidFill>
                <a:latin typeface="Arial"/>
              </a:rPr>
              <a:t>Specify supporting documentation and/or background reading.</a:t>
            </a: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1c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5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9:23:13Z</dcterms:created>
  <dc:creator>Brian Killough</dc:creator>
  <dc:description/>
  <dc:language>en-US</dc:language>
  <cp:lastModifiedBy>Keith, Kim Elizabeth (LARC-D2)[SCIENCE SYSTEMS AND APPLICATIONS, INC]</cp:lastModifiedBy>
  <cp:lastPrinted>2013-07-23T19:08:48Z</cp:lastPrinted>
  <dcterms:modified xsi:type="dcterms:W3CDTF">2013-08-21T16:27:31Z</dcterms:modified>
  <cp:revision>47</cp:revision>
  <dc:subject/>
  <dc:title>Title</dc:title>
</cp:coreProperties>
</file>