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375AE-1147-482D-BB5F-167A226BD1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D22A3-C49F-45F7-A19D-9DF585F37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D616A-043A-498C-8E0A-E10CE536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4645D-5B02-465E-AE0C-7FD8B6EEB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E80BF-611F-407F-B418-15B93197F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DB1D7-F1E6-49E2-80EA-A7A56671C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EF6E7-9F53-472D-B0B7-D4FA1F67E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01D50-5F80-4640-88FB-1183B2004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DCA3E-3395-4C9D-82C6-42FC95F4B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98648-456E-416E-B750-7F37AD1F8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7A885-A7E1-436F-A0B0-3882A7CF5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BDE8B-5D32-48E7-85A3-1AD4F8462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24141-4CA9-4A3A-87A6-77E9B1386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7F99A-3826-4177-AE98-3AD0A17FF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7D55F-4932-41DF-9492-F6D9A7BB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00F3-1732-4F6C-AFF9-7473E5A91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72A73-63D8-46AF-A5AA-5608AD6FF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1120" y="188640"/>
            <a:ext cx="7396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1120" y="148680"/>
            <a:ext cx="739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3" name="Picture 1" descr="CEOS_logo_transparent.png"/>
          <p:cNvPicPr/>
          <p:nvPr/>
        </p:nvPicPr>
        <p:blipFill>
          <a:blip r:embed="rId3"/>
          <a:stretch/>
        </p:blipFill>
        <p:spPr>
          <a:xfrm>
            <a:off x="50760" y="47520"/>
            <a:ext cx="1371600" cy="54468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72720" y="53820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2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1120" y="188640"/>
            <a:ext cx="7396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1904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OS Ad-hoc Space Data Coordin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Group in support of the GFOI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pdate on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mplementation of the CEOS Strategy for Global Acquisitions for GFOI</a:t>
            </a: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 (Element 1)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the development of the GFOI Space Data Services (Element 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85680" y="5138280"/>
            <a:ext cx="640080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569"/>
                </a:solidFill>
                <a:latin typeface="Calibri"/>
              </a:rPr>
              <a:t>Ake Rosenqvis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</a:rPr>
              <a:t>on behalf of the SDCG Co-chairs and Secretaria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339920" y="4191120"/>
            <a:ext cx="2914560" cy="2560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653000" y="4191120"/>
            <a:ext cx="2862360" cy="2560680"/>
          </a:xfrm>
          <a:prstGeom prst="rect">
            <a:avLst/>
          </a:prstGeom>
          <a:ln w="0">
            <a:noFill/>
          </a:ln>
        </p:spPr>
      </p:pic>
      <p:sp>
        <p:nvSpPr>
          <p:cNvPr id="118" name="Content Placeholder 2"/>
          <p:cNvSpPr/>
          <p:nvPr/>
        </p:nvSpPr>
        <p:spPr>
          <a:xfrm>
            <a:off x="203040" y="1409760"/>
            <a:ext cx="882684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8 performing beyond expectations (USGS optimising performance). 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analysis of L-7/L-8 performance by NASA SEO to assess Landsat capacity over the 36 additional 2014 GFOI countr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O analysis indicates that L7+L8 may be able to hold the fort also for the majority of the extended GFOI regions during 2014 before new Core Missions become operational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tailed LTAP assessment and tuning of LTAP by USGS (Landsat Data Acquisition Manager) and NASA SEO and SDCG to follow during remainder of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457200" y="15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FOI Space Data Services (Element 2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Core + Contributing missions)            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678120" y="1614600"/>
            <a:ext cx="525492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he GFOI Space Data Services – services currently being considered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Historical Coverage Characterisation: support to assess archived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nsured Ongoing Coverage: tailored support to ensure ongoing national acquisitions are ensured pro-actively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Delivery: support for physical delivery of data;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Data Value Adding: enhanced core data products (e.g. pixel mining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−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Processing: “Data Hub” capacity to assist country generation of inputs to forest information produc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</a:t>
            </a: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Workshops: country interac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1" name="Picture 7" descr="Screen Shot 2013-09-10 at 10.29.14 PM.png"/>
          <p:cNvPicPr/>
          <p:nvPr/>
        </p:nvPicPr>
        <p:blipFill>
          <a:blip r:embed="rId1"/>
          <a:stretch/>
        </p:blipFill>
        <p:spPr>
          <a:xfrm>
            <a:off x="330120" y="1736640"/>
            <a:ext cx="3268800" cy="46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457200" y="100080"/>
            <a:ext cx="76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  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Sep 4-6 2013 @ Caltech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372960" y="1461960"/>
            <a:ext cx="8702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eeting objectiv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1.   Global baseline acquisition strategy implementation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     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/2014 (Element 1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Calibri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rogress the Space Data Services definition &amp; development (Element 2)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3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firm SDCG schedule &amp; responsibilities for SIT-29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4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velop procedures for managing also contributing data stream requests and activit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5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tegration of GFOI Pilot Country requirement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6.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view GEOGLAM impact and synerg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95400" y="1341360"/>
            <a:ext cx="91486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articipation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participation from SDCG member agencies (USGS, ESA, NSC, DCCEE, CNES, JAXA, NASA SEO, GFOI Office, CEOS CEO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ull input from agencies not able to participate (INPE, CRESDA, CONAE, DLR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95400" y="2992320"/>
            <a:ext cx="4211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ne day dedicated to interaction with GFOI Pilot Countie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rganised by SilvaCarbon, country representation from Mexico, Colombia, Ecuador, Peru, Guyana and Honduras. All representing their relevant government agency responsible for MRV impl. (MoE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ustralia/Indonesia participating via GT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27" name="Picture 7" descr="DSCN2165.JPG"/>
          <p:cNvPicPr/>
          <p:nvPr/>
        </p:nvPicPr>
        <p:blipFill>
          <a:blip r:embed="rId1"/>
          <a:srcRect l="4665" t="9053" r="3709" b="8054"/>
          <a:stretch/>
        </p:blipFill>
        <p:spPr>
          <a:xfrm>
            <a:off x="4343400" y="3191040"/>
            <a:ext cx="459756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DCG-4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596880" y="1566720"/>
            <a:ext cx="79167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4 Country Da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oad consultation with country representative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ace Data Services (Element 2) input and feed-back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etter understanding specific national/regional needs and requirement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ata access and physical provision key issue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 is facilitating delivery by a CEOS/GEO initiative to actual governments for real national activities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57240">
              <a:lnSpc>
                <a:spcPct val="11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pcoming activities and milestone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60360" y="1643040"/>
            <a:ext cx="8504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EOS Plenary, Montreal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d-hoc SDCG for GFOI seeking Plenary approval for continued existence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Deliverables for CEOS SIT-29 [on track]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(Element 1) implementation 2013 – results summary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Implementation Plan for 2014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FOI Space Data Services (Element 2) Plan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Others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sultation meeting for commercial satellite data providers tentatively planned for October 2013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untry day for Asian countries (SilvaCarbon WS, Bangkok, 2014/01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DCG-5 - tentatively planned for Feb 2014 (ESA/ESRIN TBC)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35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cknowledgement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49280" y="116352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John Faundee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SDCG Co-chair until June 2013 – for his dedication and strong contributions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ylvia Wilson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 and SilvaCarbon – for the organisation of the SDCG-4 country day and for supporting the participation of the country representatives at the meetin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rian Killough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NASA SEO – and his Team, for burning the midnight oil to provide invaluable support to SDCG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ene Fosnight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USGS, Landsat Data Acquisition Manager – for making himself available to SDCG on several occasions and for listening attentively to suggestions and advise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ve Briggs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for being an extremely effective lead for CEOS in GFOI and advocate for GFOI in general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tephen Ward and George Dyke 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– SDCG Sec – for being the true strategic drivers behind the SDCG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Content Placeholder 2"/>
          <p:cNvSpPr/>
          <p:nvPr/>
        </p:nvSpPr>
        <p:spPr>
          <a:xfrm>
            <a:off x="3719520" y="1736640"/>
            <a:ext cx="515952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Global Baseline Strategy and Implementation Plan for 2013 approved by CEOS @ SIT-28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Baseline strategy objective to assure the availability of temporally and spatially consistent time-series of optical and SAR satellite data over the global forest cover.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Initial priority on tropical forest countries developing national MRV systems for REDD+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Element 1 focus on publicly open (“core”) satellite data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with aim at full global scale operations by 2016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1" name="Picture 8" descr="Screen Shot 2013-08-30 at 3.07.49 PM.png"/>
          <p:cNvPicPr/>
          <p:nvPr/>
        </p:nvPicPr>
        <p:blipFill>
          <a:blip r:embed="rId1"/>
          <a:stretch/>
        </p:blipFill>
        <p:spPr>
          <a:xfrm>
            <a:off x="287280" y="1681200"/>
            <a:ext cx="3267000" cy="4621320"/>
          </a:xfrm>
          <a:prstGeom prst="rect">
            <a:avLst/>
          </a:prstGeom>
          <a:ln w="0">
            <a:noFill/>
          </a:ln>
        </p:spPr>
      </p:pic>
      <p:sp>
        <p:nvSpPr>
          <p:cNvPr id="92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49280" y="1720800"/>
            <a:ext cx="82296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Phased implementation to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the schedule of gradually increasing availability of the anticipated core data streams between now and 2016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low the establishment of the necessary coordination processes with contributing agencies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eflect priorities set by the policy context and readiness of individual countries to participate in REDD+ development;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•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take into account the need for continuity of coverage of the existing National Demonstrator countries established under the GEO-FCT Task as a precursor to GFOI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le 1"/>
          <p:cNvSpPr/>
          <p:nvPr/>
        </p:nvSpPr>
        <p:spPr>
          <a:xfrm>
            <a:off x="1193760" y="90360"/>
            <a:ext cx="749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obal Baseline Acquisition Strategy for GFO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Element 1)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743440" y="1922400"/>
            <a:ext cx="328464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740560" y="4219560"/>
            <a:ext cx="3287520" cy="215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Screen Shot 2013-08-30 at 2.44.48 PM.png"/>
          <p:cNvPicPr/>
          <p:nvPr/>
        </p:nvPicPr>
        <p:blipFill>
          <a:blip r:embed="rId3"/>
          <a:stretch/>
        </p:blipFill>
        <p:spPr>
          <a:xfrm>
            <a:off x="171360" y="3946680"/>
            <a:ext cx="5416560" cy="243648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2"/>
          <p:cNvSpPr/>
          <p:nvPr/>
        </p:nvSpPr>
        <p:spPr>
          <a:xfrm>
            <a:off x="271440" y="1703520"/>
            <a:ext cx="53164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bsolute minimum requirement is the successful acquisitions of </a:t>
            </a:r>
            <a:r>
              <a:rPr b="0" lang="en-US" sz="2200" spc="-1" strike="noStrike" u="sng">
                <a:solidFill>
                  <a:srgbClr val="002569"/>
                </a:solidFill>
                <a:uFillTx/>
                <a:latin typeface="Calibri"/>
                <a:ea typeface="ＭＳ Ｐゴシック"/>
              </a:rPr>
              <a:t>at least</a:t>
            </a: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one annual national cloud-free optical coverage over each target country. 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Ultimate aim: inter- and intra-annual multi-mission time-series observation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5752440" y="19447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3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749560" y="4192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2014 countri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le 1"/>
          <p:cNvSpPr/>
          <p:nvPr/>
        </p:nvSpPr>
        <p:spPr>
          <a:xfrm>
            <a:off x="119376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 and 8 the only Core Missions in operation in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launch shifted to end of 2013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1A launch shifted to March-May 2014. Expected (limited) operations in support of GFOI not before mid 2014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merica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6" name="Picture 5" descr="Screen Shot 2013-09-11 at 12.14.16 AM.png"/>
          <p:cNvPicPr/>
          <p:nvPr/>
        </p:nvPicPr>
        <p:blipFill>
          <a:blip r:embed="rId1"/>
          <a:stretch/>
        </p:blipFill>
        <p:spPr>
          <a:xfrm>
            <a:off x="177840" y="1868400"/>
            <a:ext cx="87883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449280" y="132408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fric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9" name="Picture 6" descr="Screen Shot 2013-09-11 at 12.14.31 AM.png"/>
          <p:cNvPicPr/>
          <p:nvPr/>
        </p:nvPicPr>
        <p:blipFill>
          <a:blip r:embed="rId1"/>
          <a:stretch/>
        </p:blipFill>
        <p:spPr>
          <a:xfrm>
            <a:off x="254160" y="1928880"/>
            <a:ext cx="86468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1193760" y="12240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tus of 2013 Implementation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449280" y="1695600"/>
            <a:ext cx="8229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- Asia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12" name="Picture 6" descr="Screen Shot 2013-09-11 at 12.14.46 AM.png"/>
          <p:cNvPicPr/>
          <p:nvPr/>
        </p:nvPicPr>
        <p:blipFill>
          <a:blip r:embed="rId1"/>
          <a:stretch/>
        </p:blipFill>
        <p:spPr>
          <a:xfrm>
            <a:off x="63360" y="2541600"/>
            <a:ext cx="90298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733320" y="231840"/>
            <a:ext cx="7493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utlook for 2014 IP</a:t>
            </a:r>
            <a:br>
              <a:rPr sz="2800"/>
            </a:b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449280" y="1568520"/>
            <a:ext cx="82296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Mission Statu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re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Landsat 7/8 the only Core Missions in operation also for most of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BERS-3 and Sentinel-1A: Expected (limited) operations in support of GFOI, but not before mid 2014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entinel-2A launch in 2014/Q3. Expected limited operations for GFOI in 2015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ntributing missions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SPOT-4 de-orbited, SPOT-5 scheduled to begin de-orbit end of 2014. Possible science observation opportunities in mid/late 2014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Radarsat-2 and TerraSAR-X/TanDEM-X in operations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COSMO-SkyMed constellation in operations (SDCG door still open…)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Calibri"/>
                <a:ea typeface="ＭＳ Ｐゴシック"/>
              </a:rPr>
              <a:t>ALOS-2 scheduled for launch in JFY-2013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1:11:17Z</dcterms:created>
  <dc:creator>Brian Killough</dc:creator>
  <dc:description/>
  <dc:language>en-US</dc:language>
  <cp:lastModifiedBy>Keith, Kim Elizabeth (LARC-D2)[SCIENCE SYSTEMS AND APPLICATIONS, INC]</cp:lastModifiedBy>
  <dcterms:modified xsi:type="dcterms:W3CDTF">2013-09-16T15:09:46Z</dcterms:modified>
  <cp:revision>390</cp:revision>
  <dc:subject/>
  <dc:title>Title</dc:title>
</cp:coreProperties>
</file>