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B6111-D4BC-480C-8595-9FDD6E38E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8F590-D5C0-494F-85D7-FC7A9C5EF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03800-D4FA-4FD5-9C0F-0BDFEE4B7190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5CA3-2200-4760-8A1B-6B4C5A71B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147D-275B-4E40-BE93-E694FE61B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ABE7-9084-45C3-8F8D-8393A8095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ED29-3F38-42CF-A1B0-B77991934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0278-E596-40E4-B69F-B06CFBA11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4D8A-F2A3-4B3F-BC0A-29E684C6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50D4-B805-445D-9724-E6D937B49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53C7-07B3-4CB1-A0FE-393B782F9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0C40-7F1A-4AD0-904E-0B6CCE5B7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A4F8-79AD-4803-A1F3-3A3902692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C6F3-B7EE-4FB5-A2C3-5AB6173D4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8720-4105-4546-9EA5-9C7048E90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B8D9B-B7A2-4820-8074-36C855B6723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488B7524-A3E6-4902-895E-AB085CE8D65F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ceosplenary.org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bam.qc.ca/en/" TargetMode="External"/><Relationship Id="rId2" Type="http://schemas.openxmlformats.org/officeDocument/2006/relationships/hyperlink" Target="http://www.mbam.qc.ca/en/" TargetMode="External"/><Relationship Id="rId3" Type="http://schemas.openxmlformats.org/officeDocument/2006/relationships/hyperlink" Target="http://www.mbam.qc.ca/e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Luc Brûlé, CEOS Chair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960200" y="666720"/>
            <a:ext cx="694044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Update on 2013 Plenary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E2E69-4F49-41BC-9390-13E75A78D2B8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94" name="Picture 2" descr="C:\Users\mjbourassa\AppData\Local\Microsoft\Windows\Temporary Internet Files\Content.Outlook\WSRWQR2G\Invitation_Plenary_Front (2).jpg"/>
          <p:cNvPicPr/>
          <p:nvPr/>
        </p:nvPicPr>
        <p:blipFill>
          <a:blip r:embed="rId1"/>
          <a:stretch/>
        </p:blipFill>
        <p:spPr>
          <a:xfrm>
            <a:off x="-34920" y="-106200"/>
            <a:ext cx="9232920" cy="71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1649520"/>
            <a:ext cx="4572000" cy="414000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572000" y="1353960"/>
            <a:ext cx="4572000" cy="278784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1957320" y="2705040"/>
            <a:ext cx="4572000" cy="4152960"/>
          </a:xfrm>
          <a:prstGeom prst="rect">
            <a:avLst/>
          </a:prstGeom>
          <a:ln w="12600">
            <a:solidFill>
              <a:srgbClr val="7f7f7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6529320" y="4654440"/>
            <a:ext cx="2614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</a:rPr>
              <a:t>Plenary website:</a:t>
            </a:r>
            <a:br>
              <a:rPr sz="1800"/>
            </a:br>
            <a:r>
              <a:rPr b="0" lang="en-US" sz="1800" spc="-1" strike="noStrike" u="sng">
                <a:solidFill>
                  <a:srgbClr val="7498c0"/>
                </a:solidFill>
                <a:uFillTx/>
                <a:latin typeface="Arial"/>
                <a:hlinkClick r:id="rId4"/>
              </a:rPr>
              <a:t>www.ceosplenary.or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Content provided and updated by CSA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  <a:p>
            <a:pPr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</a:rPr>
              <a:t>Site built and hosted by CEOS SEO Team</a:t>
            </a:r>
            <a:endParaRPr b="0" lang="en-US" sz="16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D33FF-0132-40DC-BC5C-119DF7DA26E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1" name="TextBox 8" descr=""/>
          <p:cNvPicPr/>
          <p:nvPr/>
        </p:nvPicPr>
        <p:blipFill>
          <a:blip r:embed="rId5"/>
          <a:stretch/>
        </p:blipFill>
        <p:spPr>
          <a:xfrm>
            <a:off x="792000" y="4767120"/>
            <a:ext cx="4889520" cy="4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5880" y="1465200"/>
            <a:ext cx="866268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lenary Location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</a:rPr>
              <a:t>: Hotel OMNI Mont Royal in downtown Montreal.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Participants are encouraged to stay at this hotel. Book early </a:t>
            </a:r>
            <a:br>
              <a:rPr sz="2000"/>
            </a:b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o enjoy the preferential rate of $140 CDN per night.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4" name="Picture 4" descr="http://www.omnihotels.com/~/media/Images/hotels/mondtn/property_photos/792/mondtn%20pro%200%20jpg.ashx"/>
          <p:cNvPicPr/>
          <p:nvPr/>
        </p:nvPicPr>
        <p:blipFill>
          <a:blip r:embed="rId1"/>
          <a:stretch/>
        </p:blipFill>
        <p:spPr>
          <a:xfrm>
            <a:off x="866880" y="2824200"/>
            <a:ext cx="5311800" cy="3963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5" name="Picture 6" descr="http://www.omnihotels.com/~/media/Images/hotels/mondtn/property_photos/792/MONDTN_meetingspaceNEW.ashx"/>
          <p:cNvPicPr/>
          <p:nvPr/>
        </p:nvPicPr>
        <p:blipFill>
          <a:blip r:embed="rId2"/>
          <a:stretch/>
        </p:blipFill>
        <p:spPr>
          <a:xfrm>
            <a:off x="4849920" y="3224160"/>
            <a:ext cx="3378240" cy="209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6" name="Picture 10" descr="http://www.omnihotels.com/~/media/Images/hotels/mondtn/property_photos/792/mondtn_alicelounge.ashx"/>
          <p:cNvPicPr/>
          <p:nvPr/>
        </p:nvPicPr>
        <p:blipFill>
          <a:blip r:embed="rId3"/>
          <a:stretch/>
        </p:blipFill>
        <p:spPr>
          <a:xfrm>
            <a:off x="4579920" y="4962600"/>
            <a:ext cx="2681280" cy="166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7" name="Slide Number Placeholder 6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39590-198D-4949-A024-969F14CE7464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Chair Update On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5880" y="1465200"/>
            <a:ext cx="866268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itial Progr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46240" y="2203560"/>
          <a:ext cx="8662680" cy="4114800"/>
        </p:xfrm>
        <a:graphic>
          <a:graphicData uri="http://schemas.openxmlformats.org/drawingml/2006/table">
            <a:tbl>
              <a:tblPr/>
              <a:tblGrid>
                <a:gridCol w="3036600"/>
                <a:gridCol w="5626080"/>
              </a:tblGrid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Monday, November 4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Side meetings + SEC meeting 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8:00 – 20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Opening reception at 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1"/>
                        </a:rPr>
                        <a:t>Montreal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2"/>
                        </a:rPr>
                        <a:t>’</a:t>
                      </a:r>
                      <a:r>
                        <a:rPr b="0" lang="en-US" sz="1800" spc="-1" strike="noStrike" u="sng">
                          <a:solidFill>
                            <a:srgbClr val="7498c0"/>
                          </a:solidFill>
                          <a:uFillTx/>
                          <a:latin typeface="Arial"/>
                          <a:hlinkClick r:id="rId3"/>
                        </a:rPr>
                        <a:t>s Museum of Fine Arts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Tuesday, November 5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CEOS Plenary Day 1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9:00 – 21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Hosted dinner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Wednesday, November 6</a:t>
                      </a:r>
                      <a:r>
                        <a:rPr b="1" lang="en-US" sz="1800" spc="-1" strike="noStrike" baseline="30000">
                          <a:solidFill>
                            <a:srgbClr val="002569"/>
                          </a:solidFill>
                          <a:latin typeface="Arial"/>
                        </a:rPr>
                        <a:t>th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8:00 – 17:3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CEOS Plenary Day 2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18:00 – 22:00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2569"/>
                          </a:solidFill>
                          <a:latin typeface="Arial"/>
                        </a:rPr>
                        <a:t>No host dinner</a:t>
                      </a:r>
                      <a:endParaRPr b="0" lang="en-US" sz="1800" spc="-1" strike="noStrike">
                        <a:solidFill>
                          <a:srgbClr val="00256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</a:tr>
            </a:tbl>
          </a:graphicData>
        </a:graphic>
      </p:graphicFrame>
      <p:sp>
        <p:nvSpPr>
          <p:cNvPr id="111" name="Slide Number Placeholder 4"/>
          <p:cNvSpPr/>
          <p:nvPr/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DD2C9-380A-4228-A74B-5F8C795A3A5F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Luc Brûlé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2:31Z</dcterms:modified>
  <cp:revision>73</cp:revision>
  <dc:subject/>
  <dc:title>CEOS Chair</dc:title>
</cp:coreProperties>
</file>