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Click to edit the notes format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 don’t want to point fingers, but only ESA, ASI, CSA and DLR are fully engaged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Most crucial gap is JAXA (Alos/Alos-2), but also CDTI (PAZ), CRESDA (HJ-1C), ISRO (RISAT?)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NASA, CNES would be interesting once use moves beyond SAR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How about taking an action for all CEOS agencies to provide a name/contact to CEOS Sec by xyz date / or decline as not interested?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I don’t want to point fingers, but only ESA, ASI, CSA and DLR are fully engaged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Most crucial gap is JAXA (Alos/Alos-2), but also CDTI (PAZ), CRESDA (HJ-1C), ISRO (RISAT?)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NASA, CNES would be interesting once use moves beyond SAR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How about taking an action for all CEOS agencies to provide a name/contact to CEOS Sec by xyz date / or decline as not interested?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404200" y="6616800"/>
            <a:ext cx="615960" cy="190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f758d"/>
                </a:solidFill>
                <a:latin typeface="Arial"/>
              </a:rPr>
              <a:t>Sl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7320" y="6494400"/>
            <a:ext cx="7845120" cy="21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1335"/>
                </a:solidFill>
                <a:latin typeface="Arial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mage2.png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89240" y="0"/>
            <a:ext cx="4810320" cy="25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079880" y="2722680"/>
            <a:ext cx="4827600" cy="280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47840"/>
            <a:ext cx="9144000" cy="551016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" y="558720"/>
            <a:ext cx="1866960" cy="57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IT Technical Worksh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sadena, California, USA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 11-12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2.png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6240" y="-360"/>
            <a:ext cx="6931080" cy="87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50280" y="6627960"/>
            <a:ext cx="617400" cy="190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f758d"/>
                </a:solidFill>
                <a:latin typeface="Arial"/>
              </a:rPr>
              <a:t>Sl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7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7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47840"/>
            <a:ext cx="9144000" cy="551016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80" y="558720"/>
            <a:ext cx="1866960" cy="576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IT Technical Worksh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sadena, California, USA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 11-12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2.png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91600" y="6586560"/>
            <a:ext cx="615960" cy="190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f758d"/>
                </a:solidFill>
                <a:latin typeface="Arial"/>
              </a:rPr>
              <a:t>Sl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7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74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ceos.org/images/Floods_Analysis_030713.pdf" TargetMode="External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404200" y="661680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92042-95A7-4FAC-A491-FDF938000D38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073400" y="2403000"/>
            <a:ext cx="4826160" cy="109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P section 4. Disaster Risk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rancis Lindsay and Karen Moe, 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668760" y="666720"/>
            <a:ext cx="5230800" cy="187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T Technical Worksho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sters SBA Report</a:t>
            </a: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ptember 201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2B759-23BA-4506-8F21-FFC5DCAEB50B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29840" y="126720"/>
            <a:ext cx="7658280" cy="60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I-01-C3_2 Southern African Flood and Health Pil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317600"/>
            <a:ext cx="9144000" cy="64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Ground Cal/Val Exercise with Radarsat, EO-1, Ground Team, Helicopter team, OpenStreetMap, Crowd Sourcing on Kavango river in Namibia 1-30-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295280" y="1895400"/>
            <a:ext cx="6548760" cy="3972240"/>
            <a:chOff x="1295280" y="1895400"/>
            <a:chExt cx="6548760" cy="3972240"/>
          </a:xfrm>
        </p:grpSpPr>
        <p:pic>
          <p:nvPicPr>
            <p:cNvPr id="257" name="image17.jpg" descr=""/>
            <p:cNvPicPr/>
            <p:nvPr/>
          </p:nvPicPr>
          <p:blipFill>
            <a:blip r:embed="rId2"/>
            <a:stretch/>
          </p:blipFill>
          <p:spPr>
            <a:xfrm>
              <a:off x="1295280" y="1895400"/>
              <a:ext cx="6206400" cy="37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006280" y="3171600"/>
              <a:ext cx="137880" cy="65952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5280" y="2692440"/>
              <a:ext cx="1638000" cy="90900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O-1 Water Edge Detection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855160" y="2592360"/>
              <a:ext cx="267480" cy="11242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63840" y="2314080"/>
              <a:ext cx="5051880" cy="37836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adarsat Water Edge Detection (yellow polyg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376080" y="3171600"/>
              <a:ext cx="405720" cy="5446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8200" y="2956320"/>
              <a:ext cx="4352400" cy="31824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am 1 walking bank to collect  GPS point s (red X’s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16200" y="4944240"/>
              <a:ext cx="1433520" cy="92340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am 2 walking bank to collect  GPS point s (green X’s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006280" y="4135320"/>
              <a:ext cx="137880" cy="82008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2590200" y="3920400"/>
              <a:ext cx="2423880" cy="97200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08360" y="4032000"/>
              <a:ext cx="3235680" cy="315360"/>
            </a:xfrm>
            <a:prstGeom prst="pie">
              <a:avLst/>
            </a:prstGeom>
            <a:solidFill>
              <a:srgbClr val="002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ne of 500 GPS photos from helicop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17360" y="5859360"/>
            <a:ext cx="9144000" cy="927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This pilot project represents a good example of cooperation with local authorities and other stakeholders and will also contribute to the development of a multi-hazards Global Observation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04637-9325-4E7F-9B8B-9BE4B79552C3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9440" y="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ar Futur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4160" y="1117440"/>
            <a:ext cx="8634240" cy="5550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254160" indent="-254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Additional expected achievements by the end of 2013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Complete GEO WP review for the Disaster Task (2 news compon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Assess applicability of Flood Gap Analysis to other type of disasters 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there is a proposal is to develop a tool to automate future gap assess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The Caribbean flood pilot will continue to monitor storms through the 2013 s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Finalize resource proposal for Iceland and Turkey Super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Finalize resource agreement for the Coastal Zone demon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Contribution to 2013 Events (</a:t>
            </a:r>
            <a:r>
              <a:rPr b="1" i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e.g., </a:t>
            </a:r>
            <a:r>
              <a:rPr b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GEO Ministerial Summit, COP-19/SBSTA-3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9376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Contribution to the GEO AIP video booth and to the CEOS video on tsunami/QA4EO/disasters, which will be shown in the CEOS booth during the GEO Ministerial Sum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B8A05-E63D-4CEA-B234-14C5CDB4B2B2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79440" y="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ar Futur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4160" y="1141560"/>
            <a:ext cx="8634240" cy="5130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c4f"/>
                </a:solidFill>
                <a:latin typeface="Arial"/>
                <a:ea typeface="Arial"/>
              </a:rPr>
              <a:t>Information on any decision(s) that need to be made at CEOS Plena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None at present, pending the possible reorganization of activities proposed by the Disaster Study Team propo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However, ongoing disaster activities as presented here will continue on in their develop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19B7A-2687-434F-9A8B-D198ED91DA92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100080"/>
            <a:ext cx="7034400" cy="739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 of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6600" y="1536840"/>
            <a:ext cx="8469360" cy="459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71280" indent="-7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intended to provide the SIT with the current status and updated progress on the disaster activities supported within CE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tly CEOS is engaged in ten disaster actions/activ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indent="-71280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1: Satellite data Needs and Gaps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Guy Seguin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2: Architecture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Karen Moe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3: Global Observation Strategy for DRM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, Ivan Petiteville, 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4: Hyogo Framework stakeholder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Ivan Petiteville, 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1_5: Use of Satellite data for coastal zones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Guy Seguin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2_1: Global web-based volcanic ash service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Claus Zehner, 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2_2: Supersite proposal evaluation: 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Jörn Hoffmann, D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2_4: Supersite data provision coordination: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Jörn Hoffmann, D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3_1: Caribbean Satellite Disaster Pilot: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Stuart Frye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C3_2: Southern African Flood and Health Pilot: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90"/>
                </a:solidFill>
                <a:latin typeface="Arial"/>
                <a:ea typeface="Arial"/>
              </a:rPr>
              <a:t>PoC Stuart Frye, N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65971-5F43-48EC-88BB-76F6B72A4D7C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920" y="99720"/>
            <a:ext cx="7034400" cy="7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sasters SBA Report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95560"/>
            <a:ext cx="9144000" cy="5574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Accomplishments since the 2012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Report on the progress of the Disaster Task at the GEO Symposium (June 20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A Gap analysis was developed for flood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A high-level model/architecture was developed for Disast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Contributed to a Global Observation Strategy being developed under D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A proposal was received from the Coastal Zone C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Supersites proposals are being developed for Ice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A report on the 2012 Caribbean Satellite Disaster Pilot was pro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03200" indent="-1602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Arial"/>
              </a:rPr>
              <a:t>Flood event in Namibia was used for a Cal/Val exerc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Future remaining activities and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Wingdings" charset="2"/>
              <a:buChar char="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Completion/wrap-up of actions and plan for disaster SBA activity contin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ership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Wingdings" charset="2"/>
              <a:buChar char="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Note, Francis Lindsay (NASA) is assuming Disaster SBA Coordinator position from Karen Moe (NAS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1c4f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1c4f"/>
                </a:solidFill>
                <a:latin typeface="Arial"/>
                <a:ea typeface="Arial"/>
              </a:rPr>
              <a:t>Main Issues/concer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Wingdings" charset="2"/>
              <a:buChar char="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Impact of decisions at the CEOS Plenary on the continuity of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Font typeface="Wingdings" charset="2"/>
              <a:buChar char="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Organization and leadership of the Disast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087C8-3339-436C-9862-EC9D4FEB0944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63360"/>
            <a:ext cx="7034400" cy="81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mapping of the CEOS and GEO Disaster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35240"/>
            <a:ext cx="4799160" cy="350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1: Satellite data Needs and Gap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2: Architecture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5: Use of Satellite data for coastal z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2_1: Global web-based volcanic ash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2_2: Supersite proposal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2_4: Supersite data provision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3_1: Caribbean Satellite Disaster 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3_2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thern African Flood and Health Pi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3: Global Observation Strategy for DRM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1_4: Hyogo Framework stakeholder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811760" y="2235240"/>
            <a:ext cx="153000" cy="911880"/>
            <a:chOff x="4811760" y="2235240"/>
            <a:chExt cx="153000" cy="911880"/>
          </a:xfrm>
        </p:grpSpPr>
        <p:sp>
          <p:nvSpPr>
            <p:cNvPr id="141" name=""/>
            <p:cNvSpPr/>
            <p:nvPr/>
          </p:nvSpPr>
          <p:spPr>
            <a:xfrm>
              <a:off x="4811760" y="2235240"/>
              <a:ext cx="153000" cy="91188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11760" y="2235240"/>
              <a:ext cx="153000" cy="911880"/>
            </a:xfrm>
            <a:prstGeom prst="pie">
              <a:avLst/>
            </a:pr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811760" y="3225960"/>
            <a:ext cx="195840" cy="911880"/>
            <a:chOff x="4811760" y="3225960"/>
            <a:chExt cx="195840" cy="911880"/>
          </a:xfrm>
        </p:grpSpPr>
        <p:sp>
          <p:nvSpPr>
            <p:cNvPr id="144" name=""/>
            <p:cNvSpPr/>
            <p:nvPr/>
          </p:nvSpPr>
          <p:spPr>
            <a:xfrm>
              <a:off x="4811760" y="3225960"/>
              <a:ext cx="195840" cy="91188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1760" y="3225960"/>
              <a:ext cx="195840" cy="911880"/>
            </a:xfrm>
            <a:prstGeom prst="pie">
              <a:avLst/>
            </a:pr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811760" y="4241880"/>
            <a:ext cx="140400" cy="721440"/>
            <a:chOff x="4811760" y="4241880"/>
            <a:chExt cx="140400" cy="721440"/>
          </a:xfrm>
        </p:grpSpPr>
        <p:sp>
          <p:nvSpPr>
            <p:cNvPr id="147" name=""/>
            <p:cNvSpPr/>
            <p:nvPr/>
          </p:nvSpPr>
          <p:spPr>
            <a:xfrm>
              <a:off x="4811760" y="4241880"/>
              <a:ext cx="140400" cy="72144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11760" y="4241880"/>
              <a:ext cx="140400" cy="721440"/>
            </a:xfrm>
            <a:prstGeom prst="pie">
              <a:avLst/>
            </a:pr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11760" y="5018040"/>
            <a:ext cx="140400" cy="554760"/>
            <a:chOff x="4811760" y="5018040"/>
            <a:chExt cx="140400" cy="554760"/>
          </a:xfrm>
        </p:grpSpPr>
        <p:sp>
          <p:nvSpPr>
            <p:cNvPr id="150" name=""/>
            <p:cNvSpPr/>
            <p:nvPr/>
          </p:nvSpPr>
          <p:spPr>
            <a:xfrm>
              <a:off x="4811760" y="5018040"/>
              <a:ext cx="140400" cy="55476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11760" y="5018040"/>
              <a:ext cx="140400" cy="554760"/>
            </a:xfrm>
            <a:prstGeom prst="pie">
              <a:avLst/>
            </a:pr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038560" y="2425680"/>
            <a:ext cx="665280" cy="53352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38560" y="3403440"/>
            <a:ext cx="665280" cy="53352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38560" y="4294080"/>
            <a:ext cx="665280" cy="53352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8560" y="5040360"/>
            <a:ext cx="665280" cy="53496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3366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0240" y="2235240"/>
            <a:ext cx="2997000" cy="914400"/>
          </a:xfrm>
          <a:prstGeom prst="pi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80240" y="3225960"/>
            <a:ext cx="2997000" cy="914400"/>
          </a:xfrm>
          <a:prstGeom prst="pi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80240" y="4241880"/>
            <a:ext cx="2997000" cy="723960"/>
          </a:xfrm>
          <a:prstGeom prst="pi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80240" y="5040360"/>
            <a:ext cx="2997000" cy="752400"/>
          </a:xfrm>
          <a:prstGeom prst="pie">
            <a:avLst/>
          </a:pr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5240" y="1878120"/>
            <a:ext cx="2146320" cy="36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GEO Disaste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80240" y="2246400"/>
            <a:ext cx="3068640" cy="1170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C1 Disaster Management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International Charter on 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Enhance use of Satellite data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Perform a gap analysi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80240" y="3238560"/>
            <a:ext cx="2560320" cy="954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166680" indent="-166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C2 Geohazards Monitoring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Global Earthquake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Super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Volcanic Ash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80240" y="4241880"/>
            <a:ext cx="2847960" cy="738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111240" indent="-1112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C3 Regional End to End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2569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Regional end to end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5052960"/>
            <a:ext cx="2778120" cy="52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Not in the W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A new component was prop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960" y="1514520"/>
            <a:ext cx="7639200" cy="26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ctivities are a mix of CEOS-led and CEOS acting as a contribu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6920" y="6280200"/>
            <a:ext cx="6051600" cy="21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* Note, this activity leverages the efforts of several tasks shown her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4E524-F493-4F8F-A3C7-DE02E6FC7E4F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517760"/>
            <a:ext cx="8221680" cy="233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Essential contribution to the component C1 of the Disaster Task “</a:t>
            </a:r>
            <a:r>
              <a:rPr b="1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Disaster Management Systems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” to Enhance the use of satellite data and to perform Gap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od Gap Analysis released in draft form (SIT 28, March 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established user needs =&gt; identify key observational requirements =&gt; relevant sensors and performed outward looking 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MT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per available a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ceos.org/images/Floods_Analysis_030713.pd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66840" y="263520"/>
            <a:ext cx="782316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-01-C1_1 Satellite data Needs and  Gap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450280" y="6627960"/>
            <a:ext cx="61740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5E2A2-D54B-4E44-8446-692B844920C7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20480" y="166320"/>
            <a:ext cx="7823160" cy="60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-01-C1_2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5680"/>
            <a:ext cx="9144000" cy="248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112554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12554"/>
                </a:solidFill>
                <a:latin typeface="Arial"/>
                <a:ea typeface="Arial"/>
              </a:rPr>
              <a:t>GEOSS Architecture for Disast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9836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2554"/>
                </a:solidFill>
                <a:latin typeface="Arial"/>
                <a:ea typeface="Arial"/>
              </a:rPr>
              <a:t>Describe and document a high-level reference model for the use of satellites and associated data to support disaster management and risk assess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112554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12554"/>
                </a:solidFill>
                <a:latin typeface="Arial"/>
                <a:ea typeface="Arial"/>
              </a:rPr>
              <a:t>2013 Achievements/Outcom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9836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2554"/>
                </a:solidFill>
                <a:latin typeface="Arial"/>
                <a:ea typeface="Arial"/>
              </a:rPr>
              <a:t>Contributions to ad hoc WG on DRM regarding architecture and data consider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9836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2554"/>
                </a:solidFill>
                <a:latin typeface="Arial"/>
                <a:ea typeface="Arial"/>
              </a:rPr>
              <a:t>Co-hosted GEOSS Future Products Workshop (featuring architectures)  March 20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19836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12554"/>
                </a:solidFill>
                <a:latin typeface="Arial"/>
                <a:ea typeface="Arial"/>
              </a:rPr>
              <a:t>GEOSS Architecture Implementation Pilot (AIP-5) contributions of targeted satellite images as tiled overlays for dashboard display enabling users to customize view of selected data product layers accessed using Cloud-technology January 20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57320" y="3895560"/>
            <a:ext cx="3804840" cy="2789280"/>
            <a:chOff x="157320" y="3895560"/>
            <a:chExt cx="3804840" cy="2789280"/>
          </a:xfrm>
        </p:grpSpPr>
        <p:grpSp>
          <p:nvGrpSpPr>
            <p:cNvPr id="174" name=""/>
            <p:cNvGrpSpPr/>
            <p:nvPr/>
          </p:nvGrpSpPr>
          <p:grpSpPr>
            <a:xfrm>
              <a:off x="157320" y="3895560"/>
              <a:ext cx="3804840" cy="2789280"/>
              <a:chOff x="157320" y="3895560"/>
              <a:chExt cx="3804840" cy="2789280"/>
            </a:xfrm>
          </p:grpSpPr>
          <p:sp>
            <p:nvSpPr>
              <p:cNvPr id="175" name=""/>
              <p:cNvSpPr/>
              <p:nvPr/>
            </p:nvSpPr>
            <p:spPr>
              <a:xfrm>
                <a:off x="157320" y="3895560"/>
                <a:ext cx="3804840" cy="27892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7320" y="3895560"/>
                <a:ext cx="3804840" cy="2547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erprise Viewpoint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ities for Satellite Products in DRM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 flipV="1">
              <a:off x="1333080" y="4716720"/>
              <a:ext cx="226440" cy="263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7400" y="4980600"/>
              <a:ext cx="860400" cy="1022040"/>
            </a:xfrm>
            <a:prstGeom prst="pie">
              <a:avLst/>
            </a:prstGeom>
            <a:noFill/>
            <a:ln w="25560">
              <a:solidFill>
                <a:srgbClr val="aecb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3320" y="5347080"/>
              <a:ext cx="797400" cy="27756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User-generated posting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3320" y="5017680"/>
              <a:ext cx="797400" cy="29196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Routine / Glob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Monitor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7400" y="4828680"/>
              <a:ext cx="785880" cy="203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1. Event detec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720" y="5639040"/>
              <a:ext cx="783000" cy="30060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Routine / Global model output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03480" y="4058640"/>
              <a:ext cx="912240" cy="618480"/>
            </a:xfrm>
            <a:prstGeom prst="pie">
              <a:avLst/>
            </a:prstGeom>
            <a:noFill/>
            <a:ln w="25560">
              <a:solidFill>
                <a:srgbClr val="aecb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91960" y="3906720"/>
              <a:ext cx="682560" cy="203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4. Model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940320" y="3921120"/>
              <a:ext cx="1477800" cy="841680"/>
              <a:chOff x="940320" y="3921120"/>
              <a:chExt cx="1477800" cy="841680"/>
            </a:xfrm>
          </p:grpSpPr>
          <p:sp>
            <p:nvSpPr>
              <p:cNvPr id="186" name=""/>
              <p:cNvSpPr/>
              <p:nvPr/>
            </p:nvSpPr>
            <p:spPr>
              <a:xfrm>
                <a:off x="940320" y="4086000"/>
                <a:ext cx="1477800" cy="676800"/>
              </a:xfrm>
              <a:prstGeom prst="pie">
                <a:avLst/>
              </a:prstGeom>
              <a:noFill/>
              <a:ln w="25560">
                <a:solidFill>
                  <a:srgbClr val="aecbff"/>
                </a:solidFill>
                <a:prstDash val="lgDash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003320" y="4534200"/>
                <a:ext cx="581040" cy="21672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Task sensor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69880" y="4137840"/>
                <a:ext cx="403560" cy="21672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In situ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51480" y="4149360"/>
                <a:ext cx="492480" cy="20520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Remot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58880" y="4534200"/>
                <a:ext cx="569880" cy="21672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Acquire dat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1395360" y="4329000"/>
                <a:ext cx="289080" cy="216720"/>
              </a:xfrm>
              <a:prstGeom prst="line">
                <a:avLst/>
              </a:prstGeom>
              <a:ln w="12600">
                <a:solidFill>
                  <a:srgbClr val="0070c0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1191960" y="4329000"/>
                <a:ext cx="140040" cy="216720"/>
              </a:xfrm>
              <a:prstGeom prst="line">
                <a:avLst/>
              </a:prstGeom>
              <a:ln w="12600">
                <a:solidFill>
                  <a:srgbClr val="0070c0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40320" y="3921120"/>
                <a:ext cx="795960" cy="19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3. Data acquisi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1913760" y="4126320"/>
                <a:ext cx="438480" cy="225360"/>
                <a:chOff x="1913760" y="4126320"/>
                <a:chExt cx="438480" cy="225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913760" y="4126320"/>
                  <a:ext cx="438480" cy="225360"/>
                </a:xfrm>
                <a:prstGeom prst="pie">
                  <a:avLst/>
                </a:prstGeom>
                <a:noFill/>
                <a:ln w="3240">
                  <a:solidFill>
                    <a:srgbClr val="007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913760" y="4138200"/>
                  <a:ext cx="438480" cy="2134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760" rIns="50760" tIns="50760" bIns="50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600" spc="-1" strike="noStrike">
                      <a:solidFill>
                        <a:srgbClr val="002569"/>
                      </a:solidFill>
                      <a:latin typeface="Arial"/>
                      <a:ea typeface="Arial"/>
                    </a:rPr>
                    <a:t>Archive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 flipV="1">
                <a:off x="1976760" y="4329000"/>
                <a:ext cx="163080" cy="216720"/>
              </a:xfrm>
              <a:prstGeom prst="line">
                <a:avLst/>
              </a:prstGeom>
              <a:ln w="12600">
                <a:solidFill>
                  <a:srgbClr val="0070c0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1069560" y="5146200"/>
              <a:ext cx="364320" cy="2268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966040" y="5613480"/>
              <a:ext cx="906480" cy="1007640"/>
              <a:chOff x="2966040" y="5613480"/>
              <a:chExt cx="906480" cy="1007640"/>
            </a:xfrm>
          </p:grpSpPr>
          <p:sp>
            <p:nvSpPr>
              <p:cNvPr id="200" name=""/>
              <p:cNvSpPr/>
              <p:nvPr/>
            </p:nvSpPr>
            <p:spPr>
              <a:xfrm>
                <a:off x="2991960" y="5819040"/>
                <a:ext cx="842760" cy="21708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Visualiz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991960" y="6381000"/>
                <a:ext cx="726840" cy="21708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Ongoing updat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91960" y="6186960"/>
                <a:ext cx="842760" cy="21708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Alerts / Notice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91960" y="6010200"/>
                <a:ext cx="842760" cy="20268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Publish produc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66040" y="5778360"/>
                <a:ext cx="906480" cy="842760"/>
              </a:xfrm>
              <a:prstGeom prst="pie">
                <a:avLst/>
              </a:prstGeom>
              <a:noFill/>
              <a:ln w="25560">
                <a:solidFill>
                  <a:srgbClr val="aecbff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66040" y="5613480"/>
                <a:ext cx="726840" cy="19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6. Dissemin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129480" y="4728600"/>
              <a:ext cx="705960" cy="830160"/>
              <a:chOff x="3129480" y="4728600"/>
              <a:chExt cx="705960" cy="830160"/>
            </a:xfrm>
          </p:grpSpPr>
          <p:sp>
            <p:nvSpPr>
              <p:cNvPr id="207" name=""/>
              <p:cNvSpPr/>
              <p:nvPr/>
            </p:nvSpPr>
            <p:spPr>
              <a:xfrm>
                <a:off x="3192120" y="4930920"/>
                <a:ext cx="517320" cy="21384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Preproces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92120" y="5145120"/>
                <a:ext cx="579960" cy="21096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Analyz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469320" y="5105160"/>
                <a:ext cx="25560" cy="51120"/>
              </a:xfrm>
              <a:prstGeom prst="line">
                <a:avLst/>
              </a:prstGeom>
              <a:ln w="9360">
                <a:solidFill>
                  <a:srgbClr val="0070c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400" bIns="54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29480" y="4890960"/>
                <a:ext cx="705960" cy="656280"/>
              </a:xfrm>
              <a:prstGeom prst="pie">
                <a:avLst/>
              </a:prstGeom>
              <a:noFill/>
              <a:ln w="25560">
                <a:solidFill>
                  <a:srgbClr val="aecbff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29480" y="4728600"/>
                <a:ext cx="517320" cy="188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5. Analysi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192120" y="5344920"/>
                <a:ext cx="579960" cy="21384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Interpre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80840" y="5333400"/>
                <a:ext cx="14040" cy="22680"/>
              </a:xfrm>
              <a:prstGeom prst="line">
                <a:avLst/>
              </a:prstGeom>
              <a:ln w="9360">
                <a:solidFill>
                  <a:srgbClr val="0070c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040" bIns="-230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2231640" y="5095800"/>
              <a:ext cx="519120" cy="37620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Decision Analysis: Act / Pl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22360" y="4969080"/>
              <a:ext cx="1365480" cy="629640"/>
            </a:xfrm>
            <a:prstGeom prst="pie">
              <a:avLst/>
            </a:prstGeom>
            <a:noFill/>
            <a:ln w="25560">
              <a:solidFill>
                <a:srgbClr val="aecb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22360" y="5599080"/>
              <a:ext cx="1276560" cy="203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2. Situational Awaren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474200" y="5032080"/>
              <a:ext cx="602280" cy="500760"/>
              <a:chOff x="1474200" y="5032080"/>
              <a:chExt cx="602280" cy="500760"/>
            </a:xfrm>
          </p:grpSpPr>
          <p:sp>
            <p:nvSpPr>
              <p:cNvPr id="218" name=""/>
              <p:cNvSpPr/>
              <p:nvPr/>
            </p:nvSpPr>
            <p:spPr>
              <a:xfrm>
                <a:off x="1474200" y="5032080"/>
                <a:ext cx="602280" cy="500760"/>
              </a:xfrm>
              <a:prstGeom prst="pie">
                <a:avLst/>
              </a:pr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474200" y="5084280"/>
                <a:ext cx="602280" cy="384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2569"/>
                    </a:solidFill>
                    <a:latin typeface="Arial"/>
                    <a:ea typeface="Arial"/>
                  </a:rPr>
                  <a:t>Gather / Assimilate Inform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flipV="1">
              <a:off x="1738080" y="4716720"/>
              <a:ext cx="266760" cy="263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776680" y="5221080"/>
              <a:ext cx="367200" cy="74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tIns="28440" bIns="28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87760" y="5587560"/>
              <a:ext cx="303840" cy="61848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0560" y="4084200"/>
              <a:ext cx="834840" cy="21456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Local Forecas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0560" y="4451040"/>
              <a:ext cx="834840" cy="20304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          </a:t>
              </a: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Hindcas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0560" y="4262040"/>
              <a:ext cx="834840" cy="214560"/>
            </a:xfrm>
            <a:prstGeom prst="pie">
              <a:avLst/>
            </a:pr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          </a:t>
              </a:r>
              <a:r>
                <a:rPr b="0" lang="en-US" sz="600" spc="-1" strike="noStrike">
                  <a:solidFill>
                    <a:srgbClr val="002569"/>
                  </a:solidFill>
                  <a:latin typeface="Arial"/>
                  <a:ea typeface="Arial"/>
                </a:rPr>
                <a:t>Nowcas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472480" y="4399200"/>
              <a:ext cx="530640" cy="58104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069560" y="5284080"/>
              <a:ext cx="364320" cy="20304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2067840" y="5283720"/>
              <a:ext cx="177840" cy="11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069560" y="5461560"/>
              <a:ext cx="378720" cy="326160"/>
            </a:xfrm>
            <a:prstGeom prst="line">
              <a:avLst/>
            </a:prstGeom>
            <a:ln w="12600">
              <a:solidFill>
                <a:srgbClr val="0070c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054320" y="3870360"/>
            <a:ext cx="5023080" cy="284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112554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112554"/>
                </a:solidFill>
                <a:latin typeface="Arial"/>
                <a:ea typeface="Arial"/>
              </a:rPr>
              <a:t>Future remaining miles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628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112554"/>
                </a:solidFill>
                <a:latin typeface="Arial"/>
                <a:ea typeface="Arial"/>
              </a:rPr>
              <a:t>Final Architecture document to be presented at WGISS-36 September 17,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628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112554"/>
                </a:solidFill>
                <a:latin typeface="Arial"/>
                <a:ea typeface="Arial"/>
              </a:rPr>
              <a:t>New capability enabling mobile device users to request customized data products to be demonstrated at AIP-6 January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628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112554"/>
                </a:solidFill>
                <a:latin typeface="Arial"/>
                <a:ea typeface="Arial"/>
              </a:rPr>
              <a:t>WGISS project completes in January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6280">
              <a:lnSpc>
                <a:spcPct val="100000"/>
              </a:lnSpc>
              <a:spcBef>
                <a:spcPts val="300"/>
              </a:spcBef>
              <a:buClr>
                <a:srgbClr val="112554"/>
              </a:buClr>
              <a:buFont typeface="ArialMT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112554"/>
                </a:solidFill>
                <a:latin typeface="Arial"/>
                <a:ea typeface="Arial"/>
              </a:rPr>
              <a:t>Continuing information systems and services architecture contributions anticipated in future CEOS disaster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7A8F6-B8F1-442D-A586-2830BB95E670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6160" y="1339920"/>
            <a:ext cx="8832600" cy="391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Arial"/>
                <a:ea typeface="Arial"/>
              </a:rPr>
              <a:t>At CEOS Plenary in Oc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EOS accepted Hawaii as a “Permanent Supersi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EOS committed to support this Supersite with these re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ASI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100 scenes/yr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COSMO/Sky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CNES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1 coverage @ 2.5m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SPOT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CSA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archive data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Radarsat-1</a:t>
            </a:r>
            <a:br>
              <a:rPr sz="1600"/>
            </a:b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200 scenes of archive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Radarsat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DLR) 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250 scenes by end 2014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TerraSAR-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ESA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complete archive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ERS-1, -2, Envisat</a:t>
            </a:r>
            <a:br>
              <a:rPr sz="1600"/>
            </a:b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any available acquisition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Sentinel-1,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(NASA)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any available acquisition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df6d60"/>
                </a:solidFill>
                <a:latin typeface="Arial"/>
                <a:ea typeface="Arial"/>
              </a:rPr>
              <a:t>EO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image6.png" descr=""/>
          <p:cNvPicPr/>
          <p:nvPr/>
        </p:nvPicPr>
        <p:blipFill>
          <a:blip r:embed="rId2"/>
          <a:stretch/>
        </p:blipFill>
        <p:spPr>
          <a:xfrm>
            <a:off x="6988320" y="3159000"/>
            <a:ext cx="2155680" cy="1741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320840" y="52560"/>
            <a:ext cx="782316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-01-C2_2 Supersite data provision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6160" y="5257800"/>
            <a:ext cx="8610480" cy="1193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90"/>
                </a:solidFill>
                <a:latin typeface="Arial"/>
                <a:ea typeface="Arial"/>
              </a:rPr>
              <a:t>CEOS Plenary approved proposed Supersite sele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− </a:t>
            </a: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includes mandating the CEOS Supersites Coordination Team (SCT) as a CEOS     SBA Disaster subgroup for preparing decisions by SIT and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450280" y="6627960"/>
            <a:ext cx="61740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33272-F025-4880-80BD-5C60F2B5197C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mage7.png" descr=""/>
          <p:cNvPicPr/>
          <p:nvPr/>
        </p:nvPicPr>
        <p:blipFill>
          <a:blip r:embed="rId2"/>
          <a:srcRect l="20651" t="0" r="16956" b="16430"/>
          <a:stretch/>
        </p:blipFill>
        <p:spPr>
          <a:xfrm>
            <a:off x="0" y="3767040"/>
            <a:ext cx="3865680" cy="2789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82600" y="1411200"/>
            <a:ext cx="4024440" cy="2235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Iceland Supersite Propos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Requested data includes an extensive set of InSAR images for crustal deformation studies. These data will complement the available ground based in-situ data presently available and that will be made available through the FUTUREVOLC proje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0840" y="166680"/>
            <a:ext cx="782316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-01-C2_2 Supersite data provision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546960"/>
            <a:ext cx="4152960" cy="342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TerraSAR-X coverage of Iceland Super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image8.png" descr=""/>
          <p:cNvPicPr/>
          <p:nvPr/>
        </p:nvPicPr>
        <p:blipFill>
          <a:blip r:embed="rId3"/>
          <a:stretch/>
        </p:blipFill>
        <p:spPr>
          <a:xfrm>
            <a:off x="4699080" y="1411200"/>
            <a:ext cx="4444920" cy="3157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041720" y="4576680"/>
            <a:ext cx="4991040" cy="22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 u="sng">
                <a:solidFill>
                  <a:srgbClr val="3366ff"/>
                </a:solidFill>
                <a:uFillTx/>
                <a:latin typeface="Arial"/>
                <a:ea typeface="Arial"/>
              </a:rPr>
              <a:t>Under evaluation by the CEOS Supersites Coord.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TerraSAR-X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250 acquisitions per year sugges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COSMO SkyMed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250 acquisitions per year suggest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Radarsat-2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120 acquisitions per y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suggest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ALOS-2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200 acquisitions per year suggest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SAR Data Archive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all Iceland data sugges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SPOT: </a:t>
            </a:r>
            <a:r>
              <a:rPr b="0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(40 acquisitions per year sugges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2569"/>
                </a:solidFill>
                <a:latin typeface="Arial"/>
                <a:ea typeface="Arial"/>
              </a:rPr>
              <a:t>ASTER: (Archived data for the Eyjafjallajökull 2010 and Grímsvötn 2011 eruptions, future events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mage14.jpg" descr=""/>
          <p:cNvPicPr/>
          <p:nvPr/>
        </p:nvPicPr>
        <p:blipFill>
          <a:blip r:embed="rId2"/>
          <a:stretch/>
        </p:blipFill>
        <p:spPr>
          <a:xfrm>
            <a:off x="4648320" y="1598760"/>
            <a:ext cx="3713040" cy="4527360"/>
          </a:xfrm>
          <a:prstGeom prst="rect">
            <a:avLst/>
          </a:prstGeom>
          <a:ln w="19080">
            <a:solidFill>
              <a:srgbClr val="347cff"/>
            </a:solidFill>
            <a:round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4" name=""/>
          <p:cNvSpPr/>
          <p:nvPr/>
        </p:nvSpPr>
        <p:spPr>
          <a:xfrm>
            <a:off x="8391600" y="6586560"/>
            <a:ext cx="615960" cy="1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42AFC-A019-42EF-B192-D55507D7AE4A}" type="slidenum">
              <a:rPr b="0" lang="en-US" sz="1200" spc="-1" strike="noStrike">
                <a:solidFill>
                  <a:srgbClr val="5f75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2080" y="1519200"/>
            <a:ext cx="3154320" cy="4902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Pilot team worked with CIMH, CDEMA, UWI, and CATHALAC to provide satellite coverage for hurricanes: Ernesto, Isaac, and Sandy for Haiti, Jamaica, Barbados, St Lucia, and British Virgin Islands. Support to other events include:  Flooding in Pan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Earthquake in Guate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Algal bloom in El Salv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Wildfires in Be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Landslides in Tri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2569"/>
                </a:solidFill>
                <a:latin typeface="Arial"/>
                <a:ea typeface="Arial"/>
              </a:rPr>
              <a:t>A total of 34 Radarsat-2, 19 EO-1 images and MODIS daily cover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20840" y="-28440"/>
            <a:ext cx="7657920" cy="772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-01-C3_1 Caribbean Satellite Disaster Pilo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12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6102360"/>
            <a:ext cx="4038480" cy="74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Haiti, Port of Prince area:  </a:t>
            </a:r>
            <a:r>
              <a:rPr b="1" lang="en-US" sz="1400" spc="-1" strike="noStrike">
                <a:solidFill>
                  <a:srgbClr val="002569"/>
                </a:solidFill>
                <a:latin typeface="Arial"/>
              </a:rPr>
              <a:t>August 31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2569"/>
                </a:solidFill>
                <a:latin typeface="Arial"/>
              </a:rPr>
              <a:t>EO-1 ALI pan-sharpened product courtesy of NASA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800240" y="15998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sa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2200" y="3267000"/>
            <a:ext cx="2019600" cy="140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ote increase of sedi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lume from river dis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58040" y="2792520"/>
            <a:ext cx="528480" cy="6681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2209680"/>
            <a:ext cx="2514600" cy="584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ote increase of  floo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 coastal lag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84560" y="3470400"/>
            <a:ext cx="1433520" cy="2133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EO-1 ALI Image Change Detection:Significant Increase in River Dischar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