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3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1BA078-B6A2-4EB2-B3C1-8596C048E7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5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E7E930-99D9-4A55-B741-9964B7DD46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90CF13-95F5-4D5C-B82E-178EFE5CB2FF}" type="slidenum">
              <a:rPr b="0" lang="de-DE" sz="1200" spc="-1" strike="noStrike">
                <a:solidFill>
                  <a:srgbClr val="00256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0081B-AF34-4540-8BCF-9B8F5E5EEB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64F8E-599B-4377-AAEF-DF6A61C870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53374-DDCB-4058-9673-4E35222DE2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5DA2E-4A52-495E-A24E-BF0622825F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3BF10-EABA-4B9F-9A47-457729477A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EF9B3-300A-4522-8825-44C6A829F06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B9CF8-30F2-4E36-91FE-21638022B67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B9952-C65E-4C0B-AC4C-50D82B81020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74B83-1FA3-46C3-89EB-AA9E92FAEDB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6B6F6-458D-49C2-A897-0A44E12A4F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9C679-3C67-4B0B-9639-4A85C656A5C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85555-ECB8-441B-9741-B870DB1F077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F3245-068A-45AF-A2D0-0BBEED4A236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6876A-EC50-4F4F-AD50-63678A1DB45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AD3E4-9FF0-42EC-BBC6-D086B57BE7D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C468F-6CE4-4DE4-9214-A9B5EF38F7D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2F478-00FD-4188-9170-26F2B72F36D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16A93-A671-429F-8BD4-9BD4FBC0C0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5D76A-4854-4062-A7AF-DC6E1110F6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D5519-2349-44EC-AFA8-C6CE428D3D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B64A8-1163-416F-9822-8125A2C066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5486B-49D5-4F8A-9DB5-818231BF9A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279E4-05D2-4EA5-9CF8-08A2EDAE5A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EBCE2-9F9A-4803-95B5-950DFB643D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TextBox 3"/>
          <p:cNvSpPr/>
          <p:nvPr/>
        </p:nvSpPr>
        <p:spPr>
          <a:xfrm>
            <a:off x="72720" y="558720"/>
            <a:ext cx="176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IT Technical Workshop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adena, California, US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pt 11-12,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067A9A-34B7-47FF-AB51-38E57DD5E95A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7910640" y="6494400"/>
            <a:ext cx="117288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C44EB4DE-2A34-4EB3-9822-D761B9475AC2}" type="slidenum">
              <a:rPr b="0" lang="de-DE" sz="12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0" y="3244680"/>
            <a:ext cx="914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4" name="Rectangle 36"/>
          <p:cNvSpPr/>
          <p:nvPr/>
        </p:nvSpPr>
        <p:spPr>
          <a:xfrm>
            <a:off x="324360" y="6494400"/>
            <a:ext cx="7513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1335"/>
                </a:solidFill>
                <a:latin typeface="Century Gothic"/>
              </a:rPr>
              <a:t>CEOS SIT Technical Workshop |Caltech, Pasadena, California, USA| 11-12 September 2013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7711920" y="4881600"/>
            <a:ext cx="1432080" cy="933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72720" y="558720"/>
            <a:ext cx="176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IT Technical Workshop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adena, California, US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pt 11-12,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86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2"/>
          </p:nvPr>
        </p:nvSpPr>
        <p:spPr>
          <a:xfrm>
            <a:off x="725940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B8C22D-8126-4735-BA81-4FA3391A048B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081320" y="2722680"/>
            <a:ext cx="4826160" cy="109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For information to SIT-Workshop and Plenary(?)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Stephen Briggs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716200" y="666720"/>
            <a:ext cx="6184800" cy="187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T Technical Workshop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SDCG-4: comment from the CEOS Lead to GFO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1"/>
          <p:cNvSpPr/>
          <p:nvPr/>
        </p:nvSpPr>
        <p:spPr>
          <a:xfrm>
            <a:off x="3616200" y="4237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2194920" y="237960"/>
            <a:ext cx="67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mary of points from CEOS Lead perspective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249120" y="1411200"/>
            <a:ext cx="8570880" cy="60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c8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c83"/>
                </a:solidFill>
                <a:latin typeface="Arial"/>
              </a:rPr>
              <a:t>GFOI Leads are: Australia, Norway, USA, FAO, CEOS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285840" indent="-285840">
              <a:buClr>
                <a:srgbClr val="002c8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285840" indent="-285840">
              <a:buClr>
                <a:srgbClr val="002c8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c83"/>
                </a:solidFill>
                <a:latin typeface="Arial"/>
              </a:rPr>
              <a:t>SDCG operating strongly and has a 3-year vision to deliver products &amp; services to GEO governments. SDCG is arguably the strongest element of GFOI and delivers on its mandate.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285840" indent="-285840">
              <a:buClr>
                <a:srgbClr val="002c8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c83"/>
                </a:solidFill>
                <a:latin typeface="Arial"/>
              </a:rPr>
              <a:t>Points here are views from CEOS Lead as report to SIT Workshop/Plenary(?), in addition to formal report from SDCG Executive team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2c83"/>
                </a:solidFill>
                <a:latin typeface="Arial"/>
                <a:ea typeface="ＭＳ Ｐゴシック"/>
              </a:rPr>
              <a:t>Presentations from participating countries were a strong feature of the meeting and should be repeated as appropriate:</a:t>
            </a: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2c83"/>
                </a:solidFill>
                <a:latin typeface="Arial"/>
                <a:ea typeface="ＭＳ Ｐゴシック"/>
              </a:rPr>
              <a:t>The reports showed varied level of experience and expertise</a:t>
            </a: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2c83"/>
                </a:solidFill>
                <a:latin typeface="Arial"/>
                <a:ea typeface="ＭＳ Ｐゴシック"/>
              </a:rPr>
              <a:t>In many cases countries were already far beyond the scope of advice being provided to them via GFOI, using Landsat and other data</a:t>
            </a: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2c83"/>
                </a:solidFill>
                <a:latin typeface="Arial"/>
                <a:ea typeface="ＭＳ Ｐゴシック"/>
              </a:rPr>
              <a:t>General need for more radar data and technical support</a:t>
            </a: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2c83"/>
                </a:solidFill>
                <a:latin typeface="Arial"/>
                <a:ea typeface="ＭＳ Ｐゴシック"/>
              </a:rPr>
              <a:t>Need for more support in Early Warning (MODIS/ScanSAR class) observations including continuity and future systems</a:t>
            </a: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2c83"/>
                </a:solidFill>
                <a:latin typeface="Arial"/>
                <a:ea typeface="ＭＳ Ｐゴシック"/>
              </a:rPr>
              <a:t>Rapideye and similar data widely used and requested</a:t>
            </a: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3616200" y="4237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2194920" y="237960"/>
            <a:ext cx="67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mary of points from CEOS Lead perspective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249120" y="1004760"/>
            <a:ext cx="8570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c8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c83"/>
                </a:solidFill>
                <a:latin typeface="Arial"/>
              </a:rPr>
              <a:t>Points here are views from CEOS Lead report to SIT Workshop/Plenary(?) (continued)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2c83"/>
                </a:solidFill>
                <a:latin typeface="Arial"/>
                <a:ea typeface="ＭＳ Ｐゴシック"/>
              </a:rPr>
              <a:t>USA (SilvaCarbon) has done an excellent job in capacity building, especially in South America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2c83"/>
                </a:solidFill>
                <a:latin typeface="Arial"/>
                <a:ea typeface="ＭＳ Ｐゴシック"/>
              </a:rPr>
              <a:t>GFOI needs to reconsider its Methods Guidance Document in the light of the experience, and generally to improve the integration of GFOI element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2c83"/>
                </a:solidFill>
                <a:latin typeface="Arial"/>
                <a:ea typeface="ＭＳ Ｐゴシック"/>
              </a:rPr>
              <a:t>Norwegian “fast-track” initiative an important step in improved implementation, with care taken to integrate fully in GFOI plan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2c83"/>
                </a:solidFill>
                <a:latin typeface="Arial"/>
                <a:ea typeface="ＭＳ Ｐゴシック"/>
              </a:rPr>
              <a:t>Concept of GFOI Data Services very important and needs further development, possibly linked to the Norwegian initiative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1"/>
          <p:cNvSpPr/>
          <p:nvPr/>
        </p:nvSpPr>
        <p:spPr>
          <a:xfrm>
            <a:off x="3616200" y="4237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2194920" y="237960"/>
            <a:ext cx="67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mary of points from CEOS Lead perspective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249120" y="1004760"/>
            <a:ext cx="857088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c8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c83"/>
                </a:solidFill>
                <a:latin typeface="Arial"/>
              </a:rPr>
              <a:t>Points here are views from CEOS Lead report to SIT Workshop/Plenary(?) (continued)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c8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2c83"/>
                </a:solidFill>
                <a:latin typeface="Arial"/>
                <a:ea typeface="ＭＳ Ｐゴシック"/>
              </a:rPr>
              <a:t>DEMs are a core requirement, at a resolution better than SRTM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2c83"/>
                </a:solidFill>
                <a:latin typeface="Arial"/>
                <a:ea typeface="ＭＳ Ｐゴシック"/>
              </a:rPr>
              <a:t>Many upcoming SAR missions (S-1, ALOS-2, Radarsat Constellation, SAOCOM,…) very relevant to GFOI needs and further work needed on training and technical support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2c83"/>
                </a:solidFill>
                <a:latin typeface="Arial"/>
                <a:ea typeface="ＭＳ Ｐゴシック"/>
              </a:rPr>
              <a:t>Norway clearly a key player in many aspects, backed by significant funding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2c83"/>
                </a:solidFill>
                <a:latin typeface="Arial"/>
                <a:ea typeface="ＭＳ Ｐゴシック"/>
              </a:rPr>
              <a:t>Creation of GFOI office in 2013 has helped greatly in coherence, but more needs to be done to ensure end-end (UNFCCC- satellite data) integration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c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09:23:13Z</dcterms:created>
  <dc:creator>Brian Killough</dc:creator>
  <dc:description/>
  <dc:language>en-US</dc:language>
  <cp:lastModifiedBy>Keith, Kim Elizabeth (LARC-D2)[SCIENCE SYSTEMS AND APPLICATIONS, INC]</cp:lastModifiedBy>
  <cp:lastPrinted>2013-07-23T19:08:48Z</cp:lastPrinted>
  <dcterms:modified xsi:type="dcterms:W3CDTF">2013-09-16T15:10:00Z</dcterms:modified>
  <cp:revision>55</cp:revision>
  <dc:subject/>
  <dc:title>Title</dc:title>
</cp:coreProperties>
</file>