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A4CE-A096-48FE-972F-FA542F5D45A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B3F3-F098-4C04-A7E5-C9B55D7EB104}" type="slidenum">
              <a:rPr b="0" lang="en-Z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430280" y="549360"/>
            <a:ext cx="3938760" cy="29541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04800" y="3635280"/>
            <a:ext cx="5587920" cy="57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 shortcoming were identified as target areas that GEOSS could addres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ack of access to data and associated benefits in the developing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roding technical infrastructu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arge spatial and temporal gaps in specific data se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adequate data integration and interoperabil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certainty over continuity of observa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adequate user involv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ack of relevant processing systems to transform data into useful informatio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096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46400"/>
            <a:ext cx="777096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188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7760" y="2057040"/>
            <a:ext cx="379188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46400"/>
            <a:ext cx="379188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7760" y="4046400"/>
            <a:ext cx="379188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00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440" y="2057040"/>
            <a:ext cx="250200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0720" y="2057040"/>
            <a:ext cx="250200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46400"/>
            <a:ext cx="250200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440" y="4046400"/>
            <a:ext cx="250200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0720" y="4046400"/>
            <a:ext cx="250200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0960" cy="38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0960" cy="38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1880" cy="38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7760" y="2057040"/>
            <a:ext cx="3791880" cy="38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188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760" y="2057040"/>
            <a:ext cx="3791880" cy="38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46400"/>
            <a:ext cx="379188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1880" cy="38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760" y="2057040"/>
            <a:ext cx="379188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7760" y="4046400"/>
            <a:ext cx="379188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188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760" y="2057040"/>
            <a:ext cx="379188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46400"/>
            <a:ext cx="7770960" cy="18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0960" cy="38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ooter Placeholder 4"/>
          <p:cNvSpPr/>
          <p:nvPr/>
        </p:nvSpPr>
        <p:spPr>
          <a:xfrm>
            <a:off x="3065400" y="6500880"/>
            <a:ext cx="3451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© GEO Secretari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rcRect l="0" t="17979" r="0" b="0"/>
          <a:stretch/>
        </p:blipFill>
        <p:spPr>
          <a:xfrm>
            <a:off x="0" y="137160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447920"/>
            <a:ext cx="8305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H" sz="4400" spc="-1" strike="noStrike">
                <a:solidFill>
                  <a:srgbClr val="005faa"/>
                </a:solidFill>
                <a:latin typeface="Arial"/>
                <a:ea typeface="宋体"/>
              </a:rPr>
              <a:t>GEO Work Plan update</a:t>
            </a:r>
            <a:br>
              <a:rPr sz="4400"/>
            </a:br>
            <a:r>
              <a:rPr b="1" lang="fr-CH" sz="3600" spc="-1" strike="noStrike">
                <a:solidFill>
                  <a:srgbClr val="005faa"/>
                </a:solidFill>
                <a:latin typeface="Arial"/>
                <a:ea typeface="宋体"/>
              </a:rPr>
              <a:t> </a:t>
            </a:r>
            <a:br>
              <a:rPr sz="4000"/>
            </a:br>
            <a:r>
              <a:rPr b="1" i="1" lang="fr-CH" sz="2800" spc="-1" strike="noStrike">
                <a:solidFill>
                  <a:srgbClr val="3595b7"/>
                </a:solidFill>
                <a:latin typeface="Arial"/>
                <a:ea typeface="宋体"/>
              </a:rPr>
              <a:t>Espen Volden</a:t>
            </a:r>
            <a:br>
              <a:rPr sz="2800"/>
            </a:br>
            <a:r>
              <a:rPr b="1" i="1" lang="fr-CH" sz="2800" spc="-1" strike="noStrike">
                <a:solidFill>
                  <a:srgbClr val="3595b7"/>
                </a:solidFill>
                <a:latin typeface="Arial"/>
                <a:ea typeface="宋体"/>
              </a:rPr>
              <a:t>evolden@geosec.org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1800" spc="-1" strike="noStrike">
                <a:solidFill>
                  <a:srgbClr val="005faa"/>
                </a:solidFill>
                <a:latin typeface="Arial"/>
                <a:ea typeface="宋体"/>
              </a:rPr>
              <a:t>CEOS SIT Technical Workshop</a:t>
            </a:r>
            <a:br>
              <a:rPr sz="1800"/>
            </a:br>
            <a:r>
              <a:rPr b="1" lang="fr-CH" sz="1800" spc="-1" strike="noStrike">
                <a:solidFill>
                  <a:srgbClr val="005faa"/>
                </a:solidFill>
                <a:latin typeface="Arial"/>
                <a:ea typeface="宋体"/>
              </a:rPr>
              <a:t>Pasadena, 11-12 Sept 2013</a:t>
            </a:r>
            <a:endParaRPr b="1" lang="en-US" sz="1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76320" y="685440"/>
            <a:ext cx="92203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3595b7"/>
                </a:solidFill>
                <a:latin typeface="Arial"/>
                <a:ea typeface="Arial Unicode MS"/>
              </a:rPr>
              <a:t>GEO Work Plan – What is it?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c7210f"/>
                </a:solidFill>
                <a:latin typeface="Arial"/>
                <a:ea typeface="Arial Unicode MS"/>
              </a:rPr>
              <a:t>Framework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5faa"/>
                </a:solidFill>
                <a:latin typeface="Arial"/>
                <a:ea typeface="Arial Unicode MS"/>
              </a:rPr>
              <a:t>for implementing the GEOSS 10-Year Implementation Plan (2005-2015)</a:t>
            </a:r>
            <a:br>
              <a:rPr sz="2800"/>
            </a:br>
            <a:br>
              <a:rPr sz="2000"/>
            </a:br>
            <a:r>
              <a:rPr b="0" lang="en-US" sz="2800" spc="-1" strike="noStrike">
                <a:solidFill>
                  <a:srgbClr val="005faa"/>
                </a:solidFill>
                <a:latin typeface="Arial"/>
                <a:ea typeface="Arial Unicode MS"/>
              </a:rPr>
              <a:t>Set of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c7210f"/>
                </a:solidFill>
                <a:latin typeface="Arial"/>
                <a:ea typeface="Arial Unicode MS"/>
              </a:rPr>
              <a:t>practical Task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5faa"/>
                </a:solidFill>
                <a:latin typeface="Arial"/>
                <a:ea typeface="Arial Unicode MS"/>
              </a:rPr>
              <a:t>carried out by various </a:t>
            </a:r>
            <a:br>
              <a:rPr sz="2800"/>
            </a:br>
            <a:r>
              <a:rPr b="0" lang="en-US" sz="2800" spc="-1" strike="noStrike">
                <a:solidFill>
                  <a:srgbClr val="005faa"/>
                </a:solidFill>
                <a:latin typeface="Arial"/>
                <a:ea typeface="Arial Unicode MS"/>
              </a:rPr>
              <a:t>GEO Members and Participating Organizations</a:t>
            </a:r>
            <a:br>
              <a:rPr sz="2800"/>
            </a:br>
            <a:br>
              <a:rPr sz="2000"/>
            </a:br>
            <a:r>
              <a:rPr b="0" lang="en-US" sz="2800" spc="-1" strike="noStrike">
                <a:solidFill>
                  <a:srgbClr val="c7210f"/>
                </a:solidFill>
                <a:latin typeface="Arial"/>
                <a:ea typeface="Arial Unicode MS"/>
              </a:rPr>
              <a:t>Living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5faa"/>
                </a:solidFill>
                <a:latin typeface="Arial"/>
                <a:ea typeface="Arial Unicode MS"/>
              </a:rPr>
              <a:t>Document – Annually updated</a:t>
            </a:r>
            <a:br>
              <a:rPr sz="2800"/>
            </a:br>
            <a:r>
              <a:rPr b="0" i="1" lang="en-US" sz="2800" spc="-1" strike="noStrike">
                <a:solidFill>
                  <a:srgbClr val="005faa"/>
                </a:solidFill>
                <a:latin typeface="Arial"/>
              </a:rPr>
              <a:t>(Task Component sheets in online Work Plan continuously updated)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1676520"/>
            <a:ext cx="9067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宋体"/>
              </a:rPr>
              <a:t>* Implementation of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  <a:ea typeface="宋体"/>
              </a:rPr>
              <a:t>operational</a:t>
            </a: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宋体"/>
              </a:rPr>
              <a:t> &amp;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  <a:ea typeface="宋体"/>
              </a:rPr>
              <a:t>sustainable</a:t>
            </a: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宋体"/>
              </a:rPr>
              <a:t> GEOSS  </a:t>
            </a:r>
            <a:br>
              <a:rPr sz="2800"/>
            </a:b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宋体"/>
              </a:rPr>
              <a:t>  (full &amp; open access; interoperable systems) </a:t>
            </a:r>
            <a:br>
              <a:rPr sz="2800"/>
            </a:br>
            <a:br>
              <a:rPr sz="1200"/>
            </a:b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宋体"/>
              </a:rPr>
              <a:t>* Reinforcement of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  <a:ea typeface="宋体"/>
              </a:rPr>
              <a:t>coordination</a:t>
            </a: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宋体"/>
              </a:rPr>
              <a:t>,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  <a:ea typeface="宋体"/>
              </a:rPr>
              <a:t>user </a:t>
            </a: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宋体"/>
              </a:rPr>
              <a:t>engagement</a:t>
            </a:r>
            <a:br>
              <a:rPr sz="2800"/>
            </a:b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宋体"/>
              </a:rPr>
              <a:t>  &amp;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  <a:ea typeface="宋体"/>
              </a:rPr>
              <a:t>resource </a:t>
            </a: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宋体"/>
              </a:rPr>
              <a:t>mobilization</a:t>
            </a:r>
            <a:br>
              <a:rPr sz="2800"/>
            </a:br>
            <a:br>
              <a:rPr sz="1200"/>
            </a:b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宋体"/>
              </a:rPr>
              <a:t>* Development of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  <a:ea typeface="宋体"/>
              </a:rPr>
              <a:t>information</a:t>
            </a: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宋体"/>
              </a:rPr>
              <a:t> products and </a:t>
            </a:r>
            <a:br>
              <a:rPr sz="2800"/>
            </a:b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宋体"/>
              </a:rPr>
              <a:t> 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  <a:ea typeface="宋体"/>
              </a:rPr>
              <a:t>end-to-end</a:t>
            </a: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宋体"/>
              </a:rPr>
              <a:t> systems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  <a:ea typeface="宋体"/>
              </a:rPr>
              <a:t>across 9 Societal Benefit Areas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205360" y="1415880"/>
            <a:ext cx="392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5faa"/>
                </a:solidFill>
                <a:latin typeface="Arial"/>
              </a:rPr>
              <a:t> </a:t>
            </a:r>
            <a:r>
              <a:rPr b="0" lang="fr-CH" sz="3600" spc="-1" strike="noStrike">
                <a:solidFill>
                  <a:srgbClr val="3595b7"/>
                </a:solidFill>
                <a:latin typeface="Arial"/>
              </a:rPr>
              <a:t>3 Main Obj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H" sz="3600" spc="-1" strike="noStrike">
                <a:solidFill>
                  <a:srgbClr val="3595b7"/>
                </a:solidFill>
                <a:latin typeface="Arial"/>
              </a:rPr>
              <a:t>3-Part Structure</a:t>
            </a:r>
            <a:endParaRPr b="1" lang="en-US" sz="36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1.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INFRASTRUCTURE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宋体"/>
              </a:rPr>
              <a:t>(5 Tas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5faa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5faa"/>
                </a:solidFill>
                <a:latin typeface="Arial"/>
                <a:ea typeface="宋体"/>
              </a:rPr>
              <a:t>(Architecture and Data Manag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2.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INSTITUTIONS AND DEVELOPMENT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宋体"/>
              </a:rPr>
              <a:t>(5 Tas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5faa"/>
                </a:solidFill>
                <a:latin typeface="Arial"/>
                <a:ea typeface="宋体"/>
              </a:rPr>
              <a:t>(Data Sharing, Capacity Building, Science and Technology, User Engag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3.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INFORMATION FOR SOCIETAL BENEFITS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宋体"/>
              </a:rPr>
              <a:t>(16 Tas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5faa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5faa"/>
                </a:solidFill>
                <a:latin typeface="Arial"/>
                <a:ea typeface="宋体"/>
              </a:rPr>
              <a:t>(9 GEOSS Societal Benefit Ar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5faa"/>
                </a:solidFill>
                <a:latin typeface="Arial"/>
              </a:rPr>
              <a:t>Work Plan Revision 2.1 </a:t>
            </a:r>
            <a:r>
              <a:rPr b="1" lang="en-GB" sz="2000" spc="-1" strike="noStrike">
                <a:solidFill>
                  <a:srgbClr val="005faa"/>
                </a:solidFill>
                <a:latin typeface="Arial"/>
              </a:rPr>
              <a:t>(27 August 2013)</a:t>
            </a:r>
            <a:endParaRPr b="1" lang="en-US" sz="20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2057040"/>
            <a:ext cx="7770960" cy="38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Arial Unicode MS"/>
              </a:rPr>
              <a:t>Incorporates technical </a:t>
            </a:r>
            <a:r>
              <a:rPr b="0" lang="en-US" sz="2800" spc="-1" strike="noStrike">
                <a:solidFill>
                  <a:srgbClr val="005faa"/>
                </a:solidFill>
                <a:latin typeface="Arial"/>
                <a:ea typeface="Arial Unicode MS"/>
              </a:rPr>
              <a:t>comments from GEO community May-July 201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5faa"/>
                </a:solidFill>
                <a:latin typeface="Arial"/>
                <a:ea typeface="Arial Unicode MS"/>
              </a:rPr>
              <a:t>Draws from recommendations of 2013 Work Plan Symposium (4-6 June, Gene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5faa"/>
                </a:solidFill>
                <a:latin typeface="Arial"/>
                <a:ea typeface="Arial Unicode MS"/>
              </a:rPr>
              <a:t>No major change to Rev. 2 (17 Dec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5faa"/>
                </a:solidFill>
                <a:latin typeface="Arial"/>
              </a:rPr>
              <a:t>Work Plan Revision 2.1 </a:t>
            </a:r>
            <a:r>
              <a:rPr b="1" lang="en-GB" sz="2000" spc="-1" strike="noStrike">
                <a:solidFill>
                  <a:srgbClr val="005faa"/>
                </a:solidFill>
                <a:latin typeface="Arial"/>
              </a:rPr>
              <a:t>(27 August 2013)</a:t>
            </a:r>
            <a:endParaRPr b="1" lang="en-US" sz="20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440" y="1599840"/>
            <a:ext cx="8001000" cy="38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5faa"/>
                </a:solidFill>
                <a:latin typeface="Arial"/>
                <a:ea typeface="Arial Unicode MS"/>
              </a:rPr>
              <a:t>Two Task Components are creat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5faa"/>
                </a:solidFill>
                <a:latin typeface="Arial"/>
                <a:ea typeface="Arial Unicode MS"/>
              </a:rPr>
              <a:t>     </a:t>
            </a:r>
            <a:r>
              <a:rPr b="0" lang="en-US" sz="1800" spc="-1" strike="noStrike">
                <a:solidFill>
                  <a:srgbClr val="005faa"/>
                </a:solidFill>
                <a:latin typeface="Arial"/>
                <a:ea typeface="Arial Unicode MS"/>
              </a:rPr>
              <a:t>a. DI-01-C4 “Global Wildfire Information System” (proposed by 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5faa"/>
                </a:solidFill>
                <a:latin typeface="Arial"/>
                <a:ea typeface="Arial Unicode MS"/>
              </a:rPr>
              <a:t>     </a:t>
            </a:r>
            <a:r>
              <a:rPr b="0" lang="en-US" sz="1800" spc="-1" strike="noStrike">
                <a:solidFill>
                  <a:srgbClr val="005faa"/>
                </a:solidFill>
                <a:latin typeface="Arial"/>
                <a:ea typeface="Arial Unicode MS"/>
              </a:rPr>
              <a:t>b. DI-01-C5 “Foster utilization of Earth observation remote sensing data for all phases of Disaster Risk Management” (proposed by CE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5faa"/>
                </a:solidFill>
                <a:latin typeface="Arial"/>
                <a:ea typeface="Arial Unicode MS"/>
              </a:rPr>
              <a:t>Two Task Components are removed or merg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5faa"/>
                </a:solidFill>
                <a:latin typeface="Arial"/>
                <a:ea typeface="Arial Unicode MS"/>
              </a:rPr>
              <a:t>     </a:t>
            </a:r>
            <a:r>
              <a:rPr b="0" lang="en-US" sz="1800" spc="-1" strike="noStrike">
                <a:solidFill>
                  <a:srgbClr val="005faa"/>
                </a:solidFill>
                <a:latin typeface="Arial"/>
                <a:ea typeface="Arial Unicode MS"/>
              </a:rPr>
              <a:t>a. ID-04-C3 “Global Environment Information Platforms” removed (proposed by E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5faa"/>
                </a:solidFill>
                <a:latin typeface="Arial"/>
                <a:ea typeface="Arial Unicode MS"/>
              </a:rPr>
              <a:t>     </a:t>
            </a:r>
            <a:r>
              <a:rPr b="0" lang="en-US" sz="1800" spc="-1" strike="noStrike">
                <a:solidFill>
                  <a:srgbClr val="005faa"/>
                </a:solidFill>
                <a:latin typeface="Arial"/>
                <a:ea typeface="Arial Unicode MS"/>
              </a:rPr>
              <a:t>b. ID-02-C1 “Institutional Development” merged with ID-02-C2 “Individual Development” to become “Institutional and Individual Development” (proposed by South Africa on behalf of ID-02 Task Te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5faa"/>
                </a:solidFill>
                <a:latin typeface="Arial"/>
                <a:ea typeface="Arial Unicode MS"/>
              </a:rPr>
              <a:t>Task descriptions and Priority Actions are revised and Task Leads are updated (e.g. IN-01, IN-04, ID-03; proposed by related Task Tea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5faa"/>
                </a:solidFill>
                <a:latin typeface="Arial"/>
              </a:rPr>
              <a:t>Work Plan 2.1 -&gt; 2.2</a:t>
            </a:r>
            <a:endParaRPr b="1" lang="en-US" sz="2800" spc="-1" strike="noStrike">
              <a:solidFill>
                <a:srgbClr val="005faa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440" y="1599840"/>
            <a:ext cx="8001000" cy="38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5faa"/>
                </a:solidFill>
                <a:latin typeface="Arial"/>
                <a:ea typeface="Arial Unicode MS"/>
              </a:rPr>
              <a:t>Revision 2.1 submitted for official review until 22 October 2013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(17 October to Kerry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5faa"/>
                </a:solidFill>
                <a:latin typeface="Arial"/>
                <a:ea typeface="Arial Unicode MS"/>
              </a:rPr>
              <a:t>Revision 2.2 will be prepared and submitted to GEO-X </a:t>
            </a:r>
            <a:r>
              <a:rPr b="0" lang="en-GB" sz="2800" spc="-1" strike="noStrike">
                <a:solidFill>
                  <a:srgbClr val="005faa"/>
                </a:solidFill>
                <a:latin typeface="Arial"/>
                <a:ea typeface="Arial Unicode MS"/>
              </a:rPr>
              <a:t>Plenary in Jan 2014 for accep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303120" y="685800"/>
            <a:ext cx="8688600" cy="6072480"/>
            <a:chOff x="303120" y="685800"/>
            <a:chExt cx="8688600" cy="6072480"/>
          </a:xfrm>
        </p:grpSpPr>
        <p:sp>
          <p:nvSpPr>
            <p:cNvPr id="61" name="Title 1"/>
            <p:cNvSpPr/>
            <p:nvPr/>
          </p:nvSpPr>
          <p:spPr>
            <a:xfrm>
              <a:off x="304920" y="1158840"/>
              <a:ext cx="2439720" cy="5936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700"/>
              </a:br>
              <a:r>
                <a:rPr b="1" lang="en-ZA" sz="1500" spc="-1" strike="noStrike">
                  <a:solidFill>
                    <a:srgbClr val="000000"/>
                  </a:solidFill>
                  <a:latin typeface="Calibri"/>
                </a:rPr>
                <a:t>Cryosphere</a:t>
              </a:r>
              <a:br>
                <a:rPr sz="1600"/>
              </a:b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Title 1"/>
            <p:cNvSpPr/>
            <p:nvPr/>
          </p:nvSpPr>
          <p:spPr>
            <a:xfrm>
              <a:off x="304920" y="1844640"/>
              <a:ext cx="2439720" cy="5936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500" spc="-1" strike="noStrike">
                  <a:solidFill>
                    <a:srgbClr val="000000"/>
                  </a:solidFill>
                  <a:latin typeface="Calibri"/>
                </a:rPr>
                <a:t>Global Carbon Cycle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Title 1"/>
            <p:cNvSpPr/>
            <p:nvPr/>
          </p:nvSpPr>
          <p:spPr>
            <a:xfrm>
              <a:off x="304920" y="2514600"/>
              <a:ext cx="2439720" cy="5936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500" spc="-1" strike="noStrike">
                  <a:solidFill>
                    <a:srgbClr val="000000"/>
                  </a:solidFill>
                  <a:latin typeface="Calibri"/>
                </a:rPr>
                <a:t>Geohazard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Title 1"/>
            <p:cNvSpPr/>
            <p:nvPr/>
          </p:nvSpPr>
          <p:spPr>
            <a:xfrm>
              <a:off x="303120" y="3200400"/>
              <a:ext cx="2440080" cy="593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500" spc="-1" strike="noStrike">
                  <a:solidFill>
                    <a:srgbClr val="000000"/>
                  </a:solidFill>
                  <a:latin typeface="Calibri"/>
                </a:rPr>
                <a:t>Ocean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Title 1"/>
            <p:cNvSpPr/>
            <p:nvPr/>
          </p:nvSpPr>
          <p:spPr>
            <a:xfrm>
              <a:off x="303120" y="3886200"/>
              <a:ext cx="2440080" cy="5936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500" spc="-1" strike="noStrike">
                  <a:solidFill>
                    <a:srgbClr val="000000"/>
                  </a:solidFill>
                  <a:latin typeface="Calibri"/>
                </a:rPr>
                <a:t>Water Cycle (IGWCO)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TextBox 11"/>
            <p:cNvSpPr/>
            <p:nvPr/>
          </p:nvSpPr>
          <p:spPr>
            <a:xfrm>
              <a:off x="3733920" y="1193760"/>
              <a:ext cx="5257800" cy="459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200" spc="-1" strike="noStrike">
                  <a:solidFill>
                    <a:srgbClr val="000000"/>
                  </a:solidFill>
                  <a:latin typeface="Arial"/>
                </a:rPr>
                <a:t>Community of Practice:</a:t>
              </a:r>
              <a:r>
                <a:rPr b="1" lang="en-ZA" sz="1200" spc="-1" strike="noStrike">
                  <a:solidFill>
                    <a:srgbClr val="000000"/>
                  </a:solidFill>
                  <a:latin typeface="Arial"/>
                </a:rPr>
                <a:t> Cryosphere (under discussion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200" spc="-1" strike="noStrike">
                  <a:solidFill>
                    <a:srgbClr val="000000"/>
                  </a:solidFill>
                  <a:latin typeface="Arial"/>
                </a:rPr>
                <a:t>Task:</a:t>
              </a:r>
              <a:r>
                <a:rPr b="1" lang="en-ZA" sz="1200" spc="-1" strike="noStrike">
                  <a:solidFill>
                    <a:srgbClr val="000000"/>
                  </a:solidFill>
                  <a:latin typeface="Arial"/>
                </a:rPr>
                <a:t> WA-01-C3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ormation Service for Cold Region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TextBox 12"/>
            <p:cNvSpPr/>
            <p:nvPr/>
          </p:nvSpPr>
          <p:spPr>
            <a:xfrm>
              <a:off x="3733920" y="1879560"/>
              <a:ext cx="5257800" cy="459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200" spc="-1" strike="noStrike">
                  <a:solidFill>
                    <a:srgbClr val="000000"/>
                  </a:solidFill>
                  <a:latin typeface="Arial"/>
                </a:rPr>
                <a:t>Community of Practice:</a:t>
              </a:r>
              <a:r>
                <a:rPr b="1" lang="en-ZA" sz="1200" spc="-1" strike="noStrike">
                  <a:solidFill>
                    <a:srgbClr val="000000"/>
                  </a:solidFill>
                  <a:latin typeface="Arial"/>
                </a:rPr>
                <a:t> Carbon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200" spc="-1" strike="noStrike">
                  <a:solidFill>
                    <a:srgbClr val="000000"/>
                  </a:solidFill>
                  <a:latin typeface="Arial"/>
                </a:rPr>
                <a:t>Task:</a:t>
              </a:r>
              <a:r>
                <a:rPr b="1" lang="en-ZA" sz="1200" spc="-1" strike="noStrike">
                  <a:solidFill>
                    <a:srgbClr val="000000"/>
                  </a:solidFill>
                  <a:latin typeface="Arial"/>
                </a:rPr>
                <a:t> CL-02 Global Carbon Observation and Analysi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TextBox 26"/>
            <p:cNvSpPr/>
            <p:nvPr/>
          </p:nvSpPr>
          <p:spPr>
            <a:xfrm>
              <a:off x="3733920" y="6116760"/>
              <a:ext cx="5257800" cy="641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200" spc="-1" strike="noStrike">
                  <a:solidFill>
                    <a:srgbClr val="000000"/>
                  </a:solidFill>
                  <a:latin typeface="Arial"/>
                </a:rPr>
                <a:t>Communities of Practice: </a:t>
              </a:r>
              <a:r>
                <a:rPr b="1" lang="en-ZA" sz="1200" spc="-1" strike="noStrike">
                  <a:solidFill>
                    <a:srgbClr val="000000"/>
                  </a:solidFill>
                  <a:latin typeface="Arial"/>
                </a:rPr>
                <a:t>Forest, Global Agricultural Monitoring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200" spc="-1" strike="noStrike">
                  <a:solidFill>
                    <a:srgbClr val="000000"/>
                  </a:solidFill>
                  <a:latin typeface="Arial"/>
                </a:rPr>
                <a:t>Tasks:</a:t>
              </a:r>
              <a:r>
                <a:rPr b="1" lang="en-ZA" sz="1200" spc="-1" strike="noStrike">
                  <a:solidFill>
                    <a:srgbClr val="000000"/>
                  </a:solidFill>
                  <a:latin typeface="Arial"/>
                </a:rPr>
                <a:t> SB-02 Land Cover; SB-03 Global Forest Observation; EC-01 Global Ecosystem Monitoring; AG-01 Global Agricultural Monitoring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TextBox 103"/>
            <p:cNvSpPr/>
            <p:nvPr/>
          </p:nvSpPr>
          <p:spPr>
            <a:xfrm>
              <a:off x="304920" y="720720"/>
              <a:ext cx="2438280" cy="3373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GOS Them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TextBox 104"/>
            <p:cNvSpPr/>
            <p:nvPr/>
          </p:nvSpPr>
          <p:spPr>
            <a:xfrm>
              <a:off x="3733920" y="685800"/>
              <a:ext cx="5257800" cy="3808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GEO CoPs and Work Plan Task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71" name="Straight Arrow Connector 28"/>
            <p:cNvCxnSpPr>
              <a:stCxn id="66" idx="1"/>
              <a:endCxn id="61" idx="3"/>
            </p:cNvCxnSpPr>
            <p:nvPr/>
          </p:nvCxnSpPr>
          <p:spPr>
            <a:xfrm flipH="1">
              <a:off x="2744280" y="1434960"/>
              <a:ext cx="977040" cy="21600"/>
            </a:xfrm>
            <a:prstGeom prst="straightConnector1">
              <a:avLst/>
            </a:prstGeom>
            <a:ln w="0">
              <a:noFill/>
            </a:ln>
          </p:spPr>
        </p:cxnSp>
        <p:sp>
          <p:nvSpPr>
            <p:cNvPr id="72" name="TextBox 21"/>
            <p:cNvSpPr/>
            <p:nvPr/>
          </p:nvSpPr>
          <p:spPr>
            <a:xfrm>
              <a:off x="3733920" y="3962520"/>
              <a:ext cx="5257800" cy="459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munity of Practice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Integrated Global Water Cycle Observation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ask: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WA-01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grated Water Information (incl. Floods and Droughts)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TextBox 22"/>
            <p:cNvSpPr/>
            <p:nvPr/>
          </p:nvSpPr>
          <p:spPr>
            <a:xfrm>
              <a:off x="3733920" y="4572000"/>
              <a:ext cx="5257800" cy="641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200" spc="-1" strike="noStrike">
                  <a:solidFill>
                    <a:srgbClr val="000000"/>
                  </a:solidFill>
                  <a:latin typeface="Arial"/>
                </a:rPr>
                <a:t>Communities of Practice:</a:t>
              </a:r>
              <a:r>
                <a:rPr b="1" lang="en-ZA" sz="1200" spc="-1" strike="noStrike">
                  <a:solidFill>
                    <a:srgbClr val="000000"/>
                  </a:solidFill>
                  <a:latin typeface="Arial"/>
                </a:rPr>
                <a:t> Air Quality, Health &amp; Environment, Carb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200" spc="-1" strike="noStrike">
                  <a:solidFill>
                    <a:srgbClr val="000000"/>
                  </a:solidFill>
                  <a:latin typeface="Arial"/>
                </a:rPr>
                <a:t>Tasks:</a:t>
              </a:r>
              <a:r>
                <a:rPr b="1" lang="en-ZA" sz="1200" spc="-1" strike="noStrike">
                  <a:solidFill>
                    <a:srgbClr val="000000"/>
                  </a:solidFill>
                  <a:latin typeface="Arial"/>
                </a:rPr>
                <a:t> HE-01-C1 A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r-borne Diseases, Air Quality and Aeroallergens; HE-02 Tracking Pollutants; CL-02: Global Carbon Observation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TextBox 23"/>
            <p:cNvSpPr/>
            <p:nvPr/>
          </p:nvSpPr>
          <p:spPr>
            <a:xfrm>
              <a:off x="3733920" y="2565360"/>
              <a:ext cx="5257800" cy="459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mmunity of Practice: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Geohazards; Supersites Initiativ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ask: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DI-01 Informing Risk Management and Disaster Risk Reduc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TextBox 24"/>
            <p:cNvSpPr/>
            <p:nvPr/>
          </p:nvSpPr>
          <p:spPr>
            <a:xfrm>
              <a:off x="3733920" y="3276720"/>
              <a:ext cx="5257800" cy="459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mmunity of Practice:</a:t>
              </a:r>
              <a:r>
                <a:rPr b="1" lang="en-ZA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POG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ask:</a:t>
              </a:r>
              <a:r>
                <a:rPr b="1" lang="en-ZA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SB-01 Oceans &amp; Society – Blue Plane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TextBox 25"/>
            <p:cNvSpPr/>
            <p:nvPr/>
          </p:nvSpPr>
          <p:spPr>
            <a:xfrm>
              <a:off x="3733920" y="5334120"/>
              <a:ext cx="5257800" cy="641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200" spc="-1" strike="noStrike">
                  <a:solidFill>
                    <a:srgbClr val="000000"/>
                  </a:solidFill>
                  <a:latin typeface="Arial"/>
                </a:rPr>
                <a:t>Community of Practice:</a:t>
              </a:r>
              <a:r>
                <a:rPr b="1" lang="en-ZA" sz="1200" spc="-1" strike="noStrike">
                  <a:solidFill>
                    <a:srgbClr val="000000"/>
                  </a:solidFill>
                  <a:latin typeface="Arial"/>
                </a:rPr>
                <a:t> Coastal Zo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200" spc="-1" strike="noStrike">
                  <a:solidFill>
                    <a:srgbClr val="000000"/>
                  </a:solidFill>
                  <a:latin typeface="Arial"/>
                </a:rPr>
                <a:t>Tasks:</a:t>
              </a:r>
              <a:r>
                <a:rPr b="1" lang="en-ZA" sz="1200" spc="-1" strike="noStrike">
                  <a:solidFill>
                    <a:srgbClr val="000000"/>
                  </a:solidFill>
                  <a:latin typeface="Arial"/>
                </a:rPr>
                <a:t> SB-04 Global Urban Observation and Information;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200" spc="-1" strike="noStrike">
                  <a:solidFill>
                    <a:srgbClr val="000000"/>
                  </a:solidFill>
                  <a:latin typeface="Arial"/>
                </a:rPr>
                <a:t>DI-01 Informing Risk Management; EC-01 Ecosystem Monitor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77" name="Straight Arrow Connector 64"/>
            <p:cNvCxnSpPr/>
            <p:nvPr/>
          </p:nvCxnSpPr>
          <p:spPr>
            <a:xfrm flipH="1">
              <a:off x="2742840" y="5562720"/>
              <a:ext cx="978480" cy="2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</p:cxnSp>
        <p:sp>
          <p:nvSpPr>
            <p:cNvPr id="78" name="Title 1"/>
            <p:cNvSpPr/>
            <p:nvPr/>
          </p:nvSpPr>
          <p:spPr>
            <a:xfrm>
              <a:off x="303120" y="4572000"/>
              <a:ext cx="2440080" cy="5936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500" spc="-1" strike="noStrike">
                  <a:solidFill>
                    <a:srgbClr val="000000"/>
                  </a:solidFill>
                  <a:latin typeface="Calibri"/>
                </a:rPr>
                <a:t>Atmospheric Chemistry (IGACO)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Title 1"/>
            <p:cNvSpPr/>
            <p:nvPr/>
          </p:nvSpPr>
          <p:spPr>
            <a:xfrm>
              <a:off x="303120" y="5257800"/>
              <a:ext cx="2440080" cy="5936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500" spc="-1" strike="noStrike">
                  <a:solidFill>
                    <a:srgbClr val="000000"/>
                  </a:solidFill>
                  <a:latin typeface="Calibri"/>
                </a:rPr>
                <a:t>Coastal Observation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Title 1"/>
            <p:cNvSpPr/>
            <p:nvPr/>
          </p:nvSpPr>
          <p:spPr>
            <a:xfrm>
              <a:off x="303120" y="5943600"/>
              <a:ext cx="2440080" cy="5936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500" spc="-1" strike="noStrike">
                  <a:solidFill>
                    <a:srgbClr val="000000"/>
                  </a:solidFill>
                  <a:latin typeface="Calibri"/>
                </a:rPr>
                <a:t>Land (IGOL)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81" name="Straight Arrow Connector 64"/>
            <p:cNvCxnSpPr/>
            <p:nvPr/>
          </p:nvCxnSpPr>
          <p:spPr>
            <a:xfrm flipH="1">
              <a:off x="2742840" y="4876920"/>
              <a:ext cx="978480" cy="2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82" name="Straight Arrow Connector 64"/>
            <p:cNvCxnSpPr/>
            <p:nvPr/>
          </p:nvCxnSpPr>
          <p:spPr>
            <a:xfrm flipH="1">
              <a:off x="2742840" y="1445760"/>
              <a:ext cx="978480" cy="2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83" name="Straight Arrow Connector 64"/>
            <p:cNvCxnSpPr/>
            <p:nvPr/>
          </p:nvCxnSpPr>
          <p:spPr>
            <a:xfrm flipH="1">
              <a:off x="2742840" y="2133720"/>
              <a:ext cx="978480" cy="2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84" name="Straight Arrow Connector 64"/>
            <p:cNvCxnSpPr/>
            <p:nvPr/>
          </p:nvCxnSpPr>
          <p:spPr>
            <a:xfrm flipH="1">
              <a:off x="2742840" y="2819520"/>
              <a:ext cx="978480" cy="2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85" name="Straight Arrow Connector 64"/>
            <p:cNvCxnSpPr/>
            <p:nvPr/>
          </p:nvCxnSpPr>
          <p:spPr>
            <a:xfrm flipH="1">
              <a:off x="2742840" y="3505320"/>
              <a:ext cx="978480" cy="2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86" name="Straight Arrow Connector 64"/>
            <p:cNvCxnSpPr/>
            <p:nvPr/>
          </p:nvCxnSpPr>
          <p:spPr>
            <a:xfrm flipH="1">
              <a:off x="2755080" y="4188960"/>
              <a:ext cx="978840" cy="2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</p:cxnSp>
        <p:cxnSp>
          <p:nvCxnSpPr>
            <p:cNvPr id="87" name="Straight Arrow Connector 64"/>
            <p:cNvCxnSpPr/>
            <p:nvPr/>
          </p:nvCxnSpPr>
          <p:spPr>
            <a:xfrm flipH="1">
              <a:off x="2742840" y="6324120"/>
              <a:ext cx="978480" cy="2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</p:cxnSp>
      </p:grpSp>
      <p:sp>
        <p:nvSpPr>
          <p:cNvPr id="88" name="Rectangle 30"/>
          <p:cNvSpPr/>
          <p:nvPr/>
        </p:nvSpPr>
        <p:spPr>
          <a:xfrm>
            <a:off x="2057400" y="0"/>
            <a:ext cx="6248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5faa"/>
                </a:solidFill>
                <a:latin typeface="Arial"/>
              </a:rPr>
              <a:t>Status of IGOS Transition into GEO (201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08:08:49Z</dcterms:created>
  <dc:creator>BRyan</dc:creator>
  <dc:description/>
  <dc:language>en-US</dc:language>
  <cp:lastModifiedBy>Espen Volden</cp:lastModifiedBy>
  <dcterms:modified xsi:type="dcterms:W3CDTF">2013-09-11T15:55:07Z</dcterms:modified>
  <cp:revision>12</cp:revision>
  <dc:subject/>
  <dc:title>Slide 1</dc:title>
</cp:coreProperties>
</file>