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701EA-FACE-4FD2-95D5-30474491B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7A2AC-C851-4F99-A22D-5E9450609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03A95-4EC0-49C1-B94E-0BE4E5CAE259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3BBB1-3DB2-49F4-A14B-D3F91173A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FD6FE-BB2E-4BB6-A629-24C317565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B7071-8F34-46CE-B900-4658E915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F5BCD-820F-4208-BAC7-7D3240EF0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B2031-A065-412A-BA83-891693992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E055B-5BAF-48DD-8699-056CACD4D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4F4AD-08B9-4308-A371-37EF79D5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D7977-6211-4AC0-A1CB-60ECBAC10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A60E3-2FE5-40A0-8A86-002BBCE54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0A28-3E08-4F88-850A-8701B64D1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A941-1E72-4429-A3D2-7024C4740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3FBE-78A1-40A9-B0FA-D7D2C209A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4418-2EEB-49EC-836E-26C2CD98F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235F-3757-4A0C-BCC6-858EF9D30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8527E-DE57-4C1A-A11A-A44D2600A6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1A06-58A0-4635-AA3D-6EFA072BAB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CBA2-CBB2-4468-A869-AC1356D20F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BDBF-D2F5-4E91-ABAA-D4B074B0B7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651F-4F90-4FB4-8CA0-212AB5FBD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CFE6-35EE-4D55-BF2F-6F3968F09B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927C-0D06-4624-A1B9-8B25C84F8F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8ED0-DDC8-4570-8A69-7F36586B32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B4C2-5AED-434C-B1BF-5FDD0F42FF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B9D6-4F1F-4DB6-B92A-B196CEED53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24B4-8D77-4109-A013-D566A885AE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CF45-9AC0-404F-8806-7458E707CD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4F3D-8349-4CF7-B0A9-FFD2923BD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A546-6FE3-4ED5-9CEA-FC381D3E1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B5C0-99EA-47A2-AB4F-645E1BF51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DA53-21A9-4F9B-A148-FEC842E26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1732-CF39-4357-A441-5A3A8B5A9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56A0-B539-4E0C-98F4-B716D510B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75A2-A365-4734-8730-C98F7F18D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198D7-BF21-4D07-81A7-D15FB9BA7F8B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B7E55585-B64C-4C66-A4DA-CE09A81E82D7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139F6-B328-4917-A5DA-D6DF500FB2BC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2.2 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Diane E. Wickland (NASA) and Masakatsu Nakajima (JAXA)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2A718-E909-45AF-B705-500C89B50CE3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18960" y="123192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ic/Issue to be Presented:  CEOS Response to the GEO Carbon Strateg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report is nearing end of formal review process (and there is still time to comment!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Note that in 2014 CEOS will need to decide on how it will follow up on and implement the </a:t>
            </a:r>
            <a:r>
              <a:rPr b="1" i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Strategy for Carbon Observations from Space</a:t>
            </a: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– after the CTF report is finalized (first opportunity for any CEOS action would be at SIT-29); CTF report will make a recommendation (currently, a Carbon subgroup under the WG Climate), but there are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Purpose:  Information/Discussion/Guidan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Supporting Documentation:  Draft report,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05B6C-3A97-4D68-BE8F-2DDE857138D2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677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244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established the Carbon Task Force (CTF) to coordinate its response to the GEO Carbon Strategy entitled:  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</a:rPr>
              <a:t>CEOS Strategy for Carbon Observations from Space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</a:rPr>
              <a:t>Outline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Activities and Milestones achieved since 2012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port from CTF Side Meeting at SIT Technical Workshop, September 10, 2013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mpletion of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opics for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344520" indent="-34452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3DCF0-60C4-4A98-A000-CAA316509B8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estone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400" y="1071720"/>
            <a:ext cx="8996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ilestones Since 2012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</a:t>
            </a: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was substantially reorganized and a new Co-Lead and several co-authors recruited in November/December 2012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 CTF Executive writing team met on December 7, 2012 (side meeting at American Geophysical Union Fall Meeting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tmosphere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completed in February 2013; and updated in June and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cean and Inland Waters 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omain chapter completed in February 2013; and updated in April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ntegration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chapter draft was circulated within the CTF Executive writing team in February 2013 and completed in May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Land</a:t>
            </a: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 domain chapter draft was circulated within the CTF Executive writing team in March 2013, completed in May 2013, and updated in August 2013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TF side meeting was held on March 11, 2013, at SIT-28; Land domain chapter was review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795240" indent="-339480">
              <a:lnSpc>
                <a:spcPct val="100000"/>
              </a:lnSpc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Full report completed and readied for review September 5, 2013 (advance copy distributed to CEOS SIT Technical Workshop participants and full CTF membership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72340-7996-4E7C-B9FB-71964D91FC20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TF </a:t>
            </a:r>
            <a:r>
              <a:rPr b="1" lang="en-US" sz="2400" spc="-1" strike="noStrike">
                <a:solidFill>
                  <a:srgbClr val="001c4f"/>
                </a:solidFill>
                <a:latin typeface="Century Gothic"/>
                <a:ea typeface="ＭＳ Ｐゴシック"/>
              </a:rPr>
              <a:t>side meeting was held on September 10, 2013, at SIT Technical Workshop in Pasadena, CA.  Agenda focused on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Summary and discussion of major CEOS actions / recommendations included in the report, seeking CEOS SIT participant inputs regard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Reasonableness of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Owners / responsible parties for actions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ny “missing”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Issues or concerns about actions / recommenda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 on implementation and oversight mechanisms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lans for continued review and completion of the report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EAC75-B56A-41C7-A960-9C72C5ABA3F1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op-Level Comment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irst impressions:  report is quite long (~121 pages of text) and has many (50) actio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as agreed that neither of these was a problem if the information content is substantive and has value and the actions are warran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ew of the side meeting participants have been able to read the full report yet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What is missing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equate consideration of the role of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 situ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observations and their integration with remote sensing observations (primarily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tmospher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Clarity on the spatial extent of measurements called for (also time and space sampling) – especially if these requirements differ from those for the GCOS ECV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93D25-B960-4DD9-8957-7FE27BD72EE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Needs Improvement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Wording of actions needs greater precision and many need identification of the responsible party(ies); some may need to be broken up, others could be consolidated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t would be helpful to cross-cut the actions in several ways, including by duration (near-, mid-, and longer-term); by responsible party(ies); by type of activity (i.e., missions, data products, supporting institutions/infrastructure, etc.)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Helpful Suggestions (many received, a few examples below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ove long tables to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ppendices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to improve readabilit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dd an action to encourage land-ocean-atmosphere communities to  communicat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Explain differing maturity of observations across land, ocean and atmosphere in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Introduction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Replace opening paragraphs of the Introduction with those from the </a:t>
            </a:r>
            <a:r>
              <a:rPr b="1" i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Land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 chapt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22B2E-12F8-4501-871A-74937663212A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n Side Meeting at SIT Technical Workshop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CEOS Implementation and Reporting:  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[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Options considered by the CTF: continue the CTF;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ansition to a carbon subgroup under the WG Climate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</a:rPr>
              <a:t>; absorb into several VCs; and/or, create a new entity.]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Hosting the future follow-up on the CEOS Carbon Strategy within the WG Climate was discussed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Preliminary dialogue (prior to the side meeting) suggested that the timing might be problematic - it may be necessary to wait until the creation of the joint CGMS-CEOS climate working group is finaliz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	</a:t>
            </a:r>
            <a:r>
              <a:rPr b="1" lang="en-US" sz="1800" spc="-1" strike="noStrike">
                <a:solidFill>
                  <a:srgbClr val="001c4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Discussions at side meeting were more optimistic, but further dialogue with the WG Climate is needed along with further consideration of the pros and cons of subgroup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CEOS Plenary will ultimately need to come to a decision on how to manage the follow-on from the CTF work, as well as to implement the CEOS Carbon Strategy and report on progress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There should also be a dialogue with GEO on the Carbon CoP - which can be discussed at the GEO Carbon Conference in October.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ＭＳ Ｐゴシック"/>
              </a:rPr>
              <a:t>A carbon supplement to the CEOS Response to the GCOS IP might be a useful construct to consider for reporting. (and WG Climate oversight of the follow-up would be compatible with this).  The next reporting year is 2014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00AAD-2EB3-425F-9BAB-72C4C362449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aining Activities and Achievements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7600" y="127152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: 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revised based on feedback received at the September 10 side meeting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report will be made available for review in mid-September (to CEOS members, GEO Carbon Community of Practice, others who may be interested)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after 8 weeks (~mid-November 2013) and report will be revised based on comments/feedback and made available by the end of 2013 for CEOS endorsement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delivered by end of 2013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F3016-C1B9-426E-B438-991B72128519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9440" y="6660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OS Carbon Task Force Updat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8960" y="1031760"/>
            <a:ext cx="863280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TF will present the report at the “GEO and Carbon Cycle” meetings October 1-4, 2013 in Geneva and seek feedback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view period will close in mid-November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1c4f"/>
                </a:solidFill>
                <a:latin typeface="Arial"/>
                <a:ea typeface="Arial"/>
              </a:rPr>
              <a:t>Report will be made available in final form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JAXA (and NIES) intend to have a side event at the GEO Ministerial Summit in collaboration with the NASA OCO-2 team about carbon observation from space and may include a presentation on the </a:t>
            </a:r>
            <a:r>
              <a:rPr b="1" i="1" lang="en-US" sz="18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CEOS Strategy for Carbon Observations from Space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No decision needed.  Information on status and issues will be presented.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28Z</dcterms:modified>
  <cp:revision>86</cp:revision>
  <dc:subject/>
  <dc:title>Title</dc:title>
</cp:coreProperties>
</file>