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7E8B7-F4A7-4AF2-9E38-456FFE2BF2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A974E-E239-43DA-83DF-C14658D15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FCCC5-2C50-4EC0-8970-0870165ABCC9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C70B7-59BD-4670-9B85-4BAD6AC5C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D2105-A5EE-484D-B01C-5D20634AE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3081-7A85-48CE-B58A-45A5559D6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7F0C-00D7-4D1F-99F9-C8D88D1D6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B0E4-4B8E-4C6C-BA09-A1A141885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FF74-007C-40C7-BC30-1383C04F7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F48D-8349-4AF9-9388-28A9A8A6A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0041-8312-486E-AF75-75ABA80D57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38DC-2CE5-45CB-B536-6A5E700E4D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C567-6A5C-462E-822A-EAD8E8D400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31C9-3EBF-4B31-A580-2D590249A3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488F-A38C-4B88-B853-716473F211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08D0-8864-4808-882B-C393B36C58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79D4-B1E0-4FD8-9A66-944EB0855D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6C70E-0D10-4A6B-B51C-3B26981842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0140-2643-4227-A63B-76E26D4EA9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98DB2-09A1-4483-9715-A2868367AB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7120-F99F-4D3F-BDC8-C7895D66E3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50EC-CA28-439E-A6F9-088F168115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CE99-4571-4C99-8EA8-22FF48B87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67FC-9AFA-4CCB-92C3-A64C7AF6F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389B-CE60-402B-A218-8A8ADA10F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6B4E-4072-4E95-927C-7A26AF4AE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7FCC-A4CA-4152-B795-F20AC49F6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C4D3-1C63-4FE0-9AC5-AF201C678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CC96-7155-4109-9FE4-8914BA1CA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4B53F-75B9-4233-A507-A2072E14FB3A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C245DBF9-A0C3-4ACA-A28D-75D225DF40B0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8C6A0-44D0-46B5-BC28-DC4F2FA8D113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151160" y="1981080"/>
            <a:ext cx="4826160" cy="17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ursday, September 12,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IT Technical Workshop 2013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asadena, CA, USA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Brian Killough, CEOS SEO (NASA)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144680" y="282600"/>
            <a:ext cx="48322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S Participation in the GEO Plenary and Ministerial Summi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 Exhibition and Outre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AF76A-63D2-420E-B45E-A04E0EC0D147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xhibition Booth Plans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08080" y="1500120"/>
            <a:ext cx="869148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SEO is planning to support the GEO-X Meeting in Geneva, Switzerland in January 2014.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SEO will coordinate outreach materials from various CEOS groups including newsletters (JAXA), one-page CEOS statement (CEO), Virtual Constellation posters, and key charts on CEOS organization and </a:t>
            </a:r>
            <a:br>
              <a:rPr sz="2400"/>
            </a:b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key projects, etc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EO has contacted GEO to indicate interest in having a CEOS exhibition booth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The cost of the exhibition booth is ~1000 Euro.  To date, no CEOS Agency has volunteered to fund this initiative. 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CE7ED-F4F9-4848-9C81-2162B41AC175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1550880" y="109440"/>
            <a:ext cx="747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New CEOS Video Wall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08080" y="1500120"/>
            <a:ext cx="4943520" cy="45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e SEO has designed and procured a new video wall to support major CEOS outreach even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Such events will include the annual CEOS Plenary, GEO, IGARSS, or other event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e video wall is an interactive touch-screen system with 4 large video panels.  The system can display internet-based content and also specific products developed for CEO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256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The new system will be introduced at the CEOS Plenary in Montreal ... November 2013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1" name="Picture 5" descr="Booth_2011.jpg"/>
          <p:cNvPicPr/>
          <p:nvPr/>
        </p:nvPicPr>
        <p:blipFill>
          <a:blip r:embed="rId1"/>
          <a:stretch/>
        </p:blipFill>
        <p:spPr>
          <a:xfrm>
            <a:off x="5538960" y="1430280"/>
            <a:ext cx="3033720" cy="2022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5724360" y="340524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Old rented TV syste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166360" y="6383160"/>
            <a:ext cx="36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New multi-panel CEOS system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5521320" y="4041720"/>
            <a:ext cx="3049560" cy="23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Brian Killough</cp:lastModifiedBy>
  <cp:lastPrinted>2013-07-23T19:08:48Z</cp:lastPrinted>
  <dcterms:modified xsi:type="dcterms:W3CDTF">2013-09-12T15:49:40Z</dcterms:modified>
  <cp:revision>63</cp:revision>
  <dc:subject/>
  <dc:title>Title</dc:title>
</cp:coreProperties>
</file>