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370A4-CB71-48FD-B279-B1AD24735B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39685-ED05-40AD-B5BA-359000411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58257-1FCC-41C6-AC6F-6EA5EEE33629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8685C-1D22-4EAF-B84C-3AEBEC5D6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1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45CCF-1356-4B72-BCB3-C76CCCA70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5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9FE51-B1F4-4029-B845-CEA138FD6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D0BF-7BEB-4BA5-9262-69B22B237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FDDF-4259-4355-89F8-BE07C419F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7FBF7-BD5C-4B40-84FB-64D62E7A6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94B91-CB77-403A-BEEE-72C6C6203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F6313-65FF-4AAA-B128-6EBC6836E4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92AC3-624A-4475-9BF7-8E2C02B34B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BD8C8-AFB6-4A68-9F68-ECCCE09058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A91A8-1642-48B5-8776-CD88683E1D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B0D11-4D91-4DCB-957F-83378ACE15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D996-CBA7-43D1-94B0-0F71121C0D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7BA87-56F7-49F5-87AB-55BDB4AF08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D89E8-F3B4-48BD-B8CA-9205DF7C64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3AAFD-D83B-4737-BF3E-3900047B95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2E9FF-75C9-45A5-B054-EF8A03363B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E7AA1-2E89-4FF2-A5C1-D88C52A496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04C3B-62F7-4B28-A1EB-0D9F006B5B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CD2EB-AB59-4E6F-89A9-2D559FAA1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859A-026F-4822-8891-0BC48772E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23A18-BE5B-4A6B-8E03-5E63F2822C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34E8-90EA-4079-92C4-1FEEABF00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A38C-285B-48CE-A08F-72F373A28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FEDE-9CE0-4AB7-9E4C-73A982E1B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AB998-2730-46FC-8EE2-BDA39D086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7C196E-C02E-4861-A7A6-1DC15C27DB0F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7910640" y="6494400"/>
            <a:ext cx="11728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F2D4C605-9AD1-4BFE-B643-301077C1B883}" type="slidenum"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324360" y="6494400"/>
            <a:ext cx="75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1335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5940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C5985-5545-4AD6-ADAD-344948DE3001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151160" y="1981080"/>
            <a:ext cx="482616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hursday, September 12, 2013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IT Technical Workshop 2013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asadena, CA, USA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alibri"/>
              </a:rPr>
              <a:t>Brian Killough, CEOS SEO (NASA)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144680" y="282600"/>
            <a:ext cx="483228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OS Participation in the GEO Plenary and Ministerial Summi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– Exhibition and Outre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AD2BFA-AA6C-4FDD-8AED-101E04140D27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xhibition Booth Pla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208080" y="1500120"/>
            <a:ext cx="869148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SEO is planning to support the GEO-X Meeting in Geneva, Switzerland in January 2014.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SEO will coordinate outreach materials from various CEOS groups including newsletters (JAXA), one-page CEOS statement (CEO), Virtual Constellation posters, and key charts on CEOS organization and </a:t>
            </a:r>
            <a:br>
              <a:rPr sz="2400"/>
            </a:b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key projects, etc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CEO has contacted GEO to indicate interest in having a CEOS exhibition booth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cost of the exhibition booth is ~1000 Euro.  To date, no CEOS Agency has volunteered to fund this initiative. 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AD64D-94BB-4FB9-BEDF-86F8BAD85E3A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New CEOS Video Wall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208080" y="1500120"/>
            <a:ext cx="4943520" cy="45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The SEO has designed and procured a new video wall to support major CEOS outreach events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Such events will include the annual CEOS Plenary, GEO, IGARSS, or other events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The video wall is an interactive touch-screen system with 4 large video panels.  The system can display internet-based content and also specific products developed for CEOS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The new system will be introduced at the CEOS Plenary in Montreal ... November 2013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41" name="Picture 5" descr="Booth_2011.jpg"/>
          <p:cNvPicPr/>
          <p:nvPr/>
        </p:nvPicPr>
        <p:blipFill>
          <a:blip r:embed="rId1"/>
          <a:stretch/>
        </p:blipFill>
        <p:spPr>
          <a:xfrm>
            <a:off x="5538960" y="1430280"/>
            <a:ext cx="3033720" cy="20224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"/>
          <p:cNvSpPr/>
          <p:nvPr/>
        </p:nvSpPr>
        <p:spPr>
          <a:xfrm>
            <a:off x="5724360" y="340524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Old rented TV system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5166360" y="6383160"/>
            <a:ext cx="36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New multi-panel CEOS system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5521320" y="4041720"/>
            <a:ext cx="3049560" cy="237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Brian Killough</dc:creator>
  <dc:description/>
  <dc:language>en-US</dc:language>
  <cp:lastModifiedBy>Brian Killough</cp:lastModifiedBy>
  <cp:lastPrinted>2013-07-23T19:08:48Z</cp:lastPrinted>
  <dcterms:modified xsi:type="dcterms:W3CDTF">2013-09-12T15:49:40Z</dcterms:modified>
  <cp:revision>63</cp:revision>
  <dc:subject/>
  <dc:title>Title</dc:title>
</cp:coreProperties>
</file>