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75490-8C71-4373-BD9A-66CA043EAB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EC9E3-7C23-42CB-A9F5-7CC67E672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714E4-D133-4F4B-94BE-ED49E4A43ED8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F6E34-33B4-4E11-8A6F-CCFCBDFE2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0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D01D3-81D2-45DB-9F8B-8E326B474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8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72C2E-08B1-4C4F-B292-B0F13A15B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2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44C06-8D78-4B21-A6D5-4599192CB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6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8EB09-C218-4CF5-A667-986C09B8C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0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7CB76-DD63-47B0-8FE0-8E764C323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4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CBBD5-86B6-4909-8C3F-02EB107CC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8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42AEC-7D62-4F44-9F1C-7D19FFCC0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2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CFC1E-A61E-4F5A-81E3-A0E7A42B9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6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5844-875D-41B0-B00F-04810DF6D4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3CE3-88F1-4DFC-87DA-1B7C140B8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2E79-463E-4404-88A6-C5D91D396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A4F8-DAF2-4156-9E32-8AC0BF923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CC42-924B-45D4-B471-DC5E10709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D447F-132A-48D8-8985-8EAE016156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6CE01-6167-4827-AD67-5D859CA759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7FE7-54FA-4371-8165-3CBD7910E5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37C8-2B3D-494F-BE85-9C3A5486C8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D54D5-66DD-4A2E-A509-6156D7C152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EB8C-2A66-4101-837A-9A977B395D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9A01B-AB52-4430-9CE0-C9F359BED6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86A93-73ED-4B0E-9983-5A721BD635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86CE8-7893-4DB4-8726-D4DCE419F6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43C2E-23DF-4041-AC38-F3B9DAB196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C5422-D761-417E-9ECF-26B78E0B2C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7520E-4E02-45ED-B999-A5FBC45FF6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32073-7EB8-4E85-A488-83D2AE464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6185-A799-4907-A7B4-F1B76F4F8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DB99E-AC6A-4FE6-8C79-37786CCF1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27AC4-3B6B-4821-88A2-A0EFB33D9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F129-F1A4-4AC3-B624-BFE52412F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4E10-338F-40AF-9707-3B3A951D6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6502-93B7-444B-BD6D-ED67461C8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F3D6A-E855-4EA2-BC04-53C5A43305E5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910640" y="6494400"/>
            <a:ext cx="1172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7962E7FA-697E-4086-9DB9-17C49EA3C821}" type="slidenum"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5940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AC2924-9000-407F-98BA-94E8988CE9F8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081320" y="2722680"/>
            <a:ext cx="48261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2.2 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entury Gothic"/>
              </a:rPr>
              <a:t>Diane E. Wickland (NASA) and Masakatsu Nakajima (JAXA)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089240" y="666720"/>
            <a:ext cx="481176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A98D0-7AE4-4D92-A4E1-958C92257940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79440" y="6660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Framing of Topics for CEOS Plen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18960" y="1231920"/>
            <a:ext cx="863280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Topic/Issue to be Presented:  CEOS Response to the GEO Carbon Strategy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Note report is nearing end of formal review process (and there is still time to comment!)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Note that in 2014 CEOS will need to decide on how it will follow up on and implement the </a:t>
            </a:r>
            <a:r>
              <a:rPr b="1" i="1" lang="en-GB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CEOS Strategy for Carbon Observations from Space</a:t>
            </a:r>
            <a:r>
              <a:rPr b="1" lang="en-GB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 – after the CTF report is finalized (first opportunity for any CEOS action would be at SIT-29); CTF report will make a recommendation (currently, a Carbon subgroup under the WG Climate), but there are issues/concer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Purpose:  Information/Discussion/Guidanc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Supporting Documentation:  Draft report, </a:t>
            </a:r>
            <a:r>
              <a:rPr b="1" i="1" lang="en-GB" sz="2400" spc="-1" strike="noStrike">
                <a:solidFill>
                  <a:srgbClr val="001c4f"/>
                </a:solidFill>
                <a:latin typeface="Arial"/>
              </a:rPr>
              <a:t>CEOS Strategy for Carbon Observations from Spac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F5332-0BE1-43A5-A83F-8E335DB748F5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2360" y="1677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line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47600" y="1244520"/>
            <a:ext cx="883116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CEOS established the Carbon Task Force (CTF) to coordinate its response to the GEO Carbon Strategy entitled:  </a:t>
            </a:r>
            <a:r>
              <a:rPr b="1" i="1" lang="en-GB" sz="2400" spc="-1" strike="noStrike">
                <a:solidFill>
                  <a:srgbClr val="001c4f"/>
                </a:solidFill>
                <a:latin typeface="Arial"/>
              </a:rPr>
              <a:t>CEOS Strategy for Carbon Observations from Space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</a:rPr>
              <a:t>Outline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CTF Activities and Milestones achieved since 2012 Plenary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Report from CTF Side Meeting at SIT Technical Workshop, September 10,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Plans for completion of repor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Topics for CEOS Plenary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344520" indent="-34452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5C6C52-E13E-4C04-ADDE-8D9FD701DEEF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lestones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8400" y="1071720"/>
            <a:ext cx="899640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Milestones Since 2012 CEOS Plenary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The </a:t>
            </a:r>
            <a:r>
              <a:rPr b="1" i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Land </a:t>
            </a: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domain chapter was substantially reorganized and a new Co-Lead and several co-authors recruited in November/December 2012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The CTF Executive writing team met on December 7, 2012 (side meeting at American Geophysical Union Fall Meeting)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Atmosphere</a:t>
            </a: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 domain chapter completed in February 2013; and updated in June and August 2013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Ocean and Inland Waters </a:t>
            </a: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domain chapter completed in February 2013; and updated in April 2013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Integration</a:t>
            </a: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 chapter draft was circulated within the CTF Executive writing team in February 2013 and completed in May 2013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Land</a:t>
            </a: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 domain chapter draft was circulated within the CTF Executive writing team in March 2013, completed in May 2013, and updated in August 2013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CTF side meeting was held on March 11, 2013, at SIT-28; Land domain chapter was reviewed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Full report completed and readied for review September 5, 2013 (advance copy distributed to CEOS SIT Technical Workshop participants and full CTF membership)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A89C8-DE3F-472B-BF74-453C9882F5EA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9440" y="6660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 on Side Meeting at SIT Technical Workshop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18960" y="1417680"/>
            <a:ext cx="863280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CTF </a:t>
            </a:r>
            <a:r>
              <a:rPr b="1" lang="en-US" sz="2400" spc="-1" strike="noStrike">
                <a:solidFill>
                  <a:srgbClr val="001c4f"/>
                </a:solidFill>
                <a:latin typeface="Century Gothic"/>
                <a:ea typeface="ＭＳ Ｐゴシック"/>
              </a:rPr>
              <a:t>side meeting was held on September 10, 2013, at SIT Technical Workshop in Pasadena, CA.  Agenda focused on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Summary and discussion of major CEOS actions / recommendations included in the report, seeking CEOS SIT participant inputs regarding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Reasonableness of actions / recommendatio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Owners / responsible parties for actions/ recommendatio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Any “missing” actions / recommendatio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Issues or concerns about actions / recommendatio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Discussion on implementation and oversight mechanism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Plans for continued review and completion of the repor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A51BB-BB5B-472B-BF97-BC8CB25C8B14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79440" y="6660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 on Side Meeting at SIT Technical Workshop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18960" y="1417680"/>
            <a:ext cx="863280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Top-Level Comments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First impressions:  report is quite long (~121 pages of text) and has many (50) actio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1c4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It was agreed that neither of these was a problem if the information content is substantive and has value and the actions are warranted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1c4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Few of the side meeting participants have been able to read the full report yet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What is missing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Adequate consideration of the role of </a:t>
            </a:r>
            <a:r>
              <a:rPr b="1" i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in situ 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observations and their integration with remote sensing observations (primarily in the </a:t>
            </a:r>
            <a:r>
              <a:rPr b="1" i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Atmosphere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 chapter)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Clarity on the spatial extent of measurements called for (also time and space sampling) – especially if these requirements differ from those for the GCOS ECV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FB023-0B79-4464-9992-C69015C1B0F9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79440" y="6660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 on Side Meeting at SIT Technical Workshop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18960" y="1417680"/>
            <a:ext cx="863280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Needs Improvement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Wording of actions needs greater precision and many need identification of the responsible party(ies); some may need to be broken up, others could be consolidated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It would be helpful to cross-cut the actions in several ways, including by duration (near-, mid-, and longer-term); by responsible party(ies); by type of activity (i.e., missions, data products, supporting institutions/infrastructure, etc.)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Helpful Suggestions (many received, a few examples below)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Move long tables to the </a:t>
            </a:r>
            <a:r>
              <a:rPr b="1" i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Appendices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 to improve readability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Add an action to encourage land-ocean-atmosphere communities to  communicat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Explain differing maturity of observations across land, ocean and atmosphere in the </a:t>
            </a:r>
            <a:r>
              <a:rPr b="1" i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Introduction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Replace opening paragraphs of the Introduction with those from the </a:t>
            </a:r>
            <a:r>
              <a:rPr b="1" i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Land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 chapter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FA964-5A2A-466C-A911-CDD6572C9D12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79440" y="6660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 on Side Meeting at SIT Technical Workshop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18960" y="1417680"/>
            <a:ext cx="863280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CEOS Implementation and Reporting:  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[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</a:rPr>
              <a:t>Options considered by the CTF: continue the CTF;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ransition to a carbon subgroup under the WG Climate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</a:rPr>
              <a:t>; absorb into several VCs; and/or, create a new entity.]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Hosting the future follow-up on the CEOS Carbon Strategy within the WG Climate was discussed.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	</a:t>
            </a:r>
            <a:r>
              <a:rPr b="1" lang="en-US" sz="1800" spc="-1" strike="noStrike">
                <a:solidFill>
                  <a:srgbClr val="001c4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Preliminary dialogue (prior to the side meeting) suggested that the timing might be problematic - it may be necessary to wait until the creation of the joint CGMS-CEOS climate working group is finalized.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	</a:t>
            </a:r>
            <a:r>
              <a:rPr b="1" lang="en-US" sz="1800" spc="-1" strike="noStrike">
                <a:solidFill>
                  <a:srgbClr val="001c4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Discussions at side meeting were more optimistic, but further dialogue with the WG Climate is needed along with further consideration of the pros and cons of subgroup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CEOS Plenary will ultimately need to come to a decision on how to manage the follow-on from the CTF work, as well as to implement the CEOS Carbon Strategy and report on progress.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There should also be a dialogue with GEO on the Carbon CoP - which can be discussed at the GEO Carbon Conference in October.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A carbon supplement to the CEOS Response to the GCOS IP might be a useful construct to consider for reporting. (and WG Climate oversight of the follow-up would be compatible with this).  The next reporting year is 2014.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DDCE6-1501-42A1-B97B-11E1871B6B4F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aining Activities and Achievements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47600" y="1271520"/>
            <a:ext cx="883116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Future remaining activities and milestones: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TF report will be revised based on feedback received at the September 10 side meeting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TF report will be made available for review in mid-September (to CEOS members, GEO Carbon Community of Practice, others who may be interested)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TF will present the report at the “GEO and Carbon Cycle” meetings October 1-4, 2013 in Geneva and seek feedback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Arial"/>
              </a:rPr>
              <a:t>Review period will close after 8 weeks (~mid-November 2013) and report will be revised based on comments/feedback and made available by the end of 2013 for CEOS endorsement.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Main 2013 achievements/outcomes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Arial"/>
              </a:rPr>
              <a:t>Report will be delivered by end of 2013.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601C0-F48F-4BF0-89B8-12A631089158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9440" y="6660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itional Information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18960" y="1031760"/>
            <a:ext cx="8632800" cy="51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Additional expected achievements by the end of 2013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TF will present the report at the “GEO and Carbon Cycle” meetings October 1-4, 2013 in Geneva and seek feedback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Arial"/>
              </a:rPr>
              <a:t>Review period will close in mid-November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Arial"/>
              </a:rPr>
              <a:t>Report will be made available in final form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Contribution to 2013 Events (</a:t>
            </a:r>
            <a:r>
              <a:rPr b="1" i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e.g., 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GEO Ministerial Summit, COP-19/SBSTA-38)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JAXA (and NIES) intend to have a side event at the GEO Ministerial Summit in collaboration with the NASA OCO-2 team about carbon observation from space and may include a presentation on the </a:t>
            </a:r>
            <a:r>
              <a:rPr b="1" i="1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Strategy for Carbon Observations from Spac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Information on any decision(s) that need to be made at CEOS Plenary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c4f"/>
                </a:solidFill>
                <a:latin typeface="Arial"/>
                <a:ea typeface="Arial"/>
              </a:rPr>
              <a:t>No decision needed.  Information on status and issues will be presented.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Keith, Kim Elizabeth (LARC-D2)[SCIENCE SYSTEMS AND APPLICATIONS, INC]</cp:lastModifiedBy>
  <cp:lastPrinted>2013-07-23T19:08:48Z</cp:lastPrinted>
  <dcterms:modified xsi:type="dcterms:W3CDTF">2013-09-16T15:11:28Z</dcterms:modified>
  <cp:revision>86</cp:revision>
  <dc:subject/>
  <dc:title>Title</dc:title>
</cp:coreProperties>
</file>