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5B2-A7F8-476A-ADE5-35191077AC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6DE-2BC6-4115-B481-5426817D2D79}" type="slidenum">
              <a:rPr b="0" lang="en-Z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430280" y="549360"/>
            <a:ext cx="3938760" cy="29541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4800" y="3635280"/>
            <a:ext cx="55879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 shortcoming were identified as target areas that GEOSS could addres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access to data and associated benefits in the developing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oding technical infrastru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 spatial and temporal gaps in specific data se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data integration and interoper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y over continuity of observ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user involv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relevant processing systems to transform data into useful inform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072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072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065400" y="6500880"/>
            <a:ext cx="3451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© GEO Sec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17979" r="0" b="0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4400" spc="-1" strike="noStrike">
                <a:solidFill>
                  <a:srgbClr val="005faa"/>
                </a:solidFill>
                <a:latin typeface="Arial"/>
                <a:ea typeface="宋体"/>
              </a:rPr>
              <a:t>GEO Work Plan update</a:t>
            </a:r>
            <a:br>
              <a:rPr sz="4400"/>
            </a:br>
            <a:r>
              <a:rPr b="1" lang="fr-CH" sz="3600" spc="-1" strike="noStrike">
                <a:solidFill>
                  <a:srgbClr val="005faa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spen Volden</a:t>
            </a:r>
            <a:br>
              <a:rPr sz="28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volden@geosec.or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1800" spc="-1" strike="noStrike">
                <a:solidFill>
                  <a:srgbClr val="005faa"/>
                </a:solidFill>
                <a:latin typeface="Arial"/>
                <a:ea typeface="宋体"/>
              </a:rPr>
              <a:t>CEOS SIT Technical Workshop</a:t>
            </a:r>
            <a:br>
              <a:rPr sz="1800"/>
            </a:br>
            <a:r>
              <a:rPr b="1" lang="fr-CH" sz="1800" spc="-1" strike="noStrike">
                <a:solidFill>
                  <a:srgbClr val="005faa"/>
                </a:solidFill>
                <a:latin typeface="Arial"/>
                <a:ea typeface="宋体"/>
              </a:rPr>
              <a:t>Pasadena, 11-12 Sept 2013</a:t>
            </a: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76320" y="685440"/>
            <a:ext cx="9220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595b7"/>
                </a:solidFill>
                <a:latin typeface="Arial"/>
                <a:ea typeface="Arial Unicode MS"/>
              </a:rPr>
              <a:t>GEO Work Plan – What is it?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Framewor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for implementing the GEOSS 10-Year Implementation Plan (2005-2015)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Set of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practical Task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arried out by various </a:t>
            </a:r>
            <a:br>
              <a:rPr sz="28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GEO Members and Participating Organizations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Liv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ocument – Annually updated</a:t>
            </a:r>
            <a:br>
              <a:rPr sz="2800"/>
            </a:br>
            <a:r>
              <a:rPr b="0" i="1" lang="en-US" sz="2800" spc="-1" strike="noStrike">
                <a:solidFill>
                  <a:srgbClr val="005faa"/>
                </a:solidFill>
                <a:latin typeface="Arial"/>
              </a:rPr>
              <a:t>(Task Component sheets in online Work Plan continuously updated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Implementation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operational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sustainable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GEOSS 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(full &amp; open access; interoperable systems) 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Reinforce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coordin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,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user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engagement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resource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mobilization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Develop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products and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end-to-end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systems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across 9 Societal Benefit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05360" y="141588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5faa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3595b7"/>
                </a:solidFill>
                <a:latin typeface="Arial"/>
              </a:rPr>
              <a:t>3 Main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3600" spc="-1" strike="noStrike">
                <a:solidFill>
                  <a:srgbClr val="3595b7"/>
                </a:solidFill>
                <a:latin typeface="Arial"/>
              </a:rPr>
              <a:t>3-Part Structur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RASTRUCTU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Architecture and Data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STITUTIONS AND DEVELOPMENT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Data Sharing, Capacity Building, Science and Technology, User Eng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 FOR SOCIETAL BENEFIT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16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9 GEOSS Societal Benefi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Incorporates technical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omments from GEO community May-July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raws from recommendations of 2013 Work Plan Symposium (4-6 June,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No major change to Rev. 2 (17 Dec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DI-01-C4 “Global Wildfire Information System” (proposed by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DI-01-C5 “Foster utilization of Earth observation remote sensing data for all phases of Disaster Risk Management” (proposed by C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removed or merg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ID-04-C3 “Global Environment Information Platforms” removed (proposed by E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ID-02-C1 “Institutional Development” merged with ID-02-C2 “Individual Development” to become “Institutional and Individual Development” (proposed by South Africa on behalf of ID-02 Task T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ask descriptions and Priority Actions are revised and Task Leads are updated (e.g. IN-01, IN-04, ID-03; proposed by related Task Te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2.1 -&gt; 2.2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1 submitted for official review until 22 October 2013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(17 October to Kerr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2 will be prepared and submitted to GEO-X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Plenary in Jan 2014 for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03120" y="685800"/>
            <a:ext cx="8688600" cy="6072480"/>
            <a:chOff x="303120" y="685800"/>
            <a:chExt cx="8688600" cy="6072480"/>
          </a:xfrm>
        </p:grpSpPr>
        <p:sp>
          <p:nvSpPr>
            <p:cNvPr id="61" name="Title 1"/>
            <p:cNvSpPr/>
            <p:nvPr/>
          </p:nvSpPr>
          <p:spPr>
            <a:xfrm>
              <a:off x="304920" y="11588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700"/>
              </a:b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ryosphere</a:t>
              </a:r>
              <a:br>
                <a:rPr sz="1600"/>
              </a:b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itle 1"/>
            <p:cNvSpPr/>
            <p:nvPr/>
          </p:nvSpPr>
          <p:spPr>
            <a:xfrm>
              <a:off x="304920" y="18446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lobal Carbon Cycl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itle 1"/>
            <p:cNvSpPr/>
            <p:nvPr/>
          </p:nvSpPr>
          <p:spPr>
            <a:xfrm>
              <a:off x="304920" y="251460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eohazard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itle 1"/>
            <p:cNvSpPr/>
            <p:nvPr/>
          </p:nvSpPr>
          <p:spPr>
            <a:xfrm>
              <a:off x="303120" y="3200400"/>
              <a:ext cx="2440080" cy="593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Ocean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itle 1"/>
            <p:cNvSpPr/>
            <p:nvPr/>
          </p:nvSpPr>
          <p:spPr>
            <a:xfrm>
              <a:off x="303120" y="38862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Water Cycle (IGW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733920" y="11937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ryosphere (under discus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WA-01-C3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Service for Cold Reg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Box 12"/>
            <p:cNvSpPr/>
            <p:nvPr/>
          </p:nvSpPr>
          <p:spPr>
            <a:xfrm>
              <a:off x="3733920" y="18795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arb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L-02 Global Carbon Observation and 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Box 26"/>
            <p:cNvSpPr/>
            <p:nvPr/>
          </p:nvSpPr>
          <p:spPr>
            <a:xfrm>
              <a:off x="3733920" y="611676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 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Forest,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2 Land Cover; SB-03 Global Forest Observation; EC-01 Global Ecosystem Monitoring; AG-01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Box 103"/>
            <p:cNvSpPr/>
            <p:nvPr/>
          </p:nvSpPr>
          <p:spPr>
            <a:xfrm>
              <a:off x="304920" y="720720"/>
              <a:ext cx="2438280" cy="337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GOS Them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Box 104"/>
            <p:cNvSpPr/>
            <p:nvPr/>
          </p:nvSpPr>
          <p:spPr>
            <a:xfrm>
              <a:off x="3733920" y="685800"/>
              <a:ext cx="5257800" cy="380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EO CoPs and Work Plan Tas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1" name="Straight Arrow Connector 28"/>
            <p:cNvCxnSpPr>
              <a:stCxn id="66" idx="1"/>
              <a:endCxn id="61" idx="3"/>
            </p:cNvCxnSpPr>
            <p:nvPr/>
          </p:nvCxnSpPr>
          <p:spPr>
            <a:xfrm flipH="1">
              <a:off x="2744280" y="1434960"/>
              <a:ext cx="977040" cy="2160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72" name="TextBox 21"/>
            <p:cNvSpPr/>
            <p:nvPr/>
          </p:nvSpPr>
          <p:spPr>
            <a:xfrm>
              <a:off x="3733920" y="39625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Integrated Global Water Cycle Observation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WA-01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grated Water Information (incl. Floods and Droughts)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22"/>
            <p:cNvSpPr/>
            <p:nvPr/>
          </p:nvSpPr>
          <p:spPr>
            <a:xfrm>
              <a:off x="3733920" y="457200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Air Quality, Health &amp; Environment, Carb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HE-01-C1 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r-borne Diseases, Air Quality and Aeroallergens; HE-02 Tracking Pollutants; CL-02: Global Carbon Observ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23"/>
            <p:cNvSpPr/>
            <p:nvPr/>
          </p:nvSpPr>
          <p:spPr>
            <a:xfrm>
              <a:off x="3733920" y="25653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Geohazards; Supersites Initi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DI-01 Informing Risk Management and Disaster Risk Re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24"/>
            <p:cNvSpPr/>
            <p:nvPr/>
          </p:nvSpPr>
          <p:spPr>
            <a:xfrm>
              <a:off x="3733920" y="32767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G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SB-01 Oceans &amp; Society – Blue Plan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25"/>
            <p:cNvSpPr/>
            <p:nvPr/>
          </p:nvSpPr>
          <p:spPr>
            <a:xfrm>
              <a:off x="3733920" y="533412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oastal 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4 Global Urban Observation and Information;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DI-01 Informing Risk Management; EC-01 Ecosystem Monito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7" name="Straight Arrow Connector 64"/>
            <p:cNvCxnSpPr/>
            <p:nvPr/>
          </p:nvCxnSpPr>
          <p:spPr>
            <a:xfrm flipH="1">
              <a:off x="2742840" y="5562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78" name="Title 1"/>
            <p:cNvSpPr/>
            <p:nvPr/>
          </p:nvSpPr>
          <p:spPr>
            <a:xfrm>
              <a:off x="303120" y="45720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Atmospheric Chemistry (IGA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itle 1"/>
            <p:cNvSpPr/>
            <p:nvPr/>
          </p:nvSpPr>
          <p:spPr>
            <a:xfrm>
              <a:off x="303120" y="52578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oastal Observ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itle 1"/>
            <p:cNvSpPr/>
            <p:nvPr/>
          </p:nvSpPr>
          <p:spPr>
            <a:xfrm>
              <a:off x="303120" y="59436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Land (IGOL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1" name="Straight Arrow Connector 64"/>
            <p:cNvCxnSpPr/>
            <p:nvPr/>
          </p:nvCxnSpPr>
          <p:spPr>
            <a:xfrm flipH="1">
              <a:off x="2742840" y="48769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2" name="Straight Arrow Connector 64"/>
            <p:cNvCxnSpPr/>
            <p:nvPr/>
          </p:nvCxnSpPr>
          <p:spPr>
            <a:xfrm flipH="1">
              <a:off x="2742840" y="144576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3" name="Straight Arrow Connector 64"/>
            <p:cNvCxnSpPr/>
            <p:nvPr/>
          </p:nvCxnSpPr>
          <p:spPr>
            <a:xfrm flipH="1">
              <a:off x="2742840" y="2133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2742840" y="28195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5" name="Straight Arrow Connector 64"/>
            <p:cNvCxnSpPr/>
            <p:nvPr/>
          </p:nvCxnSpPr>
          <p:spPr>
            <a:xfrm flipH="1">
              <a:off x="2742840" y="35053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6" name="Straight Arrow Connector 64"/>
            <p:cNvCxnSpPr/>
            <p:nvPr/>
          </p:nvCxnSpPr>
          <p:spPr>
            <a:xfrm flipH="1">
              <a:off x="2755080" y="4188960"/>
              <a:ext cx="97884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7" name="Straight Arrow Connector 64"/>
            <p:cNvCxnSpPr/>
            <p:nvPr/>
          </p:nvCxnSpPr>
          <p:spPr>
            <a:xfrm flipH="1">
              <a:off x="2742840" y="632412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</p:grpSp>
      <p:sp>
        <p:nvSpPr>
          <p:cNvPr id="88" name="Rectangle 30"/>
          <p:cNvSpPr/>
          <p:nvPr/>
        </p:nvSpPr>
        <p:spPr>
          <a:xfrm>
            <a:off x="2057400" y="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5faa"/>
                </a:solidFill>
                <a:latin typeface="Arial"/>
              </a:rPr>
              <a:t>Status of IGOS Transition into GEO (201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8:08:49Z</dcterms:created>
  <dc:creator>BRyan</dc:creator>
  <dc:description/>
  <dc:language>en-US</dc:language>
  <cp:lastModifiedBy>Espen Volden</cp:lastModifiedBy>
  <dcterms:modified xsi:type="dcterms:W3CDTF">2013-09-11T15:55:07Z</dcterms:modified>
  <cp:revision>12</cp:revision>
  <dc:subject/>
  <dc:title>Slide 1</dc:title>
</cp:coreProperties>
</file>