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DACC-931A-4E96-9D6F-CF6504819F7D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76CF-4E31-46A4-AE03-CD1EB505AF63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5D0E16B5-CFBB-44F5-B909-AD2B45E741F5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7AA3-16EB-4591-B156-21824622D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7B82-4F2C-4990-BD79-90D3B638E9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8129-4671-4E6C-93A7-60B9BC134C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1678-3E33-4700-9F21-D2F6DD8A2E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A3F5-8B11-4799-8005-BFE02286E6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B83E-99E3-4A17-BC41-C179EDB142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651F-FCC2-4724-B1A0-C37984D28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412E-3432-4BB8-A872-5DABCC171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38DE-5203-416F-B27E-ADF2C3FE8D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670D-DBE7-4DC6-87C0-A2D0ECE85B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9D79-D32D-4E0C-AA48-EC58B6ACFA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08F8-4522-405E-A28C-34902A88C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65C79E-D286-4DCD-B491-BA6E6C472E5C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8720" y="-360"/>
            <a:ext cx="549108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NES SIT chair planning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Pascale Ultré-Guéra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CN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49400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…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looking forward to nov 2013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SSII process almost completed – recommendations and documents to be stabilised and agreed at plenary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New procedures and structures to « test drive » …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…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ll the while, CEOS will still have to be delivering on its core busines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GEO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2 years and counting to the « implementation » of the System of Systems ...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... demonstrating concrete progress will be the priority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97FDF7-81D6-4A2B-A9DC-56185A6C7B45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à coins arrondis 5"/>
          <p:cNvSpPr/>
          <p:nvPr/>
        </p:nvSpPr>
        <p:spPr>
          <a:xfrm rot="18997200">
            <a:off x="3568320" y="2847960"/>
            <a:ext cx="1649520" cy="4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à coins arrondis 6"/>
          <p:cNvSpPr/>
          <p:nvPr/>
        </p:nvSpPr>
        <p:spPr>
          <a:xfrm rot="18997200">
            <a:off x="3596760" y="5564160"/>
            <a:ext cx="1648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500120"/>
            <a:ext cx="8042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NES will endeavour to balance these two objectives: managing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hange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while continuing to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deliver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on CEOS “core business”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wo main priorities 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mplementation of CSSII recommendation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Manage the evolution of CEOS as described in the recoms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passed at Montréal plenary 2013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lement the processes agreed on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Tidy up any “loose ends” …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 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Support GEO in showing concrete progres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Continuity in the development of programmes (GFOI, GEOGLAM, Disasters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rove access to space based EO dat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3" marL="11732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341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0476D2-2835-4117-BC6B-D1481476C7F9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 Outcom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Image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924360" cy="5496120"/>
          </a:xfrm>
          <a:prstGeom prst="rect">
            <a:avLst/>
          </a:prstGeom>
          <a:ln w="0">
            <a:noFill/>
          </a:ln>
        </p:spPr>
      </p:pic>
      <p:pic>
        <p:nvPicPr>
          <p:cNvPr id="105" name="Image 4" descr=""/>
          <p:cNvPicPr/>
          <p:nvPr/>
        </p:nvPicPr>
        <p:blipFill>
          <a:blip r:embed="rId2"/>
          <a:srcRect l="18052" t="0" r="15619" b="2551"/>
          <a:stretch/>
        </p:blipFill>
        <p:spPr>
          <a:xfrm>
            <a:off x="4859280" y="1125360"/>
            <a:ext cx="3924360" cy="5507280"/>
          </a:xfrm>
          <a:prstGeom prst="rect">
            <a:avLst/>
          </a:prstGeom>
          <a:ln w="0">
            <a:noFill/>
          </a:ln>
        </p:spPr>
      </p:pic>
      <p:sp>
        <p:nvSpPr>
          <p:cNvPr id="106" name="Interdiction 7"/>
          <p:cNvSpPr/>
          <p:nvPr/>
        </p:nvSpPr>
        <p:spPr>
          <a:xfrm>
            <a:off x="4643280" y="801720"/>
            <a:ext cx="4321440" cy="5940360"/>
          </a:xfrm>
          <a:custGeom>
            <a:avLst/>
            <a:gdLst/>
            <a:ahLst/>
            <a:rect l="l" t="t" r="r" b="b"/>
            <a:pathLst>
              <a:path w="4320480" h="5940048">
                <a:moveTo>
                  <a:pt x="0" y="2970024"/>
                </a:moveTo>
                <a:cubicBezTo>
                  <a:pt x="0" y="1329725"/>
                  <a:pt x="967172" y="0"/>
                  <a:pt x="2160240" y="0"/>
                </a:cubicBezTo>
                <a:cubicBezTo>
                  <a:pt x="3353308" y="0"/>
                  <a:pt x="4320480" y="1329725"/>
                  <a:pt x="4320480" y="2970024"/>
                </a:cubicBezTo>
                <a:cubicBezTo>
                  <a:pt x="4320480" y="4610323"/>
                  <a:pt x="3353308" y="5940048"/>
                  <a:pt x="2160240" y="5940048"/>
                </a:cubicBezTo>
                <a:cubicBezTo>
                  <a:pt x="967172" y="5940048"/>
                  <a:pt x="0" y="4610323"/>
                  <a:pt x="0" y="2970024"/>
                </a:cubicBezTo>
                <a:close/>
                <a:moveTo>
                  <a:pt x="3626110" y="4825151"/>
                </a:moveTo>
                <a:cubicBezTo>
                  <a:pt x="4171580" y="3966691"/>
                  <a:pt x="4284702" y="2721997"/>
                  <a:pt x="3910404" y="1697046"/>
                </a:cubicBezTo>
                <a:cubicBezTo>
                  <a:pt x="3310456" y="54193"/>
                  <a:pt x="1762409" y="-319639"/>
                  <a:pt x="809550" y="948234"/>
                </a:cubicBezTo>
                <a:lnTo>
                  <a:pt x="3626110" y="4825151"/>
                </a:lnTo>
                <a:close/>
                <a:moveTo>
                  <a:pt x="694370" y="1114897"/>
                </a:moveTo>
                <a:cubicBezTo>
                  <a:pt x="148900" y="1973357"/>
                  <a:pt x="35778" y="3218051"/>
                  <a:pt x="410076" y="4243002"/>
                </a:cubicBezTo>
                <a:cubicBezTo>
                  <a:pt x="1010024" y="5885855"/>
                  <a:pt x="2558071" y="6259687"/>
                  <a:pt x="3510930" y="4991814"/>
                </a:cubicBezTo>
                <a:lnTo>
                  <a:pt x="694370" y="11148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à coins arrondis 6"/>
          <p:cNvSpPr/>
          <p:nvPr/>
        </p:nvSpPr>
        <p:spPr>
          <a:xfrm rot="19712400">
            <a:off x="539280" y="3212640"/>
            <a:ext cx="813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</a:rPr>
              <a:t>Evolution not revoluti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I Outcomes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2000"/>
          </a:bodyPr>
          <a:p>
            <a:pPr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SSII process (still … ) converging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rocess has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clarified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many aspects of CEOS oper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doption of documents at Plenary 2013 will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formalise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his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Organisation’s objectives and goal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nternal organisation and reporting lines for WGs and VCs (CEOS Chair/ SIT Chair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Decision making (how decisions are made, who decides what, when )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calendar of major meeting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 few loose ends to tie up …. ?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pport to GEO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ontinued high priority for CEOS activities supporting GEO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FOI, GEOGLAM, Disasters…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orking group prioriti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Including  on-going work in WGISS &amp; SEO&amp; VCs on improving access to space based EO data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8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I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scale Ultré-Guérard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teven Hosford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ISS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Richard Moreno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érôme Gaspéri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EOS suppor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Mireille Paulin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Danielle Barrère (meetings/logistics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CalVal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trice Henry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 Climat, PV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hilippe Veyre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VC OST,VC OCR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uliette Lambin (OST co-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CVC, CTF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arole Deni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EOGLAM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érard Dedieu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Health Po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écile Vignoll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lus external support  in progress (TBC)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nd last but not least, we would like to have a </a:t>
            </a:r>
            <a:r>
              <a:rPr b="1" lang="en-IE" sz="3200" spc="-1" strike="noStrike">
                <a:solidFill>
                  <a:srgbClr val="ff0000"/>
                </a:solidFill>
                <a:latin typeface="Arial"/>
              </a:rPr>
              <a:t>SIT Vice-Chair (TBF)</a:t>
            </a: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/>
  <dc:description/>
  <dc:language>en-US</dc:language>
  <cp:lastModifiedBy>Keith, Kim Elizabeth (LARC-D2)[SCIENCE SYSTEMS AND APPLICATIONS, INC]</cp:lastModifiedBy>
  <dcterms:modified xsi:type="dcterms:W3CDTF">2013-09-17T13:12:36Z</dcterms:modified>
  <cp:revision>69</cp:revision>
  <dc:subject/>
  <dc:title>Leveraging VCs to improve CEOS data access </dc:title>
</cp:coreProperties>
</file>