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3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BA1C91-E4C1-4861-B168-240EBB1E24A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4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5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4FE2FA-937C-4C89-99F8-9E9A9E5620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FA0A3A-6FB5-4386-BE82-2EC1D1A2FF23}" type="slidenum">
              <a:rPr b="0" lang="de-DE" sz="1200" spc="-1" strike="noStrike">
                <a:solidFill>
                  <a:srgbClr val="00256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D97A7D-FCB8-4914-9745-6CDEBBD3AB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2" name="Header Placeholder 4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CE0ECE-D427-45C5-8FC7-4ECE0B8EC4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6" name="Header Placeholder 4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21FB36-F9A3-43CA-AC4A-60E85CBE5C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0" name="Header Placeholder 4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E8CD76-FF58-42FE-9202-14130BE32A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4" name="Header Placeholder 4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C0543E-AEB7-48BA-9E64-C9CEEA7E69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8" name="Header Placeholder 4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92B871-F742-471A-83BA-AF9F923B90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92" name="Header Placeholder 4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7EFD4F-ABD8-4CF9-9251-036AFB54F2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96" name="Header Placeholder 4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F468DA-82FF-48F3-85CA-04D1592A95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00" name="Header Placeholder 4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F7E88-FE5F-47AE-8046-0C059C1D21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84385-45A4-4AD4-BEC7-A5C1681135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BFE8F-F823-46A8-A993-009887763A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B2867-4E53-45D9-94ED-AE9CAEBC7E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136240" y="188640"/>
            <a:ext cx="69310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F78E3-DF34-42B6-B3B4-795981B25F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BE522-EA05-408D-AE25-21B2F3602AE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E024F-EA38-48CC-B537-A2562E4FEC4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58174-FF8F-45F9-853F-BB44BAC6A58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1FEAA-11EC-4576-ADA9-571F8304F33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6DC49-3470-4A19-B280-79F2195960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AE291-F822-4B51-A9A1-66D25F8E32C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136240" y="188640"/>
            <a:ext cx="69310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61337-0115-45EA-A388-E51822A689B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35461-0D45-4412-B3B3-9F391CE490D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15462-9A78-4F9D-89F0-0654E88A3E7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97DB8-2D00-4FBF-9BFB-9453A589A48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D8D04-5368-4292-AE96-A9DE976857B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AE76A-EB7C-456F-A93F-C9ED60B9EFA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EAE3E-BCE1-46ED-AB74-47651F51A3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F8009-BCEC-4D08-9498-27F456E4EE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4D444-FA71-4C8D-A972-B2C4D8568A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136240" y="188640"/>
            <a:ext cx="69310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F369F-419A-493F-B181-CD42F89769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0B6C9-82EB-47CD-B6D6-FFACF9447A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DA5F4-6E78-456E-AB7E-359497785F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6A4C2-C665-4526-905C-AEA52506C9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1347840"/>
            <a:ext cx="9144000" cy="55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36240" y="188640"/>
            <a:ext cx="693108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TextBox 3"/>
          <p:cNvSpPr/>
          <p:nvPr/>
        </p:nvSpPr>
        <p:spPr>
          <a:xfrm>
            <a:off x="72720" y="558720"/>
            <a:ext cx="1761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IT Technical Workshop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asadena, California, USA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pt 11-12, 2013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38880" y="6600960"/>
            <a:ext cx="190512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2569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DB6163-DA15-4837-A5A8-914C5638FC08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34" descr=""/>
          <p:cNvPicPr/>
          <p:nvPr/>
        </p:nvPicPr>
        <p:blipFill>
          <a:blip r:embed="rId3"/>
          <a:srcRect l="0" t="16211" r="0" b="0"/>
          <a:stretch/>
        </p:blipFill>
        <p:spPr>
          <a:xfrm>
            <a:off x="0" y="0"/>
            <a:ext cx="1374840" cy="69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4"/>
          <p:cNvSpPr/>
          <p:nvPr/>
        </p:nvSpPr>
        <p:spPr>
          <a:xfrm>
            <a:off x="7910640" y="6494400"/>
            <a:ext cx="117288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5f758d"/>
                </a:solidFill>
                <a:latin typeface="Century Gothic"/>
              </a:rPr>
              <a:t>Slide: </a:t>
            </a:r>
            <a:fld id="{CEC9CBDD-E92D-4B76-9019-93F2B8C6D7D2}" type="slidenum">
              <a:rPr b="0" lang="de-DE" sz="1200" spc="-1" strike="noStrike">
                <a:solidFill>
                  <a:srgbClr val="5f758d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3" name="AutoShape 5"/>
          <p:cNvSpPr/>
          <p:nvPr/>
        </p:nvSpPr>
        <p:spPr>
          <a:xfrm>
            <a:off x="0" y="3244680"/>
            <a:ext cx="9144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4" name="Rectangle 36"/>
          <p:cNvSpPr/>
          <p:nvPr/>
        </p:nvSpPr>
        <p:spPr>
          <a:xfrm>
            <a:off x="324360" y="6494400"/>
            <a:ext cx="7513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400" spc="-1" strike="noStrike">
                <a:solidFill>
                  <a:srgbClr val="001335"/>
                </a:solidFill>
                <a:latin typeface="Century Gothic"/>
              </a:rPr>
              <a:t>CEOS SIT Technical Workshop |Caltech, Pasadena, California, USA| 11-12 September 2013</a:t>
            </a:r>
            <a:endParaRPr b="0" lang="en-US" sz="14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3"/>
          <a:stretch/>
        </p:blipFill>
        <p:spPr>
          <a:xfrm>
            <a:off x="7711920" y="4881600"/>
            <a:ext cx="1432080" cy="9334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36240" y="188640"/>
            <a:ext cx="693108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8"/>
          <p:cNvSpPr/>
          <p:nvPr/>
        </p:nvSpPr>
        <p:spPr>
          <a:xfrm>
            <a:off x="0" y="1347840"/>
            <a:ext cx="9144000" cy="55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72720" y="558720"/>
            <a:ext cx="1761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IT Technical Workshop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asadena, California, USA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pt 11-12, 2013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86" name="Picture 34" descr=""/>
          <p:cNvPicPr/>
          <p:nvPr/>
        </p:nvPicPr>
        <p:blipFill>
          <a:blip r:embed="rId3"/>
          <a:srcRect l="0" t="16211" r="0" b="0"/>
          <a:stretch/>
        </p:blipFill>
        <p:spPr>
          <a:xfrm>
            <a:off x="0" y="0"/>
            <a:ext cx="1374840" cy="6904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36240" y="188640"/>
            <a:ext cx="693108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2"/>
          </p:nvPr>
        </p:nvSpPr>
        <p:spPr>
          <a:xfrm>
            <a:off x="7259400" y="6453360"/>
            <a:ext cx="16398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2569"/>
                </a:solidFill>
                <a:latin typeface="Century Gothic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EEEE72-0D86-4046-A318-902D769C9BA1}" type="slidenum">
              <a:rPr b="0" lang="en-US" sz="1200" spc="-1" strike="noStrike">
                <a:solidFill>
                  <a:srgbClr val="002569"/>
                </a:solidFill>
                <a:latin typeface="Century Gothic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151160" y="1734840"/>
            <a:ext cx="4826160" cy="17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Wednesday, September 11, 2013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SIT Technical Workshop 2013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Pasadena, CA, USA</a:t>
            </a: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Calibri"/>
              </a:rPr>
              <a:t>Brian Killough, CEOS SEO (NASA)</a:t>
            </a: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4144680" y="123840"/>
            <a:ext cx="4832280" cy="155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OS Self Study (CSS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velopment of Guidance Documents for Plenary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dorse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7259760" y="6453360"/>
            <a:ext cx="16398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79820D-6767-4251-BB78-E36A251277DC}" type="slidenum">
              <a:rPr b="0" lang="en-US" sz="1200" spc="-1" strike="noStrike">
                <a:solidFill>
                  <a:srgbClr val="002569"/>
                </a:solidFill>
                <a:latin typeface="Century Gothic"/>
                <a:ea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6" name="Title 1"/>
          <p:cNvSpPr/>
          <p:nvPr/>
        </p:nvSpPr>
        <p:spPr>
          <a:xfrm>
            <a:off x="1550880" y="109440"/>
            <a:ext cx="7473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CSS History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7" name="TextBox 6"/>
          <p:cNvSpPr/>
          <p:nvPr/>
        </p:nvSpPr>
        <p:spPr>
          <a:xfrm>
            <a:off x="208080" y="1500120"/>
            <a:ext cx="8710560" cy="48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s a reminder 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... The </a:t>
            </a: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EOS Self Study (CSS) 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started in February 2011 and will end at the November 2013 CEOS Plenary.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objectives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 of the CSS were to ...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601"/>
              </a:spcAft>
              <a:buClr>
                <a:srgbClr val="002569"/>
              </a:buClr>
              <a:buSzPct val="7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To identify and evaluate CEOS successes and strengths in achieving real coordination in space-based Earth observations for societal benefit.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601"/>
              </a:spcAft>
              <a:buClr>
                <a:srgbClr val="002569"/>
              </a:buClr>
              <a:buSzPct val="7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To identify CEOS challenges and areas needing improvement (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Strategic Guidance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)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601"/>
              </a:spcAft>
              <a:buClr>
                <a:srgbClr val="002569"/>
              </a:buClr>
              <a:buSzPct val="7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To identify potential new CEOS initiatives for the coming years. (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Work Plan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)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5"/>
          <p:cNvSpPr/>
          <p:nvPr/>
        </p:nvSpPr>
        <p:spPr>
          <a:xfrm>
            <a:off x="7259760" y="6453360"/>
            <a:ext cx="16398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29EA6D-6DAE-4093-B04D-5A3613870729}" type="slidenum">
              <a:rPr b="0" lang="en-US" sz="1200" spc="-1" strike="noStrike">
                <a:solidFill>
                  <a:srgbClr val="002569"/>
                </a:solidFill>
                <a:latin typeface="Century Gothic"/>
                <a:ea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9" name="Title 1"/>
          <p:cNvSpPr/>
          <p:nvPr/>
        </p:nvSpPr>
        <p:spPr>
          <a:xfrm>
            <a:off x="1550880" y="109440"/>
            <a:ext cx="7473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CSS Outputs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223920" y="1576440"/>
            <a:ext cx="8710560" cy="56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42720"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The final output of the CEOS Self Study effort is a set of </a:t>
            </a: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trategic documents 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that will guide CEOS in the future.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285840">
              <a:lnSpc>
                <a:spcPct val="100000"/>
              </a:lnSpc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CEOS Terms of Reference 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(ToR)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285840">
              <a:lnSpc>
                <a:spcPct val="100000"/>
              </a:lnSpc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CEOS </a:t>
            </a:r>
            <a:r>
              <a:rPr b="1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Strategic Guidance (SG) 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(~10 year life)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285840">
              <a:lnSpc>
                <a:spcPct val="100000"/>
              </a:lnSpc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CEOS </a:t>
            </a:r>
            <a:r>
              <a:rPr b="1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Governance &amp; Processes (GP) 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(~5 year life)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285840">
              <a:lnSpc>
                <a:spcPct val="100000"/>
              </a:lnSpc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CEOS Chair ToR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285840">
              <a:lnSpc>
                <a:spcPct val="100000"/>
              </a:lnSpc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SEC ToR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285840">
              <a:lnSpc>
                <a:spcPct val="100000"/>
              </a:lnSpc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SIT Chair ToR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285840">
              <a:lnSpc>
                <a:spcPct val="100000"/>
              </a:lnSpc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CEO ToR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285840">
              <a:lnSpc>
                <a:spcPct val="100000"/>
              </a:lnSpc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SEO ToR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285840">
              <a:lnSpc>
                <a:spcPct val="100000"/>
              </a:lnSpc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CEOS Work Plan (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oming in early 2014 ...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) 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285840">
              <a:lnSpc>
                <a:spcPct val="100000"/>
              </a:lnSpc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99960" indent="-342720"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7259760" y="6453360"/>
            <a:ext cx="16398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4071E5-076F-4DBB-B5E5-B1C9F4E3D424}" type="slidenum">
              <a:rPr b="0" lang="en-US" sz="1200" spc="-1" strike="noStrike">
                <a:solidFill>
                  <a:srgbClr val="002569"/>
                </a:solidFill>
                <a:latin typeface="Century Gothic"/>
                <a:ea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2" name="Title 1"/>
          <p:cNvSpPr/>
          <p:nvPr/>
        </p:nvSpPr>
        <p:spPr>
          <a:xfrm>
            <a:off x="1550880" y="109440"/>
            <a:ext cx="7473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Steering Committee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3" name="TextBox 6"/>
          <p:cNvSpPr/>
          <p:nvPr/>
        </p:nvSpPr>
        <p:spPr>
          <a:xfrm>
            <a:off x="138240" y="1376280"/>
            <a:ext cx="5665680" cy="56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</a:rPr>
              <a:t>Brian Killough – NASA, SEO, CSS Chair #2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</a:rPr>
              <a:t>Pat Jacoberger-Jellison – NASA, CSS Chair #1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</a:rPr>
              <a:t>Lena Braatz – NASA SIT Team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</a:rPr>
              <a:t>Christine Bognar – NASA SIT Team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</a:rPr>
              <a:t>Brent Smith - NOAA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</a:rPr>
              <a:t>Kerry Sawyer – NOAA, CEO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</a:rPr>
              <a:t>Ivan Petiteville - ESA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</a:rPr>
              <a:t>Robert Husband - EUMETSAT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</a:rPr>
              <a:t>Steven Hosford - CNES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</a:rPr>
              <a:t>Marie-Josee Bourassa - CSA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</a:rPr>
              <a:t>Marcia Alvarenga - INPE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</a:rPr>
              <a:t>Julio Dalge - INPE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</a:rPr>
              <a:t>Kazuo Umezawa - JAXA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</a:rPr>
              <a:t>Takayuki Kawai - JAXA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</a:rPr>
              <a:t>Chu Ishida – JAXA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144" name="Picture 1" descr=""/>
          <p:cNvPicPr/>
          <p:nvPr/>
        </p:nvPicPr>
        <p:blipFill>
          <a:blip r:embed="rId1"/>
          <a:stretch/>
        </p:blipFill>
        <p:spPr>
          <a:xfrm>
            <a:off x="4425840" y="4089240"/>
            <a:ext cx="3882960" cy="24418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"/>
          <p:cNvPicPr/>
          <p:nvPr/>
        </p:nvPicPr>
        <p:blipFill>
          <a:blip r:embed="rId2"/>
          <a:stretch/>
        </p:blipFill>
        <p:spPr>
          <a:xfrm>
            <a:off x="5803920" y="1536840"/>
            <a:ext cx="2751120" cy="220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5"/>
          <p:cNvSpPr/>
          <p:nvPr/>
        </p:nvSpPr>
        <p:spPr>
          <a:xfrm>
            <a:off x="7259760" y="6453360"/>
            <a:ext cx="16398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AADF32-2BD1-4406-B96F-1C12742FE78F}" type="slidenum">
              <a:rPr b="0" lang="en-US" sz="1200" spc="-1" strike="noStrike">
                <a:solidFill>
                  <a:srgbClr val="002569"/>
                </a:solidFill>
                <a:latin typeface="Century Gothic"/>
                <a:ea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7" name="Title 1"/>
          <p:cNvSpPr/>
          <p:nvPr/>
        </p:nvSpPr>
        <p:spPr>
          <a:xfrm>
            <a:off x="1550880" y="109440"/>
            <a:ext cx="7473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Input and Feedback Process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8" name="TextBox 6"/>
          <p:cNvSpPr/>
          <p:nvPr/>
        </p:nvSpPr>
        <p:spPr>
          <a:xfrm>
            <a:off x="208080" y="1500120"/>
            <a:ext cx="8710560" cy="54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Broadly engage 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the CEOS community and leadership during the CSS development and review process to produce a set of strategic documents for endorsement at the 2013 CEOS Plenary. 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Multiple SIT and Plenary Meetings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19 Past and Present Leadership Interviews 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80 individuals contributed to the Study Reports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11 Agencies contributed to the Topical Teams 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8 Agencies represented on the Steering Team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11 Agencies provided feedback during 4 Town Hall telecons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5"/>
          <p:cNvSpPr/>
          <p:nvPr/>
        </p:nvSpPr>
        <p:spPr>
          <a:xfrm>
            <a:off x="7259760" y="6453360"/>
            <a:ext cx="16398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6DD89D-C315-4003-AE7D-10F8D4BFA107}" type="slidenum">
              <a:rPr b="0" lang="en-US" sz="1200" spc="-1" strike="noStrike">
                <a:solidFill>
                  <a:srgbClr val="002569"/>
                </a:solidFill>
                <a:latin typeface="Century Gothic"/>
                <a:ea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0" name="Title 1"/>
          <p:cNvSpPr/>
          <p:nvPr/>
        </p:nvSpPr>
        <p:spPr>
          <a:xfrm>
            <a:off x="1550880" y="109440"/>
            <a:ext cx="7473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Team Contributions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1" name="TextBox 6"/>
          <p:cNvSpPr/>
          <p:nvPr/>
        </p:nvSpPr>
        <p:spPr>
          <a:xfrm>
            <a:off x="166680" y="1500120"/>
            <a:ext cx="8732880" cy="51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Utilized </a:t>
            </a: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tudy Teams 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for in-depth review of CEOS functions: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xecutive Functions, Working Groups and SBAs, Constellations.  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These teams contributed to the Synthesis Report (15 pages) and Annex material (200 pages).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Utilized </a:t>
            </a: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opical Teams 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to perform an in-depth study of 5 theme areas that contribute to the Governance and Processes document.  These themes included ..</a:t>
            </a:r>
            <a:br>
              <a:rPr sz="2400"/>
            </a:b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trategic Thinking, Decision-making and New Initiatives, Organizational Roles and Responsibilities, Membership and Participation, and Objectives of Meetings.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5"/>
          <p:cNvSpPr/>
          <p:nvPr/>
        </p:nvSpPr>
        <p:spPr>
          <a:xfrm>
            <a:off x="7259760" y="6453360"/>
            <a:ext cx="16398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29608C-EAB9-47E1-882F-4FC3047DC5C7}" type="slidenum">
              <a:rPr b="0" lang="en-US" sz="1200" spc="-1" strike="noStrike">
                <a:solidFill>
                  <a:srgbClr val="002569"/>
                </a:solidFill>
                <a:latin typeface="Century Gothic"/>
                <a:ea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3" name="Title 1"/>
          <p:cNvSpPr/>
          <p:nvPr/>
        </p:nvSpPr>
        <p:spPr>
          <a:xfrm>
            <a:off x="1550880" y="109440"/>
            <a:ext cx="7473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Other Contributions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4" name="TextBox 6"/>
          <p:cNvSpPr/>
          <p:nvPr/>
        </p:nvSpPr>
        <p:spPr>
          <a:xfrm>
            <a:off x="11160" y="1393920"/>
            <a:ext cx="5870520" cy="62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The CEOS community, through several CEOS SIT and Plenary meetings, developed a set of </a:t>
            </a: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Essential Questions 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that contributed to the CEOS Strategic Guidance document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The 15 member </a:t>
            </a: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teering Team 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utilized </a:t>
            </a:r>
            <a:r>
              <a:rPr b="0" lang="en-US" sz="2400" spc="-1" strike="noStrike" u="sng">
                <a:solidFill>
                  <a:srgbClr val="002569"/>
                </a:solidFill>
                <a:uFillTx/>
                <a:latin typeface="Arial"/>
              </a:rPr>
              <a:t>many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 weekly telecons (2 more than 4+ hours) to develop the document content and discuss issues.  Much of this was accomplished during the summer holiday period ...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ANKS AGAIN!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155" name="Picture 1" descr=""/>
          <p:cNvPicPr/>
          <p:nvPr/>
        </p:nvPicPr>
        <p:blipFill>
          <a:blip r:embed="rId1"/>
          <a:stretch/>
        </p:blipFill>
        <p:spPr>
          <a:xfrm>
            <a:off x="6107040" y="1514520"/>
            <a:ext cx="2749680" cy="24415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" descr=""/>
          <p:cNvPicPr/>
          <p:nvPr/>
        </p:nvPicPr>
        <p:blipFill>
          <a:blip r:embed="rId2"/>
          <a:stretch/>
        </p:blipFill>
        <p:spPr>
          <a:xfrm>
            <a:off x="6114960" y="4245120"/>
            <a:ext cx="2741760" cy="1753920"/>
          </a:xfrm>
          <a:prstGeom prst="rect">
            <a:avLst/>
          </a:prstGeom>
          <a:ln w="0">
            <a:noFill/>
          </a:ln>
        </p:spPr>
      </p:pic>
      <p:sp>
        <p:nvSpPr>
          <p:cNvPr id="157" name="TextBox 1"/>
          <p:cNvSpPr/>
          <p:nvPr/>
        </p:nvSpPr>
        <p:spPr>
          <a:xfrm>
            <a:off x="7867800" y="198288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rry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8" name="TextBox 7"/>
          <p:cNvSpPr/>
          <p:nvPr/>
        </p:nvSpPr>
        <p:spPr>
          <a:xfrm>
            <a:off x="6178680" y="42894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van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5"/>
          <p:cNvSpPr/>
          <p:nvPr/>
        </p:nvSpPr>
        <p:spPr>
          <a:xfrm>
            <a:off x="7259760" y="6453360"/>
            <a:ext cx="16398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A29EE9-078C-4424-A3BF-E5888C01E6C6}" type="slidenum">
              <a:rPr b="0" lang="en-US" sz="1200" spc="-1" strike="noStrike">
                <a:solidFill>
                  <a:srgbClr val="002569"/>
                </a:solidFill>
                <a:latin typeface="Century Gothic"/>
                <a:ea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60" name="Title 1"/>
          <p:cNvSpPr/>
          <p:nvPr/>
        </p:nvSpPr>
        <p:spPr>
          <a:xfrm>
            <a:off x="1550880" y="109440"/>
            <a:ext cx="7473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Where to find the documents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208080" y="1500120"/>
            <a:ext cx="87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CEOS website (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ww.ceos.org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) - Governing Documents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372960" y="2171880"/>
            <a:ext cx="7867800" cy="44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5"/>
          <p:cNvSpPr/>
          <p:nvPr/>
        </p:nvSpPr>
        <p:spPr>
          <a:xfrm>
            <a:off x="7259760" y="6453360"/>
            <a:ext cx="16398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AEE4C4-44E3-4042-93E7-507F5CD94F04}" type="slidenum">
              <a:rPr b="0" lang="en-US" sz="1200" spc="-1" strike="noStrike">
                <a:solidFill>
                  <a:srgbClr val="002569"/>
                </a:solidFill>
                <a:latin typeface="Century Gothic"/>
                <a:ea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64" name="Title 1"/>
          <p:cNvSpPr/>
          <p:nvPr/>
        </p:nvSpPr>
        <p:spPr>
          <a:xfrm>
            <a:off x="1550880" y="109440"/>
            <a:ext cx="7473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Coming tomorrow ...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208080" y="1500120"/>
            <a:ext cx="8710560" cy="20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</a:rPr>
              <a:t>Path to Plenary ... 2 months until Plenary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</a:rPr>
              <a:t>Document Highlights ... CEOS ToR, SG, GP, ToRs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</a:rPr>
              <a:t>Feedback Highlights ... Town Hall telecons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</a:rPr>
              <a:t>Side Meeting Summary from Tuesday ... 8 topics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6T09:23:13Z</dcterms:created>
  <dc:creator>Brian Killough</dc:creator>
  <dc:description/>
  <dc:language>en-US</dc:language>
  <cp:lastModifiedBy>Brian Killough</cp:lastModifiedBy>
  <cp:lastPrinted>2013-07-23T19:08:48Z</cp:lastPrinted>
  <dcterms:modified xsi:type="dcterms:W3CDTF">2013-09-11T15:45:18Z</dcterms:modified>
  <cp:revision>85</cp:revision>
  <dc:subject/>
  <dc:title>Title</dc:title>
</cp:coreProperties>
</file>