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BF24E-CE4F-42CF-BA52-9DB09DE645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B0CE2-1827-45F9-B453-355558107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8496C-422D-4F7C-9C2D-769A2AD55C07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82D9-39A5-4105-82A4-6F5749771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0876-A756-4DF2-A159-01105372E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A888-4C64-4338-B29F-218B941FE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AF7A-0D76-46FF-AA08-D0B5CF584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22E2-3553-4394-9835-D4B73ACB8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D947-C4D4-4A2B-A367-E4C3777F9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94A6-A9E9-4285-BB98-4559B0733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9827-D3E1-48EB-ABE2-FAEA4BE82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9CFA-E2FA-456F-AB36-8F04D1E8E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CADE-4105-4A7D-8C72-77FA0F5E9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ADCD-C3E2-4A3F-AAB7-AD9522792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1F67-C03E-4761-BC26-BF7507A8D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0C5D1-7BB7-4F38-ABF0-56072588C28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32876C71-A87C-45D3-A16A-1A15A645D85A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ceosplenary.org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bam.qc.ca/en/" TargetMode="External"/><Relationship Id="rId2" Type="http://schemas.openxmlformats.org/officeDocument/2006/relationships/hyperlink" Target="http://www.mbam.qc.ca/en/" TargetMode="External"/><Relationship Id="rId3" Type="http://schemas.openxmlformats.org/officeDocument/2006/relationships/hyperlink" Target="http://www.mbam.qc.ca/e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Luc Brûlé, CEOS Chair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960200" y="666720"/>
            <a:ext cx="69404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Update on 2013 Plenary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C31A9-5CBD-4025-94F0-D2B5850D131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4" name="Picture 2" descr="C:\Users\mjbourassa\AppData\Local\Microsoft\Windows\Temporary Internet Files\Content.Outlook\WSRWQR2G\Invitation_Plenary_Front (2).jpg"/>
          <p:cNvPicPr/>
          <p:nvPr/>
        </p:nvPicPr>
        <p:blipFill>
          <a:blip r:embed="rId1"/>
          <a:stretch/>
        </p:blipFill>
        <p:spPr>
          <a:xfrm>
            <a:off x="-34920" y="-106200"/>
            <a:ext cx="9232920" cy="71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649520"/>
            <a:ext cx="4572000" cy="414000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572000" y="1353960"/>
            <a:ext cx="4572000" cy="278784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1957320" y="2705040"/>
            <a:ext cx="4572000" cy="415296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6529320" y="4654440"/>
            <a:ext cx="2614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Plenary website:</a:t>
            </a:r>
            <a:br>
              <a:rPr sz="1800"/>
            </a:br>
            <a:r>
              <a:rPr b="0" lang="en-US" sz="1800" spc="-1" strike="noStrike" u="sng">
                <a:solidFill>
                  <a:srgbClr val="7498c0"/>
                </a:solidFill>
                <a:uFillTx/>
                <a:latin typeface="Arial"/>
                <a:hlinkClick r:id="rId4"/>
              </a:rPr>
              <a:t>www.ceosplenary.or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Content provided and updated by CSA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Site built and hosted by CEOS SEO Team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7ED1E-468D-43F6-9D92-18978C4C97D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1" name="TextBox 8" descr=""/>
          <p:cNvPicPr/>
          <p:nvPr/>
        </p:nvPicPr>
        <p:blipFill>
          <a:blip r:embed="rId5"/>
          <a:stretch/>
        </p:blipFill>
        <p:spPr>
          <a:xfrm>
            <a:off x="792000" y="4767120"/>
            <a:ext cx="4889520" cy="4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5880" y="1465200"/>
            <a:ext cx="866268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lenary Location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: Hotel OMNI Mont Royal in downtown Montreal.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Participants are encouraged to stay at this hotel. Book early </a:t>
            </a:r>
            <a:br>
              <a:rPr sz="2000"/>
            </a:b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o enjoy the preferential rate of $140 CDN per night.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4" name="Picture 4" descr="http://www.omnihotels.com/~/media/Images/hotels/mondtn/property_photos/792/mondtn%20pro%200%20jpg.ashx"/>
          <p:cNvPicPr/>
          <p:nvPr/>
        </p:nvPicPr>
        <p:blipFill>
          <a:blip r:embed="rId1"/>
          <a:stretch/>
        </p:blipFill>
        <p:spPr>
          <a:xfrm>
            <a:off x="866880" y="2824200"/>
            <a:ext cx="5311800" cy="3963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5" name="Picture 6" descr="http://www.omnihotels.com/~/media/Images/hotels/mondtn/property_photos/792/MONDTN_meetingspaceNEW.ashx"/>
          <p:cNvPicPr/>
          <p:nvPr/>
        </p:nvPicPr>
        <p:blipFill>
          <a:blip r:embed="rId2"/>
          <a:stretch/>
        </p:blipFill>
        <p:spPr>
          <a:xfrm>
            <a:off x="4849920" y="3224160"/>
            <a:ext cx="3378240" cy="209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6" name="Picture 10" descr="http://www.omnihotels.com/~/media/Images/hotels/mondtn/property_photos/792/mondtn_alicelounge.ashx"/>
          <p:cNvPicPr/>
          <p:nvPr/>
        </p:nvPicPr>
        <p:blipFill>
          <a:blip r:embed="rId3"/>
          <a:stretch/>
        </p:blipFill>
        <p:spPr>
          <a:xfrm>
            <a:off x="4579920" y="4962600"/>
            <a:ext cx="2681280" cy="166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7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E1D07-C39F-4926-B10A-9965D1AD376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5880" y="1465200"/>
            <a:ext cx="866268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itial Progr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6240" y="2203560"/>
          <a:ext cx="8662680" cy="4114800"/>
        </p:xfrm>
        <a:graphic>
          <a:graphicData uri="http://schemas.openxmlformats.org/drawingml/2006/table">
            <a:tbl>
              <a:tblPr/>
              <a:tblGrid>
                <a:gridCol w="3036600"/>
                <a:gridCol w="5626080"/>
              </a:tblGrid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Monday, November 4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ide meetings + SEC meeting 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8:00 – 20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Opening reception at 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1"/>
                        </a:rPr>
                        <a:t>Montreal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2"/>
                        </a:rPr>
                        <a:t>’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3"/>
                        </a:rPr>
                        <a:t>s Museum of Fine Art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uesday, November 5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CEOS Plenary Day 1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9:00 – 21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Hosted dinner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ednesday, November 6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CEOS Plenary Day 2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8:00 – 2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No host dinner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</a:tbl>
          </a:graphicData>
        </a:graphic>
      </p:graphicFrame>
      <p:sp>
        <p:nvSpPr>
          <p:cNvPr id="111" name="Slide Number Placeholder 4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22F1C-116A-4B1D-BB5E-21CCBBED792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Luc Brûlé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2:31Z</dcterms:modified>
  <cp:revision>73</cp:revision>
  <dc:subject/>
  <dc:title>CEOS Chair</dc:title>
</cp:coreProperties>
</file>