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2BF74-14F3-43D4-9A1C-755126E4A3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A2A15-1FD3-492A-8167-2E0E1DCD8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8AA7B-B423-4B85-A4BA-7C7233EC49EC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52184-FDA0-4007-AE98-E7E6846E3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7C984-00B9-47F7-810E-43E3904B0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E6777-FD57-49C9-858C-4D5B68138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DF964-E1AF-4161-9942-63AA8F0CF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445F1-4C4C-4C0D-B9FB-768DFF5CB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E8AC5-5CE6-40AB-80BE-770022E66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1CEE7-62BE-4492-9FAB-77059BE3C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7BA77-8CE1-4E5B-AD1F-F11AF009C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8720-E47E-42FC-9AE9-FE41E4936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320A-8DCA-42AB-A236-0A669C609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C487-C424-49D4-B084-A52A02265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6E4E-323D-4721-BF23-BDE253147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91BA-16A8-446D-BFC1-327C96A81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4581-C711-4E7C-A460-BCFD44D420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49B2-AAD8-4EA3-BE14-8787D80D70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A642-6340-4A5E-B7BE-3BC2B0B0B3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861C-4A7A-4CDA-A437-9DC5DD7FF5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DDB6-6385-43A9-B300-8DE42BD02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1F67-5195-4A4A-A615-845390B359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A696-1C8F-407E-A3F5-CA7E896E00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16D8-76DB-4CD7-AB90-0FAD30F015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0A07-ACFD-420A-95B9-EE64239EC6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BD00-9494-49B3-829C-3F77421EC2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8BEA-0B1F-4835-8C5F-E88EB40FF7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F547-F3AB-470F-A2DE-1090ED7F1A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7F25-5602-428E-AAB1-898A5C88C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6828-E958-4641-8009-125BE77B8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A472-21D7-496E-A9F9-782579172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2991-8090-47BF-B167-C4680AB8D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7959-FF2F-457F-92BB-82CA64D77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DE6F-AEBA-491B-BBB8-91C682987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4BBC-E362-48E8-9640-34DB1BBB6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91805-3FFE-44C5-B8A3-5EDE44F6358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2A5B5BF8-B1F9-4CE6-84E6-C903F4D6B835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57278-898E-4763-9D58-3187029003BC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151160" y="1734840"/>
            <a:ext cx="482616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Wednesday, September 11,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IT Technical Workshop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asadena, CA, USA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Brian Killough, CEOS SEO (NASA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144680" y="123840"/>
            <a:ext cx="48322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Self Study (CSS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Guidance Documents for Plenar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rs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6F4F9-0C05-4D2A-8C82-BFCF1A3A47BC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SS History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8080" y="1500120"/>
            <a:ext cx="871056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 a reminder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... The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EOS Self Study (CSS)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started in February 2011 and will end at the November 2013 CEOS Plenary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objectives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of the CSS were to ..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SzPct val="7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identify and evaluate CEOS successes and strengths in achieving real coordination in space-based Earth observations for societal benefit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SzPct val="7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identify CEOS challenges and areas needing improvement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rategic Guidanc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SzPct val="7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identify potential new CEOS initiatives for the coming years.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ork Plan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9EEFF-1DA3-4251-A791-7452DE5018B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SS Outpu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23920" y="1576440"/>
            <a:ext cx="871056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4272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final output of the CEOS Self Study effort is a set of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trategic document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at will guide CEOS in the future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Terms of Reference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ToR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trategic Guidance (SG)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~10 year life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overnance &amp; Processes (GP)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~5 year life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Chair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C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IT Chair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O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Work Pla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ming in early 2014 ...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99960" indent="-34272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8A70F-10D0-4A1C-B5D4-9A32D8C0B3A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eering Committe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38240" y="1376280"/>
            <a:ext cx="566568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Brian Killough – NASA, SEO, CSS Chair #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Pat Jacoberger-Jellison – NASA, CSS Chair #1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Lena Braatz – NASA SIT Tea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hristine Bognar – NASA SIT Tea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Brent Smith - NOA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Kerry Sawyer – NOAA, CEO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Ivan Petiteville - ES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Robert Husband - EUMETSA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Steven Hosford - CN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Marie-Josee Bourassa - CS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Marcia Alvarenga - INP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Julio Dalge - INP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Kazuo Umezawa - JAX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Takayuki Kawai - JAX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hu Ishida – JAX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425840" y="4089240"/>
            <a:ext cx="3882960" cy="244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803920" y="1536840"/>
            <a:ext cx="2751120" cy="22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1FB1D-AEA1-4590-8B6E-62B1438053E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put and Feedback Proces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080" y="1500120"/>
            <a:ext cx="871056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Broadly engage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EOS community and leadership during the CSS development and review process to produce a set of strategic documents for endorsement at the 2013 CEOS Plenary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Multiple SIT and Plenary Meeting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9 Past and Present Leadership Interviews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80 individuals contributed to the Study Report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1 Agencies contributed to the Topical Teams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8 Agencies represented on the Steering Team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1 Agencies provided feedback during 4 Town Hall telec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6BFCB-675C-4258-9C5B-92B367D39ED5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eam Contribu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166680" y="1500120"/>
            <a:ext cx="87328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Utilized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tudy Team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for in-depth review of CEOS functions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ecutive Functions, Working Groups and SBAs, Constellations. 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se teams contributed to the Synthesis Report (15 pages) and Annex material (200 pages)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Utilized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pical Team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o perform an in-depth study of 5 theme areas that contribute to the Governance and Processes document.  These themes included ..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ategic Thinking, Decision-making and New Initiatives, Organizational Roles and Responsibilities, Membership and Participation, and Objectives of Meetings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29F64-B011-4B0F-8BBB-A3114F25906F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Other Contribu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11160" y="1393920"/>
            <a:ext cx="587052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EOS community, through several CEOS SIT and Plenary meetings, developed a set of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Essential Question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at contributed to the CEOS Strategic Guidance documen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15 member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teering Team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utilized </a:t>
            </a:r>
            <a:r>
              <a:rPr b="0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weekly telecons (2 more than 4+ hours) to develop the document content and discuss issues.  Much of this was accomplished during the summer holiday period ..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ANKS AGAIN!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6107040" y="1514520"/>
            <a:ext cx="2749680" cy="2441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6114960" y="4245120"/>
            <a:ext cx="2741760" cy="17539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7867800" y="19828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6178680" y="4289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a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EE497-A243-4246-BAE6-BA9EF2EA5AF6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ere to find the documen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208080" y="150012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websit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ww.ceos.or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) - Governing Document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72960" y="2171880"/>
            <a:ext cx="786780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336CF-EED6-4CB9-9DF4-A865DF0C2433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ming tomorrow ...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08080" y="1500120"/>
            <a:ext cx="871056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Path to Plenary ... 2 months until Plenar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Document Highlights ... CEOS ToR, SG, GP, T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Feedback Highlights ... Town Hall telecon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Side Meeting Summary from Tuesday ... 8 topic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Brian Killough</cp:lastModifiedBy>
  <cp:lastPrinted>2013-07-23T19:08:48Z</cp:lastPrinted>
  <dcterms:modified xsi:type="dcterms:W3CDTF">2013-09-11T15:45:18Z</dcterms:modified>
  <cp:revision>85</cp:revision>
  <dc:subject/>
  <dc:title>Title</dc:title>
</cp:coreProperties>
</file>