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8756C-21F4-4A90-9C32-113B9C9911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95E92-F7C6-489C-8227-A07A19D89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FA902-1C6C-4408-BC92-3333D048A5D2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1BBBD-1882-4964-B839-78602BC5E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267CA-FF0B-49A3-A913-6EB718A51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5AEEC-49A5-46B1-9CD3-A87DA32A9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1494-46D3-4E95-9B06-980F11B4D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8193-6703-45E5-8EC1-536298354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77A4-040A-4554-8561-43965A9A2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6C4C-E321-440F-92F1-EDC73C36F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EE60-5DF5-4321-9841-F90ABC8E3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D736-16EC-49E6-85DF-2A593DE093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7436-269C-49D9-AD46-41A1BEDC98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141D-AC69-467F-BE88-4F85046FF0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948A-70A4-431F-B8E5-8BD8DE1FB1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4DF7-5263-47AB-8E20-84FD30405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8987-78CC-4C5C-A473-A447F9C0C5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0DD8-0695-408E-ABBB-542159308C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F91B-B5C7-4AD3-90C5-62B308AF04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9771-639C-42C4-82D0-CB88FB6869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B55C-B454-4BAE-9FA1-274857F22D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BA6E-DE11-4075-AA1D-58163CBB7C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2E9A-E538-4333-9E08-FBB5414915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1C23-8E97-49A1-B181-5E5F97275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CB68-12B1-4FEA-9C4D-A214FEC42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9D7F-EEFC-4E4E-BF2E-40715AEB1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DCCC-F707-4132-AE1D-1AC3EFFDE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D04B-2B41-478C-A4CE-62702AD68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07F5-C288-4680-BD13-F2119E207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3631-724C-4065-A221-B07876DDD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75F16-737B-497F-9721-242C60A342A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057CDE3C-88E6-469F-BA5A-6200953F6649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BBFC3-DCB3-471C-B86A-5AD5062BAC8D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CEOS Work Plan section referenc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Your nam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sert TITLE HERE&gt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39C63-29D6-431D-829A-B9D7A19858C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&lt;Title&gt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n a few slides, describe the “Activity Status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Short summ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Accomplishments since the 2012 Plenary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Main Issues/concer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ain 2013 achievements/outcom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c4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DA049-B48C-4E8B-A206-4A12638C0FA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9440" y="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&lt;Title&gt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n a few slides, describe the “Near Future Plan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3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3 Events (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GEO Ministerial Summit, COP-19/SBSTA-38)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(s) that need to be made at CEOS Plenary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40FB3-2F06-4567-8179-62A022B7BC1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20480" y="85680"/>
            <a:ext cx="756756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raming of Topics for CEOS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The following guidance is provided for the framing of issues to be discussed at the SIT Technical Workshop that need to be raised at CEOS Plena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What is the topic/issue to be presented at the CEOS Plenary?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  <a:ea typeface="ＭＳ Ｐゴシック"/>
              </a:rPr>
              <a:t>Specify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: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r decision, for endorsement, requesting guidance, or mainly for information?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If for decision: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scribe the decision required and options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If for endorsement: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scribe the implications of the  endorsement and non-endorsement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Specify supporting documentation and/or background reading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8-21T16:27:31Z</dcterms:modified>
  <cp:revision>47</cp:revision>
  <dc:subject/>
  <dc:title>Title</dc:title>
</cp:coreProperties>
</file>