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FA36A-4F70-48DE-A96A-74CB97E57E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D6A56-0054-44CB-9393-630976ED4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9D501-ED29-4A55-BD26-EA2C04C2BDBD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791FF-44EA-4959-B128-F8DC2A419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47169-B4EC-4AC7-994D-B4A1CFC64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4CF5F-50BE-46D5-8CFB-37B7C629C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156C-C885-4188-BD8E-0296CF25F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959B-BED0-4E09-8873-FCEDF14EA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D854-2649-497D-BB32-2C91CCF89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6E06-777C-443D-8B37-0AE94D42F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6665-9F8D-4622-B3A4-E2ED4AB90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1BB2-3BD9-4977-941A-5542FB3F2A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FDC1-1877-4C46-8E34-2A843A0E73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D8ED-385E-40B0-9848-85FA5AA413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FF5A-82ED-4CCE-BAEF-8AC36B2C73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25AA-9E62-4987-811A-F322E08B5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23DA-551F-4658-BD19-65653F4D6C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4056-ECF0-49B0-8A59-E40279244E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7F7F-21FF-4466-A008-81E23F580E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8E74-392C-4231-B1CD-A5DAD5E109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4989-44A3-4558-96B2-A431D2F510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D4E1-9F79-4346-B6CB-2E034142BD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7300-1285-433A-A791-CE66570D56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FA9C-4CA9-48E3-A51F-BD6DE95B1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102C-4DA8-4058-A8CD-46B440B47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89EF-44D7-4946-8634-01BE6F251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5596-95C0-4109-A3A9-35552F2D3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49D2-66CB-4A06-BE52-C59430C64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6CB4-EFD0-45AA-9812-83ABB2DB2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4764-04A9-4753-956D-C2D0FE66A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C5C37-BA92-43E1-8693-77E8564C3BC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AF4A95B2-0FD6-4763-AFB5-4469023E43F4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52939-13E6-44F6-84AA-5C478FDA354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&lt;CEOS Work Plan section reference&gt;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&lt;Your name&gt;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89240" y="666720"/>
            <a:ext cx="48117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sert TITLE HERE&gt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1E37F-930A-4E11-A93E-4FBA5505B1D5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&lt;Title&gt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n a few slides, describe the “Activity Status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Short summary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Accomplishments since the 2012 Plenary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Future remaining activities and milestones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Main Issues/concer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Main 2013 achievements/outcome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c4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65B49-D4F4-4125-A953-A7E514E79B03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79440" y="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&lt;Title&gt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n a few slides, describe the “Near Future Plan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Additional expected achievements by the end of 2013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Contribution to 2013 Events (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e.g., 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GEO Ministerial Summit, COP-19/SBSTA-38)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Information on any decision(s) that need to be made at CEOS Plenary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1136E-2565-4409-B0B8-D2AE9E9926E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20480" y="85680"/>
            <a:ext cx="756756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raming of Topics for CEOS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The following guidance is provided for the framing of issues to be discussed at the SIT Technical Workshop that need to be raised at CEOS Plena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What is the topic/issue to be presented at the CEOS Plenary?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  <a:ea typeface="ＭＳ Ｐゴシック"/>
              </a:rPr>
              <a:t>Specify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: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r decision, for endorsement, requesting guidance, or mainly for information?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If for decision: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describe the decision required and options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If for endorsement: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describe the implications of the  endorsement and non-endorsement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Specify supporting documentation and/or background reading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8-21T16:27:31Z</dcterms:modified>
  <cp:revision>47</cp:revision>
  <dc:subject/>
  <dc:title>Title</dc:title>
</cp:coreProperties>
</file>