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DE641-A26A-43B6-BB61-11D4A2C79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5FA2E-05EA-4C04-8E5B-071F2AE76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1D30C-73D0-4AA5-92B5-2A9D56B21D07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19F8-7991-4F16-839F-8343D9159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AEE8-1A0B-42E9-996E-5D3A5081C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CAF0-1067-4012-9454-3AA0A10AE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ADB2-089C-4F3B-BF59-04A0CF98D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DC76-B471-46DF-AD8F-FE142F972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1EAC-7E19-4D8A-B31B-EE80FC508A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06C4-6F91-46E5-A328-783EDBE9CB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ED76-B0C5-43B1-97BD-B1633881B3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70AB-4E32-47ED-A3BF-71D556C36B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9964-AA50-44D1-8244-2B376ADE58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331A-EC64-4C71-954E-C74D3D1357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338F-6C54-434B-ABDA-6D2AEB2D77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2F67-356F-4310-A6BD-0B42F1B387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6425-6550-41B8-A57F-EF4B1786B5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CC3D-C49C-454D-BEEF-1B46E241EC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9A0D-2B72-4CBB-AF90-DBF2CBE25F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ED62-E248-4779-8C83-6B14D6C402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E5E9-9CD4-4DC2-942D-1D9FE3531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8727-98FB-4E43-A411-8EB8C1FF7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AD9B-9CB4-4D4F-8379-3DB81B15F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9A2E-276D-475D-A82F-B3E632689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CE5E-1C33-421B-86EB-6ECE175BA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7F71-CC9A-431E-AE6D-C146D7DA5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5E0B-3B90-4BE8-91A1-4950F91F1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FABFD-C60C-4ED6-9AA6-A31E6B31567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9B3D0F07-D337-4024-98B4-07302D101701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53E5D-C843-4D03-A664-C082CDEF6418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For information to SIT-Workshop and Plenary(?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ephen Brig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16200" y="666720"/>
            <a:ext cx="618480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SDCG-4: comment from the CEOS Lead to GFO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49120" y="1411200"/>
            <a:ext cx="857088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GFOI Leads are: Australia, Norway, USA, FAO, CEO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SDCG operating strongly and has a 3-year vision to deliver products &amp; services to GEO governments. SDCG is arguably the strongest element of GFOI and delivers on its mandate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Points here are views from CEOS Lead as report to SIT Workshop/Plenary(?), in addition to formal report from SDCG Executive tea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Presentations from participating countries were a strong feature of the meeting and should be repeated as appropriate: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The reports showed varied level of experience and expertise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In many cases countries were already far beyond the scope of advice being provided to them via GFOI, using Landsat and other data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General need for more radar data and technical support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eed for more support in Early Warning (MODIS/ScanSAR class) observations including continuity and future systems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Rapideye and similar data widely used and requested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9120" y="1004760"/>
            <a:ext cx="857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c83"/>
                </a:solidFill>
                <a:latin typeface="Arial"/>
              </a:rPr>
              <a:t>Points here are views from CEOS Lead report to SIT Workshop/Plenary(?) (continued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USA (SilvaCarbon) has done an excellent job in capacity building, especially in South Americ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GFOI needs to reconsider its Methods Guidance Document in the light of the experience, and generally to improve the integration of GFOI element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orwegian “fast-track” initiative an important step in improved implementation, with care taken to integrate fully in GFOI pla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Concept of GFOI Data Services very important and needs further development, possibly linked to the Norwegian initiativ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49120" y="1004760"/>
            <a:ext cx="8570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c83"/>
                </a:solidFill>
                <a:latin typeface="Arial"/>
              </a:rPr>
              <a:t>Points here are views from CEOS Lead report to SIT Workshop/Plenary(?) (continued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DEMs are a core requirement, at a resolution better than SRT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Many upcoming SAR missions (S-1, ALOS-2, Radarsat Constellation, SAOCOM,…) very relevant to GFOI needs and further work needed on training and technical suppor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orway clearly a key player in many aspects, backed by significant fund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Creation of GFOI office in 2013 has helped greatly in coherence, but more needs to be done to ensure end-end (UNFCCC- satellite data) integration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0:00Z</dcterms:modified>
  <cp:revision>55</cp:revision>
  <dc:subject/>
  <dc:title>Title</dc:title>
</cp:coreProperties>
</file>