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2B502-A52C-47CD-B95C-EB1C691653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4FC11-73B3-435E-998B-7B7F5905D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0A5EA-A7B7-4E58-853A-21C48B8B1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BDAE4-F768-4BDB-A011-48007EFC8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C9338-8D05-4C71-AFA9-97CFE358B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C61F4-63CD-4A11-8B6B-70A60F49B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18477-FEF5-402B-A95D-9E88CB14A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E7CBB-0E4A-4A61-A173-ED0E5AE56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941A6-C03A-4B0E-89B6-25FF623C5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5F9A5-3640-419D-81D8-D2B2DC68B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3F3F9-6A79-465C-B940-9C33A7716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037C4-C79F-4F03-A1D2-7665FDB4E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12841-710E-4046-ACC5-3C1C9010B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44083-91EF-4BAB-A418-58F8F6D20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3D85A-A5EB-4D11-9988-DBEA9AD41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CC2B7-E00C-4A2F-A5B2-D7F1C2020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19F22-0A37-49B3-A71D-699284332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3" name="Picture 1" descr="CEOS_logo_transparent.png"/>
          <p:cNvPicPr/>
          <p:nvPr/>
        </p:nvPicPr>
        <p:blipFill>
          <a:blip r:embed="rId3"/>
          <a:stretch/>
        </p:blipFill>
        <p:spPr>
          <a:xfrm>
            <a:off x="50760" y="47520"/>
            <a:ext cx="1371600" cy="544680"/>
          </a:xfrm>
          <a:prstGeom prst="rect">
            <a:avLst/>
          </a:prstGeom>
          <a:ln w="0">
            <a:noFill/>
          </a:ln>
        </p:spPr>
      </p:pic>
      <p:sp>
        <p:nvSpPr>
          <p:cNvPr id="4" name="TextBox 9"/>
          <p:cNvSpPr/>
          <p:nvPr/>
        </p:nvSpPr>
        <p:spPr>
          <a:xfrm>
            <a:off x="72720" y="53820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2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19040"/>
            <a:ext cx="7772400" cy="136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OS Ad-hoc Space Data Coordinati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Group in support of the GFOI</a:t>
            </a: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pdate on th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mplementation of the CEOS Strategy for Global Acquisitions for GFOI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 (Element 1)</a:t>
            </a:r>
            <a:br>
              <a:rPr sz="2400"/>
            </a:b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2400"/>
            </a:b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he development of the GFOI Space Data Services (Element 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85680" y="5138280"/>
            <a:ext cx="640080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Calibri"/>
              </a:rPr>
              <a:t>Ake Rosenqvis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Calibri"/>
              </a:rPr>
              <a:t>on behalf of the SDCG Co-chairs and Secretariat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le 1"/>
          <p:cNvSpPr/>
          <p:nvPr/>
        </p:nvSpPr>
        <p:spPr>
          <a:xfrm>
            <a:off x="733320" y="23184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utlook for 2014 IP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1339920" y="4191120"/>
            <a:ext cx="2914560" cy="2560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4653000" y="4191120"/>
            <a:ext cx="2862360" cy="2560680"/>
          </a:xfrm>
          <a:prstGeom prst="rect">
            <a:avLst/>
          </a:prstGeom>
          <a:ln w="0">
            <a:noFill/>
          </a:ln>
        </p:spPr>
      </p:pic>
      <p:sp>
        <p:nvSpPr>
          <p:cNvPr id="118" name="Content Placeholder 2"/>
          <p:cNvSpPr/>
          <p:nvPr/>
        </p:nvSpPr>
        <p:spPr>
          <a:xfrm>
            <a:off x="203040" y="1409760"/>
            <a:ext cx="882684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8 performing beyond expectations (USGS optimising performance). 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etailed analysis of L-7/L-8 performance by NASA SEO to assess Landsat capacity over the 36 additional 2014 GFOI countrie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EO analysis indicates that L7+L8 may be able to hold the fort also for the majority of the extended GFOI regions during 2014 before new Core Missions become operational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etailed LTAP assessment and tuning of LTAP by USGS (Landsat Data Acquisition Manager) and NASA SEO and SDCG to follow during remainder of 2013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le 1"/>
          <p:cNvSpPr/>
          <p:nvPr/>
        </p:nvSpPr>
        <p:spPr>
          <a:xfrm>
            <a:off x="457200" y="15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FOI Space Data Services (Element 2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Core + Contributing missions)              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3678120" y="1614600"/>
            <a:ext cx="525492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The GFOI Space Data Services – services currently being considered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−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Historical Coverage Characterisation: support to assess archived satellite data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−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Ensured Ongoing Coverage: tailored support to ensure ongoing national acquisitions are ensured pro-actively;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−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re Data Delivery: support for physical delivery of data;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−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re Data Value Adding: enhanced core data products (e.g. pixel mining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−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ata Processing: “Data Hub” capacity to assist country generation of inputs to forest information product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pace Data Workshops: country interaction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21" name="Picture 7" descr="Screen Shot 2013-09-10 at 10.29.14 PM.png"/>
          <p:cNvPicPr/>
          <p:nvPr/>
        </p:nvPicPr>
        <p:blipFill>
          <a:blip r:embed="rId1"/>
          <a:stretch/>
        </p:blipFill>
        <p:spPr>
          <a:xfrm>
            <a:off x="330120" y="1736640"/>
            <a:ext cx="3268800" cy="46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457200" y="100080"/>
            <a:ext cx="76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DCG-4  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Sep 4-6 2013 @ Caltech)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372960" y="1461960"/>
            <a:ext cx="87026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Meeting objectives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1.   Global baseline acquisition strategy implementation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2013/2014 (Element 1)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002569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Progress the Space Data Services definition &amp; development (Element 2)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3.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nfirm SDCG schedule &amp; responsibilities for SIT-29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4.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evelop procedures for managing also contributing data stream requests and activities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5.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Integration of GFOI Pilot Country requirements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6.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Review GEOGLAM impact and synergy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tle 1"/>
          <p:cNvSpPr/>
          <p:nvPr/>
        </p:nvSpPr>
        <p:spPr>
          <a:xfrm>
            <a:off x="457200" y="235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DCG-4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95400" y="1341360"/>
            <a:ext cx="9148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Participation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road participation from SDCG member agencies (USGS, ESA, NSC, DCCEE, CNES, JAXA, NASA SEO, GFOI Office, CEOS CEO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Full input from agencies not able to participate (INPE, CRESDA, CONAE, DLR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95400" y="2992320"/>
            <a:ext cx="4211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One day dedicated to interaction with GFOI Pilot Countie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Organised by SilvaCarbon, country representation from Mexico, Colombia, Ecuador, Peru, Guyana and Honduras. All representing their relevant government agency responsible for MRV impl. (MoE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Australia/Indonesia participating via GTM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27" name="Picture 7" descr="DSCN2165.JPG"/>
          <p:cNvPicPr/>
          <p:nvPr/>
        </p:nvPicPr>
        <p:blipFill>
          <a:blip r:embed="rId1"/>
          <a:srcRect l="4665" t="9053" r="3709" b="8054"/>
          <a:stretch/>
        </p:blipFill>
        <p:spPr>
          <a:xfrm>
            <a:off x="4343400" y="3191040"/>
            <a:ext cx="459756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tle 1"/>
          <p:cNvSpPr/>
          <p:nvPr/>
        </p:nvSpPr>
        <p:spPr>
          <a:xfrm>
            <a:off x="457200" y="235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DCG-4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596880" y="1566720"/>
            <a:ext cx="791676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DCG-4 Country Da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road consultation with country representativ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pace Data Services (Element 2) input and feed-back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etter understanding specific national/regional needs and requirement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ata access and physical provision key issue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DCG is facilitating delivery by a CEOS/GEO initiative to actual governments for real national activities.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tle 1"/>
          <p:cNvSpPr/>
          <p:nvPr/>
        </p:nvSpPr>
        <p:spPr>
          <a:xfrm>
            <a:off x="457200" y="235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pcoming activities and mileston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1" name="Content Placeholder 2"/>
          <p:cNvSpPr/>
          <p:nvPr/>
        </p:nvSpPr>
        <p:spPr>
          <a:xfrm>
            <a:off x="360360" y="1643040"/>
            <a:ext cx="850428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EOS Plenary, Montreal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Ad-hoc SDCG for GFOI seeking Plenary approval for continued existence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eliverables for CEOS SIT-29 [on track]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aseline (Element 1) implementation 2013 – results summary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Element 1 Implementation Plan for 2014 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GFOI Space Data Services (Element 2) Plan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Others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nsultation meeting for commercial satellite data providers tentatively planned for October 2013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untry day for Asian countries (SilvaCarbon WS, Bangkok, 2014/01)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DCG-5 - tentatively planned for Feb 2014 (ESA/ESRIN TBC)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le 1"/>
          <p:cNvSpPr/>
          <p:nvPr/>
        </p:nvSpPr>
        <p:spPr>
          <a:xfrm>
            <a:off x="457200" y="235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cknowledgement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49280" y="1163520"/>
            <a:ext cx="822960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John Faundeen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USGS SDCG Co-chair until June 2013 – for his dedication and strong contributions to SDCG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ylvia Wilson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USGS and SilvaCarbon – for the organisation of the SDCG-4 country day and for supporting the participation of the country representatives at the meeting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rian Killough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NASA SEO – and his Team, for burning the midnight oil to provide invaluable support to SDCG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Gene Fosnight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USGS, Landsat Data Acquisition Manager – for making himself available to SDCG on several occasions and for listening attentively to suggestions and advise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teve Briggs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for being an extremely effective lead for CEOS in GFOI and advocate for GFOI in general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tephen Ward and George Dyke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SDCG Sec – for being the true strategic drivers behind the SDCG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ontent Placeholder 2"/>
          <p:cNvSpPr/>
          <p:nvPr/>
        </p:nvSpPr>
        <p:spPr>
          <a:xfrm>
            <a:off x="3719520" y="1736640"/>
            <a:ext cx="515952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Global Baseline Strategy and Implementation Plan for 2013 approved by CEOS @ SIT-28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aseline strategy objective to assure the availability of temporally and spatially consistent time-series of optical and SAR satellite data over the global forest cover.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Initial priority on tropical forest countries developing national MRV systems for REDD+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Element 1 focus on publicly open (“core”) satellite data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Phased implementation with aim at full global scale operations by 2016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91" name="Picture 8" descr="Screen Shot 2013-08-30 at 3.07.49 PM.png"/>
          <p:cNvPicPr/>
          <p:nvPr/>
        </p:nvPicPr>
        <p:blipFill>
          <a:blip r:embed="rId1"/>
          <a:stretch/>
        </p:blipFill>
        <p:spPr>
          <a:xfrm>
            <a:off x="287280" y="1681200"/>
            <a:ext cx="3267000" cy="4621320"/>
          </a:xfrm>
          <a:prstGeom prst="rect">
            <a:avLst/>
          </a:prstGeom>
          <a:ln w="0">
            <a:noFill/>
          </a:ln>
        </p:spPr>
      </p:pic>
      <p:sp>
        <p:nvSpPr>
          <p:cNvPr id="92" name="Title 1"/>
          <p:cNvSpPr/>
          <p:nvPr/>
        </p:nvSpPr>
        <p:spPr>
          <a:xfrm>
            <a:off x="1193760" y="90360"/>
            <a:ext cx="749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obal Baseline Acquisition Strategy for GFOI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Element 1)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le 1"/>
          <p:cNvSpPr/>
          <p:nvPr/>
        </p:nvSpPr>
        <p:spPr>
          <a:xfrm>
            <a:off x="1193760" y="90360"/>
            <a:ext cx="749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obal Baseline Acquisition Strategy for GFOI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Element 1)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449280" y="1720800"/>
            <a:ext cx="822960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Phased implementation to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•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reflect the schedule of gradually increasing availability of the anticipated core data streams between now and 2016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•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allow the establishment of the necessary coordination processes with contributing agencies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•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reflect priorities set by the policy context and readiness of individual countries to participate in REDD+ development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•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take into account the need for continuity of coverage of the existing National Demonstrator countries established under the GEO-FCT Task as a precursor to GFOI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tle 1"/>
          <p:cNvSpPr/>
          <p:nvPr/>
        </p:nvSpPr>
        <p:spPr>
          <a:xfrm>
            <a:off x="1193760" y="90360"/>
            <a:ext cx="749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obal Baseline Acquisition Strategy for GFOI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Element 1)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743440" y="1922400"/>
            <a:ext cx="3284640" cy="2149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740560" y="4219560"/>
            <a:ext cx="3287520" cy="215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Screen Shot 2013-08-30 at 2.44.48 PM.png"/>
          <p:cNvPicPr/>
          <p:nvPr/>
        </p:nvPicPr>
        <p:blipFill>
          <a:blip r:embed="rId3"/>
          <a:stretch/>
        </p:blipFill>
        <p:spPr>
          <a:xfrm>
            <a:off x="171360" y="3946680"/>
            <a:ext cx="5416560" cy="2436480"/>
          </a:xfrm>
          <a:prstGeom prst="rect">
            <a:avLst/>
          </a:prstGeom>
          <a:ln w="0">
            <a:noFill/>
          </a:ln>
        </p:spPr>
      </p:pic>
      <p:sp>
        <p:nvSpPr>
          <p:cNvPr id="99" name="Content Placeholder 2"/>
          <p:cNvSpPr/>
          <p:nvPr/>
        </p:nvSpPr>
        <p:spPr>
          <a:xfrm>
            <a:off x="271440" y="1703520"/>
            <a:ext cx="531648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Absolute minimum requirement is the successful acquisitions of </a:t>
            </a:r>
            <a:r>
              <a:rPr b="0" lang="en-US" sz="2200" spc="-1" strike="noStrike" u="sng">
                <a:solidFill>
                  <a:srgbClr val="002569"/>
                </a:solidFill>
                <a:uFillTx/>
                <a:latin typeface="Calibri"/>
                <a:ea typeface="ＭＳ Ｐゴシック"/>
              </a:rPr>
              <a:t>at least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 one annual national cloud-free optical coverage over each target country. 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Ultimate aim: inter- and intra-annual multi-mission time-series observations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5752440" y="19447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2013 countri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5749560" y="41925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2014 countri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le 1"/>
          <p:cNvSpPr/>
          <p:nvPr/>
        </p:nvSpPr>
        <p:spPr>
          <a:xfrm>
            <a:off x="1193760" y="23184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tatus of 2013 Implementation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3" name="Content Placeholder 2"/>
          <p:cNvSpPr/>
          <p:nvPr/>
        </p:nvSpPr>
        <p:spPr>
          <a:xfrm>
            <a:off x="449280" y="1568520"/>
            <a:ext cx="82296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Mission Statu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7 and 8 the only Core Missions in operation in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BERS-3 launch shifted to end of 2013. Expected (limited) operations in support of GFOI not before mid 2014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entinel-1A launch shifted to March-May 2014. Expected (limited) operations in support of GFOI not before mid 2014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tle 1"/>
          <p:cNvSpPr/>
          <p:nvPr/>
        </p:nvSpPr>
        <p:spPr>
          <a:xfrm>
            <a:off x="1193760" y="12240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tatus of 2013 Implementation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Content Placeholder 2"/>
          <p:cNvSpPr/>
          <p:nvPr/>
        </p:nvSpPr>
        <p:spPr>
          <a:xfrm>
            <a:off x="449280" y="1324080"/>
            <a:ext cx="82296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7/8 - America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6" name="Picture 5" descr="Screen Shot 2013-09-11 at 12.14.16 AM.png"/>
          <p:cNvPicPr/>
          <p:nvPr/>
        </p:nvPicPr>
        <p:blipFill>
          <a:blip r:embed="rId1"/>
          <a:stretch/>
        </p:blipFill>
        <p:spPr>
          <a:xfrm>
            <a:off x="177840" y="1868400"/>
            <a:ext cx="8788320" cy="48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le 1"/>
          <p:cNvSpPr/>
          <p:nvPr/>
        </p:nvSpPr>
        <p:spPr>
          <a:xfrm>
            <a:off x="1193760" y="12240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tatus of 2013 Implementation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449280" y="1324080"/>
            <a:ext cx="82296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7/8 - Afric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9" name="Picture 6" descr="Screen Shot 2013-09-11 at 12.14.31 AM.png"/>
          <p:cNvPicPr/>
          <p:nvPr/>
        </p:nvPicPr>
        <p:blipFill>
          <a:blip r:embed="rId1"/>
          <a:stretch/>
        </p:blipFill>
        <p:spPr>
          <a:xfrm>
            <a:off x="254160" y="1928880"/>
            <a:ext cx="86468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le 1"/>
          <p:cNvSpPr/>
          <p:nvPr/>
        </p:nvSpPr>
        <p:spPr>
          <a:xfrm>
            <a:off x="1193760" y="12240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tatus of 2013 Implementation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449280" y="1695600"/>
            <a:ext cx="82296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7/8 - Asi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12" name="Picture 6" descr="Screen Shot 2013-09-11 at 12.14.46 AM.png"/>
          <p:cNvPicPr/>
          <p:nvPr/>
        </p:nvPicPr>
        <p:blipFill>
          <a:blip r:embed="rId1"/>
          <a:stretch/>
        </p:blipFill>
        <p:spPr>
          <a:xfrm>
            <a:off x="63360" y="2541600"/>
            <a:ext cx="902988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le 1"/>
          <p:cNvSpPr/>
          <p:nvPr/>
        </p:nvSpPr>
        <p:spPr>
          <a:xfrm>
            <a:off x="733320" y="23184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utlook for 2014 IP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4" name="Content Placeholder 2"/>
          <p:cNvSpPr/>
          <p:nvPr/>
        </p:nvSpPr>
        <p:spPr>
          <a:xfrm>
            <a:off x="449280" y="1568520"/>
            <a:ext cx="82296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Mission Statu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re missions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7/8 the only Core Missions in operation also for most of 2014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BERS-3 and Sentinel-1A: Expected (limited) operations in support of GFOI, but not before mid 2014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entinel-2A launch in 2014/Q3. Expected limited operations for GFOI in 2015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ntributing missions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POT-4 de-orbited, SPOT-5 scheduled to begin de-orbit end of 2014. Possible science observation opportunities in mid/late 2014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Radarsat-2 and TerraSAR-X/TanDEM-X in operation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SMO-SkyMed constellation in operations (SDCG door still open…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ALOS-2 scheduled for launch in JFY-2013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11:17Z</dcterms:created>
  <dc:creator>Brian Killough</dc:creator>
  <dc:description/>
  <dc:language>en-US</dc:language>
  <cp:lastModifiedBy>Keith, Kim Elizabeth (LARC-D2)[SCIENCE SYSTEMS AND APPLICATIONS, INC]</cp:lastModifiedBy>
  <dcterms:modified xsi:type="dcterms:W3CDTF">2013-09-16T15:09:46Z</dcterms:modified>
  <cp:revision>390</cp:revision>
  <dc:subject/>
  <dc:title>Title</dc:title>
</cp:coreProperties>
</file>