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AFAEE-CBB2-41E8-9412-1F75B516FA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A2112-592C-42D4-96E6-BA6AF3238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F7820-80AA-48E8-BA27-B1749E86C915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2B0D-9087-417C-BCA1-F3D58899F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09DF-F8D6-42E2-AA6B-F2DA92E8C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4ED9-2A41-46D7-AD58-DCCFFD387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07DA-3B32-4A31-9D46-A69B727E1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18B2-30C6-4596-BD2B-28706A8D9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19F4-9CC8-4CC7-893F-8FAFE224C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4271-4A38-4744-89E8-8E2BDBCC4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2FF3-EB2D-4051-8721-117A5881F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C78A-253B-4750-9C2B-E5E368B09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A163-79CD-40D0-8137-2E9FFB77C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6AB4-31BD-416B-8D44-34084FD7A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DB8F-6A6B-4DB8-B1BD-41B659B00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56A2E-896E-495B-BF7A-20961A9D3A9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3AD597D8-01FD-4BBE-9D52-E889A7E6272B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ceosplenary.org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bam.qc.ca/en/" TargetMode="External"/><Relationship Id="rId2" Type="http://schemas.openxmlformats.org/officeDocument/2006/relationships/hyperlink" Target="http://www.mbam.qc.ca/en/" TargetMode="External"/><Relationship Id="rId3" Type="http://schemas.openxmlformats.org/officeDocument/2006/relationships/hyperlink" Target="http://www.mbam.qc.ca/e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Luc Brûlé, CEOS Chair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960200" y="666720"/>
            <a:ext cx="69404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Update on 2013 Plenary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1ED04-2458-4D9F-AC58-DF3C86D8F4C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4" name="Picture 2" descr="C:\Users\mjbourassa\AppData\Local\Microsoft\Windows\Temporary Internet Files\Content.Outlook\WSRWQR2G\Invitation_Plenary_Front (2).jpg"/>
          <p:cNvPicPr/>
          <p:nvPr/>
        </p:nvPicPr>
        <p:blipFill>
          <a:blip r:embed="rId1"/>
          <a:stretch/>
        </p:blipFill>
        <p:spPr>
          <a:xfrm>
            <a:off x="-34920" y="-106200"/>
            <a:ext cx="9232920" cy="71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649520"/>
            <a:ext cx="4572000" cy="414000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572000" y="1353960"/>
            <a:ext cx="4572000" cy="278784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1957320" y="2705040"/>
            <a:ext cx="4572000" cy="415296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9" name="TextBox 7"/>
          <p:cNvSpPr/>
          <p:nvPr/>
        </p:nvSpPr>
        <p:spPr>
          <a:xfrm>
            <a:off x="6529320" y="4654440"/>
            <a:ext cx="2614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</a:rPr>
              <a:t>Plenary website:</a:t>
            </a:r>
            <a:br>
              <a:rPr sz="1800"/>
            </a:br>
            <a:r>
              <a:rPr b="0" lang="en-US" sz="1800" spc="-1" strike="noStrike" u="sng">
                <a:solidFill>
                  <a:srgbClr val="7498c0"/>
                </a:solidFill>
                <a:uFillTx/>
                <a:latin typeface="Arial"/>
                <a:hlinkClick r:id="rId4"/>
              </a:rPr>
              <a:t>www.ceosplenary.or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Content provided and updated by CSA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Site built and hosted by CEOS SEO Team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FFD43-27E7-4AE4-B3DF-FACEF57E43B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1" name="TextBox 8" descr=""/>
          <p:cNvPicPr/>
          <p:nvPr/>
        </p:nvPicPr>
        <p:blipFill>
          <a:blip r:embed="rId5"/>
          <a:stretch/>
        </p:blipFill>
        <p:spPr>
          <a:xfrm>
            <a:off x="792000" y="4767120"/>
            <a:ext cx="4889520" cy="4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5880" y="1465200"/>
            <a:ext cx="866268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lenary Location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: Hotel OMNI Mont Royal in downtown Montreal.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Participants are encouraged to stay at this hotel. Book early </a:t>
            </a:r>
            <a:br>
              <a:rPr sz="2000"/>
            </a:b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o enjoy the preferential rate of $140 CDN per night.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4" name="Picture 4" descr="http://www.omnihotels.com/~/media/Images/hotels/mondtn/property_photos/792/mondtn%20pro%200%20jpg.ashx"/>
          <p:cNvPicPr/>
          <p:nvPr/>
        </p:nvPicPr>
        <p:blipFill>
          <a:blip r:embed="rId1"/>
          <a:stretch/>
        </p:blipFill>
        <p:spPr>
          <a:xfrm>
            <a:off x="866880" y="2824200"/>
            <a:ext cx="5311800" cy="3963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5" name="Picture 6" descr="http://www.omnihotels.com/~/media/Images/hotels/mondtn/property_photos/792/MONDTN_meetingspaceNEW.ashx"/>
          <p:cNvPicPr/>
          <p:nvPr/>
        </p:nvPicPr>
        <p:blipFill>
          <a:blip r:embed="rId2"/>
          <a:stretch/>
        </p:blipFill>
        <p:spPr>
          <a:xfrm>
            <a:off x="4849920" y="3224160"/>
            <a:ext cx="3378240" cy="209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6" name="Picture 10" descr="http://www.omnihotels.com/~/media/Images/hotels/mondtn/property_photos/792/mondtn_alicelounge.ashx"/>
          <p:cNvPicPr/>
          <p:nvPr/>
        </p:nvPicPr>
        <p:blipFill>
          <a:blip r:embed="rId3"/>
          <a:stretch/>
        </p:blipFill>
        <p:spPr>
          <a:xfrm>
            <a:off x="4579920" y="4962600"/>
            <a:ext cx="2681280" cy="166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7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2EB85-37AA-49E1-BDE5-F556BC81651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5880" y="1465200"/>
            <a:ext cx="866268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itial Progr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6240" y="2203560"/>
          <a:ext cx="8662680" cy="4114800"/>
        </p:xfrm>
        <a:graphic>
          <a:graphicData uri="http://schemas.openxmlformats.org/drawingml/2006/table">
            <a:tbl>
              <a:tblPr/>
              <a:tblGrid>
                <a:gridCol w="3036600"/>
                <a:gridCol w="5626080"/>
              </a:tblGrid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Monday, November 4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ide meetings + SEC meeting 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8:00 – 20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Opening reception at 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1"/>
                        </a:rPr>
                        <a:t>Montreal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2"/>
                        </a:rPr>
                        <a:t>’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3"/>
                        </a:rPr>
                        <a:t>s Museum of Fine Art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uesday, November 5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CEOS Plenary Day 1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9:00 – 21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Hosted dinner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ednesday, November 6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CEOS Plenary Day 2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8:00 – 2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No host dinner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</a:tbl>
          </a:graphicData>
        </a:graphic>
      </p:graphicFrame>
      <p:sp>
        <p:nvSpPr>
          <p:cNvPr id="111" name="Slide Number Placeholder 4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DFF46-4F7C-49FA-98C9-40BCB1937AF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Luc Brûlé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2:31Z</dcterms:modified>
  <cp:revision>73</cp:revision>
  <dc:subject/>
  <dc:title>CEOS Chair</dc:title>
</cp:coreProperties>
</file>