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927240" y="-360"/>
            <a:ext cx="300492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D0DDC-8FA3-45B3-A78B-4866CD2ABEAB}"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58840" y="691920"/>
            <a:ext cx="4618080" cy="346212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93720" y="4386240"/>
            <a:ext cx="5548320" cy="415440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769240"/>
            <a:ext cx="3005280" cy="4622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927240" y="8769240"/>
            <a:ext cx="3004920" cy="46224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614E4-A3C7-4F15-944B-49C4270D666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24BDF-5168-42D6-B404-ECB771E02E64}"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42" name="PlaceHolder 1"/>
          <p:cNvSpPr>
            <a:spLocks noGrp="1"/>
          </p:cNvSpPr>
          <p:nvPr>
            <p:ph type="sldImg"/>
          </p:nvPr>
        </p:nvSpPr>
        <p:spPr>
          <a:xfrm>
            <a:off x="1158840" y="692280"/>
            <a:ext cx="4618080" cy="3462120"/>
          </a:xfrm>
          <a:prstGeom prst="rect">
            <a:avLst/>
          </a:prstGeom>
          <a:ln w="0">
            <a:noFill/>
          </a:ln>
        </p:spPr>
      </p:sp>
      <p:sp>
        <p:nvSpPr>
          <p:cNvPr id="14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8840" y="692280"/>
            <a:ext cx="4618080" cy="3462120"/>
          </a:xfrm>
          <a:prstGeom prst="rect">
            <a:avLst/>
          </a:prstGeom>
          <a:ln w="0">
            <a:noFill/>
          </a:ln>
        </p:spPr>
      </p:sp>
      <p:sp>
        <p:nvSpPr>
          <p:cNvPr id="145"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788F4-FB0B-4CF1-9B03-9407B5016E0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47" name="Header Placeholder 4"/>
          <p:cNvSpPr/>
          <p:nvPr/>
        </p:nvSpPr>
        <p:spPr>
          <a:xfrm>
            <a:off x="0" y="0"/>
            <a:ext cx="3005280" cy="46188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58840" y="692280"/>
            <a:ext cx="4618080" cy="3462120"/>
          </a:xfrm>
          <a:prstGeom prst="rect">
            <a:avLst/>
          </a:prstGeom>
          <a:ln w="0">
            <a:noFill/>
          </a:ln>
        </p:spPr>
      </p:sp>
      <p:sp>
        <p:nvSpPr>
          <p:cNvPr id="149"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190C7-0E29-4D12-9CDB-B0B90B2E4F6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51" name="Header Placeholder 4"/>
          <p:cNvSpPr/>
          <p:nvPr/>
        </p:nvSpPr>
        <p:spPr>
          <a:xfrm>
            <a:off x="0" y="0"/>
            <a:ext cx="3005280" cy="46188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915E9-F01E-4268-8C21-951298A41D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9F78CB75-CF6A-45CD-95A6-6287E7641E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5FCD2C1A-7435-4A87-B170-3C3CEAAD52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00F830DB-98DB-412B-B3E8-CD7908C82C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6FCDB248-C0AB-49D3-AC71-DA6463FA25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D960EB-F468-449F-8E0A-AECA6E6F37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97FBCA1F-9099-4533-A835-9F656381AC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2F6675D1-C362-42E9-9F3C-B3E2C9C02E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4FD85185-1C2D-4D15-9598-F262F5260D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7A948D29-1587-49BA-8966-7363C0A30C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F1D404C6-8F55-4D22-9252-19DB970D51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9E230B2E-9076-4FD6-BE5B-6974D5762F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73F2D5E9-3E26-4D02-8E8F-A65E75205D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DB6D7CD-497A-4BAE-8887-5BDA11CC07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A68BF508-CBEC-4C37-944B-DCD9619345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787CC75B-A0A4-4CF4-8EBF-874354F2900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1F3894FB-3565-41A8-BE6E-EC5934C7693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86DB0259-A8A5-4031-820E-953209A074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296E4532-3233-4B21-812D-1993B67540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1B9DB817-9F54-4EA4-B3C3-8871B7CB7E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271761B9-0E7D-461E-B7B8-C316F61379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F18C66D3-5923-4E03-8090-C42F113295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F8F49FAF-C69F-4A65-B838-013AC4B786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D1E9C00B-3E3F-4038-836B-C3058DA15B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37732-4A6B-4255-A432-87EE058BD93D}"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2F340DB6-BD4C-4EC6-8BFE-CE4E6F0B8B75}"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F0AFC-285C-421B-9DF4-F996C485E3CC}"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722680"/>
            <a:ext cx="4826160" cy="1093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Brent Smith</a:t>
            </a:r>
            <a:endParaRPr b="1" lang="en-US" sz="2400" spc="-1" strike="noStrike">
              <a:solidFill>
                <a:srgbClr val="002569"/>
              </a:solidFill>
              <a:latin typeface="Arial"/>
            </a:endParaRPr>
          </a:p>
        </p:txBody>
      </p:sp>
      <p:sp>
        <p:nvSpPr>
          <p:cNvPr id="134" name="PlaceHolder 2"/>
          <p:cNvSpPr>
            <a:spLocks noGrp="1"/>
          </p:cNvSpPr>
          <p:nvPr>
            <p:ph type="title"/>
          </p:nvPr>
        </p:nvSpPr>
        <p:spPr>
          <a:xfrm>
            <a:off x="4089240" y="666720"/>
            <a:ext cx="481176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es on GEO Post-2015 and GEO Ministerial WGs; </a:t>
            </a:r>
            <a:br>
              <a:rPr sz="2800"/>
            </a:br>
            <a:r>
              <a:rPr b="1" lang="en-US" sz="2800" spc="-1" strike="noStrike">
                <a:solidFill>
                  <a:srgbClr val="ffffff"/>
                </a:solidFill>
                <a:latin typeface="Arial"/>
              </a:rPr>
              <a:t>      Developments and </a:t>
            </a:r>
            <a:br>
              <a:rPr sz="2800"/>
            </a:br>
            <a:r>
              <a:rPr b="1" lang="en-US" sz="2800" spc="-1" strike="noStrike">
                <a:solidFill>
                  <a:srgbClr val="ffffff"/>
                </a:solidFill>
                <a:latin typeface="Arial"/>
              </a:rPr>
              <a:t>Next Steps Toward GEO-X</a:t>
            </a:r>
            <a:br>
              <a:rPr sz="2800"/>
            </a:br>
            <a:r>
              <a:rPr b="1" lang="en-US" sz="2800" spc="-1" strike="noStrike">
                <a:solidFill>
                  <a:srgbClr val="ffffff"/>
                </a:solidFill>
                <a:latin typeface="Arial"/>
              </a:rPr>
              <a:t>    and Ministerial Summit</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AE4692-2915-4997-BA1F-6CCAD2817F2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EO Post-2015 Working Group Update</a:t>
            </a:r>
            <a:endParaRPr b="1" lang="en-US" sz="2400" spc="-1" strike="noStrike">
              <a:solidFill>
                <a:srgbClr val="ffffff"/>
              </a:solidFill>
              <a:latin typeface="Arial"/>
            </a:endParaRPr>
          </a:p>
        </p:txBody>
      </p:sp>
      <p:sp>
        <p:nvSpPr>
          <p:cNvPr id="137" name="Rectangle 3"/>
          <p:cNvSpPr/>
          <p:nvPr/>
        </p:nvSpPr>
        <p:spPr>
          <a:xfrm>
            <a:off x="147600" y="1351080"/>
            <a:ext cx="8831160" cy="51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s discussed at SIT-28, GEO Post-2015 WG met in January and prepared set of Recommendations (Part B) with accompanying Introduction/background piece (Part A)  for March 2013 GEO ExCom </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Per March ExCom, Recommendations refocused into 4 categories, subsequently discussed by WG in 8 April, 29 April telecon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GEO Principals invited, per 8 May GEO SecDir memo to review and offer comments on new Parts A and B text prior to July ExCom</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G’s CEOS and space agency participants worked with SIT Chair/CEOS Chair to draft CEOS response sent by CEOS Chair on 26 May, one of 12 responses GEO received from its Members/Participating Organization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July ExCom asked that Part A be refocused as a persuasion piece; Part B Recommendations to be amended to reflect inputs from GEO Principals and to remove Recommendation 4.2 reference to private sector.  Also directed WG to draft topical papers on GEO Governance, Data Access, Resourcing, and Links with International Organizations in advance of GEO Plenary</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G (as of 5 September) awaiting receipt of revised/amended Parts A and B texts which will be discussed at upcoming 12-13 September WG meeting in Washington, DC, which will also focus on development of topical paper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Expectation that Part B will be “negotiated” by GEO Members in advance of Plenary; with Parts A and B and topical papers to be adopted by Plenary</a:t>
            </a:r>
            <a:endParaRPr b="0" lang="en-US" sz="1800" spc="-1" strike="noStrike">
              <a:solidFill>
                <a:srgbClr val="002569"/>
              </a:solidFill>
              <a:latin typeface="Arial"/>
            </a:endParaRPr>
          </a:p>
          <a:p>
            <a:pPr marL="343080" indent="-343080">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743040" indent="-28584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826AE-339C-42C7-A578-C66DE17CA1CE}"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PlaceHolder 1"/>
          <p:cNvSpPr>
            <a:spLocks noGrp="1"/>
          </p:cNvSpPr>
          <p:nvPr>
            <p:ph type="title"/>
          </p:nvPr>
        </p:nvSpPr>
        <p:spPr>
          <a:xfrm>
            <a:off x="2179440" y="0"/>
            <a:ext cx="6964200" cy="828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EO Ministerial Working Group Update</a:t>
            </a:r>
            <a:endParaRPr b="1" lang="en-US" sz="2400" spc="-1" strike="noStrike">
              <a:solidFill>
                <a:srgbClr val="ffffff"/>
              </a:solidFill>
              <a:latin typeface="Arial"/>
            </a:endParaRPr>
          </a:p>
        </p:txBody>
      </p:sp>
      <p:sp>
        <p:nvSpPr>
          <p:cNvPr id="140" name="Rectangle 3"/>
          <p:cNvSpPr/>
          <p:nvPr/>
        </p:nvSpPr>
        <p:spPr>
          <a:xfrm>
            <a:off x="318960" y="1258920"/>
            <a:ext cx="8632800" cy="528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GEO Ministerial WG last met in late May; previous meetings were in January and March; Stephen Briggs/ESA is one of WG co-chair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G presented to July ExCom proposed Ministerial Declaration with theme of “Observe, Share, Inform, Act,” and outline of proposed showcase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ExCom responded by producing a Ministerial Document Plan that agreed on position of three elements for a Ministerial portfolio:</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1) Ministerial Declaration – for adoption by Minister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2) GEO Vision for 2025, consensus recommendations, and topical         papers – for acceptance by GEO-X Plenary; and</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3) Pathway for 2025 Implementation Plan Scenarios – for information</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ExCom directed GEO Sec to engage in triage to reduce Showcase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Ministerial WG charged to modify Declaration for clarity/concisenes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Swiss Government as host of Ministerial has responsibility for issuing invitations to Minister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CEOS has received 29 July invitation from GEO Secretariat Director to </a:t>
            </a:r>
            <a:endParaRPr b="0" lang="en-US" sz="1800" spc="-1" strike="noStrike">
              <a:solidFill>
                <a:srgbClr val="002569"/>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     </a:t>
            </a:r>
            <a:r>
              <a:rPr b="1" lang="en-GB" sz="1800" spc="-1" strike="noStrike">
                <a:solidFill>
                  <a:srgbClr val="001c4f"/>
                </a:solidFill>
                <a:latin typeface="Arial"/>
                <a:ea typeface="Arial"/>
              </a:rPr>
              <a:t>15-16 January GEO-X Plenary; CEOS as GEO Participating Organization </a:t>
            </a:r>
            <a:endParaRPr b="0" lang="en-US" sz="1800" spc="-1" strike="noStrike">
              <a:solidFill>
                <a:srgbClr val="002569"/>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      </a:t>
            </a:r>
            <a:r>
              <a:rPr b="1" lang="en-GB" sz="1800" spc="-1" strike="noStrike">
                <a:solidFill>
                  <a:srgbClr val="001c4f"/>
                </a:solidFill>
                <a:latin typeface="Arial"/>
                <a:ea typeface="Arial"/>
              </a:rPr>
              <a:t>will also be invited to participate in the January 17 Ministerial</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George Dyke</cp:lastModifiedBy>
  <cp:lastPrinted>2013-09-04T16:01:52Z</cp:lastPrinted>
  <dcterms:modified xsi:type="dcterms:W3CDTF">2013-09-09T17:02:41Z</dcterms:modified>
  <cp:revision>61</cp:revision>
  <dc:subject/>
  <dc:title>Title</dc:title>
</cp:coreProperties>
</file>