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2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DAE02-7ACB-4477-8D80-A399B2E9B242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66701-9B05-4BCA-BFB8-F8F12A6F062D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30EA3040-E7CD-4C58-B57B-96712C01AC5E}" type="slidenum">
              <a:rPr b="0" lang="en-IE" sz="14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5CDF7-0AD3-4BC0-9CC5-4F7D2E3A5563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735CF9FB-1982-4F55-B599-13E286D62562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CF480-196D-44F2-A5F1-9DCCB8B4461D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774CBCCC-B80A-4FC7-B3BC-1A92A7A33FE3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A913-471D-4BBA-A4E3-93C45BA0A6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B553-7EE2-425A-9732-3C26A65FBC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9351-AD4D-4C82-966F-AE31783F36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ADB2-4B54-43D5-B129-9F322374A0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D082-368C-49F1-9730-6748F3CBD5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5959-089E-4F1B-BFD1-B069040A02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5481-0FA7-41E7-BC70-1A996AC84A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52AE-E871-4497-8DA0-D897161EBE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EE28-5CC3-4BDB-8866-80315A691D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22EF-B7F0-4681-AE32-FCB99461FE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D1D3-1F3E-4C94-ACB2-745E233076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40C4-E876-4CFF-932A-D8185E3E9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-35280" y="482760"/>
            <a:ext cx="1663920" cy="54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SIT-28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Hampton, Virginia, USA</a:t>
            </a:r>
            <a:br>
              <a:rPr sz="1000"/>
            </a:b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11-15 March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74520" y="120600"/>
            <a:ext cx="91440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AutoShape 4"/>
          <p:cNvSpPr/>
          <p:nvPr/>
        </p:nvSpPr>
        <p:spPr>
          <a:xfrm>
            <a:off x="0" y="3244680"/>
            <a:ext cx="91440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88880" y="666360"/>
            <a:ext cx="4807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723852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14B590-60A4-4CD4-BE0A-0AED65598EFD}" type="slidenum">
              <a: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2720" y="558720"/>
            <a:ext cx="1761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7561440" cy="16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sters Study Group Recommendation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14560" y="2201760"/>
            <a:ext cx="4825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Steven Hosford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on behalf of the Disasters Study Group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324360" y="6494400"/>
            <a:ext cx="751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28440" y="1387440"/>
            <a:ext cx="8766360" cy="5238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starting point – Recommendations of CSSII topical team on Roles and Responsabilities.  Group established by CEOS SIT-28 with the following man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Overall Objective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  The study group will recommend internal CEOS organizational structures for ensuring sustained coordination of the disaster activ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1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and list current and future likely needs for significant disaster related activiti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2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activities in CEOS related to disasters including those of the CEOS Disaster SBA Team, DRM </a:t>
            </a:r>
            <a:r>
              <a:rPr b="0" i="1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ad hoc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 team, Working Groups, VCs and other grou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3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the objectives and requirements for all aspects related to disasters in line with the agreed and emerging CEOS strategic prioriti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4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onsider the implementation which will best satisfy all the above needs in future, including recommendations as to the future of relevant current bodi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5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Make recommendations on the way forward to the CEOS SIT chai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Deadline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  SIT technical workshop, September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C5B79-2899-4827-AC49-40B7916C65A7}" type="slidenum">
              <a:rPr b="0" lang="en-IE" sz="1800" spc="-1" strike="noStrike">
                <a:solidFill>
                  <a:srgbClr val="002569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28440" y="1787400"/>
            <a:ext cx="8766360" cy="3809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composed of representatives from all disaster activities within CEOS and a broad range of agenc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002060"/>
                </a:solidFill>
                <a:latin typeface="Arial"/>
              </a:rPr>
              <a:t>Francis Lindsay (NASA), Stuart Frye (NASA), Guy Seguin (NASA), Christine Giguère (CSA), Ivan Petiteville (ESA), Karen Moe (NASA - WGISS), Mark Dowell (EC - WGClimate), Kerry Sawyer (CEO), Shelley Stover (NASA), Steven Hosford (CNES - Study Group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Study group discussions conducted by teleconference during May - 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</a:rPr>
              <a:t>“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</a:rPr>
              <a:t>Note on the organisation of disaster related activities within CEOS” 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presented to CEOS SEC 178 (11</a:t>
            </a:r>
            <a:r>
              <a:rPr b="0" lang="en-IE" sz="2000" spc="-1" strike="noStrike" baseline="30000">
                <a:solidFill>
                  <a:srgbClr val="002569"/>
                </a:solidFill>
                <a:latin typeface="Arial"/>
                <a:ea typeface="Arial"/>
              </a:rPr>
              <a:t>th 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Ju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SEC comments taken into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Note v2 is presented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9F4DD-23DB-4E28-8E5E-6EF5272E67FE}" type="slidenum">
              <a:rPr b="0" lang="en-IE" sz="1800" spc="-1" strike="noStrike">
                <a:solidFill>
                  <a:srgbClr val="002569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127080" y="1787400"/>
            <a:ext cx="8766000" cy="387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ree distinct disaster activities are currently conducted by C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Disaster SBA Team. Put together to support the CEOS Disasters SBA Coordin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Disaster Risk Management  </a:t>
            </a:r>
            <a:r>
              <a:rPr b="0" i="1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ad hoc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 Working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WGISS 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GEOSS Architecture for Disasters (GA.4D). Focused project team addressing technical issues and best practices for information systems an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urrent disaster activities in C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/>
          <p:cNvSpPr/>
          <p:nvPr/>
        </p:nvSpPr>
        <p:spPr>
          <a:xfrm>
            <a:off x="54000" y="1484280"/>
            <a:ext cx="876600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tarting point for Study Group discussions were the recommendations of th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SSII, the Roles and Responsibilities Task Te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Seed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47640" y="2637000"/>
          <a:ext cx="6193080" cy="4128840"/>
        </p:xfrm>
        <a:graphic>
          <a:graphicData uri="http://schemas.openxmlformats.org/drawingml/2006/table">
            <a:tbl>
              <a:tblPr/>
              <a:tblGrid>
                <a:gridCol w="1354320"/>
                <a:gridCol w="48387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d all of the existing CEOS Disaster activities within just one of the existing three mechanisms addressing Disasters and suppress the other two activities/mechani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55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ress the CEOS Disaster SBA Coordinator, the ad hoc Working Group on DRM and the Disaster activities within WGISS, and transfer all activities to a new WG on Disas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0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 "as is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54000" y="1308240"/>
            <a:ext cx="8766000" cy="557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ese options can be “expanded out”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Leave "as i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à coins arrondis 3"/>
          <p:cNvSpPr/>
          <p:nvPr/>
        </p:nvSpPr>
        <p:spPr>
          <a:xfrm>
            <a:off x="41400" y="4748040"/>
            <a:ext cx="9088200" cy="1584360"/>
          </a:xfrm>
          <a:prstGeom prst="roundRect">
            <a:avLst>
              <a:gd name="adj" fmla="val 16667"/>
            </a:avLst>
          </a:prstGeom>
          <a:solidFill>
            <a:srgbClr val="4cd45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4000" y="1308240"/>
            <a:ext cx="8766000" cy="557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ese options can be “expanded out”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Leave "as i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3"/>
          <p:cNvSpPr/>
          <p:nvPr/>
        </p:nvSpPr>
        <p:spPr>
          <a:xfrm>
            <a:off x="41400" y="1413000"/>
            <a:ext cx="9088200" cy="1295280"/>
          </a:xfrm>
          <a:prstGeom prst="roundRect">
            <a:avLst>
              <a:gd name="adj" fmla="val 16667"/>
            </a:avLst>
          </a:prstGeom>
          <a:solidFill>
            <a:srgbClr val="4cd45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54000" y="1500120"/>
            <a:ext cx="8766000" cy="5211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 startAt="3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 startAt="3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Parallels with “Climate” t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of long-term strategic importance to C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are characterised by a complex context of national, regional and global 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have a broad range of potential external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Many established space actors or groupings already contribute to focused aspects of both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tanding WG would be most effective in constituting a common “CEOS voi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3"/>
          <p:cNvSpPr/>
          <p:nvPr/>
        </p:nvSpPr>
        <p:spPr>
          <a:xfrm>
            <a:off x="54000" y="1500120"/>
            <a:ext cx="8766000" cy="441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proposes to SIT that the following decisions be presented to Plena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Creation of a new standing Working Group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doption of the proposed Terms of Reference for this Workin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Nominations of (interim?) Chair and Vice-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IE" sz="2000" spc="-1" strike="noStrike">
                <a:solidFill>
                  <a:srgbClr val="002569"/>
                </a:solidFill>
                <a:latin typeface="Arial"/>
              </a:rPr>
              <a:t>NB. The proposed WG TORs have been included as an annexe to the n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7:10:19Z</dcterms:created>
  <dc:creator>Kerry Sawyer</dc:creator>
  <dc:description/>
  <dc:language>en-US</dc:language>
  <cp:lastModifiedBy>Keith, Kim Elizabeth (LARC-D2)[SCIENCE SYSTEMS AND APPLICATIONS, INC]</cp:lastModifiedBy>
  <dcterms:modified xsi:type="dcterms:W3CDTF">2013-09-16T15:10:56Z</dcterms:modified>
  <cp:revision>72</cp:revision>
  <dc:subject/>
  <dc:title>Recommendations - DisastersStudyGroup</dc:title>
</cp:coreProperties>
</file>