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9FD95-FD7C-4C5B-9056-40C062CFDD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4BF6-6AE4-4025-B493-DAD5987A8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24F1C-A434-47FB-B3E4-F7E6F9A3C18D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CD3F4-B259-4D13-B9FC-4FA1F55C9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B12BF-DAEF-4F0C-94FA-B47D8AAB9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A773-42DA-4933-8A46-CCA1BC772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D84B-2146-4845-A919-3F5BC55BA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4220-EAD7-46D8-B3D2-26101BBF5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FBCB-0BD5-47D1-8B41-458F7DFA0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A8BD-DEB0-4A66-A7E9-5917B1350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F6A6-3156-4194-A53D-28D4DADC97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C033-A77D-41F0-9CEB-6B50892B7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B07D-49BF-4AD8-9D93-42D4FF89DB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4056-D3BC-4102-8D56-A000EF4FB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E40E-22EC-491F-B2B7-8CFC212F3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8D41-B47E-4C60-84D9-DCF3913FA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10B8-CD2D-4F25-A5FE-6D54ACED34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88A8-ED42-441A-9FF1-1A7CC90672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0CAC-82C4-4068-8113-1FD680CA25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6EF7-F77C-4330-95C2-B3D6A72D8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D0FA-B6D1-4762-8DFF-BE8BE5C38D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E7F6-7EDF-405F-B471-B9364B175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D507-9F82-4A19-A3AF-65282EE6B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4EF3-AAD4-4541-B8D8-890F48075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D89D-15EF-4BCC-BE22-02409DAF4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2070-B1A6-4436-ACB8-4962D79FB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67C8-356E-4010-87AB-2B85EDF81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9313-08EA-4991-936D-7E8D072F2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AA1D-C069-4CDD-9271-141FFC239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7F917-312E-480B-AD27-FE8FF37A648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AD5B98FB-5C29-439B-B8ED-C2E6A37C70F9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46938-8C3B-4D94-B702-31A9B423642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981080"/>
            <a:ext cx="482616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ursday, September 12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28260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Participation in the GEO Plenary and Ministerial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Exhibition and Outr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D8CE5-E007-4F9C-BA30-596A6D431EE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hibition Booth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6914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is planning to support the GEO-X Meeting in Geneva, Switzerland in January 2014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will coordinate outreach materials from various CEOS groups including newsletters (JAXA), one-page CEOS statement (CEO), Virtual Constellation posters, and key charts on CEOS organization and </a:t>
            </a:r>
            <a:br>
              <a:rPr sz="2400"/>
            </a:b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key projects, etc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 has contacted GEO to indicate interest in having a CEOS exhibition booth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ost of the exhibition booth is ~1000 Euro.  To date, no CEOS Agency has volunteered to fund this initiative.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ACA02-9259-4B02-8834-9B0040588423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ew CEOS Video Wall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08080" y="1500120"/>
            <a:ext cx="494352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SEO has designed and procured a new video wall to support major CEOS outreach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Such events will include the annual CEOS Plenary, GEO, IGARSS, or other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video wall is an interactive touch-screen system with 4 large video panels.  The system can display internet-based content and also specific products developed for CEO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new system will be introduced at the CEOS Plenary in Montreal ... November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1" name="Picture 5" descr="Booth_2011.jpg"/>
          <p:cNvPicPr/>
          <p:nvPr/>
        </p:nvPicPr>
        <p:blipFill>
          <a:blip r:embed="rId1"/>
          <a:stretch/>
        </p:blipFill>
        <p:spPr>
          <a:xfrm>
            <a:off x="5538960" y="1430280"/>
            <a:ext cx="3033720" cy="2022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5724360" y="340524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Old rented TV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166360" y="638316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New multi-panel CEOS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521320" y="4041720"/>
            <a:ext cx="30495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2T15:49:40Z</dcterms:modified>
  <cp:revision>63</cp:revision>
  <dc:subject/>
  <dc:title>Title</dc:title>
</cp:coreProperties>
</file>