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A2095-8FC2-4DF8-9751-9ED3EA922B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5FB8C-BAF7-4AB5-8DAB-6423700DC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0C89A-CD2B-460A-85ED-C6D3021A726D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18E2-4BEE-43D0-9CB0-5D0AF9DDA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DA09-7461-47D8-9639-C43F444A0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81F1-FC21-4FF8-A841-65A5BB9BB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12DF-8DDE-4CA2-B15B-1BECA2A2B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1857-9A87-403D-88DC-39746496A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A2974-9E2E-4F56-A0AB-70DCA39B8B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D3AF5-55F6-4E12-9AE3-D1A01D8BFE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0A650-F535-4502-BDEC-9DAFC5E782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4E4B-1350-45E2-8734-FF8C88CEC1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E86FD-E155-4B7C-B86C-FE6B4DC7E5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42DA-2497-4CF4-ADB7-59208A4452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1B7A-6057-443D-A49F-4BA1FB529F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F36CA-42B4-4BAF-9E98-A982294937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D45C8-418F-4CD6-9231-4117697026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8067-63FD-49BC-A6B0-FB5E82D454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7031-AE8D-4C7F-957B-2C55520F66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5707A-C20F-4BB6-82B8-5A2E074A3D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32F0-70B5-4D7F-8F91-05FAB1C76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6320-A1CE-4260-8E76-5A414C05B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9F87-7996-479A-BBB8-BBA10C8A7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E90E-3BFC-47EC-836D-B6C6B36F5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D93C-6D73-4DEB-8688-64059A746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E6CF-FE2D-4728-8D99-AB3E1D4AE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0413-1697-47CF-B7D9-334E17ECF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F2374-8E91-437A-A850-248CA148DF08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6F34FFD5-5F83-4328-80C8-4B5519CB8D87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F12E9-49E9-4939-A828-8E5F11B8556E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722680"/>
            <a:ext cx="48261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For information to SIT-Workshop and Plenary(?)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tephen Brigg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716200" y="666720"/>
            <a:ext cx="618480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SDCG-4: comment from the CEOS Lead to GFO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3616200" y="423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194920" y="23796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 of points from CEOS Lead perspectiv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249120" y="1411200"/>
            <a:ext cx="8570880" cy="60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c83"/>
                </a:solidFill>
                <a:latin typeface="Arial"/>
              </a:rPr>
              <a:t>GFOI Leads are: Australia, Norway, USA, FAO, CEO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c83"/>
                </a:solidFill>
                <a:latin typeface="Arial"/>
              </a:rPr>
              <a:t>SDCG operating strongly and has a 3-year vision to deliver products &amp; services to GEO governments. SDCG is arguably the strongest element of GFOI and delivers on its mandate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c83"/>
                </a:solidFill>
                <a:latin typeface="Arial"/>
              </a:rPr>
              <a:t>Points here are views from CEOS Lead as report to SIT Workshop/Plenary(?), in addition to formal report from SDCG Executive team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Presentations from participating countries were a strong feature of the meeting and should be repeated as appropriate: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The reports showed varied level of experience and expertise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In many cases countries were already far beyond the scope of advice being provided to them via GFOI, using Landsat and other data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General need for more radar data and technical support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Need for more support in Early Warning (MODIS/ScanSAR class) observations including continuity and future systems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Rapideye and similar data widely used and requested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3616200" y="423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2194920" y="23796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 of points from CEOS Lead perspectiv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49120" y="1004760"/>
            <a:ext cx="8570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c83"/>
                </a:solidFill>
                <a:latin typeface="Arial"/>
              </a:rPr>
              <a:t>Points here are views from CEOS Lead report to SIT Workshop/Plenary(?) (continued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USA (SilvaCarbon) has done an excellent job in capacity building, especially in South Americ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GFOI needs to reconsider its Methods Guidance Document in the light of the experience, and generally to improve the integration of GFOI element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Norwegian “fast-track” initiative an important step in improved implementation, with care taken to integrate fully in GFOI pla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Concept of GFOI Data Services very important and needs further development, possibly linked to the Norwegian initiativ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3616200" y="423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2194920" y="23796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 of points from CEOS Lead perspectiv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249120" y="1004760"/>
            <a:ext cx="85708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c83"/>
                </a:solidFill>
                <a:latin typeface="Arial"/>
              </a:rPr>
              <a:t>Points here are views from CEOS Lead report to SIT Workshop/Plenary(?) (continued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DEMs are a core requirement, at a resolution better than SRTM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Many upcoming SAR missions (S-1, ALOS-2, Radarsat Constellation, SAOCOM,…) very relevant to GFOI needs and further work needed on training and technical support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Norway clearly a key player in many aspects, backed by significant funding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Creation of GFOI office in 2013 has helped greatly in coherence, but more needs to be done to ensure end-end (UNFCCC- satellite data) integration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Keith, Kim Elizabeth (LARC-D2)[SCIENCE SYSTEMS AND APPLICATIONS, INC]</cp:lastModifiedBy>
  <cp:lastPrinted>2013-07-23T19:08:48Z</cp:lastPrinted>
  <dcterms:modified xsi:type="dcterms:W3CDTF">2013-09-16T15:10:00Z</dcterms:modified>
  <cp:revision>55</cp:revision>
  <dc:subject/>
  <dc:title>Title</dc:title>
</cp:coreProperties>
</file>