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3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257EF2-5DB7-4E08-BED8-0F829DA6D1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5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F87E6F-26FB-4582-BB08-9389C3EA95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AAC0DB-E47C-4574-8D74-70A6422D8817}" type="slidenum">
              <a:rPr b="0" lang="de-DE" sz="1200" spc="-1" strike="noStrike">
                <a:solidFill>
                  <a:srgbClr val="00256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F06D03-8AE9-4935-9E5B-72D29927A0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8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ABAE11-A27F-4030-9D40-370A5A15B1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2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026C0C-B665-49C8-915C-D8E82F7180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6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8C7D5B-58FD-4AF1-ACC7-C219E268D0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0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8564F5-2058-48CD-B3CF-F9BC885E42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4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EC93A4-AD43-466B-A6FA-D26F3503AF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8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09ED96-53C6-495B-B7C2-298A389161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2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7604B-67BD-4F77-B9C6-9BB3034484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2D7E4-BC42-4319-A925-A828996E02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D4FD7-EFF5-4E70-91BA-36A14AB5AE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D772B-3FC0-4629-9965-148567C9D7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A01D2-351D-46E7-977F-D21A4C5363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27316-E465-4A62-AD8A-60F9BC00099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7F6E9-E8AC-437B-96E5-71D65232E82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CD43A-C699-4772-84E2-851482F5FE8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B2CDA-9F96-4348-B6CC-B8B7B27CC84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D8A96-B8D8-4F29-AF66-330A5794EF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74262-0D1B-499E-A58A-7491768EEB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FC991-9343-43A9-9C14-BA9799503FE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05DEC-9DD8-4968-817D-3D441B5D2F0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F6EF1-D7F5-4A11-B648-62224C848ED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6C6EC-796D-48D9-A254-67EB7067BC5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6543B-7DE7-44B2-8733-0F24BFE950D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AC923-2DE1-463C-8D1B-8B716F0CC12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D9899-AB0A-40C4-89E7-6B82EFAC8C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49A5D-D0DA-4BD7-9BD9-9EC9AC282F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A4F40-779D-4D5D-A9EA-3D24C5DFCA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35717-ECE1-418F-AB20-CB8504E1EE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067AF-2130-4265-ABA4-2902CD0D43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F20B6-7ABE-40E2-93B8-49735C1155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D6EFC-D027-43DC-96B9-66E8B70CCD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TextBox 3"/>
          <p:cNvSpPr/>
          <p:nvPr/>
        </p:nvSpPr>
        <p:spPr>
          <a:xfrm>
            <a:off x="72720" y="558720"/>
            <a:ext cx="176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T Technical Workshop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adena, Califor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 11-12,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44F0AA-51CF-493E-8093-4DE5590523F2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7910640" y="6494400"/>
            <a:ext cx="117288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A985B4AA-CA83-4547-9BBC-1DA767D20630}" type="slidenum">
              <a:rPr b="0" lang="de-DE" sz="12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3244680"/>
            <a:ext cx="914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" name="Rectangle 36"/>
          <p:cNvSpPr/>
          <p:nvPr/>
        </p:nvSpPr>
        <p:spPr>
          <a:xfrm>
            <a:off x="324360" y="6494400"/>
            <a:ext cx="7513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1335"/>
                </a:solidFill>
                <a:latin typeface="Century Gothic"/>
              </a:rPr>
              <a:t>CEOS SIT Technical Workshop |Caltech, Pasadena, California, USA| 11-12 September 2013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7711920" y="4881600"/>
            <a:ext cx="1432080" cy="933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72720" y="558720"/>
            <a:ext cx="176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T Technical Workshop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adena, Califor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 11-12,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86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2"/>
          </p:nvPr>
        </p:nvSpPr>
        <p:spPr>
          <a:xfrm>
            <a:off x="725940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B05BCB-6B41-4320-9A79-7A0BECFAFA54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033720" y="2722680"/>
            <a:ext cx="5873760" cy="109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CEOS Support to Further Key GEO Priority Initiatives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Kazuo UMEZAWA, JAXA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771640" y="666720"/>
            <a:ext cx="6129360" cy="18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OSS Water Strategy Repo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he GEO Water Strategy  Repor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2569"/>
                </a:solidFill>
                <a:latin typeface="Arial"/>
              </a:rPr>
              <a:t>The latest version of the report is available at: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 u="sng">
                <a:solidFill>
                  <a:srgbClr val="0c62ff"/>
                </a:solidFill>
                <a:uFillTx/>
                <a:latin typeface="Arial"/>
              </a:rPr>
              <a:t>ftp://ftp.earthobservations.org/TEMP/Water</a:t>
            </a:r>
            <a:r>
              <a:rPr b="1" lang="en-CA" sz="2400" spc="-1" strike="noStrike">
                <a:solidFill>
                  <a:srgbClr val="002569"/>
                </a:solidFill>
                <a:latin typeface="Arial"/>
              </a:rPr>
              <a:t>/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2569"/>
                </a:solidFill>
                <a:latin typeface="Arial"/>
              </a:rPr>
              <a:t>under the name “August 31 version of the GEOSS WSR for posting.”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2569"/>
                </a:solidFill>
                <a:latin typeface="Arial"/>
              </a:rPr>
              <a:t>This version is open for comment until the third week in September.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2760120" y="3173400"/>
            <a:ext cx="315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4800" spc="-1" strike="noStrike">
                <a:solidFill>
                  <a:srgbClr val="002569"/>
                </a:solidFill>
                <a:latin typeface="Brush Script MT"/>
              </a:rPr>
              <a:t>Thank you</a:t>
            </a:r>
            <a:endParaRPr b="0" lang="en-US" sz="4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3"/>
          <p:cNvSpPr/>
          <p:nvPr/>
        </p:nvSpPr>
        <p:spPr>
          <a:xfrm>
            <a:off x="441360" y="1379520"/>
            <a:ext cx="8353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002569"/>
                </a:solidFill>
                <a:uFillTx/>
                <a:latin typeface="Arial"/>
              </a:rPr>
              <a:t>Scope of the report</a:t>
            </a:r>
            <a:r>
              <a:rPr b="1" lang="en-US" sz="2000" spc="-1" strike="noStrike">
                <a:solidFill>
                  <a:srgbClr val="002569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 The revised report will cover the contributions of satellite data, in-situ data, modeling capabilities and the interpretation of data to meet the needs of users.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002569"/>
                </a:solidFill>
                <a:uFillTx/>
                <a:latin typeface="Arial"/>
              </a:rPr>
              <a:t>Who will read the report</a:t>
            </a:r>
            <a:r>
              <a:rPr b="1" lang="en-US" sz="2000" spc="-1" strike="noStrike">
                <a:solidFill>
                  <a:srgbClr val="002569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 The report is being written for GEO members, CEOS and the space agencies, national agencies responsible for in-situ data, producers and users of water information, and the water cycle scientific community, 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002569"/>
                </a:solidFill>
                <a:uFillTx/>
                <a:latin typeface="Arial"/>
              </a:rPr>
              <a:t>Changes since 2004: </a:t>
            </a: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In 2005</a:t>
            </a:r>
            <a:r>
              <a:rPr b="0" lang="en-CA" sz="2000" spc="-1" strike="noStrike">
                <a:solidFill>
                  <a:srgbClr val="002569"/>
                </a:solidFill>
                <a:latin typeface="Arial"/>
              </a:rPr>
              <a:t>, many IGOS-P water cycle theme activities became part of the GEO water task.  The current water task is directed at the following target: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41360" y="5263560"/>
            <a:ext cx="8353440" cy="1434600"/>
          </a:xfrm>
          <a:prstGeom prst="rect">
            <a:avLst/>
          </a:prstGeom>
          <a:solidFill>
            <a:srgbClr val="ffffff">
              <a:alpha val="75000"/>
            </a:srgbClr>
          </a:solidFill>
          <a:ln w="2556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2569"/>
                </a:solidFill>
                <a:latin typeface="Arial"/>
                <a:ea typeface="SimSun"/>
              </a:rPr>
              <a:t>By 2015, p</a:t>
            </a:r>
            <a:r>
              <a:rPr b="0" lang="en-US" sz="2200" spc="-1" strike="noStrike">
                <a:solidFill>
                  <a:srgbClr val="002569"/>
                </a:solidFill>
                <a:latin typeface="Arial"/>
                <a:ea typeface="SimSun"/>
              </a:rPr>
              <a:t>roduce comprehensive sets of data and information products to support decision-making for efficient management of the world's water resources, based on coordinated, sustained observations of the water cycle on multiple scales.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he GEO Water Strategy  Repo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77D2CC-DBBD-4B64-9879-EC7BE28671BA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2360" y="101160"/>
            <a:ext cx="7032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rpose of the Repo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6900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o update and synthesize the available information about the status of water cycle observations and information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systems </a:t>
            </a: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since </a:t>
            </a:r>
            <a:r>
              <a:rPr b="1" lang="en-US" sz="2400" spc="-1" strike="noStrike" u="sng">
                <a:solidFill>
                  <a:srgbClr val="002569"/>
                </a:solidFill>
                <a:uFillTx/>
                <a:latin typeface="Arial"/>
              </a:rPr>
              <a:t>the IGWCO report of 2004</a:t>
            </a: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o describe a strategy for water cycle observations and information that will enable the short- term GEO objectives and the long-term community goals to be achieved. 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o provide CEOS, GEO, WMO and other agencies with guidance about strategies for water cycle observations, information systems, interoperability, capacity building, etc.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o propose major initiatives that will advance this overall concept. 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411EAE-434A-4396-94EF-076EBF2DB93E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52360" y="101160"/>
            <a:ext cx="7032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ble of 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6900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499"/>
              </a:spcBef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2569"/>
                </a:solidFill>
                <a:latin typeface="Arial"/>
              </a:rPr>
              <a:t>Introduction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2569"/>
                </a:solidFill>
                <a:latin typeface="Arial"/>
              </a:rPr>
              <a:t>Background 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2569"/>
                </a:solidFill>
                <a:latin typeface="Arial"/>
              </a:rPr>
              <a:t>User Needs for Water Data and User Engagement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2569"/>
                </a:solidFill>
                <a:latin typeface="Arial"/>
              </a:rPr>
              <a:t>Overview of observational systems 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xisting and Planned Observational Systems for Priority Water Cycle Variables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2569"/>
                </a:solidFill>
                <a:latin typeface="Arial"/>
              </a:rPr>
              <a:t>Existing and Planned Observational Systems for Priority Water Quality Variables 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2569"/>
                </a:solidFill>
                <a:latin typeface="Arial"/>
              </a:rPr>
              <a:t>Quality, Management, and Integration of Water Cycle Data: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2569"/>
                </a:solidFill>
                <a:latin typeface="Arial"/>
              </a:rPr>
              <a:t>Water Cycle Integration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2569"/>
                </a:solidFill>
                <a:latin typeface="Arial"/>
              </a:rPr>
              <a:t>Capacity Building and Regional Perspectives of water cycle information applications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2569"/>
                </a:solidFill>
                <a:latin typeface="Arial"/>
              </a:rPr>
              <a:t>Linkages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2569"/>
                </a:solidFill>
                <a:latin typeface="Arial"/>
              </a:rPr>
              <a:t>Institutional and Funding Issues  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2569"/>
                </a:solidFill>
                <a:latin typeface="Arial"/>
              </a:rPr>
              <a:t>Towards an Implementation Plan 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569"/>
                </a:solidFill>
                <a:uFillTx/>
                <a:latin typeface="Arial"/>
              </a:rPr>
              <a:t>2012: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v. 30 and Dec. 1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 : North American Workshop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cember 3 - 5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 : AGU Science session and town hall meeting dealing with the North American Workshop on the GEO Water Strategy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cember 31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 : Revised draft distributed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569"/>
                </a:solidFill>
                <a:uFillTx/>
                <a:latin typeface="Arial"/>
              </a:rPr>
              <a:t>2013</a:t>
            </a: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ebruary 23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 : Draft report distributed to the writing team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ebruary 26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 : Water Strategy Session at the Asia-Pacific GEO Symposium in Ahmedabad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ACA157-0B8D-48BE-B283-AE04CF6E656A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2052360" y="101160"/>
            <a:ext cx="7032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ccomplishments since the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2012 Plena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569"/>
                </a:solidFill>
                <a:uFillTx/>
                <a:latin typeface="Arial"/>
              </a:rPr>
              <a:t>2013</a:t>
            </a: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rch </a:t>
            </a:r>
            <a:r>
              <a:rPr b="1" lang="en-US" sz="2400" spc="-1" strike="noStrike">
                <a:solidFill>
                  <a:srgbClr val="001335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Presentation and summary document sent to CEOS SIT and GEO Executive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0000"/>
                </a:solidFill>
                <a:latin typeface="Arial"/>
              </a:rPr>
              <a:t>April 11 </a:t>
            </a:r>
            <a:r>
              <a:rPr b="1" lang="en-CA" sz="2400" spc="-1" strike="noStrike">
                <a:solidFill>
                  <a:srgbClr val="001335"/>
                </a:solidFill>
                <a:latin typeface="Arial"/>
              </a:rPr>
              <a:t>: </a:t>
            </a:r>
            <a:r>
              <a:rPr b="1" lang="en-CA" sz="2200" spc="-1" strike="noStrike">
                <a:solidFill>
                  <a:srgbClr val="002569"/>
                </a:solidFill>
                <a:latin typeface="Arial"/>
              </a:rPr>
              <a:t>EGU Town Hall on the GEO Water Strategy  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0000"/>
                </a:solidFill>
                <a:latin typeface="Arial"/>
              </a:rPr>
              <a:t>April 17, 18 </a:t>
            </a:r>
            <a:r>
              <a:rPr b="1" lang="en-CA" sz="2400" spc="-1" strike="noStrike">
                <a:solidFill>
                  <a:srgbClr val="001335"/>
                </a:solidFill>
                <a:latin typeface="Arial"/>
              </a:rPr>
              <a:t>: </a:t>
            </a:r>
            <a:r>
              <a:rPr b="1" lang="en-CA" sz="2200" spc="-1" strike="noStrike">
                <a:solidFill>
                  <a:srgbClr val="002569"/>
                </a:solidFill>
                <a:latin typeface="Arial"/>
              </a:rPr>
              <a:t>European GEO Water Strategy Workshop – Barcelona, Spain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y 15 </a:t>
            </a:r>
            <a:r>
              <a:rPr b="1" lang="en-US" sz="2400" spc="-1" strike="noStrike">
                <a:solidFill>
                  <a:srgbClr val="001335"/>
                </a:solidFill>
                <a:latin typeface="Arial"/>
              </a:rPr>
              <a:t>: 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Revised draft document circulated to CEOS and GEO members for comment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uly 1 </a:t>
            </a:r>
            <a:r>
              <a:rPr b="1" lang="en-US" sz="2400" spc="-1" strike="noStrike">
                <a:solidFill>
                  <a:srgbClr val="001335"/>
                </a:solidFill>
                <a:latin typeface="Arial"/>
              </a:rPr>
              <a:t>: 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Document revised and circulated to the writing team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ugust 31 </a:t>
            </a:r>
            <a:r>
              <a:rPr b="1" lang="en-US" sz="2400" spc="-1" strike="noStrike">
                <a:solidFill>
                  <a:srgbClr val="001335"/>
                </a:solidFill>
                <a:latin typeface="Arial"/>
              </a:rPr>
              <a:t>: 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Final thorough technical edit of the report completed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ptember 1 </a:t>
            </a:r>
            <a:r>
              <a:rPr b="1" lang="en-US" sz="2400" spc="-1" strike="noStrike">
                <a:solidFill>
                  <a:srgbClr val="001335"/>
                </a:solidFill>
                <a:latin typeface="Arial"/>
              </a:rPr>
              <a:t>: 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Documents circulated to writing team and other groups for final review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C88E1F-7EF7-49FF-AB6B-939F3BCBBB68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2052360" y="101160"/>
            <a:ext cx="7032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ccomplishments since the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ast SIT me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569"/>
                </a:solidFill>
                <a:uFillTx/>
                <a:latin typeface="Arial"/>
              </a:rPr>
              <a:t>2013: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ctober 1 </a:t>
            </a:r>
            <a:r>
              <a:rPr b="1" lang="en-US" sz="2400" spc="-1" strike="noStrike">
                <a:solidFill>
                  <a:srgbClr val="001335"/>
                </a:solidFill>
                <a:latin typeface="Arial"/>
              </a:rPr>
              <a:t>: 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Agency selected to print the report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ctober 10 </a:t>
            </a:r>
            <a:r>
              <a:rPr b="1" lang="en-US" sz="2400" spc="-1" strike="noStrike">
                <a:solidFill>
                  <a:srgbClr val="001335"/>
                </a:solidFill>
                <a:latin typeface="Arial"/>
              </a:rPr>
              <a:t>: 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Final comments on the report received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ctober 25 </a:t>
            </a:r>
            <a:r>
              <a:rPr b="1" lang="en-US" sz="2400" spc="-1" strike="noStrike">
                <a:solidFill>
                  <a:srgbClr val="001335"/>
                </a:solidFill>
                <a:latin typeface="Arial"/>
              </a:rPr>
              <a:t>: 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InDesign version of the report submitted to the agency which will print the report (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and Management Overview)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vember 1 </a:t>
            </a:r>
            <a:r>
              <a:rPr b="1" lang="en-US" sz="2400" spc="-1" strike="noStrike">
                <a:solidFill>
                  <a:srgbClr val="001335"/>
                </a:solidFill>
                <a:latin typeface="Arial"/>
              </a:rPr>
              <a:t>: 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Interactions with the agency printing the report would begin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vember 30 </a:t>
            </a:r>
            <a:r>
              <a:rPr b="1" lang="en-US" sz="2400" spc="-1" strike="noStrike">
                <a:solidFill>
                  <a:srgbClr val="001335"/>
                </a:solidFill>
                <a:latin typeface="Arial"/>
              </a:rPr>
              <a:t>: 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Copies of the report and 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the Management 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Overview would be printed and made available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569"/>
                </a:solidFill>
                <a:uFillTx/>
                <a:latin typeface="Arial"/>
              </a:rPr>
              <a:t>2014: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anuary </a:t>
            </a:r>
            <a:r>
              <a:rPr b="1" lang="en-US" sz="2400" spc="-1" strike="noStrike">
                <a:solidFill>
                  <a:srgbClr val="001335"/>
                </a:solidFill>
                <a:latin typeface="Arial"/>
              </a:rPr>
              <a:t>: 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Copies of the report and 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the Management 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Overview would be distributed at the GEO Summit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7D4303-2174-4A15-BDAE-4DE568BA4747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2052360" y="101160"/>
            <a:ext cx="7032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uture remaining activities and milesto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2569"/>
                </a:solidFill>
                <a:latin typeface="Arial"/>
              </a:rPr>
              <a:t>After the GEO Water Strategy report is adopted by the GEO as a basis for its post-2015 water activities, </a:t>
            </a:r>
            <a:r>
              <a:rPr b="1" lang="en-CA" sz="2400" spc="-1" strike="noStrike" u="sng">
                <a:solidFill>
                  <a:srgbClr val="002569"/>
                </a:solidFill>
                <a:uFillTx/>
                <a:latin typeface="Arial"/>
              </a:rPr>
              <a:t>GEO will request CEOS (satellites) and WMO (in-situ) to develop action plans</a:t>
            </a:r>
            <a:r>
              <a:rPr b="1" lang="en-CA" sz="2400" spc="-1" strike="noStrike">
                <a:solidFill>
                  <a:srgbClr val="002569"/>
                </a:solidFill>
                <a:latin typeface="Arial"/>
              </a:rPr>
              <a:t> for how they will contribute to the new water programme.  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2569"/>
                </a:solidFill>
                <a:latin typeface="Arial"/>
              </a:rPr>
              <a:t>A structured report consolidating these and possibly other commitments will serve as the new GEO Water Implementation plan and the basis for the post-2015 GEO water task.  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2569"/>
                </a:solidFill>
                <a:latin typeface="Arial"/>
              </a:rPr>
              <a:t>The completion of CEOS action items will be used an important metric for tracking the progress of post-2015 GEO water activities.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1E1E76-5329-4661-81B3-3AC96E8DE848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2052360" y="101160"/>
            <a:ext cx="7032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EO Expect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68200" y="1457280"/>
            <a:ext cx="844560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e report needs to be reviewed and considered in its final form.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How should CEOS respond to the report? What is the best approach?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A combined CEOS/CGMS response may be most appropriate because water is so much a part of the meteorological operational system.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It is also important to harmonize activities between CEOS and GEO (e.g. CEOS water portal or GEO water portal; TIGER and AfWCCI, etc.).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4E2443-F734-463F-A4F3-327020373B2B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2052360" y="101160"/>
            <a:ext cx="7032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ussion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find a Way Forw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09:23:13Z</dcterms:created>
  <dc:creator>Brian Killough</dc:creator>
  <dc:description/>
  <dc:language>en-US</dc:language>
  <cp:lastModifiedBy>Keith, Kim Elizabeth (LARC-D2)[SCIENCE SYSTEMS AND APPLICATIONS, INC]</cp:lastModifiedBy>
  <cp:lastPrinted>2013-07-23T19:08:48Z</cp:lastPrinted>
  <dcterms:modified xsi:type="dcterms:W3CDTF">2013-09-16T15:11:12Z</dcterms:modified>
  <cp:revision>106</cp:revision>
  <dc:subject/>
  <dc:title>Title</dc:title>
</cp:coreProperties>
</file>