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0" y="0"/>
            <a:ext cx="303840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970440" y="0"/>
            <a:ext cx="303840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68779E-41DF-4FE5-AD7E-5B5A38B6482F}"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lIns="92520" rIns="9252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701280" y="4416120"/>
            <a:ext cx="560700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0" y="8829720"/>
            <a:ext cx="303840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970440" y="8829720"/>
            <a:ext cx="303840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D3F322-883D-42CF-9AD0-052BE2636C3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96B0AA-7BBF-4AD2-8203-36013461C544}"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75" name="PlaceHolder 1"/>
          <p:cNvSpPr>
            <a:spLocks noGrp="1"/>
          </p:cNvSpPr>
          <p:nvPr>
            <p:ph type="sldImg"/>
          </p:nvPr>
        </p:nvSpPr>
        <p:spPr>
          <a:xfrm>
            <a:off x="1181160" y="696960"/>
            <a:ext cx="464976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976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093A2F-CC41-490C-BB20-A5B9B2DC6C0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12"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976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CE634D-7BE1-42D2-9403-54AB04DA81A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16"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976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2A670F-3A2E-47A0-B9AE-910F3A7CCB0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20"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976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59A100-BE93-4349-9D65-6E8D5ED1077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24"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4DDD4-A3E1-4BD7-B639-9FA553DA33A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0"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976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9731BE-55A2-4930-A890-36C8AA9A98B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4"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976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E8AAA5-6D89-48EA-9147-2750B56BBD2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8"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976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C42F18-4358-42D1-AC52-F35423C1716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2"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976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C86329-F25C-44DB-A598-CBF1D6ECF86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6"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976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3F201-E4D6-47CA-BD3B-3FBFDE0B41E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0"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976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0B4638-83CC-486B-8938-367F7FF8333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4"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976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1A607-9164-49A3-8993-F6BF670CA23B}"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8"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7B889A-BA5C-4BA2-A3F3-F36399B041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EE37FE0B-7224-49B6-BFA5-56598CED8D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4619FAF1-AE67-4A2C-B700-35B4DA3366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3D46D50D-0BCF-41D8-B8F6-1AC8E8882D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1482D734-F1D1-42A3-AA42-D03E36B4C2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59565C-EC87-48A0-8E43-AD0DC34902A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399877D1-DC94-4892-ABF2-2FAE52B2B3B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5914F3B3-5905-4BFE-A7FB-4EB62D436E4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03C2B106-15D4-4118-9E33-64D762131BE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A78EEF8E-5FFE-4D12-9064-8BB9A4CC28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B7DC8DF3-2A47-4654-9ECF-C323FA53A22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B090226A-60C6-49BF-9931-627A5241A3A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027643A7-F331-45C7-A2BA-2FE6C9AC8FA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F916EDE5-E33C-4582-96BD-B294913C5A4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5ABBC4BB-7540-4B50-A5B8-CC522681FDC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BA478D9B-AD02-4601-A3F0-85D33EBF13B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882D7716-22CE-411B-9AF1-B18D8AA104D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AEA51FE9-97E7-4FEE-996C-17E161AFF4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8CCEAC8F-5CB2-45E2-A024-D813F66B5D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746C4E50-138B-41FB-9D41-9641A521B2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4633BAEC-E8BD-42E9-A23C-B9979E7EAA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8F008266-1161-42B3-B049-D44C56B03F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E481C4FE-5792-4AB1-AB9C-926EF7446C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C07BB2C7-B80F-459B-A25A-61E78F4490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104C6D-7E29-4CDE-B045-E0604D0CF3A4}"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7910640" y="6494400"/>
            <a:ext cx="117288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5f758d"/>
                </a:solidFill>
                <a:latin typeface="Century Gothic"/>
              </a:rPr>
              <a:t>Slide: </a:t>
            </a:r>
            <a:fld id="{A8A2D408-96D7-4819-BE4F-95705076CC52}" type="slidenum">
              <a:rPr b="0" lang="de-DE" sz="1200" spc="-1" strike="noStrike">
                <a:solidFill>
                  <a:srgbClr val="5f758d"/>
                </a:solidFill>
                <a:latin typeface="Century Gothic"/>
              </a:rPr>
              <a:t>&lt;number&gt;</a:t>
            </a:fld>
            <a:endParaRPr b="0" lang="en-US" sz="12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324360" y="6494400"/>
            <a:ext cx="751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1335"/>
                </a:solidFill>
                <a:latin typeface="Century Gothic"/>
              </a:rPr>
              <a:t>CEOS SIT Technical Workshop |Caltech, Pasadena, California, USA| 11-12 September 2013</a:t>
            </a:r>
            <a:endParaRPr b="0" lang="en-US" sz="14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59400" y="6453360"/>
            <a:ext cx="1639800" cy="318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2569"/>
                </a:solidFill>
                <a:latin typeface="Century Gothic"/>
                <a:ea typeface="Calibri"/>
              </a:defRPr>
            </a:lvl1pPr>
          </a:lstStyle>
          <a:p>
            <a: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B8501B-D642-4945-98BB-4596509DDAFA}" type="slidenum">
              <a:rPr b="0" lang="en-US" sz="1200" spc="-1" strike="noStrike">
                <a:solidFill>
                  <a:srgbClr val="002569"/>
                </a:solidFill>
                <a:latin typeface="Century Gothic"/>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081320" y="2722680"/>
            <a:ext cx="4975200" cy="109368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VC &amp; WG Contributions &amp; Issues</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VC Leads &amp; WG Chairs</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WGClimate Report – Mark Dowell and John Bates</a:t>
            </a:r>
            <a:endParaRPr b="1" lang="en-US" sz="1800" spc="-1" strike="noStrike">
              <a:solidFill>
                <a:srgbClr val="002569"/>
              </a:solidFill>
              <a:latin typeface="Arial"/>
            </a:endParaRPr>
          </a:p>
        </p:txBody>
      </p:sp>
      <p:sp>
        <p:nvSpPr>
          <p:cNvPr id="134" name="PlaceHolder 2"/>
          <p:cNvSpPr>
            <a:spLocks noGrp="1"/>
          </p:cNvSpPr>
          <p:nvPr>
            <p:ph type="title"/>
          </p:nvPr>
        </p:nvSpPr>
        <p:spPr>
          <a:xfrm>
            <a:off x="2658600" y="666720"/>
            <a:ext cx="6242040" cy="1874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ess towards established </a:t>
            </a:r>
            <a:br>
              <a:rPr sz="3200"/>
            </a:br>
            <a:r>
              <a:rPr b="1" lang="en-US" sz="3200" spc="-1" strike="noStrike">
                <a:solidFill>
                  <a:srgbClr val="ffffff"/>
                </a:solidFill>
                <a:latin typeface="Arial"/>
              </a:rPr>
              <a:t>CEOS-GEO Priorities</a:t>
            </a:r>
            <a:endParaRPr b="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D084F9-6C77-4146-9E70-4EF3B6A06F47}"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2"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7/7)</a:t>
            </a:r>
            <a:endParaRPr b="1" lang="en-US" sz="2000" spc="-1" strike="noStrike">
              <a:solidFill>
                <a:srgbClr val="ffffff"/>
              </a:solidFill>
              <a:latin typeface="Arial"/>
            </a:endParaRPr>
          </a:p>
        </p:txBody>
      </p:sp>
      <p:sp>
        <p:nvSpPr>
          <p:cNvPr id="163"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Status Report CEOS-CGMS ECV Inventory – Lessons</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The ECV inventory covers different topical areas that are not co-located in some Agencies – missions, scientific processing, and data center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This makes filling in the questionnaire more difficult than originally envisioned – BUT – emphasizes why it is so needed</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Many Agencies fund individual Principal Investigators to produce ECVs and we need to cast a wider net to capture more of these</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Overall response provides a good start</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952A16-980D-4696-8A24-E8459421ECF1}"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5"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Additional Achievements by the end of 2013 (1/2)</a:t>
            </a:r>
            <a:endParaRPr b="1" lang="en-US" sz="2000" spc="-1" strike="noStrike">
              <a:solidFill>
                <a:srgbClr val="ffffff"/>
              </a:solidFill>
              <a:latin typeface="Arial"/>
            </a:endParaRPr>
          </a:p>
        </p:txBody>
      </p:sp>
      <p:sp>
        <p:nvSpPr>
          <p:cNvPr id="166" name="Rectangle 3"/>
          <p:cNvSpPr/>
          <p:nvPr/>
        </p:nvSpPr>
        <p:spPr>
          <a:xfrm>
            <a:off x="0" y="969840"/>
            <a:ext cx="9242280" cy="131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Coordination with </a:t>
            </a:r>
            <a:r>
              <a:rPr b="1" lang="en-GB" sz="2400" spc="-1" strike="noStrike">
                <a:solidFill>
                  <a:srgbClr val="ff0000"/>
                </a:solidFill>
                <a:latin typeface="Arial"/>
                <a:ea typeface="Arial"/>
              </a:rPr>
              <a:t>CEOS Virtual Constellations &amp; </a:t>
            </a:r>
            <a:r>
              <a:rPr b="1" lang="en-GB" sz="2400" spc="-1" strike="noStrike">
                <a:solidFill>
                  <a:srgbClr val="00b050"/>
                </a:solidFill>
                <a:latin typeface="Arial"/>
                <a:ea typeface="Arial"/>
              </a:rPr>
              <a:t>CGMS International Working Groups &amp; SCOPE-CM </a:t>
            </a:r>
            <a:r>
              <a:rPr b="1" lang="en-GB" sz="2400" spc="-1" strike="noStrike">
                <a:solidFill>
                  <a:srgbClr val="001c4f"/>
                </a:solidFill>
                <a:latin typeface="Arial"/>
                <a:ea typeface="Arial"/>
              </a:rPr>
              <a:t>regarding ECVs</a:t>
            </a:r>
            <a:endParaRPr b="0" lang="en-US" sz="2400" spc="-1" strike="noStrike">
              <a:solidFill>
                <a:srgbClr val="002569"/>
              </a:solidFill>
              <a:latin typeface="Arial"/>
            </a:endParaRPr>
          </a:p>
        </p:txBody>
      </p:sp>
      <p:graphicFrame>
        <p:nvGraphicFramePr>
          <p:cNvPr id="167" name=""/>
          <p:cNvGraphicFramePr/>
          <p:nvPr/>
        </p:nvGraphicFramePr>
        <p:xfrm>
          <a:off x="262080" y="2189160"/>
          <a:ext cx="8250120" cy="4740120"/>
        </p:xfrm>
        <a:graphic>
          <a:graphicData uri="http://schemas.openxmlformats.org/drawingml/2006/table">
            <a:tbl>
              <a:tblPr/>
              <a:tblGrid>
                <a:gridCol w="1344600"/>
                <a:gridCol w="6905520"/>
              </a:tblGrid>
              <a:tr h="993600">
                <a:tc>
                  <a:txBody>
                    <a:bodyPr lIns="0" rIns="0" tIns="0" bIns="0" anchor="t">
                      <a:noAutofit/>
                    </a:bodyPr>
                    <a:p>
                      <a:pPr>
                        <a:lnSpc>
                          <a:spcPts val="1298"/>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569"/>
                          </a:solidFill>
                          <a:latin typeface="Calibri"/>
                          <a:ea typeface="Calibri"/>
                        </a:rPr>
                        <a:t> </a:t>
                      </a:r>
                      <a:endParaRPr b="0" lang="en-US" sz="1300" spc="-1" strike="noStrike">
                        <a:solidFill>
                          <a:srgbClr val="002569"/>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ea typeface="Arial"/>
                        </a:rPr>
                        <a:t>Domain</a:t>
                      </a:r>
                      <a:endParaRPr b="0" lang="en-US" sz="20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1298"/>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569"/>
                          </a:solidFill>
                          <a:latin typeface="Calibri"/>
                          <a:ea typeface="Calibri"/>
                        </a:rPr>
                        <a:t> </a:t>
                      </a:r>
                      <a:endParaRPr b="0" lang="en-US" sz="1300" spc="-1" strike="noStrike">
                        <a:solidFill>
                          <a:srgbClr val="002569"/>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ea typeface="Arial"/>
                        </a:rPr>
                        <a:t>Essential Climate Variables</a:t>
                      </a:r>
                      <a:endParaRPr b="0" lang="en-US" sz="24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94000">
                <a:tc>
                  <a:txBody>
                    <a:bodyPr lIns="0" rIns="0" tIns="0" bIns="0" anchor="t">
                      <a:noAutofit/>
                    </a:bodyPr>
                    <a:p>
                      <a:pPr>
                        <a:lnSpc>
                          <a:spcPts val="1100"/>
                        </a:lnSpc>
                        <a:spcBef>
                          <a:spcPts val="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2569"/>
                          </a:solidFill>
                          <a:latin typeface="Calibri"/>
                          <a:ea typeface="Calibri"/>
                        </a:rPr>
                        <a:t> </a:t>
                      </a:r>
                      <a:endParaRPr b="0" lang="en-US" sz="1100" spc="-1" strike="noStrike">
                        <a:solidFill>
                          <a:srgbClr val="002569"/>
                        </a:solidFill>
                        <a:latin typeface="Arial"/>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569"/>
                          </a:solidFill>
                          <a:latin typeface="Arial"/>
                          <a:ea typeface="Arial"/>
                        </a:rPr>
                        <a:t>Atmospheric </a:t>
                      </a:r>
                      <a:r>
                        <a:rPr b="0" lang="en-US" sz="1600" spc="-1" strike="noStrike">
                          <a:solidFill>
                            <a:srgbClr val="002569"/>
                          </a:solidFill>
                          <a:latin typeface="Arial"/>
                          <a:ea typeface="Arial"/>
                        </a:rPr>
                        <a:t>(over land, sea and ice)</a:t>
                      </a:r>
                      <a:endParaRPr b="0" lang="en-US" sz="16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649"/>
                        </a:lnSpc>
                        <a:spcBef>
                          <a:spcPts val="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2569"/>
                          </a:solidFill>
                          <a:latin typeface="Calibri"/>
                          <a:ea typeface="Calibri"/>
                        </a:rPr>
                        <a:t> </a:t>
                      </a:r>
                      <a:endParaRPr b="0" lang="en-US" sz="600" spc="-1" strike="noStrike">
                        <a:solidFill>
                          <a:srgbClr val="002569"/>
                        </a:solidFill>
                        <a:latin typeface="Arial"/>
                      </a:endParaRPr>
                    </a:p>
                    <a:p>
                      <a:pPr algn="just">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ea typeface="Arial"/>
                        </a:rPr>
                        <a:t>Surface  wind  speed  and  direction</a:t>
                      </a:r>
                      <a:r>
                        <a:rPr b="0" lang="en-US" sz="1600" spc="-1" strike="noStrike">
                          <a:solidFill>
                            <a:srgbClr val="002569"/>
                          </a:solidFill>
                          <a:latin typeface="Arial"/>
                          <a:ea typeface="Arial"/>
                        </a:rPr>
                        <a:t>;  </a:t>
                      </a:r>
                      <a:r>
                        <a:rPr b="0" lang="en-US" sz="1600" spc="-1" strike="noStrike">
                          <a:solidFill>
                            <a:srgbClr val="ff0000"/>
                          </a:solidFill>
                          <a:latin typeface="Arial"/>
                          <a:ea typeface="Arial"/>
                        </a:rPr>
                        <a:t>precipitation</a:t>
                      </a:r>
                      <a:r>
                        <a:rPr b="0" lang="en-US" sz="1600" spc="-1" strike="noStrike">
                          <a:solidFill>
                            <a:srgbClr val="00b050"/>
                          </a:solidFill>
                          <a:latin typeface="Arial"/>
                          <a:ea typeface="Arial"/>
                        </a:rPr>
                        <a:t>;  upper-air  temperature;  upper-air  wind speed and direction; water vapour; cloud properties</a:t>
                      </a:r>
                      <a:r>
                        <a:rPr b="0" lang="en-US" sz="1600" spc="-1" strike="noStrike">
                          <a:solidFill>
                            <a:srgbClr val="002569"/>
                          </a:solidFill>
                          <a:latin typeface="Arial"/>
                          <a:ea typeface="Arial"/>
                        </a:rPr>
                        <a:t>; Earth radiation budget (including solar irradiance</a:t>
                      </a:r>
                      <a:r>
                        <a:rPr b="0" lang="en-US" sz="1600" spc="-1" strike="noStrike">
                          <a:solidFill>
                            <a:srgbClr val="ff0000"/>
                          </a:solidFill>
                          <a:latin typeface="Arial"/>
                          <a:ea typeface="Arial"/>
                        </a:rPr>
                        <a:t>); carbon dioxide; methane and other long-lived greenhouse gases; and ozone </a:t>
                      </a:r>
                      <a:r>
                        <a:rPr b="0" lang="en-US" sz="1600" spc="-1" strike="noStrike">
                          <a:solidFill>
                            <a:srgbClr val="002569"/>
                          </a:solidFill>
                          <a:latin typeface="Arial"/>
                          <a:ea typeface="Arial"/>
                        </a:rPr>
                        <a:t>and </a:t>
                      </a:r>
                      <a:r>
                        <a:rPr b="0" lang="en-US" sz="1600" spc="-1" strike="noStrike">
                          <a:solidFill>
                            <a:srgbClr val="00b050"/>
                          </a:solidFill>
                          <a:latin typeface="Arial"/>
                          <a:ea typeface="Arial"/>
                        </a:rPr>
                        <a:t>aerosol properties</a:t>
                      </a:r>
                      <a:r>
                        <a:rPr b="0" lang="en-US" sz="1600" spc="-1" strike="noStrike">
                          <a:solidFill>
                            <a:srgbClr val="002569"/>
                          </a:solidFill>
                          <a:latin typeface="Arial"/>
                          <a:ea typeface="Arial"/>
                        </a:rPr>
                        <a:t>, </a:t>
                      </a:r>
                      <a:r>
                        <a:rPr b="0" lang="en-US" sz="1600" spc="-1" strike="noStrike">
                          <a:solidFill>
                            <a:srgbClr val="ff0000"/>
                          </a:solidFill>
                          <a:latin typeface="Arial"/>
                          <a:ea typeface="Arial"/>
                        </a:rPr>
                        <a:t>supported by their precursors</a:t>
                      </a:r>
                      <a:r>
                        <a:rPr b="0" lang="en-US" sz="1600" spc="-1" strike="noStrike">
                          <a:solidFill>
                            <a:srgbClr val="002569"/>
                          </a:solidFill>
                          <a:latin typeface="Arial"/>
                          <a:ea typeface="Arial"/>
                        </a:rPr>
                        <a:t>.</a:t>
                      </a:r>
                      <a:endParaRPr b="0" lang="en-US" sz="16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0" rIns="0" tIns="0" bIns="0" anchor="t">
                      <a:noAutofit/>
                    </a:bodyPr>
                    <a:p>
                      <a:pPr marL="63360">
                        <a:lnSpc>
                          <a:spcPct val="115000"/>
                        </a:lnSpc>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569"/>
                          </a:solidFill>
                          <a:latin typeface="Arial"/>
                          <a:ea typeface="Arial"/>
                        </a:rPr>
                        <a:t>Oceanic</a:t>
                      </a:r>
                      <a:endParaRPr b="0" lang="en-US" sz="16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499"/>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2569"/>
                          </a:solidFill>
                          <a:latin typeface="Calibri"/>
                          <a:ea typeface="Calibri"/>
                        </a:rPr>
                        <a:t> </a:t>
                      </a:r>
                      <a:endParaRPr b="0" lang="en-US" sz="500" spc="-1" strike="noStrike">
                        <a:solidFill>
                          <a:srgbClr val="002569"/>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ea typeface="Arial"/>
                        </a:rPr>
                        <a:t>Sea-surface temperature</a:t>
                      </a:r>
                      <a:r>
                        <a:rPr b="0" lang="en-US" sz="1600" spc="-1" strike="noStrike">
                          <a:solidFill>
                            <a:srgbClr val="002569"/>
                          </a:solidFill>
                          <a:latin typeface="Arial"/>
                          <a:ea typeface="Arial"/>
                        </a:rPr>
                        <a:t>; sea-surface salinity; </a:t>
                      </a:r>
                      <a:r>
                        <a:rPr b="0" lang="en-US" sz="1600" spc="-1" strike="noStrike">
                          <a:solidFill>
                            <a:srgbClr val="ff0000"/>
                          </a:solidFill>
                          <a:latin typeface="Arial"/>
                          <a:ea typeface="Arial"/>
                        </a:rPr>
                        <a:t>sea level</a:t>
                      </a:r>
                      <a:r>
                        <a:rPr b="0" lang="en-US" sz="1600" spc="-1" strike="noStrike">
                          <a:solidFill>
                            <a:srgbClr val="002569"/>
                          </a:solidFill>
                          <a:latin typeface="Arial"/>
                          <a:ea typeface="Arial"/>
                        </a:rPr>
                        <a:t>; sea state; sea ice; </a:t>
                      </a:r>
                      <a:r>
                        <a:rPr b="0" lang="en-US" sz="1600" spc="-1" strike="noStrike">
                          <a:solidFill>
                            <a:srgbClr val="ff0000"/>
                          </a:solidFill>
                          <a:latin typeface="Arial"/>
                          <a:ea typeface="Arial"/>
                        </a:rPr>
                        <a:t>ocean colour.</a:t>
                      </a:r>
                      <a:endParaRPr b="0" lang="en-US" sz="16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620720">
                <a:tc>
                  <a:txBody>
                    <a:bodyPr lIns="0" rIns="0" tIns="0" bIns="0" anchor="t">
                      <a:noAutofit/>
                    </a:bodyPr>
                    <a:p>
                      <a:pPr>
                        <a:lnSpc>
                          <a:spcPts val="1298"/>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569"/>
                          </a:solidFill>
                          <a:latin typeface="Calibri"/>
                          <a:ea typeface="Calibri"/>
                        </a:rPr>
                        <a:t> </a:t>
                      </a:r>
                      <a:endParaRPr b="0" lang="en-US" sz="1300" spc="-1" strike="noStrike">
                        <a:solidFill>
                          <a:srgbClr val="002569"/>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Arial"/>
                          <a:ea typeface="Arial"/>
                        </a:rPr>
                        <a:t>Terrestrial</a:t>
                      </a:r>
                      <a:endParaRPr b="0" lang="en-US" sz="16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63360" algn="just">
                        <a:lnSpc>
                          <a:spcPts val="1023"/>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p>
                      <a:pPr marL="63360">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ea typeface="Calibri"/>
                        </a:rPr>
                        <a:t>Lakes; snow cover; glaciers and ice caps;, ice sheets; albedo; land cover (including vegetation type); fraction of Absorbed Photosynthetically Active Radiation (FAPAR); Leaf Area Index (LAI); above-ground biomass; fire disturbance; soil moisture.</a:t>
                      </a:r>
                      <a:endParaRPr b="0" lang="en-US" sz="1600" spc="-1" strike="noStrike">
                        <a:solidFill>
                          <a:srgbClr val="002569"/>
                        </a:solidFill>
                        <a:latin typeface="Arial"/>
                      </a:endParaRPr>
                    </a:p>
                    <a:p>
                      <a:pPr marL="63360" algn="just">
                        <a:lnSpc>
                          <a:spcPts val="1023"/>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4D7910-EFE9-4687-8A92-5E643068EFB2}"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9"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Additional Achievements by the end of 2013 (2/2)</a:t>
            </a:r>
            <a:endParaRPr b="1" lang="en-US" sz="2000" spc="-1" strike="noStrike">
              <a:solidFill>
                <a:srgbClr val="ffffff"/>
              </a:solidFill>
              <a:latin typeface="Arial"/>
            </a:endParaRPr>
          </a:p>
        </p:txBody>
      </p:sp>
      <p:sp>
        <p:nvSpPr>
          <p:cNvPr id="170" name="Rectangle 3"/>
          <p:cNvSpPr/>
          <p:nvPr/>
        </p:nvSpPr>
        <p:spPr>
          <a:xfrm>
            <a:off x="147600" y="960480"/>
            <a:ext cx="8937720" cy="57117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Coordination with Global Framework for Climate Services (GFCS)</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WGClimate has struggled making contact with GFCS as structure did not yet exist</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The recent meeting of the Intergovernmental Board on Climate Services likely provides the coordination mechanism WGClimate has wanted to establish</a:t>
            </a:r>
            <a:endParaRPr b="0" lang="en-US" sz="24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Anton Eliassen, Chair (Director-General Norwegian Meteorological Institute)</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Laxman Singh Rathore, India and Linda Makuleni, South Africa – Co- Vice Chairs</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c4f"/>
                </a:solidFill>
                <a:latin typeface="Arial"/>
                <a:ea typeface="Arial"/>
              </a:rPr>
              <a:t>Contributions and pledges to the GFCS total about 30 million Swiss francs to date, and are growing.</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c4f"/>
                </a:solidFill>
                <a:latin typeface="Arial"/>
                <a:ea typeface="Arial"/>
              </a:rPr>
              <a:t>It agreed on a 28-member Management Committee to provide advice on a number of key tasks until the next meeting of the Intergovernmental Board, which will be hosted by Switzerland in November 2014.</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B0669-F4CE-4EBD-AE99-DDCCEE2B61E8}"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72"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Framing of Topics for CEOS Plenary</a:t>
            </a:r>
            <a:endParaRPr b="1" lang="en-US" sz="2000" spc="-1" strike="noStrike">
              <a:solidFill>
                <a:srgbClr val="ffffff"/>
              </a:solidFill>
              <a:latin typeface="Arial"/>
            </a:endParaRPr>
          </a:p>
        </p:txBody>
      </p:sp>
      <p:sp>
        <p:nvSpPr>
          <p:cNvPr id="173" name="Rectangle 3"/>
          <p:cNvSpPr/>
          <p:nvPr/>
        </p:nvSpPr>
        <p:spPr>
          <a:xfrm>
            <a:off x="147600" y="1046160"/>
            <a:ext cx="8831160" cy="527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Issue – Decision to adopt, unamended, the revised Terms of Reference for a Joint CEOS-CGMS WGClimate</a:t>
            </a: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Options</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Adopt revised Terms of Reference for a Joint CEOS-CGMS WGClimate (minor changes can be accomplished by the joint WGClimate if needed)</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Amend revised Terms of Reference for a Joint CEOS-CGMS WGClimate and return them to CGMS for consideration</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Reject revised Terms of Reference for a Joint CEOS-CGMS WGClimate and retain current ToR</a:t>
            </a: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Revised ToR have been adopted by CGMS Plenary and CEOS SEC – Details in presentation by Paul Counet</a:t>
            </a: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Thanks to SEC members, CGMS members and particularly EUMETSAT for their help on this issue</a:t>
            </a:r>
            <a:endParaRPr b="0" lang="en-US" sz="2400" spc="-1" strike="noStrike">
              <a:solidFill>
                <a:srgbClr val="00256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CB7FFC-55FF-4AA5-B863-9E5E83DB7052}"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6"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Short Summary (1/2)</a:t>
            </a:r>
            <a:endParaRPr b="1" lang="en-US" sz="2000" spc="-1" strike="noStrike">
              <a:solidFill>
                <a:srgbClr val="ffffff"/>
              </a:solidFill>
              <a:latin typeface="Arial"/>
            </a:endParaRPr>
          </a:p>
        </p:txBody>
      </p:sp>
      <p:sp>
        <p:nvSpPr>
          <p:cNvPr id="137"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Short summary:</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Reminder of 3-year outcomes</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Provision of a structured, comprehensive and accessible view as to what Climate Data Records (CDRs) are currently available, </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Creation of the conditions for delivering further CDRs, </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Optimization of the planning of future satellite missions and constellations to expand existing and planned CDRs, both in terms of coverage and record length, and to address possible gaps with respect to GCOS requirement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Accomplishments since the 2012 Plenary</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CEOS response to GCOS IP presented to COP-18/SBSTA-37</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Hosted Climate from Space Week in Geneva in February</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Published ‘Strategy Towards an architecture for Climate Monitoring from Space’ jointly with CGMS</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Completed first ECV inventory questionnaire</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Coordinated revised Terms of Reference between CEOS and CGMS</a:t>
            </a:r>
            <a:endParaRPr b="0" lang="en-US" sz="1800" spc="-1" strike="noStrike">
              <a:solidFill>
                <a:srgbClr val="002569"/>
              </a:solidFill>
              <a:latin typeface="Arial"/>
            </a:endParaRPr>
          </a:p>
          <a:p>
            <a:pPr>
              <a:spcBef>
                <a:spcPts val="601"/>
              </a:spcBef>
              <a:buClr>
                <a:srgbClr val="001c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a:p>
            <a:pPr lvl="1" marL="800280" indent="-343080">
              <a:lnSpc>
                <a:spcPct val="90000"/>
              </a:lnSpc>
              <a:spcBef>
                <a:spcPts val="49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AB7B7-7CAA-4D52-840A-CF88C79F3F8E}"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9"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Short Summary (2/2)</a:t>
            </a:r>
            <a:endParaRPr b="1" lang="en-US" sz="2000" spc="-1" strike="noStrike">
              <a:solidFill>
                <a:srgbClr val="ffffff"/>
              </a:solidFill>
              <a:latin typeface="Arial"/>
            </a:endParaRPr>
          </a:p>
        </p:txBody>
      </p:sp>
      <p:sp>
        <p:nvSpPr>
          <p:cNvPr id="140"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Future remaining activities and milestones</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Coordinate development of tools to make ECV inventory searchable</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Main Issues/concerns</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Adoption by CEOS Plenary of updated Terms of Reference for joint CEOS-CGMS WGClimate</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Participation/leadership update</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John Bates NOAA will assume Chair and Pascal Lecomte ESA will assume Vice Chair in November</a:t>
            </a:r>
            <a:endParaRPr b="0" lang="en-US" sz="1800" spc="-1" strike="noStrike">
              <a:solidFill>
                <a:srgbClr val="002569"/>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a:p>
            <a:pPr marL="173160" indent="-173160">
              <a:spcBef>
                <a:spcPts val="601"/>
              </a:spcBef>
              <a:buClr>
                <a:srgbClr val="001c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a:p>
            <a:pPr lvl="1" marL="800280" indent="-343080">
              <a:lnSpc>
                <a:spcPct val="90000"/>
              </a:lnSpc>
              <a:spcBef>
                <a:spcPts val="49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FF401-CBEB-414B-ABF7-9E845AC5CE1D}"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2"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1/7)</a:t>
            </a:r>
            <a:endParaRPr b="1" lang="en-US" sz="2000" spc="-1" strike="noStrike">
              <a:solidFill>
                <a:srgbClr val="ffffff"/>
              </a:solidFill>
              <a:latin typeface="Arial"/>
            </a:endParaRPr>
          </a:p>
        </p:txBody>
      </p:sp>
      <p:sp>
        <p:nvSpPr>
          <p:cNvPr id="143"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Delivery of CEOS Response to GCOS-Implementation Plan to the COP-19/SBSTA-37 Meeting (Dec 2012)</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c4f"/>
                </a:solidFill>
                <a:latin typeface="Arial"/>
                <a:ea typeface="Arial"/>
              </a:rPr>
              <a:t>SBSTA welcomed the CEOS response:</a:t>
            </a:r>
            <a:endParaRPr b="0" lang="en-US" sz="24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The SBSTA expressed its appreciation to the Committee on Earth Observation Satellites (CEOS) for its updated report on progress made by space agencies involved in global observations in their coordinated response to relevant needs of the GCOS and the Convention(footnote to FCCC/SBSTA/2012/MISC.14). The SBSTA noted the importance of continuing and sustaining satellite observations on a long-term basis and of full and open data sharing, in order to support the work under the Convention.</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The SBSTA invited the CEOS to provide, by SBSTA 41, an updated report on progress made by space agencies involved in global observations in their coordinated response to relevant needs of the GCOS and the Convention.</a:t>
            </a:r>
            <a:endParaRPr b="0" lang="en-US" sz="1800" spc="-1" strike="noStrike">
              <a:solidFill>
                <a:srgbClr val="002569"/>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AD90B-14EF-4F3C-A4C0-438EA90A4252}"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5"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2/7)</a:t>
            </a:r>
            <a:endParaRPr b="1" lang="en-US" sz="2000" spc="-1" strike="noStrike">
              <a:solidFill>
                <a:srgbClr val="ffffff"/>
              </a:solidFill>
              <a:latin typeface="Arial"/>
            </a:endParaRPr>
          </a:p>
        </p:txBody>
      </p:sp>
      <p:sp>
        <p:nvSpPr>
          <p:cNvPr id="146"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Comments on future interactions with SBSTA</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We need to decrease the gap between when the GCOS-IP is issued and when CEOS issues a response</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We hope to do this by making effective use of the ECV inventory</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c4f"/>
                </a:solidFill>
                <a:latin typeface="Arial"/>
                <a:ea typeface="Arial"/>
              </a:rPr>
              <a:t>CEOS reports to SBSTA should not be restricted to only GCOS</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We should report on all activities CEOS performs that contribute to climate including Carbon Task Force, Forest Carbon Tracking/Global Forest Observations Initiative, and, hopefully, CGMS initiatives</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We invite feedback from CEOS members on the best way to accomplish this</a:t>
            </a:r>
            <a:endParaRPr b="0" lang="en-US" sz="18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048B0-D1A1-4947-BE95-D45E071F5968}"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8"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3/7)</a:t>
            </a:r>
            <a:endParaRPr b="1" lang="en-US" sz="2000" spc="-1" strike="noStrike">
              <a:solidFill>
                <a:srgbClr val="ffffff"/>
              </a:solidFill>
              <a:latin typeface="Arial"/>
            </a:endParaRPr>
          </a:p>
        </p:txBody>
      </p:sp>
      <p:sp>
        <p:nvSpPr>
          <p:cNvPr id="149" name="Rectangle 3"/>
          <p:cNvSpPr/>
          <p:nvPr/>
        </p:nvSpPr>
        <p:spPr>
          <a:xfrm>
            <a:off x="147600" y="1060560"/>
            <a:ext cx="8831160" cy="5130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Climate from Space Week</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Included</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3rd meeting of the CEOS-CGMS-WMO ad hoc group on an Architecture for Climate Monitoring from Space-based observations</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3</a:t>
            </a:r>
            <a:r>
              <a:rPr b="0" lang="en-US" sz="1800" spc="-1" strike="noStrike" baseline="30000">
                <a:solidFill>
                  <a:srgbClr val="002569"/>
                </a:solidFill>
                <a:latin typeface="Arial"/>
                <a:ea typeface="ＭＳ Ｐゴシック"/>
              </a:rPr>
              <a:t>rd</a:t>
            </a:r>
            <a:r>
              <a:rPr b="0" lang="en-US" sz="1800" spc="-1" strike="noStrike">
                <a:solidFill>
                  <a:srgbClr val="002569"/>
                </a:solidFill>
                <a:latin typeface="Arial"/>
                <a:ea typeface="ＭＳ Ｐゴシック"/>
              </a:rPr>
              <a:t> meeting of the CEOS Working Group on Climate</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8th meeting of the SCOPE-CM Executive Panel</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And WCRP-DAC, SST, OCR, and ACC Virtual Constellations, and representatives from GCOS, GEO, and the WMO Space Program</a:t>
            </a:r>
            <a:endParaRPr b="0" lang="en-US" sz="18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Outcomes</a:t>
            </a:r>
            <a:endParaRPr b="0" lang="en-US" sz="2400" spc="-1" strike="noStrike">
              <a:solidFill>
                <a:srgbClr val="002569"/>
              </a:solidFill>
              <a:latin typeface="Arial"/>
            </a:endParaRPr>
          </a:p>
          <a:p>
            <a:pPr lvl="1" marL="800280" indent="-343080">
              <a:lnSpc>
                <a:spcPct val="9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ea typeface="ＭＳ Ｐゴシック"/>
              </a:rPr>
              <a:t>Architecture for Climate Monitoring and the ECV Inventory</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Mapping of physical architectures is next topic</a:t>
            </a:r>
            <a:endParaRPr b="0" lang="en-US" sz="1800" spc="-1" strike="noStrike">
              <a:solidFill>
                <a:srgbClr val="002569"/>
              </a:solidFill>
              <a:latin typeface="Arial"/>
            </a:endParaRPr>
          </a:p>
          <a:p>
            <a:pPr lvl="2" marL="1257480" indent="-343080">
              <a:lnSpc>
                <a:spcPct val="90000"/>
              </a:lnSpc>
              <a:spcBef>
                <a:spcPts val="499"/>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c4f"/>
                </a:solidFill>
                <a:latin typeface="Arial"/>
                <a:ea typeface="Arial"/>
              </a:rPr>
              <a:t>QA of ECV inventory and access decided</a:t>
            </a:r>
            <a:endParaRPr b="0" lang="en-US" sz="20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c4f"/>
                </a:solidFill>
                <a:latin typeface="Arial"/>
                <a:ea typeface="Arial"/>
              </a:rPr>
              <a:t>System Metrics of ECV Maturity</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SST VC and ESA CCA evaluated Maturity Matrix and agreed general concept was helpful but that tailoring was required for each application</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WCRP DAC will help establish guidelines for scientific assessments</a:t>
            </a:r>
            <a:endParaRPr b="0" lang="en-US" sz="18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E2CBC1-49DA-4EF4-9756-DB2D99F7BFAA}"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1"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4/7)</a:t>
            </a:r>
            <a:endParaRPr b="1" lang="en-US" sz="2000" spc="-1" strike="noStrike">
              <a:solidFill>
                <a:srgbClr val="ffffff"/>
              </a:solidFill>
              <a:latin typeface="Arial"/>
            </a:endParaRPr>
          </a:p>
        </p:txBody>
      </p:sp>
      <p:sp>
        <p:nvSpPr>
          <p:cNvPr id="152" name="Rectangle 3"/>
          <p:cNvSpPr/>
          <p:nvPr/>
        </p:nvSpPr>
        <p:spPr>
          <a:xfrm>
            <a:off x="147600" y="1417680"/>
            <a:ext cx="8831160" cy="264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Published</a:t>
            </a:r>
            <a:r>
              <a:rPr b="1" lang="en-US" sz="2400" spc="-1" strike="noStrike">
                <a:solidFill>
                  <a:srgbClr val="002569"/>
                </a:solidFill>
                <a:latin typeface="Arial"/>
              </a:rPr>
              <a:t> ‘Strategy Towards an architecture for Climate Monitoring from Space’ jointly with CGMS</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 </a:t>
            </a:r>
            <a:r>
              <a:rPr b="0" lang="en-GB" sz="2400" spc="-1" strike="noStrike">
                <a:solidFill>
                  <a:srgbClr val="001c4f"/>
                </a:solidFill>
                <a:latin typeface="Arial"/>
                <a:ea typeface="Arial"/>
              </a:rPr>
              <a:t>Report can be found on the CEOS WGClimate web site</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 </a:t>
            </a:r>
            <a:r>
              <a:rPr b="0" lang="en-GB" sz="2400" spc="-1" strike="noStrike">
                <a:solidFill>
                  <a:srgbClr val="001c4f"/>
                </a:solidFill>
                <a:latin typeface="Arial"/>
                <a:ea typeface="Arial"/>
              </a:rPr>
              <a:t>Future work will capture Space Agency physical architecture(s) and integrate with ECV inventory</a:t>
            </a:r>
            <a:endParaRPr b="0" lang="en-US" sz="2400" spc="-1" strike="noStrike">
              <a:solidFill>
                <a:srgbClr val="002569"/>
              </a:solidFill>
              <a:latin typeface="Arial"/>
            </a:endParaRPr>
          </a:p>
        </p:txBody>
      </p:sp>
      <p:pic>
        <p:nvPicPr>
          <p:cNvPr id="153" name="Picture 2" descr=""/>
          <p:cNvPicPr/>
          <p:nvPr/>
        </p:nvPicPr>
        <p:blipFill>
          <a:blip r:embed="rId1"/>
          <a:stretch/>
        </p:blipFill>
        <p:spPr>
          <a:xfrm>
            <a:off x="347760" y="3755880"/>
            <a:ext cx="8251560" cy="3005280"/>
          </a:xfrm>
          <a:prstGeom prst="rect">
            <a:avLst/>
          </a:prstGeom>
          <a:ln w="9360">
            <a:solidFill>
              <a:srgbClr val="002569"/>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5DBD1-14AE-46DA-A7B5-6E651118D6C9}"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5"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5/7)</a:t>
            </a:r>
            <a:endParaRPr b="1" lang="en-US" sz="2000" spc="-1" strike="noStrike">
              <a:solidFill>
                <a:srgbClr val="ffffff"/>
              </a:solidFill>
              <a:latin typeface="Arial"/>
            </a:endParaRPr>
          </a:p>
        </p:txBody>
      </p:sp>
      <p:sp>
        <p:nvSpPr>
          <p:cNvPr id="156"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Status Report CEOS-CGMS ECV Inventory – Response</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213 Records entered by 11 different Space Agencie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25 of 29 Satellite-based ECVs submitted – 10 of 11 Atmosphere, 4 of 6 Oceans, and 11 of 12 Terrestrial (missing greenhouse gas precursors, sea surface salinity, sea state, and lake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Working to fill in some ECVs that did not have complete information</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C097AD-C3C9-41AF-BE45-77669955605E}"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8"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6/7)</a:t>
            </a:r>
            <a:endParaRPr b="1" lang="en-US" sz="2000" spc="-1" strike="noStrike">
              <a:solidFill>
                <a:srgbClr val="ffffff"/>
              </a:solidFill>
              <a:latin typeface="Arial"/>
            </a:endParaRPr>
          </a:p>
        </p:txBody>
      </p:sp>
      <p:sp>
        <p:nvSpPr>
          <p:cNvPr id="159" name="Rectangle 3"/>
          <p:cNvSpPr/>
          <p:nvPr/>
        </p:nvSpPr>
        <p:spPr>
          <a:xfrm>
            <a:off x="147600" y="969840"/>
            <a:ext cx="8831160" cy="389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c4f"/>
                </a:solidFill>
                <a:latin typeface="Arial"/>
                <a:ea typeface="Arial"/>
              </a:rPr>
              <a:t>Status Report CEOS-CGMS ECV Inventory – Use</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Describes the current and planned monitoring capability on an ECV basis (allow easier response to e.g. GCOS IP)</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Combined perspective of the logical and physical views should enable the definition of an optimum “macroscale” space system configuration and its component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Used at the ECV/product level to identify gaps and shortfall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Formulation of a coordinated action plan to address such gaps and shortfall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Trigger for the medium‐term activities that need to be undertaken to sustain the long‐term implementation of the architecture</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pic>
        <p:nvPicPr>
          <p:cNvPr id="160" name="Picture 2" descr=""/>
          <p:cNvPicPr/>
          <p:nvPr/>
        </p:nvPicPr>
        <p:blipFill>
          <a:blip r:embed="rId1"/>
          <a:stretch/>
        </p:blipFill>
        <p:spPr>
          <a:xfrm>
            <a:off x="55440" y="4481640"/>
            <a:ext cx="9029880" cy="2398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Keith, Kim Elizabeth (LARC-D2)[SCIENCE SYSTEMS AND APPLICATIONS, INC]</cp:lastModifiedBy>
  <cp:lastPrinted>2013-08-12T14:40:16Z</cp:lastPrinted>
  <dcterms:modified xsi:type="dcterms:W3CDTF">2013-08-27T17:41:40Z</dcterms:modified>
  <cp:revision>88</cp:revision>
  <dc:subject/>
  <dc:title>Title</dc:title>
</cp:coreProperties>
</file>