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E68E8-026A-4471-81A7-87DFFA48A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40BE2-C2CE-460D-AFDC-2E15FA04A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7C387-34B3-44EE-B8CB-6FAAB35FC8BA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C9196-3C2C-4276-96F4-59189C75C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4A43F-9AB6-4711-A477-32A0F47FC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7D229-4F36-458F-BDFB-E325E3F05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9D37F-BE1A-4534-B7FB-F5F8EDF66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81D17-F603-4CDA-BEAF-375CF12FD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FA78B-EEB3-4922-916C-C98B0C02B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9A59D-2351-4B60-A19D-2EC6869B5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A12B-BA86-4DFD-A6FF-CDABFE08D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ED2A-0BCD-48F3-AB73-CD8D838AA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2075-6F7D-4A29-AE98-68EFCD938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2AD4-4DE6-468A-BB8D-699805B7E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60FA-CD55-4E07-90E3-07D560BAF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0230-10B2-4203-88CD-FE5630CC11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9705-5DEB-4A57-9EDD-831F62DC1F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7AB3-022D-4080-BA9E-48EBFB3048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B7F2-B076-4167-8032-9ED3E7CC8C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BF85-30B3-42EF-8F32-58611DA01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5BF7-D9C9-49A0-AF16-6B1EDE4744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25CE-3B53-4667-8161-E73B08E0B2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4CF4-881D-4343-AA78-FB6A79EF0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88EB-54FD-4915-BA75-5BA277049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0FA8-19D5-4F68-9276-17BF501A84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5EB1-BA21-4BD8-B26C-47AD12E59D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0CB2-7A53-43BD-9E74-B500C653F1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D702-1B1B-4D54-B0B9-0FBEBACDD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A37A-930D-4579-B929-B119BB443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0A56-DD00-4158-A108-78414956B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9A7-2511-45E2-B83B-07CB906D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A04D-41C5-46C5-A3C1-07C855889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6FC9-76DB-4E44-A3E4-82BA8211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BF96-3CF0-4AD7-BE93-B5B490569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1829-2522-4387-902A-EE6F5491CD0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5E631CC-CD2E-427B-89A0-8C5201100A10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52CF4-9128-40EB-9A2F-D13916ACA0B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33720" y="2722680"/>
            <a:ext cx="58737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EOS Support to Further Key GEO Priority Initiativ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azuo UMEZAWA, JAX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71640" y="666720"/>
            <a:ext cx="61293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SS Water Strategy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latest version of the report is available at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c62ff"/>
                </a:solidFill>
                <a:uFillTx/>
                <a:latin typeface="Arial"/>
              </a:rPr>
              <a:t>ftp://ftp.earthobservations.org/TEMP/Water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under the name “August 31 version of the GEOSS WSR for posting.”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is version is open for comment until the third week in September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760120" y="317340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4800" spc="-1" strike="noStrike">
                <a:solidFill>
                  <a:srgbClr val="002569"/>
                </a:solidFill>
                <a:latin typeface="Brush Script MT"/>
              </a:rPr>
              <a:t>Thank you</a:t>
            </a:r>
            <a:endParaRPr b="0" lang="en-US" sz="4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441360" y="13795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Scope of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vised report will cover the contributions of satellite data, in-situ data, modeling capabilities and the interpretation of data to meet the needs of us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Who will read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port is being written for GEO members, CEOS and the space agencies, national agencies responsible for in-situ data, producers and users of water information, and the water cycle scientific community,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Changes since 2004: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In 2005</a:t>
            </a:r>
            <a:r>
              <a:rPr b="0" lang="en-CA" sz="2000" spc="-1" strike="noStrike">
                <a:solidFill>
                  <a:srgbClr val="002569"/>
                </a:solidFill>
                <a:latin typeface="Arial"/>
              </a:rPr>
              <a:t>, many IGOS-P water cycle theme activities became part of the GEO water task.  The current water task is directed at the following target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41360" y="5263560"/>
            <a:ext cx="835344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2569"/>
                </a:solidFill>
                <a:latin typeface="Arial"/>
                <a:ea typeface="SimSun"/>
              </a:rPr>
              <a:t>By 2015, p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  <a:ea typeface="SimSun"/>
              </a:rPr>
              <a:t>roduce comprehensive sets of data and information products to support decision-making for efficient management of the world's water resources, based on coordinated, sustained observations of the water cycle on multiple scale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4F716-9DAF-45F7-8DE4-4414200D087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update and synthesize the available information about the status of water cycle observations and informatio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ystem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since </a:t>
            </a: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the IGWCO report of 2004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describe a strategy for water cycle observations and information that will enable the short- term GEO objectives and the long-term community goals to be achieved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vide CEOS, GEO, WMO and other agencies with guidance about strategies for water cycle observations, information systems, interoperability, capacity building, etc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pose major initiatives that will advance this overall concept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F1AA8-09D4-4CC9-BC03-C365EA525E0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Background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User Needs for Water Data and User Engagemen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Overview of observational system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xisting and Planned Observational Systems for Priority Water Cycle Variabl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Existing and Planned Observational Systems for Priority Water Quality Variable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Quality, Management, and Integration of Water Cycle Data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Water Cycle Integra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Capacity Building and Regional Perspectives of water cycle information applic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Linkag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stitutional and Funding Issues  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Towards an Implementation Plan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2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. 30 and Dec. 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North American Workshop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 - 5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AGU Science session and town hall meeting dealing with the North American Workshop on the GEO Water Strategy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Revised draft distribu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3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Draft report distribu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6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Water Strategy Session at the Asia-Pacific GEO Symposium in Ahmedaba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9806C-B06F-4CC0-891D-8593DC8FE2A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12 Plen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ch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resentation and summary document sent to CEOS SIT and GEO Executiv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1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GU Town Hall on the GEO Water Strategy  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7, 18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uropean GEO Water Strategy Workshop – Barcelona, Spa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 1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Revised draft document circulated to CEOS and GEO members for commen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 revised and circula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 3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thorough technical edit of the report comple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t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s circulated to writing team and other groups for final review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AE0C-E406-45CB-B99C-58847FC0F89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st SI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Agency selected to print the repor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comments on the report receiv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2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Design version of the report submitted to the agency which will print the report (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and Management Overview)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teractions with the agency printing the report would beg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3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printed and made availabl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4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nuary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distributed at the GEO Summi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C83BF-E6E8-448B-8438-4D74FB9D368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remaining activities and milest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fter the GEO Water Strategy report is adopted by the GEO as a basis for its post-2015 water activities, </a:t>
            </a:r>
            <a:r>
              <a:rPr b="1" lang="en-CA" sz="2400" spc="-1" strike="noStrike" u="sng">
                <a:solidFill>
                  <a:srgbClr val="002569"/>
                </a:solidFill>
                <a:uFillTx/>
                <a:latin typeface="Arial"/>
              </a:rPr>
              <a:t>GEO will request CEOS (satellites) and WMO (in-situ) to develop action plans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 for how they will contribute to the new water programme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 structured report consolidating these and possibly other commitments will serve as the new GEO Water Implementation plan and the basis for the post-2015 GEO water task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completion of CEOS action items will be used an important metric for tracking the progress of post-2015 GEO water activities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6E76C-936F-46C7-9E2A-42F297D4A58B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O Expec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68200" y="1457280"/>
            <a:ext cx="8445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e report needs to be reviewed and considered in its final for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How should CEOS respond to the report? What is the best approach?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A combined CEOS/CGMS response may be most appropriate because water is so much a part of the meteorological operational syste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t is also important to harmonize activities between CEOS and GEO (e.g. CEOS water portal or GEO water portal; TIGER and AfWCCI, etc.)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3C312-BFAB-421A-8BBC-3F3E43D56270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a Way Forw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12Z</dcterms:modified>
  <cp:revision>106</cp:revision>
  <dc:subject/>
  <dc:title>Title</dc:title>
</cp:coreProperties>
</file>