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3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E170A4-973D-4F10-9EBC-6EF046905F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4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5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7D1FC7-156E-41EA-ADA8-44E1D87E96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E6B548-7871-4C55-A7AA-6F199865936E}" type="slidenum">
              <a:rPr b="0" lang="de-DE" sz="1200" spc="-1" strike="noStrike">
                <a:solidFill>
                  <a:srgbClr val="00256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6B8591-3940-4D8B-971B-36403515C6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00" name="Header Placeholder 4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3AF090-A5BD-4A08-B09C-7075F276C3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8" name="Header Placeholder 4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F79C83-68FE-4231-AE14-CE38DE1710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2" name="Header Placeholder 4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439713-86EF-4350-8A48-95C1099FAD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6" name="Header Placeholder 4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86374B-FE11-4644-AA1B-7B6EC9752F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0" name="Header Placeholder 4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A585F1-2F3A-46ED-9540-13C8589603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4" name="Header Placeholder 4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4A5CF1-64A4-47D9-AB2F-5E67120F63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8" name="Header Placeholder 4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DFEFF7-A370-4685-AB05-D051534559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92" name="Header Placeholder 4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BA984E-6AD4-4FC1-9FC4-486A695929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96" name="Header Placeholder 4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C2197-120D-49DE-B082-76DA20A4F0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79E5E-2FDA-4E78-BA88-62EE1C3CBF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C6C1C-EF0A-4747-BA92-621C1E621A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067D6-747E-44B4-9736-25EEA43259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136240" y="188640"/>
            <a:ext cx="6931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34192-161E-4821-B7FE-E886FB33FE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B400B-8EBB-41AD-B086-D197784FEB8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ECB74-E253-49DE-9A65-2B0468E5073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66484-F0CC-472F-B561-1C749AA74CC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1CB54-0A7A-4F6F-A1D5-2B62D5833A7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840A7-FF38-46A7-A0FE-2315268123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48F5E-CE4D-4082-8A7A-F3E4BBA377C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136240" y="188640"/>
            <a:ext cx="6931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88049-4238-4569-B8E2-391EA39CA46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173F3-8B42-446A-A360-BC07C81FCE4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ECA52-C366-4A4C-BADA-B4793AD2472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D7CF9-8C24-4D53-B25F-60A5B66973A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68CB1-09DD-4AED-BB2A-2BCBFC8FC31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D8548-5A30-4B14-BADA-9094F747DEF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ADED6-D5F4-4BE1-8D6B-751A304DAA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E0BC9-76E2-4172-A481-C040A08ED9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6E739-F3EF-41B1-9E7F-3057636F4C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36240" y="188640"/>
            <a:ext cx="6931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C040B-FFCD-4358-A3FB-C5A4D0B005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F5C6F-28BC-4955-B113-6126C3BADF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28CAE-B826-4123-B9F6-D20F7485CC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87A06-98CE-4D5B-9EF4-8E12D0AF1D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36240" y="188640"/>
            <a:ext cx="693108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TextBox 3"/>
          <p:cNvSpPr/>
          <p:nvPr/>
        </p:nvSpPr>
        <p:spPr>
          <a:xfrm>
            <a:off x="72720" y="558720"/>
            <a:ext cx="176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IT Technical Workshop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adena, California, USA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pt 11-12, 2013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38880" y="6600960"/>
            <a:ext cx="190512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256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B571AD-6644-4862-BC55-F71EF5B19802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34" descr=""/>
          <p:cNvPicPr/>
          <p:nvPr/>
        </p:nvPicPr>
        <p:blipFill>
          <a:blip r:embed="rId3"/>
          <a:srcRect l="0" t="16211" r="0" b="0"/>
          <a:stretch/>
        </p:blipFill>
        <p:spPr>
          <a:xfrm>
            <a:off x="0" y="0"/>
            <a:ext cx="1374840" cy="69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7910640" y="6494400"/>
            <a:ext cx="117288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5f758d"/>
                </a:solidFill>
                <a:latin typeface="Century Gothic"/>
              </a:rPr>
              <a:t>Slide: </a:t>
            </a:r>
            <a:fld id="{B8C44773-95DE-437C-B226-FBA656E7F2C8}" type="slidenum">
              <a:rPr b="0" lang="de-DE" sz="1200" spc="-1" strike="noStrike">
                <a:solidFill>
                  <a:srgbClr val="5f758d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0" y="3244680"/>
            <a:ext cx="9144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4" name="Rectangle 36"/>
          <p:cNvSpPr/>
          <p:nvPr/>
        </p:nvSpPr>
        <p:spPr>
          <a:xfrm>
            <a:off x="324360" y="6494400"/>
            <a:ext cx="7513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001335"/>
                </a:solidFill>
                <a:latin typeface="Century Gothic"/>
              </a:rPr>
              <a:t>CEOS SIT Technical Workshop |Caltech, Pasadena, California, USA| 11-12 September 2013</a:t>
            </a:r>
            <a:endParaRPr b="0" lang="en-US" sz="14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3"/>
          <a:stretch/>
        </p:blipFill>
        <p:spPr>
          <a:xfrm>
            <a:off x="7711920" y="4881600"/>
            <a:ext cx="1432080" cy="933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36240" y="188640"/>
            <a:ext cx="693108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72720" y="558720"/>
            <a:ext cx="176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IT Technical Workshop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adena, California, USA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pt 11-12, 2013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86" name="Picture 34" descr=""/>
          <p:cNvPicPr/>
          <p:nvPr/>
        </p:nvPicPr>
        <p:blipFill>
          <a:blip r:embed="rId3"/>
          <a:srcRect l="0" t="16211" r="0" b="0"/>
          <a:stretch/>
        </p:blipFill>
        <p:spPr>
          <a:xfrm>
            <a:off x="0" y="0"/>
            <a:ext cx="1374840" cy="6904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36240" y="188640"/>
            <a:ext cx="693108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2"/>
          </p:nvPr>
        </p:nvSpPr>
        <p:spPr>
          <a:xfrm>
            <a:off x="725940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089114-81F2-4CF8-8D91-1D61F73FEF6F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081320" y="2722680"/>
            <a:ext cx="4826160" cy="109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2.2 </a:t>
            </a: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entury Gothic"/>
              </a:rPr>
              <a:t>Diane E. Wickland (NASA) and Masakatsu Nakajima (JAXA)</a:t>
            </a: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4089240" y="666720"/>
            <a:ext cx="4811760" cy="187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EOS Carbon Task Force Upda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5"/>
          <p:cNvSpPr/>
          <p:nvPr/>
        </p:nvSpPr>
        <p:spPr>
          <a:xfrm>
            <a:off x="725976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32CE9C-C791-41D0-9E91-90E867DE1661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79440" y="66600"/>
            <a:ext cx="69642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Framing of Topics for CEOS Plen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318960" y="1231920"/>
            <a:ext cx="8632800" cy="51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c4f"/>
                </a:solidFill>
                <a:latin typeface="Arial"/>
                <a:ea typeface="Arial"/>
              </a:rPr>
              <a:t>Topic/Issue to be Presented:  CEOS Response to the GEO Carbon Strategy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1c4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Arial"/>
              </a:rPr>
              <a:t>Note report is nearing end of formal review process (and there is still time to comment!)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1c4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Arial"/>
              </a:rPr>
              <a:t>Note that in 2014 CEOS will need to decide on how it will follow up on and implement the </a:t>
            </a:r>
            <a:r>
              <a:rPr b="1" i="1" lang="en-GB" sz="18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CEOS Strategy for Carbon Observations from Space</a:t>
            </a:r>
            <a:r>
              <a:rPr b="1" lang="en-GB" sz="18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 – after the CTF report is finalized (first opportunity for any CEOS action would be at SIT-29); CTF report will make a recommendation (currently, a Carbon subgroup under the WG Climate), but there are issues/concerns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c4f"/>
                </a:solidFill>
                <a:latin typeface="Arial"/>
                <a:ea typeface="Arial"/>
              </a:rPr>
              <a:t>Purpose:  Information/Discussion/Guidance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c4f"/>
                </a:solidFill>
                <a:latin typeface="Arial"/>
                <a:ea typeface="Arial"/>
              </a:rPr>
              <a:t>Supporting Documentation:  Draft report, </a:t>
            </a:r>
            <a:r>
              <a:rPr b="1" i="1" lang="en-GB" sz="2400" spc="-1" strike="noStrike">
                <a:solidFill>
                  <a:srgbClr val="001c4f"/>
                </a:solidFill>
                <a:latin typeface="Arial"/>
              </a:rPr>
              <a:t>CEOS Strategy for Carbon Observations from Space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725976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A651E4-6FC5-42B2-8526-158C017015EC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052360" y="167760"/>
            <a:ext cx="703260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OS Carbon Task Force Updat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utline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147600" y="1244520"/>
            <a:ext cx="8831160" cy="51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CEOS established the Carbon Task Force (CTF) to coordinate its response to the GEO Carbon Strategy entitled:  </a:t>
            </a:r>
            <a:r>
              <a:rPr b="1" i="1" lang="en-GB" sz="2400" spc="-1" strike="noStrike">
                <a:solidFill>
                  <a:srgbClr val="001c4f"/>
                </a:solidFill>
                <a:latin typeface="Arial"/>
              </a:rPr>
              <a:t>CEOS Strategy for Carbon Observations from Space.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c4f"/>
                </a:solidFill>
                <a:latin typeface="Arial"/>
              </a:rPr>
              <a:t>Outline: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CTF Activities and Milestones achieved since 2012 Plenary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Report from CTF Side Meeting at SIT Technical Workshop, September 10, 2013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Plans for completion of report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Topics for CEOS Plenary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344520" indent="-34452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725976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60B9A0-9978-4FEB-B729-B7B9F7AC205B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052360" y="101160"/>
            <a:ext cx="703260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OS Carbon Task Force Updat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lestones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8400" y="1071720"/>
            <a:ext cx="8996400" cy="50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c4f"/>
                </a:solidFill>
                <a:latin typeface="Arial"/>
                <a:ea typeface="Arial"/>
              </a:rPr>
              <a:t>Milestones Since 2012 CEOS Plenary: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95240" indent="-339480">
              <a:lnSpc>
                <a:spcPct val="100000"/>
              </a:lnSpc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The </a:t>
            </a:r>
            <a:r>
              <a:rPr b="1" i="1" lang="en-AU" sz="18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Land </a:t>
            </a:r>
            <a:r>
              <a:rPr b="1" lang="en-AU" sz="18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domain chapter was substantially reorganized and a new Co-Lead and several co-authors recruited in November/December 2012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795240" indent="-339480">
              <a:lnSpc>
                <a:spcPct val="100000"/>
              </a:lnSpc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The CTF Executive writing team met on December 7, 2012 (side meeting at American Geophysical Union Fall Meeting) 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795240" indent="-339480">
              <a:lnSpc>
                <a:spcPct val="100000"/>
              </a:lnSpc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8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Atmosphere</a:t>
            </a:r>
            <a:r>
              <a:rPr b="1" lang="en-AU" sz="18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 domain chapter completed in February 2013; and updated in June and August 2013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795240" indent="-339480">
              <a:lnSpc>
                <a:spcPct val="100000"/>
              </a:lnSpc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8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Ocean and Inland Waters </a:t>
            </a:r>
            <a:r>
              <a:rPr b="1" lang="en-AU" sz="18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domain chapter completed in February 2013; and updated in April 2013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795240" indent="-339480">
              <a:lnSpc>
                <a:spcPct val="100000"/>
              </a:lnSpc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8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Integration</a:t>
            </a:r>
            <a:r>
              <a:rPr b="1" lang="en-AU" sz="18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 chapter draft was circulated within the CTF Executive writing team in February 2013 and completed in May 2013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795240" indent="-339480">
              <a:lnSpc>
                <a:spcPct val="100000"/>
              </a:lnSpc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8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Land</a:t>
            </a:r>
            <a:r>
              <a:rPr b="1" lang="en-AU" sz="18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 domain chapter draft was circulated within the CTF Executive writing team in March 2013, completed in May 2013, and updated in August 2013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2" marL="795240" indent="-339480">
              <a:lnSpc>
                <a:spcPct val="100000"/>
              </a:lnSpc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CTF side meeting was held on March 11, 2013, at SIT-28; Land domain chapter was reviewed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2" marL="795240" indent="-339480">
              <a:lnSpc>
                <a:spcPct val="100000"/>
              </a:lnSpc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Full report completed and readied for review September 5, 2013 (advance copy distributed to CEOS SIT Technical Workshop participants and full CTF membership)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725976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621E4C-6533-4684-99A4-7A1D92D66F3E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179440" y="66600"/>
            <a:ext cx="69642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OS Carbon Task Force Updat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ort on Side Meeting at SIT Technical Workshop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318960" y="1417680"/>
            <a:ext cx="8632800" cy="51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c4f"/>
                </a:solidFill>
                <a:latin typeface="Arial"/>
                <a:ea typeface="Arial"/>
              </a:rPr>
              <a:t>CTF </a:t>
            </a:r>
            <a:r>
              <a:rPr b="1" lang="en-US" sz="2400" spc="-1" strike="noStrike">
                <a:solidFill>
                  <a:srgbClr val="001c4f"/>
                </a:solidFill>
                <a:latin typeface="Century Gothic"/>
                <a:ea typeface="ＭＳ Ｐゴシック"/>
              </a:rPr>
              <a:t>side meeting was held on September 10, 2013, at SIT Technical Workshop in Pasadena, CA.  Agenda focused on: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Summary and discussion of major CEOS actions / recommendations included in the report, seeking CEOS SIT participant inputs regarding: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001c4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Reasonableness of actions / recommendations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001c4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Owners / responsible parties for actions/ recommendations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001c4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Any “missing” actions / recommendations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001c4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Issues or concerns about actions / recommendations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Discussion on implementation and oversight mechanisms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Plans for continued review and completion of the report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5"/>
          <p:cNvSpPr/>
          <p:nvPr/>
        </p:nvSpPr>
        <p:spPr>
          <a:xfrm>
            <a:off x="725976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A2B340-86DA-4EA1-9FF2-BCAAC2CBCB7A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179440" y="66600"/>
            <a:ext cx="69642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OS Carbon Task Force Updat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ort on Side Meeting at SIT Technical Workshop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318960" y="1417680"/>
            <a:ext cx="8632800" cy="51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c4f"/>
                </a:solidFill>
                <a:latin typeface="Arial"/>
                <a:ea typeface="Arial"/>
              </a:rPr>
              <a:t>Top-Level Comments: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Arial"/>
              </a:rPr>
              <a:t>First impressions:  report is quite long (~121 pages of text) and has many (50) actions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1c4f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Arial"/>
              </a:rPr>
              <a:t>It was agreed that neither of these was a problem if the information content is substantive and has value and the actions are warranted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1c4f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Arial"/>
              </a:rPr>
              <a:t>Few of the side meeting participants have been able to read the full report yet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c4f"/>
                </a:solidFill>
                <a:latin typeface="Arial"/>
                <a:ea typeface="Arial"/>
              </a:rPr>
              <a:t>What is missing: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Arial"/>
              </a:rPr>
              <a:t>Adequate consideration of the role of </a:t>
            </a:r>
            <a:r>
              <a:rPr b="1" i="1" lang="en-US" sz="1800" spc="-1" strike="noStrike">
                <a:solidFill>
                  <a:srgbClr val="001c4f"/>
                </a:solidFill>
                <a:latin typeface="Arial"/>
                <a:ea typeface="Arial"/>
              </a:rPr>
              <a:t>in situ </a:t>
            </a: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Arial"/>
              </a:rPr>
              <a:t>observations and their integration with remote sensing observations (primarily in the </a:t>
            </a:r>
            <a:r>
              <a:rPr b="1" i="1" lang="en-US" sz="1800" spc="-1" strike="noStrike">
                <a:solidFill>
                  <a:srgbClr val="001c4f"/>
                </a:solidFill>
                <a:latin typeface="Arial"/>
                <a:ea typeface="Arial"/>
              </a:rPr>
              <a:t>Atmosphere</a:t>
            </a: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Arial"/>
              </a:rPr>
              <a:t> chapter)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Arial"/>
              </a:rPr>
              <a:t>Clarity on the spatial extent of measurements called for (also time and space sampling) – especially if these requirements differ from those for the GCOS ECVs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5"/>
          <p:cNvSpPr/>
          <p:nvPr/>
        </p:nvSpPr>
        <p:spPr>
          <a:xfrm>
            <a:off x="725976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9074BA-6AFB-489F-B0D2-940E7B117D04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179440" y="66600"/>
            <a:ext cx="69642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OS Carbon Task Force Updat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ort on Side Meeting at SIT Technical Workshop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318960" y="1417680"/>
            <a:ext cx="8632800" cy="51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c4f"/>
                </a:solidFill>
                <a:latin typeface="Arial"/>
                <a:ea typeface="Arial"/>
              </a:rPr>
              <a:t>Needs Improvement: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Arial"/>
              </a:rPr>
              <a:t>Wording of actions needs greater precision and many need identification of the responsible party(ies); some may need to be broken up, others could be consolidated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Arial"/>
              </a:rPr>
              <a:t>It would be helpful to cross-cut the actions in several ways, including by duration (near-, mid-, and longer-term); by responsible party(ies); by type of activity (i.e., missions, data products, supporting institutions/infrastructure, etc.) 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c4f"/>
                </a:solidFill>
                <a:latin typeface="Arial"/>
                <a:ea typeface="Arial"/>
              </a:rPr>
              <a:t>Helpful Suggestions (many received, a few examples below):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Arial"/>
              </a:rPr>
              <a:t>Move long tables to the </a:t>
            </a:r>
            <a:r>
              <a:rPr b="1" i="1" lang="en-US" sz="1800" spc="-1" strike="noStrike">
                <a:solidFill>
                  <a:srgbClr val="001c4f"/>
                </a:solidFill>
                <a:latin typeface="Arial"/>
                <a:ea typeface="Arial"/>
              </a:rPr>
              <a:t>Appendices</a:t>
            </a: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Arial"/>
              </a:rPr>
              <a:t> to improve readability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Arial"/>
              </a:rPr>
              <a:t>Add an action to encourage land-ocean-atmosphere communities to  communicate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Arial"/>
              </a:rPr>
              <a:t>Explain differing maturity of observations across land, ocean and atmosphere in the </a:t>
            </a:r>
            <a:r>
              <a:rPr b="1" i="1" lang="en-US" sz="1800" spc="-1" strike="noStrike">
                <a:solidFill>
                  <a:srgbClr val="001c4f"/>
                </a:solidFill>
                <a:latin typeface="Arial"/>
                <a:ea typeface="Arial"/>
              </a:rPr>
              <a:t>Introduction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Arial"/>
              </a:rPr>
              <a:t>Replace opening paragraphs of the Introduction with those from the </a:t>
            </a:r>
            <a:r>
              <a:rPr b="1" i="1" lang="en-US" sz="1800" spc="-1" strike="noStrike">
                <a:solidFill>
                  <a:srgbClr val="001c4f"/>
                </a:solidFill>
                <a:latin typeface="Arial"/>
                <a:ea typeface="Arial"/>
              </a:rPr>
              <a:t>Land</a:t>
            </a: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Arial"/>
              </a:rPr>
              <a:t> chapter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725976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B72937-8E99-4E98-A2BF-5636A6AB494C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79440" y="66600"/>
            <a:ext cx="69642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OS Carbon Task Force Updat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ort on Side Meeting at SIT Technical Workshop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318960" y="1417680"/>
            <a:ext cx="8632800" cy="51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c4f"/>
                </a:solidFill>
                <a:latin typeface="Arial"/>
                <a:ea typeface="Arial"/>
              </a:rPr>
              <a:t>CEOS Implementation and Reporting:  </a:t>
            </a: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Arial"/>
              </a:rPr>
              <a:t>[</a:t>
            </a:r>
            <a:r>
              <a:rPr b="1" lang="en-US" sz="1800" spc="-1" strike="noStrike">
                <a:solidFill>
                  <a:srgbClr val="001c4f"/>
                </a:solidFill>
                <a:latin typeface="Arial"/>
              </a:rPr>
              <a:t>Options considered by the CTF: continue the CTF;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transition to a carbon subgroup under the WG Climate</a:t>
            </a:r>
            <a:r>
              <a:rPr b="1" lang="en-US" sz="1800" spc="-1" strike="noStrike">
                <a:solidFill>
                  <a:srgbClr val="001c4f"/>
                </a:solidFill>
                <a:latin typeface="Arial"/>
              </a:rPr>
              <a:t>; absorb into several VCs; and/or, create a new entity.]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Hosting the future follow-up on the CEOS Carbon Strategy within the WG Climate was discussed. 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	</a:t>
            </a:r>
            <a:r>
              <a:rPr b="1" lang="en-US" sz="1800" spc="-1" strike="noStrike">
                <a:solidFill>
                  <a:srgbClr val="001c4f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Preliminary dialogue (prior to the side meeting) suggested that the timing might be problematic - it may be necessary to wait until the creation of the joint CGMS-CEOS climate working group is finalized.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	</a:t>
            </a:r>
            <a:r>
              <a:rPr b="1" lang="en-US" sz="1800" spc="-1" strike="noStrike">
                <a:solidFill>
                  <a:srgbClr val="001c4f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Discussions at side meeting were more optimistic, but further dialogue with the WG Climate is needed along with further consideration of the pros and cons of subgroups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CEOS Plenary will ultimately need to come to a decision on how to manage the follow-on from the CTF work, as well as to implement the CEOS Carbon Strategy and report on progress.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There should also be a dialogue with GEO on the Carbon CoP - which can be discussed at the GEO Carbon Conference in October. 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A carbon supplement to the CEOS Response to the GCOS IP might be a useful construct to consider for reporting. (and WG Climate oversight of the follow-up would be compatible with this).  The next reporting year is 2014.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5"/>
          <p:cNvSpPr/>
          <p:nvPr/>
        </p:nvSpPr>
        <p:spPr>
          <a:xfrm>
            <a:off x="725976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649FA5-1978-4BCD-97A2-39DB745994BE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052360" y="101160"/>
            <a:ext cx="703260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OS Carbon Task Force Updat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maining Activities and Achievements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147600" y="1271520"/>
            <a:ext cx="8831160" cy="51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c4f"/>
                </a:solidFill>
                <a:latin typeface="Arial"/>
                <a:ea typeface="Arial"/>
              </a:rPr>
              <a:t>Future remaining activities and milestones: 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CTF report will be revised based on feedback received at the September 10 side meeting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CTF report will be made available for review in mid-September (to CEOS members, GEO Carbon Community of Practice, others who may be interested)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CTF will present the report at the “GEO and Carbon Cycle” meetings October 1-4, 2013 in Geneva and seek feedback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1c4f"/>
                </a:solidFill>
                <a:latin typeface="Arial"/>
                <a:ea typeface="Arial"/>
              </a:rPr>
              <a:t>Review period will close after 8 weeks (~mid-November 2013) and report will be revised based on comments/feedback and made available by the end of 2013 for CEOS endorsement.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c4f"/>
                </a:solidFill>
                <a:latin typeface="Arial"/>
                <a:ea typeface="Arial"/>
              </a:rPr>
              <a:t>Main 2013 achievements/outcomes: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1c4f"/>
                </a:solidFill>
                <a:latin typeface="Arial"/>
                <a:ea typeface="Arial"/>
              </a:rPr>
              <a:t>Report will be delivered by end of 2013.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5"/>
          <p:cNvSpPr/>
          <p:nvPr/>
        </p:nvSpPr>
        <p:spPr>
          <a:xfrm>
            <a:off x="725976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B55E3C-A852-4608-A3BE-73909FC1591A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79440" y="66600"/>
            <a:ext cx="69642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OS Carbon Task Force Updat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itional Information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318960" y="1031760"/>
            <a:ext cx="8632800" cy="51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c4f"/>
                </a:solidFill>
                <a:latin typeface="Arial"/>
                <a:ea typeface="Arial"/>
              </a:rPr>
              <a:t>Additional expected achievements by the end of 2013: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CTF will present the report at the “GEO and Carbon Cycle” meetings October 1-4, 2013 in Geneva and seek feedback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1c4f"/>
                </a:solidFill>
                <a:latin typeface="Arial"/>
                <a:ea typeface="Arial"/>
              </a:rPr>
              <a:t>Review period will close in mid-November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1c4f"/>
                </a:solidFill>
                <a:latin typeface="Arial"/>
                <a:ea typeface="Arial"/>
              </a:rPr>
              <a:t>Report will be made available in final form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c4f"/>
                </a:solidFill>
                <a:latin typeface="Arial"/>
                <a:ea typeface="Arial"/>
              </a:rPr>
              <a:t>Contribution to 2013 Events (</a:t>
            </a:r>
            <a:r>
              <a:rPr b="1" i="1" lang="en-GB" sz="2400" spc="-1" strike="noStrike">
                <a:solidFill>
                  <a:srgbClr val="001c4f"/>
                </a:solidFill>
                <a:latin typeface="Arial"/>
                <a:ea typeface="Arial"/>
              </a:rPr>
              <a:t>e.g., </a:t>
            </a:r>
            <a:r>
              <a:rPr b="1" lang="en-GB" sz="2400" spc="-1" strike="noStrike">
                <a:solidFill>
                  <a:srgbClr val="001c4f"/>
                </a:solidFill>
                <a:latin typeface="Arial"/>
                <a:ea typeface="Arial"/>
              </a:rPr>
              <a:t>GEO Ministerial Summit, COP-19/SBSTA-38):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JAXA (and NIES) intend to have a side event at the GEO Ministerial Summit in collaboration with the NASA OCO-2 team about carbon observation from space and may include a presentation on the </a:t>
            </a:r>
            <a:r>
              <a:rPr b="1" i="1" lang="en-US" sz="1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CEOS Strategy for Carbon Observations from Space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550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c4f"/>
                </a:solidFill>
                <a:latin typeface="Arial"/>
                <a:ea typeface="Arial"/>
              </a:rPr>
              <a:t>Information on any decision(s) that need to be made at CEOS Plenary: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1c4f"/>
                </a:solidFill>
                <a:latin typeface="Arial"/>
                <a:ea typeface="Arial"/>
              </a:rPr>
              <a:t>No decision needed.  Information on status and issues will be presented.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6T09:23:13Z</dcterms:created>
  <dc:creator>Brian Killough</dc:creator>
  <dc:description/>
  <dc:language>en-US</dc:language>
  <cp:lastModifiedBy>Keith, Kim Elizabeth (LARC-D2)[SCIENCE SYSTEMS AND APPLICATIONS, INC]</cp:lastModifiedBy>
  <cp:lastPrinted>2013-07-23T19:08:48Z</cp:lastPrinted>
  <dcterms:modified xsi:type="dcterms:W3CDTF">2013-09-16T15:11:28Z</dcterms:modified>
  <cp:revision>86</cp:revision>
  <dc:subject/>
  <dc:title>Title</dc:title>
</cp:coreProperties>
</file>