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2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07E0B-C31F-4D90-8090-20B9FAA76769}" type="slidenum">
              <a:rPr b="0" lang="en-I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23F1A-03A3-4294-94A2-A8DB6B04547A}" type="slidenum">
              <a:rPr b="0" lang="en-I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4C920C6E-B38C-4AB7-A477-05B10AEBD555}" type="slidenum">
              <a:rPr b="0" lang="en-IE" sz="14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IE" sz="2000" spc="-1" strike="noStrike">
              <a:solidFill>
                <a:srgbClr val="000000"/>
              </a:solidFill>
              <a:latin typeface="Arial"/>
              <a:ea typeface="WenQuanYi Micro 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064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884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70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968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70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968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2A17A-A8AF-4371-A888-53229C8C61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A4677-132C-495E-B879-8F2D544531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3270E-AE35-4065-BB0C-76B81DB7F5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D05BF-3576-4D78-8734-FE137182C3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E6256-1BAB-4931-9BBA-075C2DB562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DA095-06D2-4C3D-8B42-F1743EFB4F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FEEEE-F393-4C20-B8BA-9234E5A577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884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DFBA-6509-41D5-936D-E0768D72A1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E0DA7-D103-409F-A1C0-CDB3F0B528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064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BA9A5-AF63-47FB-913B-572AD81DF0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884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0F89D-014D-4E8B-AB90-39E3C5A152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70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968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70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968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EB397-37E8-40F8-B70B-1551EAEB65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884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 hidden="1"/>
          <p:cNvSpPr/>
          <p:nvPr/>
        </p:nvSpPr>
        <p:spPr>
          <a:xfrm>
            <a:off x="0" y="1347840"/>
            <a:ext cx="9144000" cy="551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 hidden="1"/>
          <p:cNvSpPr/>
          <p:nvPr/>
        </p:nvSpPr>
        <p:spPr>
          <a:xfrm>
            <a:off x="-35280" y="482760"/>
            <a:ext cx="1663920" cy="54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1000" spc="-1" strike="noStrike">
                <a:solidFill>
                  <a:srgbClr val="ffffff"/>
                </a:solidFill>
                <a:latin typeface="Arial Unicode MS"/>
              </a:rPr>
              <a:t>SIT-28 Meet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1000" spc="-1" strike="noStrike">
                <a:solidFill>
                  <a:srgbClr val="ffffff"/>
                </a:solidFill>
                <a:latin typeface="Arial Unicode MS"/>
              </a:rPr>
              <a:t>Hampton, Virginia, USA</a:t>
            </a:r>
            <a:br>
              <a:rPr sz="1000"/>
            </a:br>
            <a:r>
              <a:rPr b="1" lang="en-IE" sz="1000" spc="-1" strike="noStrike">
                <a:solidFill>
                  <a:srgbClr val="ffffff"/>
                </a:solidFill>
                <a:latin typeface="Arial Unicode MS"/>
              </a:rPr>
              <a:t>11-15 March 201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74520" y="120600"/>
            <a:ext cx="914400" cy="362160"/>
          </a:xfrm>
          <a:prstGeom prst="rect">
            <a:avLst/>
          </a:prstGeom>
          <a:ln w="0">
            <a:noFill/>
          </a:ln>
        </p:spPr>
      </p:pic>
      <p:sp>
        <p:nvSpPr>
          <p:cNvPr id="3" name="AutoShape 4"/>
          <p:cNvSpPr/>
          <p:nvPr/>
        </p:nvSpPr>
        <p:spPr>
          <a:xfrm>
            <a:off x="0" y="3244680"/>
            <a:ext cx="914400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88880" y="666360"/>
            <a:ext cx="4807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"/>
          <p:cNvSpPr/>
          <p:nvPr/>
        </p:nvSpPr>
        <p:spPr>
          <a:xfrm>
            <a:off x="0" y="1347840"/>
            <a:ext cx="9144000" cy="551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1"/>
          </p:nvPr>
        </p:nvSpPr>
        <p:spPr>
          <a:xfrm>
            <a:off x="7238520" y="6546960"/>
            <a:ext cx="19018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IE" sz="1800" spc="-1" strike="noStrike">
                <a:solidFill>
                  <a:srgbClr val="002569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43126A0-6EFF-405A-8B24-CAB2E4EC55CF}" type="slidenum">
              <a:rPr b="0" lang="en-IE" sz="1800" spc="-1" strike="noStrike">
                <a:solidFill>
                  <a:srgbClr val="002569"/>
                </a:solidFill>
                <a:latin typeface="Times New Roman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72720" y="558720"/>
            <a:ext cx="17611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IT Technical Worksho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pt 11-12, 201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28720" y="-360"/>
            <a:ext cx="5491080" cy="16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NES SIT chair planning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814560" y="2201760"/>
            <a:ext cx="4825800" cy="15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Century Gothic"/>
              </a:rPr>
              <a:t>Pascale Ultré-Guérard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Century Gothic"/>
              </a:rPr>
              <a:t>CNES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4" name="Rectangle 36"/>
          <p:cNvSpPr/>
          <p:nvPr/>
        </p:nvSpPr>
        <p:spPr>
          <a:xfrm>
            <a:off x="324360" y="6494400"/>
            <a:ext cx="7513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entury Gothic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ontex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4000" y="1494000"/>
            <a:ext cx="78483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1000"/>
          </a:bodyPr>
          <a:p>
            <a:pPr marL="312120" indent="-3121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… 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looking forward to nov 2013 …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CEOS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CSSII process almost completed – recommendations and documents to be stabilised and agreed at plenary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New procedures and structures to « test drive » …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 …  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all the while, CEOS will still have to be delivering on its core business 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GEO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2 years and counting to the « implementation » of the System of Systems ...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... demonstrating concrete progress will be the priority 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7238880" y="6546960"/>
            <a:ext cx="1901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ABD682-1E5E-46C4-BE43-40A1A36202DB}" type="slidenum">
              <a:rPr b="0" lang="fr-FR" sz="1800" spc="-1" strike="noStrike">
                <a:solidFill>
                  <a:srgbClr val="002569"/>
                </a:solidFill>
                <a:latin typeface="Times New Roman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à coins arrondis 5"/>
          <p:cNvSpPr/>
          <p:nvPr/>
        </p:nvSpPr>
        <p:spPr>
          <a:xfrm rot="18997200">
            <a:off x="3568320" y="2847960"/>
            <a:ext cx="1649520" cy="458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dfff8"/>
              </a:gs>
              <a:gs pos="100000">
                <a:srgbClr val="c3ffe8"/>
              </a:gs>
            </a:gsLst>
            <a:lin ang="8004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à coins arrondis 6"/>
          <p:cNvSpPr/>
          <p:nvPr/>
        </p:nvSpPr>
        <p:spPr>
          <a:xfrm rot="18997200">
            <a:off x="3596760" y="5564160"/>
            <a:ext cx="16480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dfff8"/>
              </a:gs>
              <a:gs pos="100000">
                <a:srgbClr val="c3ffe8"/>
              </a:gs>
            </a:gsLst>
            <a:lin ang="8004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DELI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4000" y="1500120"/>
            <a:ext cx="80420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7000"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CNES will endeavour to balance these two objectives: managing </a:t>
            </a:r>
            <a:r>
              <a:rPr b="1" lang="en-IE" sz="2000" spc="-1" strike="noStrike">
                <a:solidFill>
                  <a:srgbClr val="ff0000"/>
                </a:solidFill>
                <a:latin typeface="Arial"/>
              </a:rPr>
              <a:t>change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 while continuing to </a:t>
            </a:r>
            <a:r>
              <a:rPr b="1" lang="en-IE" sz="2000" spc="-1" strike="noStrike">
                <a:solidFill>
                  <a:srgbClr val="ff0000"/>
                </a:solidFill>
                <a:latin typeface="Arial"/>
              </a:rPr>
              <a:t>deliver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 on CEOS “core business”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Two main priorities :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Implementation of CSSII recommendations 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2" marL="7297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Manage the evolution of CEOS as described in the recoms </a:t>
            </a: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passed at Montréal plenary 2013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lvl="2" marL="7297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Implement the processes agreed on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lvl="2" marL="7297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Tidy up any “loose ends” …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    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Support GEO in showing concrete progress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2" marL="7297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Continuity in the development of programmes (GFOI, GEOGLAM, Disasters)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lvl="2" marL="7297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Improve access to space based EO data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lvl="3" marL="117324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1" lang="en-US" sz="1400" spc="-1" strike="noStrike">
              <a:solidFill>
                <a:srgbClr val="002569"/>
              </a:solidFill>
              <a:latin typeface="Arial"/>
            </a:endParaRPr>
          </a:p>
          <a:p>
            <a:pPr lvl="1" marL="3416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7238880" y="6546960"/>
            <a:ext cx="1901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39415F-1AEE-46F9-8A5D-A642DFA11B9D}" type="slidenum">
              <a:rPr b="0" lang="fr-FR" sz="1800" spc="-1" strike="noStrike">
                <a:solidFill>
                  <a:srgbClr val="002569"/>
                </a:solidFill>
                <a:latin typeface="Times New Roman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80840" y="115560"/>
            <a:ext cx="5267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2569"/>
                </a:solidFill>
                <a:latin typeface="Arial"/>
              </a:rPr>
              <a:t>C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SSI Outcome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04" name="Image 3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3924360" cy="5496120"/>
          </a:xfrm>
          <a:prstGeom prst="rect">
            <a:avLst/>
          </a:prstGeom>
          <a:ln w="0">
            <a:noFill/>
          </a:ln>
        </p:spPr>
      </p:pic>
      <p:pic>
        <p:nvPicPr>
          <p:cNvPr id="105" name="Image 4" descr=""/>
          <p:cNvPicPr/>
          <p:nvPr/>
        </p:nvPicPr>
        <p:blipFill>
          <a:blip r:embed="rId2"/>
          <a:srcRect l="18052" t="0" r="15619" b="2551"/>
          <a:stretch/>
        </p:blipFill>
        <p:spPr>
          <a:xfrm>
            <a:off x="4859280" y="1125360"/>
            <a:ext cx="3924360" cy="5507280"/>
          </a:xfrm>
          <a:prstGeom prst="rect">
            <a:avLst/>
          </a:prstGeom>
          <a:ln w="0">
            <a:noFill/>
          </a:ln>
        </p:spPr>
      </p:pic>
      <p:sp>
        <p:nvSpPr>
          <p:cNvPr id="106" name="Interdiction 7"/>
          <p:cNvSpPr/>
          <p:nvPr/>
        </p:nvSpPr>
        <p:spPr>
          <a:xfrm>
            <a:off x="4643280" y="801720"/>
            <a:ext cx="4321440" cy="5940360"/>
          </a:xfrm>
          <a:custGeom>
            <a:avLst/>
            <a:gdLst/>
            <a:ahLst/>
            <a:rect l="l" t="t" r="r" b="b"/>
            <a:pathLst>
              <a:path w="4320480" h="5940048">
                <a:moveTo>
                  <a:pt x="0" y="2970024"/>
                </a:moveTo>
                <a:cubicBezTo>
                  <a:pt x="0" y="1329725"/>
                  <a:pt x="967172" y="0"/>
                  <a:pt x="2160240" y="0"/>
                </a:cubicBezTo>
                <a:cubicBezTo>
                  <a:pt x="3353308" y="0"/>
                  <a:pt x="4320480" y="1329725"/>
                  <a:pt x="4320480" y="2970024"/>
                </a:cubicBezTo>
                <a:cubicBezTo>
                  <a:pt x="4320480" y="4610323"/>
                  <a:pt x="3353308" y="5940048"/>
                  <a:pt x="2160240" y="5940048"/>
                </a:cubicBezTo>
                <a:cubicBezTo>
                  <a:pt x="967172" y="5940048"/>
                  <a:pt x="0" y="4610323"/>
                  <a:pt x="0" y="2970024"/>
                </a:cubicBezTo>
                <a:close/>
                <a:moveTo>
                  <a:pt x="3626110" y="4825151"/>
                </a:moveTo>
                <a:cubicBezTo>
                  <a:pt x="4171580" y="3966691"/>
                  <a:pt x="4284702" y="2721997"/>
                  <a:pt x="3910404" y="1697046"/>
                </a:cubicBezTo>
                <a:cubicBezTo>
                  <a:pt x="3310456" y="54193"/>
                  <a:pt x="1762409" y="-319639"/>
                  <a:pt x="809550" y="948234"/>
                </a:cubicBezTo>
                <a:lnTo>
                  <a:pt x="3626110" y="4825151"/>
                </a:lnTo>
                <a:close/>
                <a:moveTo>
                  <a:pt x="694370" y="1114897"/>
                </a:moveTo>
                <a:cubicBezTo>
                  <a:pt x="148900" y="1973357"/>
                  <a:pt x="35778" y="3218051"/>
                  <a:pt x="410076" y="4243002"/>
                </a:cubicBezTo>
                <a:cubicBezTo>
                  <a:pt x="1010024" y="5885855"/>
                  <a:pt x="2558071" y="6259687"/>
                  <a:pt x="3510930" y="4991814"/>
                </a:cubicBezTo>
                <a:lnTo>
                  <a:pt x="694370" y="11148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à coins arrondis 6"/>
          <p:cNvSpPr/>
          <p:nvPr/>
        </p:nvSpPr>
        <p:spPr>
          <a:xfrm rot="19712400">
            <a:off x="539280" y="3212640"/>
            <a:ext cx="8136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E" sz="5400" spc="-1" strike="noStrike">
                <a:solidFill>
                  <a:srgbClr val="000000"/>
                </a:solidFill>
                <a:latin typeface="Arial"/>
              </a:rPr>
              <a:t>Evolution not revolution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SSII Outcomes 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2000"/>
          </a:bodyPr>
          <a:p>
            <a:pPr marL="281160" indent="-281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CSSII process (still … ) converging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442440" indent="-205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Process has </a:t>
            </a:r>
            <a:r>
              <a:rPr b="1" lang="en-IE" sz="2800" spc="-1" strike="noStrike">
                <a:solidFill>
                  <a:srgbClr val="ff0000"/>
                </a:solidFill>
                <a:latin typeface="Arial"/>
              </a:rPr>
              <a:t>clarified</a:t>
            </a: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many aspects of CEOS operations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42440" indent="-205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Adoption of documents at Plenary 2013 will</a:t>
            </a: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2800" spc="-1" strike="noStrike">
                <a:solidFill>
                  <a:srgbClr val="ff0000"/>
                </a:solidFill>
                <a:latin typeface="Arial"/>
              </a:rPr>
              <a:t>formalise</a:t>
            </a: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this</a:t>
            </a: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442440" indent="-205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442440" indent="-205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Key points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42440" indent="-205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Organisation’s objectives and goals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42440" indent="-205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Internal organisation and reporting lines for WGs and VCs (CEOS Chair/ SIT Chair)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42440" indent="-205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Decision making (how decisions are made, who decides what, when )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42440" indent="-205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CEOS calendar of major meetings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42440" indent="-205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42440" indent="-205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A few loose ends to tie up …. ?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80840" y="115560"/>
            <a:ext cx="5267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upport to GEO 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Continued high priority for CEOS activities supporting GEO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GFOI, GEOGLAM, Disasters…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Working group priorities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Including  on-going work in WGISS &amp; SEO&amp; VCs on improving access to space based EO data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23640" y="272880"/>
            <a:ext cx="655956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NES SIT Chair team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16040"/>
            <a:ext cx="836280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78000"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SIT 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Pascale Ultré-Guérard (chair)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Steven Hosford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WGISS 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Richard Moreno (chair)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Jérôme Gaspéri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CEOS support 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Mireille Paulin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Danielle Barrère (meetings/logistics)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WGCalVal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Patrice Henry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WG Climat, PVC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Philippe Veyre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VC OST,VC OCR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Juliette Lambin (OST co-chair)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23640" y="272880"/>
            <a:ext cx="655956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NES SIT Chair team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16040"/>
            <a:ext cx="836280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ACVC, CTF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Carole Deni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GEOGLAM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Gérard Dedieu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Health PoC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Cécile Vignolles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plus external support  in progress (TBC) …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and last but not least, we would like to have a </a:t>
            </a:r>
            <a:r>
              <a:rPr b="1" lang="en-IE" sz="3200" spc="-1" strike="noStrike">
                <a:solidFill>
                  <a:srgbClr val="ff0000"/>
                </a:solidFill>
                <a:latin typeface="Arial"/>
              </a:rPr>
              <a:t>SIT Vice-Chair (TBF)</a:t>
            </a:r>
            <a:endParaRPr b="1" lang="en-US" sz="3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3T17:10:19Z</dcterms:created>
  <dc:creator/>
  <dc:description/>
  <dc:language>en-US</dc:language>
  <cp:lastModifiedBy>Keith, Kim Elizabeth (LARC-D2)[SCIENCE SYSTEMS AND APPLICATIONS, INC]</cp:lastModifiedBy>
  <dcterms:modified xsi:type="dcterms:W3CDTF">2013-09-17T13:12:36Z</dcterms:modified>
  <cp:revision>69</cp:revision>
  <dc:subject/>
  <dc:title>Leveraging VCs to improve CEOS data access </dc:title>
</cp:coreProperties>
</file>