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91ECE-0472-4798-A71A-47D238D939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74AC1-23AC-4F67-9ABE-9D97502B1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EBFCD-7CDD-449A-9773-46582D346FDF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9E8E0-BDB1-4BD9-8CF2-AEE502A8E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07205-0F40-418E-92C8-6419D1FD8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FF418-5F29-497C-BECE-315F055E7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AE2D-7735-45B2-A2D6-EA7BC6C39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88B1-E6F4-4FC7-B253-BAD931E64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F14A-4F1D-4B24-AA10-C6998870F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1E25-2027-490D-82E5-C20DF3561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ECB6-740B-40D1-9780-044546D24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D7E1-5A1E-404D-9050-3B45A40238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24D4-CD39-4140-88A5-76A379842E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85A2-EB60-460D-90D7-8243F21ED2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8322-C8C8-4C6B-9A9E-A0A00133CC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EB2F-44D5-48D3-B284-DF83633570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D195-2F6B-41D0-88A1-D2244A1FFC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4283-4BD8-4ACD-B238-517278E61B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EBC1-D23A-4E45-A2EF-21E31A784F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3D1C-394B-4F85-8CBE-8AEA83D874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498C5-7F65-4BB6-AF55-DE5648EAC1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A724-4B5A-4231-8F1E-A1AA36F991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6A8F-5C84-44CD-AA20-347C8939E1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CBB8-C3E2-4871-A274-1E08F4CCD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63C8-DDFC-4228-9CD0-6CCC954CB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8ED1-5A0F-4DF9-A88B-6BFA99FEE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C60D-4C26-4949-BC36-DECEAED5F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5BF0-2621-49CB-BAE3-B97542FA5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03CE-B5C3-4F27-8851-F5367657F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F545-93D5-44ED-A98E-EADB93737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5560" y="558720"/>
            <a:ext cx="16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Reston, Virgi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ept 11-12,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C9BBF-4177-4629-896D-20AC42BC6F73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957B3715-14E1-4439-831D-67A9945E5F7D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31040" y="6523200"/>
            <a:ext cx="454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 Technical Workshop |Reston, Virginia, USA| 11-12 September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5560" y="558720"/>
            <a:ext cx="16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Reston, Virgi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ept 11-12,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C8A9C-D4E7-4141-AC56-ECBFB352FB9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&lt;CEOS Work Plan section reference&gt;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&lt;Your name&gt;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89240" y="666720"/>
            <a:ext cx="48117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SIT Workshop Template – Insert TITLE HERE&gt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94E9C-46FD-4C80-8A60-389AF3CF8ED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&lt;Title&gt; In a few slides, describe “Activity Status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Short summ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What has been accomplished since 2011 Plenary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Main Issu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ain 2012 achievements/outcom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c4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15FF8-FF78-4D80-90F4-57D639461B9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952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&lt;Title&gt; In a few slides, describe “Near Future Plan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2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2 Events (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GEO-IX, COP-18/SBSTA-37)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s that need to be made at CEOS Plenary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03DA4-68BE-4E0F-806D-04E631F272A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Sampl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keith</cp:lastModifiedBy>
  <dcterms:modified xsi:type="dcterms:W3CDTF">2012-08-08T18:12:16Z</dcterms:modified>
  <cp:revision>11</cp:revision>
  <dc:subject/>
  <dc:title>Title</dc:title>
</cp:coreProperties>
</file>