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0AF3A-EC4D-409B-8E54-120F73A6A2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17D7A-53A7-429C-B93D-53165EB9C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F8D00-6C26-48BF-8030-0A2ED405B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5D5BF-F587-430A-8F78-F3EF6373426E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603B7-FC19-4F03-B4FC-6FB70CA95C4C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59A4B-5192-4ABF-B252-2B6810395490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505E1-12BF-4D99-BDBF-7525CB684C5F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144E5-6F5D-4264-BD0E-F267A471D820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05F37-D2D0-4B60-845E-2FB863C6C018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3649B-0ABB-4546-9A47-0C5CC64500CB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3B175-AF84-47B6-BB1A-42237814CCAE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2638-D81C-44CC-B23B-A8D2CEA71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0532-3DA1-4A12-BCED-69C7A5486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0B14-B776-40A7-8A4A-AF852B82C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7D05-B701-438D-9FE6-EF530A40D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06E2-DAC0-46AD-AA02-AD3B7FC024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DBFE-09CF-4A6F-810F-C437AA004E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E746-8418-44C8-B33F-2A88BADC2F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19F1-7754-439E-B012-1348A1CB9C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4564-743F-4A2D-ABB2-A7C2B02728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ABF5-9E3D-4CAB-B041-878B0D218B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E5B1-7E6E-446F-96E1-D4229C03D6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C274-73B3-495A-AD46-B4F692CC7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BC21-2E5E-4EC7-BD53-052159E028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C46A-03AC-4D9C-AEED-83DD5DF692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AD18-5FC0-43A8-A7A9-CDE6F33AEA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7B65-3EC5-479A-A033-D1167B0DFF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CE2E2-9762-4ECE-BED6-57587629F1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F8986-7F24-420A-A7B7-68ACD0DA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4A11-CD29-4496-87E5-FCE9E937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3E4CB-1755-42D4-B082-BE95115B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BAE5A-7A68-4B8E-AA12-2BF4B119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A35D2-7F36-402C-ADA3-2722FA0D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E3E5-827D-4AE2-A3AB-7D2F2AAA92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892DD-9EE7-4F6B-8E24-CB2B5E70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2ED70-7118-4B7C-AA26-1CD774A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7DF06-73C3-40F3-81AD-54D532A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49C2F-4655-4F2E-975E-C93987C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C3555-C23A-4101-93FA-52527070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DDB57-5EE4-4102-ACC7-3181ADB2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96019-A476-4EDB-BBBE-FCC133DF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67368A-E4A7-4399-A49B-AD8365C081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5938D-E45A-4626-897E-CA79685FCD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C2340-C253-4A8D-9F09-B0DE797FB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0689-83DC-47F7-91F4-32A16476EE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2EBEE-8621-451D-B50E-3CCFC05C22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40381-24D6-40DD-A913-E0DEC42865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3BD485-FDF3-4624-898F-073BBE4C71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4BAE8-64AB-4546-A513-E2C027EE99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6D39D-1DD6-4BF7-A0CC-5F0810F234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C6241-8E04-481A-8B8F-6472F52B35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999A7-6F58-410B-BE9B-E52CED931C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043F9-440C-492C-962F-CA0EF93198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E1D58-C0E4-475B-AD7B-1EB5BD2AF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089C-A244-4DA7-B1C6-C20A4D7A6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2244-386F-48B1-A68F-2C844D882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F9E4-FB26-4376-B99C-040C46C3C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982E-189D-4486-99EB-091C36574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CBB7-2EE4-4B0F-859F-E3E8F1903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13320" y="528480"/>
            <a:ext cx="145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Washington DC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eptember 11-12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2F86F-F557-4621-9BB5-BBEC4225F71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3320" y="528480"/>
            <a:ext cx="145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Washington DC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eptember 11-12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67316-9EF7-415A-AAAA-2C7264AC10E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3320" y="528480"/>
            <a:ext cx="145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Washington DC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eptember 11-12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74C47-E277-4D3C-AAE4-4E8F5A4380B0}" type="datetime"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26-07-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5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DF194-997F-4C33-A225-EC1764B60EBC}" type="slidenum">
              <a:rPr b="0" lang="en-CA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3320" y="528480"/>
            <a:ext cx="145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Washington DC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eptember 11-12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30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6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2569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 Unicode MS"/>
              </a:rPr>
              <a:t>23</a:t>
            </a:r>
            <a:r>
              <a:rPr b="0" lang="en-US" sz="1800" spc="-1" strike="noStrike" baseline="30000">
                <a:solidFill>
                  <a:srgbClr val="002569"/>
                </a:solidFill>
                <a:latin typeface="Arial Unicode MS"/>
              </a:rPr>
              <a:t>rd</a:t>
            </a:r>
            <a:r>
              <a:rPr b="0" lang="en-US" sz="1800" spc="-1" strike="noStrike">
                <a:solidFill>
                  <a:srgbClr val="002569"/>
                </a:solidFill>
                <a:latin typeface="Arial Unicode MS"/>
              </a:rPr>
              <a:t> CEOS Plenary  I Phuket, Thailand I 3-5 December 20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01E01-571D-411F-B85D-10712E810E2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C0415-39BD-43F5-9C0F-862F47B2E37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974160" y="3767040"/>
            <a:ext cx="418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an Killoug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ASA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wrence Frie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SA)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1, 2012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n, Virginia (USGS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492120" y="1563840"/>
            <a:ext cx="81550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in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and Coordination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ace-based Observing Systems</a:t>
            </a:r>
            <a:br>
              <a:rPr sz="4000"/>
            </a:b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grpSp>
        <p:nvGrpSpPr>
          <p:cNvPr id="181" name="Group 14"/>
          <p:cNvGrpSpPr/>
          <p:nvPr/>
        </p:nvGrpSpPr>
        <p:grpSpPr>
          <a:xfrm>
            <a:off x="5415120" y="3530520"/>
            <a:ext cx="2869920" cy="2482920"/>
            <a:chOff x="5415120" y="3530520"/>
            <a:chExt cx="2869920" cy="2482920"/>
          </a:xfrm>
        </p:grpSpPr>
        <p:pic>
          <p:nvPicPr>
            <p:cNvPr id="182" name="Picture 6" descr=""/>
            <p:cNvPicPr/>
            <p:nvPr/>
          </p:nvPicPr>
          <p:blipFill>
            <a:blip r:embed="rId2"/>
            <a:stretch/>
          </p:blipFill>
          <p:spPr>
            <a:xfrm>
              <a:off x="5415120" y="3602160"/>
              <a:ext cx="2781720" cy="23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Freeform 13"/>
            <p:cNvSpPr/>
            <p:nvPr/>
          </p:nvSpPr>
          <p:spPr>
            <a:xfrm>
              <a:off x="7304400" y="3530520"/>
              <a:ext cx="980640" cy="248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2569"/>
                </a:solidFill>
                <a:latin typeface="Arial"/>
              </a:endParaRPr>
            </a:p>
          </p:txBody>
        </p:sp>
      </p:grpSp>
      <p:pic>
        <p:nvPicPr>
          <p:cNvPr id="184" name="Picture 8" descr="NASA-transparent.png"/>
          <p:cNvPicPr/>
          <p:nvPr/>
        </p:nvPicPr>
        <p:blipFill>
          <a:blip r:embed="rId3"/>
          <a:stretch/>
        </p:blipFill>
        <p:spPr>
          <a:xfrm>
            <a:off x="8034480" y="5958000"/>
            <a:ext cx="96516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-01 Task Manageme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144360" y="1482840"/>
            <a:ext cx="87789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GEO IN-01 Task ? 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Rev. 1.2 of GEO 2012-2015 Work Plan will be presented to the GEO Plenary for acceptance in  November 2012.  The plan includes 26 Tasks in the 3 areas of Infrastructure (IN), Institutions and Development (ID), and Information for Societal Benefits.  GEO has implemented 3 Infrastructure Implementation Boards (IIB) aligned with these areas.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IN-01 Task = Earth Observing Systems ...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Coordination of Earth observing systems and activities to enable &amp; enhance collection of measurements. The IN-01 Task includes 4 components (C1 through C4) ... next chart.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responsibilities of CEOS? 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SIT Chair (NASA) is the “Coordinator” for the entire IN-01 Task.  This coordination is now led by Brian Killough (NASA).  Formerly this was led by Chris Blackerby, who has transferred to Japan for a new assignment with NASA.  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SIT Chair (NASA) is the “POC” for the IN-01-C2 Component, which is focused on the development and coordination of space-based observing systems ...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  <a:ea typeface="Calibri"/>
              </a:rPr>
              <a:t>this is CEOS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  <a:ea typeface="Calibri"/>
              </a:rPr>
              <a:t>.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CEOS has representatives on the GEO IIB: NASA (Brian Killough) and ESA (Ivan Petiteville).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The IIB will monitor progress toward strategic targets and report annually (in July) to the GEO Executive Committee (ExCom).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2307D-ED30-48EC-8885-F70647768E12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Roles in the GEO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Oval 11"/>
          <p:cNvSpPr/>
          <p:nvPr/>
        </p:nvSpPr>
        <p:spPr>
          <a:xfrm>
            <a:off x="3691080" y="1473120"/>
            <a:ext cx="1701720" cy="779400"/>
          </a:xfrm>
          <a:prstGeom prst="ellipse">
            <a:avLst/>
          </a:prstGeom>
          <a:solidFill>
            <a:srgbClr val="ffd7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3863880" y="1609560"/>
            <a:ext cx="136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Arial"/>
              </a:rPr>
              <a:t>GEO Work Plan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1117440" y="2684520"/>
            <a:ext cx="1897200" cy="676080"/>
          </a:xfrm>
          <a:prstGeom prst="rect">
            <a:avLst/>
          </a:prstGeom>
          <a:solidFill>
            <a:srgbClr val="aecb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260360" y="2641680"/>
            <a:ext cx="160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Institutions and Development</a:t>
            </a:r>
            <a:br>
              <a:rPr sz="1400"/>
            </a:b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(ID)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3817800" y="2674800"/>
            <a:ext cx="1473480" cy="677880"/>
          </a:xfrm>
          <a:prstGeom prst="rect">
            <a:avLst/>
          </a:prstGeom>
          <a:solidFill>
            <a:srgbClr val="aecb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851280" y="2759040"/>
            <a:ext cx="142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Infrastructure</a:t>
            </a:r>
            <a:br>
              <a:rPr sz="1400"/>
            </a:b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(IN)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6307200" y="2703600"/>
            <a:ext cx="2158920" cy="676080"/>
          </a:xfrm>
          <a:prstGeom prst="rect">
            <a:avLst/>
          </a:prstGeom>
          <a:solidFill>
            <a:srgbClr val="aecb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6391440" y="2768760"/>
            <a:ext cx="204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Information for Societal Benefit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7" name="TextBox 19"/>
          <p:cNvSpPr/>
          <p:nvPr/>
        </p:nvSpPr>
        <p:spPr>
          <a:xfrm>
            <a:off x="1119960" y="23367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IIB-1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7850880" y="23637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IIB-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9" name="Straight Connector 25"/>
          <p:cNvSpPr/>
          <p:nvPr/>
        </p:nvSpPr>
        <p:spPr>
          <a:xfrm flipH="1" flipV="1">
            <a:off x="2362320" y="2489040"/>
            <a:ext cx="79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cxnSp>
        <p:nvCxnSpPr>
          <p:cNvPr id="200" name="Straight Arrow Connector 27"/>
          <p:cNvCxnSpPr/>
          <p:nvPr/>
        </p:nvCxnSpPr>
        <p:spPr>
          <a:xfrm flipH="1">
            <a:off x="2862000" y="2064240"/>
            <a:ext cx="956160" cy="63900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Straight Arrow Connector 30"/>
          <p:cNvCxnSpPr>
            <a:endCxn id="193" idx="0"/>
          </p:cNvCxnSpPr>
          <p:nvPr/>
        </p:nvCxnSpPr>
        <p:spPr>
          <a:xfrm flipH="1">
            <a:off x="4553640" y="2322000"/>
            <a:ext cx="3960" cy="353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2" name="Straight Arrow Connector 31"/>
          <p:cNvCxnSpPr/>
          <p:nvPr/>
        </p:nvCxnSpPr>
        <p:spPr>
          <a:xfrm>
            <a:off x="5291280" y="2065320"/>
            <a:ext cx="1100880" cy="6199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3" name="TextBox 38"/>
          <p:cNvSpPr/>
          <p:nvPr/>
        </p:nvSpPr>
        <p:spPr>
          <a:xfrm>
            <a:off x="271080" y="288612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5 Task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4" name="TextBox 39"/>
          <p:cNvSpPr/>
          <p:nvPr/>
        </p:nvSpPr>
        <p:spPr>
          <a:xfrm>
            <a:off x="3555720" y="343224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5 Task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5" name="TextBox 40"/>
          <p:cNvSpPr/>
          <p:nvPr/>
        </p:nvSpPr>
        <p:spPr>
          <a:xfrm>
            <a:off x="7720920" y="33796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16 Task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6" name="TextBox 41"/>
          <p:cNvSpPr/>
          <p:nvPr/>
        </p:nvSpPr>
        <p:spPr>
          <a:xfrm>
            <a:off x="4714920" y="6022800"/>
            <a:ext cx="3568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CEOS* = IIB Member (NASA, ESA, CSA)</a:t>
            </a:r>
            <a:endParaRPr b="0" lang="en-US" sz="11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CEOS** = Task Coordinator (NASA, DCC, CSA)</a:t>
            </a:r>
            <a:br>
              <a:rPr sz="1100"/>
            </a:b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CEOS*** = Component POC (NASA, JAXA, CSA)</a:t>
            </a:r>
            <a:endParaRPr b="0" lang="en-US" sz="11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CEOS = Component Contribution (many)</a:t>
            </a:r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7" name="Rectangle 42"/>
          <p:cNvSpPr/>
          <p:nvPr/>
        </p:nvSpPr>
        <p:spPr>
          <a:xfrm>
            <a:off x="2852640" y="4325760"/>
            <a:ext cx="533520" cy="31464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8" name="TextBox 43"/>
          <p:cNvSpPr/>
          <p:nvPr/>
        </p:nvSpPr>
        <p:spPr>
          <a:xfrm>
            <a:off x="2856600" y="43624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1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3564000" y="4325760"/>
            <a:ext cx="533160" cy="31464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0" name="TextBox 45"/>
          <p:cNvSpPr/>
          <p:nvPr/>
        </p:nvSpPr>
        <p:spPr>
          <a:xfrm>
            <a:off x="3567960" y="43624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2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1" name="Rectangle 46"/>
          <p:cNvSpPr/>
          <p:nvPr/>
        </p:nvSpPr>
        <p:spPr>
          <a:xfrm>
            <a:off x="4257720" y="4335480"/>
            <a:ext cx="533520" cy="31284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2" name="TextBox 47"/>
          <p:cNvSpPr/>
          <p:nvPr/>
        </p:nvSpPr>
        <p:spPr>
          <a:xfrm>
            <a:off x="4261680" y="43718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3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3" name="Rectangle 48"/>
          <p:cNvSpPr/>
          <p:nvPr/>
        </p:nvSpPr>
        <p:spPr>
          <a:xfrm>
            <a:off x="4979880" y="4335480"/>
            <a:ext cx="533520" cy="31284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4" name="TextBox 49"/>
          <p:cNvSpPr/>
          <p:nvPr/>
        </p:nvSpPr>
        <p:spPr>
          <a:xfrm>
            <a:off x="4983840" y="43718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4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5" name="Rectangle 50"/>
          <p:cNvSpPr/>
          <p:nvPr/>
        </p:nvSpPr>
        <p:spPr>
          <a:xfrm>
            <a:off x="5688000" y="4343400"/>
            <a:ext cx="531720" cy="31428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6" name="TextBox 51"/>
          <p:cNvSpPr/>
          <p:nvPr/>
        </p:nvSpPr>
        <p:spPr>
          <a:xfrm>
            <a:off x="5699160" y="437976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5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cxnSp>
        <p:nvCxnSpPr>
          <p:cNvPr id="217" name="Straight Arrow Connector 56"/>
          <p:cNvCxnSpPr/>
          <p:nvPr/>
        </p:nvCxnSpPr>
        <p:spPr>
          <a:xfrm>
            <a:off x="4556520" y="3413160"/>
            <a:ext cx="1080" cy="637200"/>
          </a:xfrm>
          <a:prstGeom prst="straightConnector1">
            <a:avLst/>
          </a:prstGeom>
          <a:ln w="50760">
            <a:solidFill>
              <a:srgbClr val="0000ff"/>
            </a:solidFill>
            <a:miter/>
          </a:ln>
        </p:spPr>
      </p:cxnSp>
      <p:sp>
        <p:nvSpPr>
          <p:cNvPr id="218" name="TextBox 58"/>
          <p:cNvSpPr/>
          <p:nvPr/>
        </p:nvSpPr>
        <p:spPr>
          <a:xfrm>
            <a:off x="945000" y="5486400"/>
            <a:ext cx="3437640" cy="824040"/>
          </a:xfrm>
          <a:prstGeom prst="rect">
            <a:avLst/>
          </a:prstGeom>
          <a:noFill/>
          <a:ln w="93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1-C1: Ground and In-Situ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N-01-C2: Space</a:t>
            </a:r>
            <a:br>
              <a:rPr sz="1200"/>
            </a:b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1-C3: Coordination of Ground/In-Situ/Space</a:t>
            </a:r>
            <a:br>
              <a:rPr sz="1200"/>
            </a:b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1-C4: Radio Frequencie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9" name="TextBox 61"/>
          <p:cNvSpPr/>
          <p:nvPr/>
        </p:nvSpPr>
        <p:spPr>
          <a:xfrm>
            <a:off x="4821840" y="24084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IIB-2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cxnSp>
        <p:nvCxnSpPr>
          <p:cNvPr id="220" name="Straight Arrow Connector 62"/>
          <p:cNvCxnSpPr/>
          <p:nvPr/>
        </p:nvCxnSpPr>
        <p:spPr>
          <a:xfrm flipH="1">
            <a:off x="3414240" y="4048560"/>
            <a:ext cx="1140480" cy="276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1" name="Straight Arrow Connector 65"/>
          <p:cNvCxnSpPr/>
          <p:nvPr/>
        </p:nvCxnSpPr>
        <p:spPr>
          <a:xfrm flipH="1">
            <a:off x="4096800" y="4049640"/>
            <a:ext cx="457920" cy="286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2" name="Straight Arrow Connector 68"/>
          <p:cNvCxnSpPr/>
          <p:nvPr/>
        </p:nvCxnSpPr>
        <p:spPr>
          <a:xfrm>
            <a:off x="4557600" y="4049280"/>
            <a:ext cx="1139040" cy="276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3" name="Straight Arrow Connector 71"/>
          <p:cNvCxnSpPr/>
          <p:nvPr/>
        </p:nvCxnSpPr>
        <p:spPr>
          <a:xfrm flipH="1">
            <a:off x="4555800" y="4049640"/>
            <a:ext cx="2160" cy="2782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4" name="Straight Arrow Connector 74"/>
          <p:cNvCxnSpPr/>
          <p:nvPr/>
        </p:nvCxnSpPr>
        <p:spPr>
          <a:xfrm>
            <a:off x="4557240" y="4049280"/>
            <a:ext cx="423000" cy="276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25" name="TextBox 80"/>
          <p:cNvSpPr/>
          <p:nvPr/>
        </p:nvSpPr>
        <p:spPr>
          <a:xfrm>
            <a:off x="3331080" y="4684680"/>
            <a:ext cx="10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6" name="TextBox 81"/>
          <p:cNvSpPr/>
          <p:nvPr/>
        </p:nvSpPr>
        <p:spPr>
          <a:xfrm>
            <a:off x="4799880" y="2244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7" name="TextBox 82"/>
          <p:cNvSpPr/>
          <p:nvPr/>
        </p:nvSpPr>
        <p:spPr>
          <a:xfrm>
            <a:off x="5513400" y="4707000"/>
            <a:ext cx="89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8" name="TextBox 83"/>
          <p:cNvSpPr/>
          <p:nvPr/>
        </p:nvSpPr>
        <p:spPr>
          <a:xfrm>
            <a:off x="1364400" y="3502080"/>
            <a:ext cx="13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D-02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9" name="TextBox 84"/>
          <p:cNvSpPr/>
          <p:nvPr/>
        </p:nvSpPr>
        <p:spPr>
          <a:xfrm>
            <a:off x="7109280" y="373068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SB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0" name="TextBox 85"/>
          <p:cNvSpPr/>
          <p:nvPr/>
        </p:nvSpPr>
        <p:spPr>
          <a:xfrm>
            <a:off x="1361160" y="3711600"/>
            <a:ext cx="13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D-02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1" name="TextBox 86"/>
          <p:cNvSpPr/>
          <p:nvPr/>
        </p:nvSpPr>
        <p:spPr>
          <a:xfrm>
            <a:off x="7109280" y="391788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SB-01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2" name="TextBox 87"/>
          <p:cNvSpPr/>
          <p:nvPr/>
        </p:nvSpPr>
        <p:spPr>
          <a:xfrm>
            <a:off x="7109280" y="410220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SB-03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3" name="TextBox 88"/>
          <p:cNvSpPr/>
          <p:nvPr/>
        </p:nvSpPr>
        <p:spPr>
          <a:xfrm>
            <a:off x="7109280" y="427500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SB-03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4" name="TextBox 89"/>
          <p:cNvSpPr/>
          <p:nvPr/>
        </p:nvSpPr>
        <p:spPr>
          <a:xfrm>
            <a:off x="7121160" y="4451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DI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5" name="TextBox 90"/>
          <p:cNvSpPr/>
          <p:nvPr/>
        </p:nvSpPr>
        <p:spPr>
          <a:xfrm>
            <a:off x="7112880" y="4638600"/>
            <a:ext cx="13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DI-01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6" name="TextBox 91"/>
          <p:cNvSpPr/>
          <p:nvPr/>
        </p:nvSpPr>
        <p:spPr>
          <a:xfrm>
            <a:off x="7109640" y="4840200"/>
            <a:ext cx="13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DI-01-C5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7" name="TextBox 92"/>
          <p:cNvSpPr/>
          <p:nvPr/>
        </p:nvSpPr>
        <p:spPr>
          <a:xfrm>
            <a:off x="7108560" y="5016600"/>
            <a:ext cx="13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EN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8" name="TextBox 93"/>
          <p:cNvSpPr/>
          <p:nvPr/>
        </p:nvSpPr>
        <p:spPr>
          <a:xfrm>
            <a:off x="7108200" y="536724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L-02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9" name="TextBox 94"/>
          <p:cNvSpPr/>
          <p:nvPr/>
        </p:nvSpPr>
        <p:spPr>
          <a:xfrm>
            <a:off x="7099560" y="555768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WA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0" name="TextBox 95"/>
          <p:cNvSpPr/>
          <p:nvPr/>
        </p:nvSpPr>
        <p:spPr>
          <a:xfrm>
            <a:off x="7115760" y="57405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AG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1" name="TextBox 81"/>
          <p:cNvSpPr/>
          <p:nvPr/>
        </p:nvSpPr>
        <p:spPr>
          <a:xfrm>
            <a:off x="7837560" y="218916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2" name="TextBox 81"/>
          <p:cNvSpPr/>
          <p:nvPr/>
        </p:nvSpPr>
        <p:spPr>
          <a:xfrm>
            <a:off x="2801520" y="40672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3" name="TextBox 39"/>
          <p:cNvSpPr/>
          <p:nvPr/>
        </p:nvSpPr>
        <p:spPr>
          <a:xfrm>
            <a:off x="990000" y="515628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Earth Observing System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cxnSp>
        <p:nvCxnSpPr>
          <p:cNvPr id="244" name="Straight Arrow Connector 27"/>
          <p:cNvCxnSpPr/>
          <p:nvPr/>
        </p:nvCxnSpPr>
        <p:spPr>
          <a:xfrm flipH="1">
            <a:off x="2361600" y="4648320"/>
            <a:ext cx="500760" cy="497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45" name="TextBox 81"/>
          <p:cNvSpPr/>
          <p:nvPr/>
        </p:nvSpPr>
        <p:spPr>
          <a:xfrm>
            <a:off x="6507720" y="45291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6" name="TextBox 81"/>
          <p:cNvSpPr/>
          <p:nvPr/>
        </p:nvSpPr>
        <p:spPr>
          <a:xfrm>
            <a:off x="6507720" y="41702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7" name="TextBox 81"/>
          <p:cNvSpPr/>
          <p:nvPr/>
        </p:nvSpPr>
        <p:spPr>
          <a:xfrm>
            <a:off x="191160" y="56689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8" name="TextBox 81"/>
          <p:cNvSpPr/>
          <p:nvPr/>
        </p:nvSpPr>
        <p:spPr>
          <a:xfrm>
            <a:off x="189360" y="58532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9" name="TextBox 82"/>
          <p:cNvSpPr/>
          <p:nvPr/>
        </p:nvSpPr>
        <p:spPr>
          <a:xfrm>
            <a:off x="4119480" y="4878360"/>
            <a:ext cx="89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0" name="TextBox 93"/>
          <p:cNvSpPr/>
          <p:nvPr/>
        </p:nvSpPr>
        <p:spPr>
          <a:xfrm>
            <a:off x="7106400" y="519120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L-01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ED3EF-A3B4-4900-BDEB-26EED5B5847F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-01 Componen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253" name="Group 13" descr=""/>
          <p:cNvPicPr/>
          <p:nvPr/>
        </p:nvPicPr>
        <p:blipFill>
          <a:blip r:embed="rId2"/>
          <a:stretch/>
        </p:blipFill>
        <p:spPr>
          <a:xfrm>
            <a:off x="2682720" y="2146320"/>
            <a:ext cx="37306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7"/>
          <p:cNvSpPr/>
          <p:nvPr/>
        </p:nvSpPr>
        <p:spPr>
          <a:xfrm>
            <a:off x="138240" y="1530360"/>
            <a:ext cx="37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ordination of Surface-based Observing Networks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European Environment Agency (Tim Haigh, EEA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138240" y="53323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ordination across Surface-based and Space-based Observing Systems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TB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6300720" y="153036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ordination of Space-based Observing Networks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896080" y="5332320"/>
            <a:ext cx="301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dio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Protectio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Instituto Nacional de Meteorologia (Jose Arimatea Brito, INMET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4385B-1B13-4F0C-9011-10B4461401D1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rategic Targets for IN-01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355680" y="1495440"/>
            <a:ext cx="846612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rchitectur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ordinated, sustained and improved global observing and information systems within an interoperable framework utilizing space, airborne and in-situ platform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nsition of research outcomes and systems into operational use and increased efficiency in operation of observational systems.  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ath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dentify and address critical gaps in observational networks with a focus on developing countries, continuity in space-based and in-situ observations, and the benefits to user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at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n operational and sustained global network of in-situ observation site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Note: The IN-01 Task addresses topics related to all of the GEOSS Strategic Targets (GEO-VI Document 12 Rev1). This chart shows the three that are included in Work Plan Rev. 1.1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4F390-45E1-4005-9FD1-957E09BC429A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-01-C2 Compone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3" name="Content Placeholder 2"/>
          <p:cNvSpPr/>
          <p:nvPr/>
        </p:nvSpPr>
        <p:spPr>
          <a:xfrm>
            <a:off x="144360" y="1677960"/>
            <a:ext cx="87789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EOS Leads the IN-01-C2 Component, which includes these 7 elements ...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omote rapid development of CEOS Constellations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Calibri"/>
              </a:rPr>
              <a:t>CEOS Constellation Lea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re are 5 CEOS actions related to IN-01-C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velop an arctic hydrometeorological satellite network (ROSKSOMOS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plore synergies with the Earthmapper constellation for global high resolution observations (Surrey Satellites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tablish and upgrade ground station capacity in Africa for CBERS (INPE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omote the AfricaGeoSat-1 Project (SA Dept of Science and Technology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tablish actions securing ECV data from satellites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Calibri"/>
              </a:rPr>
              <a:t>CEOS WGCli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omote space missions to fill gaps from the loss of key instru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i.e., Envisat, AURA)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Calibri"/>
              </a:rPr>
              <a:t>CEOS Constellation Lea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pproximately quarterly status reports within the IN-01-C2 Component are desired by CEOS to support the IN-01 Task, IIB, and GEO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1A85B-516F-4412-98D8-98C3034A44AA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50600" y="93240"/>
            <a:ext cx="7365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-01 Highligh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Content Placeholder 2"/>
          <p:cNvSpPr/>
          <p:nvPr/>
        </p:nvSpPr>
        <p:spPr>
          <a:xfrm>
            <a:off x="144360" y="1469880"/>
            <a:ext cx="88725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-01-C1 (Surface Networks)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atalogue of in-situ needs for GMES services under development by the European Environment Agency (EEA)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rogress on Surface-based Observation Networks: African ceilometer network, South Africa streamflow system, Arctic Biodiversity Data Service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IN-01-C2 (Space Observations)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ew CEOS Virtual Constellation fo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a-Surface Temperature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building upon the work of the Group for High-Resolution Sea-Surface Temperature (GHRSST).  Plans to publish an IOCCG report with new Level-1 Ocean Colour Radiometry requirements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tmospheric Compositi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onstellation (ACC) focused on long-term Ozone record and coordination of future GEO air quality missions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Land Surface Imaging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(LSI) Constellation focused on a map interface for the LSI data portal using CWIC and inclusion of SAR mission information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ew Essential Climate Vari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(ECV) Inventory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eveloped by CEOS, CGMS, and WMO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rogress 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BERS ground station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in Africa and Spain by Brazil (INPE) and China (CRESDA) 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-01-C3 (Coordination across Surface and Space Systems)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ew International Terrestrial Reference Frame (ITRF) core sites in Australia and Russia were established by The Global Geodetic Observing System (GGOS)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-01-C4 (Radio-Frequency Protection)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itional frequency bands allocated to meteorological observations form WMO work at the 12th World Radiocommunication Conference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256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27675-E2D0-4AA7-BA8C-3F2526A52B4D}" type="slidenum">
              <a:rPr b="0" lang="en-US" sz="11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50600" y="93240"/>
            <a:ext cx="7365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erformance Indic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338040" y="1495440"/>
            <a:ext cx="84582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The GEO Infrastructure Implementation Board (IIB) will use metrics (performance indicators) to track success against strategic targets connected to 26 Tasks. 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The GEO ExCom will compile these metrics annually along with obstacles (gaps and issues) in a “traffic light” chart (green, yellow, red).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Lawrence Friedl (NASA, GEO) proposed possible indicators to assess the robustness of observing systems.  These would include ...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Number of essential variables with data collected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(i.e., measurements taken).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Number of essential variables with single-point risk in continuity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(i.e., failure of a single system means data would not be collected)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Number of essential variables with existing or expected gaps in continuity 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Length of gaps (range, average) in continuity of essential variables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Time to collection of essential variables that are not currently collected/measured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Note: IN-01 and IIB to review, refine, and/or select all or subset of these. 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6703F-9CBB-42A5-8340-C0A6EC9732FC}" type="slidenum">
              <a:rPr b="0" lang="en-US" sz="11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50600" y="109440"/>
            <a:ext cx="7264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Next Steps and Iss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Content Placeholder 2"/>
          <p:cNvSpPr/>
          <p:nvPr/>
        </p:nvSpPr>
        <p:spPr>
          <a:xfrm>
            <a:off x="338040" y="1447920"/>
            <a:ext cx="847584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-01 Task Management ..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btain progress reports from the IN-01 components (C1 to C4) and work with GEO and the IIB to consolidate findings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-01-C2 Component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... Obtain progress reports from the 7 sub-elements including those 3 with CEOS leadership.  Monitor the progress of 5 CEOS actions linked to IN-01-C2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trics and Mapp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... Work with the IIB to obtain approval for a set of Performance Indicators to assess progress on GEO Tasks. Complete the mapping of task outputs to Strategic Targe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Management Issu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1) GEO to identify a lead for the IN-01-C3 component (Coordination across Surface-based and Space-based Observing Systems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2) Decision on Performance Indicators needed for assessment of progres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3) Lack of reporting from ROSKOSMOS and Surrey Satellite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Task Progress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.. (1) In-situ data expansion limited by resources and policy in smaller countries (IN-01-C1), (2) Collection of CEOS agency ECV data is starting slowly (IN-01-C2), (3) Integrated global terrestrial network will be challenging (IN-01-C3), (4) Competition for radio frequencies (IN-01-C4).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87763-81FE-4DF6-AFD5-21094811B88F}" type="slidenum">
              <a:rPr b="0" lang="en-US" sz="11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01:07Z</dcterms:created>
  <dc:creator>Brian Killough</dc:creator>
  <dc:description/>
  <dc:language>en-US</dc:language>
  <cp:lastModifiedBy>Brian Killough</cp:lastModifiedBy>
  <dcterms:modified xsi:type="dcterms:W3CDTF">2012-09-11T00:59:52Z</dcterms:modified>
  <cp:revision>225</cp:revision>
  <dc:subject/>
  <dc:title>Title</dc:title>
</cp:coreProperties>
</file>