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0FCAA-9367-4A85-AB63-132221F91D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15FC4-F7CC-408B-85C9-0C20940C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17D2E-F2E3-4A47-830D-32064027E25E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2D30D-913D-4B36-AC44-89FAB2F33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Header Placeholder 4"/>
          <p:cNvSpPr/>
          <p:nvPr/>
        </p:nvSpPr>
        <p:spPr>
          <a:xfrm>
            <a:off x="0" y="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B28F-FFA1-4221-A81D-582130B53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97BF-0D9A-49E4-948A-4717AF594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43E3-AF2B-463B-8B81-5EE561202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1858-442A-4606-BA85-231A82167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34D2-B03A-49C7-BFD0-058829790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9CC8-550F-49D3-A0EB-680C15AB97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EB14-18B2-41D9-B8D0-2F58C515E6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7C8E-C81B-4647-B419-E504048D8B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11EA-E752-40E8-8BEB-DE5B78BCBC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FF9C-313F-41E9-A305-DA7B39CC9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910D-77BB-454E-B341-CFDACF9DB6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6FE4-BF3F-44CB-AE28-75995A532D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3472-5503-406B-93A6-26EBB632D7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CE29-D25D-4CD1-92B6-5AE552BA34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1B1C-4736-490B-9B4C-25E419F245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CF07-8D91-4DC1-868C-4B0EA99A7D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F65E-E5C5-49C0-8C15-B76ADE2327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6049-53F1-487F-A04E-3F1B64181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C2F4-790F-4584-B683-0CCAEF32F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B323-0CB4-4250-B3A8-080900680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6770-1ABB-4173-A56F-FC7A6F84D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8081-DF25-43C6-8308-E6CE2D94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C9B5-AD1D-47D2-AE05-2F34D2626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621B-B6F9-4B2A-92F9-7FC392B70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51C02-08AB-4DA9-873A-1E94DDB2A47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36F45620-EDA1-45C1-A169-7DA7024232A2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31040" y="6523200"/>
            <a:ext cx="454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 Technical Workshop |Reston, Virginia, USA| 11-12 September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5560" y="558720"/>
            <a:ext cx="16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Reston, Virgi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ept 11-12, 2012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0DBEE-BE34-4811-A0AF-5E33D94A5F7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rent Smith and Tim Stryker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Representativ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o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 Post-2015 Working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A1731-655E-472D-A88B-B8BB5087706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EO Post-2015 Working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3080" y="1550880"/>
            <a:ext cx="909000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3080" y="1619280"/>
            <a:ext cx="9147240" cy="336060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91296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otential Future GEO Governance Options        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ent Smith</cp:lastModifiedBy>
  <cp:lastPrinted>2012-09-10T15:04:10Z</cp:lastPrinted>
  <dcterms:modified xsi:type="dcterms:W3CDTF">2012-09-12T12:03:49Z</dcterms:modified>
  <cp:revision>17</cp:revision>
  <dc:subject/>
  <dc:title>Title</dc:title>
</cp:coreProperties>
</file>