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816E0-3E88-4F20-9DEC-3A9E72075E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86483-0B28-4AAA-86D0-3AAACB6B7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E0797-69ED-411C-AAD5-4B3F021A0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D1C4F-F328-4F38-8723-2536BAFDF2D7}" type="slidenum">
              <a:rPr b="0" lang="en-US" sz="1200" spc="-1" strike="noStrike">
                <a:solidFill>
                  <a:srgbClr val="0025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9E65B-DBF2-4D49-A145-D47DB78A4FEF}" type="slidenum">
              <a:rPr b="0" lang="en-US" sz="1200" spc="-1" strike="noStrike">
                <a:solidFill>
                  <a:srgbClr val="0025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EC353-ACE2-4A20-B836-E9575F872653}" type="slidenum">
              <a:rPr b="0" lang="en-US" sz="1200" spc="-1" strike="noStrike">
                <a:solidFill>
                  <a:srgbClr val="0025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CE2C7-F4A1-449D-A673-3A76F39EDD45}" type="slidenum">
              <a:rPr b="0" lang="en-US" sz="1200" spc="-1" strike="noStrike">
                <a:solidFill>
                  <a:srgbClr val="0025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5AD39-639D-462D-8E33-92DF721C4557}" type="slidenum">
              <a:rPr b="0" lang="en-US" sz="1200" spc="-1" strike="noStrike">
                <a:solidFill>
                  <a:srgbClr val="0025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597B8-4414-4650-A7B0-603E41610A84}" type="slidenum">
              <a:rPr b="0" lang="en-US" sz="1200" spc="-1" strike="noStrike">
                <a:solidFill>
                  <a:srgbClr val="0025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6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3B47C-C872-4CB1-8E19-D9C2DF95ECBE}" type="slidenum">
              <a:rPr b="0" lang="en-US" sz="1200" spc="-1" strike="noStrike">
                <a:solidFill>
                  <a:srgbClr val="0025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00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739EE-73FF-4568-B316-040E96A9FC8B}" type="slidenum">
              <a:rPr b="0" lang="en-US" sz="1200" spc="-1" strike="noStrike">
                <a:solidFill>
                  <a:srgbClr val="00256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04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B588-7C83-436F-BB0A-724AD599D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4E85-3EA4-4C22-B672-7F50B632C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E1A4-9FD5-4785-9243-CD070365B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6141-6D4F-4FDE-82B3-96ABFC07B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E1E74-2C8C-42DF-8954-26254D1A35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F3FB1-955E-4F68-9E79-3D2468E913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4EAB-8DE8-4CC5-B026-A6DDBD292B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4BBF9-FD1F-4A1D-A936-45830C31B4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DF2B-6B24-491C-A5D4-182F9FD9F5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FDE57-A01B-4827-8CE3-DC6F999861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B01A-A912-4674-B8B0-BF384D1976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6378-985A-4F1C-8246-92FBE22B3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5909A-CDC5-4B15-AC2A-623804DFBD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C2EF1-79DD-4888-A2EA-C6BC8D7BE0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5E2D-5CBB-45BF-8B84-FCDBCB4B82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EB93-FB22-44EA-99B3-9F308F258E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CA54D-331F-4714-AB35-A145C89C74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04F7C-EFF6-4CBF-BF67-0B6D142D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1F0F7-73DF-4AA8-BB7E-325579DD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3CAF6-89E9-4C66-81F5-FAD6C031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77C77-821A-42F4-8A2A-6253A06D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31EA9-C44F-4C9E-8F5C-41133FE5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BDD1-5C79-408D-83DE-C73427C433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1F979-E5E9-48BD-B2F7-E5225AB0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50E4A-F2AB-4A43-B414-4E4503E6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28A7F-C5CD-4A56-963C-D080D202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E4B5B-3206-4320-9F8E-795868FD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532B8-AB46-490C-B0BF-88EABF76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25507-5608-4CBB-82EC-8D6F33A1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E4C73-53D9-46B8-BEBD-1B219D02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ECCF49-E313-4BCF-BD14-8F6E65CF52C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E722F6-A45F-43D7-8034-81AEBCB95C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3096AD-574E-4C15-8428-83229C619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E2D9-D3CD-48B3-9152-33C2B6FCBC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D24E5D-A3A8-4A02-8320-B2F67075FA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C5D012-A364-4FAB-850A-E84CC4375D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344E04-22AE-4376-9596-4AC4D63BCB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089126-0285-4A10-A378-3EF1B0F733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7A8CE7-5DC3-4F93-862B-6E68A2533B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733F04-DCA0-46C0-B6F8-81057728DA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D7E518-C4EC-4E50-9EA5-E768FA964F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AD2CFB-CCFE-4754-ADF9-647FEC94DA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FB4965-2CED-45B8-84C8-C29B7D8AC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AEA0-9C10-467E-A456-7B0B11FA0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7635-48C6-454F-837A-0F258CF6D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7343-E74D-4530-93BD-D65899F51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1AC1-1198-4013-BB55-655B0D591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5CC9-391C-4001-B24F-0E5CD5F3C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13320" y="528480"/>
            <a:ext cx="1453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IT Technical Workshop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Washington DC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eptember 11-12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BA88A-FA45-4CA3-87AF-C9FC46226058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3320" y="528480"/>
            <a:ext cx="1453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IT Technical Workshop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Washington DC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eptember 11-12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00057-D77B-4A03-B3A4-288F6712A521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3320" y="528480"/>
            <a:ext cx="1453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IT Technical Workshop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Washington DC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eptember 11-12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BF5CE-D246-43A8-9BED-98646FF9FB4D}" type="datetime"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26-07-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5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40AA8-3383-4D3B-BCD3-FB163768F49D}" type="slidenum">
              <a:rPr b="0" lang="en-CA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3320" y="528480"/>
            <a:ext cx="1453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IT Technical Workshop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Washington DC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eptember 11-12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30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6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2569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 Unicode MS"/>
              </a:rPr>
              <a:t>23</a:t>
            </a:r>
            <a:r>
              <a:rPr b="0" lang="en-US" sz="1800" spc="-1" strike="noStrike" baseline="30000">
                <a:solidFill>
                  <a:srgbClr val="002569"/>
                </a:solidFill>
                <a:latin typeface="Arial Unicode MS"/>
              </a:rPr>
              <a:t>rd</a:t>
            </a:r>
            <a:r>
              <a:rPr b="0" lang="en-US" sz="1800" spc="-1" strike="noStrike">
                <a:solidFill>
                  <a:srgbClr val="002569"/>
                </a:solidFill>
                <a:latin typeface="Arial Unicode MS"/>
              </a:rPr>
              <a:t> CEOS Plenary  I Phuket, Thailand I 3-5 December 200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8C0B0-42A3-4FAA-B464-C544B7A5CD06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803B1-970B-429D-BDEB-D9C92D63243E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974160" y="3767040"/>
            <a:ext cx="4188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an Killoug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ASA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wrence Frie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ASA)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1, 2012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n, Virginia (USGS)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492120" y="1563840"/>
            <a:ext cx="815508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 in th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 and Coordination o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ace-based Observing Systems</a:t>
            </a:r>
            <a:br>
              <a:rPr sz="4000"/>
            </a:b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grpSp>
        <p:nvGrpSpPr>
          <p:cNvPr id="181" name="Group 14"/>
          <p:cNvGrpSpPr/>
          <p:nvPr/>
        </p:nvGrpSpPr>
        <p:grpSpPr>
          <a:xfrm>
            <a:off x="5415120" y="3530520"/>
            <a:ext cx="2869920" cy="2482920"/>
            <a:chOff x="5415120" y="3530520"/>
            <a:chExt cx="2869920" cy="2482920"/>
          </a:xfrm>
        </p:grpSpPr>
        <p:pic>
          <p:nvPicPr>
            <p:cNvPr id="182" name="Picture 6" descr=""/>
            <p:cNvPicPr/>
            <p:nvPr/>
          </p:nvPicPr>
          <p:blipFill>
            <a:blip r:embed="rId2"/>
            <a:stretch/>
          </p:blipFill>
          <p:spPr>
            <a:xfrm>
              <a:off x="5415120" y="3602160"/>
              <a:ext cx="2781720" cy="236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Freeform 13"/>
            <p:cNvSpPr/>
            <p:nvPr/>
          </p:nvSpPr>
          <p:spPr>
            <a:xfrm>
              <a:off x="7304400" y="3530520"/>
              <a:ext cx="980640" cy="248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2569"/>
                </a:solidFill>
                <a:latin typeface="Arial"/>
              </a:endParaRPr>
            </a:p>
          </p:txBody>
        </p:sp>
      </p:grpSp>
      <p:pic>
        <p:nvPicPr>
          <p:cNvPr id="184" name="Picture 8" descr="NASA-transparent.png"/>
          <p:cNvPicPr/>
          <p:nvPr/>
        </p:nvPicPr>
        <p:blipFill>
          <a:blip r:embed="rId3"/>
          <a:stretch/>
        </p:blipFill>
        <p:spPr>
          <a:xfrm>
            <a:off x="8034480" y="5958000"/>
            <a:ext cx="96516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1539720" y="139680"/>
            <a:ext cx="74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-01 Task Managemen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6" name="Content Placeholder 2"/>
          <p:cNvSpPr/>
          <p:nvPr/>
        </p:nvSpPr>
        <p:spPr>
          <a:xfrm>
            <a:off x="144360" y="1482840"/>
            <a:ext cx="877896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What is the GEO IN-01 Task ? </a:t>
            </a:r>
            <a:endParaRPr b="0" lang="en-US" sz="17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Rev. 1.2 of GEO 2012-2015 Work Plan will be presented to the GEO Plenary for acceptance in  November 2012.  The plan includes 26 Tasks in the 3 areas of Infrastructure (IN), Institutions and Development (ID), and Information for Societal Benefits.  GEO has implemented 3 Infrastructure Implementation Boards (IIB) aligned with these areas.</a:t>
            </a:r>
            <a:endParaRPr b="0" lang="en-US" sz="17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IN-01 Task = Earth Observing Systems ...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Coordination of Earth observing systems and activities to enable &amp; enhance collection of measurements. The IN-01 Task includes 4 components (C1 through C4) ... next chart.</a:t>
            </a:r>
            <a:endParaRPr b="0" lang="en-US" sz="17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What are the responsibilities of CEOS? </a:t>
            </a:r>
            <a:endParaRPr b="0" lang="en-US" sz="17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SIT Chair (NASA) is the “Coordinator” for the entire IN-01 Task.  This coordination is now led by Brian Killough (NASA).  Formerly this was led by Chris Blackerby, who has transferred to Japan for a new assignment with NASA.  </a:t>
            </a:r>
            <a:endParaRPr b="0" lang="en-US" sz="17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SIT Chair (NASA) is the “POC” for the IN-01-C2 Component, which is focused on the development and coordination of space-based observing systems ... 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  <a:ea typeface="Calibri"/>
              </a:rPr>
              <a:t>this is CEOS</a:t>
            </a:r>
            <a:r>
              <a:rPr b="0" lang="en-US" sz="1700" spc="-1" strike="noStrike">
                <a:solidFill>
                  <a:srgbClr val="ff0000"/>
                </a:solidFill>
                <a:latin typeface="Calibri"/>
                <a:ea typeface="Calibri"/>
              </a:rPr>
              <a:t>.</a:t>
            </a:r>
            <a:endParaRPr b="0" lang="en-US" sz="17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CEOS has representatives on the GEO IIB: NASA (Brian Killough) and ESA (Ivan Petiteville).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The IIB will monitor progress toward strategic targets and report annually (in July) to the GEO Executive Committee (ExCom).</a:t>
            </a:r>
            <a:endParaRPr b="0" lang="en-US" sz="17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53644-24C1-491A-8982-05B164FFE78D}" type="slidenum">
              <a:rPr b="0" lang="en-US" sz="1100" spc="-1" strike="noStrike">
                <a:solidFill>
                  <a:srgbClr val="00256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539720" y="139680"/>
            <a:ext cx="74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EOS Roles in the GEO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9" name="Oval 11"/>
          <p:cNvSpPr/>
          <p:nvPr/>
        </p:nvSpPr>
        <p:spPr>
          <a:xfrm>
            <a:off x="3691080" y="1473120"/>
            <a:ext cx="1701720" cy="779400"/>
          </a:xfrm>
          <a:prstGeom prst="ellipse">
            <a:avLst/>
          </a:prstGeom>
          <a:solidFill>
            <a:srgbClr val="ffd7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0" name="TextBox 12"/>
          <p:cNvSpPr/>
          <p:nvPr/>
        </p:nvSpPr>
        <p:spPr>
          <a:xfrm>
            <a:off x="3863880" y="1609560"/>
            <a:ext cx="136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Arial"/>
              </a:rPr>
              <a:t>GEO Work Plan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1117440" y="2684520"/>
            <a:ext cx="1897200" cy="676080"/>
          </a:xfrm>
          <a:prstGeom prst="rect">
            <a:avLst/>
          </a:prstGeom>
          <a:solidFill>
            <a:srgbClr val="aecbf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260360" y="2641680"/>
            <a:ext cx="160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</a:rPr>
              <a:t>Institutions and Development</a:t>
            </a:r>
            <a:br>
              <a:rPr sz="1400"/>
            </a:br>
            <a:r>
              <a:rPr b="1" lang="en-US" sz="1400" spc="-1" strike="noStrike">
                <a:solidFill>
                  <a:srgbClr val="002569"/>
                </a:solidFill>
                <a:latin typeface="Arial"/>
              </a:rPr>
              <a:t>(ID)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3817800" y="2674800"/>
            <a:ext cx="1473480" cy="677880"/>
          </a:xfrm>
          <a:prstGeom prst="rect">
            <a:avLst/>
          </a:prstGeom>
          <a:solidFill>
            <a:srgbClr val="aecbf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851280" y="2759040"/>
            <a:ext cx="142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</a:rPr>
              <a:t>Infrastructure</a:t>
            </a:r>
            <a:br>
              <a:rPr sz="1400"/>
            </a:br>
            <a:r>
              <a:rPr b="1" lang="en-US" sz="1400" spc="-1" strike="noStrike">
                <a:solidFill>
                  <a:srgbClr val="002569"/>
                </a:solidFill>
                <a:latin typeface="Arial"/>
              </a:rPr>
              <a:t>(IN)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6307200" y="2703600"/>
            <a:ext cx="2158920" cy="676080"/>
          </a:xfrm>
          <a:prstGeom prst="rect">
            <a:avLst/>
          </a:prstGeom>
          <a:solidFill>
            <a:srgbClr val="aecbf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6" name="TextBox 18"/>
          <p:cNvSpPr/>
          <p:nvPr/>
        </p:nvSpPr>
        <p:spPr>
          <a:xfrm>
            <a:off x="6391440" y="2768760"/>
            <a:ext cx="204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</a:rPr>
              <a:t>Information for Societal Benefits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7" name="TextBox 19"/>
          <p:cNvSpPr/>
          <p:nvPr/>
        </p:nvSpPr>
        <p:spPr>
          <a:xfrm>
            <a:off x="1119960" y="23367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IIB-1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7850880" y="23637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IIB-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9" name="Straight Connector 25"/>
          <p:cNvSpPr/>
          <p:nvPr/>
        </p:nvSpPr>
        <p:spPr>
          <a:xfrm flipH="1" flipV="1">
            <a:off x="2362320" y="2489040"/>
            <a:ext cx="792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cxnSp>
        <p:nvCxnSpPr>
          <p:cNvPr id="200" name="Straight Arrow Connector 27"/>
          <p:cNvCxnSpPr/>
          <p:nvPr/>
        </p:nvCxnSpPr>
        <p:spPr>
          <a:xfrm flipH="1">
            <a:off x="2862000" y="2064240"/>
            <a:ext cx="956160" cy="63900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01" name="Straight Arrow Connector 30"/>
          <p:cNvCxnSpPr>
            <a:endCxn id="193" idx="0"/>
          </p:cNvCxnSpPr>
          <p:nvPr/>
        </p:nvCxnSpPr>
        <p:spPr>
          <a:xfrm flipH="1">
            <a:off x="4553640" y="2322000"/>
            <a:ext cx="3960" cy="35316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02" name="Straight Arrow Connector 31"/>
          <p:cNvCxnSpPr/>
          <p:nvPr/>
        </p:nvCxnSpPr>
        <p:spPr>
          <a:xfrm>
            <a:off x="5291280" y="2065320"/>
            <a:ext cx="1100880" cy="6199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03" name="TextBox 38"/>
          <p:cNvSpPr/>
          <p:nvPr/>
        </p:nvSpPr>
        <p:spPr>
          <a:xfrm>
            <a:off x="271080" y="288612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5 Tasks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4" name="TextBox 39"/>
          <p:cNvSpPr/>
          <p:nvPr/>
        </p:nvSpPr>
        <p:spPr>
          <a:xfrm>
            <a:off x="3555720" y="343224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5 Tasks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5" name="TextBox 40"/>
          <p:cNvSpPr/>
          <p:nvPr/>
        </p:nvSpPr>
        <p:spPr>
          <a:xfrm>
            <a:off x="7720920" y="337968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16 Tasks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6" name="TextBox 41"/>
          <p:cNvSpPr/>
          <p:nvPr/>
        </p:nvSpPr>
        <p:spPr>
          <a:xfrm>
            <a:off x="4714920" y="6022800"/>
            <a:ext cx="3568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CEOS* = IIB Member (NASA, ESA, CSA)</a:t>
            </a:r>
            <a:endParaRPr b="0" lang="en-US" sz="11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CEOS** = Task Coordinator (NASA, DCC, CSA)</a:t>
            </a:r>
            <a:br>
              <a:rPr sz="1100"/>
            </a:b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CEOS*** = Component POC (NASA, JAXA, CSA)</a:t>
            </a:r>
            <a:endParaRPr b="0" lang="en-US" sz="11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CEOS = Component Contribution (many)</a:t>
            </a:r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7" name="Rectangle 42"/>
          <p:cNvSpPr/>
          <p:nvPr/>
        </p:nvSpPr>
        <p:spPr>
          <a:xfrm>
            <a:off x="2852640" y="4325760"/>
            <a:ext cx="533520" cy="31464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8" name="TextBox 43"/>
          <p:cNvSpPr/>
          <p:nvPr/>
        </p:nvSpPr>
        <p:spPr>
          <a:xfrm>
            <a:off x="2856600" y="436248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N-01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3564000" y="4325760"/>
            <a:ext cx="533160" cy="31464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0" name="TextBox 45"/>
          <p:cNvSpPr/>
          <p:nvPr/>
        </p:nvSpPr>
        <p:spPr>
          <a:xfrm>
            <a:off x="3567960" y="436248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N-02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1" name="Rectangle 46"/>
          <p:cNvSpPr/>
          <p:nvPr/>
        </p:nvSpPr>
        <p:spPr>
          <a:xfrm>
            <a:off x="4257720" y="4335480"/>
            <a:ext cx="533520" cy="31284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2" name="TextBox 47"/>
          <p:cNvSpPr/>
          <p:nvPr/>
        </p:nvSpPr>
        <p:spPr>
          <a:xfrm>
            <a:off x="4261680" y="43718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N-03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3" name="Rectangle 48"/>
          <p:cNvSpPr/>
          <p:nvPr/>
        </p:nvSpPr>
        <p:spPr>
          <a:xfrm>
            <a:off x="4979880" y="4335480"/>
            <a:ext cx="533520" cy="31284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4" name="TextBox 49"/>
          <p:cNvSpPr/>
          <p:nvPr/>
        </p:nvSpPr>
        <p:spPr>
          <a:xfrm>
            <a:off x="4983840" y="43718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N-04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5" name="Rectangle 50"/>
          <p:cNvSpPr/>
          <p:nvPr/>
        </p:nvSpPr>
        <p:spPr>
          <a:xfrm>
            <a:off x="5688000" y="4343400"/>
            <a:ext cx="531720" cy="31428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6" name="TextBox 51"/>
          <p:cNvSpPr/>
          <p:nvPr/>
        </p:nvSpPr>
        <p:spPr>
          <a:xfrm>
            <a:off x="5699160" y="437976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N-05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cxnSp>
        <p:nvCxnSpPr>
          <p:cNvPr id="217" name="Straight Arrow Connector 56"/>
          <p:cNvCxnSpPr/>
          <p:nvPr/>
        </p:nvCxnSpPr>
        <p:spPr>
          <a:xfrm>
            <a:off x="4556520" y="3413160"/>
            <a:ext cx="1080" cy="637200"/>
          </a:xfrm>
          <a:prstGeom prst="straightConnector1">
            <a:avLst/>
          </a:prstGeom>
          <a:ln w="50760">
            <a:solidFill>
              <a:srgbClr val="0000ff"/>
            </a:solidFill>
            <a:miter/>
          </a:ln>
        </p:spPr>
      </p:cxnSp>
      <p:sp>
        <p:nvSpPr>
          <p:cNvPr id="218" name="TextBox 58"/>
          <p:cNvSpPr/>
          <p:nvPr/>
        </p:nvSpPr>
        <p:spPr>
          <a:xfrm>
            <a:off x="945000" y="5486400"/>
            <a:ext cx="3437640" cy="824040"/>
          </a:xfrm>
          <a:prstGeom prst="rect">
            <a:avLst/>
          </a:prstGeom>
          <a:noFill/>
          <a:ln w="936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N-01-C1: Ground and In-Situ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N-01-C2: Space</a:t>
            </a:r>
            <a:br>
              <a:rPr sz="1200"/>
            </a:b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N-01-C3: Coordination of Ground/In-Situ/Space</a:t>
            </a:r>
            <a:br>
              <a:rPr sz="1200"/>
            </a:b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N-01-C4: Radio Frequencie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9" name="TextBox 61"/>
          <p:cNvSpPr/>
          <p:nvPr/>
        </p:nvSpPr>
        <p:spPr>
          <a:xfrm>
            <a:off x="4821840" y="240840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IIB-2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cxnSp>
        <p:nvCxnSpPr>
          <p:cNvPr id="220" name="Straight Arrow Connector 62"/>
          <p:cNvCxnSpPr/>
          <p:nvPr/>
        </p:nvCxnSpPr>
        <p:spPr>
          <a:xfrm flipH="1">
            <a:off x="3414240" y="4048560"/>
            <a:ext cx="1140480" cy="2768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21" name="Straight Arrow Connector 65"/>
          <p:cNvCxnSpPr/>
          <p:nvPr/>
        </p:nvCxnSpPr>
        <p:spPr>
          <a:xfrm flipH="1">
            <a:off x="4096800" y="4049640"/>
            <a:ext cx="457920" cy="2865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22" name="Straight Arrow Connector 68"/>
          <p:cNvCxnSpPr/>
          <p:nvPr/>
        </p:nvCxnSpPr>
        <p:spPr>
          <a:xfrm>
            <a:off x="4557600" y="4049280"/>
            <a:ext cx="1139040" cy="2768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23" name="Straight Arrow Connector 71"/>
          <p:cNvCxnSpPr/>
          <p:nvPr/>
        </p:nvCxnSpPr>
        <p:spPr>
          <a:xfrm flipH="1">
            <a:off x="4555800" y="4049640"/>
            <a:ext cx="2160" cy="2782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24" name="Straight Arrow Connector 74"/>
          <p:cNvCxnSpPr/>
          <p:nvPr/>
        </p:nvCxnSpPr>
        <p:spPr>
          <a:xfrm>
            <a:off x="4557240" y="4049280"/>
            <a:ext cx="423000" cy="2768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25" name="TextBox 80"/>
          <p:cNvSpPr/>
          <p:nvPr/>
        </p:nvSpPr>
        <p:spPr>
          <a:xfrm>
            <a:off x="3331080" y="4684680"/>
            <a:ext cx="107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***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6" name="TextBox 81"/>
          <p:cNvSpPr/>
          <p:nvPr/>
        </p:nvSpPr>
        <p:spPr>
          <a:xfrm>
            <a:off x="4799880" y="2244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*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7" name="TextBox 82"/>
          <p:cNvSpPr/>
          <p:nvPr/>
        </p:nvSpPr>
        <p:spPr>
          <a:xfrm>
            <a:off x="5513400" y="4707000"/>
            <a:ext cx="89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8" name="TextBox 83"/>
          <p:cNvSpPr/>
          <p:nvPr/>
        </p:nvSpPr>
        <p:spPr>
          <a:xfrm>
            <a:off x="1364400" y="3502080"/>
            <a:ext cx="13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D-02-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9" name="TextBox 84"/>
          <p:cNvSpPr/>
          <p:nvPr/>
        </p:nvSpPr>
        <p:spPr>
          <a:xfrm>
            <a:off x="7109280" y="373068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SB-01-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0" name="TextBox 85"/>
          <p:cNvSpPr/>
          <p:nvPr/>
        </p:nvSpPr>
        <p:spPr>
          <a:xfrm>
            <a:off x="1361160" y="3711600"/>
            <a:ext cx="13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ID-02-C2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1" name="TextBox 86"/>
          <p:cNvSpPr/>
          <p:nvPr/>
        </p:nvSpPr>
        <p:spPr>
          <a:xfrm>
            <a:off x="7109280" y="391788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SB-01-C2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2" name="TextBox 87"/>
          <p:cNvSpPr/>
          <p:nvPr/>
        </p:nvSpPr>
        <p:spPr>
          <a:xfrm>
            <a:off x="7109280" y="410220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SB-03-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3" name="TextBox 88"/>
          <p:cNvSpPr/>
          <p:nvPr/>
        </p:nvSpPr>
        <p:spPr>
          <a:xfrm>
            <a:off x="7109280" y="427500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SB-03-C2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4" name="TextBox 89"/>
          <p:cNvSpPr/>
          <p:nvPr/>
        </p:nvSpPr>
        <p:spPr>
          <a:xfrm>
            <a:off x="7121160" y="445140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DI-01-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***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5" name="TextBox 90"/>
          <p:cNvSpPr/>
          <p:nvPr/>
        </p:nvSpPr>
        <p:spPr>
          <a:xfrm>
            <a:off x="7112880" y="4638600"/>
            <a:ext cx="13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DI-01-C2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6" name="TextBox 91"/>
          <p:cNvSpPr/>
          <p:nvPr/>
        </p:nvSpPr>
        <p:spPr>
          <a:xfrm>
            <a:off x="7109640" y="4840200"/>
            <a:ext cx="13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DI-01-C5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7" name="TextBox 92"/>
          <p:cNvSpPr/>
          <p:nvPr/>
        </p:nvSpPr>
        <p:spPr>
          <a:xfrm>
            <a:off x="7108560" y="5016600"/>
            <a:ext cx="13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EN-01-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8" name="TextBox 93"/>
          <p:cNvSpPr/>
          <p:nvPr/>
        </p:nvSpPr>
        <p:spPr>
          <a:xfrm>
            <a:off x="7108200" y="536724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CL-02-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39" name="TextBox 94"/>
          <p:cNvSpPr/>
          <p:nvPr/>
        </p:nvSpPr>
        <p:spPr>
          <a:xfrm>
            <a:off x="7099560" y="555768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WA-01-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0" name="TextBox 95"/>
          <p:cNvSpPr/>
          <p:nvPr/>
        </p:nvSpPr>
        <p:spPr>
          <a:xfrm>
            <a:off x="7115760" y="574056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AG-01-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1" name="TextBox 81"/>
          <p:cNvSpPr/>
          <p:nvPr/>
        </p:nvSpPr>
        <p:spPr>
          <a:xfrm>
            <a:off x="7837560" y="218916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*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2" name="TextBox 81"/>
          <p:cNvSpPr/>
          <p:nvPr/>
        </p:nvSpPr>
        <p:spPr>
          <a:xfrm>
            <a:off x="2801520" y="406728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**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3" name="TextBox 39"/>
          <p:cNvSpPr/>
          <p:nvPr/>
        </p:nvSpPr>
        <p:spPr>
          <a:xfrm>
            <a:off x="990000" y="515628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Earth Observing Systems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cxnSp>
        <p:nvCxnSpPr>
          <p:cNvPr id="244" name="Straight Arrow Connector 27"/>
          <p:cNvCxnSpPr/>
          <p:nvPr/>
        </p:nvCxnSpPr>
        <p:spPr>
          <a:xfrm flipH="1">
            <a:off x="2361600" y="4648320"/>
            <a:ext cx="500760" cy="497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45" name="TextBox 81"/>
          <p:cNvSpPr/>
          <p:nvPr/>
        </p:nvSpPr>
        <p:spPr>
          <a:xfrm>
            <a:off x="6507720" y="452916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**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6" name="TextBox 81"/>
          <p:cNvSpPr/>
          <p:nvPr/>
        </p:nvSpPr>
        <p:spPr>
          <a:xfrm>
            <a:off x="6507720" y="417024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**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7" name="TextBox 81"/>
          <p:cNvSpPr/>
          <p:nvPr/>
        </p:nvSpPr>
        <p:spPr>
          <a:xfrm>
            <a:off x="191160" y="56689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***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8" name="TextBox 81"/>
          <p:cNvSpPr/>
          <p:nvPr/>
        </p:nvSpPr>
        <p:spPr>
          <a:xfrm>
            <a:off x="189360" y="585324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9" name="TextBox 82"/>
          <p:cNvSpPr/>
          <p:nvPr/>
        </p:nvSpPr>
        <p:spPr>
          <a:xfrm>
            <a:off x="4119480" y="4878360"/>
            <a:ext cx="89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C1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0" name="TextBox 93"/>
          <p:cNvSpPr/>
          <p:nvPr/>
        </p:nvSpPr>
        <p:spPr>
          <a:xfrm>
            <a:off x="7106400" y="519120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569"/>
                </a:solidFill>
                <a:latin typeface="Arial"/>
              </a:rPr>
              <a:t>CL-01-C2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BE572-A329-42A0-925D-D84514C846DB}" type="slidenum">
              <a:rPr b="0" lang="en-US" sz="1100" spc="-1" strike="noStrike">
                <a:solidFill>
                  <a:srgbClr val="00256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1539720" y="139680"/>
            <a:ext cx="74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-01 Component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253" name="Group 13" descr=""/>
          <p:cNvPicPr/>
          <p:nvPr/>
        </p:nvPicPr>
        <p:blipFill>
          <a:blip r:embed="rId2"/>
          <a:stretch/>
        </p:blipFill>
        <p:spPr>
          <a:xfrm>
            <a:off x="2682720" y="2146320"/>
            <a:ext cx="3730680" cy="34686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7"/>
          <p:cNvSpPr/>
          <p:nvPr/>
        </p:nvSpPr>
        <p:spPr>
          <a:xfrm>
            <a:off x="138240" y="1530360"/>
            <a:ext cx="37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ordination of Surface-based Observing Networks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European Environment Agency (Tim Haigh, EEA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138240" y="533232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ordination across Surface-based and Space-based Observing Systems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TBD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6300720" y="1530360"/>
            <a:ext cx="26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ordination of Space-based Observing Networks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EO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5896080" y="5332320"/>
            <a:ext cx="301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dio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Protectio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Instituto Nacional de Meteorologia (Jose Arimatea Brito, INMET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121D7-C0A2-4F4C-8D1E-02C09822F820}" type="slidenum">
              <a:rPr b="0" lang="en-US" sz="1100" spc="-1" strike="noStrike">
                <a:solidFill>
                  <a:srgbClr val="00256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539720" y="139680"/>
            <a:ext cx="74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trategic Targets for IN-01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0" name="Content Placeholder 2"/>
          <p:cNvSpPr/>
          <p:nvPr/>
        </p:nvSpPr>
        <p:spPr>
          <a:xfrm>
            <a:off x="355680" y="1495440"/>
            <a:ext cx="846612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rchitectur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ordinated, sustained and improved global observing and information systems within an interoperable framework utilizing space, airborne and in-situ platform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nsition of research outcomes and systems into operational use and increased efficiency in operation of observational systems.   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athe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dentify and address critical gaps in observational networks with a focus on developing countries, continuity in space-based and in-situ observations, and the benefits to user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ate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n operational and sustained global network of in-situ observation site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Note: The IN-01 Task addresses topics related to all of the GEOSS Strategic Targets (GEO-VI Document 12 Rev1). This chart shows the three that are included in Work Plan Rev. 1.1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45ECF-790C-4D95-BD57-A326FF5B7AB3}" type="slidenum">
              <a:rPr b="0" lang="en-US" sz="1100" spc="-1" strike="noStrike">
                <a:solidFill>
                  <a:srgbClr val="00256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539720" y="139680"/>
            <a:ext cx="74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-01-C2 Componen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3" name="Content Placeholder 2"/>
          <p:cNvSpPr/>
          <p:nvPr/>
        </p:nvSpPr>
        <p:spPr>
          <a:xfrm>
            <a:off x="144360" y="1677960"/>
            <a:ext cx="877896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EOS Leads the IN-01-C2 Component, which includes these 7 elements ... 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romote rapid development of CEOS Constellations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Calibri"/>
              </a:rPr>
              <a:t>CEOS Constellation Lea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re are 5 CEOS actions related to IN-01-C2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evelop an arctic hydrometeorological satellite network (ROSKSOMOS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xplore synergies with the Earthmapper constellation for global high resolution observations (Surrey Satellites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stablish and upgrade ground station capacity in Africa for CBERS (INPE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romote the AfricaGeoSat-1 Project (SA Dept of Science and Technology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stablish actions securing ECV data from satellites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Calibri"/>
              </a:rPr>
              <a:t>CEOS WGClim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romote space missions to fill gaps from the loss of key instrum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i.e., Envisat, AURA)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Calibri"/>
              </a:rPr>
              <a:t>CEOS Constellation Lea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pproximately quarterly status reports within the IN-01-C2 Component are desired by CEOS to support the IN-01 Task, IIB, and GEO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339A9-476A-4023-BA5C-3EE679711369}" type="slidenum">
              <a:rPr b="0" lang="en-US" sz="1100" spc="-1" strike="noStrike">
                <a:solidFill>
                  <a:srgbClr val="00256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50600" y="93240"/>
            <a:ext cx="7365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-01 Highligh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Content Placeholder 2"/>
          <p:cNvSpPr/>
          <p:nvPr/>
        </p:nvSpPr>
        <p:spPr>
          <a:xfrm>
            <a:off x="144360" y="1469880"/>
            <a:ext cx="88725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-01-C1 (Surface Networks)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Catalogue of in-situ needs for GMES services under development by the European Environment Agency (EEA)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Progress on Surface-based Observation Networks: African ceilometer network, South Africa streamflow system, Arctic Biodiversity Data Service.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IN-01-C2 (Space Observations)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New CEOS Virtual Constellation for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ea-Surface Temperature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building upon the work of the Group for High-Resolution Sea-Surface Temperature (GHRSST).  Plans to publish an IOCCG report with new Level-1 Ocean Colour Radiometry requirements.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tmospheric Composition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Constellation (ACC) focused on long-term Ozone record and coordination of future GEO air quality missions.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Land Surface Imaging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(LSI) Constellation focused on a map interface for the LSI data portal using CWIC and inclusion of SAR mission information.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New Essential Climate Variabl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(ECV) Inventory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developed by CEOS, CGMS, and WMO.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Progress 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CBERS ground station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in Africa and Spain by Brazil (INPE) and China (CRESDA) 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-01-C3 (Coordination across Surface and Space Systems)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New International Terrestrial Reference Frame (ITRF) core sites in Australia and Russia were established by The Global Geodetic Observing System (GGOS)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-01-C4 (Radio-Frequency Protection)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itional frequency bands allocated to meteorological observations form WMO work at the 12th World Radiocommunication Conference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2569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9B57E-F2D4-4FCC-8107-50618EFA1BBD}" type="slidenum">
              <a:rPr b="0" lang="en-US" sz="11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50600" y="93240"/>
            <a:ext cx="7365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erformance Indica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Content Placeholder 2"/>
          <p:cNvSpPr/>
          <p:nvPr/>
        </p:nvSpPr>
        <p:spPr>
          <a:xfrm>
            <a:off x="338040" y="1495440"/>
            <a:ext cx="845820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The GEO Infrastructure Implementation Board (IIB) will use metrics (performance indicators) to track success against strategic targets connected to 26 Tasks. 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The GEO ExCom will compile these metrics annually along with obstacles (gaps and issues) in a “traffic light” chart (green, yellow, red).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Lawrence Friedl (NASA, GEO) proposed possible indicators to assess the robustness of observing systems.  These would include ...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Number of essential variables with data collected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(i.e., measurements taken).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Number of essential variables with single-point risk in continuity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(i.e., failure of a single system means data would not be collected)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Number of essential variables with existing or expected gaps in continuity 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Length of gaps (range, average) in continuity of essential variables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Time to collection of essential variables that are not currently collected/measured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Note: IN-01 and IIB to review, refine, and/or select all or subset of these. 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53056-B403-4ED0-9F78-6D2F007857F4}" type="slidenum">
              <a:rPr b="0" lang="en-US" sz="11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50600" y="109440"/>
            <a:ext cx="7264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Next Steps and Issu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Content Placeholder 2"/>
          <p:cNvSpPr/>
          <p:nvPr/>
        </p:nvSpPr>
        <p:spPr>
          <a:xfrm>
            <a:off x="338040" y="1447920"/>
            <a:ext cx="8475840" cy="40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-01 Task Management ..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btain progress reports from the IN-01 components (C1 to C4) and work with GEO and the IIB to consolidate findings 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-01-C2 Component Man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... Obtain progress reports from the 7 sub-elements including those 3 with CEOS leadership.  Monitor the progress of 5 CEOS actions linked to IN-01-C2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etrics and Mapp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... Work with the IIB to obtain approval for a set of Performance Indicators to assess progress on GEO Tasks. Complete the mapping of task outputs to Strategic Target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Management Issue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..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1) GEO to identify a lead for the IN-01-C3 component (Coordination across Surface-based and Space-based Observing Systems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2) Decision on Performance Indicators needed for assessment of progres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3) Lack of reporting from ROSKOSMOS and Surrey Satellite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Task Progress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... (1) In-situ data expansion limited by resources and policy in smaller countries (IN-01-C1), (2) Collection of CEOS agency ECV data is starting slowly (IN-01-C2), (3) Integrated global terrestrial network will be challenging (IN-01-C3), (4) Competition for radio frequencies (IN-01-C4). 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4FB49-6C23-4CDB-8251-B091375391E4}" type="slidenum">
              <a:rPr b="0" lang="en-US" sz="1100" spc="-1" strike="noStrike">
                <a:solidFill>
                  <a:srgbClr val="002569"/>
                </a:solidFill>
                <a:latin typeface="Arial Unicode MS"/>
              </a:rPr>
              <a:t>&lt;number&gt;</a:t>
            </a:fld>
            <a:endParaRPr b="0" lang="en-US" sz="11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9:01:07Z</dcterms:created>
  <dc:creator>Brian Killough</dc:creator>
  <dc:description/>
  <dc:language>en-US</dc:language>
  <cp:lastModifiedBy>Brian Killough</cp:lastModifiedBy>
  <dcterms:modified xsi:type="dcterms:W3CDTF">2012-09-11T00:59:52Z</dcterms:modified>
  <cp:revision>225</cp:revision>
  <dc:subject/>
  <dc:title>Title</dc:title>
</cp:coreProperties>
</file>