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38FBF3-092F-4D28-8CD2-429C72062D1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1BC2B8-C3D5-4233-81C5-769C82FDC4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9D0794-155F-4E06-9A8D-386B216614F0}" type="slidenum">
              <a:rPr b="0" lang="de-DE" sz="1200" spc="-1" strike="noStrike">
                <a:solidFill>
                  <a:srgbClr val="00256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8540E8-8BC9-4D89-A2BB-C84379E210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0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792791-953C-4060-83A0-650F891FD1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4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F9C650-86CD-4DCD-88C8-6D35166BA8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8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7E85B-07E1-4EA2-9A42-904E2352C2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99648-0ED3-4165-AC58-8B137B696A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3AEF2-69BB-4AA4-BCE3-98C895E930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F5280-9E74-4AA4-8510-3293235E29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671120" y="188640"/>
            <a:ext cx="7396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FA4D4-BF5A-4CFB-A34E-A57BB39BF7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19219-EC7E-4186-A6D0-758F8E063A8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006F2-A531-4EA6-A4C0-202AF592C7B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384EB-2019-4479-BF1A-601A3412002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9D7C2-9E36-4A34-9CA4-20F44581C49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EB5C2-2B52-430A-BA2C-EBB9440969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122FB-0D53-4E6C-99B8-C7F97F64348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671120" y="188640"/>
            <a:ext cx="7396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76618-B2F1-4648-9554-7D927DADB33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E698D-5332-4909-A061-69FD461CCA6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06B10-78C6-4CFE-8F8F-4408FAF9884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84383-39A9-40FD-8DB5-ED3E4E8526E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B2D89-0CFC-434F-A345-05EFB0455A0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EB9B6-2E4C-4A67-93BD-77E16D7FB0B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DC943-54C4-4DA2-9FF8-D1318FBE36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68E5A-DBE7-4E6C-BDC3-39A2FE2F81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DE958-C461-4F2F-9FEB-3BABB8DA24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71120" y="188640"/>
            <a:ext cx="7396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7FC73-7A36-4C85-8354-BCBFC40088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4AA46-28DC-4B16-B7F4-9133E9628D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BB7D1-352E-4D25-A777-60821F1D3B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DFE8F-DFC4-4D4F-9104-74D6714A25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1347840"/>
            <a:ext cx="9144000" cy="55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71120" y="188640"/>
            <a:ext cx="73962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TextBox 3"/>
          <p:cNvSpPr/>
          <p:nvPr/>
        </p:nvSpPr>
        <p:spPr>
          <a:xfrm>
            <a:off x="-25560" y="558720"/>
            <a:ext cx="167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Unicode MS"/>
                <a:ea typeface="ＭＳ Ｐゴシック"/>
              </a:rPr>
              <a:t>SIT Technical Workshop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Unicode MS"/>
                <a:ea typeface="ＭＳ Ｐゴシック"/>
              </a:rPr>
              <a:t>Reston, Virginia, USA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 Unicode MS"/>
                <a:ea typeface="ＭＳ Ｐゴシック"/>
              </a:rPr>
              <a:t>Sept 11-12, 2012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38880" y="6600960"/>
            <a:ext cx="190512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2569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FCEB40-F9F1-4187-B024-7F80D71883A5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34" descr=""/>
          <p:cNvPicPr/>
          <p:nvPr/>
        </p:nvPicPr>
        <p:blipFill>
          <a:blip r:embed="rId3"/>
          <a:srcRect l="0" t="16211" r="0" b="0"/>
          <a:stretch/>
        </p:blipFill>
        <p:spPr>
          <a:xfrm>
            <a:off x="0" y="0"/>
            <a:ext cx="1374840" cy="69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4"/>
          <p:cNvSpPr/>
          <p:nvPr/>
        </p:nvSpPr>
        <p:spPr>
          <a:xfrm>
            <a:off x="102960" y="6523200"/>
            <a:ext cx="875520" cy="1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900" spc="-1" strike="noStrike">
                <a:solidFill>
                  <a:srgbClr val="5f758d"/>
                </a:solidFill>
                <a:latin typeface="Century Gothic"/>
              </a:rPr>
              <a:t>Slide: </a:t>
            </a:r>
            <a:fld id="{CB99B759-A036-41C4-867C-80E72958726B}" type="slidenum">
              <a:rPr b="0" lang="de-DE" sz="900" spc="-1" strike="noStrike">
                <a:solidFill>
                  <a:srgbClr val="5f758d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3" name="AutoShape 5"/>
          <p:cNvSpPr/>
          <p:nvPr/>
        </p:nvSpPr>
        <p:spPr>
          <a:xfrm>
            <a:off x="0" y="3244680"/>
            <a:ext cx="9144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4" name="Rectangle 36"/>
          <p:cNvSpPr/>
          <p:nvPr/>
        </p:nvSpPr>
        <p:spPr>
          <a:xfrm>
            <a:off x="1031040" y="6523200"/>
            <a:ext cx="4548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1335"/>
                </a:solidFill>
                <a:latin typeface="Century Gothic"/>
              </a:rPr>
              <a:t>CEOS SIT Technical Workshop |Reston, Virginia, USA| 11-12 September 2012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3"/>
          <a:stretch/>
        </p:blipFill>
        <p:spPr>
          <a:xfrm>
            <a:off x="7711920" y="4881600"/>
            <a:ext cx="1432080" cy="9334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71120" y="188640"/>
            <a:ext cx="73962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8"/>
          <p:cNvSpPr/>
          <p:nvPr/>
        </p:nvSpPr>
        <p:spPr>
          <a:xfrm>
            <a:off x="0" y="1347840"/>
            <a:ext cx="9144000" cy="55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-25560" y="558720"/>
            <a:ext cx="167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Unicode MS"/>
                <a:ea typeface="ＭＳ Ｐゴシック"/>
              </a:rPr>
              <a:t>SIT Technical Workshop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Unicode MS"/>
                <a:ea typeface="ＭＳ Ｐゴシック"/>
              </a:rPr>
              <a:t>Reston, Virginia, USA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 Unicode MS"/>
                <a:ea typeface="ＭＳ Ｐゴシック"/>
              </a:rPr>
              <a:t>Sept 11-12, 2012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86" name="Picture 34" descr=""/>
          <p:cNvPicPr/>
          <p:nvPr/>
        </p:nvPicPr>
        <p:blipFill>
          <a:blip r:embed="rId3"/>
          <a:srcRect l="0" t="16211" r="0" b="0"/>
          <a:stretch/>
        </p:blipFill>
        <p:spPr>
          <a:xfrm>
            <a:off x="0" y="0"/>
            <a:ext cx="1374840" cy="6904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1120" y="188640"/>
            <a:ext cx="73962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2"/>
          </p:nvPr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2569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8E79F5-75BC-42EE-B900-0FBB8003DCBD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081320" y="2722680"/>
            <a:ext cx="4826160" cy="109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&lt;CEOS Work Plan section reference&gt;</a:t>
            </a:r>
            <a:endParaRPr b="1" lang="en-US" sz="18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&lt;Your name&gt;</a:t>
            </a:r>
            <a:endParaRPr b="1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4089240" y="666720"/>
            <a:ext cx="4811760" cy="187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SIT Workshop Template – Insert TITLE HERE&gt;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4E2452-3DE3-4FA1-8A87-78CCAB46E929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20840" y="101520"/>
            <a:ext cx="77644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&lt;Title&gt; In a few slides, describe “Activity Status”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147600" y="1417680"/>
            <a:ext cx="8831160" cy="51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c4f"/>
                </a:solidFill>
                <a:latin typeface="Arial"/>
                <a:ea typeface="Arial"/>
              </a:rPr>
              <a:t>Short summary: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1c4f"/>
                </a:solidFill>
                <a:latin typeface="Arial"/>
                <a:ea typeface="Arial"/>
              </a:rPr>
              <a:t>What has been accomplished since 2011 Plenary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1c4f"/>
                </a:solidFill>
                <a:latin typeface="Arial"/>
                <a:ea typeface="Arial"/>
              </a:rPr>
              <a:t>Future remaining activities and milestones 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1c4f"/>
                </a:solidFill>
                <a:latin typeface="Arial"/>
                <a:ea typeface="Arial"/>
              </a:rPr>
              <a:t>Main Issues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c4f"/>
                </a:solidFill>
                <a:latin typeface="Arial"/>
                <a:ea typeface="Arial"/>
              </a:rPr>
              <a:t>Main 2012 achievements/outcomes: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1c4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60FB9E-051D-4A56-B1F8-39E053DAF236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9520" y="101520"/>
            <a:ext cx="77644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&lt;Title&gt; In a few slides, describe “Near Future Plan”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147600" y="1417680"/>
            <a:ext cx="8831160" cy="51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c4f"/>
                </a:solidFill>
                <a:latin typeface="Arial"/>
                <a:ea typeface="Arial"/>
              </a:rPr>
              <a:t>Additional Expected Achievements by the end of 2012: (</a:t>
            </a:r>
            <a:r>
              <a:rPr b="1" lang="en-GB" sz="2400" spc="-1" strike="noStrike">
                <a:solidFill>
                  <a:srgbClr val="0c62ff"/>
                </a:solidFill>
                <a:latin typeface="Arial"/>
                <a:ea typeface="Arial"/>
              </a:rPr>
              <a:t>if any</a:t>
            </a:r>
            <a:r>
              <a:rPr b="1" lang="en-GB" sz="2400" spc="-1" strike="noStrike">
                <a:solidFill>
                  <a:srgbClr val="001c4f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c4f"/>
                </a:solidFill>
                <a:latin typeface="Arial"/>
                <a:ea typeface="Arial"/>
              </a:rPr>
              <a:t>Contribution to 2012 Events (</a:t>
            </a:r>
            <a:r>
              <a:rPr b="1" i="1" lang="en-GB" sz="2400" spc="-1" strike="noStrike">
                <a:solidFill>
                  <a:srgbClr val="001c4f"/>
                </a:solidFill>
                <a:latin typeface="Arial"/>
                <a:ea typeface="Arial"/>
              </a:rPr>
              <a:t>e.g., </a:t>
            </a:r>
            <a:r>
              <a:rPr b="1" lang="en-GB" sz="2400" spc="-1" strike="noStrike">
                <a:solidFill>
                  <a:srgbClr val="001c4f"/>
                </a:solidFill>
                <a:latin typeface="Arial"/>
                <a:ea typeface="Arial"/>
              </a:rPr>
              <a:t>GEO-IX, COP-18/SBSTA-37): (</a:t>
            </a:r>
            <a:r>
              <a:rPr b="1" lang="en-GB" sz="2400" spc="-1" strike="noStrike">
                <a:solidFill>
                  <a:srgbClr val="0c62ff"/>
                </a:solidFill>
                <a:latin typeface="Arial"/>
                <a:ea typeface="Arial"/>
              </a:rPr>
              <a:t>if any</a:t>
            </a:r>
            <a:r>
              <a:rPr b="1" lang="en-GB" sz="2400" spc="-1" strike="noStrike">
                <a:solidFill>
                  <a:srgbClr val="001c4f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c4f"/>
                </a:solidFill>
                <a:latin typeface="Arial"/>
                <a:ea typeface="Arial"/>
              </a:rPr>
              <a:t>Information on any decisions that need to be made at CEOS Plenary: (</a:t>
            </a:r>
            <a:r>
              <a:rPr b="1" lang="en-GB" sz="2400" spc="-1" strike="noStrike">
                <a:solidFill>
                  <a:srgbClr val="0c62ff"/>
                </a:solidFill>
                <a:latin typeface="Arial"/>
                <a:ea typeface="Arial"/>
              </a:rPr>
              <a:t>if any</a:t>
            </a:r>
            <a:r>
              <a:rPr b="1" lang="en-GB" sz="2400" spc="-1" strike="noStrike">
                <a:solidFill>
                  <a:srgbClr val="001c4f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38E4CB-99E6-41FA-A74C-BD25E651698C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20840" y="101520"/>
            <a:ext cx="77644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Tit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147600" y="1417680"/>
            <a:ext cx="8831160" cy="51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c4f"/>
                </a:solidFill>
                <a:latin typeface="Arial"/>
                <a:ea typeface="Arial"/>
              </a:rPr>
              <a:t>Sample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6T09:23:13Z</dcterms:created>
  <dc:creator>Brian Killough</dc:creator>
  <dc:description/>
  <dc:language>en-US</dc:language>
  <cp:lastModifiedBy>kekeith</cp:lastModifiedBy>
  <dcterms:modified xsi:type="dcterms:W3CDTF">2012-08-08T18:12:16Z</dcterms:modified>
  <cp:revision>11</cp:revision>
  <dc:subject/>
  <dc:title>Title</dc:title>
</cp:coreProperties>
</file>