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6FDAF-2F05-4672-A17B-8F4EBD5CC7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8DAEC-AC86-4D0B-BE30-F02341425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560E4-D21E-42A0-8A25-0C9E8BDBC7FC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636B9-EDB5-461C-97FE-C60CB8A42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Header Placeholder 4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4535-A5DA-4993-8F9F-3500FABBE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54E7-F864-4024-A86B-40315E165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7F34-873B-4A5B-A163-EF483454C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5429-74E5-449B-9B9C-2CC9296BA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1065-E3E7-473E-B4AD-CEED7FFDF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301B-7F82-461F-A5AA-859AE93EA2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B944-75AF-4914-8A03-37A785AA1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FBA2-BC4E-448F-87A5-098B852A9D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DF9B-54B1-40F7-B2B9-3CA02571EC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D70A-41EF-4D86-80A2-355C0D72E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DAF8-35BE-48D8-B39C-70D8851CDC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F717-598B-4B19-9C50-103D39590D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8698-2F27-451D-9079-BF6CE5F5C4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4DB3-7C5B-490A-952F-DBDCA391D8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4948-DA8A-43E6-82FF-1B8A632D36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BF9D-81CE-45B6-8008-4D30F53036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D721-9ED0-45F7-8D41-6B33F1732C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EB84-7830-4BD1-866D-7691F4439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2D13-7D66-4E8B-98EE-A9FE2E952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45D8-9B87-46CC-BF6D-F2528E851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B74D-9C4E-423E-A5B7-09EE2A159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C64C-E033-4CDD-B636-E97F14C5A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44A3-EEFC-4C0B-BEBB-4D80C97D6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9C06-BF89-4F50-9491-EBDEEAC00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31532-644E-42DA-93B6-68C5F4C1682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7FC59B74-0136-47B0-ADAC-C1EBBC5FF8A0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31040" y="6523200"/>
            <a:ext cx="454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 Technical Workshop |Reston, Virginia, USA| 11-12 September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BD0CE-0D20-4E2C-A98E-54ABB7B3216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rent Smith and Tim Stryker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Representativ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 Post-2015 Working Grou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A2E18-9C3B-4652-8CCA-FA8362D427A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EO Post-2015 Working Grou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3080" y="1550880"/>
            <a:ext cx="909000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3080" y="1619280"/>
            <a:ext cx="9147240" cy="336060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91296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otential Future GEO Governance Options        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ent Smith</cp:lastModifiedBy>
  <cp:lastPrinted>2012-09-10T15:04:10Z</cp:lastPrinted>
  <dcterms:modified xsi:type="dcterms:W3CDTF">2012-09-12T12:03:49Z</dcterms:modified>
  <cp:revision>17</cp:revision>
  <dc:subject/>
  <dc:title>Title</dc:title>
</cp:coreProperties>
</file>