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ZA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D399E-DB36-4388-995F-79BC203A7E26}" type="slidenum">
              <a:rPr b="0" lang="en-Z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and deploy easy-to-use online (Web and Mobile) apps that demonstrate the value of standards-based access to EO data and services registered with GEOSS. Target areas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4BAAA19-A9DA-4E96-A5F9-3A682B92B6CC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87480" y="720720"/>
            <a:ext cx="5340240" cy="36003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ctively bring partie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ijdelijke aanduiding voor dianumm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5BD975A-1502-4A53-A2B5-41F14A3A3293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87480" y="720720"/>
            <a:ext cx="5340240" cy="36003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B409C-EF2D-4956-AA5A-E9BEDDF5F9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25" name="Header Placeholder 4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faa"/>
                </a:solidFill>
                <a:latin typeface="Arial"/>
                <a:ea typeface="SimSun"/>
              </a:rPr>
              <a:t>Task IN-05</a:t>
            </a:r>
            <a:br>
              <a:rPr sz="4400"/>
            </a:br>
            <a:r>
              <a:rPr b="1" lang="en-US" sz="4000" spc="-1" strike="noStrike">
                <a:solidFill>
                  <a:srgbClr val="005faa"/>
                </a:solidFill>
                <a:latin typeface="Arial"/>
                <a:ea typeface="SimSun"/>
              </a:rPr>
              <a:t>GEOSS Design and Interoperability</a:t>
            </a:r>
            <a:br>
              <a:rPr sz="4000"/>
            </a:br>
            <a:br>
              <a:rPr sz="3600"/>
            </a:br>
            <a:r>
              <a:rPr b="1" lang="en-US" sz="2800" spc="-1" strike="noStrike">
                <a:solidFill>
                  <a:srgbClr val="005faa"/>
                </a:solidFill>
                <a:latin typeface="Arial"/>
                <a:ea typeface="SimSun"/>
              </a:rPr>
              <a:t>CEOS-GEO bilateral</a:t>
            </a:r>
            <a:br>
              <a:rPr sz="2800"/>
            </a:br>
            <a:r>
              <a:rPr b="1" lang="en-US" sz="2800" spc="-1" strike="noStrike">
                <a:solidFill>
                  <a:srgbClr val="005faa"/>
                </a:solidFill>
                <a:latin typeface="Arial"/>
                <a:ea typeface="SimSun"/>
              </a:rPr>
              <a:t>Osamu Ochiai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Paper Objectives/Content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79520" y="1218960"/>
            <a:ext cx="8267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 Purpose/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reach – Communities at l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GCI and general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 – Community system implem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torials, examples, best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pe of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ally limited to Community Portals/Cl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instruction and assistance in utilizing the GCI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ened scope to look at range of possible interactions between GCI and Community Infra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GCI to better leverage community capabilities and promotes closer engagement of user communities in sustaining and enhancing GE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Statu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3712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completed and released to IIB and AIP-7 participants for review/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reach sections nearing com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 sections need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practices to come with GCI uti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team effort conti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s made to fill in g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cations anticipated as a result of GCI 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plans to release to Community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draft” – will not meet their needs in current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icit their comments/recommendations to complete th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396200" cy="5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Summary/Observation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96640" y="1388880"/>
            <a:ext cx="844524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of Systems” has tremendous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age capabilities of broad set of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general data discovery/search/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 innovation/specialize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S also has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/interfaces evo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aging introduces interdep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e sets of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, data and service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s implementers/operators and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efully our document is one way to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396200" cy="5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Key Point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96640" y="1388880"/>
            <a:ext cx="844524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target audience corr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get full community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need to help implem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scope appropri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ened scope maximizes community 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handle GCI evol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s specific recommend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document ready for communities to revie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negative reaction to incomplet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community input can assure that it does meet their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7760" y="75960"/>
            <a:ext cx="6095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faa"/>
                </a:solidFill>
                <a:latin typeface="Arial"/>
              </a:rPr>
              <a:t>Standards and Interoperability Forum</a:t>
            </a:r>
            <a:br>
              <a:rPr sz="2400"/>
            </a:br>
            <a:r>
              <a:rPr b="1" lang="en-US" sz="2400" spc="-1" strike="noStrike">
                <a:solidFill>
                  <a:srgbClr val="005faa"/>
                </a:solidFill>
                <a:latin typeface="Arial"/>
              </a:rPr>
              <a:t>2014 Activities</a:t>
            </a:r>
            <a:endParaRPr b="1" lang="en-US" sz="24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shed whitepaper on GCI registration altern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to I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ivered to IIB and IN-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ed nomination of GEO Label for GCI i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and nominated to I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an research into unique ident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ng available information from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ng input from practitio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resolve discovery of duplicate data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SIF 2015 Planned Activities - 1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whitepaper on unique ident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ys for data providers to adopt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ed way forward for the G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the Data Management Principles Task Force in implementation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to guide discussion for data documentation in the G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GEO Label or other altern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h out to other groups and research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linked open data for the G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with the Eye on Earth Global Network of Networks Foundational Infrastructur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SIF 2015 Planned Activities - 2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e a 2015 Interoperability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2015 SIF activities and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sh report and website for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outreach work with GEOSS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he SIF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for Assistan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torial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h out to AIP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d monitoring and consideration of, and contribution to, the Implementation Plan Working Group activities with respect to standards and 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SS Design and Interoperability Workshop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SS Future Products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-28 March 201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AA, Silver Sp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sion and Architectur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OSS Information System – an IIB Working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 September 20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A, Frasc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EO and the System of Systems: The next 1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cember 1</a:t>
            </a:r>
            <a:r>
              <a:rPr b="0" lang="en-CA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,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kiharaba Convention Hall, Tok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71440" y="152280"/>
            <a:ext cx="61722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5faa"/>
                </a:solidFill>
                <a:latin typeface="Arial"/>
              </a:rPr>
              <a:t>GEO and the System of Systems:</a:t>
            </a:r>
            <a:br>
              <a:rPr sz="2400"/>
            </a:br>
            <a:r>
              <a:rPr b="1" lang="en-CA" sz="2400" spc="-1" strike="noStrike">
                <a:solidFill>
                  <a:srgbClr val="005faa"/>
                </a:solidFill>
                <a:latin typeface="Arial"/>
              </a:rPr>
              <a:t>The next 10 years</a:t>
            </a:r>
            <a:br>
              <a:rPr sz="2400"/>
            </a:br>
            <a:r>
              <a:rPr b="1" lang="en-CA" sz="2000" spc="-1" strike="noStrike">
                <a:solidFill>
                  <a:srgbClr val="005faa"/>
                </a:solidFill>
                <a:latin typeface="Arial"/>
              </a:rPr>
              <a:t>December 1</a:t>
            </a:r>
            <a:r>
              <a:rPr b="1" lang="en-CA" sz="2000" spc="-1" strike="noStrike" baseline="30000">
                <a:solidFill>
                  <a:srgbClr val="005faa"/>
                </a:solidFill>
                <a:latin typeface="Arial"/>
              </a:rPr>
              <a:t>st</a:t>
            </a:r>
            <a:r>
              <a:rPr b="1" lang="en-CA" sz="2000" spc="-1" strike="noStrike">
                <a:solidFill>
                  <a:srgbClr val="005faa"/>
                </a:solidFill>
                <a:latin typeface="Arial"/>
              </a:rPr>
              <a:t>, 2015 – Akiharaba, Tokyo</a:t>
            </a:r>
            <a:br>
              <a:rPr sz="2000"/>
            </a:br>
            <a:endParaRPr b="1" lang="en-US" sz="2000" spc="-1" strike="noStrike">
              <a:solidFill>
                <a:srgbClr val="005faa"/>
              </a:solidFill>
              <a:latin typeface="Arial"/>
            </a:endParaRPr>
          </a:p>
        </p:txBody>
      </p:sp>
      <p:graphicFrame>
        <p:nvGraphicFramePr>
          <p:cNvPr id="110" name="Object 3"/>
          <p:cNvGraphicFramePr/>
          <p:nvPr/>
        </p:nvGraphicFramePr>
        <p:xfrm>
          <a:off x="387360" y="1790640"/>
          <a:ext cx="8369280" cy="43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1790640"/>
                    <a:ext cx="836928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  <a:ea typeface="SimSun"/>
              </a:rPr>
              <a:t>Critical Issues and challenge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AIP and Appath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utreach and implement Community Portal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IF – outr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faa"/>
                </a:solidFill>
                <a:latin typeface="Arial"/>
                <a:ea typeface="SimSun"/>
              </a:rPr>
              <a:t>Task IN-05</a:t>
            </a:r>
            <a:br>
              <a:rPr sz="2400"/>
            </a:br>
            <a:r>
              <a:rPr b="1" lang="en-US" sz="3200" spc="-1" strike="noStrike">
                <a:solidFill>
                  <a:srgbClr val="005faa"/>
                </a:solidFill>
                <a:latin typeface="Arial"/>
                <a:ea typeface="SimSun"/>
              </a:rPr>
              <a:t>GEOSS Design and Interoperability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 Implementation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P-7 demos at Plenary, AIP-8 in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Por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paper released to IIB and AIP-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and Interoperability Fo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I Registration and GEO Label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Products Works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EO and the System of Systems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c. 1</a:t>
            </a:r>
            <a:r>
              <a:rPr b="0" lang="en-CA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Toky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pectations and/or information to CEO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AIP – continuos contributions through e.g., CEOS Water Portal for more feedback from real users and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IF – Can WGISS work toge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P paper – Ken McDonald (through NOAA) is leading the component. Encourage the discussion in CEOS as well and feedback to the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7760" y="18720"/>
            <a:ext cx="6095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SS AIP-7 CFP Response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120" y="1219320"/>
            <a:ext cx="817884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Genev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Contribute technology to facilitate data access, harmonization and processing for the key ap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X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DIAS/CEOS Water Portal in AIP-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martOpenDat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SmartOpenData Architecture and Environmental Linked Open Data sources in AIP-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DI4App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Uptake of Open Geographic Information Through Innovative Services Based on Linked Data in AIP-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T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Ocean observations at your hand: Discover, access, plot ocean parameters with your smartphon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i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Testing of Registration of Chilean Web Services related to different SBA Chilean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ymouth Marine Laborator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Utilizing a Web Based GIS Portal for the Implementation and Management of Commercial Fish Fa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COS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contribute directly to the design and development of 3 key applica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OSS Water Servi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Water &amp; water quality data maps and services; flood services &amp; applications; security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usul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Exploiting GEOSS Datasets through Mobile A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Hawai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Ocean Information in Real-time Mobile applications based on PacIOOS data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TI-SENS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:Development of sensor-based Citizens' Observatory Community for improving quality of life in cities FP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ti-Sense-MO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EMMIA strand II: 2: Large-scale demonstrators in support of GMES and GNSS based services in AIP-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IB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Colombian Ecosystem Baseline Application AIP-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MU CSISS: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obal Agricultural Drought Monitoring Forecasting System (GADMFS) and Remote Sensing Based Crop Loss Assessment Service System (RF-CLAS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G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Extension of mySoil smartphone app in the AIP-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SA, Vightel, SGT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obal Landslide/Flood Assessment &amp; Forecasting For Regional Disaster Respon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SA, IDEAM, and NOA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 Pilot for Expansion of Colombia’s “Mi Pronóstico” Application for Forecast and Weather Information Access to Include Flood Early Warning System and Refuge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G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Tefranet. A collaborative system for ash fallout using mobile and web-based ap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TO (CMRE), TerraD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 An Ocean Observations Web App, to value standards-based access to EO data &amp; services registered with GE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obs Uni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Serving multidimensional gridded coverages through open standards with RASDA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GO/AWI/SAHFO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A mobile app for identifying plankton and crowd-sourcing data on species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OOR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A Mobile Application for Water Level Forecast Skill Assess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Supporting activities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Mobile &amp; web development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ser authentication &amp; 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oprocessing workflow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upport for registration and re-use of key apps and data 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se me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utorials, Data &amp; Service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apacity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4"/>
          <p:cNvSpPr/>
          <p:nvPr/>
        </p:nvSpPr>
        <p:spPr>
          <a:xfrm>
            <a:off x="70102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9798-845F-4558-9971-D84AD96C8D83}" type="slidenum">
              <a:rPr b="0" lang="en-US" sz="900" spc="-1" strike="noStrike" u="sng">
                <a:solidFill>
                  <a:srgbClr val="092e5c"/>
                </a:solidFill>
                <a:uFillTx/>
                <a:latin typeface="Arial"/>
              </a:rPr>
              <a:t>&lt;number&gt;</a:t>
            </a:fld>
            <a:endParaRPr b="1" lang="en-US" sz="9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pic>
        <p:nvPicPr>
          <p:cNvPr id="54" name="Picture 9" descr=""/>
          <p:cNvPicPr/>
          <p:nvPr/>
        </p:nvPicPr>
        <p:blipFill>
          <a:blip r:embed="rId1"/>
          <a:stretch/>
        </p:blipFill>
        <p:spPr>
          <a:xfrm>
            <a:off x="7467480" y="4800600"/>
            <a:ext cx="119700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7760" y="-360"/>
            <a:ext cx="60944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P-7 Results Presentation</a:t>
            </a:r>
            <a:br>
              <a:rPr sz="2800"/>
            </a:br>
            <a:r>
              <a:rPr b="1" lang="en-US" sz="2000" spc="-1" strike="noStrike">
                <a:solidFill>
                  <a:srgbClr val="005faa"/>
                </a:solidFill>
                <a:latin typeface="Arial"/>
              </a:rPr>
              <a:t>GEO-XI Plenary Side Event, 12 Nov 2014</a:t>
            </a:r>
            <a:endParaRPr b="1" lang="en-US" sz="20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 (OG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Platform for Geospatial Apps  (SDI4Ap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rtOpenData Architecture and Environmental Linked Open Data sources (SmartOpen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ean Observations Web App (NATO CMRE and TERRAD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kton Web App (PML – INCO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y Building (Afriterra Found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Sharing (IEEE, proxy OGC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Portal Paper (NOA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Quality App (CITI-SEN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Monitoring App (COBW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GeoSocial API (NA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SS Water Services (UTexas et 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5faa"/>
                </a:solidFill>
                <a:latin typeface="Arial"/>
              </a:rPr>
              <a:t>AIP-8 initial planning 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IP-7 a good basis to build on for AIP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hysical kick-off in M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Drive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activities 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re actively combine SBA data in Ap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timulate 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re cloud based computing – beyond visualization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eek standards use and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hare technology 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re ‘plugfests’ activities as part of A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re in-si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rowd sourcing, social media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71800" y="75960"/>
            <a:ext cx="617544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SS Community Portal Paper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3712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 – provide guidance to developers of Community Por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with communities to identify and characterize functions and use cases of community por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e benefits of utilizing G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 on its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experience of previous efforts (e.g. AI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 – voluntary representatives from GCI component developers and interested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representation from AIP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invitation to new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– maximize benefits of GCI and promote community contributions to system of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Tahoma"/>
              </a:rPr>
              <a:t>Community Portal Role in GEOS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47600" y="1295280"/>
            <a:ext cx="8831160" cy="52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9144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cxnSp>
        <p:nvCxnSpPr>
          <p:cNvPr id="63" name="Straight Arrow Connector 22"/>
          <p:cNvCxnSpPr/>
          <p:nvPr/>
        </p:nvCxnSpPr>
        <p:spPr>
          <a:xfrm>
            <a:off x="8381880" y="1752480"/>
            <a:ext cx="915120" cy="915120"/>
          </a:xfrm>
          <a:prstGeom prst="straightConnector1">
            <a:avLst/>
          </a:prstGeom>
          <a:ln w="0">
            <a:noFill/>
          </a:ln>
        </p:spPr>
      </p:cxn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976320" y="2041560"/>
            <a:ext cx="3747960" cy="3368520"/>
          </a:xfrm>
          <a:prstGeom prst="rect">
            <a:avLst/>
          </a:prstGeom>
          <a:ln w="0">
            <a:noFill/>
          </a:ln>
        </p:spPr>
      </p:pic>
      <p:sp>
        <p:nvSpPr>
          <p:cNvPr id="65" name="Oval 8"/>
          <p:cNvSpPr/>
          <p:nvPr/>
        </p:nvSpPr>
        <p:spPr>
          <a:xfrm>
            <a:off x="5867280" y="2514600"/>
            <a:ext cx="2438640" cy="1523880"/>
          </a:xfrm>
          <a:prstGeom prst="ellipse">
            <a:avLst/>
          </a:prstGeom>
          <a:solidFill>
            <a:srgbClr val="acc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66" name="Group 11"/>
          <p:cNvGrpSpPr/>
          <p:nvPr/>
        </p:nvGrpSpPr>
        <p:grpSpPr>
          <a:xfrm>
            <a:off x="6400800" y="2057400"/>
            <a:ext cx="1371600" cy="838080"/>
            <a:chOff x="6400800" y="2057400"/>
            <a:chExt cx="1371600" cy="838080"/>
          </a:xfrm>
        </p:grpSpPr>
        <p:pic>
          <p:nvPicPr>
            <p:cNvPr id="67" name="Picture 9" descr="72883965.png"/>
            <p:cNvPicPr/>
            <p:nvPr/>
          </p:nvPicPr>
          <p:blipFill>
            <a:blip r:embed="rId2"/>
            <a:stretch/>
          </p:blipFill>
          <p:spPr>
            <a:xfrm>
              <a:off x="6400800" y="2057400"/>
              <a:ext cx="137160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Box 10"/>
            <p:cNvSpPr/>
            <p:nvPr/>
          </p:nvSpPr>
          <p:spPr>
            <a:xfrm>
              <a:off x="6639840" y="2219040"/>
              <a:ext cx="921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Community</a:t>
              </a:r>
              <a:endParaRPr b="1" lang="en-US" sz="1000" spc="-1" strike="noStrike" u="sng">
                <a:solidFill>
                  <a:srgbClr val="000000"/>
                </a:solidFill>
                <a:uFillTx/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Portals</a:t>
              </a:r>
              <a:endParaRPr b="1" lang="en-US" sz="10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</p:grpSp>
      <p:sp>
        <p:nvSpPr>
          <p:cNvPr id="69" name="Rounded Rectangle 12"/>
          <p:cNvSpPr/>
          <p:nvPr/>
        </p:nvSpPr>
        <p:spPr>
          <a:xfrm>
            <a:off x="6172200" y="327672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76a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Community</a:t>
            </a:r>
            <a:endParaRPr b="1" lang="en-US" sz="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Catalogue</a:t>
            </a:r>
            <a:endParaRPr b="1" lang="en-US" sz="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0" name="Rounded Rectangle 16"/>
          <p:cNvSpPr/>
          <p:nvPr/>
        </p:nvSpPr>
        <p:spPr>
          <a:xfrm>
            <a:off x="6705720" y="3657600"/>
            <a:ext cx="761760" cy="304920"/>
          </a:xfrm>
          <a:prstGeom prst="roundRect">
            <a:avLst>
              <a:gd name="adj" fmla="val 16667"/>
            </a:avLst>
          </a:prstGeom>
          <a:solidFill>
            <a:srgbClr val="76a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Community</a:t>
            </a:r>
            <a:endParaRPr b="1" lang="en-US" sz="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Broker</a:t>
            </a:r>
            <a:endParaRPr b="1" lang="en-US" sz="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1" name="TextBox 14"/>
          <p:cNvSpPr/>
          <p:nvPr/>
        </p:nvSpPr>
        <p:spPr>
          <a:xfrm>
            <a:off x="5919840" y="2895480"/>
            <a:ext cx="8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ty</a:t>
            </a:r>
            <a:endParaRPr b="1" lang="en-US" sz="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frastructure</a:t>
            </a:r>
            <a:endParaRPr b="1" lang="en-US" sz="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2" name="Rounded Rectangle 15"/>
          <p:cNvSpPr/>
          <p:nvPr/>
        </p:nvSpPr>
        <p:spPr>
          <a:xfrm>
            <a:off x="6019920" y="4495680"/>
            <a:ext cx="2286000" cy="66852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255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mmunity Data, Information, Services and Applications</a:t>
            </a:r>
            <a:endParaRPr b="1" lang="en-US" sz="1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3" name="Left-Right Arrow 23"/>
          <p:cNvSpPr/>
          <p:nvPr/>
        </p:nvSpPr>
        <p:spPr>
          <a:xfrm>
            <a:off x="5715000" y="2514600"/>
            <a:ext cx="1216080" cy="484200"/>
          </a:xfrm>
          <a:prstGeom prst="leftRightArrow">
            <a:avLst>
              <a:gd name="adj1" fmla="val 50000"/>
              <a:gd name="adj2" fmla="val 50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4" name="U-Turn Arrow 25"/>
          <p:cNvSpPr/>
          <p:nvPr/>
        </p:nvSpPr>
        <p:spPr>
          <a:xfrm flipH="1" flipV="1">
            <a:off x="2894760" y="5333400"/>
            <a:ext cx="4419720" cy="533160"/>
          </a:xfrm>
          <a:custGeom>
            <a:avLst/>
            <a:gdLst/>
            <a:ahLst/>
            <a:rect l="l" t="t" r="r" b="b"/>
            <a:pathLst>
              <a:path w="4419600" h="533400">
                <a:moveTo>
                  <a:pt x="0" y="533400"/>
                </a:moveTo>
                <a:lnTo>
                  <a:pt x="0" y="233363"/>
                </a:lnTo>
                <a:cubicBezTo>
                  <a:pt x="0" y="104480"/>
                  <a:pt x="104480" y="0"/>
                  <a:pt x="233363" y="0"/>
                </a:cubicBezTo>
                <a:lnTo>
                  <a:pt x="4119563" y="0"/>
                </a:lnTo>
                <a:cubicBezTo>
                  <a:pt x="4248446" y="0"/>
                  <a:pt x="4352926" y="104480"/>
                  <a:pt x="4352926" y="233363"/>
                </a:cubicBezTo>
                <a:cubicBezTo>
                  <a:pt x="4352926" y="244475"/>
                  <a:pt x="4352925" y="255588"/>
                  <a:pt x="4352925" y="266700"/>
                </a:cubicBezTo>
                <a:lnTo>
                  <a:pt x="4419600" y="266700"/>
                </a:lnTo>
                <a:lnTo>
                  <a:pt x="4286250" y="400050"/>
                </a:lnTo>
                <a:lnTo>
                  <a:pt x="4152900" y="266700"/>
                </a:lnTo>
                <a:lnTo>
                  <a:pt x="4219575" y="266700"/>
                </a:lnTo>
                <a:lnTo>
                  <a:pt x="4219575" y="233363"/>
                </a:lnTo>
                <a:cubicBezTo>
                  <a:pt x="4219575" y="178127"/>
                  <a:pt x="4174798" y="133350"/>
                  <a:pt x="4119562" y="133350"/>
                </a:cubicBezTo>
                <a:lnTo>
                  <a:pt x="233363" y="133350"/>
                </a:lnTo>
                <a:cubicBezTo>
                  <a:pt x="178127" y="133350"/>
                  <a:pt x="133350" y="178127"/>
                  <a:pt x="133350" y="233363"/>
                </a:cubicBezTo>
                <a:lnTo>
                  <a:pt x="133350" y="533400"/>
                </a:lnTo>
                <a:lnTo>
                  <a:pt x="0" y="533400"/>
                </a:lnTo>
                <a:close/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5" name="Left Arrow 30"/>
          <p:cNvSpPr/>
          <p:nvPr/>
        </p:nvSpPr>
        <p:spPr>
          <a:xfrm>
            <a:off x="4800600" y="3048120"/>
            <a:ext cx="914400" cy="228600"/>
          </a:xfrm>
          <a:prstGeom prst="lef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6" name="Right Arrow 28671"/>
          <p:cNvSpPr/>
          <p:nvPr/>
        </p:nvSpPr>
        <p:spPr>
          <a:xfrm>
            <a:off x="4191120" y="2362320"/>
            <a:ext cx="2057400" cy="22860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7" name="TextBox 28674"/>
          <p:cNvSpPr/>
          <p:nvPr/>
        </p:nvSpPr>
        <p:spPr>
          <a:xfrm>
            <a:off x="4461840" y="2133720"/>
            <a:ext cx="1434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Link from GEOSS Portal</a:t>
            </a:r>
            <a:endParaRPr b="1" lang="en-US" sz="9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8" name="TextBox 28676"/>
          <p:cNvSpPr/>
          <p:nvPr/>
        </p:nvSpPr>
        <p:spPr>
          <a:xfrm>
            <a:off x="4668480" y="267804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ommunity View of</a:t>
            </a:r>
            <a:endParaRPr b="1" lang="en-US" sz="9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GEOSS Resources</a:t>
            </a:r>
            <a:endParaRPr b="1" lang="en-US" sz="9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9" name="TextBox 28677"/>
          <p:cNvSpPr/>
          <p:nvPr/>
        </p:nvSpPr>
        <p:spPr>
          <a:xfrm>
            <a:off x="3705120" y="5486400"/>
            <a:ext cx="268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Register Community Resources as Appropriate</a:t>
            </a:r>
            <a:endParaRPr b="1" lang="en-US" sz="9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cxnSp>
        <p:nvCxnSpPr>
          <p:cNvPr id="80" name="Straight Arrow Connector 28682"/>
          <p:cNvCxnSpPr>
            <a:stCxn id="67" idx="2"/>
          </p:cNvCxnSpPr>
          <p:nvPr/>
        </p:nvCxnSpPr>
        <p:spPr>
          <a:xfrm flipH="1">
            <a:off x="6780960" y="2895120"/>
            <a:ext cx="305640" cy="3819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1" name="Straight Arrow Connector 47"/>
          <p:cNvCxnSpPr/>
          <p:nvPr/>
        </p:nvCxnSpPr>
        <p:spPr>
          <a:xfrm>
            <a:off x="7086240" y="2895120"/>
            <a:ext cx="305640" cy="3819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2" name="Straight Arrow Connector 52"/>
          <p:cNvCxnSpPr/>
          <p:nvPr/>
        </p:nvCxnSpPr>
        <p:spPr>
          <a:xfrm>
            <a:off x="7086240" y="4038480"/>
            <a:ext cx="1080" cy="45792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3" name="Left-Right Arrow 1"/>
          <p:cNvSpPr/>
          <p:nvPr/>
        </p:nvSpPr>
        <p:spPr>
          <a:xfrm>
            <a:off x="5029200" y="4724280"/>
            <a:ext cx="609480" cy="228600"/>
          </a:xfrm>
          <a:prstGeom prst="leftRightArrow">
            <a:avLst>
              <a:gd name="adj1" fmla="val 50000"/>
              <a:gd name="adj2" fmla="val 49990"/>
            </a:avLst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4630680" y="4216320"/>
            <a:ext cx="141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Enables Integration of</a:t>
            </a:r>
            <a:endParaRPr b="1" lang="en-US" sz="9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GEOSS and non-GEOSS</a:t>
            </a:r>
            <a:endParaRPr b="1" lang="en-US" sz="9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Registered Resources</a:t>
            </a:r>
            <a:endParaRPr b="1" lang="en-US" sz="9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85" name="Right Arrow 28671"/>
          <p:cNvSpPr/>
          <p:nvPr/>
        </p:nvSpPr>
        <p:spPr>
          <a:xfrm>
            <a:off x="4800600" y="350532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4610160" y="366876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GCI Access to</a:t>
            </a:r>
            <a:endParaRPr b="1" lang="en-US" sz="9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ommunity Infrastructure</a:t>
            </a:r>
            <a:endParaRPr b="1" lang="en-US" sz="9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87" name="Oval 2"/>
          <p:cNvSpPr/>
          <p:nvPr/>
        </p:nvSpPr>
        <p:spPr>
          <a:xfrm>
            <a:off x="228600" y="1371600"/>
            <a:ext cx="8686800" cy="5257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3915360" y="152388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GEOSS</a:t>
            </a:r>
            <a:endParaRPr b="1" lang="en-US" sz="2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89" name="Rounded Rectangle 12"/>
          <p:cNvSpPr/>
          <p:nvPr/>
        </p:nvSpPr>
        <p:spPr>
          <a:xfrm>
            <a:off x="7315200" y="327672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76a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Helper</a:t>
            </a:r>
            <a:endParaRPr b="1" lang="en-US" sz="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pplications</a:t>
            </a:r>
            <a:endParaRPr b="1" lang="en-US" sz="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cxnSp>
        <p:nvCxnSpPr>
          <p:cNvPr id="90" name="Straight Arrow Connector 52"/>
          <p:cNvCxnSpPr>
            <a:endCxn id="70" idx="0"/>
          </p:cNvCxnSpPr>
          <p:nvPr/>
        </p:nvCxnSpPr>
        <p:spPr>
          <a:xfrm>
            <a:off x="7086240" y="2895120"/>
            <a:ext cx="1080" cy="76284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440" y="75960"/>
            <a:ext cx="6095880" cy="10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SS Community Portal paper </a:t>
            </a:r>
            <a:br>
              <a:rPr sz="2800"/>
            </a:b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Team Member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523880"/>
          <a:ext cx="8229600" cy="4457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 McDonald/NOAA-STC</a:t>
                      </a:r>
                      <a:endParaRPr b="1" lang="en-US" sz="1800" spc="-1" strike="noStrike" u="sng">
                        <a:solidFill>
                          <a:srgbClr val="000000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in Yapur/NOAA</a:t>
                      </a:r>
                      <a:endParaRPr b="1" lang="en-US" sz="1800" spc="-1" strike="noStrike" u="sng">
                        <a:solidFill>
                          <a:srgbClr val="000000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Percivall/OGC</a:t>
                      </a:r>
                      <a:endParaRPr b="1" lang="en-US" sz="1800" spc="-1" strike="noStrike" u="sng">
                        <a:solidFill>
                          <a:srgbClr val="000000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vid Arctur/OGC</a:t>
                      </a:r>
                      <a:endParaRPr b="1" lang="en-US" sz="1800" spc="-1" strike="noStrike" u="sng">
                        <a:solidFill>
                          <a:srgbClr val="000000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bao Qiu/GEO Sec</a:t>
                      </a:r>
                      <a:endParaRPr b="1" lang="en-US" sz="1800" spc="-1" strike="noStrike" u="sng">
                        <a:solidFill>
                          <a:srgbClr val="000000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Rene Larsen/AMAP</a:t>
                      </a:r>
                      <a:endParaRPr b="1" lang="en-US" sz="1800" spc="-1" strike="noStrike" u="sng">
                        <a:solidFill>
                          <a:srgbClr val="000000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amu Ochiai/GEO-Sec</a:t>
                      </a:r>
                      <a:endParaRPr b="1" lang="en-US" sz="1800" spc="-1" strike="noStrike" u="sng">
                        <a:solidFill>
                          <a:srgbClr val="000000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iver Clements/PML</a:t>
                      </a:r>
                      <a:endParaRPr b="1" lang="en-US" sz="1800" spc="-1" strike="noStrike" u="sng">
                        <a:solidFill>
                          <a:srgbClr val="000000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n Volden/GEO-Sec</a:t>
                      </a:r>
                      <a:endParaRPr b="1" lang="en-US" sz="1800" spc="-1" strike="noStrike" u="sng">
                        <a:solidFill>
                          <a:srgbClr val="000000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t de Lathouwer/OGC</a:t>
                      </a:r>
                      <a:endParaRPr b="1" lang="en-US" sz="1800" spc="-1" strike="noStrike" u="sng">
                        <a:solidFill>
                          <a:srgbClr val="000000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fano Nativi/CNR</a:t>
                      </a:r>
                      <a:endParaRPr b="1" lang="en-US" sz="1800" spc="-1" strike="noStrike" u="sng">
                        <a:solidFill>
                          <a:srgbClr val="000000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ne-J</a:t>
                      </a: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rgen Berre/SINTEF</a:t>
                      </a:r>
                      <a:endParaRPr b="1" lang="en-US" sz="1800" spc="-1" strike="noStrike" u="sng">
                        <a:solidFill>
                          <a:srgbClr val="000000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rko Albani/ESA</a:t>
                      </a:r>
                      <a:endParaRPr b="1" lang="en-US" sz="1800" spc="-1" strike="noStrike" u="sng">
                        <a:solidFill>
                          <a:srgbClr val="000000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onel Menard/MINES-ParisTech</a:t>
                      </a:r>
                      <a:endParaRPr b="1" lang="en-US" sz="1800" spc="-1" strike="noStrike" u="sng">
                        <a:solidFill>
                          <a:srgbClr val="000000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g Nebert/USGS</a:t>
                      </a:r>
                      <a:endParaRPr b="1" lang="en-US" sz="1800" spc="-1" strike="noStrike" u="sng">
                        <a:solidFill>
                          <a:srgbClr val="000000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rence Fleury/OBS-MIP</a:t>
                      </a:r>
                      <a:endParaRPr b="1" lang="en-US" sz="1800" spc="-1" strike="noStrike" u="sng">
                        <a:solidFill>
                          <a:srgbClr val="000000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in Hogeweg/ESRI</a:t>
                      </a:r>
                      <a:endParaRPr b="1" lang="en-US" sz="1800" spc="-1" strike="noStrike" u="sng">
                        <a:solidFill>
                          <a:srgbClr val="000000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k Wilson/UNEP</a:t>
                      </a:r>
                      <a:endParaRPr b="1" lang="en-US" sz="1800" spc="-1" strike="noStrike" u="sng">
                        <a:solidFill>
                          <a:srgbClr val="000000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ve Browdy/IEEE/OMS Tech</a:t>
                      </a:r>
                      <a:endParaRPr b="1" lang="en-US" sz="1800" spc="-1" strike="noStrike" u="sng">
                        <a:solidFill>
                          <a:srgbClr val="000000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do Colangeli/ESA</a:t>
                      </a:r>
                      <a:endParaRPr b="1" lang="en-US" sz="1800" spc="-1" strike="noStrike" u="sng">
                        <a:solidFill>
                          <a:srgbClr val="000000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 Giuliani/UNEP</a:t>
                      </a:r>
                      <a:endParaRPr b="1" lang="en-US" sz="1800" spc="-1" strike="noStrike" u="sng">
                        <a:solidFill>
                          <a:srgbClr val="000000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ry Geller/JPL-GEO BON</a:t>
                      </a:r>
                      <a:endParaRPr b="1" lang="en-US" sz="1800" spc="-1" strike="noStrike" u="sng">
                        <a:solidFill>
                          <a:srgbClr val="000000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enn Rutledge/NOAA-NCDC</a:t>
                      </a:r>
                      <a:endParaRPr b="1" lang="en-US" sz="1800" spc="-1" strike="noStrike" u="sng">
                        <a:solidFill>
                          <a:srgbClr val="000000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000" spc="-1" strike="noStrike" u="sng">
                        <a:solidFill>
                          <a:srgbClr val="000000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14:15:52Z</dcterms:created>
  <dc:creator>Imraan Saloojee</dc:creator>
  <dc:description/>
  <dc:language>en-US</dc:language>
  <cp:lastModifiedBy>Osamu Ochiai</cp:lastModifiedBy>
  <dcterms:modified xsi:type="dcterms:W3CDTF">2015-01-20T10:43:02Z</dcterms:modified>
  <cp:revision>1269</cp:revision>
  <dc:subject/>
  <dc:title>GEO and GEOSS…….</dc:title>
</cp:coreProperties>
</file>