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Task IN-02</a:t>
            </a:r>
            <a:br>
              <a:rPr sz="4400"/>
            </a:br>
            <a:r>
              <a:rPr b="1" lang="en-US" sz="4400" spc="-1" strike="noStrike">
                <a:solidFill>
                  <a:srgbClr val="005faa"/>
                </a:solidFill>
                <a:latin typeface="Arial"/>
                <a:ea typeface="SimSun"/>
              </a:rPr>
              <a:t> Earth Datasets </a:t>
            </a:r>
            <a:br>
              <a:rPr sz="4400"/>
            </a:br>
            <a:br>
              <a:rPr sz="36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CEOS-GEO bilateral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SimSun"/>
              </a:rPr>
              <a:t>Osamu Ochia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52280" y="12189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1. Advances in Life-cycle Data Management (Richard Moreno, C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iscussed draft GEOSS Data Management Principles in the GEO-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 Strategy for data quality assurance (QA4EO). Case studies repository to be expanded to address a larger segment of the science and data product provider community (i.e. level 1, atmosphere, terrestrial, and oce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2. Produce ongoing and new datasets (Michael Abraham, 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s - US SRTM (30m), Japan/JAXA ALOS (30m), US-Japan ASTER GDEM (30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 Map - Australia (CSIRO) released continental map. Discussions are ongoing to identify an organization to create on a glob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Global Map (ISCGM 1km-&gt;500m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OneGeology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digital geological map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ialogue with UNGG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logue has been initiated towards the best cooperation between UN-GGIM and GEO during the 4th Session of the United Nations Committee of Experts on Global Geospatial Information Management (New York, USA, 4-5 August 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2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itle 4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Main activities in 2014</a:t>
            </a:r>
            <a:endParaRPr b="1" lang="en-US" sz="3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  <a:ea typeface="SimSun"/>
              </a:rPr>
              <a:t>Critical 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data/projects existed without G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ncourage new dataset development under the framework of G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socio-economic inform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socio-economic information (Free and 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Essential SB valuables are already accessible via G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2015 plan and expect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-going data provision by data providers and make available through G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gage and Encourage Socio Economic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-going discussion with UNGG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pectations and/or information to CEO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rther contribute to develop GEOSS Data Management Principles and its Implementation Guideline – Richard Mo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ke more visible QA4EO activities with collaboration to the DSWG Quality Guidance Subgroup and also other frameworks (e.g., WMO-G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upport to develop ongoing and new datasets under the GEO framework - e.g. interoperability between D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4:15:52Z</dcterms:created>
  <dc:creator>Imraan Saloojee</dc:creator>
  <dc:description/>
  <dc:language>en-US</dc:language>
  <cp:lastModifiedBy>ochiai osamu</cp:lastModifiedBy>
  <dcterms:modified xsi:type="dcterms:W3CDTF">2015-01-21T09:12:04Z</dcterms:modified>
  <cp:revision>1283</cp:revision>
  <dc:subject/>
  <dc:title>GEO and GEOSS…….</dc:title>
</cp:coreProperties>
</file>