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9558D2-AF43-42EB-AA07-846EE4EDE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0CB6E-A81A-4CBD-85FA-7407A1F03065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8549-74FD-432B-B966-407F7AFCAE8E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824F1-1B09-419C-8731-44A996433267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2E7F8-5B0F-4FE6-A483-B3AF79128077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5faa"/>
              </a:solidFill>
              <a:latin typeface="Times New Roman"/>
              <a:ea typeface="MS PGothic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9195C6-8810-4297-B6A2-605926BE0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8A46C-11EF-4716-8CFC-442CDD4D3577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60830-EDE5-41AC-B92B-2A4CAE025B58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F489C-DC8E-4C4C-AA2D-AFBC3F50D6B0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B83-51E4-404D-8E5B-46DC9AFE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2A5-CF41-4732-B790-090CFEB3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EC8-C32C-4067-A7D1-EADBFD46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C8E-EFC4-4A68-9DD8-9522C58C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AB5-01D3-4F04-953C-279740F9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78E-CE9F-4038-9130-AACC70B4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82E-8CA4-41F8-BEDB-7C1CE64C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25F-6B77-4520-B095-BB6CB05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AFB-DCD1-4077-9468-97A290B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027-709B-46D1-A643-79516DC8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AF3-81CC-4C2D-8B7E-309F7603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047-8E24-47C0-A5E4-E4013D2B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0FC4-AFDD-468E-9032-B85FC92BA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9216720" cy="56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5faa"/>
                </a:solidFill>
                <a:latin typeface="Arial"/>
                <a:ea typeface="宋体"/>
              </a:rPr>
              <a:t>Climate Information for Adaptation</a:t>
            </a:r>
            <a:br>
              <a:rPr sz="4000"/>
            </a:br>
            <a:br>
              <a:rPr sz="1600"/>
            </a:br>
            <a:r>
              <a:rPr b="1" lang="fr-CH" sz="4000" spc="-1" strike="noStrike">
                <a:solidFill>
                  <a:srgbClr val="3595b7"/>
                </a:solidFill>
                <a:latin typeface="Arial"/>
              </a:rPr>
              <a:t>CL-01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fr-CH" sz="2400" spc="-1" strike="noStrike">
                <a:solidFill>
                  <a:srgbClr val="3595b7"/>
                </a:solidFill>
                <a:latin typeface="Arial"/>
              </a:rPr>
              <a:t>Task Coordinator:</a:t>
            </a:r>
            <a:br>
              <a:rPr sz="2400"/>
            </a:br>
            <a:r>
              <a:rPr b="0" i="1" lang="fr-CH" sz="2400" spc="-1" strike="noStrike">
                <a:solidFill>
                  <a:srgbClr val="3595b7"/>
                </a:solidFill>
                <a:latin typeface="Arial"/>
              </a:rPr>
              <a:t>Carolin Richter (GCOS)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4819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CL-02: Issues and 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spcAft>
                <a:spcPts val="601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Future GEO Carbon Flagship initiativ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5faa"/>
                </a:solidFill>
                <a:latin typeface="Arial"/>
              </a:rPr>
              <a:t>GEOCARBON &amp; GEO event in Paris in November (CEOS presentation by Carole Deni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5faa"/>
                </a:solidFill>
                <a:latin typeface="Arial"/>
              </a:rPr>
              <a:t>Decision to draft a brief outline of a Carbon Flagship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Concept document ‘The need for a sustained Global Carbon Observing and Analysis System’ was drafted and circulated within C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Proposal needs to be further develo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Key partners have to be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CL-01: Achievements (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C1: Extension of the Climate Data Reco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Reanalysis (e.g. ERA-CLIM), Reconstructions (e.g. PAGES),</a:t>
            </a:r>
            <a:br>
              <a:rPr sz="1800"/>
            </a:b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Reprocessing (e.g. ESA CCI, SCOPE-CM, EUMETSAT CM SA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ECV Inventory, ‘Architecture for Climate Monitoring from Spac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C2: Global Climate Observing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GCOS Programme Review (March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</a:rPr>
              <a:t>Status report to COP20 (SBSTA-4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5faa"/>
                </a:solidFill>
                <a:latin typeface="Arial"/>
                <a:ea typeface="MS PGothic"/>
              </a:rPr>
              <a:t>C3: Modelling &amp; Resear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  <a:ea typeface="MS PGothic"/>
              </a:rPr>
              <a:t>Projects underway on ‘Polar prediction’ and ‘S2S’ (improved sk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  <a:ea typeface="MS PGothic"/>
              </a:rPr>
              <a:t>Database of subseasonal forecasts established at 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5faa"/>
                </a:solidFill>
                <a:latin typeface="Arial"/>
                <a:ea typeface="MS PGothic"/>
              </a:rPr>
              <a:t>C4: Easy Acces and Use of Climate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  <a:ea typeface="MS PGothic"/>
              </a:rPr>
              <a:t>Revitalized team, new leadership, regular teleco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CL-01: Achievements (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EUMETSAT/WCRP Climate Symposium 2014, Darmstad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Outcomes split into 3 themes: (i) Research and Process Understanding, (ii) Observations and (iii) Coordination and Integration of Observations </a:t>
            </a:r>
            <a:br>
              <a:rPr sz="1800"/>
            </a:br>
            <a:r>
              <a:rPr b="0" lang="en-US" sz="1800" spc="-1" strike="noStrike">
                <a:solidFill>
                  <a:srgbClr val="005faa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 to be published in B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Copernic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ECMWF will be managing the Copernicus Climate Change Service (‘C3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MS PGothic"/>
              </a:rPr>
              <a:t>Stage 0: Proof of Concept (2015/2016), Stage I: Pre-Operational (2016/2017), Stage II: Operational (2017/20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MS PGothic"/>
              </a:rPr>
              <a:t>Consistent Climate Data Store ~20 ECVs &amp; indicators (observed, re-analyzed &amp; model projected produ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MS PGothic"/>
              </a:rPr>
              <a:t>Sectoral Information System (Stage II: Agriculture and forestry, Health, Energy, Infrastructure, Insurance, Coastal areas, Water management, Tourism; Stage III: Biodiversity, Disaster risk reduction, Marine and fisheries, Transpor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CL-01: Issues and 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Advance ‘Architecture for Climate Monitoring from Space’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Facilitate the establishment of a physical view (addressing specific ECV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Help to populate the ECV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Gap analysis, ECV assessment / Matur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GC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Status Report on Global Observing Systems for Climate to be submitted to COP-21 i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Continuing implementation of recommended actions of the GCOS Implementation Plan (new IP in 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Participate and contribute to the GCOS Improvement and Assess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Strengthen cooperation between GCOS and 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988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CL-01: Issues and next steps</a:t>
            </a:r>
            <a:br>
              <a:rPr sz="2800"/>
            </a:b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5480" y="1603080"/>
            <a:ext cx="84294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5faa"/>
                </a:solidFill>
                <a:latin typeface="Arial"/>
              </a:rPr>
              <a:t>Build on synergies with the GF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</a:rPr>
              <a:t>White Paper ‘Exploring potential collaboration between the GFCS and GEO’ (program complementarities, areas for collaboration, mechanism of program link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5faa"/>
                </a:solidFill>
                <a:latin typeface="Arial"/>
              </a:rPr>
              <a:t>Easy access and use of Climate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</a:rPr>
              <a:t>Roadmap for C4 that will help to identify key gaps or needs not already met by others and that links to the mission of GEO and 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</a:rPr>
              <a:t>Expand national/international participation / Reach out to national adaptation plann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Develop ‘Practical Guidance’ of climate information for use at all levels of expertise and d</a:t>
            </a:r>
            <a:r>
              <a:rPr b="0" lang="fr-CH" sz="1800" spc="-1" strike="noStrike">
                <a:solidFill>
                  <a:srgbClr val="005faa"/>
                </a:solidFill>
                <a:latin typeface="Arial"/>
              </a:rPr>
              <a:t>isseminate products through the GEOSS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</a:rPr>
              <a:t>Build upon existing Climate Service portals (e.g. European Clearinghouse, US climate.g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Advance improved access to models/end-user applications useful for adaptation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9216720" cy="56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5faa"/>
                </a:solidFill>
                <a:latin typeface="Arial"/>
                <a:ea typeface="宋体"/>
              </a:rPr>
              <a:t>Global Carbon Observation and Analysis</a:t>
            </a:r>
            <a:br>
              <a:rPr sz="4000"/>
            </a:br>
            <a:br>
              <a:rPr sz="1600"/>
            </a:br>
            <a:r>
              <a:rPr b="1" lang="fr-CH" sz="4000" spc="-1" strike="noStrike">
                <a:solidFill>
                  <a:srgbClr val="3595b7"/>
                </a:solidFill>
                <a:latin typeface="Arial"/>
              </a:rPr>
              <a:t>CL-0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fr-CH" sz="2400" spc="-1" strike="noStrike">
                <a:solidFill>
                  <a:srgbClr val="3595b7"/>
                </a:solidFill>
                <a:latin typeface="Arial"/>
              </a:rPr>
              <a:t>Task Coordinator:</a:t>
            </a:r>
            <a:br>
              <a:rPr sz="2400"/>
            </a:br>
            <a:r>
              <a:rPr b="0" i="1" lang="fr-CH" sz="2400" spc="-1" strike="noStrike">
                <a:solidFill>
                  <a:srgbClr val="3595b7"/>
                </a:solidFill>
                <a:latin typeface="Arial"/>
              </a:rPr>
              <a:t>Antonio Bombelli (Italy)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CL-02: Achievements (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Release of CEOS Strategy for Carbon Monitoring from Sp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faa"/>
                </a:solidFill>
                <a:latin typeface="Arial"/>
              </a:rPr>
              <a:t>New satellite missions (OCO-2) and CO2 data produ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5faa"/>
                </a:solidFill>
                <a:latin typeface="Arial"/>
                <a:ea typeface="MS PGothic"/>
              </a:rPr>
              <a:t>Global Carbon Projec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  <a:ea typeface="MS PGothic"/>
              </a:rPr>
              <a:t>Global Carbon Budget assessed for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5faa"/>
                </a:solidFill>
                <a:latin typeface="Arial"/>
                <a:ea typeface="MS PGothic"/>
              </a:rPr>
              <a:t>Global Carbon Atlas as a platform to explore and visualize updated data on carbon fluxes (carbonatlas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aa"/>
                </a:solidFill>
                <a:latin typeface="Arial"/>
              </a:rPr>
              <a:t>ICOS construction phase (to build the operational infrastructure for carbon monitoring) has started / ICOS Carbon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CL-02: Achievements (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Numerous carbon datasets released (GEOSS port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Concept for an Integrated Global Greenhouse Information System (IGIS) developed -  to inform policy and strategies on GHG emiss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GEOCARBON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Integration and harmonization of exis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  <a:ea typeface="MS PGothic"/>
              </a:rPr>
              <a:t>Portal in operation to enable free exchange of carb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Synthesis of land carbon cycle and ocean carbon cycle from CCDAS results (trends, variability, changes, and extremes in different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Regional carbon budgets (e.g. tropical South America and tropical Af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Analysis of the performances of current and future carbon observation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5f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a"/>
                </a:solidFill>
                <a:latin typeface="Arial"/>
              </a:rPr>
              <a:t>Definition of the requirements (at scientific, policy and economic level) for an integrated global carbon observ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faa"/>
                </a:solidFill>
                <a:latin typeface="Arial"/>
                <a:ea typeface="MS PGothic"/>
              </a:rPr>
              <a:t>CL-02: Issues and 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Implementation of CEOS Carbon Strateg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Strengthen links between in-situ and satellite commun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faa"/>
                </a:solidFill>
                <a:latin typeface="Arial"/>
                <a:ea typeface="MS PGothic"/>
              </a:rPr>
              <a:t>Establish connection and exchange between regional netwo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spcAft>
                <a:spcPts val="1199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5faa"/>
                </a:solidFill>
                <a:latin typeface="Arial"/>
                <a:ea typeface="MS PGothic"/>
              </a:rPr>
              <a:t>Support the development and maintenance of carbon monitoring networks and systems, especially in less developed reg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5faa"/>
                </a:solidFill>
                <a:latin typeface="Arial"/>
                <a:ea typeface="MS PGothic"/>
              </a:rPr>
              <a:t>Continuing support to the GEO Carbon Office and its activ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24"/>
              </a:spcBef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5faa"/>
                </a:solidFill>
                <a:latin typeface="Arial"/>
                <a:ea typeface="MS PGothic"/>
              </a:rPr>
              <a:t>Move forward towards a global carbon observation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8:11:19Z</dcterms:created>
  <dc:creator>Nick Walters</dc:creator>
  <dc:description/>
  <dc:language>en-US</dc:language>
  <cp:lastModifiedBy>aobregon</cp:lastModifiedBy>
  <cp:lastPrinted>2007-10-16T11:41:49Z</cp:lastPrinted>
  <dcterms:modified xsi:type="dcterms:W3CDTF">2015-01-21T11:29:49Z</dcterms:modified>
  <cp:revision>198</cp:revision>
  <dc:subject/>
  <dc:title>Title of Presentation</dc:title>
</cp:coreProperties>
</file>