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dt" idx="4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ftr" idx="5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 type="sldNum" idx="6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AD7F8D2-EF1A-4308-9109-72A4112FDEC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33BF52-4BA0-4705-A10C-9A66A4AD105D}" type="slidenum">
              <a:rPr b="0" lang="en-ZA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E1A6F8-F51F-4FC4-A0C8-93A94C12DCC7}" type="slidenum">
              <a:rPr b="0" lang="en-ZA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76463B-4A9D-477D-9F5B-E64C3583B5AE}" type="slidenum">
              <a:rPr b="0" lang="en-ZA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4DBEAA-E77B-45A2-8A3D-BCF7D3C022C0}" type="slidenum">
              <a:rPr b="0" lang="en-ZA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0474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0474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0474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205704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205704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0474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0474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0474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5800" y="40474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68480" y="40474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0474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85800" y="40474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0474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68480" y="40474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13800" y="205704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41440" y="205704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85800" y="40474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13800" y="40474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41440" y="40474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C505-059D-4BC4-A881-3379F761E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F07A-4C49-449A-B313-F76214910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8CF2-0B94-4587-BCD1-C8E290693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0F5E-C8DD-47B5-8A6C-D54ED35CC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BA05-CD3B-4272-A7DA-DF35F76C0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837E-47E1-47B1-A901-7ED0B216A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85800" y="40474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82AA-0E24-42D3-95DD-EEE0AB902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68480" y="40474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7A02-27DE-4645-BF1E-33C1B3D45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85800" y="40474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D70C-3308-4F2B-A8AA-DDC91DD95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85800" y="40474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0F75-692A-41F0-90CF-EB4144787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5800" y="40474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68480" y="40474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9358-8DFB-4AF2-B5C5-1FF253BAB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313800" y="205704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941440" y="205704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685800" y="40474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313800" y="40474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5941440" y="40474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7BDA-8F22-4F5E-8BE8-A95F11AE4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0474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0474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0474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20570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685800" y="20570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20570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5BE7C-B00B-4409-88ED-12B8753133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0" y="44280"/>
            <a:ext cx="9601200" cy="720108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24000" y="836280"/>
            <a:ext cx="9216720" cy="566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5faa"/>
                </a:solidFill>
                <a:latin typeface="Arial"/>
                <a:ea typeface="宋体"/>
              </a:rPr>
              <a:t>Global Land-cover and Land-cover Change Task</a:t>
            </a:r>
            <a:br>
              <a:rPr sz="4000"/>
            </a:br>
            <a:br>
              <a:rPr sz="1600"/>
            </a:br>
            <a:r>
              <a:rPr b="1" lang="fr-CH" sz="4000" spc="-1" strike="noStrike">
                <a:solidFill>
                  <a:srgbClr val="3595b7"/>
                </a:solidFill>
                <a:latin typeface="Arial"/>
              </a:rPr>
              <a:t>SB-02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0" i="1" lang="fr-CH" sz="2400" spc="-1" strike="noStrike">
                <a:solidFill>
                  <a:srgbClr val="3595b7"/>
                </a:solidFill>
                <a:latin typeface="Arial"/>
              </a:rPr>
              <a:t>Task Coordinators:</a:t>
            </a:r>
            <a:br>
              <a:rPr sz="2400"/>
            </a:br>
            <a:r>
              <a:rPr b="0" i="1" lang="fr-CH" sz="2400" spc="-1" strike="noStrike">
                <a:solidFill>
                  <a:srgbClr val="3595b7"/>
                </a:solidFill>
                <a:latin typeface="Arial"/>
              </a:rPr>
              <a:t>Martin Herold (Wageningen U.,</a:t>
            </a:r>
            <a:br>
              <a:rPr sz="2400"/>
            </a:br>
            <a:r>
              <a:rPr b="0" i="1" lang="fr-CH" sz="2400" spc="-1" strike="noStrike">
                <a:solidFill>
                  <a:srgbClr val="3595b7"/>
                </a:solidFill>
                <a:latin typeface="Arial"/>
              </a:rPr>
              <a:t>Netherlands)</a:t>
            </a:r>
            <a:br>
              <a:rPr sz="2400"/>
            </a:br>
            <a:r>
              <a:rPr b="0" i="1" lang="fr-CH" sz="2400" spc="-1" strike="noStrike">
                <a:solidFill>
                  <a:srgbClr val="3595b7"/>
                </a:solidFill>
                <a:latin typeface="Arial"/>
              </a:rPr>
              <a:t>Brice Mora (GOFC-GOLD) </a:t>
            </a:r>
            <a:endParaRPr b="1" lang="en-US" sz="2400" spc="-1" strike="noStrike">
              <a:solidFill>
                <a:srgbClr val="005fa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304560" y="761760"/>
            <a:ext cx="88390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5faa"/>
                </a:solidFill>
                <a:latin typeface="Arial"/>
                <a:ea typeface="MS PGothic"/>
              </a:rPr>
              <a:t>Achievements (201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5faa"/>
                </a:solidFill>
                <a:latin typeface="Arial"/>
                <a:ea typeface="MS PGothic"/>
              </a:rPr>
              <a:t>C1: Global Land Cover Datasets and Servi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451"/>
              </a:spcBef>
              <a:buClr>
                <a:srgbClr val="005f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5faa"/>
                </a:solidFill>
                <a:latin typeface="Arial"/>
                <a:ea typeface="MS PGothic"/>
              </a:rPr>
              <a:t>Release of global land cover state and condition maps by ESA Land Cover Climate Change Initiative (http://maps.elie.ucl.ac.be/CCI/viewer/index.ph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451"/>
              </a:spcBef>
              <a:buClr>
                <a:srgbClr val="005f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faa"/>
                </a:solidFill>
                <a:latin typeface="Arial"/>
              </a:rPr>
              <a:t>GlobeLand30 GLC dataset released 30-meter resolution global land cover, free, open access (</a:t>
            </a:r>
            <a:r>
              <a:rPr b="0" lang="en-GB" sz="1800" spc="-1" strike="noStrike" u="sng">
                <a:solidFill>
                  <a:srgbClr val="005faa"/>
                </a:solidFill>
                <a:uFillTx/>
                <a:latin typeface="Arial"/>
              </a:rPr>
              <a:t>http://unstats.un.org/unsd/GlobeLand30.htm</a:t>
            </a:r>
            <a:r>
              <a:rPr b="0" lang="en-US" sz="1800" spc="-1" strike="noStrike">
                <a:solidFill>
                  <a:srgbClr val="005faa"/>
                </a:solidFill>
                <a:latin typeface="Arial"/>
              </a:rPr>
              <a:t>) by NGC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5faa"/>
                </a:solidFill>
                <a:latin typeface="Arial"/>
                <a:ea typeface="MS PGothic"/>
              </a:rPr>
              <a:t>C2: Global Land Cover Validation and User Engagemen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451"/>
              </a:spcBef>
              <a:buClr>
                <a:srgbClr val="005f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5faa"/>
                </a:solidFill>
                <a:latin typeface="Arial"/>
                <a:ea typeface="MS PGothic"/>
              </a:rPr>
              <a:t>User requirement study as part of the ESA Land Cover Climate Change Initiative (GOFC-GOLD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5faa"/>
                </a:solidFill>
                <a:latin typeface="Arial"/>
                <a:ea typeface="MS PGothic"/>
              </a:rPr>
              <a:t>C3: </a:t>
            </a:r>
            <a:r>
              <a:rPr b="0" lang="en-GB" sz="2100" spc="-1" strike="noStrike">
                <a:solidFill>
                  <a:srgbClr val="005faa"/>
                </a:solidFill>
                <a:latin typeface="Arial"/>
                <a:ea typeface="MS PGothic"/>
              </a:rPr>
              <a:t>Global Land Cover Methodology and Capacity Building/Outreach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451"/>
              </a:spcBef>
              <a:buClr>
                <a:srgbClr val="005f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5faa"/>
                </a:solidFill>
                <a:latin typeface="Arial"/>
                <a:ea typeface="MS PGothic"/>
              </a:rPr>
              <a:t>Scientific publication on suitability of global land cover reference datasets for different user communities (GOFC-GOLD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451"/>
              </a:spcBef>
              <a:buClr>
                <a:srgbClr val="005f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faa"/>
                </a:solidFill>
                <a:latin typeface="Arial"/>
              </a:rPr>
              <a:t>Scientific papers: </a:t>
            </a:r>
            <a:r>
              <a:rPr b="0" lang="en-GB" sz="1800" spc="-1" strike="noStrike">
                <a:solidFill>
                  <a:srgbClr val="005faa"/>
                </a:solidFill>
                <a:latin typeface="Arial"/>
              </a:rPr>
              <a:t>“Global Land cover mapping and Service’ special issue prepared for ISPRS Journal of Photogrammetry and Remote Sensing. All papers available on line (</a:t>
            </a:r>
            <a:r>
              <a:rPr b="0" lang="en-GB" sz="1800" spc="-1" strike="noStrike" u="sng">
                <a:solidFill>
                  <a:srgbClr val="005faa"/>
                </a:solidFill>
                <a:uFillTx/>
                <a:latin typeface="Arial"/>
              </a:rPr>
              <a:t>http://www.sciencedirect.com/science/journal/aip/09242716</a:t>
            </a:r>
            <a:r>
              <a:rPr b="0" lang="en-GB" sz="1800" spc="-1" strike="noStrike">
                <a:solidFill>
                  <a:srgbClr val="005faa"/>
                </a:solidFill>
                <a:latin typeface="Arial"/>
              </a:rPr>
              <a:t>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304560" y="761760"/>
            <a:ext cx="88390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5faa"/>
                </a:solidFill>
                <a:latin typeface="Arial"/>
                <a:ea typeface="MS PGothic"/>
              </a:rPr>
              <a:t>Achievements (201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5faa"/>
                </a:solidFill>
                <a:latin typeface="Arial"/>
                <a:ea typeface="MS PGothic"/>
              </a:rPr>
              <a:t>C4: Land Cover for Afric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buClr>
                <a:srgbClr val="005f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5faa"/>
                </a:solidFill>
                <a:latin typeface="Arial"/>
                <a:ea typeface="MS PGothic"/>
              </a:rPr>
              <a:t>First meeting of the Technical Advisory Group in November 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buClr>
                <a:srgbClr val="005f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5faa"/>
                </a:solidFill>
                <a:latin typeface="Arial"/>
              </a:rPr>
              <a:t>Terms of Reference: </a:t>
            </a:r>
            <a:r>
              <a:rPr b="0" lang="en-US" sz="1800" spc="-1" strike="noStrike">
                <a:solidFill>
                  <a:srgbClr val="005faa"/>
                </a:solidFill>
                <a:latin typeface="Arial"/>
              </a:rPr>
              <a:t>Contribute to the development of a land use/land </a:t>
            </a:r>
            <a:r>
              <a:rPr b="0" lang="de-DE" sz="1800" spc="-1" strike="noStrike">
                <a:solidFill>
                  <a:srgbClr val="005faa"/>
                </a:solidFill>
                <a:latin typeface="Arial"/>
              </a:rPr>
              <a:t>cover data produ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buClr>
                <a:srgbClr val="005f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5faa"/>
                </a:solidFill>
                <a:latin typeface="Arial"/>
              </a:rPr>
              <a:t>Inventory of Land Cover datasets in different regions of Af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04560" y="761760"/>
            <a:ext cx="88390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5faa"/>
                </a:solidFill>
                <a:latin typeface="Arial"/>
                <a:ea typeface="MS PGothic"/>
              </a:rPr>
              <a:t>Next steps (201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5faa"/>
                </a:solidFill>
                <a:latin typeface="Arial"/>
                <a:ea typeface="MS PGothic"/>
              </a:rPr>
              <a:t>C2: Global Land Cover Validation and User Engagemen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buClr>
                <a:srgbClr val="005f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5faa"/>
                </a:solidFill>
                <a:latin typeface="Arial"/>
                <a:ea typeface="MS PGothic"/>
              </a:rPr>
              <a:t>Continuation of user requirement study as part of the ESA Land Cover Climate Change Initiative (GOFC-GOLD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5faa"/>
                </a:solidFill>
                <a:latin typeface="Arial"/>
                <a:ea typeface="MS PGothic"/>
              </a:rPr>
              <a:t>C3: </a:t>
            </a:r>
            <a:r>
              <a:rPr b="0" lang="en-GB" sz="2100" spc="-1" strike="noStrike">
                <a:solidFill>
                  <a:srgbClr val="005faa"/>
                </a:solidFill>
                <a:latin typeface="Arial"/>
                <a:ea typeface="MS PGothic"/>
              </a:rPr>
              <a:t>Global Land Cover Methodology and Capacity Building/Outreach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buClr>
                <a:srgbClr val="005f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5faa"/>
                </a:solidFill>
                <a:latin typeface="Arial"/>
                <a:ea typeface="MS PGothic"/>
              </a:rPr>
              <a:t>Update of the Global Land Cover Reference Data Portal completed (GOFC-GOLD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buClr>
                <a:srgbClr val="005f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5faa"/>
                </a:solidFill>
                <a:latin typeface="Arial"/>
                <a:ea typeface="MS PGothic"/>
              </a:rPr>
              <a:t>Scientific publication on </a:t>
            </a:r>
            <a:r>
              <a:rPr b="0" lang="en-GB" sz="1800" spc="-1" strike="noStrike">
                <a:solidFill>
                  <a:srgbClr val="005faa"/>
                </a:solidFill>
                <a:latin typeface="Arial"/>
              </a:rPr>
              <a:t>comparative assessment of thematic accuracy of GLC maps for specific applications using existing reference data (GOFC-GOL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buClr>
                <a:srgbClr val="005f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faa"/>
                </a:solidFill>
                <a:latin typeface="Arial"/>
              </a:rPr>
              <a:t>Workshop on international validation of GlobeLand30. Workshop co-organized in Shanghai, </a:t>
            </a:r>
            <a:r>
              <a:rPr b="0" lang="en-GB" sz="1800" spc="-1" strike="noStrike">
                <a:solidFill>
                  <a:srgbClr val="005faa"/>
                </a:solidFill>
                <a:latin typeface="Arial"/>
              </a:rPr>
              <a:t>China</a:t>
            </a:r>
            <a:r>
              <a:rPr b="0" lang="en-US" sz="1800" spc="-1" strike="noStrike">
                <a:solidFill>
                  <a:srgbClr val="005faa"/>
                </a:solidFill>
                <a:latin typeface="Arial"/>
              </a:rPr>
              <a:t>, June 6-7, 2015 (GEO, ISPRS, GOFC/GOLD and other organization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buClr>
                <a:srgbClr val="005f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faa"/>
                </a:solidFill>
                <a:latin typeface="Arial"/>
              </a:rPr>
              <a:t>Joint applications to be carried out among different originations, including UNEP, UNDESA, SiGMA and many others. A training course to be organized also for developing countries (Beijing) to help utilization of GlobeLand3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304560" y="761760"/>
            <a:ext cx="88390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5faa"/>
                </a:solidFill>
                <a:latin typeface="Arial"/>
                <a:ea typeface="MS PGothic"/>
              </a:rPr>
              <a:t>Next steps (201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5faa"/>
                </a:solidFill>
                <a:latin typeface="Arial"/>
                <a:ea typeface="MS PGothic"/>
              </a:rPr>
              <a:t>C4: Land Cover for Afric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buClr>
                <a:srgbClr val="005f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faa"/>
                </a:solidFill>
                <a:latin typeface="Arial"/>
              </a:rPr>
              <a:t>Development of a t</a:t>
            </a:r>
            <a:r>
              <a:rPr b="0" lang="en-GB" sz="1800" spc="-1" strike="noStrike">
                <a:solidFill>
                  <a:srgbClr val="005faa"/>
                </a:solidFill>
                <a:latin typeface="Arial"/>
              </a:rPr>
              <a:t>echnical manual for verification and validation of land cover datas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buClr>
                <a:srgbClr val="005f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faa"/>
                </a:solidFill>
                <a:latin typeface="Arial"/>
              </a:rPr>
              <a:t>Development of a five year Strategic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buClr>
                <a:srgbClr val="005f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faa"/>
                </a:solidFill>
                <a:latin typeface="Arial"/>
              </a:rPr>
              <a:t>Establish an Africa-focused Community of Practice for Land Use and Land Cover to facilitate networking </a:t>
            </a:r>
            <a:r>
              <a:rPr b="0" lang="de-DE" sz="1800" spc="-1" strike="noStrike">
                <a:solidFill>
                  <a:srgbClr val="005faa"/>
                </a:solidFill>
                <a:latin typeface="Arial"/>
              </a:rPr>
              <a:t>among scientists and technicia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6T08:11:19Z</dcterms:created>
  <dc:creator>Nick Walters</dc:creator>
  <dc:description/>
  <dc:language>en-US</dc:language>
  <cp:lastModifiedBy>aobregon</cp:lastModifiedBy>
  <cp:lastPrinted>2007-10-16T11:41:49Z</cp:lastPrinted>
  <dcterms:modified xsi:type="dcterms:W3CDTF">2015-01-21T00:06:59Z</dcterms:modified>
  <cp:revision>146</cp:revision>
  <dc:subject/>
  <dc:title>Title of Presentation</dc:title>
</cp:coreProperties>
</file>