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F0B2-FCCE-44CC-830A-9E6D7A245C59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BD0C-6D54-446A-AB4D-16A3987B2C3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GEOSS Clearinghouse, IDN, and CWIC, moved NOAA, added JAX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584D-C111-4969-BF4D-16A7DE209CB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17720" y="781200"/>
            <a:ext cx="5214960" cy="3909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4520" y="4947840"/>
            <a:ext cx="5853240" cy="4275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today, we have currently brokered 20 providers alread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ugh the GEOSS Portal, totally 7Million resources can be potentially discoverable and accessible and of which 1.2Million are GEOSS DataCO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number contains different level of mixed of data collections, datasets and/or individual im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se number contains more than 65Million individual resources which includes each satellite scene, raingauge record and many other types of da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f which 50 Million are GEOSS DataCO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last plenary in Iguaz Brazil, we reported 15Million individual resources accessi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 at that time, It was a huge increase the number of resources since several years. And now since that time, more than 50Million individual data brokered and are being avail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ntribution mainly came from CEOS space agenc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getting recognize GEO will face so called Data Deluge (Big Data Flood) or already fac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6F04-D786-4264-85A4-EC2694E9B93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1ED35-5469-4DCA-8D6F-18F6EEDBEEDC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7F741-9060-4ABE-9FC9-7A361930E42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irko.albani@esa.in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Task IN-03</a:t>
            </a:r>
            <a:br>
              <a:rPr sz="4400"/>
            </a:b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GEOSS Common Infrastructur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</a:t>
            </a:r>
            <a:br>
              <a:rPr sz="4000"/>
            </a:br>
            <a:br>
              <a:rPr sz="36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EOS-GEO bilateral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Osamu Ochia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pectations and/or information to CEO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-going contribution to GCI through CWIC, IDN and Fe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r telecon between DAB and WGI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rt to think how to implment the DMPs in each data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26720"/>
            <a:ext cx="8763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Times New Roman"/>
              </a:rPr>
              <a:t>IN-03 GCI</a:t>
            </a:r>
            <a:br>
              <a:rPr sz="28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Task Compone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: Evolution and Enhancement of the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maintain an Architecture Evolution Strategy for the GCI based on periodic gap analyses (e.g. from usability testing resul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 GCI component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tegration of new GCI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 (FP7), Japan (University of Tokyo), Spain (CSIC, IGN), USA (USGS), ESA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rko.albani@esa.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C (JRC), France (BRGM, Mines), Germany (BKG), Italy (CNR), Madagascar (MEF), Russian Federation (Roshydromet), USA (NOAA, GMU), CEOS (JAXA),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2: Operations and Maintenance of GCI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GCI routin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the GCI as the architectural framework essential to implementing the Data Shar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registration, discovery and access of more EO assets with GEOSS and flag them according to their nature (e.g. GEOSS Data-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 (USG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C (ESA, FP7, JRC), France (Mines), Italy (CNR), Japan (University of Tokyo), Spain (IGN), USA (GMU), EUMETSAT,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pdate the GEOSS Portal based on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dvance Brokering agreement with new Data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 alternatives for GEOSS Registration, select and implement solution and establish new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EOS contrib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DN, CWIC and FedEO coord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w search capabilities (e.g., Open 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courage more space agencies contributing their catalog and datasets making accessible through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ta duplication may need to be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4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Main activities in 2014</a:t>
            </a:r>
            <a:endParaRPr b="1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4" descr=""/>
          <p:cNvPicPr/>
          <p:nvPr/>
        </p:nvPicPr>
        <p:blipFill>
          <a:blip r:embed="rId1"/>
          <a:stretch/>
        </p:blipFill>
        <p:spPr>
          <a:xfrm>
            <a:off x="5541840" y="3830760"/>
            <a:ext cx="3449880" cy="331632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1" descr=""/>
          <p:cNvPicPr/>
          <p:nvPr/>
        </p:nvPicPr>
        <p:blipFill>
          <a:blip r:embed="rId2"/>
          <a:stretch/>
        </p:blipFill>
        <p:spPr>
          <a:xfrm>
            <a:off x="0" y="79200"/>
            <a:ext cx="5864400" cy="7267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7"/>
          <p:cNvSpPr/>
          <p:nvPr/>
        </p:nvSpPr>
        <p:spPr>
          <a:xfrm>
            <a:off x="6059520" y="644400"/>
            <a:ext cx="3084480" cy="9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4" name="Group 80"/>
          <p:cNvGrpSpPr/>
          <p:nvPr/>
        </p:nvGrpSpPr>
        <p:grpSpPr>
          <a:xfrm>
            <a:off x="6858000" y="1001880"/>
            <a:ext cx="1676520" cy="1793880"/>
            <a:chOff x="6858000" y="1001880"/>
            <a:chExt cx="1676520" cy="1793880"/>
          </a:xfrm>
        </p:grpSpPr>
        <p:pic>
          <p:nvPicPr>
            <p:cNvPr id="55" name="Picture 68" descr="GEOSS_Portal_Website_link2"/>
            <p:cNvPicPr/>
            <p:nvPr/>
          </p:nvPicPr>
          <p:blipFill>
            <a:blip r:embed="rId3"/>
            <a:stretch/>
          </p:blipFill>
          <p:spPr>
            <a:xfrm>
              <a:off x="6858000" y="1001880"/>
              <a:ext cx="16765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ine 69"/>
            <p:cNvSpPr/>
            <p:nvPr/>
          </p:nvSpPr>
          <p:spPr>
            <a:xfrm flipH="1">
              <a:off x="6885000" y="1071000"/>
              <a:ext cx="9626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7" name="Line 70"/>
            <p:cNvSpPr/>
            <p:nvPr/>
          </p:nvSpPr>
          <p:spPr>
            <a:xfrm flipH="1">
              <a:off x="7921080" y="1214280"/>
              <a:ext cx="74520" cy="15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8" name="Line 71"/>
            <p:cNvSpPr/>
            <p:nvPr/>
          </p:nvSpPr>
          <p:spPr>
            <a:xfrm flipH="1">
              <a:off x="7423200" y="1153440"/>
              <a:ext cx="42948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59" name="Freeform 72"/>
            <p:cNvSpPr/>
            <p:nvPr/>
          </p:nvSpPr>
          <p:spPr>
            <a:xfrm>
              <a:off x="7627320" y="1162800"/>
              <a:ext cx="354600" cy="4021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276" h="315">
                  <a:moveTo>
                    <a:pt x="0" y="0"/>
                  </a:moveTo>
                  <a:lnTo>
                    <a:pt x="0" y="204"/>
                  </a:lnTo>
                  <a:lnTo>
                    <a:pt x="276" y="315"/>
                  </a:lnTo>
                  <a:lnTo>
                    <a:pt x="274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3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60" name="Line 73"/>
            <p:cNvSpPr/>
            <p:nvPr/>
          </p:nvSpPr>
          <p:spPr>
            <a:xfrm flipH="1">
              <a:off x="7907040" y="1137240"/>
              <a:ext cx="8820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61" name="Text Box 72"/>
          <p:cNvSpPr/>
          <p:nvPr/>
        </p:nvSpPr>
        <p:spPr>
          <a:xfrm>
            <a:off x="8029440" y="171144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c00000"/>
                </a:solidFill>
                <a:latin typeface="Arial"/>
                <a:ea typeface="Arial"/>
              </a:rPr>
              <a:t>GEO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fr-CH" sz="1200" spc="-1" strike="noStrike">
                <a:solidFill>
                  <a:srgbClr val="c00000"/>
                </a:solidFill>
                <a:latin typeface="Arial"/>
                <a:ea typeface="Arial"/>
              </a:rPr>
              <a:t>Web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62" name="Picture 74" descr="esa"/>
          <p:cNvPicPr/>
          <p:nvPr/>
        </p:nvPicPr>
        <p:blipFill>
          <a:blip r:embed="rId4"/>
          <a:stretch/>
        </p:blipFill>
        <p:spPr>
          <a:xfrm>
            <a:off x="8010360" y="2408400"/>
            <a:ext cx="835200" cy="32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2"/>
          <p:cNvSpPr/>
          <p:nvPr/>
        </p:nvSpPr>
        <p:spPr>
          <a:xfrm>
            <a:off x="7262640" y="280512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c00000"/>
                </a:solidFill>
                <a:latin typeface="Arial"/>
                <a:ea typeface="Arial"/>
              </a:rPr>
              <a:t>GEOSS Portal</a:t>
            </a:r>
            <a:endParaRPr b="1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455920" y="25560"/>
            <a:ext cx="6688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2060"/>
                </a:solidFill>
                <a:latin typeface="Arial"/>
                <a:ea typeface="Arial"/>
              </a:rPr>
              <a:t>GEOSS Common Infrastructure</a:t>
            </a:r>
            <a:endParaRPr b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5" name="Freccia in giù 2"/>
          <p:cNvSpPr/>
          <p:nvPr/>
        </p:nvSpPr>
        <p:spPr>
          <a:xfrm rot="1877400">
            <a:off x="6614640" y="2495160"/>
            <a:ext cx="509760" cy="7128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66" name="Immagine 1" descr=""/>
          <p:cNvPicPr/>
          <p:nvPr/>
        </p:nvPicPr>
        <p:blipFill>
          <a:blip r:embed="rId5"/>
          <a:stretch/>
        </p:blipFill>
        <p:spPr>
          <a:xfrm>
            <a:off x="7078680" y="3524400"/>
            <a:ext cx="388800" cy="3283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6"/>
          <p:cNvGrpSpPr/>
          <p:nvPr/>
        </p:nvGrpSpPr>
        <p:grpSpPr>
          <a:xfrm>
            <a:off x="5867280" y="489600"/>
            <a:ext cx="2244240" cy="1339200"/>
            <a:chOff x="5867280" y="489600"/>
            <a:chExt cx="2244240" cy="1339200"/>
          </a:xfrm>
        </p:grpSpPr>
        <p:pic>
          <p:nvPicPr>
            <p:cNvPr id="68" name="Immagine 3" descr=""/>
            <p:cNvPicPr/>
            <p:nvPr/>
          </p:nvPicPr>
          <p:blipFill>
            <a:blip r:embed="rId6"/>
            <a:srcRect l="0" t="0" r="49469" b="0"/>
            <a:stretch/>
          </p:blipFill>
          <p:spPr>
            <a:xfrm>
              <a:off x="6154560" y="731520"/>
              <a:ext cx="64116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Immagine 25" descr=""/>
            <p:cNvPicPr/>
            <p:nvPr/>
          </p:nvPicPr>
          <p:blipFill>
            <a:blip r:embed="rId7"/>
            <a:srcRect l="0" t="86088" r="79439" b="2095"/>
            <a:stretch/>
          </p:blipFill>
          <p:spPr>
            <a:xfrm>
              <a:off x="5867280" y="1436400"/>
              <a:ext cx="92556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magine 9" descr=""/>
            <p:cNvPicPr/>
            <p:nvPr/>
          </p:nvPicPr>
          <p:blipFill>
            <a:blip r:embed="rId8"/>
            <a:srcRect l="79415" t="59434" r="3649" b="25609"/>
            <a:stretch/>
          </p:blipFill>
          <p:spPr>
            <a:xfrm rot="20989200">
              <a:off x="6456240" y="628560"/>
              <a:ext cx="162072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po 3"/>
          <p:cNvGrpSpPr/>
          <p:nvPr/>
        </p:nvGrpSpPr>
        <p:grpSpPr>
          <a:xfrm>
            <a:off x="5130720" y="3000240"/>
            <a:ext cx="2252880" cy="1425600"/>
            <a:chOff x="5130720" y="3000240"/>
            <a:chExt cx="2252880" cy="1425600"/>
          </a:xfrm>
        </p:grpSpPr>
        <p:pic>
          <p:nvPicPr>
            <p:cNvPr id="72" name="Picture 2" descr="C:\Users\nativi\Downloads\MC900441388.PNG"/>
            <p:cNvPicPr/>
            <p:nvPr/>
          </p:nvPicPr>
          <p:blipFill>
            <a:blip r:embed="rId9"/>
            <a:stretch/>
          </p:blipFill>
          <p:spPr>
            <a:xfrm>
              <a:off x="5146560" y="3000240"/>
              <a:ext cx="223704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CasellaDiTesto 66" descr=""/>
            <p:cNvPicPr/>
            <p:nvPr/>
          </p:nvPicPr>
          <p:blipFill>
            <a:blip r:embed="rId10"/>
            <a:stretch/>
          </p:blipFill>
          <p:spPr>
            <a:xfrm>
              <a:off x="5130720" y="3216240"/>
              <a:ext cx="2205000" cy="108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riangolo isoscele 21"/>
          <p:cNvSpPr/>
          <p:nvPr/>
        </p:nvSpPr>
        <p:spPr>
          <a:xfrm>
            <a:off x="3733920" y="1219320"/>
            <a:ext cx="5638680" cy="5460840"/>
          </a:xfrm>
          <a:prstGeom prst="triangle">
            <a:avLst>
              <a:gd name="adj" fmla="val 49787"/>
            </a:avLst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44360" y="-2592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  <a:ea typeface="Arial"/>
              </a:rPr>
              <a:t>Current Assets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grpSp>
        <p:nvGrpSpPr>
          <p:cNvPr id="76" name="Gruppo 8"/>
          <p:cNvGrpSpPr/>
          <p:nvPr/>
        </p:nvGrpSpPr>
        <p:grpSpPr>
          <a:xfrm>
            <a:off x="-228600" y="1373040"/>
            <a:ext cx="8381880" cy="941400"/>
            <a:chOff x="-228600" y="1373040"/>
            <a:chExt cx="8381880" cy="941400"/>
          </a:xfrm>
        </p:grpSpPr>
        <p:sp>
          <p:nvSpPr>
            <p:cNvPr id="77" name="Rettangolo arrotondato 34"/>
            <p:cNvSpPr/>
            <p:nvPr/>
          </p:nvSpPr>
          <p:spPr>
            <a:xfrm>
              <a:off x="-228600" y="1373040"/>
              <a:ext cx="8381880" cy="941400"/>
            </a:xfrm>
            <a:prstGeom prst="roundRect">
              <a:avLst>
                <a:gd name="adj" fmla="val 16667"/>
              </a:avLst>
            </a:prstGeom>
            <a:solidFill>
              <a:srgbClr val="d1d1f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78" name="Rettangolo 1"/>
            <p:cNvSpPr/>
            <p:nvPr/>
          </p:nvSpPr>
          <p:spPr>
            <a:xfrm>
              <a:off x="304560" y="1599840"/>
              <a:ext cx="38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More than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35</a:t>
              </a: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 brokered data providers – capacities, systems, Communities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pic>
          <p:nvPicPr>
            <p:cNvPr id="79" name="Immagine 4" descr=""/>
            <p:cNvPicPr/>
            <p:nvPr/>
          </p:nvPicPr>
          <p:blipFill>
            <a:blip r:embed="rId1"/>
            <a:stretch/>
          </p:blipFill>
          <p:spPr>
            <a:xfrm>
              <a:off x="5270400" y="1426680"/>
              <a:ext cx="90144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Immagine 5" descr=""/>
            <p:cNvPicPr/>
            <p:nvPr/>
          </p:nvPicPr>
          <p:blipFill>
            <a:blip r:embed="rId2"/>
            <a:stretch/>
          </p:blipFill>
          <p:spPr>
            <a:xfrm>
              <a:off x="7236000" y="1639800"/>
              <a:ext cx="53640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Immagine 8" descr=""/>
            <p:cNvPicPr/>
            <p:nvPr/>
          </p:nvPicPr>
          <p:blipFill>
            <a:blip r:embed="rId3"/>
            <a:stretch/>
          </p:blipFill>
          <p:spPr>
            <a:xfrm>
              <a:off x="6264360" y="16142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CasellaDiTesto 9"/>
            <p:cNvSpPr/>
            <p:nvPr/>
          </p:nvSpPr>
          <p:spPr>
            <a:xfrm>
              <a:off x="6721560" y="1746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. 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83" name="Gruppo 9"/>
          <p:cNvGrpSpPr/>
          <p:nvPr/>
        </p:nvGrpSpPr>
        <p:grpSpPr>
          <a:xfrm>
            <a:off x="-228600" y="2206800"/>
            <a:ext cx="8991720" cy="1974600"/>
            <a:chOff x="-228600" y="2206800"/>
            <a:chExt cx="8991720" cy="1974600"/>
          </a:xfrm>
        </p:grpSpPr>
        <p:sp>
          <p:nvSpPr>
            <p:cNvPr id="84" name="Rettangolo arrotondato 38"/>
            <p:cNvSpPr/>
            <p:nvPr/>
          </p:nvSpPr>
          <p:spPr>
            <a:xfrm>
              <a:off x="-228600" y="2919240"/>
              <a:ext cx="8991720" cy="1262160"/>
            </a:xfrm>
            <a:prstGeom prst="roundRect">
              <a:avLst>
                <a:gd name="adj" fmla="val 16667"/>
              </a:avLst>
            </a:prstGeom>
            <a:solidFill>
              <a:srgbClr val="badd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85" name="Rettangolo 2"/>
            <p:cNvSpPr/>
            <p:nvPr/>
          </p:nvSpPr>
          <p:spPr>
            <a:xfrm>
              <a:off x="299880" y="3036960"/>
              <a:ext cx="41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About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4 Million </a:t>
              </a: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(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 Million</a:t>
              </a: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 GEOSS Data Core) potentially Discoverable and Accessible resources (mix of data collections, datasets and individual images) 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pic>
          <p:nvPicPr>
            <p:cNvPr id="86" name="Immagine 10" descr=""/>
            <p:cNvPicPr/>
            <p:nvPr/>
          </p:nvPicPr>
          <p:blipFill>
            <a:blip r:embed="rId4"/>
            <a:stretch/>
          </p:blipFill>
          <p:spPr>
            <a:xfrm>
              <a:off x="6163200" y="2206800"/>
              <a:ext cx="62172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magine 13" descr=""/>
            <p:cNvPicPr/>
            <p:nvPr/>
          </p:nvPicPr>
          <p:blipFill>
            <a:blip r:embed="rId5"/>
            <a:stretch/>
          </p:blipFill>
          <p:spPr>
            <a:xfrm>
              <a:off x="7772760" y="328932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magine 17" descr=""/>
            <p:cNvPicPr/>
            <p:nvPr/>
          </p:nvPicPr>
          <p:blipFill>
            <a:blip r:embed="rId6"/>
            <a:stretch/>
          </p:blipFill>
          <p:spPr>
            <a:xfrm>
              <a:off x="5562720" y="3330360"/>
              <a:ext cx="636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magine 18" descr=""/>
            <p:cNvPicPr/>
            <p:nvPr/>
          </p:nvPicPr>
          <p:blipFill>
            <a:blip r:embed="rId7"/>
            <a:stretch/>
          </p:blipFill>
          <p:spPr>
            <a:xfrm>
              <a:off x="4684680" y="3289320"/>
              <a:ext cx="863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magine 19" descr=""/>
            <p:cNvPicPr/>
            <p:nvPr/>
          </p:nvPicPr>
          <p:blipFill>
            <a:blip r:embed="rId8"/>
            <a:stretch/>
          </p:blipFill>
          <p:spPr>
            <a:xfrm>
              <a:off x="6248520" y="3222720"/>
              <a:ext cx="8157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CasellaDiTesto 24"/>
            <p:cNvSpPr/>
            <p:nvPr/>
          </p:nvSpPr>
          <p:spPr>
            <a:xfrm>
              <a:off x="7129800" y="3343320"/>
              <a:ext cx="4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. 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sp>
        <p:nvSpPr>
          <p:cNvPr id="92" name="Triangolo isoscele 20"/>
          <p:cNvSpPr/>
          <p:nvPr/>
        </p:nvSpPr>
        <p:spPr>
          <a:xfrm>
            <a:off x="6629400" y="1219320"/>
            <a:ext cx="2133720" cy="48337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93" name="Gruppo 49"/>
          <p:cNvGrpSpPr/>
          <p:nvPr/>
        </p:nvGrpSpPr>
        <p:grpSpPr>
          <a:xfrm>
            <a:off x="380880" y="2209680"/>
            <a:ext cx="1384200" cy="822600"/>
            <a:chOff x="380880" y="2209680"/>
            <a:chExt cx="1384200" cy="822600"/>
          </a:xfrm>
        </p:grpSpPr>
        <p:sp>
          <p:nvSpPr>
            <p:cNvPr id="94" name="CasellaDiTesto 40"/>
            <p:cNvSpPr/>
            <p:nvPr/>
          </p:nvSpPr>
          <p:spPr>
            <a:xfrm>
              <a:off x="755280" y="239436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060"/>
                  </a:solidFill>
                  <a:latin typeface="Tahoma"/>
                  <a:ea typeface="Arial"/>
                </a:rPr>
                <a:t>Publish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95" name="Freccia in giù 42"/>
            <p:cNvSpPr/>
            <p:nvPr/>
          </p:nvSpPr>
          <p:spPr>
            <a:xfrm>
              <a:off x="380880" y="2209680"/>
              <a:ext cx="457200" cy="822600"/>
            </a:xfrm>
            <a:prstGeom prst="downArrow">
              <a:avLst>
                <a:gd name="adj1" fmla="val 50000"/>
                <a:gd name="adj2" fmla="val 43789"/>
              </a:avLst>
            </a:prstGeom>
            <a:solidFill>
              <a:srgbClr val="9c9cd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grpSp>
        <p:nvGrpSpPr>
          <p:cNvPr id="96" name="Gruppo 52"/>
          <p:cNvGrpSpPr/>
          <p:nvPr/>
        </p:nvGrpSpPr>
        <p:grpSpPr>
          <a:xfrm>
            <a:off x="380880" y="4114800"/>
            <a:ext cx="3634200" cy="1143000"/>
            <a:chOff x="380880" y="4114800"/>
            <a:chExt cx="3634200" cy="1143000"/>
          </a:xfrm>
        </p:grpSpPr>
        <p:sp>
          <p:nvSpPr>
            <p:cNvPr id="97" name="CasellaDiTesto 50"/>
            <p:cNvSpPr/>
            <p:nvPr/>
          </p:nvSpPr>
          <p:spPr>
            <a:xfrm>
              <a:off x="757440" y="4371480"/>
              <a:ext cx="32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575d1"/>
                  </a:solidFill>
                  <a:latin typeface="Tahoma"/>
                  <a:ea typeface="Arial"/>
                </a:rPr>
                <a:t>Contain </a:t>
              </a:r>
              <a:r>
                <a:rPr b="0" i="1" lang="en-US" sz="1600" spc="-1" strike="noStrike">
                  <a:solidFill>
                    <a:srgbClr val="7575d1"/>
                  </a:solidFill>
                  <a:latin typeface="Tahoma"/>
                  <a:ea typeface="Arial"/>
                </a:rPr>
                <a:t>[source: data providers]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sp>
          <p:nvSpPr>
            <p:cNvPr id="98" name="Freccia in giù 51"/>
            <p:cNvSpPr/>
            <p:nvPr/>
          </p:nvSpPr>
          <p:spPr>
            <a:xfrm>
              <a:off x="380880" y="4114800"/>
              <a:ext cx="457200" cy="1143000"/>
            </a:xfrm>
            <a:prstGeom prst="downArrow">
              <a:avLst>
                <a:gd name="adj1" fmla="val 50000"/>
                <a:gd name="adj2" fmla="val 60856"/>
              </a:avLst>
            </a:prstGeom>
            <a:solidFill>
              <a:srgbClr val="ffffff"/>
            </a:solidFill>
            <a:ln w="25560">
              <a:solidFill>
                <a:srgbClr val="a3a3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</p:grpSp>
      <p:pic>
        <p:nvPicPr>
          <p:cNvPr id="99" name="Immagine 48" descr=""/>
          <p:cNvPicPr/>
          <p:nvPr/>
        </p:nvPicPr>
        <p:blipFill>
          <a:blip r:embed="rId9"/>
          <a:srcRect l="0" t="0" r="65098" b="-11255"/>
          <a:stretch/>
        </p:blipFill>
        <p:spPr>
          <a:xfrm>
            <a:off x="6049800" y="817560"/>
            <a:ext cx="1036800" cy="4935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uppo 11"/>
          <p:cNvGrpSpPr/>
          <p:nvPr/>
        </p:nvGrpSpPr>
        <p:grpSpPr>
          <a:xfrm>
            <a:off x="246240" y="4332240"/>
            <a:ext cx="7542720" cy="2249640"/>
            <a:chOff x="246240" y="4332240"/>
            <a:chExt cx="7542720" cy="2249640"/>
          </a:xfrm>
        </p:grpSpPr>
        <p:sp>
          <p:nvSpPr>
            <p:cNvPr id="101" name="Rettangolo 6"/>
            <p:cNvSpPr/>
            <p:nvPr/>
          </p:nvSpPr>
          <p:spPr>
            <a:xfrm>
              <a:off x="246240" y="5271120"/>
              <a:ext cx="3843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More than 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0 Million </a:t>
              </a: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(more than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50 Million</a:t>
              </a:r>
              <a:r>
                <a:rPr b="0" lang="en-US" sz="1600" spc="-1" strike="noStrike">
                  <a:solidFill>
                    <a:srgbClr val="009999"/>
                  </a:solidFill>
                  <a:latin typeface="Arial"/>
                  <a:ea typeface="Arial"/>
                </a:rPr>
                <a:t> GEOSS Data Core) potentially Discoverable and Accessible resources (e.g. satellite scenes, raingauge records) 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pic>
          <p:nvPicPr>
            <p:cNvPr id="102" name="Immagine 25" descr=""/>
            <p:cNvPicPr/>
            <p:nvPr/>
          </p:nvPicPr>
          <p:blipFill>
            <a:blip r:embed="rId10"/>
            <a:stretch/>
          </p:blipFill>
          <p:spPr>
            <a:xfrm>
              <a:off x="5425560" y="4332240"/>
              <a:ext cx="62172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CasellaDiTesto 27"/>
            <p:cNvSpPr/>
            <p:nvPr/>
          </p:nvSpPr>
          <p:spPr>
            <a:xfrm>
              <a:off x="7336800" y="437616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. .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ahoma"/>
              </a:endParaRPr>
            </a:p>
          </p:txBody>
        </p:sp>
        <p:pic>
          <p:nvPicPr>
            <p:cNvPr id="104" name="Immagine 36" descr=""/>
            <p:cNvPicPr/>
            <p:nvPr/>
          </p:nvPicPr>
          <p:blipFill>
            <a:blip r:embed="rId11"/>
            <a:stretch/>
          </p:blipFill>
          <p:spPr>
            <a:xfrm>
              <a:off x="6096240" y="4332240"/>
              <a:ext cx="621720" cy="56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Rettangolo 12" descr=""/>
          <p:cNvPicPr/>
          <p:nvPr/>
        </p:nvPicPr>
        <p:blipFill>
          <a:blip r:embed="rId12"/>
          <a:stretch/>
        </p:blipFill>
        <p:spPr>
          <a:xfrm>
            <a:off x="5473800" y="6321600"/>
            <a:ext cx="226836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58" descr=""/>
          <p:cNvPicPr/>
          <p:nvPr/>
        </p:nvPicPr>
        <p:blipFill>
          <a:blip r:embed="rId13"/>
          <a:stretch/>
        </p:blipFill>
        <p:spPr>
          <a:xfrm>
            <a:off x="4089240" y="5021280"/>
            <a:ext cx="936720" cy="1279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7" name="Immagine 59" descr=""/>
          <p:cNvPicPr/>
          <p:nvPr/>
        </p:nvPicPr>
        <p:blipFill>
          <a:blip r:embed="rId14"/>
          <a:stretch/>
        </p:blipFill>
        <p:spPr>
          <a:xfrm>
            <a:off x="8083440" y="4962600"/>
            <a:ext cx="104148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uppo 7"/>
          <p:cNvGrpSpPr/>
          <p:nvPr/>
        </p:nvGrpSpPr>
        <p:grpSpPr>
          <a:xfrm>
            <a:off x="4581360" y="5199120"/>
            <a:ext cx="3948120" cy="1279440"/>
            <a:chOff x="4581360" y="5199120"/>
            <a:chExt cx="3948120" cy="1279440"/>
          </a:xfrm>
        </p:grpSpPr>
        <p:grpSp>
          <p:nvGrpSpPr>
            <p:cNvPr id="109" name="Gruppo 5"/>
            <p:cNvGrpSpPr/>
            <p:nvPr/>
          </p:nvGrpSpPr>
          <p:grpSpPr>
            <a:xfrm>
              <a:off x="5665680" y="5248800"/>
              <a:ext cx="2863800" cy="1177920"/>
              <a:chOff x="5665680" y="5248800"/>
              <a:chExt cx="2863800" cy="1177920"/>
            </a:xfrm>
          </p:grpSpPr>
          <p:grpSp>
            <p:nvGrpSpPr>
              <p:cNvPr id="110" name="Gruppo 21"/>
              <p:cNvGrpSpPr/>
              <p:nvPr/>
            </p:nvGrpSpPr>
            <p:grpSpPr>
              <a:xfrm>
                <a:off x="5665680" y="5248800"/>
                <a:ext cx="1872000" cy="1177920"/>
                <a:chOff x="5665680" y="5248800"/>
                <a:chExt cx="1872000" cy="1177920"/>
              </a:xfrm>
            </p:grpSpPr>
            <p:pic>
              <p:nvPicPr>
                <p:cNvPr id="111" name="Immagine 20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665680" y="5248800"/>
                  <a:ext cx="924480" cy="1177920"/>
                </a:xfrm>
                <a:prstGeom prst="rect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112" name="Immagine 68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613200" y="5248800"/>
                  <a:ext cx="924480" cy="1177920"/>
                </a:xfrm>
                <a:prstGeom prst="rect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</p:pic>
          </p:grpSp>
          <p:pic>
            <p:nvPicPr>
              <p:cNvPr id="113" name="Immagine 5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04640" y="5274000"/>
                <a:ext cx="924840" cy="1127160"/>
              </a:xfrm>
              <a:prstGeom prst="rect">
                <a:avLst/>
              </a:prstGeom>
              <a:ln w="57240">
                <a:solidFill>
                  <a:srgbClr val="ffffff"/>
                </a:solidFill>
                <a:miter/>
              </a:ln>
            </p:spPr>
          </p:pic>
        </p:grpSp>
        <p:pic>
          <p:nvPicPr>
            <p:cNvPr id="114" name="Immagine 56" descr=""/>
            <p:cNvPicPr/>
            <p:nvPr/>
          </p:nvPicPr>
          <p:blipFill>
            <a:blip r:embed="rId18"/>
            <a:stretch/>
          </p:blipFill>
          <p:spPr>
            <a:xfrm>
              <a:off x="4581360" y="5199120"/>
              <a:ext cx="1071000" cy="12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I Operations continued with minimal service dis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I evolved to continuously provide additional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GEOSS resources discoverable and accessible through the GCI continuously increased (e.g. GEOSS Data-CO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and widening of “Brokering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 and simplification of Items registration in the G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 and GEOSS Portal enhanced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s fi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, Transformation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b-set, Format conversion, CRS transformat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own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authent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Tahoma"/>
                <a:ea typeface="SimSun"/>
              </a:rPr>
              <a:t>Main activities in 2014</a:t>
            </a:r>
            <a:endParaRPr b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I Components Routine Operations and Enhan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d out following a procedure defined in agreement among task particip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ed through bi-weekly teleconferences (GCI Providers Call) since Dec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ilitated by the use of dedicated tools implemented in the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CI Operations and Evolution (GOE) tool to handle process for GCI bugs resolution and enhancements implementation (assessment of suggestions: need, urgency, resources needed for implement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NITIS.COM tool: web server monitoring of GCI oper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2112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218960" cy="1447560"/>
          </a:xfrm>
          <a:prstGeom prst="rect">
            <a:avLst/>
          </a:prstGeom>
          <a:ln w="0">
            <a:noFill/>
          </a:ln>
        </p:spPr>
      </p:pic>
      <p:sp>
        <p:nvSpPr>
          <p:cNvPr id="120" name="Oval 2"/>
          <p:cNvSpPr/>
          <p:nvPr/>
        </p:nvSpPr>
        <p:spPr>
          <a:xfrm>
            <a:off x="4114800" y="3581280"/>
            <a:ext cx="83808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64960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6172200" y="3200400"/>
            <a:ext cx="28400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Times New Roman"/>
                <a:ea typeface="Arial"/>
              </a:rPr>
              <a:t>Tools and Docs</a:t>
            </a:r>
            <a:endParaRPr b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228600" y="4952880"/>
            <a:ext cx="87631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CI Documentation Status:</a:t>
            </a:r>
            <a:endParaRPr b="1" lang="en-US" sz="20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CI requirements baseline – July 2013</a:t>
            </a:r>
            <a:endParaRPr b="1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CI architecture &amp; interfaces document V1.1 - September 2013</a:t>
            </a:r>
            <a:endParaRPr b="1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ritical Issues and challeng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I teleconferences - Low attendance, Not really a place where development ideas are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gistration roles and responsibilities not been cla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CI architecture and operation – short, mid and long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2015 plan and expect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371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inghouse decommissioning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s harvesting configuration roles and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re registration with review and collaboration with the GCI Providers (IN-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 mechanism to track registrations, their configuration within the DAB, and notification to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GCI Providers calls and membership of IN-03 to document the GCI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and approve an updated Consolidated Requirements doc and reflect on the architecture and relation to overal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updated GCI Components to streamline regi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 DAB functions in the Consolidat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raining materials to promote proper use of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IB and GCI Providers meeting will be held in ESA-ESRIN, Feb 23-25 to discuss the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4:15:52Z</dcterms:created>
  <dc:creator>Imraan Saloojee</dc:creator>
  <dc:description/>
  <dc:language>en-US</dc:language>
  <cp:lastModifiedBy>WMOuser</cp:lastModifiedBy>
  <dcterms:modified xsi:type="dcterms:W3CDTF">2015-01-21T13:43:42Z</dcterms:modified>
  <cp:revision>1283</cp:revision>
  <dc:subject/>
  <dc:title>GEO and GEOSS…….</dc:title>
</cp:coreProperties>
</file>