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71AD-B7C7-4FA8-AF8B-0EBC372E6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S = ; SeaWiFS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11C4-0A68-44EE-AEEA-9E2767CB8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eo-tasks.org/geoss_portfolio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4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7488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-CEOS</a:t>
            </a: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-22 January 201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glas Cripe, GEO Secretariat</a:t>
            </a:r>
            <a:br>
              <a:rPr sz="1800"/>
            </a:br>
            <a:endParaRPr b="1" lang="en-US" sz="1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95280" y="17002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5faa"/>
                </a:solidFill>
                <a:latin typeface="Arial"/>
              </a:rPr>
              <a:t>SB 01 - Oceans and Society: Blue Pla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0773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"/>
              </a:rPr>
              <a:t>Ecological Forecasting for Health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05" name="ClipArt Placeholder 8" descr="aqua_render.jpg"/>
          <p:cNvPicPr/>
          <p:nvPr/>
        </p:nvPicPr>
        <p:blipFill>
          <a:blip r:embed="rId1"/>
          <a:stretch/>
        </p:blipFill>
        <p:spPr>
          <a:xfrm>
            <a:off x="6134040" y="1803240"/>
            <a:ext cx="2552760" cy="1702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6172200" y="3124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SA Aqua w/ MO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533520" y="1523880"/>
            <a:ext cx="518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s, computers and molecular biology have made public health forecasting a re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 surface temperature, sea surface height, color and other products can be used to predict the presence of harmful microbes in water and seafo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5943600" y="3733920"/>
            <a:ext cx="297180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microb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c alga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230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. cholera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230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. parahaemolytic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230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. vulnific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230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cal indic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152280" y="4645080"/>
          <a:ext cx="2471760" cy="183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4645080"/>
                    <a:ext cx="247176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Box 7"/>
          <p:cNvSpPr/>
          <p:nvPr/>
        </p:nvSpPr>
        <p:spPr>
          <a:xfrm>
            <a:off x="76320" y="64119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IS SST (NRL, &amp; US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SEAWIF~1"/>
          <p:cNvPicPr/>
          <p:nvPr/>
        </p:nvPicPr>
        <p:blipFill>
          <a:blip r:embed="rId4"/>
          <a:stretch/>
        </p:blipFill>
        <p:spPr>
          <a:xfrm>
            <a:off x="2819520" y="4800600"/>
            <a:ext cx="3047760" cy="15238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0"/>
          <p:cNvSpPr/>
          <p:nvPr/>
        </p:nvSpPr>
        <p:spPr>
          <a:xfrm>
            <a:off x="3124080" y="6324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lor (NASA SeaWiF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"/>
              </a:rPr>
              <a:t>Message (to CEOS)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ed support for VCs and E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4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395280" y="1700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5faa"/>
                </a:solidFill>
                <a:latin typeface="Arial"/>
              </a:rPr>
              <a:t>HE 02 – Tracking Pollut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Main activities - 2014/2015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nd-based observing system (GMOS) for mercury in 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llecting near real-time mercury data from ground-based sites; Quality Assurance/Quality Control system implemented; Historical datasets and metadata comple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OS web portal (gmos.eu) providing information about project development, capacity building, support to policy, major findings, publications, and press releas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Main activities - 2014/2015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 and processing underway through the POP data warehouse (www.pops-gmp.org)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ion of POP data ongoing in all UN regions – for ambient air, human milk/blood, and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) Standardization of the collected dat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Manual or electronic data entr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i) Data validation procedures (factual and politica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v) Data presentation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v) Link to existing databas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onal Global Monitoring Plan Reports in preparation for 2015 endorsement by UN Reg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Issues and challenges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EO information needs and performances addressing atmospheric pollution for major persistent contaminants including, but not limited to, Hg and PO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the State of the art on EO and persistent pollutants de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more advanced sensors for Mercury and POPs to make observing systems less human depende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Message (to CEOS)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20728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mote sensing of Hg and POPs?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ldri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lorda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ieldri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ioxins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D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dri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urans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eptachlo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exachlorobenze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rex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olychlorinated biphenyls (PCB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xaphe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4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395280" y="1700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5faa"/>
                </a:solidFill>
                <a:latin typeface="Arial"/>
              </a:rPr>
              <a:t>ID – 03 Science and Technology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5faa"/>
                </a:solidFill>
                <a:latin typeface="Arial"/>
              </a:rPr>
              <a:t>in GEO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Main activities - 2014/2015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SS S&amp;T Portfolio 60% populated (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eo-tasks.org/geoss_portfoli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 activities, projects, and Work Plan Tasks that demonstrate GEOSS benefits for S&amp;T communities across SB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y populated and documented prior to the next Sum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 for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OSS S&amp;T Stakeholder Worksho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Navigating Sustainability on a Changing Pla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oncepts, Technologies, Systems and Users of the Next GEO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pt of a GEOSS Information System and Knowledge Base under discuss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Issues and challenges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better engage S&amp;T communiti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SS Science and Technology Service Su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to GEOSS S&amp;T Portfolio, a Meeting Portal, an Outreach library, a forum for discussion of research on Earth observation systems, and a user feedback utili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lish links with national/regional acti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Earth and broader SDG agend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Main activities - 2014/2015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629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P book publish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ering committee meeting at GEO Secretariat (May 2014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ning for 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P Symposium in Cairns, Australia 27-29 May (CSIRO hos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P7 AtlantOS project in final negoti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 and Blue Planet appeared together in a joint side event at the GEO-X Plenary (Geneva, 16 January 2014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ue Planet recognized as platform for collaboration between EC and North America to promote a transatlantic ocean observ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2020 Blue Planet Virtual Research Environment propos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networks of hundreds of organisations and countries, technical skills, and capacity building experience using new digital technologies in both developed and developing countries.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Message (to CEOS)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820728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/Contribute to GEOSS Science and Technology Service Su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SS S&amp;T Portfol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OS projects/activities that could be used as examples for the portfol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OSS S&amp;T Stakeholder Worksho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/suggestionson the programs would be help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gestions for CEOS-related experts who could contribute (both for keynotes and/or in breakout sessions)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Main activities 2014/2015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629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obile app developed under AIP 7, using crowd-sourced data to identifying plankton and species distribu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llaboration with GEOBON (Task BI-01) underway for identification of Essential Ocean Variables for biology &amp; ecosystem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llaboration with Coastal and Water Quality communities (Tasks WA-01 and HE-01) ongoing to address large-lake issues and coastal water quality monitoring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7 GEO-WOW project achieved progress in developing applications and integrating ocean data streams into GCI. Main focus on ocean assessments and ecosystem applications (www.geowow.eu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Issues and challenges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Funding of BP Secretari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Funding of projects such as ChloroGIN, SAFA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"/>
              </a:rPr>
              <a:t>Message (to CEOS)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SB-01 priority activities depend heavily on availability of satellite-based observ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4, Activity 3: Assess climate change impacts on island coasts for islands from the Caribbean to the Arctic using SAR data and other relevant data as a demonstrator for the use of space-based observations in the monitoring of climate change impacts. Data for this activity would be sought from CEOS me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uld good to have a process for linking with the relevant groups/members of CE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P Symposium Particip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4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95280" y="1700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5faa"/>
                </a:solidFill>
                <a:latin typeface="Arial"/>
              </a:rPr>
              <a:t>HE 01 – Tools and Information for Health Decision-Ma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Main activities - 2014/2015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lobally integrated) Cholera Early Warning System under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 on regional pilots in areas such as Uganda, Bangladesh, Puget Sound, Chesapeake Ba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onal hazards outlooks in preparation for food security across Afr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elines for geospatial standards relevant to health and environment under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O2HEAVEN (Earth Observation and Environmental Modelling for the Mitigation of Health Risks) results disseminated to the OGC Domain WG on Heal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laria map-room operational – to help anticipate time and conditions suitable for malaria transmission (e.g. average temperature between 18°C and 32°C and relative humidity greater than 60%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Main activities - 2014/2015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ningitis map-room in operation to provide information tools for epidemic meningitis (e.g. observed distribution maps during 1841-1999 and predicted probability maps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tion clearinghouse for tick-borne diseases in preparatio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water-health partnership (WHO-UNHABITAT-UNEP) in progress – supported by Switzerland (project secretariat at WHO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EO recognized as a partner for providing Earth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servations and information in monitoring achievement of the Water Sustainable Development Goal (see WA-01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5faa"/>
                </a:solidFill>
                <a:latin typeface="Arial"/>
              </a:rPr>
              <a:t>Issues and challenges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 national/international participation in GEO health activ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eorological/climatological variables for 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GEO whenever negotiating aspects of the Global Framework for Climate Services (GFCS), Sustainable Development Goals (SDG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 that attainment of SDGs cannot be achieved without E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d focus on capacity building, esp. in developing count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exchange knowledge and not just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8:11:19Z</dcterms:created>
  <dc:creator>GEO</dc:creator>
  <dc:description/>
  <dc:language>en-US</dc:language>
  <cp:lastModifiedBy>WMO</cp:lastModifiedBy>
  <cp:lastPrinted>2007-10-16T11:41:49Z</cp:lastPrinted>
  <dcterms:modified xsi:type="dcterms:W3CDTF">2015-01-21T13:19:35Z</dcterms:modified>
  <cp:revision>199</cp:revision>
  <dc:subject/>
  <dc:title>Title of Presentation</dc:title>
</cp:coreProperties>
</file>