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395280" y="1700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5faa"/>
                </a:solidFill>
                <a:latin typeface="Arial"/>
              </a:rPr>
              <a:t>WA 01 – Integrated Water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Components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1 Integrated Water-cycle Products and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2: Information Systems for Hydro-meteorological Extre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3: Information Service for Cold Reg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4: Global Water Quality Products and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5: Information System Development and CapacityBuil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Main activities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ompletion of GEOSS Water Strategy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development of Water Implementa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promotion of Earth observations for monitoring progress towards SDGs for w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commitment to provide 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Global Drought Information Service (GDI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tH2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GEOSS Water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IGWCO annual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Issues and challenges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cience and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User’s vie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Further though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5faa"/>
                </a:solidFill>
                <a:latin typeface="Arial"/>
              </a:rPr>
              <a:t>Issues and challenges, science and technology (from Water strategy 2014, satellite)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Feasibility of developing a water-train satellite constel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oordination of missions for cloud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romotion of advanced satellite techn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overage and quality of observations (&lt; 3 hours revisit tim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Next generation precipitation rad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ommitment for thermal band imaging sen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GRACE II mi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old season processes and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Multichannel sensors for freeze/thaw patt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Feasibility assessment of hyperspectral mission (water qu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Issues and challenges, user’s view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a global water resources assessment component of GEOSS is an essential step to ensure consistent planning and implementation of integrated observational systems with high societal relevancy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tatus of virtual constellation for precip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ty of in-situ and satellite-based systems (evolution over time of sensor specifications, gaps in the reco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vailabilily, format, docu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’s needs (…and skill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Issues and challenges, further thoughts (dreams)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717640"/>
            <a:ext cx="7772400" cy="17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Measurement of evapotranspiration at the right space and time sc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of soil moisture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t the right space and time scale, and the requested dep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Meetings and conferences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Quality Summit, April 20-22 in Gene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view of inland and coastal monitor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s and indic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, knowled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 GEO-CIEHLY Water-Cycle Capacity Building  Workshop, May 19-22 2015 in Cartagena: trainers from CEOS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ty in the use of remote sensing data (fresh water and ocean issu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source hydroinformatics tools for fresh water management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st monitoring technologies for operational oceanograph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ng and real time data coupling for operational oceanograph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95" name="Picture 2" descr="Quasar Drenched in Water Vapour"/>
          <p:cNvPicPr/>
          <p:nvPr/>
        </p:nvPicPr>
        <p:blipFill>
          <a:blip r:embed="rId1"/>
          <a:stretch/>
        </p:blipFill>
        <p:spPr>
          <a:xfrm>
            <a:off x="3708360" y="900000"/>
            <a:ext cx="3917880" cy="392436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8"/>
          <p:cNvSpPr/>
          <p:nvPr/>
        </p:nvSpPr>
        <p:spPr>
          <a:xfrm>
            <a:off x="751320" y="5086440"/>
            <a:ext cx="631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e water than currently known reserves on ear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ely 12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ght-years from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332000" y="22766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sar APM 08279+525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8"/>
          <p:cNvSpPr/>
          <p:nvPr/>
        </p:nvSpPr>
        <p:spPr>
          <a:xfrm>
            <a:off x="198360" y="6012000"/>
            <a:ext cx="914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I prefer anyway to solve the problems of water on Earth: there is so much to do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8:11:19Z</dcterms:created>
  <dc:creator>GEO</dc:creator>
  <dc:description/>
  <dc:language>en-US</dc:language>
  <cp:lastModifiedBy>francesco gaetani</cp:lastModifiedBy>
  <cp:lastPrinted>2015-01-20T13:29:37Z</cp:lastPrinted>
  <dcterms:modified xsi:type="dcterms:W3CDTF">2015-01-21T07:41:59Z</dcterms:modified>
  <cp:revision>184</cp:revision>
  <dc:subject/>
  <dc:title>Title of Presentation</dc:title>
</cp:coreProperties>
</file>