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B26-91B9-4A18-83A6-17D709AF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453-6A20-4C3A-9D10-2D964E4C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019-7015-427A-8E29-304A39A2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5C8-3B2E-4730-AE71-3BB6651E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A3C-2894-48AE-8CCF-A34B0ABB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894-B9C7-4670-800F-CBAFB8DE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13F-44D7-43C8-9C2C-EC987646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8ACA-7585-483A-92D8-F11A4810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774-4BFA-4225-A5E4-ABBA8357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0CFB-7179-4AF7-A940-AC10726D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A70-E4BB-437A-8E2F-481296ED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5B4-F136-4AA1-AD30-2819182C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03232-C0CC-43E9-ABB5-5E50B11C9F1B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bacc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SDCG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USGS HQ @ Reston (Va)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Sept 13-14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C4A3B-2286-4FD7-A377-15E983C4B7A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-4680" y="6195960"/>
            <a:ext cx="91486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GEO_Header_Presentation.jpg"/>
          <p:cNvPicPr/>
          <p:nvPr/>
        </p:nvPicPr>
        <p:blipFill>
          <a:blip r:embed="rId3"/>
          <a:srcRect l="0" t="25251" r="69395" b="16722"/>
          <a:stretch/>
        </p:blipFill>
        <p:spPr>
          <a:xfrm>
            <a:off x="-4680" y="6265800"/>
            <a:ext cx="2290680" cy="478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101520" y="106200"/>
            <a:ext cx="943200" cy="471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5"/>
          <a:stretch/>
        </p:blipFill>
        <p:spPr>
          <a:xfrm>
            <a:off x="7864560" y="106200"/>
            <a:ext cx="1187280" cy="471600"/>
          </a:xfrm>
          <a:prstGeom prst="rect">
            <a:avLst/>
          </a:prstGeom>
          <a:ln w="0">
            <a:noFill/>
          </a:ln>
        </p:spPr>
      </p:pic>
      <p:sp>
        <p:nvSpPr>
          <p:cNvPr id="45" name="Straight Connector 10"/>
          <p:cNvSpPr/>
          <p:nvPr/>
        </p:nvSpPr>
        <p:spPr>
          <a:xfrm>
            <a:off x="0" y="6130800"/>
            <a:ext cx="9144000" cy="1800"/>
          </a:xfrm>
          <a:prstGeom prst="line">
            <a:avLst/>
          </a:prstGeom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1"/>
          <p:cNvSpPr/>
          <p:nvPr/>
        </p:nvSpPr>
        <p:spPr>
          <a:xfrm>
            <a:off x="6626160" y="6194520"/>
            <a:ext cx="253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CG-3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en Park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14480" y="157320"/>
            <a:ext cx="942840" cy="471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7810560" y="157320"/>
            <a:ext cx="1187280" cy="471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-4680" y="6195960"/>
            <a:ext cx="91486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GEO_Header_Presentation.jpg"/>
          <p:cNvPicPr/>
          <p:nvPr/>
        </p:nvPicPr>
        <p:blipFill>
          <a:blip r:embed="rId5"/>
          <a:srcRect l="0" t="25251" r="69395" b="16722"/>
          <a:stretch/>
        </p:blipFill>
        <p:spPr>
          <a:xfrm>
            <a:off x="-4680" y="6265800"/>
            <a:ext cx="2290680" cy="478080"/>
          </a:xfrm>
          <a:prstGeom prst="rect">
            <a:avLst/>
          </a:prstGeom>
          <a:ln w="0">
            <a:noFill/>
          </a:ln>
        </p:spPr>
      </p:pic>
      <p:sp>
        <p:nvSpPr>
          <p:cNvPr id="89" name="Straight Connector 10"/>
          <p:cNvSpPr/>
          <p:nvPr/>
        </p:nvSpPr>
        <p:spPr>
          <a:xfrm>
            <a:off x="0" y="6130800"/>
            <a:ext cx="9144000" cy="1800"/>
          </a:xfrm>
          <a:prstGeom prst="line">
            <a:avLst/>
          </a:prstGeom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6626160" y="6194520"/>
            <a:ext cx="253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CG-3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en Park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2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Basic Strategy &amp; Core Data Stream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52160" y="3581280"/>
            <a:ext cx="6622920" cy="7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eb4e3"/>
                </a:solidFill>
                <a:latin typeface="Calibri"/>
              </a:rPr>
              <a:t>SDCG-3, Syd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eb4e3"/>
                </a:solidFill>
                <a:latin typeface="Calibri"/>
              </a:rPr>
              <a:t>7</a:t>
            </a:r>
            <a:r>
              <a:rPr b="0" lang="en-US" sz="2400" spc="-1" strike="noStrike" baseline="30000">
                <a:solidFill>
                  <a:srgbClr val="8eb4e3"/>
                </a:solidFill>
                <a:latin typeface="Calibri"/>
              </a:rPr>
              <a:t>th </a:t>
            </a:r>
            <a:r>
              <a:rPr b="0" lang="en-US" sz="2400" spc="-1" strike="noStrike">
                <a:solidFill>
                  <a:srgbClr val="8eb4e3"/>
                </a:solidFill>
                <a:latin typeface="Calibri"/>
              </a:rPr>
              <a:t>– 9th February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eb4e3"/>
                </a:solidFill>
                <a:latin typeface="Calibri"/>
              </a:rPr>
              <a:t>Stephen 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eb4e3"/>
                </a:solidFill>
                <a:latin typeface="Calibri"/>
              </a:rPr>
              <a:t>for DCC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tle 12"/>
          <p:cNvSpPr/>
          <p:nvPr/>
        </p:nvSpPr>
        <p:spPr>
          <a:xfrm>
            <a:off x="298440" y="1751040"/>
            <a:ext cx="8739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79520" y="1930320"/>
            <a:ext cx="8156520" cy="32464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7518240" cy="31543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sdcg_expansion_maps_cropped_0003_2013.jpg"/>
          <p:cNvPicPr/>
          <p:nvPr/>
        </p:nvPicPr>
        <p:blipFill>
          <a:blip r:embed="rId2"/>
          <a:stretch/>
        </p:blipFill>
        <p:spPr>
          <a:xfrm>
            <a:off x="212760" y="878040"/>
            <a:ext cx="874872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1371600" y="1765440"/>
            <a:ext cx="6629400" cy="41497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dcg_expansion_maps_cropped_0002_2014.jpg"/>
          <p:cNvPicPr/>
          <p:nvPr/>
        </p:nvPicPr>
        <p:blipFill>
          <a:blip r:embed="rId2"/>
          <a:stretch/>
        </p:blipFill>
        <p:spPr>
          <a:xfrm>
            <a:off x="212760" y="853920"/>
            <a:ext cx="874872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7645320" cy="27381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sdcg_expansion_maps_cropped_0001_2015.jpg"/>
          <p:cNvPicPr/>
          <p:nvPr/>
        </p:nvPicPr>
        <p:blipFill>
          <a:blip r:embed="rId2"/>
          <a:stretch/>
        </p:blipFill>
        <p:spPr>
          <a:xfrm>
            <a:off x="201600" y="865080"/>
            <a:ext cx="874728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sdcg_expansion_maps_cropped_0000_2016.jpg"/>
          <p:cNvPicPr/>
          <p:nvPr/>
        </p:nvPicPr>
        <p:blipFill>
          <a:blip r:embed="rId2"/>
          <a:stretch/>
        </p:blipFill>
        <p:spPr>
          <a:xfrm>
            <a:off x="225360" y="878040"/>
            <a:ext cx="874728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2069640"/>
            <a:ext cx="82296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hasing assumes a certain readiness and engagement using World Bank and REDD+ participation indicato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eadiness to exploit satellite data for national policy outcomes is import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hould be confirmed with Steering Committee and relevant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ome faith involved in the certainty that GFOI capabilities WILL be required. Phasing reflects prior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209556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hat does the phasing actually mea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hat does it mean for the countries concerned and do we have a clear message to manage expectation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ow does it relate to Element 2 and the national engagement approach the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ic strategy – lock-in consen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be able to tell SIT-28 this is agr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and Mission r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we actually mean and what does it mean for countr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we actually mean and what does it mean for countr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itle 12"/>
          <p:cNvSpPr/>
          <p:nvPr/>
        </p:nvSpPr>
        <p:spPr>
          <a:xfrm>
            <a:off x="298440" y="950760"/>
            <a:ext cx="8739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57200" y="22510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buClr>
                <a:srgbClr val="1f497d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08296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hasing sched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hasing priorities &amp; 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88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Strategy maintenance &amp; CEOS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336400"/>
            <a:ext cx="82296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lobal baseline strategy report V1 developed for SIT-28 endors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tructure emphasises annual implementation cycle to reflect CEOS meeting cycle – emphasis on the year ahead &amp; endorsement by relevant supply a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roposal is to update the report annually with results of past year and emphasis on the year ah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imed for the SIT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9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SIT-28 outcomes requ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4328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orsement of the overall global baseline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 from the data provider agencies for the 2013 implement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ll out proposed approach to Element 2 of the GFOI data strateg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 on the SDCG and LSI terms of reference (per the Plenary action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ort on possible 2013 Pilot Delivery Exerc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2018880"/>
            <a:ext cx="82296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rategy maintenance and CEOS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IT-28 approach is the temp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Basic strategy for global annual cove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14632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re data stream conce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data, at medium resolutions or finer, free-of-charge and openly shareable for GFOI purposes, consistent with being available in support of any country’s information requiremen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stained and long-term capacity in coverage, processing and distribution which is consistent with the large (global) scale data requirements of the GFOI.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andsat-7 &amp; -8, Sentinel -1 &amp; -2 series, CBERS-3 &amp; -4, RCM, (SAOCOM-1 ser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Strategy assumptions</a:t>
            </a:r>
            <a:br>
              <a:rPr sz="4400"/>
            </a:br>
            <a:r>
              <a:rPr b="0" lang="en-AU" sz="2400" spc="-1" strike="noStrike">
                <a:solidFill>
                  <a:srgbClr val="558ed5"/>
                </a:solidFill>
                <a:latin typeface="Calibri"/>
              </a:rPr>
              <a:t>(or </a:t>
            </a:r>
            <a:r>
              <a:rPr b="0" i="1" lang="en-AU" sz="2400" spc="-1" strike="noStrike">
                <a:solidFill>
                  <a:srgbClr val="558ed5"/>
                </a:solidFill>
                <a:latin typeface="Calibri"/>
              </a:rPr>
              <a:t>how the world works</a:t>
            </a:r>
            <a:r>
              <a:rPr b="0" lang="en-AU" sz="2400" spc="-1" strike="noStrike">
                <a:solidFill>
                  <a:srgbClr val="558ed5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9404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or most countries, most of the time an optical satellite dataset will be the easiest and preferred option and a combination of Landsat-7,-8 and Sentinel-2 will be the dominant solution and has sufficient coverage/capa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t is not an efficient use of resources or consistent with C-band SAR capabilities to request parallel global coverage. Instead focus on selected national wall-to-wall coverage of cloudy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nnual tropical L-band dataset from SAOCOM-1 would be a game changer and might become preferred option and avoid cloud persistence problems and excessive repeat acquis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Core Data Stream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4328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andsat-7,-8 and Sentinel-2 from 2016 provide baseline coverage for all but cloudiest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BERS-3, -4 significant regional role with stations in Brazil, China and central Africa. Support global coverage through lean years. Gap fil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entinel-1A the first radar. Cloudy region focus – esp Africa? RCM interoperable with S-1A and similar focus. National datasets (where useable) would make a simple communication of need to ESA &amp; CS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AOCOM-1A has potential to contribute to several requirements – focus on tropical (cloudy) wall-to-wall annual cover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opeful to include AWiFS (RESOURCESAT-2) - discu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406440" y="2514600"/>
            <a:ext cx="8447040" cy="21207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Core Data Stream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2196720"/>
            <a:ext cx="82296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apidEye, SPOT, RADARSAT-2, ALOS-2, TerraSAR-X/TanDEM-X all have important cap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levant to national-level coverage and gap-filling as data supply allows. Element 2 will certainly feature these (eg Norwegian supply of RapidEy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POT Congo Basin license should be factored in the annual implementation plans for relevant countries (inc 201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Non-Core Data Stream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asic strategy and r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ensible approa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asily communicated and subscribed t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onsensu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SRO eng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558ed5"/>
                </a:solidFill>
                <a:latin typeface="Calibri"/>
              </a:rPr>
              <a:t>Ph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7160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olicy deadlines are f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FOI IP calls for a 2015 operational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DCG proposing a phased approach to global coverage, giv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vailability of core data stre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Need to build GFOI capa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servative 2016 global coverage (L-7,-8 and S-2A fully op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echnically possible soo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o what do we actually mean by ‘coverage’ and how does this relate to Element 2 of the Strategy?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riorities set by: relevance &amp; readi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01:35:37Z</dcterms:created>
  <dc:creator>George Dyke</dc:creator>
  <dc:description/>
  <dc:language>en-US</dc:language>
  <cp:lastModifiedBy>Matthew S</cp:lastModifiedBy>
  <dcterms:modified xsi:type="dcterms:W3CDTF">2013-01-31T02:09:19Z</dcterms:modified>
  <cp:revision>306</cp:revision>
  <dc:subject/>
  <dc:title>Slide 1</dc:title>
</cp:coreProperties>
</file>