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DC51-985E-4C4A-A841-705DA2D12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C5F5-2216-45D0-863B-DA35EBB2E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206F-168F-4B99-B88E-C3F102819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B792-BFD9-4CCE-8B22-66A248869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5A59-ECB8-4644-8E9F-4199FE460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FE25-B451-409B-9CC9-C763592AA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B5C8-3189-44C9-87D7-D94E1CB34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197D-2CC7-444E-83CE-0EBFE28F2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5BFE-CAEA-4D17-96CB-C58F603A2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5DE8-410F-4C8D-B6F9-74F071283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CDDA-1CEC-4D59-905F-9EA0B0D2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B58A-2776-465B-AB37-638062B30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723DDE-C64C-44F6-B86D-07B294804721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4bacc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4bacc6"/>
                </a:solidFill>
                <a:latin typeface="Calibri"/>
              </a:rPr>
              <a:t>SDCG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4bacc6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4bacc6"/>
                </a:solidFill>
                <a:latin typeface="Calibri"/>
              </a:rPr>
              <a:t>USGS HQ @ Reston (Va) U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4bacc6"/>
                </a:solidFill>
                <a:latin typeface="Calibri"/>
              </a:rPr>
              <a:t>Sept 13-14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E13C27-79CA-452E-9182-33D46391419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0" y="0"/>
            <a:ext cx="1893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f81bd"/>
                </a:solidFill>
                <a:latin typeface="Calibri"/>
              </a:rPr>
              <a:t>www.earthobservation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Box 7"/>
          <p:cNvSpPr/>
          <p:nvPr/>
        </p:nvSpPr>
        <p:spPr>
          <a:xfrm>
            <a:off x="7985160" y="22320"/>
            <a:ext cx="114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f81bd"/>
                </a:solidFill>
                <a:latin typeface="Calibri"/>
              </a:rPr>
              <a:t>www.gfoi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6"/>
          <p:cNvSpPr/>
          <p:nvPr/>
        </p:nvSpPr>
        <p:spPr>
          <a:xfrm>
            <a:off x="0" y="0"/>
            <a:ext cx="1893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f81bd"/>
                </a:solidFill>
                <a:latin typeface="Calibri"/>
              </a:rPr>
              <a:t>www.earthobservation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7"/>
          <p:cNvSpPr/>
          <p:nvPr/>
        </p:nvSpPr>
        <p:spPr>
          <a:xfrm>
            <a:off x="7985160" y="22320"/>
            <a:ext cx="114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f81bd"/>
                </a:solidFill>
                <a:latin typeface="Calibri"/>
              </a:rPr>
              <a:t>www.gfoi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-4680" y="6195960"/>
            <a:ext cx="9148680" cy="6620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GEO_Header_Presentation.jpg"/>
          <p:cNvPicPr/>
          <p:nvPr/>
        </p:nvPicPr>
        <p:blipFill>
          <a:blip r:embed="rId3"/>
          <a:srcRect l="0" t="25251" r="69395" b="16722"/>
          <a:stretch/>
        </p:blipFill>
        <p:spPr>
          <a:xfrm>
            <a:off x="-4680" y="6303960"/>
            <a:ext cx="2290680" cy="477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"/>
          <p:cNvPicPr/>
          <p:nvPr/>
        </p:nvPicPr>
        <p:blipFill>
          <a:blip r:embed="rId4"/>
          <a:stretch/>
        </p:blipFill>
        <p:spPr>
          <a:xfrm>
            <a:off x="2298600" y="6329520"/>
            <a:ext cx="943200" cy="4712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"/>
          <p:cNvPicPr/>
          <p:nvPr/>
        </p:nvPicPr>
        <p:blipFill>
          <a:blip r:embed="rId5"/>
          <a:stretch/>
        </p:blipFill>
        <p:spPr>
          <a:xfrm>
            <a:off x="3390840" y="6291360"/>
            <a:ext cx="1187640" cy="471240"/>
          </a:xfrm>
          <a:prstGeom prst="rect">
            <a:avLst/>
          </a:prstGeom>
          <a:ln w="0">
            <a:noFill/>
          </a:ln>
        </p:spPr>
      </p:pic>
      <p:sp>
        <p:nvSpPr>
          <p:cNvPr id="49" name="Straight Connector 12"/>
          <p:cNvSpPr/>
          <p:nvPr/>
        </p:nvSpPr>
        <p:spPr>
          <a:xfrm>
            <a:off x="0" y="6194520"/>
            <a:ext cx="9144000" cy="1440"/>
          </a:xfrm>
          <a:prstGeom prst="line">
            <a:avLst/>
          </a:prstGeom>
          <a:ln w="63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3"/>
          <p:cNvSpPr/>
          <p:nvPr/>
        </p:nvSpPr>
        <p:spPr>
          <a:xfrm>
            <a:off x="5359320" y="6326280"/>
            <a:ext cx="207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DCG-3, Sydney, Austr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9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ebruary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6"/>
          <p:cNvSpPr/>
          <p:nvPr/>
        </p:nvSpPr>
        <p:spPr>
          <a:xfrm>
            <a:off x="0" y="0"/>
            <a:ext cx="1893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f81bd"/>
                </a:solidFill>
                <a:latin typeface="Calibri"/>
              </a:rPr>
              <a:t>www.earthobservation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7"/>
          <p:cNvSpPr/>
          <p:nvPr/>
        </p:nvSpPr>
        <p:spPr>
          <a:xfrm>
            <a:off x="7985160" y="22320"/>
            <a:ext cx="114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f81bd"/>
                </a:solidFill>
                <a:latin typeface="Calibri"/>
              </a:rPr>
              <a:t>www.gfoi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-4680" y="6195960"/>
            <a:ext cx="9148680" cy="6620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GEO_Header_Presentation.jpg"/>
          <p:cNvPicPr/>
          <p:nvPr/>
        </p:nvPicPr>
        <p:blipFill>
          <a:blip r:embed="rId3"/>
          <a:srcRect l="0" t="25251" r="69395" b="16722"/>
          <a:stretch/>
        </p:blipFill>
        <p:spPr>
          <a:xfrm>
            <a:off x="-4680" y="6303960"/>
            <a:ext cx="2290680" cy="477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"/>
          <p:cNvPicPr/>
          <p:nvPr/>
        </p:nvPicPr>
        <p:blipFill>
          <a:blip r:embed="rId4"/>
          <a:stretch/>
        </p:blipFill>
        <p:spPr>
          <a:xfrm>
            <a:off x="2298600" y="6329520"/>
            <a:ext cx="943200" cy="471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"/>
          <p:cNvPicPr/>
          <p:nvPr/>
        </p:nvPicPr>
        <p:blipFill>
          <a:blip r:embed="rId5"/>
          <a:stretch/>
        </p:blipFill>
        <p:spPr>
          <a:xfrm>
            <a:off x="3390840" y="6291360"/>
            <a:ext cx="1187640" cy="471240"/>
          </a:xfrm>
          <a:prstGeom prst="rect">
            <a:avLst/>
          </a:prstGeom>
          <a:ln w="0">
            <a:noFill/>
          </a:ln>
        </p:spPr>
      </p:pic>
      <p:sp>
        <p:nvSpPr>
          <p:cNvPr id="95" name="Straight Connector 12"/>
          <p:cNvSpPr/>
          <p:nvPr/>
        </p:nvSpPr>
        <p:spPr>
          <a:xfrm>
            <a:off x="0" y="6194520"/>
            <a:ext cx="9144000" cy="1440"/>
          </a:xfrm>
          <a:prstGeom prst="line">
            <a:avLst/>
          </a:prstGeom>
          <a:ln w="63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3"/>
          <p:cNvSpPr/>
          <p:nvPr/>
        </p:nvSpPr>
        <p:spPr>
          <a:xfrm>
            <a:off x="5359320" y="6326280"/>
            <a:ext cx="207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DCG-3, Sydney, Austr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9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ebruary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9015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Expectations and Requirements for SIT-2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90680" y="35686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8eb4e3"/>
                </a:solidFill>
                <a:latin typeface="Calibri"/>
              </a:rPr>
              <a:t>G. Dyk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How to get the strategy don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ximise capacity of the writing te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W/GD capacity TB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John, Ake at ma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ed to leverage agency revie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-scope the re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move all non-acquisition implementation tas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ither move to a separate work plan, or (maybe) into section 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inimal coverage of 2014 and 2015+ implem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mov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Presentation 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OS GFOI Strategy Elements (a remin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lest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T-28 Expectations: Annual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ort Expect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ints for Endorsement from Princip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CEOS GFOI Strategy El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498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uiding document CEOS Plenary 2011 (Lucc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THE CEOS STRATEGY FOR SPACE DATA COVERAGE AND CONTINUITY IN SUPPORT OF THE GEO GLOBAL FOREST OBSERVATIONS INITIATIVE (GFOI) AND FOREST CARBON TRACKING (FCT) TASK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ement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aseline, coordinated global data acquisition strategy involving a number of ‘core data streams’ that can be used free-of-charge for GFOI purpo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ement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ordinated strategy for national data acquisition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ement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supply in support of the FCT (R&amp;D? session 4)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Milesto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3456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livery of a complete element 1 global  baseline strategy to SIT-28 is requi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 order not to miss one full year of the CEOS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 order to confirm support from CEOS agencies for 2013 implementation activ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 order to develop element 2 in 20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ect that at SIT-29 (201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lement 1 will be upd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lement 2 will be ready for endors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SIT-28 Expec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536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DCG Co-Leads have contacted SIT Chair to establish expectations for SIT-2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T-28 to establish a template for an annual cycle that focuses on the year ahead and seeks commitments from the satellite operator and data provider agencies for the necessary cove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SIT-28 Expec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536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eport will spell out how we propose to transition to an ongoing global coverage capability as new core data streams come on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vering three epochs: 2013, 2014, and 2015+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tion is to ask relevant principals to commit to the coverage plans indicated for the near future ye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Endorsement from Princip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536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will seek endorsement of the overall global baseline strategy, its phasing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will seek commitment from the data provider agencies for the 2013 implementation plan (in reality, this means just Landsat for now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Endorsement from Princip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536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will spell out our proposed approach to element 2 of the GFOI data strategy, which addresses the specific needs of individual countries and will seek feedback from SIT and from Principals for its refine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 an input to SIT-28 on rationalisation of the SDCG and LSI terms of reference (per the Plenary ac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Endorsement from Princip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536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ore how we can support a 2013 Pilot Delivery Exercise which will take the CEOS data acquisitions and provide a national dataset for a few of the National Demonstrator countr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9T13:10:08Z</dcterms:created>
  <dc:creator>George Dyke</dc:creator>
  <dc:description/>
  <dc:language>en-US</dc:language>
  <cp:lastModifiedBy>George Dyke</cp:lastModifiedBy>
  <dcterms:modified xsi:type="dcterms:W3CDTF">2013-02-08T03:09:06Z</dcterms:modified>
  <cp:revision>375</cp:revision>
  <dc:subject/>
  <dc:title>Slide 1</dc:title>
</cp:coreProperties>
</file>