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C0B80-282F-4A3B-93A0-AEDE64B32E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8D36D-8EB2-4D07-B78E-CD39A7C5D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A1A25-A07A-41E6-9541-8A5B48934CF6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9F666-0424-4CEF-848B-438D33DA1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7E8CE-2820-4240-A629-18A59B5ED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60C5A-C273-4027-9D02-6473E0224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6E67F-9801-4673-93E2-3DFBC27C1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A311C-27FF-41DB-B9A2-F3476B145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A7957-CF48-4E24-9F70-6EFBDFE99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B517F-8750-4816-8F84-D499B0E1C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ED1C0-E1C7-4354-96AB-DC7F4A0E0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660A-B0E9-4177-83FC-70180631A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3B1F-DCFF-45A5-B75D-3E18928F2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8D2B-7816-460E-993C-38E50E7FC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4572-E5AD-4AB4-BA77-7F4433C08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9A1C-248E-4891-A06B-F99B38690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DD8F-7E11-434A-987C-0B427043CA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CD18-DA15-46F5-8E90-38D8B87E2A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030E-C5A9-4A88-8EC2-FF6969B615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2175-7BF0-4C97-9FFA-66186DCF54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F560-54FA-4E8E-8860-6B7BEA7380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0EF1-82C3-47D7-A619-BF5F037549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F721-796A-421D-98ED-C284B3D07C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327A-9195-4EA6-A429-CEAC1CE228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3769-8A6A-498E-9704-177ACC4980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09AA-06F9-40C2-919D-A396CF0999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E98B-D025-470E-9186-08FE9F9F8E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A13E5-34CC-4702-ACB7-42E8F49597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6441-4AC0-4ED7-8568-2FDFA4244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1BCF-C743-4CFF-A081-255420091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A626-3482-48BA-9F8C-805911C3C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EA10-1A14-4E56-A7C8-8A9E4D2DB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116B-152F-43D9-97F2-D7EAA1693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8E55-4D24-4F4C-8B54-8ECC213E1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34B4-21FD-40EA-A413-412D947AC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A9CB5-1088-4327-AC45-1C6A8CC239E2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D1DBDD98-434D-4561-AFA0-688C71984018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57320" y="6523200"/>
            <a:ext cx="361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DCG-3 Meeting|Sydney, Australia| 7-9 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5C12E-409C-416A-A8F9-0C9616653F6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363400"/>
            <a:ext cx="482616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pace Data Coordination Group (SDCG)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ke Rosenqvist, for NSC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Frank-Martin Seifert, ESA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John Faundeen, US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76560" y="166680"/>
            <a:ext cx="52070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FOI Space Data Acquisition Pl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13 Implementation 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D4FF9-0BF6-4259-A4FF-EEE1ED7434A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533520" y="2155680"/>
            <a:ext cx="807696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Allow establishment of necessary coordination processes with contributing agenci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reflect the schedule of gradually increasing availability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reflect priorities set by the policy context and readiness of individual countries to participate in REDD+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2569"/>
                </a:solidFill>
                <a:latin typeface="Arial"/>
              </a:rPr>
              <a:t>take into account the need for continuity of coverage of the existing National Demonstrator countri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02951-74C0-4678-A2C3-48094580876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33520" y="2155680"/>
            <a:ext cx="80769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Reliance upon CORE data stream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Landsat-7 and -8 (optical) – USG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ntinel-1 series (C-band SAR) – ESA/EC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ntinel-2 series (optical) – ESA/EC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BERS-3 &amp; -4 (optical) – INPE/CRESD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adarsat Constellation Mission (C-band SAR) – CS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Possible inclusion of contributing missi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GFOI Implementation Plan operational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nd of 2015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F9DD6-089E-40B9-9A77-50A0EA45D533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279360" y="2043000"/>
            <a:ext cx="860580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B2D34-953A-4F52-BFEF-64204DA5599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8" name="Picture 1" descr="2013 Countries.jpeg"/>
          <p:cNvPicPr/>
          <p:nvPr/>
        </p:nvPicPr>
        <p:blipFill>
          <a:blip r:embed="rId1"/>
          <a:stretch/>
        </p:blipFill>
        <p:spPr>
          <a:xfrm>
            <a:off x="419040" y="1676520"/>
            <a:ext cx="830592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1B8D4-636A-4245-B444-9CFC36A46A3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0555A-ADC9-490E-839D-2D8607634EA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ore Dat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graphicFrame>
        <p:nvGraphicFramePr>
          <p:cNvPr id="156" name="Object 1"/>
          <p:cNvGraphicFramePr/>
          <p:nvPr/>
        </p:nvGraphicFramePr>
        <p:xfrm>
          <a:off x="122400" y="3033720"/>
          <a:ext cx="8880480" cy="26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3033720"/>
                    <a:ext cx="888048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40319-8C5D-4466-BC65-6B5DCEFB92E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533520" y="215568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Straight Connector 4"/>
          <p:cNvSpPr/>
          <p:nvPr/>
        </p:nvSpPr>
        <p:spPr>
          <a:xfrm>
            <a:off x="458640" y="3903840"/>
            <a:ext cx="8170920" cy="0"/>
          </a:xfrm>
          <a:prstGeom prst="line">
            <a:avLst/>
          </a:prstGeom>
          <a:ln w="5400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25DD7-7737-42DE-AF3F-F591C588F28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Title 1"/>
          <p:cNvSpPr/>
          <p:nvPr/>
        </p:nvSpPr>
        <p:spPr>
          <a:xfrm>
            <a:off x="1379520" y="212760"/>
            <a:ext cx="5859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2013 Implementation Pla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533520" y="2155680"/>
            <a:ext cx="80769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569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6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John  Faundeen</cp:lastModifiedBy>
  <dcterms:modified xsi:type="dcterms:W3CDTF">2013-02-07T06:33:04Z</dcterms:modified>
  <cp:revision>168</cp:revision>
  <dc:subject/>
  <dc:title>Title</dc:title>
</cp:coreProperties>
</file>