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6C1F-8C9C-4395-B8BB-32F898035B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E357-726E-406E-8A0B-EAB56FA94A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A9F8061-FABC-48AE-A535-5823E6B48990}" type="slidenum">
              <a:rPr b="0" lang="de-DE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108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FAB7-9699-4080-80DD-3C41DFA2A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10AA-FD9A-4F93-AD9C-C6AF489E3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3A55-2B2D-4BE8-B2AE-C6D1DF131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472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644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472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644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F7FB-251A-4F21-A142-93C987449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DB4-782E-458D-9A6E-B312D26D80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565-8988-4580-8378-7B564A96D6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075-F9E5-4DF6-B72D-39FBA58B18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3FC-D5DB-44DD-8F25-B96CB656BD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214-C95A-4DAF-B538-3846B08F8D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937800"/>
            <a:ext cx="7342200" cy="34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408-3EF0-4717-BE19-9ECF7A1DEA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647-4410-44B0-9654-78408816B2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FE14-D20E-4E7F-BDD4-B1211282C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ACF-DE10-4804-A803-C46ECA7D52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C30-E1BA-47D5-80D4-16A748031B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1F4-282D-4F8E-9E87-76638A5424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881-F72F-4804-B8E9-D53EA49F13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4472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6440" y="188388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4472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6440" y="3969720"/>
            <a:ext cx="247752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814-4BBB-4E38-BD86-8FD323669E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5FD4-94F7-46F4-A1FD-DB4B570AA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D1B2-E2B8-45C1-B724-498ACC6DF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F8C8-1B17-424F-A421-13B747DCC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937800"/>
            <a:ext cx="7342200" cy="34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2DB7-D05F-424D-B822-1581D09FA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AF6F-025F-47E1-89A6-6E9C6A293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080" y="396972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7211-29DA-4777-9D67-B361E4F80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080" y="1883880"/>
            <a:ext cx="375480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69720"/>
            <a:ext cx="7694640" cy="19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2B59-39E6-4CAD-8895-F5A895B6A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\\psf\Host\Users\cd\Desktop\Startbild_4zu3-Fuss.jpg"/>
          <p:cNvPicPr/>
          <p:nvPr/>
        </p:nvPicPr>
        <p:blipFill>
          <a:blip r:embed="rId2"/>
          <a:stretch/>
        </p:blipFill>
        <p:spPr>
          <a:xfrm>
            <a:off x="0" y="6307200"/>
            <a:ext cx="9144000" cy="55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6400" indent="-1796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244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Grafik 10" descr="dlr_signet.png"/>
          <p:cNvPicPr/>
          <p:nvPr/>
        </p:nvPicPr>
        <p:blipFill>
          <a:blip r:embed="rId3"/>
          <a:stretch/>
        </p:blipFill>
        <p:spPr>
          <a:xfrm>
            <a:off x="831960" y="6143760"/>
            <a:ext cx="571320" cy="5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1143000" y="122040"/>
            <a:ext cx="123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3F7997DA-AE8D-4D96-BFAF-A2A5BEA452F4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374560" y="122040"/>
            <a:ext cx="5398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\\psf\Host\Users\cd\Desktop\Startbild_4zu3-Fuss.jpg"/>
          <p:cNvPicPr/>
          <p:nvPr/>
        </p:nvPicPr>
        <p:blipFill>
          <a:blip r:embed="rId2"/>
          <a:stretch/>
        </p:blipFill>
        <p:spPr>
          <a:xfrm>
            <a:off x="0" y="6307200"/>
            <a:ext cx="9144000" cy="550800"/>
          </a:xfrm>
          <a:prstGeom prst="rect">
            <a:avLst/>
          </a:prstGeom>
          <a:ln w="0">
            <a:noFill/>
          </a:ln>
        </p:spPr>
      </p:pic>
      <p:pic>
        <p:nvPicPr>
          <p:cNvPr id="43" name="Grafik 10" descr="dlr_signet.png"/>
          <p:cNvPicPr/>
          <p:nvPr/>
        </p:nvPicPr>
        <p:blipFill>
          <a:blip r:embed="rId3"/>
          <a:stretch/>
        </p:blipFill>
        <p:spPr>
          <a:xfrm>
            <a:off x="831960" y="6143760"/>
            <a:ext cx="571320" cy="51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\\psf\Host\Users\cd\Desktop\Startbild_4zu3-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afik 10" descr="dlr_signet.png"/>
          <p:cNvPicPr/>
          <p:nvPr/>
        </p:nvPicPr>
        <p:blipFill>
          <a:blip r:embed="rId5"/>
          <a:stretch/>
        </p:blipFill>
        <p:spPr>
          <a:xfrm>
            <a:off x="676440" y="5857920"/>
            <a:ext cx="857160" cy="766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6400" indent="-1796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244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684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1143000" y="122040"/>
            <a:ext cx="1230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066E5355-A22A-47B5-9D5B-6926F369C28F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2374560" y="122040"/>
            <a:ext cx="53989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68686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392120"/>
            <a:ext cx="7342200" cy="7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2038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EOS 3</a:t>
            </a:r>
            <a:r>
              <a:rPr b="1" lang="en-US" sz="2400" spc="-1" strike="noStrike" baseline="30000">
                <a:solidFill>
                  <a:srgbClr val="4d4d4d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SDCG Meeting</a:t>
            </a:r>
            <a:br>
              <a:rPr sz="2400"/>
            </a:b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2640" y="2158920"/>
            <a:ext cx="734220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86868"/>
                </a:solidFill>
                <a:latin typeface="Arial"/>
              </a:rPr>
              <a:t>Update on German Government Data Buy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86868"/>
                </a:solidFill>
                <a:latin typeface="Arial"/>
              </a:rPr>
              <a:t>Dr. Helmut Staudenra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86868"/>
                </a:solidFill>
                <a:latin typeface="Arial"/>
              </a:rPr>
              <a:t>DLR Space Administration, Earth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86868"/>
                </a:solidFill>
                <a:latin typeface="Arial"/>
              </a:rPr>
              <a:t>helmut.staudenrausch@dlr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F231AC58-8944-485A-AD63-EC9951103824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GFOI Science &amp; Data Summit, Sydney, 4-9 February, 2013&gt; Dr. Helmut Staudenrausc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Congo Basi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ckground ist Action SDCG-2-2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ut Staudenrausch and Steven Hosford, in coordination with Line Steinbakk, to discuss coordination of SPOT and RapidEye acquisitions over the Congo Basin and Madagas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eye Archive could be checked  against shapefile of SPOT Congo Coverage provided by CNES at the last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4904F87B-878D-4EF0-BFB5-5E8B7D821AB2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Congo Basi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1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EFFDFFA6-80F1-4EF6-A395-F0D18A0B5CFC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Grafik 5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3000" y="1883880"/>
            <a:ext cx="7694640" cy="3992760"/>
          </a:xfrm>
          <a:prstGeom prst="rect">
            <a:avLst/>
          </a:prstGeom>
          <a:ln w="0">
            <a:noFill/>
          </a:ln>
        </p:spPr>
      </p:pic>
      <p:sp>
        <p:nvSpPr>
          <p:cNvPr id="156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DCFB4398-495E-4FD2-B223-C035E65426D0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Grafik 5" descr=""/>
          <p:cNvPicPr/>
          <p:nvPr/>
        </p:nvPicPr>
        <p:blipFill>
          <a:blip r:embed="rId2"/>
          <a:stretch/>
        </p:blipFill>
        <p:spPr>
          <a:xfrm>
            <a:off x="-579600" y="0"/>
            <a:ext cx="969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43000" y="1883880"/>
            <a:ext cx="7694640" cy="3992760"/>
          </a:xfrm>
          <a:prstGeom prst="rect">
            <a:avLst/>
          </a:prstGeom>
          <a:ln w="0">
            <a:noFill/>
          </a:ln>
        </p:spPr>
      </p:pic>
      <p:sp>
        <p:nvSpPr>
          <p:cNvPr id="161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B03F43DB-88A1-44B3-951D-D6A324A9FCFD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Grafik 5" descr=""/>
          <p:cNvPicPr/>
          <p:nvPr/>
        </p:nvPicPr>
        <p:blipFill>
          <a:blip r:embed="rId2"/>
          <a:stretch/>
        </p:blipFill>
        <p:spPr>
          <a:xfrm>
            <a:off x="34920" y="620640"/>
            <a:ext cx="9077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Congo Basi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Spot Congobasin initiative presented at German REDD+ Monitoring Event last 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some value in coordinating SPOT – RapidEye, but needs further analysis and information from French initiative on their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y for German-French collabo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4E9A71E2-9132-4830-B9F5-6DDFDB79016F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TerraSAR-X Coverage of FCT Sites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311040" y="2276640"/>
            <a:ext cx="4189320" cy="1949400"/>
            <a:chOff x="311040" y="2276640"/>
            <a:chExt cx="4189320" cy="1949400"/>
          </a:xfrm>
        </p:grpSpPr>
        <p:pic>
          <p:nvPicPr>
            <p:cNvPr id="99" name="Picture 5" descr="carbon_bmc_afrika"/>
            <p:cNvPicPr/>
            <p:nvPr/>
          </p:nvPicPr>
          <p:blipFill>
            <a:blip r:embed="rId1"/>
            <a:stretch/>
          </p:blipFill>
          <p:spPr>
            <a:xfrm>
              <a:off x="311040" y="2276640"/>
              <a:ext cx="418932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/>
            <p:cNvSpPr/>
            <p:nvPr/>
          </p:nvSpPr>
          <p:spPr>
            <a:xfrm>
              <a:off x="311040" y="37162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8"/>
          <p:cNvGrpSpPr/>
          <p:nvPr/>
        </p:nvGrpSpPr>
        <p:grpSpPr>
          <a:xfrm>
            <a:off x="4716360" y="1486080"/>
            <a:ext cx="4176720" cy="1942920"/>
            <a:chOff x="4716360" y="1486080"/>
            <a:chExt cx="4176720" cy="1942920"/>
          </a:xfrm>
        </p:grpSpPr>
        <p:pic>
          <p:nvPicPr>
            <p:cNvPr id="102" name="Picture 6" descr="carbon_bmc_indonesien"/>
            <p:cNvPicPr/>
            <p:nvPr/>
          </p:nvPicPr>
          <p:blipFill>
            <a:blip r:embed="rId2"/>
            <a:stretch/>
          </p:blipFill>
          <p:spPr>
            <a:xfrm>
              <a:off x="4716360" y="148608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1"/>
            <p:cNvSpPr/>
            <p:nvPr/>
          </p:nvSpPr>
          <p:spPr>
            <a:xfrm>
              <a:off x="6300720" y="16304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dones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92160" y="4194000"/>
            <a:ext cx="4176720" cy="1942920"/>
            <a:chOff x="92160" y="4194000"/>
            <a:chExt cx="4176720" cy="1942920"/>
          </a:xfrm>
        </p:grpSpPr>
        <p:pic>
          <p:nvPicPr>
            <p:cNvPr id="105" name="Picture 9" descr="carbon_bmc_tasmanien"/>
            <p:cNvPicPr/>
            <p:nvPr/>
          </p:nvPicPr>
          <p:blipFill>
            <a:blip r:embed="rId3"/>
            <a:stretch/>
          </p:blipFill>
          <p:spPr>
            <a:xfrm>
              <a:off x="92160" y="419400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2"/>
            <p:cNvSpPr/>
            <p:nvPr/>
          </p:nvSpPr>
          <p:spPr>
            <a:xfrm>
              <a:off x="308160" y="556236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asman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7"/>
          <p:cNvGrpSpPr/>
          <p:nvPr/>
        </p:nvGrpSpPr>
        <p:grpSpPr>
          <a:xfrm>
            <a:off x="5148360" y="3284640"/>
            <a:ext cx="4176720" cy="1942920"/>
            <a:chOff x="5148360" y="3284640"/>
            <a:chExt cx="4176720" cy="1942920"/>
          </a:xfrm>
        </p:grpSpPr>
        <p:pic>
          <p:nvPicPr>
            <p:cNvPr id="108" name="Picture 8" descr="carbon_bmc_suedamerika"/>
            <p:cNvPicPr/>
            <p:nvPr/>
          </p:nvPicPr>
          <p:blipFill>
            <a:blip r:embed="rId4"/>
            <a:stretch/>
          </p:blipFill>
          <p:spPr>
            <a:xfrm>
              <a:off x="5148360" y="328464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3"/>
            <p:cNvSpPr/>
            <p:nvPr/>
          </p:nvSpPr>
          <p:spPr>
            <a:xfrm>
              <a:off x="7885440" y="350208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outh Ame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2843280" y="4869000"/>
            <a:ext cx="4176720" cy="1942920"/>
            <a:chOff x="2843280" y="4869000"/>
            <a:chExt cx="4176720" cy="1942920"/>
          </a:xfrm>
        </p:grpSpPr>
        <p:pic>
          <p:nvPicPr>
            <p:cNvPr id="111" name="Picture 7" descr="carbon_bmc_mexiko"/>
            <p:cNvPicPr/>
            <p:nvPr/>
          </p:nvPicPr>
          <p:blipFill>
            <a:blip r:embed="rId5"/>
            <a:stretch/>
          </p:blipFill>
          <p:spPr>
            <a:xfrm>
              <a:off x="2843280" y="4869000"/>
              <a:ext cx="41767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4"/>
            <p:cNvSpPr/>
            <p:nvPr/>
          </p:nvSpPr>
          <p:spPr>
            <a:xfrm>
              <a:off x="5723280" y="5111640"/>
              <a:ext cx="93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entral Amer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Rechteck 1"/>
          <p:cNvSpPr/>
          <p:nvPr/>
        </p:nvSpPr>
        <p:spPr>
          <a:xfrm>
            <a:off x="539640" y="126828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5 sites obser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umerous data takes available in the DLR archive, and continued. StripMap Mode,      dual polarized (HH/HV and VV/V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7416720" cy="388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9948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Status TanDEM-X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6" name="Foliennummernplatzhalter 3"/>
          <p:cNvSpPr/>
          <p:nvPr/>
        </p:nvSpPr>
        <p:spPr>
          <a:xfrm>
            <a:off x="3200400" y="6477120"/>
            <a:ext cx="5562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FF0C8F6-D89B-4280-AC13-FA5947D7C0B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&gt; February 2012 &gt; DLR Space Adnistration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haltsplatzhalter 1"/>
          <p:cNvSpPr/>
          <p:nvPr/>
        </p:nvSpPr>
        <p:spPr>
          <a:xfrm>
            <a:off x="324000" y="119700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First full global coverage completed –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utiger 45 Light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 underway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utiger 45 Light"/>
                <a:ea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/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utiger 45 Light"/>
                <a:ea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 coverage expected to be completed by end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Global DEM (90 m resolution) will be offered for scientific explo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45 Light"/>
                <a:ea typeface="Arial"/>
              </a:rPr>
              <a:t>Global dataset (~6 m resolution) offered for GFOI under special te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5"/>
          <a:stretch/>
        </p:blipFill>
        <p:spPr>
          <a:xfrm>
            <a:off x="6300720" y="5454720"/>
            <a:ext cx="284472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Summary – DLR Data access for GFOI R&amp;D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rraSAR-X: DLR Science Service Seg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http://sss.terrasar-x.dlr.d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nDEM-X (DEM) data access: https://tandemx-science.dlr.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pidEye data available through RapidEye company directly, but scientific exploitation also through DLR RapidEye Science Arch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http://resaweb.dlr.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53820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ation between international GFOI R&amp;D groups and German researchers sought. Contacts can be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9280" indent="-1792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LR ready for more coordinated approach with respect to GFOI R&amp;D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ough CE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6868"/>
                </a:solidFill>
                <a:latin typeface="Arial"/>
              </a:rPr>
              <a:t>TerraSAR-X and TanDEM-X Summary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74312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84360" y="1557360"/>
            <a:ext cx="7920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ublic Private Partnership between DLR and EADS Astrium Germa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oth satellites – TerraSAR-X and TanDEM-X – are in very good healt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tinue/optimize acquisition for validation sites, support scientific exploitation of data, continuity (Constellation with Paz, TerraSAR-X NG) plann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spcAft>
                <a:spcPts val="1188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755640" y="1969920"/>
            <a:ext cx="3510000" cy="1584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0504d"/>
                </a:solidFill>
                <a:uFillTx/>
                <a:latin typeface="Times New Roman"/>
              </a:rPr>
              <a:t>DL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Project &amp; Miss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G/S Development &amp; O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System Engineering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Science Coordination/Explo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913280" y="1969920"/>
            <a:ext cx="3384720" cy="1584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0504d"/>
                </a:solidFill>
                <a:uFillTx/>
                <a:latin typeface="Times New Roman"/>
              </a:rPr>
              <a:t>Astrium Geo-Information Serv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Service Infra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Information Produ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utiger 45 Light"/>
              </a:rPr>
              <a:t>Commercial Explo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haltsplatzhalter 1"/>
          <p:cNvSpPr/>
          <p:nvPr/>
        </p:nvSpPr>
        <p:spPr>
          <a:xfrm>
            <a:off x="755640" y="4057560"/>
            <a:ext cx="388764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45 Light"/>
              </a:rPr>
              <a:t>Actual GFOI R&amp;D (FCT) Con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FCT Validation sites are established as background mi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Data access along DLR procedu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haltsplatzhalter 1"/>
          <p:cNvSpPr/>
          <p:nvPr/>
        </p:nvSpPr>
        <p:spPr>
          <a:xfrm>
            <a:off x="5003640" y="4062240"/>
            <a:ext cx="414036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45 Light"/>
              </a:rPr>
              <a:t>Potential GFOI con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Bilateral demonstration projects existing/envisaged (Africa, Latin Americ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rutiger 45 Light"/>
              </a:rPr>
              <a:t>Framework needed  for „GFOI approach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50760" indent="-379080">
              <a:lnSpc>
                <a:spcPct val="100000"/>
              </a:lnSpc>
              <a:spcBef>
                <a:spcPts val="437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feil nach unten 1"/>
          <p:cNvSpPr/>
          <p:nvPr/>
        </p:nvSpPr>
        <p:spPr>
          <a:xfrm>
            <a:off x="2174760" y="3625920"/>
            <a:ext cx="5256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feil nach unten 10"/>
          <p:cNvSpPr/>
          <p:nvPr/>
        </p:nvSpPr>
        <p:spPr>
          <a:xfrm>
            <a:off x="6280200" y="3625920"/>
            <a:ext cx="5238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Other relevant DLR activities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ding development/improvement of relevant methods for REDD+ and GFOI, such as automated, large area monitoring of changes in forest cover and landuse, forest degrad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cus on synergistic use of Sentinels and German 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ordination/collaboration with GFOI teams being s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E-CARBON Project (starting in May 2013, Humboldt-Uni Berlin, Uni Bonn, Study area in Amazo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kshop with relevant German officials, providers, researchers and international partners (see www.d-geo.de/red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port of literature study and database (see www.redd.uni-jena.de/index_en.ht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2F0EA4DF-559A-454F-BBBA-CC7D51252919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82172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German REDD+ development cooperation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1618" t="16327" r="2981" b="9920"/>
          <a:stretch/>
        </p:blipFill>
        <p:spPr>
          <a:xfrm>
            <a:off x="5219640" y="4522680"/>
            <a:ext cx="3905280" cy="2319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24000" y="141264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ous bilateral activities, incl. Satellite data, monitoring systems and related 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179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going MRV projects in SADC, Ghana, Indonesia, Latin Ame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179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on, investment  of € 500 Mio/year for forestry and biod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1796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“REDD Early Movers” program providing, among others, performance payments for quantified emission redu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nvestor in the Forest Carbon Partnership Facility (FCPF) and other multilateral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CI financed Project for  REDD+ MRV implementation in 18 (?) countries additional to UN-RED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Mexico and adjacent countries (southwards)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fer of Mexican NFMS to other regions in Meso-America, as a South2South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ation proposed to German Government for funding (Colombia, ot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ludes RapidEye wall2wall proposed as cooperation with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SX/TDX Data also proposed to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riching Mexican NFMS with  TSX/TDX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C856143C-5079-4986-8826-417988AD6B7B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937800"/>
            <a:ext cx="734220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86868"/>
                </a:solidFill>
                <a:latin typeface="Arial"/>
              </a:rPr>
              <a:t>Other countries</a:t>
            </a:r>
            <a:endParaRPr b="1" lang="en-US" sz="2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1883880"/>
            <a:ext cx="7694640" cy="39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onesia (ForClime 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DC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lly: No clear overall picture concerning data buy involved in all of these activities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1143000" y="122400"/>
            <a:ext cx="1230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86868"/>
                </a:solidFill>
                <a:latin typeface="Arial"/>
              </a:rPr>
              <a:t>www.DLR.de  •  Chart </a:t>
            </a:r>
            <a:fld id="{F174BE6F-DB5C-4863-8A9D-BDBBDF7CA32F}" type="slidenum">
              <a:rPr b="0" lang="en-GB" sz="800" spc="-1" strike="noStrike">
                <a:solidFill>
                  <a:srgbClr val="68686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ußzeilenplatzhalter 4"/>
          <p:cNvSpPr/>
          <p:nvPr/>
        </p:nvSpPr>
        <p:spPr>
          <a:xfrm>
            <a:off x="2374920" y="122400"/>
            <a:ext cx="53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686868"/>
                </a:solidFill>
                <a:latin typeface="Arial"/>
              </a:rPr>
              <a:t>&gt; Lecture &gt; Author  •  Document &gt; D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06:51:55Z</dcterms:created>
  <dc:creator>Mayerhofer, Ludwig</dc:creator>
  <dc:description/>
  <dc:language>en-US</dc:language>
  <cp:lastModifiedBy>Staudenrausch, Helmut</cp:lastModifiedBy>
  <dcterms:modified xsi:type="dcterms:W3CDTF">2013-02-08T00:36:16Z</dcterms:modified>
  <cp:revision>84</cp:revision>
  <dc:subject/>
  <dc:title>PowerPoint-Präsentation</dc:title>
</cp:coreProperties>
</file>