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50642-1F95-4986-9AB5-DF831C25D8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9D203-E265-4B43-8A63-82129C103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7B416-339A-4612-B731-AF083AC94190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CCA60-DCA8-4397-ACAA-4F6D733DC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815E4-4007-4BC3-9A5A-608704A91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F2886-F6C6-445F-A742-27F69B2BB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54E95-FFD4-4281-9742-1BA4F7EA2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77479-F435-4ED0-B90D-4F65AF5B9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7062-C320-4117-8DDA-86DCFD712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CE8CF-2600-4CFD-AE14-BFF5A4CC6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E0E02-9CB9-484F-9B9A-757CFA3E8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C959-E284-4314-AFC3-5339DE8A3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26A8-636D-4FBA-BF72-DE250A031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8F5E-4EAF-43D4-952F-B74B939D3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F7C7-B644-44FB-A7AE-2226E77B1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AEBF-0F9B-4A84-A95E-DE9E23CC7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F0EB-EA62-45C1-A1C2-1A8B545A05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617C-A529-4E02-9425-1491AE215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E9D0A-11A7-467A-94B6-26B8BEA38A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6DB7-A86E-42C3-B9F0-34DEDD2FBF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F201-1171-40A6-A6A7-0F8D7020C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8DF1-0B60-46A2-9642-2812C608F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F741-B541-4BE9-96E6-71F8CC0C35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420E-9889-4D6C-B8D4-F83B366E84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6B67-9F1B-4CC0-ABED-2BFC1471E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4B2F-B791-41BC-8702-D8CD177883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8A88-0AE3-4CA1-B9DC-92EA1FF387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7B00-D18C-4D1A-A1C8-88636445B1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1CA5-8525-404E-8ADA-AD3651203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13D-A10A-463D-B2D3-1DF79157D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E6A1-20BA-4AEF-9E15-CC97AF308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E7BF-80A3-4CE0-9C3F-972A4FD3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2918-89D9-404A-A198-E99C42FFC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9E0A-9978-4949-8160-4937DA578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D306-0437-4408-84B4-B59B3E61E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393E6-677E-4544-B3DB-AB9BD0601FB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870FFD59-4DB6-4DA2-9575-5CCB93D0348A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02106-5F98-451A-B869-91741F927A37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9A5D7-A52C-484A-8D5B-821AE24A71C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51DD0-CAB8-4E87-BF03-F1139C2C3A0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E8522-8064-4164-8A74-FD5262DC91B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E7295-910A-4BDD-9179-85C1CA491BE3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10713-0221-4DCB-95A7-059F4DAE4D3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DEAAF-1EC5-4E46-83F2-1A7E50ED128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3B697-98B1-4F31-B9E5-E125AEB2494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2FE7B-0951-47DD-897A-4952FCA0F5B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Skotte Australia</cp:lastModifiedBy>
  <dcterms:modified xsi:type="dcterms:W3CDTF">2013-02-07T23:31:41Z</dcterms:modified>
  <cp:revision>170</cp:revision>
  <dc:subject/>
  <dc:title>Title</dc:title>
</cp:coreProperties>
</file>