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A8496-22EA-403D-A09B-9A343EA64C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87CBA-8069-4AEC-B04A-B02DBE591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BAAB8-F5A0-497C-B9FF-3ECCFA756804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D63E7-776B-40BD-9DF9-394956869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96ECF-F752-4600-BC7B-BDEF444F0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E4D1E-9FF8-4E78-BB0A-C6B9655BE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405A4-72A8-48CF-83E1-B3C4749E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3CF5D-1F0E-4EBB-8353-046FD8E45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F0D7E-F5EB-4012-94F8-FBF9C70C5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9589A-DA63-46F0-9E7E-C216C27D7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7689D-E67D-46CE-AF1B-815E211D5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DD32-CED6-45F5-93D1-A90361C9C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8379-2FBD-4A49-A40C-DFDB69EE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5B41-DE26-4E4D-A61F-DE119B4F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40C2-8F79-4130-8E2F-EF24FD83C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D5EE-2E09-41C6-AA23-DCA79A494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5541-98B1-4AF0-87BE-F057AB00BE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26CF-7655-403E-9A9A-BC7C20194F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4336-D1AB-4AED-95F6-4B79D0A5A2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552E-6B07-4311-89D9-D0B1FDD68F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60DC-551B-4864-9383-A24FF5E7B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5E0B-12B1-4EC9-98E6-4716FA3491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EAB1-959A-4CF0-A9D9-87A9E9A88F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B8F6-C735-4F9E-9088-91D75A6CA1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FBC9-EEA9-49ED-9DBA-6EF26C3649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E7B0-759E-4F91-AA3C-6FFF514862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1212-7880-4775-9CFA-56809D0C8B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FC33-36D2-4E5F-9783-250FF0F44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C3D9-35C4-4C22-B1B1-9ED18DA50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1BF8-2A87-4AA0-8F33-9608E9655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82CA-A833-41B8-9728-70B9ECD86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6DD1-26E3-4C75-8B6C-C55399861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90D-2821-4539-BB7D-DCD7E9D2C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C915-D0C1-404E-BE7D-FFF9265FB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4BB9-8649-4D3A-A5A4-7B166D6E9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00C8E-D4D6-47E7-83BB-1C72CDC5069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02960" y="6523200"/>
            <a:ext cx="875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026C6837-9A47-4F2D-92A2-1E8D51B8A7F4}" type="slidenum">
              <a:rPr b="0" lang="de-DE" sz="9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1057320" y="6523200"/>
            <a:ext cx="361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1335"/>
                </a:solidFill>
                <a:latin typeface="Century Gothic"/>
              </a:rPr>
              <a:t>CEOS SDCG-3 Meeting|Sydney, Australia| 7-9 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160" y="558720"/>
            <a:ext cx="129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DCG-3 Meeting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Sydney, Australi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 Unicode MS"/>
              </a:rPr>
              <a:t>7-9 February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2FA5E-A177-412E-AFEF-01BECC9565B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363400"/>
            <a:ext cx="482616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EOS Ad hoc Group for GEOGLAM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John Faundeen, US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976560" y="166680"/>
            <a:ext cx="52070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GLAM Data Acquisition Pl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ro, Synergy, and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EE8C9-2FE8-4E79-BD3B-9F9AD86BC2B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DCG-GEOGLAM Agenda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6520" y="2076480"/>
          <a:ext cx="8609040" cy="3236760"/>
        </p:xfrm>
        <a:graphic>
          <a:graphicData uri="http://schemas.openxmlformats.org/drawingml/2006/table">
            <a:tbl>
              <a:tblPr/>
              <a:tblGrid>
                <a:gridCol w="1595520"/>
                <a:gridCol w="3498840"/>
                <a:gridCol w="3514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1224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00-09:1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tro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1224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15-09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ynergy/Expect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09:30-10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GEOGLAM Obj., Req., Phase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Inbal Becker-Reshef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0:30-11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Phase 1 Req., &amp; Volumetric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30-11:45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ay Forward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John Faundeen. Kerry Sawyer. Brian Killoug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1:45-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Recommendation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Adjourn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1e59"/>
                      </a:solidFill>
                    </a:lnL>
                    <a:lnR w="5760">
                      <a:solidFill>
                        <a:srgbClr val="001e59"/>
                      </a:solidFill>
                    </a:lnR>
                    <a:lnT w="5760">
                      <a:solidFill>
                        <a:srgbClr val="001e59"/>
                      </a:solidFill>
                    </a:lnT>
                    <a:lnB w="5760">
                      <a:solidFill>
                        <a:srgbClr val="001e59"/>
                      </a:solidFill>
                    </a:lnB>
                    <a:solidFill>
                      <a:srgbClr val="001e5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00DF3-06D7-40B1-8B2B-FC76E0A073A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tro, Synergy, 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33520" y="2155680"/>
            <a:ext cx="80769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form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gress to dat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s for SIT-28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llow-on pla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termin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cooperative are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xplor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SDCG &amp; GEOGLAM expectati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39CA2-6842-4684-AB21-21EC3B855CE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1490760"/>
            <a:ext cx="83851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Meeting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since SIT-27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User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Requirements Meet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a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une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-2 Meeting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pt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ata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 Plannin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	</a:t>
            </a:r>
            <a:r>
              <a:rPr b="0" i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Where/Whe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November 2012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DCG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-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GEOGLAM</a:t>
            </a: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 Strategy Workshop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February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SIT-28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884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8840"/>
                </a:solidFill>
                <a:latin typeface="Arial"/>
                <a:ea typeface="ＭＳ Ｐゴシック"/>
              </a:rPr>
              <a:t>March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5CE9C-18C8-4748-8B10-0F72904F703C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33520" y="1446120"/>
            <a:ext cx="8610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raft Year 1 Progress Re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Background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am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Deliverabl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chedule &amp;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roposed Observation Strateg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   = 2013 - 201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  = Mar 2014 - Nov 2015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hase III = Nov 2015 – Nov 2017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commendations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DD96E-A572-42D6-823C-D8C61B2F8D20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for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33520" y="2155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ollow on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corporate SDCG respons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articipate in GEOGLAM Strategy W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inalize Year 1 Re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SIT-28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Initiate Phase I activiti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lan for Phase II effor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E5B7E-BE20-4CFB-B7DB-1EE0C4C7F53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ynerg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533520" y="1316160"/>
            <a:ext cx="80769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ommo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SDCG-GEOGLAM area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VE tool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support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ssible engagement with LSI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Optical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AR sens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pace Agenci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ublic-Private Partnership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mmercial EO data provide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EO requester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8 countries overlap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25% of 71 GFOI/GEOGLAM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Potential for data sharing (W2W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2FDCD-DF4D-40A0-8EF4-0B5E2BC2FC0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pect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33520" y="2155680"/>
            <a:ext cx="80769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GEOGL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ontinued SEO/COVE suppor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Regular Communica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hared Lessons Learn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Eventual SDCG incorporation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marL="457200" indent="-457200"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FROM SDCG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?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77E3A-7A98-43BA-8261-FF33422B58D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1379520" y="212760"/>
            <a:ext cx="644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33520" y="2155680"/>
            <a:ext cx="8076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2569"/>
                </a:solidFill>
                <a:latin typeface="Arial"/>
              </a:rPr>
              <a:t>COMMENTS</a:t>
            </a: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256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6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John  Faundeen</cp:lastModifiedBy>
  <dcterms:modified xsi:type="dcterms:W3CDTF">2013-02-06T12:23:21Z</dcterms:modified>
  <cp:revision>170</cp:revision>
  <dc:subject/>
  <dc:title>Title</dc:title>
</cp:coreProperties>
</file>