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58C2C-8E58-4B3C-B513-0BE39456B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363A4-BBFE-4045-ABF4-27B1CFB6D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E5975-F5B9-4D79-807B-24BF47E70EEA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13E0E-9984-4B11-AB0D-21CA9D63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7A2CF-7C03-4A12-A9B0-24F1AFB44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92BF8-F917-46DF-8159-57B55C9B4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C25C2-0F05-4761-8F13-5E54CF510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8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DDAD-7F43-4D32-824E-C7F82D03C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F8F3D-98E8-4FD8-B667-3ABED1BDD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6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4EEC1-E7B6-4A8B-BDB4-D9A7A1099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0378D-D6CA-4D9A-A247-F14A358F6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4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FD1E-BFEA-4857-AFF6-5E608D13B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6EA0-8246-458D-A5A3-FD57AABF7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6FD1-E7B0-4882-B8DD-338829BAE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9DA1-D9F8-46FD-9CB0-B68C3FB3F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DD06-FFD5-4868-81EC-1AB558709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9494-708B-4928-8A99-230D2E69BF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8E68-3EF7-40DA-AA07-14C704573F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ECFA-42D3-444D-94B7-309664A76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59A4-88FB-412A-ACC1-5E29143605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2CCF-9F49-4BA0-9B55-17415840F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4E65-EE5C-4B0D-9694-A843399647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2E27-51EE-454E-9D04-0FFAC3F31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2A32-A342-4785-94FD-F920943D57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4979-444E-48D3-9948-48C7B799DB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A6CC-0C90-430F-8D43-BB84596212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D0EF-5809-4B88-AC62-8D5165412D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F548-BB09-4D43-A641-47C51DBDC4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A014-833F-4413-B2AD-ED3CDA3F2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3C2E-7212-4F40-ABD8-E4DFE99FC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EBE4-7C63-4204-8355-15F1C3B21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8091-9372-41B3-9E57-F03CA495F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4DA7-5747-48DB-9E2A-81C5FF0A0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C869-EA40-445D-9A66-B9BDEA42C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C9D9-D97D-458B-9871-8596C7448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7F306-12FE-4E2F-B253-8CB4BDD57A8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2C88BAC9-1973-4788-8414-37F59CDDC23C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19880" y="6523200"/>
            <a:ext cx="341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FCT SDS-4 Meeting|Sydney, Australia| 4-6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S-4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4-6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EF5BC-ECC1-451D-9674-F4C0DD5E567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716280" y="2363400"/>
            <a:ext cx="482760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692160" y="166680"/>
            <a:ext cx="549108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ndsat Data Delivery Appro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0389A-29B9-46F6-A847-EFAB4B790F9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andsat Data Delivery Approach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533520" y="2155680"/>
            <a:ext cx="8488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arth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GloVi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CEOS LSI Explor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Manual &amp; Shi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EUMETSAT GEONETCas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3CB8A-FA7E-4521-A67B-E084A54A202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0" name="Picture 1" descr="EE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011AC-2F46-4089-B1DB-B24D3E47C1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arth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3" name="Picture 2" descr="EE2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44" name="Frame 3"/>
          <p:cNvSpPr/>
          <p:nvPr/>
        </p:nvSpPr>
        <p:spPr>
          <a:xfrm>
            <a:off x="-104760" y="1876320"/>
            <a:ext cx="3949560" cy="617760"/>
          </a:xfrm>
          <a:custGeom>
            <a:avLst/>
            <a:gdLst/>
            <a:ahLst/>
            <a:rect l="l" t="t" r="r" b="b"/>
            <a:pathLst>
              <a:path w="3949700" h="617538">
                <a:moveTo>
                  <a:pt x="0" y="0"/>
                </a:moveTo>
                <a:lnTo>
                  <a:pt x="3949700" y="0"/>
                </a:lnTo>
                <a:lnTo>
                  <a:pt x="3949700" y="617538"/>
                </a:lnTo>
                <a:lnTo>
                  <a:pt x="0" y="617538"/>
                </a:lnTo>
                <a:lnTo>
                  <a:pt x="0" y="0"/>
                </a:lnTo>
                <a:close/>
                <a:moveTo>
                  <a:pt x="77192" y="77192"/>
                </a:moveTo>
                <a:lnTo>
                  <a:pt x="77192" y="540346"/>
                </a:lnTo>
                <a:lnTo>
                  <a:pt x="3872508" y="540346"/>
                </a:lnTo>
                <a:lnTo>
                  <a:pt x="3872508" y="77192"/>
                </a:lnTo>
                <a:lnTo>
                  <a:pt x="77192" y="7719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5CC01-C967-4577-90D8-F92EBAA6BA7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GloVi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7" name="Picture 1" descr="GloVis1.jpe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6566C-AA2F-43A7-87DE-8B7F6645DF1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EOS LSI Explorer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0" name="Picture 1" descr="LSI1.jpeg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6E8C5-DD7C-4470-B910-A82A3712FC79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anual &amp; Ship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533520" y="2155680"/>
            <a:ext cx="834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urrent USGS FCT Mode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ternet Connectivit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py to USB Hard Disk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ip Disks Once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&gt; 10 TB / Yea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t Sustainable / Expandable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E2562-23FE-4EEE-B934-8FAC06CF68E5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UMETSAT GEONETCas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03280" y="21556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tellite Downlink Service to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anzania Tes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GS to EUMETSAT to Tanzan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KSAT Facilita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alabl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9F8F3-6E21-46A4-A791-3D89C6A75C6E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1379520" y="212760"/>
            <a:ext cx="764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pace Data Coordination (Group)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14200" y="2155680"/>
            <a:ext cx="864072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6000" spc="-1" strike="noStrike">
                <a:solidFill>
                  <a:srgbClr val="002569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Earth Explorer – http://earthexplorer.usgs.gov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GloVis - http://glovis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800" spc="-1" strike="noStrike">
                <a:solidFill>
                  <a:srgbClr val="002569"/>
                </a:solidFill>
                <a:latin typeface="Arial"/>
              </a:rPr>
              <a:t>CEOS LSI Explorer - http://lsiexplorer.cr.usgs.gov/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569"/>
              </a:buClr>
              <a:buFont typeface="Lucida Grande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2:39Z</dcterms:modified>
  <cp:revision>177</cp:revision>
  <dc:subject/>
  <dc:title>Title</dc:title>
</cp:coreProperties>
</file>