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DA1CE-F7CB-4368-A6BD-DD93671698B2}"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0D2AC-00BD-4C03-B971-77C949DDBD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1F2E5-F51D-488A-9179-12935B6C27C6}"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7BB13-A152-4FE6-9CCB-1F85F9208E8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CFDBB-44AA-4DA6-9A4F-A7192A86908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6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B22A9-A918-4EB3-8BCA-4B8E17D7EF5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3262A-E334-4545-8284-AB972408324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19777-E43E-4AAF-81EF-127DE4CB724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7A71E-813A-4FB0-9561-1F976129A04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14B1E-CB49-4BE1-B15A-6D63649AB67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8EB0D-4B0C-49D4-82AF-05D675DF1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E18EE22F-140C-4702-B126-5C44A55A9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E3660FAC-60DA-4760-AC7A-DFDEEB90F3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2CF6EE06-129C-42AE-B9B4-5B02C7B8F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0105A18F-49CE-48D7-B037-18B9B0D33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A7E4F-201F-434F-A4C1-387DD330EC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1DB96601-7852-47D2-B613-969CF5AB66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F3E4DBAF-F0FE-404E-9B74-CCF0FE904D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6DE92311-4A80-4DD7-BA25-47D4B84F97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A103664B-12A2-48B3-AF2F-74BAB736F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B91368EF-9D9B-44EA-841B-3E6F41F2CE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875EBBF2-0A67-4C05-845E-4A888429A9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3B0F80F-3500-44CA-9AAD-B13FA5F06C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ED7632A-C0A0-415F-AD53-FEEA7259D4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464893A6-FE2E-4960-81E5-FD8851F896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17F5AB26-9741-4F9B-B382-20340C30F8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8F41E780-FBF5-4345-B3C3-CE37B68BC8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06123992-B885-47DD-BF07-4C8C0C718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70278A3E-751E-4CF6-97D2-A06A0A6D0A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FBEB01B3-3E54-4E8C-8017-FE2FF206D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1120" y="188640"/>
            <a:ext cx="739620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D8C7DE53-EC8A-4B3E-BB4B-7B8F50B260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75B23D3-BAAF-44B7-A7E6-337A6244ED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4E85AEE9-7D80-45DD-AB79-134C2FF6A9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1120" y="148680"/>
            <a:ext cx="73962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3C18F7B-9694-432D-94E9-04506C8A0C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6AD1C-CDC9-4246-AB50-4469110F5686}"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102960" y="6523200"/>
            <a:ext cx="875520" cy="155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900" spc="-1" strike="noStrike">
                <a:solidFill>
                  <a:srgbClr val="5f758d"/>
                </a:solidFill>
                <a:latin typeface="Century Gothic"/>
              </a:rPr>
              <a:t>Slide: </a:t>
            </a:r>
            <a:fld id="{18C69925-8D2F-4114-A075-7857E86ED3B9}" type="slidenum">
              <a:rPr b="0" lang="de-DE" sz="900" spc="-1" strike="noStrike">
                <a:solidFill>
                  <a:srgbClr val="5f758d"/>
                </a:solidFill>
                <a:latin typeface="Century Gothic"/>
              </a:rPr>
              <a:t>&lt;number&gt;</a:t>
            </a:fld>
            <a:endParaRPr b="0" lang="en-US" sz="9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1057320" y="6523200"/>
            <a:ext cx="361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1335"/>
                </a:solidFill>
                <a:latin typeface="Century Gothic"/>
              </a:rPr>
              <a:t>CEOS SDCG-3 Meeting|Sydney, Australia| 7-9  February 2013</a:t>
            </a:r>
            <a:endParaRPr b="0" lang="en-US" sz="10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2160" y="558720"/>
            <a:ext cx="1291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DCG-3 Meeting</a:t>
            </a:r>
            <a:endParaRPr b="0" lang="en-US" sz="1000" spc="-1" strike="noStrike">
              <a:solidFill>
                <a:srgbClr val="0025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ydney, Australia</a:t>
            </a:r>
            <a:br>
              <a:rPr sz="1000"/>
            </a:br>
            <a:r>
              <a:rPr b="1" lang="en-US" sz="1000" spc="-1" strike="noStrike">
                <a:solidFill>
                  <a:srgbClr val="ffffff"/>
                </a:solidFill>
                <a:latin typeface="Arial Unicode MS"/>
              </a:rPr>
              <a:t>7-9 February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1671120" y="188640"/>
            <a:ext cx="739620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38880" y="6546960"/>
            <a:ext cx="1905120" cy="311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34663-87B6-4C49-8949-3435F6271799}"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363400"/>
            <a:ext cx="4826160" cy="134460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Ad hoc Group for GEOGLAM</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Sawyer, CEO</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rian Killough, NASA</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hn Faundeen, USGS</a:t>
            </a:r>
            <a:endParaRPr b="1" lang="en-US" sz="1800" spc="-1" strike="noStrike">
              <a:solidFill>
                <a:srgbClr val="002569"/>
              </a:solidFill>
              <a:latin typeface="Arial"/>
            </a:endParaRPr>
          </a:p>
        </p:txBody>
      </p:sp>
      <p:sp>
        <p:nvSpPr>
          <p:cNvPr id="134" name="PlaceHolder 2"/>
          <p:cNvSpPr>
            <a:spLocks noGrp="1"/>
          </p:cNvSpPr>
          <p:nvPr>
            <p:ph type="title"/>
          </p:nvPr>
        </p:nvSpPr>
        <p:spPr>
          <a:xfrm>
            <a:off x="3976560" y="166680"/>
            <a:ext cx="520704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GLAM Data Acquisition Plan </a:t>
            </a:r>
            <a:r>
              <a:rPr b="1" lang="en-US" sz="2400" spc="-1" strike="noStrike">
                <a:solidFill>
                  <a:srgbClr val="ffff00"/>
                </a:solidFill>
                <a:latin typeface="Arial"/>
              </a:rPr>
              <a:t>Advice &amp; Recommendations</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06207-B4E7-446B-8443-649B8D2CB81F}"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6"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37" name="TextBox 6"/>
          <p:cNvSpPr/>
          <p:nvPr/>
        </p:nvSpPr>
        <p:spPr>
          <a:xfrm>
            <a:off x="206280" y="1461960"/>
            <a:ext cx="8937720" cy="53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1</a:t>
            </a:r>
            <a:r>
              <a:rPr b="1" lang="en-US" sz="2400" spc="-1" strike="noStrike">
                <a:solidFill>
                  <a:srgbClr val="002569"/>
                </a:solidFill>
                <a:latin typeface="Arial"/>
              </a:rPr>
              <a:t>	</a:t>
            </a:r>
            <a:r>
              <a:rPr b="1" lang="en-US" sz="2400" spc="-1" strike="noStrike">
                <a:solidFill>
                  <a:srgbClr val="002569"/>
                </a:solidFill>
                <a:latin typeface="Arial"/>
              </a:rPr>
              <a:t> An Ad Hoc CEOS team to take responsibility for working with GEOGLAM to further develop the space-based observations component suggested by the draft Work Plan. Initial membership should include Yves Crevier, John Faundeen, Brian Killough, Prasad Thenkabail, Brad Doorn, and Stephen Ward.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 Ad Hoc CEOS team has been working closely with GEOGLAM to develop a phased implementation approach leading toward an operational GEOGLAM in ~5 years (2018).  The initial 2-year concept phase (Nov 2012 to Nov 2014) is an extension of the JECAM efforts and will target agriculture regions in Australia, Argentina, Russia, Ukraine and the at-risk country of Uganda. A GEOGLAM data planning meeting was held in November 2012 and a GEOGLAM strategic planning meeting was held in February 2013.  This phased plan and the long-term support desired from CEOS will be presented at SIT-28. </a:t>
            </a: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4DDC8-A782-4160-B0D0-36AB62CAF3DB}"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39"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0" name="TextBox 6"/>
          <p:cNvSpPr/>
          <p:nvPr/>
        </p:nvSpPr>
        <p:spPr>
          <a:xfrm>
            <a:off x="206280" y="1461960"/>
            <a:ext cx="893772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2</a:t>
            </a:r>
            <a:r>
              <a:rPr b="1" lang="en-US" sz="2400" spc="-1" strike="noStrike">
                <a:solidFill>
                  <a:srgbClr val="002569"/>
                </a:solidFill>
                <a:latin typeface="Arial"/>
              </a:rPr>
              <a:t>	</a:t>
            </a:r>
            <a:r>
              <a:rPr b="1" lang="en-US" sz="2400" spc="-1" strike="noStrike">
                <a:solidFill>
                  <a:srgbClr val="002569"/>
                </a:solidFill>
                <a:latin typeface="Arial"/>
              </a:rPr>
              <a:t> ESA will explore with SDCG the possibility of tasking/augmenting the SDCG group to undertake a preliminary global acquisition strategy in support of GEOGLAM needs. SDCG tasking would begin following approval at Plenary.       Due: CEOS Plenary</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GEOGLAM team recognizes the important efforts of SDCG and their support to GFOI.  Though the team is not ready for the full support of SDCG, it would like to continue scoping discussions with the group to learn how it is supporting GFOI and explore the potential for SDCG to similarly support GEOGLAM in the future. It is anticipated that the team will not require significant support from SDCG in 2013.  The Ad Hoc CEOS GEOGLAM team would like to present a status of its accomplishments at the 2013 CEOS Plenary and discuss potential support from SDCG beyond 2013.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4EB26-E261-45CC-BFB3-2325BC9AB1CA}"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2"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3" name="TextBox 6"/>
          <p:cNvSpPr/>
          <p:nvPr/>
        </p:nvSpPr>
        <p:spPr>
          <a:xfrm>
            <a:off x="206280" y="1461960"/>
            <a:ext cx="8937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IT 27-13</a:t>
            </a:r>
            <a:r>
              <a:rPr b="1" lang="en-US" sz="2400" spc="-1" strike="noStrike">
                <a:solidFill>
                  <a:srgbClr val="002569"/>
                </a:solidFill>
                <a:latin typeface="Arial"/>
              </a:rPr>
              <a:t>	</a:t>
            </a:r>
            <a:r>
              <a:rPr b="1" lang="en-US" sz="2400" spc="-1" strike="noStrike">
                <a:solidFill>
                  <a:srgbClr val="002569"/>
                </a:solidFill>
                <a:latin typeface="Arial"/>
              </a:rPr>
              <a:t> Building upon the outcomes of the user requirements and space data coordination activities, responsible CEOS team will provide their analysis and recommendations to CEOS leadership on further steps vis-à-vis the GEOGLAM initiative – including a plan for the pre-2015 outcomes.       Due: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FF365-61AC-4E87-BD55-C9EA4AEF6344}"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5"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T-27 Actions</a:t>
            </a:r>
            <a:endParaRPr b="0" lang="en-US" sz="3200" spc="-1" strike="noStrike">
              <a:solidFill>
                <a:srgbClr val="002569"/>
              </a:solidFill>
              <a:latin typeface="Arial"/>
            </a:endParaRPr>
          </a:p>
        </p:txBody>
      </p:sp>
      <p:sp>
        <p:nvSpPr>
          <p:cNvPr id="146" name="TextBox 6"/>
          <p:cNvSpPr/>
          <p:nvPr/>
        </p:nvSpPr>
        <p:spPr>
          <a:xfrm>
            <a:off x="206280" y="1461960"/>
            <a:ext cx="893772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at SIT-28 leading toward an operational GEOGLAM in ~5 years (2018).  Several meetings have been held to develop requirements (July 2012), develop preliminary phasing and data acquisition plans (November 2012), discuss synergies and potential support from SDCG (February 2013) and develop long-term implementation strategies (February 2013).  The GEOGLAM phased approach includes a 2-year conceptual pilot phase (through 2014) that is focused on optical and SWIR measurements over 5 targeted regions, a preliminary phase (through 2015) that adds SAR measurements, more targeted regions, and Asian Rice products, and a critical phase (through 2017) that targets all large producing countries, 5+ at-risk countries, additional missions and products, and a sampling strategy for product validation. </a:t>
            </a:r>
            <a:r>
              <a:rPr b="0" lang="en-US" sz="2400" spc="-1" strike="noStrike">
                <a:solidFill>
                  <a:srgbClr val="002569"/>
                </a:solidFill>
                <a:latin typeface="Arial"/>
              </a:rPr>
              <a:t>     </a:t>
            </a:r>
            <a:endParaRPr b="0" lang="en-US" sz="24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A1455-F0A5-47FA-BF92-4C795D1F7833}"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48"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1/2</a:t>
            </a:r>
            <a:endParaRPr b="0" lang="en-US" sz="3200" spc="-1" strike="noStrike">
              <a:solidFill>
                <a:srgbClr val="002569"/>
              </a:solidFill>
              <a:latin typeface="Arial"/>
            </a:endParaRPr>
          </a:p>
        </p:txBody>
      </p:sp>
      <p:sp>
        <p:nvSpPr>
          <p:cNvPr id="149" name="TextBox 6"/>
          <p:cNvSpPr/>
          <p:nvPr/>
        </p:nvSpPr>
        <p:spPr>
          <a:xfrm>
            <a:off x="206280" y="1461960"/>
            <a:ext cx="8937720" cy="38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2569"/>
                </a:solidFill>
                <a:uFillTx/>
                <a:latin typeface="Arial"/>
              </a:rPr>
              <a:t>SEC 172-4</a:t>
            </a:r>
            <a:r>
              <a:rPr b="1" lang="en-US" sz="2400" spc="-1" strike="noStrike">
                <a:solidFill>
                  <a:srgbClr val="002569"/>
                </a:solidFill>
                <a:latin typeface="Arial"/>
              </a:rPr>
              <a:t>	</a:t>
            </a:r>
            <a:r>
              <a:rPr b="1" lang="en-US" sz="2400" spc="-1" strike="noStrike">
                <a:solidFill>
                  <a:srgbClr val="002569"/>
                </a:solidFill>
                <a:latin typeface="Arial"/>
              </a:rPr>
              <a:t>SIT Chair Team to invite GEOGLAM to SIT-28</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CEOS Team for GEOGLAM will present a status of its Phasing Plan leading toward an operational GEOGLAM in ~5 years (2018).  GEOGLAM will continue to develop institutional support for long-term operations and will commence a 2-year pilot phase in 2013 to establish a criteria for success and validate data products.  GEOGLAM would like CEOS to </a:t>
            </a:r>
            <a:r>
              <a:rPr b="1" lang="en-US" sz="2000" spc="-1" strike="noStrike">
                <a:solidFill>
                  <a:srgbClr val="002569"/>
                </a:solidFill>
                <a:latin typeface="Arial"/>
              </a:rPr>
              <a:t>acknowledge</a:t>
            </a:r>
            <a:r>
              <a:rPr b="0" lang="en-US" sz="2000" spc="-1" strike="noStrike">
                <a:solidFill>
                  <a:srgbClr val="002569"/>
                </a:solidFill>
                <a:latin typeface="Arial"/>
              </a:rPr>
              <a:t> the importance of this effort in support of GEO, </a:t>
            </a:r>
            <a:r>
              <a:rPr b="1" lang="en-US" sz="2000" spc="-1" strike="noStrike">
                <a:solidFill>
                  <a:srgbClr val="002569"/>
                </a:solidFill>
                <a:latin typeface="Arial"/>
              </a:rPr>
              <a:t>acknowledg</a:t>
            </a:r>
            <a:r>
              <a:rPr b="0" lang="en-US" sz="2000" spc="-1" strike="noStrike">
                <a:solidFill>
                  <a:srgbClr val="002569"/>
                </a:solidFill>
                <a:latin typeface="Arial"/>
              </a:rPr>
              <a:t>e the relevance of the SDCG and its potential to provide data coordination support in the future and to </a:t>
            </a:r>
            <a:r>
              <a:rPr b="1" lang="en-US" sz="2000" spc="-1" strike="noStrike">
                <a:solidFill>
                  <a:srgbClr val="002569"/>
                </a:solidFill>
                <a:latin typeface="Arial"/>
              </a:rPr>
              <a:t>acknowledge</a:t>
            </a:r>
            <a:r>
              <a:rPr b="0" lang="en-US" sz="2000" spc="-1" strike="noStrike">
                <a:solidFill>
                  <a:srgbClr val="002569"/>
                </a:solidFill>
                <a:latin typeface="Arial"/>
              </a:rPr>
              <a:t> its phased implementation approach that will require increased CEOS agency support in the future.</a:t>
            </a: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11B0A-2DDA-4003-AED3-645626670D39}"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1"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dvice &amp; Recommendations</a:t>
            </a:r>
            <a:endParaRPr b="0" lang="en-US" sz="3200" spc="-1" strike="noStrike">
              <a:solidFill>
                <a:srgbClr val="0025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EC Action 2/2</a:t>
            </a:r>
            <a:endParaRPr b="0" lang="en-US" sz="3200" spc="-1" strike="noStrike">
              <a:solidFill>
                <a:srgbClr val="002569"/>
              </a:solidFill>
              <a:latin typeface="Arial"/>
            </a:endParaRPr>
          </a:p>
        </p:txBody>
      </p:sp>
      <p:sp>
        <p:nvSpPr>
          <p:cNvPr id="152" name="TextBox 6"/>
          <p:cNvSpPr/>
          <p:nvPr/>
        </p:nvSpPr>
        <p:spPr>
          <a:xfrm>
            <a:off x="206280" y="1461960"/>
            <a:ext cx="8937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pace-based data in support of this pilot phase will focus on optical and SWIR measurements from many missions with open data policies (i.e., Landsat-7, LDCM, NPP).  It is anticipated that data acquisitions from these missions will not require additional CEOS agency support. GEOGLAM </a:t>
            </a:r>
            <a:r>
              <a:rPr b="1" lang="en-US" sz="2000" spc="-1" strike="noStrike">
                <a:solidFill>
                  <a:srgbClr val="002569"/>
                </a:solidFill>
                <a:latin typeface="Arial"/>
              </a:rPr>
              <a:t>requests</a:t>
            </a:r>
            <a:r>
              <a:rPr b="0" lang="en-US" sz="2000" spc="-1" strike="noStrike">
                <a:solidFill>
                  <a:srgbClr val="002569"/>
                </a:solidFill>
                <a:latin typeface="Arial"/>
              </a:rPr>
              <a:t> support from several CEOS agencies to establish limited optical and SWIR data provisions in 2013 over targeted agriculture regions in Australia, Argentina, Russia, Ukraine and the at-risk country of Uganda.  This request includes data from CNES (SPOT-5 and Pleiades), INPE/China (CBERS-3), DLR (RapidEye), and ISRO (Resourcesat-2).</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80765-CC91-4FD3-8E01-A45F67D9AD6D}"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
        <p:nvSpPr>
          <p:cNvPr id="154" name="Title 1"/>
          <p:cNvSpPr/>
          <p:nvPr/>
        </p:nvSpPr>
        <p:spPr>
          <a:xfrm>
            <a:off x="1379520" y="212760"/>
            <a:ext cx="618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DCG-3 Recommendations</a:t>
            </a:r>
            <a:endParaRPr b="0" lang="en-US" sz="3200" spc="-1" strike="noStrike">
              <a:solidFill>
                <a:srgbClr val="002569"/>
              </a:solidFill>
              <a:latin typeface="Arial"/>
            </a:endParaRPr>
          </a:p>
        </p:txBody>
      </p:sp>
      <p:sp>
        <p:nvSpPr>
          <p:cNvPr id="155" name="TextBox 6"/>
          <p:cNvSpPr/>
          <p:nvPr/>
        </p:nvSpPr>
        <p:spPr>
          <a:xfrm>
            <a:off x="206280" y="1461960"/>
            <a:ext cx="893772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569"/>
                </a:solidFill>
                <a:latin typeface="Arial"/>
              </a:rPr>
              <a:t> </a:t>
            </a:r>
            <a:endParaRPr b="0" lang="en-US" sz="2800" spc="-1" strike="noStrike">
              <a:solidFill>
                <a:srgbClr val="002569"/>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a:p>
            <a:pPr marL="457200" indent="-457200">
              <a:buClr>
                <a:srgbClr val="002569"/>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1:11:17Z</dcterms:created>
  <dc:creator>Brian Killough</dc:creator>
  <dc:description/>
  <dc:language>en-US</dc:language>
  <cp:lastModifiedBy>John  Faundeen</cp:lastModifiedBy>
  <dcterms:modified xsi:type="dcterms:W3CDTF">2013-02-06T12:25:19Z</dcterms:modified>
  <cp:revision>163</cp:revision>
  <dc:subject/>
  <dc:title>Title</dc:title>
</cp:coreProperties>
</file>