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DCBA1-014D-4DA7-A1DD-6127B0119C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AAACD-6598-421D-811B-2F3A88B44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3AC3C-1B4D-460A-A28E-8D17AAFDD482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D3CED-7E2C-482F-A516-EAA17AAC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A6E84-4BE6-4ADB-9A1A-CC44ADB5E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06A2A-82E8-43D6-AF32-E972372A3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E860C-CC1F-4283-ACB1-8666A457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71766-EEE0-4460-AC3D-2B6A313C3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ADFF1-D3B0-4956-B817-67FB76FDA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80D4D-62E3-4D3B-A23B-9C192D6EC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4A9D7-4F19-43EA-B4DE-505D8AED9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1048-7724-495E-B317-37CFC5B66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AA49-209A-446C-BE82-AAD9A631C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2C60-0696-4005-A78B-4F66069E6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32CB-99B1-4839-A77F-C3DDF8955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E7F8-C535-412E-987F-420339E92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10F2-ED11-40DC-9DA5-294922CBF6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08CF-0E8F-4892-80A8-72364A6D73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B072-D4E4-445B-AC76-D83E4D17B2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F731-FF61-4AC0-B33B-DC35D88862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E649-2543-4AAB-9E13-0E2F8B6B3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A0BC-35BA-43E1-A2CC-BB210F3D2A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5D6D-5D5F-4139-943A-42489FBD0A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5152-EF03-4A67-9E3A-58E592B1B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2BF9-DB06-404E-83D6-2921CC9072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9A26-6DCC-4DC8-9C73-B1267BA845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D2B4-378B-4435-990F-4C9E5008C7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BD1E-B44A-4DDF-BB42-D53B20649E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F3A9-A766-497B-8D27-406AF294C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CEF6-BFC1-45A3-AFA0-D8699A139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0B92-C17C-46C6-ABF6-E7B970386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E9A6-2847-49B6-B39F-8827A9B3F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5842-7D0E-4A09-9D5A-F39C7609A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0317-3B5A-4B97-AA21-F5418F180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3848-2C8F-4301-823F-CB7B909D3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5EB34-36A1-4D2C-BDA9-DD92CB5F0FE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84B0BEA8-024A-407E-9D1C-DF3F491DBA4A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3170B-69E8-413D-AEC2-8F3C5520074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9183E-4C1A-4867-838A-7472F0A30BB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FC94-4EB3-4E1A-9015-81878913EE1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1B615-0EE4-4C3F-B761-5375428B9E1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8A00D-BE20-4951-9BBB-7AE8AC332AC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4AD04-AAA2-4EC4-BA69-10907195B79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D0B5C-59FE-400E-996A-26F4E77B6CD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0729F-003F-450C-A7A5-7FB33BA7BD0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D3ECC-77EE-4F6F-850A-3A99F97B2B6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6T12:23:21Z</dcterms:modified>
  <cp:revision>170</cp:revision>
  <dc:subject/>
  <dc:title>Title</dc:title>
</cp:coreProperties>
</file>