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ED665-3814-469A-A9B8-8157335FA7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C5919-A7C0-4B41-9A3B-595AD34A8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8A5A4-EB44-4D82-B635-7F395A51BC97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EE461-0306-44EA-A3FD-D9192590D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DA9C1-E5FD-44AD-87EC-47D093BF2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337CC-F8AD-47EB-9648-89DD6AEAC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7140A-9AC4-4752-A07C-80FC6ABD6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E8CE6-7C97-4481-9814-A4C7E6E72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9CF9B-814F-4EAD-AC6D-CB694E5D6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327F7-9E28-4391-BD65-0A09E3500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4647D-A73D-40D6-A066-AB2DB4C58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2B3B-CBA1-475B-8FA3-C5B1652BD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A9C7-2681-41EE-A04C-CBED0A938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C6F3-EE2C-4DE7-A25E-488307DD0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C458-DED1-4230-A8C0-A9E07FB03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A8DA-9480-474F-817C-A7DF5B2EF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40315-E606-4AD7-8734-6220B6BA06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1E2C7-75F2-4910-9AC8-BA881D93E7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6C9E3-EC95-4FF7-827C-E1A8FA6568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E62F2-B151-4B10-9A4D-638828B227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D9B4-6A03-48AC-8418-699D01F7BE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312C-2416-4EEC-BAB4-C9FF92DD83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85056-3D5F-4256-BBF9-80CB6E4DF8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4BE4-541E-4C1E-ACA3-CC2B784734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EBD49-A1AE-4C84-88A3-8CBF1C7CB6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27D2-30F4-49A9-89C9-A7902C1658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1EE3-9EE6-47D4-9131-3169B93AA3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08E0-E083-4EB7-8725-924D426F40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565D5-ED90-4086-89C6-E6496DE79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D772-EBF4-4437-9396-F52BEE7E4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5CD9-1CFC-41BB-B7AD-913705F60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EED7-A688-4DDB-B85B-63DE07FD7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F28E-5401-4575-A46C-D0BDE18EF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8D1E-393A-48A2-BDF9-E60E4560C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1363-B80A-49F1-8001-30B13B1D0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E180F-5C61-409B-9C23-E05E6340E8F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0296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BA6B6DF8-EF4A-4D37-B088-718227DB1095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057320" y="6523200"/>
            <a:ext cx="361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DCG-3 Meeting|Sydney, Australia| 7-9 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8DA63-5D1D-4077-9255-7F9881CCF476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363400"/>
            <a:ext cx="482616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EOS Ad hoc Group for GEOGLAM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John Faundeen, USG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976560" y="166680"/>
            <a:ext cx="520704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GLAM Data Acquisition Pl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ro, Synergy, and Expect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3C3E0-DB8D-474F-BDE8-865F700CC36C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DCG-GEOGLAM Agenda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36520" y="2076480"/>
          <a:ext cx="8609040" cy="3236760"/>
        </p:xfrm>
        <a:graphic>
          <a:graphicData uri="http://schemas.openxmlformats.org/drawingml/2006/table">
            <a:tbl>
              <a:tblPr/>
              <a:tblGrid>
                <a:gridCol w="1595520"/>
                <a:gridCol w="3498840"/>
                <a:gridCol w="35146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SESSIO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00-09:15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Intro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John Faundee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15-09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Synergy/Expectation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30-10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GEOGLAM Obj., Req., Phase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Inbal Becker-Reshef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0:30-11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Phase 1 Req., &amp; Volumetric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Brian Killoug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1:30-11:45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Way Forward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John Faundeen. Kerry Sawyer. Brian Killoug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1:45-12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Recommendation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2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djour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3CFA0-35B5-4F4A-8D2A-27255BE7394F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tro, Synergy, Expect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33520" y="2155680"/>
            <a:ext cx="807696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form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SDC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rogress to dat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lans for SIT-28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llow-on pla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etermine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cooperative area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xplore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SDCG &amp; GEOGLAM expectatio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52880-8F79-4E62-A847-584E0CEA208F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3520" y="1490760"/>
            <a:ext cx="838512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Meetings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since SIT-27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User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Requirements Meetin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Wha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June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DC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-2 Meetin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ptember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ata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Plannin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Where/Whe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November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SDCG</a:t>
            </a: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-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February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GEOGLAM</a:t>
            </a: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 Strategy Workshop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February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SIT-28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March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F5BE8-7D61-43A9-80B4-7C64E0F5B071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33520" y="1446120"/>
            <a:ext cx="86104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Progress to dat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raft Year 1 Progress Repor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Background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Team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eliverabl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chedule &amp; Mileston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roposed Observation Strategy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   = 2013 - 2014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I  = Mar 2014 - Nov 2015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II = Nov 2015 – Nov 2017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ecommendations 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A2C36-E121-42D5-8EE9-86820DBB0D31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533520" y="215568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ollow on pla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corporate SDCG respons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articipate in GEOGLAM Strategy W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inalize Year 1 Repor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r SIT-28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itiate Phase I activiti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lan for Phase II effort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E5D23-85A6-434D-92B2-7933EB1B304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ynergy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533520" y="1316160"/>
            <a:ext cx="80769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ommon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SDCG-GEOGLAM area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VE tool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O suppor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ossible engagement with LSI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Optical senso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AR senso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Space Agenci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ublic-Private Partnership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mmercial EO data provide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EO requeste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18 countries overlap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25% of 71 GFOI/GEOGLAM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otential for data sharing (W2W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13626-95E0-4520-B008-344C78E84D9C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xpect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33520" y="2155680"/>
            <a:ext cx="80769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rom GEOGLA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ntinued SEO/COVE suppor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egular Communic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hared Lessons Learn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ventual SDCG incorporatio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ROM SDCG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?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?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4CEF2-7409-409A-AD42-81EE6D0A351F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533520" y="2155680"/>
            <a:ext cx="80769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2569"/>
                </a:solidFill>
                <a:latin typeface="Arial"/>
              </a:rPr>
              <a:t>COMMENTS</a:t>
            </a:r>
            <a:endParaRPr b="0" lang="en-US" sz="6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6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11:17Z</dcterms:created>
  <dc:creator>Brian Killough</dc:creator>
  <dc:description/>
  <dc:language>en-US</dc:language>
  <cp:lastModifiedBy>Skotte Australia</cp:lastModifiedBy>
  <dcterms:modified xsi:type="dcterms:W3CDTF">2013-02-07T23:31:41Z</dcterms:modified>
  <cp:revision>170</cp:revision>
  <dc:subject/>
  <dc:title>Title</dc:title>
</cp:coreProperties>
</file>