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BAC-7BC4-4F36-926F-73893C8B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C9C-A248-4B80-B60D-E39FB52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E1D-8A71-4321-973A-23FD6D80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C3A-0130-4380-94E6-DA02CA88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8A3-B04F-4673-B0F5-1DEA695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B05-7AB8-4F7A-8FA4-2B25E30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C6A-094B-420E-BDF1-1721D0D6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B9A-DC4A-4106-9732-D5D3AD1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359-1D74-4C0A-A186-063C2E54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6DB-F5C9-4BB8-9791-D3823AA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57E-DD09-4645-81BA-389F786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B62-2EDA-4E61-8EBF-01C32546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FFA5A-5450-4B07-AAA8-A91BC097B01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2D1B8-C875-42FB-AF90-F257C0F5B01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101520" y="106200"/>
            <a:ext cx="943200" cy="4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7864560" y="106200"/>
            <a:ext cx="1187280" cy="47160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14480" y="157320"/>
            <a:ext cx="942840" cy="47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7810560" y="157320"/>
            <a:ext cx="1187280" cy="471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GEO_Header_Presentation.jpg"/>
          <p:cNvPicPr/>
          <p:nvPr/>
        </p:nvPicPr>
        <p:blipFill>
          <a:blip r:embed="rId5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Basic Strategy &amp; 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52160" y="3581280"/>
            <a:ext cx="662292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DCG-3, Sy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7</a:t>
            </a:r>
            <a:r>
              <a:rPr b="0" lang="en-US" sz="2400" spc="-1" strike="noStrike" baseline="30000">
                <a:solidFill>
                  <a:srgbClr val="8eb4e3"/>
                </a:solidFill>
                <a:latin typeface="Calibri"/>
              </a:rPr>
              <a:t>th </a:t>
            </a: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– 9th Februar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tephen 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for DCC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2"/>
          <p:cNvSpPr/>
          <p:nvPr/>
        </p:nvSpPr>
        <p:spPr>
          <a:xfrm>
            <a:off x="298440" y="175104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79520" y="1930320"/>
            <a:ext cx="8156520" cy="3246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7518240" cy="3154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sdcg_expansion_maps_cropped_0003_2013.jpg"/>
          <p:cNvPicPr/>
          <p:nvPr/>
        </p:nvPicPr>
        <p:blipFill>
          <a:blip r:embed="rId2"/>
          <a:stretch/>
        </p:blipFill>
        <p:spPr>
          <a:xfrm>
            <a:off x="212760" y="878040"/>
            <a:ext cx="8748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371600" y="1765440"/>
            <a:ext cx="6629400" cy="4149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dcg_expansion_maps_cropped_0002_2014.jpg"/>
          <p:cNvPicPr/>
          <p:nvPr/>
        </p:nvPicPr>
        <p:blipFill>
          <a:blip r:embed="rId2"/>
          <a:stretch/>
        </p:blipFill>
        <p:spPr>
          <a:xfrm>
            <a:off x="212760" y="853920"/>
            <a:ext cx="87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645320" cy="2738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dcg_expansion_maps_cropped_0001_2015.jpg"/>
          <p:cNvPicPr/>
          <p:nvPr/>
        </p:nvPicPr>
        <p:blipFill>
          <a:blip r:embed="rId2"/>
          <a:stretch/>
        </p:blipFill>
        <p:spPr>
          <a:xfrm>
            <a:off x="201600" y="865080"/>
            <a:ext cx="8747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dcg_expansion_maps_cropped_0000_2016.jpg"/>
          <p:cNvPicPr/>
          <p:nvPr/>
        </p:nvPicPr>
        <p:blipFill>
          <a:blip r:embed="rId2"/>
          <a:stretch/>
        </p:blipFill>
        <p:spPr>
          <a:xfrm>
            <a:off x="225360" y="878040"/>
            <a:ext cx="874728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06964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hasing assumes a certain readiness and engagement using World Bank and REDD+ participation indic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adiness to exploit satellite data for national policy outcomes is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hould be confirmed with Steering Committee and relevant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ome faith involved in the certainty that GFOI capabilities WILL be required. Phasing reflects prior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0955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the phasing actually mea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it mean for the countries concerned and do we have a clear message to manage expectatio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w does it relate to Element 2 and the national engagement approach t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trategy – lock-in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able to tell SIT-28 this is agr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and Mission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tle 12"/>
          <p:cNvSpPr/>
          <p:nvPr/>
        </p:nvSpPr>
        <p:spPr>
          <a:xfrm>
            <a:off x="298440" y="95076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2510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1f497d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08296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priorities &amp;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maintenance &amp; CEOS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3640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lobal baseline strategy report V1 developed for SIT-28 endor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ructure emphasises annual implementation cycle to reflect CEOS meeting cycle – emphasis on the year ahead &amp; endorsement by relevant supply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roposal is to update the report annually with results of past year and emphasis on the year a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d for the SIT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IT-28 outcomes requ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orsement of the overall global baselin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 from the data provider agencies for the 2013 implement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ll out proposed approach to Element 2 of the GFOI data strate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on the SDCG and LSI terms of reference (per the Plenary acti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 on possible 2013 Pilot Delivery Exerc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0188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ategy maintenance and CEOS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IT-28 approach is the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Basic strategy for global annual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4632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re data stream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data, at medium resolutions or finer, free-of-charge and openly shareable for GFOI purposes, consistent with being available in support of any country’s information requireme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stained and long-term capacity in coverage, processing and distribution which is consistent with the large (global) scale data requirements of the GFOI.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 &amp; -8, Sentinel -1 &amp; -2 series, CBERS-3 &amp; -4, RCM, (SAOCOM-1 ser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assumptions</a:t>
            </a:r>
            <a:br>
              <a:rPr sz="4400"/>
            </a:b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(or </a:t>
            </a:r>
            <a:r>
              <a:rPr b="0" i="1" lang="en-AU" sz="2400" spc="-1" strike="noStrike">
                <a:solidFill>
                  <a:srgbClr val="558ed5"/>
                </a:solidFill>
                <a:latin typeface="Calibri"/>
              </a:rPr>
              <a:t>how the world works</a:t>
            </a: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9404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most countries, most of the time an optical satellite dataset will be the easiest and preferred option and a combination of Landsat-7,-8 and Sentinel-2 will be the dominant solution and has sufficient coverage/capa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t is not an efficient use of resources or consistent with C-band SAR capabilities to request parallel global coverage. Instead focus on selected national wall-to-wall coverage of cloudy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nual tropical L-band dataset from SAOCOM-1 would be a game changer and might become preferred option and avoid cloud persistence problems and excessive repeat acquis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,-8 and Sentinel-2 from 2016 provide baseline coverage for all but cloudies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BERS-3, -4 significant regional role with stations in Brazil, China and central Africa. Support global coverage through lean years. Gap fi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ntinel-1A the first radar. Cloudy region focus – esp Africa? RCM interoperable with S-1A and similar focus. National datasets (where useable) would make a simple communication of need to ESA &amp; C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OCOM-1A has potential to contribute to several requirements – focus on tropical (cloudy) wall-to-wall annual cover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peful to include AWiFS (RESOURCESAT-2) - discu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06440" y="2514600"/>
            <a:ext cx="8447040" cy="2120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19672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pidEye, SPOT, RADARSAT-2, ALOS-2, TerraSAR-X/TanDEM-X all have important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evant to national-level coverage and gap-filling as data supply allows. Element 2 will certainly feature these (eg Norwegian supply of RapidEy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POT Congo Basin license should be factored in the annual implementation plans for relevant countries (inc 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Non-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sic strategy and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nsible appro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asily communicated and subscribed t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sens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RO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icy deadlines are f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FOI IP calls for a 2015 operational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DCG proposing a phased approach to global coverage, giv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vailability of core data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eed to build GFOI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ervative 2016 global coverage (L-7,-8 and S-2A fully 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chnically possible soo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 what do we actually mean by ‘coverage’ and how does this relate to Element 2 of the Strategy?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iorities set by: relevance &amp; read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1:35:37Z</dcterms:created>
  <dc:creator>George Dyke</dc:creator>
  <dc:description/>
  <dc:language>en-US</dc:language>
  <cp:lastModifiedBy>Matthew S</cp:lastModifiedBy>
  <dcterms:modified xsi:type="dcterms:W3CDTF">2013-01-31T02:09:19Z</dcterms:modified>
  <cp:revision>306</cp:revision>
  <dc:subject/>
  <dc:title>Slide 1</dc:title>
</cp:coreProperties>
</file>