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96B-7DE0-4FC3-BCC1-F4C2DBCF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9F4-DFAE-45F1-8C69-F7998D3F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B31-C786-49B3-AD1E-045194EF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0DC-5422-4E4B-8555-FB3F565C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7553-4DA8-4E78-AE9B-612A0A8D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F29-C4D6-4955-AF6B-040BE74D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2FA-86C8-4420-9D71-6885C0CC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DB98-E5AC-4CEF-9E85-99029382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B3B7-41FB-4C48-9FEC-BFB4C0BE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0E3-5F1C-4577-A562-F9658D3E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C750-BE8F-4FE5-9F07-8880E4C7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937-B850-4866-B9B8-37798DA5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099FD-DD72-47F5-B09F-9F8D55D0FD92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bacc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SDCG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USGS HQ @ Reston (Va)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Sept 13-14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DDEF0-2144-4E32-B7AC-B0FA8046E04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0" y="0"/>
            <a:ext cx="189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earthobservation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7985160" y="2232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gfoi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0" y="0"/>
            <a:ext cx="189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earthobservation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7985160" y="2232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gfoi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-4680" y="6195960"/>
            <a:ext cx="91486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GEO_Header_Presentation.jpg"/>
          <p:cNvPicPr/>
          <p:nvPr/>
        </p:nvPicPr>
        <p:blipFill>
          <a:blip r:embed="rId3"/>
          <a:srcRect l="0" t="25251" r="69395" b="16722"/>
          <a:stretch/>
        </p:blipFill>
        <p:spPr>
          <a:xfrm>
            <a:off x="-4680" y="6303960"/>
            <a:ext cx="2290680" cy="477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4"/>
          <a:stretch/>
        </p:blipFill>
        <p:spPr>
          <a:xfrm>
            <a:off x="2298600" y="6329520"/>
            <a:ext cx="943200" cy="47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5"/>
          <a:stretch/>
        </p:blipFill>
        <p:spPr>
          <a:xfrm>
            <a:off x="3390840" y="6291360"/>
            <a:ext cx="1187640" cy="471240"/>
          </a:xfrm>
          <a:prstGeom prst="rect">
            <a:avLst/>
          </a:prstGeom>
          <a:ln w="0">
            <a:noFill/>
          </a:ln>
        </p:spPr>
      </p:pic>
      <p:sp>
        <p:nvSpPr>
          <p:cNvPr id="49" name="Straight Connector 12"/>
          <p:cNvSpPr/>
          <p:nvPr/>
        </p:nvSpPr>
        <p:spPr>
          <a:xfrm>
            <a:off x="0" y="6194520"/>
            <a:ext cx="9144000" cy="1440"/>
          </a:xfrm>
          <a:prstGeom prst="line">
            <a:avLst/>
          </a:prstGeom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5359320" y="6326280"/>
            <a:ext cx="20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CG-3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6"/>
          <p:cNvSpPr/>
          <p:nvPr/>
        </p:nvSpPr>
        <p:spPr>
          <a:xfrm>
            <a:off x="0" y="0"/>
            <a:ext cx="189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earthobservation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7985160" y="2232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gfoi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-4680" y="6195960"/>
            <a:ext cx="91486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GEO_Header_Presentation.jpg"/>
          <p:cNvPicPr/>
          <p:nvPr/>
        </p:nvPicPr>
        <p:blipFill>
          <a:blip r:embed="rId3"/>
          <a:srcRect l="0" t="25251" r="69395" b="16722"/>
          <a:stretch/>
        </p:blipFill>
        <p:spPr>
          <a:xfrm>
            <a:off x="-4680" y="6303960"/>
            <a:ext cx="2290680" cy="477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4"/>
          <a:stretch/>
        </p:blipFill>
        <p:spPr>
          <a:xfrm>
            <a:off x="2298600" y="6329520"/>
            <a:ext cx="943200" cy="47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5"/>
          <a:stretch/>
        </p:blipFill>
        <p:spPr>
          <a:xfrm>
            <a:off x="3390840" y="6291360"/>
            <a:ext cx="1187640" cy="471240"/>
          </a:xfrm>
          <a:prstGeom prst="rect">
            <a:avLst/>
          </a:prstGeom>
          <a:ln w="0">
            <a:noFill/>
          </a:ln>
        </p:spPr>
      </p:pic>
      <p:sp>
        <p:nvSpPr>
          <p:cNvPr id="95" name="Straight Connector 12"/>
          <p:cNvSpPr/>
          <p:nvPr/>
        </p:nvSpPr>
        <p:spPr>
          <a:xfrm>
            <a:off x="0" y="6194520"/>
            <a:ext cx="9144000" cy="1440"/>
          </a:xfrm>
          <a:prstGeom prst="line">
            <a:avLst/>
          </a:prstGeom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5359320" y="6326280"/>
            <a:ext cx="20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CG-3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901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Expectations and Requirements for SIT-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90680" y="3568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8eb4e3"/>
                </a:solidFill>
                <a:latin typeface="Calibri"/>
              </a:rPr>
              <a:t>G. Dy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How to get the strategy do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imise capacity of the writing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/GD capacity TB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ohn, Ake at ma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ed to leverage agency re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-scope the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all non-acquisition implementation ta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ither move to a separate work plan, or (maybe) into section 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nimal coverage of 2014 and 2015+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resentation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OS GFOI Strategy Elements (a remin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T-28 Expectations: Annual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ort Expec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nts for Endorsement from Princip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CEOS GFOI Strategy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498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iding document CEOS Plenary 2011 (Luc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CEOS STRATEGY FOR SPACE DATA COVERAGE AND CONTINUITY IN SUPPORT OF THE GEO GLOBAL FOREST OBSERVATIONS INITIATIVE (GFOI) AND FOREST CARBON TRACKING (FCT) TASK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line, coordinated global data acquisition strategy involving a number of ‘core data streams’ that can be used free-of-charge for GFOI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ordinated strategy for national data acquisi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upply in support of the FCT (R&amp;D? session 4)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Milest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3456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a complete element 1 global  baseline strategy to SIT-28 is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order not to miss one full year of the CEOS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order to confirm support from CEOS agencies for 2013 implementation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order to develop element 2 in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ct that at SIT-29 (20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ement 1 will be upd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ement 2 will be ready for endor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IT-28 Expec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CG Co-Leads have contacted SIT Chair to establish expectations for SIT-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-28 to establish a template for an annual cycle that focuses on the year ahead and seeks commitments from the satellite operator and data provider agencies for the necessary cove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IT-28 Expec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port will spell out how we propose to transition to an ongoing global coverage capability as new core data streams come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ing three epochs: 2013, 2014, and 2015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tion is to ask relevant principals to commit to the coverage plans indicated for the near future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Endorsement from Princip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seek endorsement of the overall global baseline strategy, its phasing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seek commitment from the data provider agencies for the 2013 implementation plan (in reality, this means just Landsat for n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Endorsement from Princip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spell out our proposed approach to element 2 of the GFOI data strategy, which addresses the specific needs of individual countries and will seek feedback from SIT and from Principals for its refin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an input to SIT-28 on rationalisation of the SDCG and LSI terms of reference (per the Plenary a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Endorsement from Princip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e how we can support a 2013 Pilot Delivery Exercise which will take the CEOS data acquisitions and provide a national dataset for a few of the National Demonstrator count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3:10:08Z</dcterms:created>
  <dc:creator>George Dyke</dc:creator>
  <dc:description/>
  <dc:language>en-US</dc:language>
  <cp:lastModifiedBy>George Dyke</cp:lastModifiedBy>
  <dcterms:modified xsi:type="dcterms:W3CDTF">2013-02-08T03:09:06Z</dcterms:modified>
  <cp:revision>375</cp:revision>
  <dc:subject/>
  <dc:title>Slide 1</dc:title>
</cp:coreProperties>
</file>