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4BCCA-EFE8-4C68-98D7-560A9B26A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0D6F3-3758-432B-A275-852804D9B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D55B7-A91A-4386-86FF-66C80309E8E4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BCE12-BAC1-462A-92A4-7A5E8A7DA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B5C59-F778-45D0-B31C-3E1F62C1B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5830B-E852-4AC0-8ABF-69C77AF48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655F5-5B6F-44AB-9944-0170754CA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8E98E-DB74-43A9-9CBD-867DF93B9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1D569-A43B-4A14-AE19-DC9B8BA7E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280DD-F834-4E7F-A35E-6D211F0B7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74352-8414-4528-A4AA-71B7745BB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F30F-2DD1-496B-B12C-DE6710FD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1D1D-387A-481C-9EE2-772A7B6E2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073C-3312-490A-9BDF-D464D2A2F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B5E9-5E35-4CE1-9DA2-637C97B44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E234-C79C-4038-8E16-DEEAE2B5D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8163-A30D-4958-B04F-9B9E9FEBC4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4140-2A1D-49BD-A8DA-F1421EBC64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F78E-250D-4EAB-811F-3FB62BE96A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55AE-D589-4182-AB7B-00D0809988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A412-F888-4EA4-879F-26B91595C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D1A6-F43C-43AB-A8BF-3D7791830F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2C00-6BEC-40AF-9196-89CCFADCBE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77A3-415B-4F7C-B712-793AED7293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FB23-A984-4EA3-B915-86B3652EF7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2B99-9E27-40FC-9A50-CEB87628EF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B184-84AE-4980-8F4F-EA663B40F6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CDAA-AC7F-4271-AAC8-96321FE26B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2E5E-B6F0-44F4-8751-EFA6B8AEC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031C-FA7E-4522-B982-743F0CD74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399B-71E6-4544-B3A0-13C20E372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BC9C-BA0B-44D7-81C5-72A423C1B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F010-F9F2-4FAD-A0BB-7637ADFB5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885E-215B-44A8-9D0C-2BD26EDBF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0B33-2551-455D-AE51-1F17F4753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E6F51-46E8-4AF4-BBAB-618283506EA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5F89A36E-9D5E-4335-BBED-F965A2B7B771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19880" y="6523200"/>
            <a:ext cx="341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FCT SDS-4 Meeting|Sydney, Australia| 4-6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A16FB-F356-4A60-8D94-BDB5247B1EA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716280" y="2363400"/>
            <a:ext cx="48276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692160" y="166680"/>
            <a:ext cx="549108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ndsat Data Delivery Appro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D8470-7072-463A-8A2D-E49B9CB02B9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andsat Data Delivery Approach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488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arth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GloVi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CEOS LSI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Manual &amp; Shi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UMETSAT GEONETCas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D3CAF-DCEF-4220-9996-743F1D66151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0" name="Picture 1" descr="EE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90CAD-9256-4C92-90EB-CF01EB35292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3" name="Picture 2" descr="EE2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44" name="Frame 3"/>
          <p:cNvSpPr/>
          <p:nvPr/>
        </p:nvSpPr>
        <p:spPr>
          <a:xfrm>
            <a:off x="-104760" y="1876320"/>
            <a:ext cx="3949560" cy="617760"/>
          </a:xfrm>
          <a:custGeom>
            <a:avLst/>
            <a:gdLst/>
            <a:ahLst/>
            <a:rect l="l" t="t" r="r" b="b"/>
            <a:pathLst>
              <a:path w="3949700" h="617538">
                <a:moveTo>
                  <a:pt x="0" y="0"/>
                </a:moveTo>
                <a:lnTo>
                  <a:pt x="3949700" y="0"/>
                </a:lnTo>
                <a:lnTo>
                  <a:pt x="3949700" y="617538"/>
                </a:lnTo>
                <a:lnTo>
                  <a:pt x="0" y="617538"/>
                </a:lnTo>
                <a:lnTo>
                  <a:pt x="0" y="0"/>
                </a:lnTo>
                <a:close/>
                <a:moveTo>
                  <a:pt x="77192" y="77192"/>
                </a:moveTo>
                <a:lnTo>
                  <a:pt x="77192" y="540346"/>
                </a:lnTo>
                <a:lnTo>
                  <a:pt x="3872508" y="540346"/>
                </a:lnTo>
                <a:lnTo>
                  <a:pt x="3872508" y="77192"/>
                </a:lnTo>
                <a:lnTo>
                  <a:pt x="77192" y="7719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75D7A-60B7-4392-9D2B-0DC253CD091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loVi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7" name="Picture 1" descr="GloVis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78727-ED76-415A-9AF8-682346B8640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LSI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0" name="Picture 1" descr="LSI1.jpeg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7D83C-479E-4B6B-A61C-F18E13BF554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nual &amp; Ship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520" y="2155680"/>
            <a:ext cx="834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urrent USGS FCT Mode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net Connectivit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py to USB Hard Disk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ip Disks Once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&gt; 10 TB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t Sustainable / Expandable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36FB2-8017-4AD9-A0BD-EA781B134E9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UMETSAT GEONETCas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03280" y="21556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tellite Downlink Service to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anzania Tes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GS to EUMETSAT to Tanzan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KSAT Facilita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alabl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A14C8-85EB-424C-B034-76F4EFA06CA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pace Data Coordination (Group)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14200" y="2155680"/>
            <a:ext cx="86407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60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Earth Explorer – http://earthexplorer.usgs.gov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GloVis - http://glovis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CEOS LSI Explorer - http://lsiexplorer.cr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569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2:39Z</dcterms:modified>
  <cp:revision>177</cp:revision>
  <dc:subject/>
  <dc:title>Title</dc:title>
</cp:coreProperties>
</file>