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DFC-76DC-4E49-A02C-E8BDE4E285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33F-F945-4BF9-A358-8B2EC5C33E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62ABEE-4D4E-4730-B8D9-35888A113BA6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108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66DE-4389-4881-8C4B-D0FA5C1EF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C27F-C70C-4326-8C3C-84DE3BC61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9589-1ED6-4558-8C9C-64AA6400D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5EC8-E1E0-4D16-BF1D-F18B3D99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D42-1C85-4B49-9E3A-7F0B381B3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51B-8532-4857-B7A8-CF0EF29BD7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3B0-484D-4031-81CD-FFE4DD85A8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B2D-C38E-4E04-BDF2-5C61832D7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C2D-80AF-4205-8C52-D314F69D0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4A4-A62B-4A8F-BB2A-FD6EF231E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E16-E3A5-4E1D-94F4-3B15A76B1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CDD9-54DF-4FC4-86D4-958469279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395-4F4E-4AB2-9C27-71DE91E05A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43B-0FE4-4CE6-B1BC-90B869389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8AC-CEE1-4017-9FA6-335189FDAE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C10-64BC-456E-8FAC-8EA1CAE7D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F05-6EF2-42AF-9637-77305D14E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A7B9-E741-4CA1-9406-1EF561006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1A5A-AD41-4252-AFED-010A631B0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D86E-4D98-483B-9B2E-20DD93474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EBCA-1CD8-46A6-A879-AA4F7A2F4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3256-25BD-435B-9210-0D42FD015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2A00-7CB6-43F8-832A-79713D139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5AA4-48DD-430A-B186-700C1C82C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9E114E6-2670-4179-AD7D-FBC38DD6DBF2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pic>
        <p:nvPicPr>
          <p:cNvPr id="43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\\psf\Host\Users\cd\Desktop\Startbild_4zu3-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afik 10" descr="dlr_signet.png"/>
          <p:cNvPicPr/>
          <p:nvPr/>
        </p:nvPicPr>
        <p:blipFill>
          <a:blip r:embed="rId5"/>
          <a:stretch/>
        </p:blipFill>
        <p:spPr>
          <a:xfrm>
            <a:off x="676440" y="5857920"/>
            <a:ext cx="857160" cy="76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E0EB421D-4EB9-49CD-9013-18E2A209A691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392120"/>
            <a:ext cx="7342200" cy="7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EOS 3</a:t>
            </a:r>
            <a:r>
              <a:rPr b="1" lang="en-US" sz="2400" spc="-1" strike="noStrike" baseline="30000">
                <a:solidFill>
                  <a:srgbClr val="4d4d4d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SDCG Meeting</a:t>
            </a:r>
            <a:br>
              <a:rPr sz="2400"/>
            </a:b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2158920"/>
            <a:ext cx="73422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86868"/>
                </a:solidFill>
                <a:latin typeface="Arial"/>
              </a:rPr>
              <a:t>Update on German Government Data Buy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r. Helmut Staudenra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LR Space Administration, Earth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helmut.staudenrausch@dlr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CE9AA6BD-1172-44C5-B38E-937976B1EB19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GFOI Science &amp; Data Summit, Sydney, 4-9 February, 2013&gt; Dr. Helmut Staudenrausc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ckground ist Action SDCG-2-2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ut Staudenrausch and Steven Hosford, in coordination with Line Steinbakk, to discuss coordination of SPOT and RapidEye acquisitions over the Congo Basin and Madaga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eye Archive could be checked  against shapefile of SPOT Congo Coverage provided by CNES at the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41EBB46-0FA5-4761-BF78-1B678D343017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2386D5D0-FE63-41A1-B25E-EBAC7AD79A14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5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5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45FAA9D7-7B7C-4375-BA8D-9D452DA2E97B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Grafik 5" descr=""/>
          <p:cNvPicPr/>
          <p:nvPr/>
        </p:nvPicPr>
        <p:blipFill>
          <a:blip r:embed="rId2"/>
          <a:stretch/>
        </p:blipFill>
        <p:spPr>
          <a:xfrm>
            <a:off x="-579600" y="0"/>
            <a:ext cx="969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6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0BF8268C-9252-4956-87F4-5BCFA1D49609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Grafik 5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9077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Spot Congobasin initiative presented at German REDD+ Monitoring Event last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some value in coordinating SPOT – RapidEye, but needs further analysis and information from French initiative on their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y for German-French collabo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B0490CB1-5294-4EC4-8A18-514B54158C90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TerraSAR-X Coverage of FCT Sit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311040" y="2276640"/>
            <a:ext cx="4189320" cy="1949400"/>
            <a:chOff x="311040" y="2276640"/>
            <a:chExt cx="4189320" cy="1949400"/>
          </a:xfrm>
        </p:grpSpPr>
        <p:pic>
          <p:nvPicPr>
            <p:cNvPr id="99" name="Picture 5" descr="carbon_bmc_afrika"/>
            <p:cNvPicPr/>
            <p:nvPr/>
          </p:nvPicPr>
          <p:blipFill>
            <a:blip r:embed="rId1"/>
            <a:stretch/>
          </p:blipFill>
          <p:spPr>
            <a:xfrm>
              <a:off x="311040" y="2276640"/>
              <a:ext cx="418932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311040" y="37162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4716360" y="1486080"/>
            <a:ext cx="4176720" cy="1942920"/>
            <a:chOff x="4716360" y="1486080"/>
            <a:chExt cx="4176720" cy="1942920"/>
          </a:xfrm>
        </p:grpSpPr>
        <p:pic>
          <p:nvPicPr>
            <p:cNvPr id="102" name="Picture 6" descr="carbon_bmc_indonesien"/>
            <p:cNvPicPr/>
            <p:nvPr/>
          </p:nvPicPr>
          <p:blipFill>
            <a:blip r:embed="rId2"/>
            <a:stretch/>
          </p:blipFill>
          <p:spPr>
            <a:xfrm>
              <a:off x="4716360" y="148608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/>
            <p:cNvSpPr/>
            <p:nvPr/>
          </p:nvSpPr>
          <p:spPr>
            <a:xfrm>
              <a:off x="6300720" y="16304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ones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92160" y="4194000"/>
            <a:ext cx="4176720" cy="1942920"/>
            <a:chOff x="92160" y="4194000"/>
            <a:chExt cx="4176720" cy="1942920"/>
          </a:xfrm>
        </p:grpSpPr>
        <p:pic>
          <p:nvPicPr>
            <p:cNvPr id="105" name="Picture 9" descr="carbon_bmc_tasmanien"/>
            <p:cNvPicPr/>
            <p:nvPr/>
          </p:nvPicPr>
          <p:blipFill>
            <a:blip r:embed="rId3"/>
            <a:stretch/>
          </p:blipFill>
          <p:spPr>
            <a:xfrm>
              <a:off x="92160" y="4194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308160" y="5562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5148360" y="3284640"/>
            <a:ext cx="4176720" cy="1942920"/>
            <a:chOff x="5148360" y="3284640"/>
            <a:chExt cx="4176720" cy="1942920"/>
          </a:xfrm>
        </p:grpSpPr>
        <p:pic>
          <p:nvPicPr>
            <p:cNvPr id="108" name="Picture 8" descr="carbon_bmc_suedamerika"/>
            <p:cNvPicPr/>
            <p:nvPr/>
          </p:nvPicPr>
          <p:blipFill>
            <a:blip r:embed="rId4"/>
            <a:stretch/>
          </p:blipFill>
          <p:spPr>
            <a:xfrm>
              <a:off x="5148360" y="328464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7885440" y="350208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2843280" y="4869000"/>
            <a:ext cx="4176720" cy="1942920"/>
            <a:chOff x="2843280" y="4869000"/>
            <a:chExt cx="4176720" cy="1942920"/>
          </a:xfrm>
        </p:grpSpPr>
        <p:pic>
          <p:nvPicPr>
            <p:cNvPr id="111" name="Picture 7" descr="carbon_bmc_mexiko"/>
            <p:cNvPicPr/>
            <p:nvPr/>
          </p:nvPicPr>
          <p:blipFill>
            <a:blip r:embed="rId5"/>
            <a:stretch/>
          </p:blipFill>
          <p:spPr>
            <a:xfrm>
              <a:off x="2843280" y="4869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4"/>
            <p:cNvSpPr/>
            <p:nvPr/>
          </p:nvSpPr>
          <p:spPr>
            <a:xfrm>
              <a:off x="5723280" y="5111640"/>
              <a:ext cx="93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entral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Rechteck 1"/>
          <p:cNvSpPr/>
          <p:nvPr/>
        </p:nvSpPr>
        <p:spPr>
          <a:xfrm>
            <a:off x="539640" y="12682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5 sites obser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umerous data takes available in the DLR archive, and continued. StripMap Mode,      dual polarized (HH/HV and VV/V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416720" cy="388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9948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Status TanDEM-X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3200400" y="647712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45B312B-FBEA-4B78-AC5B-BBC55701F99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&gt; February 2012 &gt; DLR Space Adnistration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haltsplatzhalter 1"/>
          <p:cNvSpPr/>
          <p:nvPr/>
        </p:nvSpPr>
        <p:spPr>
          <a:xfrm>
            <a:off x="324000" y="119700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First full global coverage completed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underway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/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coverage expected to be completed by end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EM (90 m resolution) will be offered for scientific explo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ataset (~6 m resolution) offered for GFOI under special te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6300720" y="5454720"/>
            <a:ext cx="28447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Summary – DLR Data access for GFOI R&amp;D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rraSAR-X: DLR Science Service Seg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sss.terrasar-x.dlr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nDEM-X (DEM) data access: https://tandemx-science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Eye data available through RapidEye company directly, but scientific exploitation also through DLR RapidEye Science Arch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resaweb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ation between international GFOI R&amp;D groups and German researchers sought. Contacts can b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LR ready for more coordinated approach with respect to GFOI R&amp;D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 CE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TerraSAR-X and TanDEM-X Summary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74312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436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Private Partnership between DLR and EADS Astrium Germ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th satellites – TerraSAR-X and TanDEM-X – are in very good healt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inue/optimize acquisition for validation sites, support scientific exploitation of data, continuity (Constellation with Paz, TerraSAR-X NG) plan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55640" y="1969920"/>
            <a:ext cx="351000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DL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Project &amp; Miss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G/S Development &amp; O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ystem Engineering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cience Coordination/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913280" y="1969920"/>
            <a:ext cx="338472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Astrium Geo-Information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ervice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Information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Commercial 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haltsplatzhalter 1"/>
          <p:cNvSpPr/>
          <p:nvPr/>
        </p:nvSpPr>
        <p:spPr>
          <a:xfrm>
            <a:off x="755640" y="4057560"/>
            <a:ext cx="3887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Actual GFOI R&amp;D (FCT)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CT Validation sites are established as background mi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Data access along DLR procedu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haltsplatzhalter 1"/>
          <p:cNvSpPr/>
          <p:nvPr/>
        </p:nvSpPr>
        <p:spPr>
          <a:xfrm>
            <a:off x="5003640" y="4062240"/>
            <a:ext cx="4140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Potential GFOI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Bilateral demonstration projects existing/envisaged (Africa, Latin Americ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ramework needed  for „GFOI approach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feil nach unten 1"/>
          <p:cNvSpPr/>
          <p:nvPr/>
        </p:nvSpPr>
        <p:spPr>
          <a:xfrm>
            <a:off x="2174760" y="3625920"/>
            <a:ext cx="5256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feil nach unten 10"/>
          <p:cNvSpPr/>
          <p:nvPr/>
        </p:nvSpPr>
        <p:spPr>
          <a:xfrm>
            <a:off x="6280200" y="3625920"/>
            <a:ext cx="5238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relevant DLR activit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ding development/improvement of relevant methods for REDD+ and GFOI, such as automated, large area monitoring of changes in forest cover and landuse, forest degrad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cus on synergistic use of Sentinels and German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rdination/collaboration with GFOI teams being s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-CARBON Project (starting in May 2013, Humboldt-Uni Berlin, Uni Bonn, Study area in Amaz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shop with relevant German officials, providers, researchers and international partners (see www.d-geo.de/red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of literature study and database (see www.redd.uni-jena.de/index_en.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2AE631BE-708B-4B28-B6E7-9C25ABFEE84D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82172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German REDD+ development cooperatio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618" t="16327" r="2981" b="9920"/>
          <a:stretch/>
        </p:blipFill>
        <p:spPr>
          <a:xfrm>
            <a:off x="5219640" y="4522680"/>
            <a:ext cx="3905280" cy="231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4000" y="1412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ous bilateral activities, incl. Satellite data, monitoring systems and related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going MRV projects in SADC, Ghana, Indonesia, Latin Ame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on, investment  of € 500 Mio/year for forestry and biod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“REDD Early Movers” program providing, among others, performance payments for quantified emission re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vestor in the Forest Carbon Partnership Facility (FCPF) and other multilatera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CI financed Project for  REDD+ MRV implementation in 18 (?) countries additional to UN-RED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Mexico and adjacent countries (southwards)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fer of Mexican NFMS to other regions in Meso-America, as a South2South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ation proposed to German Government for funding (Colombia,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ludes RapidEye wall2wall proposed as cooperation with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SX/TDX Data also proposed to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riching Mexican NFMS with  TSX/TD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851F358C-0EE9-4A0E-B7AA-05E692971DE1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countr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onesia (ForClime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DC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ly: No clear overall picture concerning data buy involved in all of these activities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3A5C0D9C-FB21-4510-8FC3-B535CE3D0B2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6:51:55Z</dcterms:created>
  <dc:creator>Mayerhofer, Ludwig</dc:creator>
  <dc:description/>
  <dc:language>en-US</dc:language>
  <cp:lastModifiedBy>Staudenrausch, Helmut</cp:lastModifiedBy>
  <dcterms:modified xsi:type="dcterms:W3CDTF">2013-02-08T00:36:16Z</dcterms:modified>
  <cp:revision>84</cp:revision>
  <dc:subject/>
  <dc:title>PowerPoint-Präsentation</dc:title>
</cp:coreProperties>
</file>