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A0831-9F4D-4E03-9BAF-6FDB42BBF415}"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DD3B1-5D9D-4D4D-9663-FD2148646D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C252A-336F-4A6F-A6D4-F457CD5284DD}"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328AC-2F95-4AA7-BDA3-BC9FE349D6C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0B7B9-F862-440C-8D9A-06ECBA425A5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06E6F-D5D3-4285-B5BF-B48BBF889AD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4E770-9D42-4622-8660-4ED5073286D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119A7-269A-42D8-97CB-14349A6CEAD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D6A3F-7072-4EA0-A798-CCFF666FBA2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ED7C6-9FEB-436A-A631-2723F1AA2AD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F22BB-D38C-4F45-B614-72C031EF2E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8E495919-818B-4373-846F-2C39C9CC65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76E0E372-8AC0-45F6-82C9-30C2986B39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2B3F58B4-A531-40DD-8B13-3A364FF54A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5623EB54-21A0-4136-9AC2-C4FE201206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D78F65-866B-4287-AF57-E2A0119698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55EA0F6A-A765-4BF3-A398-9281669119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82BB8B80-731E-44D9-86DC-C95A11A289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E0CA7103-BB8C-4617-8770-BD7A49B6D4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FAE1226C-EFE1-4840-B489-2257E233B3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3646DBCF-9487-4449-91EE-A64095CAA1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491955CF-2A34-4568-A2F6-4345ABD4BE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C1DEE1DE-2B46-4CEB-930D-899524A71D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692FB1A2-0C13-4665-AB9F-CE0286D748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A1F45F4-A588-42C7-84BA-E4AFDC3FE7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18B122DB-685C-4089-9710-14B54C7AE2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CFEB2973-AE08-4386-A0E3-8AEFB84B27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523DA5BD-5DAF-425A-8911-CED76DC04C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434F19BB-3ED6-479A-A0A8-65BC576694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70D36D20-0F1F-4946-B9F8-F9A12BFE85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32ABAD03-5637-4117-A40B-91B3F2FDFB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879F3381-768C-4FFC-A1EA-4EB9778821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C751EF58-E96B-400E-B0EC-EB21669810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0EC1C6CE-5D27-4805-BE41-74AFEFDA83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87EF1-554F-46B9-970C-57B16B49A0B7}"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2C34F5D5-06A4-49C3-A684-625A166443A9}"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45379-ACA3-4798-9F24-E8FCF17F68EC}"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363400"/>
            <a:ext cx="482616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pace Data Coordination Group (SDCG)</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ke Rosenqvist, for NSC</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ank-Martin Seifert, ESA</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3680" y="166680"/>
            <a:ext cx="5170320" cy="1535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ffff"/>
                </a:solidFill>
                <a:latin typeface="Arial"/>
              </a:rPr>
              <a:t>GFOI Space Data Acquisition Plan</a:t>
            </a:r>
            <a:br>
              <a:rPr sz="2400"/>
            </a:br>
            <a:r>
              <a:rPr b="1" lang="en-US" sz="2400" spc="-1" strike="noStrike">
                <a:solidFill>
                  <a:srgbClr val="ffff00"/>
                </a:solidFill>
                <a:latin typeface="Arial"/>
              </a:rPr>
              <a:t>Element 2</a:t>
            </a:r>
            <a:br>
              <a:rPr sz="2400"/>
            </a:br>
            <a:r>
              <a:rPr b="1" lang="en-US" sz="2400" spc="-1" strike="noStrike">
                <a:solidFill>
                  <a:srgbClr val="ffff00"/>
                </a:solidFill>
                <a:latin typeface="Arial"/>
              </a:rPr>
              <a:t>National Data Acquisitions </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CB5EC-D952-4C84-9CB4-E4D7DE2FBCD8}"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p:txBody>
      </p:sp>
      <p:sp>
        <p:nvSpPr>
          <p:cNvPr id="137" name="TextBox 6"/>
          <p:cNvSpPr/>
          <p:nvPr/>
        </p:nvSpPr>
        <p:spPr>
          <a:xfrm>
            <a:off x="533520" y="2155680"/>
            <a:ext cx="8076960" cy="27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2569"/>
                </a:solidFill>
                <a:latin typeface="Arial"/>
              </a:rPr>
              <a:t>In 2013, the SDCG should develop a process and mechanism to invite countries to express specific national needs which require coordination of acquisitions across SDCG members, and with non-SDCG member providers.</a:t>
            </a:r>
            <a:endParaRPr b="0" lang="en-US" sz="28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C90DA-0124-4640-9C3F-0E805D7B785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 Element 2</a:t>
            </a:r>
            <a:endParaRPr b="0" lang="en-US" sz="3200" spc="-1" strike="noStrike">
              <a:solidFill>
                <a:srgbClr val="002569"/>
              </a:solidFill>
              <a:latin typeface="Arial"/>
            </a:endParaRPr>
          </a:p>
        </p:txBody>
      </p:sp>
      <p:sp>
        <p:nvSpPr>
          <p:cNvPr id="140" name="TextBox 6"/>
          <p:cNvSpPr/>
          <p:nvPr/>
        </p:nvSpPr>
        <p:spPr>
          <a:xfrm>
            <a:off x="326880" y="1654200"/>
            <a:ext cx="871560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2569"/>
                </a:solidFill>
                <a:latin typeface="Arial"/>
              </a:rPr>
              <a:t>A coordinated strategy for national data acquisitions</a:t>
            </a:r>
            <a:r>
              <a:rPr b="0" lang="en-GB" sz="2400" spc="-1" strike="noStrike">
                <a:solidFill>
                  <a:srgbClr val="002569"/>
                </a:solidFill>
                <a:latin typeface="Arial"/>
              </a:rPr>
              <a:t> </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Accommodate countries having…</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Specific technical requirements</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Heritage</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Experience</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Intergovernmental arrangements</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Commercial EO data</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SDCG focus has been on Element 1</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569"/>
                </a:solidFill>
                <a:latin typeface="Arial"/>
                <a:ea typeface="ＭＳ Ｐゴシック"/>
              </a:rPr>
              <a:t>Global Baseline Acquisition Strategy</a:t>
            </a: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3DF27-3C84-45D6-89E3-024E80EA0833}"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 Mechanism</a:t>
            </a:r>
            <a:endParaRPr b="0" lang="en-US" sz="3200" spc="-1" strike="noStrike">
              <a:solidFill>
                <a:srgbClr val="002569"/>
              </a:solidFill>
              <a:latin typeface="Arial"/>
            </a:endParaRPr>
          </a:p>
        </p:txBody>
      </p:sp>
      <p:sp>
        <p:nvSpPr>
          <p:cNvPr id="143" name="TextBox 6"/>
          <p:cNvSpPr/>
          <p:nvPr/>
        </p:nvSpPr>
        <p:spPr>
          <a:xfrm>
            <a:off x="244440" y="1352520"/>
            <a:ext cx="8899560" cy="5653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Publicise, coordinated, delivered through GFOI Project Office</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SDCG assistance</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Offered as a service to GFOI participating countri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Not mandatory to participate in GFOI</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Countries with identified national need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UN-REDD</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World Bank FCPF</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Facilitated through top-level national authoriti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Ministry, department, agency</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directly involved in developing MRV system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SDCG may have to limit number of countries supported</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SDCG facilitates acquisition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Could provide a preview of potential national coverage </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569"/>
                </a:solidFill>
                <a:latin typeface="Arial"/>
                <a:ea typeface="ＭＳ Ｐゴシック"/>
              </a:rPr>
              <a:t>Facilitate communication to/from non-CEOS providers</a:t>
            </a:r>
            <a:endParaRPr b="0" lang="en-US" sz="2400" spc="-1" strike="noStrike">
              <a:solidFill>
                <a:srgbClr val="002569"/>
              </a:solidFill>
              <a:latin typeface="Arial"/>
            </a:endParaRPr>
          </a:p>
          <a:p>
            <a:pPr lvl="1" marL="800280" indent="-343080">
              <a:lnSpc>
                <a:spcPct val="12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62C0A-CD0C-4A7C-AC9F-AE4E5E89ABD3}"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 Issues</a:t>
            </a:r>
            <a:endParaRPr b="0" lang="en-US" sz="3200" spc="-1" strike="noStrike">
              <a:solidFill>
                <a:srgbClr val="002569"/>
              </a:solidFill>
              <a:latin typeface="Arial"/>
            </a:endParaRPr>
          </a:p>
        </p:txBody>
      </p:sp>
      <p:sp>
        <p:nvSpPr>
          <p:cNvPr id="146" name="TextBox 6"/>
          <p:cNvSpPr/>
          <p:nvPr/>
        </p:nvSpPr>
        <p:spPr>
          <a:xfrm>
            <a:off x="533520" y="2155680"/>
            <a:ext cx="8076960" cy="419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GFOI Project Office resources and relationship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Linkages between GFOI Project Office….</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SDCG</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Top-level national authoriti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Non-CEOS EO data provider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Public-Private Partnership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Overall interface between GFOI Project Office &amp; SDCG</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SDCG agency resourc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Availability</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Depth</a:t>
            </a:r>
            <a:endParaRPr b="0" lang="en-US" sz="2400" spc="-1" strike="noStrike">
              <a:solidFill>
                <a:srgbClr val="002569"/>
              </a:solidFill>
              <a:latin typeface="Arial"/>
            </a:endParaRPr>
          </a:p>
          <a:p>
            <a:pPr lvl="1" marL="800280" indent="-343080">
              <a:lnSpc>
                <a:spcPct val="12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6312E-F038-4558-BA77-F82AE857ED5A}"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ext Step</a:t>
            </a:r>
            <a:endParaRPr b="0" lang="en-US" sz="3200" spc="-1" strike="noStrike">
              <a:solidFill>
                <a:srgbClr val="002569"/>
              </a:solidFill>
              <a:latin typeface="Arial"/>
            </a:endParaRPr>
          </a:p>
        </p:txBody>
      </p:sp>
      <p:sp>
        <p:nvSpPr>
          <p:cNvPr id="149" name="TextBox 6"/>
          <p:cNvSpPr/>
          <p:nvPr/>
        </p:nvSpPr>
        <p:spPr>
          <a:xfrm>
            <a:off x="533520" y="2155680"/>
            <a:ext cx="8264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2569"/>
                </a:solidFill>
                <a:latin typeface="Arial"/>
              </a:rPr>
              <a:t>The SDCG should define and document the element 2 strategy in coordination with SDCG participating agencies, CEOS leadership and member agencies, the GFOI Project Office, and key national stake holders. An update on the progress towards the development of element 2 will be provided to CEOS Plenary in November 2013, and will be presented for approval at SIT-29.</a:t>
            </a:r>
            <a:endParaRPr b="0" lang="en-US" sz="2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459D6-F99F-46C8-842B-0AAAAC42BBB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Implementation</a:t>
            </a:r>
            <a:endParaRPr b="0" lang="en-US" sz="3200" spc="-1" strike="noStrike">
              <a:solidFill>
                <a:srgbClr val="002569"/>
              </a:solidFill>
              <a:latin typeface="Arial"/>
            </a:endParaRPr>
          </a:p>
        </p:txBody>
      </p:sp>
      <p:sp>
        <p:nvSpPr>
          <p:cNvPr id="152" name="TextBox 6"/>
          <p:cNvSpPr/>
          <p:nvPr/>
        </p:nvSpPr>
        <p:spPr>
          <a:xfrm>
            <a:off x="533520" y="2155680"/>
            <a:ext cx="8076960" cy="345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rPr>
              <a:t>Implementation of the element 2 should begin in 2014, and should start with a pilot phase, working with a limited number of countries in order to demonstrate that the coordination process is effective and can be sustained. A recommendation on which pilot countries should be engaged will be provided by SDCG based on existing relationships, and in support of the data delivery activity that is only now beginning.</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9374E-273B-4CD2-8A57-1BB0F1A83C2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p:txBody>
      </p:sp>
      <p:sp>
        <p:nvSpPr>
          <p:cNvPr id="155" name="TextBox 6"/>
          <p:cNvSpPr/>
          <p:nvPr/>
        </p:nvSpPr>
        <p:spPr>
          <a:xfrm>
            <a:off x="533520" y="2155680"/>
            <a:ext cx="8076960" cy="210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2569"/>
                </a:solidFill>
                <a:latin typeface="Arial"/>
              </a:rPr>
              <a:t>Discussion</a:t>
            </a:r>
            <a:endParaRPr b="0" lang="en-US" sz="60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Skotte Australia</cp:lastModifiedBy>
  <dcterms:modified xsi:type="dcterms:W3CDTF">2013-02-07T23:30:33Z</dcterms:modified>
  <cp:revision>172</cp:revision>
  <dc:subject/>
  <dc:title>Title</dc:title>
</cp:coreProperties>
</file>