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559A4-142F-42F8-8F18-1957AF779A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224F8-4E2E-4FB8-8A3E-2C0795645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2B0A0B-15BE-40A5-BFF3-EE02306B1253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052B6-DC91-4D87-98CE-0718ADDE6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6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4E69B-70D4-4B57-91C9-3696F1927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0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6957F-BC06-4C59-B346-A7308741F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4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B7E39-A5E2-4665-AEED-F8E58C223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8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7C1EF-C3F3-4B53-AA24-51838F7C8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2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AB418-FD56-46BB-AC9F-A0AFE8E53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6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06BEF-CF00-4ABF-8798-C3B00AA14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0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2E4E7-3970-48C0-B4E8-1BEB9E6B4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4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0460-088A-4D10-B0E4-11A682D78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D0D3-EBFE-420E-9BFF-38FA0E494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94B1-A913-442F-A940-4E8B5AF13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C4BA-B4EB-4133-8B79-558FA6529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63D5-E567-4512-9C36-2257A293D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7E15F-343A-43E7-989A-16BBC89FB4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B217A-EAF3-40E7-AB9B-92FCE3E668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D60E0-8AE1-4D33-8E21-9EA757F7DE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F6058-AEF8-4C3D-8927-1A9F03D961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133B1-217E-4FF0-AA0F-E6AA7D6E0D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9D18-9311-48D4-8F2B-C3FC6014BD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35542-CAC8-4B2F-9171-91A8DCAA3B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2D8B-05CF-4BC7-AB6C-3993311274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4D554-82BE-424D-ABCB-7CE07B6B2D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F08AF-0EFD-49CC-9963-2844642AE7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F03A5-AA44-4267-B4C9-EF2F6642F5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D67E6-65CA-40BB-A982-366A5FBDCF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CF52E-8942-4073-B711-E5D7F8DF9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FA98-C798-456F-9213-1698E9275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38917-788F-4283-B1CE-7A9519530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C39A-6802-4B8C-8C0B-A207206F7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1682-B235-46EE-A443-D1972563F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611E-B7CC-4AE0-93CF-7955C05EB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BFD7-EC05-4B29-A91D-290EC6795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DS-4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4-6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890D0-D6FA-4273-BFC7-1618E747C6AE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0296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D02CC743-175F-44F9-857F-D38575E447BD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1019880" y="6523200"/>
            <a:ext cx="341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FCT SDS-4 Meeting|Sydney, Australia| 4-6 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DS-4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4-6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3680B-CFE2-4A58-BBDE-5A92DD26037C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716280" y="2363400"/>
            <a:ext cx="482760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John Faundeen, USGS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692160" y="166680"/>
            <a:ext cx="549108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ndsat Data Delivery Approach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AC05C-7CB1-4064-B295-A9A24C6F724A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Landsat Data Delivery Approache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533520" y="2155680"/>
            <a:ext cx="8488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Earth Explorer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GloVi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CEOS LSI Explorer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Manual &amp; Ship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EUMETSAT GEONETCast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DF059-591F-4141-AD51-B848A456925E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arth Explorer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0" name="Picture 1" descr="EE1.jpeg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4C497-497A-4901-B879-E8DF07E3A4F4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arth Explorer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3" name="Picture 2" descr="EE2.jpeg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144" name="Frame 3"/>
          <p:cNvSpPr/>
          <p:nvPr/>
        </p:nvSpPr>
        <p:spPr>
          <a:xfrm>
            <a:off x="-104760" y="1876320"/>
            <a:ext cx="3949560" cy="617760"/>
          </a:xfrm>
          <a:custGeom>
            <a:avLst/>
            <a:gdLst/>
            <a:ahLst/>
            <a:rect l="l" t="t" r="r" b="b"/>
            <a:pathLst>
              <a:path w="3949700" h="617538">
                <a:moveTo>
                  <a:pt x="0" y="0"/>
                </a:moveTo>
                <a:lnTo>
                  <a:pt x="3949700" y="0"/>
                </a:lnTo>
                <a:lnTo>
                  <a:pt x="3949700" y="617538"/>
                </a:lnTo>
                <a:lnTo>
                  <a:pt x="0" y="617538"/>
                </a:lnTo>
                <a:lnTo>
                  <a:pt x="0" y="0"/>
                </a:lnTo>
                <a:close/>
                <a:moveTo>
                  <a:pt x="77192" y="77192"/>
                </a:moveTo>
                <a:lnTo>
                  <a:pt x="77192" y="540346"/>
                </a:lnTo>
                <a:lnTo>
                  <a:pt x="3872508" y="540346"/>
                </a:lnTo>
                <a:lnTo>
                  <a:pt x="3872508" y="77192"/>
                </a:lnTo>
                <a:lnTo>
                  <a:pt x="77192" y="7719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BF9A5-7E47-4649-95F6-F310A45E0A0A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GloVi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7" name="Picture 1" descr="GloVis1.jpeg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5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7FFE5-73FE-4A78-85BD-152DB6793CC7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9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EOS LSI Explorer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50" name="Picture 1" descr="LSI1.jpeg"/>
          <p:cNvPicPr/>
          <p:nvPr/>
        </p:nvPicPr>
        <p:blipFill>
          <a:blip r:embed="rId1"/>
          <a:stretch/>
        </p:blipFill>
        <p:spPr>
          <a:xfrm>
            <a:off x="0" y="1008000"/>
            <a:ext cx="9144000" cy="586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0577F-971F-4BFD-9BBC-F2810359F002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anual &amp; Ship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533520" y="2155680"/>
            <a:ext cx="8343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urrent USGS FCT Model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ternet Connectivity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py to USB Hard Disk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hip Disks Once / Year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&gt; 10 TB / Year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Not Sustainable / Expandable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3027D-790B-466B-9748-28D99CD17BCD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5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UMETSAT GEONETCas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503280" y="2155680"/>
            <a:ext cx="86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atellite Downlink Service to Africa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Tanzania Tes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USGS to EUMETSAT to Tanzania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KSAT Facilitating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calabl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0CCB8-41B3-4950-91B4-A046E80BEF5B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pace Data Coordination (Group)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214200" y="2155680"/>
            <a:ext cx="8640720" cy="44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6000" spc="-1" strike="noStrike">
                <a:solidFill>
                  <a:srgbClr val="002569"/>
                </a:solidFill>
                <a:latin typeface="Arial"/>
              </a:rPr>
              <a:t>Questions</a:t>
            </a:r>
            <a:endParaRPr b="0" lang="en-US" sz="6000" spc="-1" strike="noStrike">
              <a:solidFill>
                <a:srgbClr val="002569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2569"/>
                </a:solidFill>
                <a:latin typeface="Arial"/>
              </a:rPr>
              <a:t>Earth Explorer – http://earthexplorer.usgs.gov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2569"/>
                </a:solidFill>
                <a:latin typeface="Arial"/>
              </a:rPr>
              <a:t>GloVis - http://glovis.usgs.gov/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2569"/>
                </a:solidFill>
                <a:latin typeface="Arial"/>
              </a:rPr>
              <a:t>CEOS LSI Explorer - http://lsiexplorer.cr.usgs.gov/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569"/>
              </a:buClr>
              <a:buFont typeface="Lucida Grande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1:11:17Z</dcterms:created>
  <dc:creator>Brian Killough</dc:creator>
  <dc:description/>
  <dc:language>en-US</dc:language>
  <cp:lastModifiedBy>Skotte Australia</cp:lastModifiedBy>
  <dcterms:modified xsi:type="dcterms:W3CDTF">2013-02-07T23:32:39Z</dcterms:modified>
  <cp:revision>177</cp:revision>
  <dc:subject/>
  <dc:title>Title</dc:title>
</cp:coreProperties>
</file>