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56F-E539-40DF-BC4D-9F0D9AC1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B03-B925-4443-886D-F3CB64D7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164-BD03-4774-B4CC-8168873B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ACD-1F0F-4445-9049-1BEBBB6A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8A8-AD15-426A-B65B-872D734C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622-736F-4756-BFB1-3A0C34D1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1E8-9A8A-49E6-8A68-032BAB24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F99-0EFA-4321-8BC6-7AA3F47F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EC0-6189-4B83-9DA3-93EA0E20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AAC-6809-4A8B-8EE4-8AEC412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75D-B8B4-44C3-B56D-942FFB61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D38-B66B-4355-B701-508A980A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1B4CB-E6EF-4046-AE1A-0005BCD4A4C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bacc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DCG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USGS HQ @ Reston (Va)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ept 13-14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D8622-44DE-46FB-B7A2-F2B2CA213B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901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ESSION 2: GLOBAL BASELINE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9068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port Overall Statu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8eb4e3"/>
                </a:solidFill>
                <a:latin typeface="Calibri"/>
              </a:rPr>
              <a:t>G. Dy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2014 Element 1 Strategy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lternate Process 15"/>
          <p:cNvSpPr/>
          <p:nvPr/>
        </p:nvSpPr>
        <p:spPr>
          <a:xfrm>
            <a:off x="6197760" y="303372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entinel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lternate Process 17"/>
          <p:cNvSpPr/>
          <p:nvPr/>
        </p:nvSpPr>
        <p:spPr>
          <a:xfrm>
            <a:off x="6197760" y="158760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CBERS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1"/>
          <p:cNvGrpSpPr/>
          <p:nvPr/>
        </p:nvGrpSpPr>
        <p:grpSpPr>
          <a:xfrm>
            <a:off x="542880" y="1587600"/>
            <a:ext cx="5133960" cy="2651040"/>
            <a:chOff x="542880" y="1587600"/>
            <a:chExt cx="5133960" cy="2651040"/>
          </a:xfrm>
        </p:grpSpPr>
        <p:sp>
          <p:nvSpPr>
            <p:cNvPr id="186" name="Rounded Rectangle 22"/>
            <p:cNvSpPr/>
            <p:nvPr/>
          </p:nvSpPr>
          <p:spPr>
            <a:xfrm>
              <a:off x="542880" y="1587600"/>
              <a:ext cx="5133960" cy="265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5"/>
            <p:cNvGrpSpPr/>
            <p:nvPr/>
          </p:nvGrpSpPr>
          <p:grpSpPr>
            <a:xfrm>
              <a:off x="1168200" y="1834920"/>
              <a:ext cx="3912480" cy="2177640"/>
              <a:chOff x="1168200" y="1834920"/>
              <a:chExt cx="3912480" cy="2177640"/>
            </a:xfrm>
          </p:grpSpPr>
          <p:sp>
            <p:nvSpPr>
              <p:cNvPr id="188" name="Alternate Process 37"/>
              <p:cNvSpPr/>
              <p:nvPr/>
            </p:nvSpPr>
            <p:spPr>
              <a:xfrm>
                <a:off x="116820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LS-7/LS-8 Global Covera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lternate Process 38"/>
              <p:cNvSpPr/>
              <p:nvPr/>
            </p:nvSpPr>
            <p:spPr>
              <a:xfrm>
                <a:off x="257364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9a99"/>
                  </a:gs>
                  <a:gs pos="100000">
                    <a:srgbClr val="d1403c"/>
                  </a:gs>
                </a:gsLst>
                <a:lin ang="54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What about clouds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lternate Process 39"/>
              <p:cNvSpPr/>
              <p:nvPr/>
            </p:nvSpPr>
            <p:spPr>
              <a:xfrm>
                <a:off x="400428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Assess impact of clouds (SEO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lternate Process 40"/>
              <p:cNvSpPr/>
              <p:nvPr/>
            </p:nvSpPr>
            <p:spPr>
              <a:xfrm>
                <a:off x="116820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Suggest Mitiga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lternate Process 41"/>
              <p:cNvSpPr/>
              <p:nvPr/>
            </p:nvSpPr>
            <p:spPr>
              <a:xfrm>
                <a:off x="2426040" y="2857320"/>
                <a:ext cx="1458000" cy="993240"/>
              </a:xfrm>
              <a:prstGeom prst="flowChartAlternateProcess">
                <a:avLst/>
              </a:prstGeom>
              <a:noFill/>
              <a:ln w="38160">
                <a:solidFill>
                  <a:srgbClr val="9bbb59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0" bIns="46800" anchor="ctr">
                <a:noAutofit/>
              </a:bodyPr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LTAP Modificati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Pixel Min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Wait for the caval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elective C-Band SA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CBERS/S-2 for revisi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AOCOM-1 for L-Band?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3" name="Straight Arrow Connector 42"/>
              <p:cNvCxnSpPr>
                <a:stCxn id="188" idx="3"/>
                <a:endCxn id="189" idx="1"/>
              </p:cNvCxnSpPr>
              <p:nvPr/>
            </p:nvCxnSpPr>
            <p:spPr>
              <a:xfrm>
                <a:off x="2244600" y="2142720"/>
                <a:ext cx="3297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194" name="Straight Arrow Connector 43"/>
              <p:cNvCxnSpPr>
                <a:stCxn id="189" idx="3"/>
                <a:endCxn id="190" idx="1"/>
              </p:cNvCxnSpPr>
              <p:nvPr/>
            </p:nvCxnSpPr>
            <p:spPr>
              <a:xfrm>
                <a:off x="3650400" y="2142720"/>
                <a:ext cx="35388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195" name="Elbow Connector 44"/>
              <p:cNvCxnSpPr>
                <a:stCxn id="190" idx="2"/>
                <a:endCxn id="191" idx="0"/>
              </p:cNvCxnSpPr>
              <p:nvPr/>
            </p:nvCxnSpPr>
            <p:spPr>
              <a:xfrm rot="5400000">
                <a:off x="2827080" y="1330560"/>
                <a:ext cx="594720" cy="2836440"/>
              </a:xfrm>
              <a:prstGeom prst="bentConnector3">
                <a:avLst>
                  <a:gd name="adj1" fmla="val 34645"/>
                </a:avLst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196" name="Straight Arrow Connector 45"/>
              <p:cNvCxnSpPr>
                <a:stCxn id="191" idx="3"/>
                <a:endCxn id="192" idx="1"/>
              </p:cNvCxnSpPr>
              <p:nvPr/>
            </p:nvCxnSpPr>
            <p:spPr>
              <a:xfrm>
                <a:off x="2244600" y="3353400"/>
                <a:ext cx="1821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197" name="Alternate Process 46"/>
              <p:cNvSpPr/>
              <p:nvPr/>
            </p:nvSpPr>
            <p:spPr>
              <a:xfrm>
                <a:off x="400428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5eeff"/>
                  </a:gs>
                  <a:gs pos="100000">
                    <a:srgbClr val="39b7d8"/>
                  </a:gs>
                </a:gsLst>
                <a:lin ang="54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900" spc="-1" strike="noStrike">
                    <a:solidFill>
                      <a:srgbClr val="c0504d"/>
                    </a:solidFill>
                    <a:latin typeface="Calibri"/>
                  </a:rPr>
                  <a:t>Does this work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8" name="Straight Arrow Connector 47"/>
              <p:cNvCxnSpPr>
                <a:stCxn id="192" idx="3"/>
                <a:endCxn id="197" idx="1"/>
              </p:cNvCxnSpPr>
              <p:nvPr/>
            </p:nvCxnSpPr>
            <p:spPr>
              <a:xfrm>
                <a:off x="3884040" y="3353400"/>
                <a:ext cx="12060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199" name="Alternate Process 48"/>
              <p:cNvSpPr/>
              <p:nvPr/>
            </p:nvSpPr>
            <p:spPr>
              <a:xfrm>
                <a:off x="1168200" y="3782160"/>
                <a:ext cx="1076400" cy="23040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Element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0" name="Straight Arrow Connector 49"/>
              <p:cNvCxnSpPr>
                <a:stCxn id="191" idx="2"/>
                <a:endCxn id="199" idx="0"/>
              </p:cNvCxnSpPr>
              <p:nvPr/>
            </p:nvCxnSpPr>
            <p:spPr>
              <a:xfrm>
                <a:off x="1706040" y="3661920"/>
                <a:ext cx="1080" cy="12060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01" name="Elbow Connector 50"/>
              <p:cNvCxnSpPr>
                <a:stCxn id="192" idx="2"/>
                <a:endCxn id="199" idx="3"/>
              </p:cNvCxnSpPr>
              <p:nvPr/>
            </p:nvCxnSpPr>
            <p:spPr>
              <a:xfrm rot="5400000">
                <a:off x="2675520" y="3418560"/>
                <a:ext cx="47520" cy="911160"/>
              </a:xfrm>
              <a:prstGeom prst="bentConnector2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2015+ Element 1 Strategy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lternate Process 15"/>
          <p:cNvSpPr/>
          <p:nvPr/>
        </p:nvSpPr>
        <p:spPr>
          <a:xfrm>
            <a:off x="6197760" y="303372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entinel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lternate Process 17"/>
          <p:cNvSpPr/>
          <p:nvPr/>
        </p:nvSpPr>
        <p:spPr>
          <a:xfrm>
            <a:off x="6197760" y="158760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CBERS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lternate Process 19"/>
          <p:cNvSpPr/>
          <p:nvPr/>
        </p:nvSpPr>
        <p:spPr>
          <a:xfrm>
            <a:off x="3289320" y="4570560"/>
            <a:ext cx="222264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R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lternate Process 21"/>
          <p:cNvSpPr/>
          <p:nvPr/>
        </p:nvSpPr>
        <p:spPr>
          <a:xfrm>
            <a:off x="6197760" y="457056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entinel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lternate Process 22"/>
          <p:cNvSpPr/>
          <p:nvPr/>
        </p:nvSpPr>
        <p:spPr>
          <a:xfrm>
            <a:off x="784080" y="4570560"/>
            <a:ext cx="222264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AOC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9"/>
          <p:cNvGrpSpPr/>
          <p:nvPr/>
        </p:nvGrpSpPr>
        <p:grpSpPr>
          <a:xfrm>
            <a:off x="542880" y="1587600"/>
            <a:ext cx="5133960" cy="2651040"/>
            <a:chOff x="542880" y="1587600"/>
            <a:chExt cx="5133960" cy="2651040"/>
          </a:xfrm>
        </p:grpSpPr>
        <p:sp>
          <p:nvSpPr>
            <p:cNvPr id="209" name="Rounded Rectangle 60"/>
            <p:cNvSpPr/>
            <p:nvPr/>
          </p:nvSpPr>
          <p:spPr>
            <a:xfrm>
              <a:off x="542880" y="1587600"/>
              <a:ext cx="5133960" cy="265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1"/>
            <p:cNvGrpSpPr/>
            <p:nvPr/>
          </p:nvGrpSpPr>
          <p:grpSpPr>
            <a:xfrm>
              <a:off x="1168200" y="1834920"/>
              <a:ext cx="3912480" cy="2177640"/>
              <a:chOff x="1168200" y="1834920"/>
              <a:chExt cx="3912480" cy="2177640"/>
            </a:xfrm>
          </p:grpSpPr>
          <p:sp>
            <p:nvSpPr>
              <p:cNvPr id="211" name="Alternate Process 62"/>
              <p:cNvSpPr/>
              <p:nvPr/>
            </p:nvSpPr>
            <p:spPr>
              <a:xfrm>
                <a:off x="116820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LS-7/LS-8 Global Covera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lternate Process 63"/>
              <p:cNvSpPr/>
              <p:nvPr/>
            </p:nvSpPr>
            <p:spPr>
              <a:xfrm>
                <a:off x="257364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9a99"/>
                  </a:gs>
                  <a:gs pos="100000">
                    <a:srgbClr val="d1403c"/>
                  </a:gs>
                </a:gsLst>
                <a:lin ang="54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What about clouds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lternate Process 64"/>
              <p:cNvSpPr/>
              <p:nvPr/>
            </p:nvSpPr>
            <p:spPr>
              <a:xfrm>
                <a:off x="400428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Assess impact of clouds (SEO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lternate Process 65"/>
              <p:cNvSpPr/>
              <p:nvPr/>
            </p:nvSpPr>
            <p:spPr>
              <a:xfrm>
                <a:off x="116820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Suggest Mitiga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lternate Process 66"/>
              <p:cNvSpPr/>
              <p:nvPr/>
            </p:nvSpPr>
            <p:spPr>
              <a:xfrm>
                <a:off x="2426040" y="2857320"/>
                <a:ext cx="1458000" cy="993240"/>
              </a:xfrm>
              <a:prstGeom prst="flowChartAlternateProcess">
                <a:avLst/>
              </a:prstGeom>
              <a:noFill/>
              <a:ln w="38160">
                <a:solidFill>
                  <a:srgbClr val="9bbb59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0" bIns="46800" anchor="ctr">
                <a:noAutofit/>
              </a:bodyPr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LTAP Modificati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Pixel Min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Wait for the caval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elective C-Band SA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CBERS/S-2 for revisi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AOCOM-1 for L-Band?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" name="Straight Arrow Connector 67"/>
              <p:cNvCxnSpPr>
                <a:stCxn id="211" idx="3"/>
                <a:endCxn id="212" idx="1"/>
              </p:cNvCxnSpPr>
              <p:nvPr/>
            </p:nvCxnSpPr>
            <p:spPr>
              <a:xfrm>
                <a:off x="2244600" y="2142720"/>
                <a:ext cx="3297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17" name="Straight Arrow Connector 68"/>
              <p:cNvCxnSpPr>
                <a:stCxn id="212" idx="3"/>
                <a:endCxn id="213" idx="1"/>
              </p:cNvCxnSpPr>
              <p:nvPr/>
            </p:nvCxnSpPr>
            <p:spPr>
              <a:xfrm>
                <a:off x="3650400" y="2142720"/>
                <a:ext cx="35388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18" name="Elbow Connector 69"/>
              <p:cNvCxnSpPr>
                <a:stCxn id="213" idx="2"/>
                <a:endCxn id="214" idx="0"/>
              </p:cNvCxnSpPr>
              <p:nvPr/>
            </p:nvCxnSpPr>
            <p:spPr>
              <a:xfrm rot="5400000">
                <a:off x="2827080" y="1330560"/>
                <a:ext cx="594720" cy="2836440"/>
              </a:xfrm>
              <a:prstGeom prst="bentConnector3">
                <a:avLst>
                  <a:gd name="adj1" fmla="val 34645"/>
                </a:avLst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19" name="Straight Arrow Connector 70"/>
              <p:cNvCxnSpPr>
                <a:stCxn id="214" idx="3"/>
                <a:endCxn id="215" idx="1"/>
              </p:cNvCxnSpPr>
              <p:nvPr/>
            </p:nvCxnSpPr>
            <p:spPr>
              <a:xfrm>
                <a:off x="2244600" y="3353400"/>
                <a:ext cx="1821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220" name="Alternate Process 71"/>
              <p:cNvSpPr/>
              <p:nvPr/>
            </p:nvSpPr>
            <p:spPr>
              <a:xfrm>
                <a:off x="400428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5eeff"/>
                  </a:gs>
                  <a:gs pos="100000">
                    <a:srgbClr val="39b7d8"/>
                  </a:gs>
                </a:gsLst>
                <a:lin ang="54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900" spc="-1" strike="noStrike">
                    <a:solidFill>
                      <a:srgbClr val="c0504d"/>
                    </a:solidFill>
                    <a:latin typeface="Calibri"/>
                  </a:rPr>
                  <a:t>Does this work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Straight Arrow Connector 72"/>
              <p:cNvCxnSpPr>
                <a:stCxn id="215" idx="3"/>
                <a:endCxn id="220" idx="1"/>
              </p:cNvCxnSpPr>
              <p:nvPr/>
            </p:nvCxnSpPr>
            <p:spPr>
              <a:xfrm>
                <a:off x="3884040" y="3353400"/>
                <a:ext cx="12060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222" name="Alternate Process 73"/>
              <p:cNvSpPr/>
              <p:nvPr/>
            </p:nvSpPr>
            <p:spPr>
              <a:xfrm>
                <a:off x="1168200" y="3782160"/>
                <a:ext cx="1076400" cy="23040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Element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3" name="Straight Arrow Connector 74"/>
              <p:cNvCxnSpPr>
                <a:stCxn id="214" idx="2"/>
                <a:endCxn id="222" idx="0"/>
              </p:cNvCxnSpPr>
              <p:nvPr/>
            </p:nvCxnSpPr>
            <p:spPr>
              <a:xfrm>
                <a:off x="1706040" y="3661920"/>
                <a:ext cx="1080" cy="12060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24" name="Elbow Connector 75"/>
              <p:cNvCxnSpPr>
                <a:stCxn id="215" idx="2"/>
                <a:endCxn id="222" idx="3"/>
              </p:cNvCxnSpPr>
              <p:nvPr/>
            </p:nvCxnSpPr>
            <p:spPr>
              <a:xfrm rot="5400000">
                <a:off x="2675520" y="3418560"/>
                <a:ext cx="47520" cy="911160"/>
              </a:xfrm>
              <a:prstGeom prst="bentConnector2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Major Issues to be Addres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ion 4.2 – 4.4 “Capacity Assessment” of each mission except Landsat is we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th in terms of text and actu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icult to assess capacity of future missions without agency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ion 5 “Gap Analysis” remains in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eds a section where the gaps are highligh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ections 6, 7, 8 – IMPLEMENTATION require significant review and confirmation by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 a particular focus on 2013 and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What Are We Miss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s to high resolution verification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S-derived deforestation mas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is not data delivery to a country, but an important product to support the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thing el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loud Coverag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O has analyzed DRC and Guy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e we happy with the methodolog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 short opportunity to update and expand the analysis before SIT-28 – what should the priority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and the analysis to cover the 16 2013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ss which of those countries might most require element 2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rter scene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nstrate potential of pixel mining for one scen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ESSION 2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h40m to discuss the global baseline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requirements and data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rank Mar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h1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strategy and core data stream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un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ed by session 3 on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ESSION 2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rmation that we are happy with the structure of the element 1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rmation that we feel the element 1 strategy addresses all it need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list of tasks for report delivery for discussion and assignment confirmation in Session 5 (tomorr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requirements and data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rank Mar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h1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strategy and core data stream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GFOI Strategy Elements (a remin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 Status 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ing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 Strategy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Issues to be Addr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We Mis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ssion 2 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EOS GFOI Strateg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iding document CEOS Plenary 2011 (Luc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CEOS STRATEGY FOR SPACE DATA COVERAGE AND CONTINUITY IN SUPPORT OF THE GEO GLOBAL FOREST OBSERVATIONS INITIATIVE (GFOI) AND FOREST CARBON TRACKING (FCT) TAS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, coordinated global data acquisition strategy involving a number of ‘core data streams’ that can be used free-of-charge for GFOI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rdinated strategy for national data acquisi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upply in support of the FCT (R&amp;D? session 4)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lement 1 Status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gnificant evolution in December-Janu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ificant revision to the document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ch of the detailed content was removed to try and focus on the nar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26” la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med around CEOS annual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nual updates anticip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a complete element 1 global  baseline strategy to SIT-28 i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not to miss one full year of the CEOS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confirm support from CEOS agencies for 2013 implementa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develop element 2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 that at SIT-29 (20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1 will be upd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2 will be ready for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Writing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Ake, John, Stephen, Ge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ing at maximum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od analysis support from S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adline for SIT-28 materials is 1 M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working days post-SDCG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dditional contributors are needed in the next three weeks to succeed at SIT-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particular review and contributions to agency-specific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lement 1 Strategy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lternate Process 2"/>
          <p:cNvSpPr/>
          <p:nvPr/>
        </p:nvSpPr>
        <p:spPr>
          <a:xfrm>
            <a:off x="457200" y="5486400"/>
            <a:ext cx="8229600" cy="482760"/>
          </a:xfrm>
          <a:prstGeom prst="flowChartAlternateProcess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Governance </a:t>
            </a:r>
            <a:r>
              <a:rPr b="0" i="1" lang="en-US" sz="1800" spc="-1" strike="noStrike">
                <a:solidFill>
                  <a:srgbClr val="4f81bd"/>
                </a:solidFill>
                <a:latin typeface="Calibri"/>
              </a:rPr>
              <a:t>(S.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lternate Process 3"/>
          <p:cNvSpPr/>
          <p:nvPr/>
        </p:nvSpPr>
        <p:spPr>
          <a:xfrm>
            <a:off x="609480" y="182232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quirements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lternate Process 6"/>
          <p:cNvSpPr/>
          <p:nvPr/>
        </p:nvSpPr>
        <p:spPr>
          <a:xfrm>
            <a:off x="3511440" y="182232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b977"/>
              </a:gs>
              <a:gs pos="100000">
                <a:srgbClr val="ff932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lternate Process 7"/>
          <p:cNvSpPr/>
          <p:nvPr/>
        </p:nvSpPr>
        <p:spPr>
          <a:xfrm>
            <a:off x="6464160" y="182232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b977"/>
              </a:gs>
              <a:gs pos="100000">
                <a:srgbClr val="ff932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lternate Process 8"/>
          <p:cNvSpPr/>
          <p:nvPr/>
        </p:nvSpPr>
        <p:spPr>
          <a:xfrm>
            <a:off x="609480" y="386064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b977"/>
              </a:gs>
              <a:gs pos="100000">
                <a:srgbClr val="ff932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a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3206880" y="3613320"/>
            <a:ext cx="3009600" cy="1707840"/>
            <a:chOff x="3206880" y="3613320"/>
            <a:chExt cx="3009600" cy="1707840"/>
          </a:xfrm>
        </p:grpSpPr>
        <p:sp>
          <p:nvSpPr>
            <p:cNvPr id="154" name="Alternate Process 11"/>
            <p:cNvSpPr/>
            <p:nvPr/>
          </p:nvSpPr>
          <p:spPr>
            <a:xfrm>
              <a:off x="3612960" y="4006800"/>
              <a:ext cx="24256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lternate Process 10"/>
            <p:cNvSpPr/>
            <p:nvPr/>
          </p:nvSpPr>
          <p:spPr>
            <a:xfrm>
              <a:off x="3460680" y="3854520"/>
              <a:ext cx="24256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lternate Process 9"/>
            <p:cNvSpPr/>
            <p:nvPr/>
          </p:nvSpPr>
          <p:spPr>
            <a:xfrm>
              <a:off x="3308400" y="3701880"/>
              <a:ext cx="24256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Calibri"/>
                </a:rPr>
                <a:t>Implemen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4f81bd"/>
                  </a:solidFill>
                  <a:latin typeface="Calibri"/>
                </a:rPr>
                <a:t>(S.6-8, 2013, 2014, 2015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lternate Process 12"/>
            <p:cNvSpPr/>
            <p:nvPr/>
          </p:nvSpPr>
          <p:spPr>
            <a:xfrm>
              <a:off x="3206880" y="3613320"/>
              <a:ext cx="3009600" cy="1707840"/>
            </a:xfrm>
            <a:prstGeom prst="flowChartAlternateProcess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8" name="Straight Arrow Connector 14"/>
          <p:cNvCxnSpPr>
            <a:stCxn id="149" idx="3"/>
            <a:endCxn id="150" idx="1"/>
          </p:cNvCxnSpPr>
          <p:nvPr/>
        </p:nvCxnSpPr>
        <p:spPr>
          <a:xfrm>
            <a:off x="2831760" y="2425320"/>
            <a:ext cx="6800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9" name="Straight Arrow Connector 16"/>
          <p:cNvCxnSpPr>
            <a:stCxn id="150" idx="3"/>
            <a:endCxn id="151" idx="1"/>
          </p:cNvCxnSpPr>
          <p:nvPr/>
        </p:nvCxnSpPr>
        <p:spPr>
          <a:xfrm>
            <a:off x="5734080" y="2425320"/>
            <a:ext cx="7308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0" name="Elbow Connector 18"/>
          <p:cNvCxnSpPr>
            <a:stCxn id="151" idx="2"/>
            <a:endCxn id="152" idx="0"/>
          </p:cNvCxnSpPr>
          <p:nvPr/>
        </p:nvCxnSpPr>
        <p:spPr>
          <a:xfrm rot="5400000">
            <a:off x="4231440" y="517320"/>
            <a:ext cx="832320" cy="5855400"/>
          </a:xfrm>
          <a:prstGeom prst="bentConnector3">
            <a:avLst>
              <a:gd name="adj1" fmla="val 392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1" name="Straight Arrow Connector 20"/>
          <p:cNvCxnSpPr>
            <a:stCxn id="152" idx="3"/>
            <a:endCxn id="157" idx="1"/>
          </p:cNvCxnSpPr>
          <p:nvPr/>
        </p:nvCxnSpPr>
        <p:spPr>
          <a:xfrm>
            <a:off x="2831760" y="4463640"/>
            <a:ext cx="375480" cy="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2" name="Alternate Process 24"/>
          <p:cNvSpPr/>
          <p:nvPr/>
        </p:nvSpPr>
        <p:spPr>
          <a:xfrm>
            <a:off x="6464160" y="3867120"/>
            <a:ext cx="2222640" cy="1206360"/>
          </a:xfrm>
          <a:prstGeom prst="flowChartAlternateProcess">
            <a:avLst/>
          </a:pr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Calibri"/>
              </a:rPr>
              <a:t>Does thi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29"/>
          <p:cNvCxnSpPr>
            <a:stCxn id="157" idx="3"/>
            <a:endCxn id="162" idx="1"/>
          </p:cNvCxnSpPr>
          <p:nvPr/>
        </p:nvCxnSpPr>
        <p:spPr>
          <a:xfrm>
            <a:off x="6216480" y="4466880"/>
            <a:ext cx="248400" cy="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lement 1 Strategy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quirement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consul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FCCC/IPCC (informal), GOFC-GOLD,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ill not formal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e data streams and roles, phases, dyna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line, Regional, Selective (element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p Analysi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 for non-core data str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quisition requests for data providers 2013, 2014, 2015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2013 Element 1 Strategy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Group 40"/>
          <p:cNvGrpSpPr/>
          <p:nvPr/>
        </p:nvGrpSpPr>
        <p:grpSpPr>
          <a:xfrm>
            <a:off x="609480" y="1593720"/>
            <a:ext cx="8077320" cy="4260960"/>
            <a:chOff x="609480" y="1593720"/>
            <a:chExt cx="8077320" cy="4260960"/>
          </a:xfrm>
        </p:grpSpPr>
        <p:sp>
          <p:nvSpPr>
            <p:cNvPr id="168" name="Alternate Process 3"/>
            <p:cNvSpPr/>
            <p:nvPr/>
          </p:nvSpPr>
          <p:spPr>
            <a:xfrm>
              <a:off x="609480" y="15937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Calibri"/>
                </a:rPr>
                <a:t>LS-7/LS-8 Global Cove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lternate Process 6"/>
            <p:cNvSpPr/>
            <p:nvPr/>
          </p:nvSpPr>
          <p:spPr>
            <a:xfrm>
              <a:off x="3511440" y="15937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ff9a99"/>
                </a:gs>
                <a:gs pos="100000">
                  <a:srgbClr val="d1403c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What about cloud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lternate Process 7"/>
            <p:cNvSpPr/>
            <p:nvPr/>
          </p:nvSpPr>
          <p:spPr>
            <a:xfrm>
              <a:off x="6464520" y="15937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ffb977"/>
                </a:gs>
                <a:gs pos="100000">
                  <a:srgbClr val="ff932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ssess impact of clouds (SE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lternate Process 8"/>
            <p:cNvSpPr/>
            <p:nvPr/>
          </p:nvSpPr>
          <p:spPr>
            <a:xfrm>
              <a:off x="609480" y="39625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ffb977"/>
                </a:gs>
                <a:gs pos="100000">
                  <a:srgbClr val="ff932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Suggest Mitig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lternate Process 12"/>
            <p:cNvSpPr/>
            <p:nvPr/>
          </p:nvSpPr>
          <p:spPr>
            <a:xfrm>
              <a:off x="3206520" y="3593880"/>
              <a:ext cx="3009960" cy="1943280"/>
            </a:xfrm>
            <a:prstGeom prst="flowChartAlternateProcess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0" bIns="46800" anchor="ctr">
              <a:noAutofit/>
            </a:bodyPr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4f81bd"/>
                  </a:solidFill>
                  <a:latin typeface="Calibri"/>
                </a:rPr>
                <a:t>LTAP Modifi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4f81bd"/>
                  </a:solidFill>
                  <a:latin typeface="Calibri"/>
                </a:rPr>
                <a:t>Pixel Mi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4f81bd"/>
                  </a:solidFill>
                  <a:latin typeface="Calibri"/>
                </a:rPr>
                <a:t>Wait for the caval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6120" indent="-34308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i="1" lang="en-US" sz="1600" spc="-1" strike="noStrike">
                  <a:solidFill>
                    <a:srgbClr val="4f81bd"/>
                  </a:solidFill>
                  <a:latin typeface="Calibri"/>
                  <a:ea typeface="ＭＳ Ｐゴシック"/>
                </a:rPr>
                <a:t>Selective C-Band S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6120" indent="-34308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i="1" lang="en-US" sz="1600" spc="-1" strike="noStrike">
                  <a:solidFill>
                    <a:srgbClr val="4f81bd"/>
                  </a:solidFill>
                  <a:latin typeface="Calibri"/>
                  <a:ea typeface="ＭＳ Ｐゴシック"/>
                </a:rPr>
                <a:t>CBERS/S-2 for revis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6120" indent="-34308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i="1" lang="en-US" sz="1600" spc="-1" strike="noStrike">
                  <a:solidFill>
                    <a:srgbClr val="4f81bd"/>
                  </a:solidFill>
                  <a:latin typeface="Calibri"/>
                  <a:ea typeface="ＭＳ Ｐゴシック"/>
                </a:rPr>
                <a:t>SAOCOM-1 for L-Band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traight Arrow Connector 14"/>
            <p:cNvCxnSpPr>
              <a:stCxn id="168" idx="3"/>
              <a:endCxn id="169" idx="1"/>
            </p:cNvCxnSpPr>
            <p:nvPr/>
          </p:nvCxnSpPr>
          <p:spPr>
            <a:xfrm>
              <a:off x="2831400" y="2196360"/>
              <a:ext cx="68004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74" name="Straight Arrow Connector 16"/>
            <p:cNvCxnSpPr>
              <a:stCxn id="169" idx="3"/>
              <a:endCxn id="170" idx="1"/>
            </p:cNvCxnSpPr>
            <p:nvPr/>
          </p:nvCxnSpPr>
          <p:spPr>
            <a:xfrm>
              <a:off x="5734080" y="2196360"/>
              <a:ext cx="73080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75" name="Elbow Connector 18"/>
            <p:cNvCxnSpPr>
              <a:stCxn id="170" idx="2"/>
              <a:endCxn id="171" idx="0"/>
            </p:cNvCxnSpPr>
            <p:nvPr/>
          </p:nvCxnSpPr>
          <p:spPr>
            <a:xfrm rot="5400000">
              <a:off x="4066920" y="453600"/>
              <a:ext cx="1162440" cy="5855400"/>
            </a:xfrm>
            <a:prstGeom prst="bentConnector3">
              <a:avLst>
                <a:gd name="adj1" fmla="val 34696"/>
              </a:avLst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76" name="Straight Arrow Connector 20"/>
            <p:cNvCxnSpPr>
              <a:stCxn id="171" idx="3"/>
              <a:endCxn id="172" idx="1"/>
            </p:cNvCxnSpPr>
            <p:nvPr/>
          </p:nvCxnSpPr>
          <p:spPr>
            <a:xfrm>
              <a:off x="2831760" y="4565160"/>
              <a:ext cx="37512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sp>
          <p:nvSpPr>
            <p:cNvPr id="177" name="Alternate Process 24"/>
            <p:cNvSpPr/>
            <p:nvPr/>
          </p:nvSpPr>
          <p:spPr>
            <a:xfrm>
              <a:off x="6464520" y="39625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95eeff"/>
                </a:gs>
                <a:gs pos="100000">
                  <a:srgbClr val="39b7d8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c0504d"/>
                  </a:solidFill>
                  <a:latin typeface="Calibri"/>
                </a:rPr>
                <a:t>Does this work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Straight Arrow Connector 29"/>
            <p:cNvCxnSpPr>
              <a:stCxn id="172" idx="3"/>
              <a:endCxn id="177" idx="1"/>
            </p:cNvCxnSpPr>
            <p:nvPr/>
          </p:nvCxnSpPr>
          <p:spPr>
            <a:xfrm>
              <a:off x="6216480" y="4565160"/>
              <a:ext cx="24804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sp>
          <p:nvSpPr>
            <p:cNvPr id="179" name="Alternate Process 35"/>
            <p:cNvSpPr/>
            <p:nvPr/>
          </p:nvSpPr>
          <p:spPr>
            <a:xfrm>
              <a:off x="609480" y="5403960"/>
              <a:ext cx="2222280" cy="450720"/>
            </a:xfrm>
            <a:prstGeom prst="flowChartAlternateProcess">
              <a:avLst/>
            </a:prstGeom>
            <a:gradFill rotWithShape="0">
              <a:gsLst>
                <a:gs pos="0">
                  <a:srgbClr val="95eeff"/>
                </a:gs>
                <a:gs pos="100000">
                  <a:srgbClr val="39b7d8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Calibri"/>
                </a:rPr>
                <a:t>Element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Straight Arrow Connector 37"/>
            <p:cNvCxnSpPr>
              <a:stCxn id="171" idx="2"/>
              <a:endCxn id="179" idx="0"/>
            </p:cNvCxnSpPr>
            <p:nvPr/>
          </p:nvCxnSpPr>
          <p:spPr>
            <a:xfrm>
              <a:off x="1720080" y="5168880"/>
              <a:ext cx="1080" cy="23544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81" name="Elbow Connector 39"/>
            <p:cNvCxnSpPr>
              <a:stCxn id="172" idx="2"/>
              <a:endCxn id="179" idx="3"/>
            </p:cNvCxnSpPr>
            <p:nvPr/>
          </p:nvCxnSpPr>
          <p:spPr>
            <a:xfrm rot="5400000">
              <a:off x="3724920" y="4642920"/>
              <a:ext cx="92520" cy="1880280"/>
            </a:xfrm>
            <a:prstGeom prst="bentConnector2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10:08Z</dcterms:created>
  <dc:creator>George Dyke</dc:creator>
  <dc:description/>
  <dc:language>en-US</dc:language>
  <cp:lastModifiedBy>George Dyke</cp:lastModifiedBy>
  <dcterms:modified xsi:type="dcterms:W3CDTF">2013-02-01T00:39:12Z</dcterms:modified>
  <cp:revision>357</cp:revision>
  <dc:subject/>
  <dc:title>Slide 1</dc:title>
</cp:coreProperties>
</file>