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2562E-B6E4-4926-B2A2-C3A2E87A54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5F3D3-4124-488A-A78A-76F669F93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6CFCA-0F7E-4C68-AA0D-7A3342E32B78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5382A-B645-44EE-A563-E5A4E2098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F5AE5-609E-4B71-ADE1-CB450A0C1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26EB7-D619-4310-96C0-93720160D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D173F-5C82-4509-B1C3-483E5F43F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F6BE0-5AFA-40C3-9450-000DF825C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24FF2-7A3A-4A19-A745-784290FC7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0AA90-114D-4283-88F3-075785743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C3238-7183-4499-94F2-96F80BC62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98C3-E220-43CD-BF09-52F7D5E11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955F-8221-411A-8C82-7E79EDF8C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0233-F606-44E0-B447-70B5A4462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0A04-DAEB-4409-938C-566CABDC8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99D4-2FFE-4400-B070-52B9E4647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539B-5AAD-430B-A14C-9843FA4337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117E-0401-4B2E-B472-63BE24184F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B775-D66E-470A-8F5C-ED46E7B42E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9EAB-5E69-48A5-81C4-F9448F3232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98E03-5541-4156-A2C0-F55AD865DF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832B-AEE7-4874-8A1D-6B486C0239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0820-5117-481E-8179-D7258D1E39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6C99-97E7-467A-863E-D503F26599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AC26-14B8-4317-B5BB-EFB63AC229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7AE5-3468-44B4-BA63-F49AB49DC5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0BBB-1714-47B0-A066-0E972776EF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DA98-0345-4CDF-B0E3-5F595A08B2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5C43-CF1A-4BB5-A709-8F0BF8655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D6EE-42DB-4462-8750-54D753583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8E64-C753-4309-901F-75A78021E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7951-9B9A-4A7E-AB3A-840701937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264B-A44F-4B2C-AD04-03B9382FB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0AA5-80F0-4BDB-ACC8-380E3E647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A2DF-DD59-4A37-8FCB-B173B6ECD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B86E9-A567-4224-9138-C9EBA96F9C3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4022E923-F017-4F87-87E9-88BB407018DF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57320" y="6523200"/>
            <a:ext cx="361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DCG-3 Meeting|Sydney, Australia| 7-9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A03F9-22BC-4C3E-968E-AAE2CFAD4F1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363400"/>
            <a:ext cx="48261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EOS Ad hoc Group for GEOGLAM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76560" y="166680"/>
            <a:ext cx="52070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GLAM Data Acquisition Pl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ro, Synergy, and Expec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81685-629B-4EDC-A58E-642CF71DD48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DCG-GEOGLAM Agenda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6520" y="2076480"/>
          <a:ext cx="8609040" cy="3236760"/>
        </p:xfrm>
        <a:graphic>
          <a:graphicData uri="http://schemas.openxmlformats.org/drawingml/2006/table">
            <a:tbl>
              <a:tblPr/>
              <a:tblGrid>
                <a:gridCol w="1595520"/>
                <a:gridCol w="3498840"/>
                <a:gridCol w="3514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00-09:1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tro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15-09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ynergy/Expect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30-10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GEOGLAM Obj., Req., Phase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bal Becker-Reshef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0:30-11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Phase 1 Req., &amp; Volumetric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30-11:4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Way Forwar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. Kerry Sawyer. 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45-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Recommend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djour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6FA41-3772-410B-B201-7C7B93149F5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tro, Synergy, 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3520" y="2155680"/>
            <a:ext cx="80769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form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gress to dat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s for SIT-28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llow-on pla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termin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cooperative area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xplor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 &amp; GEOGLAM expectat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03D37-0519-4B89-AE66-C9D52259FEB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1490760"/>
            <a:ext cx="83851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Meetings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since SIT-27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ser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Requirements Meet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a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June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-2 Mee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pt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ata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Plann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ere/Whe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v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-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GEOGLAM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 Strategy Workshop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IT-28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March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EA5DF-A134-472D-ABDA-2257A7A7DE0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33520" y="1446120"/>
            <a:ext cx="8610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raft Year 1 Progress Re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Background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Team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liverabl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chedule &amp; Mileston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posed Observation Strateg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   = 2013 - 201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  = Mar 2014 - Nov 2015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I = Nov 2015 – Nov 2017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commendations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B4AB3-1058-4B9D-B987-4BB1837C004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33520" y="2155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ollow on pla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corporate SDCG respons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articipate in GEOGLAM Strategy W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inalize Year 1 Re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r SIT-28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itiate Phase I activiti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 for Phase II effor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E9A7D-9360-4EA2-AA46-7C660B65B37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ynergy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3520" y="1316160"/>
            <a:ext cx="80769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ommon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SDCG-GEOGLAM area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VE tool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O sup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ssible engagement with LSI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ptical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AR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Space Agenci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ublic-Private Partnership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mmercial EO data provide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request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8 countries overlap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25% of 71 GFOI/GEOGLAM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tential for data sharing (W2W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5F693-C380-4999-914F-F28C4046949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3520" y="2155680"/>
            <a:ext cx="80769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GEOGL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ntinued SEO/COVE sup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gular Communic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ared Lessons Lear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ventual SDCG incorporatio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SDCG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5FC7C-DB16-4339-8DE2-E2063525043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33520" y="2155680"/>
            <a:ext cx="8076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2569"/>
                </a:solidFill>
                <a:latin typeface="Arial"/>
              </a:rPr>
              <a:t>COMMENTS</a:t>
            </a: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John  Faundeen</cp:lastModifiedBy>
  <dcterms:modified xsi:type="dcterms:W3CDTF">2013-02-06T12:23:21Z</dcterms:modified>
  <cp:revision>170</cp:revision>
  <dc:subject/>
  <dc:title>Title</dc:title>
</cp:coreProperties>
</file>