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E41-7027-4C35-B704-927650D0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2C18-A0AE-4DB0-A75D-754222C4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AB44-E9BB-48EB-8E28-74B6344F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0F3-6DFE-4DB6-8524-C7195D57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AE1-7897-45FA-8C8A-E4BB3889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6639-D72A-4A76-A025-B248FAD8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B8A-D2C3-41EE-8887-C78AC395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A6F-D0D1-44E0-B118-D557118F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FC2-0BC8-48CD-9F35-8C688BA3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6A5-8C8F-49E6-AD05-0E3E8F29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C29-1641-45AB-887B-B9730C86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F60-83A3-449A-8895-39DB2A08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7168F-63D7-481F-B50C-D3A4BD368D19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bacc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SDCG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USGS HQ @ Reston (Va)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Sept 13-14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5B17F-9CF2-4767-8682-3DC2DB6137A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0" y="0"/>
            <a:ext cx="189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earthobservation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7985160" y="2232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gfoi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0" y="0"/>
            <a:ext cx="189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earthobservation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7985160" y="2232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gfoi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-4680" y="6195960"/>
            <a:ext cx="91486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GEO_Header_Presentation.jpg"/>
          <p:cNvPicPr/>
          <p:nvPr/>
        </p:nvPicPr>
        <p:blipFill>
          <a:blip r:embed="rId3"/>
          <a:srcRect l="0" t="25251" r="69395" b="16722"/>
          <a:stretch/>
        </p:blipFill>
        <p:spPr>
          <a:xfrm>
            <a:off x="-4680" y="6303960"/>
            <a:ext cx="2290680" cy="477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4"/>
          <a:stretch/>
        </p:blipFill>
        <p:spPr>
          <a:xfrm>
            <a:off x="2298600" y="6329520"/>
            <a:ext cx="943200" cy="47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5"/>
          <a:stretch/>
        </p:blipFill>
        <p:spPr>
          <a:xfrm>
            <a:off x="3390840" y="6291360"/>
            <a:ext cx="1187640" cy="471240"/>
          </a:xfrm>
          <a:prstGeom prst="rect">
            <a:avLst/>
          </a:prstGeom>
          <a:ln w="0">
            <a:noFill/>
          </a:ln>
        </p:spPr>
      </p:pic>
      <p:sp>
        <p:nvSpPr>
          <p:cNvPr id="49" name="Straight Connector 12"/>
          <p:cNvSpPr/>
          <p:nvPr/>
        </p:nvSpPr>
        <p:spPr>
          <a:xfrm>
            <a:off x="0" y="6194520"/>
            <a:ext cx="9144000" cy="1440"/>
          </a:xfrm>
          <a:prstGeom prst="line">
            <a:avLst/>
          </a:prstGeom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5359320" y="6326280"/>
            <a:ext cx="20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CG-3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6"/>
          <p:cNvSpPr/>
          <p:nvPr/>
        </p:nvSpPr>
        <p:spPr>
          <a:xfrm>
            <a:off x="0" y="0"/>
            <a:ext cx="189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earthobservation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7985160" y="2232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gfoi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-4680" y="6195960"/>
            <a:ext cx="91486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GEO_Header_Presentation.jpg"/>
          <p:cNvPicPr/>
          <p:nvPr/>
        </p:nvPicPr>
        <p:blipFill>
          <a:blip r:embed="rId3"/>
          <a:srcRect l="0" t="25251" r="69395" b="16722"/>
          <a:stretch/>
        </p:blipFill>
        <p:spPr>
          <a:xfrm>
            <a:off x="-4680" y="6303960"/>
            <a:ext cx="2290680" cy="477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4"/>
          <a:stretch/>
        </p:blipFill>
        <p:spPr>
          <a:xfrm>
            <a:off x="2298600" y="6329520"/>
            <a:ext cx="943200" cy="47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5"/>
          <a:stretch/>
        </p:blipFill>
        <p:spPr>
          <a:xfrm>
            <a:off x="3390840" y="6291360"/>
            <a:ext cx="1187640" cy="471240"/>
          </a:xfrm>
          <a:prstGeom prst="rect">
            <a:avLst/>
          </a:prstGeom>
          <a:ln w="0">
            <a:noFill/>
          </a:ln>
        </p:spPr>
      </p:pic>
      <p:sp>
        <p:nvSpPr>
          <p:cNvPr id="95" name="Straight Connector 12"/>
          <p:cNvSpPr/>
          <p:nvPr/>
        </p:nvSpPr>
        <p:spPr>
          <a:xfrm>
            <a:off x="0" y="6194520"/>
            <a:ext cx="9144000" cy="1440"/>
          </a:xfrm>
          <a:prstGeom prst="line">
            <a:avLst/>
          </a:prstGeom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5359320" y="6326280"/>
            <a:ext cx="20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CG-3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901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ESSION 2: GLOBAL BASELINE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90680" y="3568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Report Overall Status an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8eb4e3"/>
                </a:solidFill>
                <a:latin typeface="Calibri"/>
              </a:rPr>
              <a:t>G. Dy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2014 Element 1 Strategy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lternate Process 15"/>
          <p:cNvSpPr/>
          <p:nvPr/>
        </p:nvSpPr>
        <p:spPr>
          <a:xfrm>
            <a:off x="6197760" y="3033720"/>
            <a:ext cx="2222280" cy="1206360"/>
          </a:xfrm>
          <a:prstGeom prst="flowChartAlternateProcess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+ Sentinel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lternate Process 17"/>
          <p:cNvSpPr/>
          <p:nvPr/>
        </p:nvSpPr>
        <p:spPr>
          <a:xfrm>
            <a:off x="6197760" y="1587600"/>
            <a:ext cx="2222280" cy="1206360"/>
          </a:xfrm>
          <a:prstGeom prst="flowChartAlternateProcess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+ CBERS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1"/>
          <p:cNvGrpSpPr/>
          <p:nvPr/>
        </p:nvGrpSpPr>
        <p:grpSpPr>
          <a:xfrm>
            <a:off x="542880" y="1587600"/>
            <a:ext cx="5133960" cy="2651040"/>
            <a:chOff x="542880" y="1587600"/>
            <a:chExt cx="5133960" cy="2651040"/>
          </a:xfrm>
        </p:grpSpPr>
        <p:sp>
          <p:nvSpPr>
            <p:cNvPr id="186" name="Rounded Rectangle 22"/>
            <p:cNvSpPr/>
            <p:nvPr/>
          </p:nvSpPr>
          <p:spPr>
            <a:xfrm>
              <a:off x="542880" y="1587600"/>
              <a:ext cx="5133960" cy="2651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5"/>
            <p:cNvGrpSpPr/>
            <p:nvPr/>
          </p:nvGrpSpPr>
          <p:grpSpPr>
            <a:xfrm>
              <a:off x="1168200" y="1834920"/>
              <a:ext cx="3912480" cy="2177640"/>
              <a:chOff x="1168200" y="1834920"/>
              <a:chExt cx="3912480" cy="2177640"/>
            </a:xfrm>
          </p:grpSpPr>
          <p:sp>
            <p:nvSpPr>
              <p:cNvPr id="188" name="Alternate Process 37"/>
              <p:cNvSpPr/>
              <p:nvPr/>
            </p:nvSpPr>
            <p:spPr>
              <a:xfrm>
                <a:off x="1168200" y="183492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dcffa0"/>
                  </a:gs>
                  <a:gs pos="100000">
                    <a:srgbClr val="a0ca4a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4f81bd"/>
                    </a:solidFill>
                    <a:latin typeface="Calibri"/>
                  </a:rPr>
                  <a:t>LS-7/LS-8 Global Coverag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lternate Process 38"/>
              <p:cNvSpPr/>
              <p:nvPr/>
            </p:nvSpPr>
            <p:spPr>
              <a:xfrm>
                <a:off x="2573640" y="183492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ff9a99"/>
                  </a:gs>
                  <a:gs pos="100000">
                    <a:srgbClr val="d1403c"/>
                  </a:gs>
                </a:gsLst>
                <a:lin ang="54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What about clouds?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lternate Process 39"/>
              <p:cNvSpPr/>
              <p:nvPr/>
            </p:nvSpPr>
            <p:spPr>
              <a:xfrm>
                <a:off x="4004280" y="183492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ffb977"/>
                  </a:gs>
                  <a:gs pos="100000">
                    <a:srgbClr val="ff932b"/>
                  </a:gs>
                </a:gsLst>
                <a:lin ang="54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Assess impact of clouds (SEO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lternate Process 40"/>
              <p:cNvSpPr/>
              <p:nvPr/>
            </p:nvSpPr>
            <p:spPr>
              <a:xfrm>
                <a:off x="1168200" y="304560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ffb977"/>
                  </a:gs>
                  <a:gs pos="100000">
                    <a:srgbClr val="ff932b"/>
                  </a:gs>
                </a:gsLst>
                <a:lin ang="54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Suggest Mitigation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lternate Process 41"/>
              <p:cNvSpPr/>
              <p:nvPr/>
            </p:nvSpPr>
            <p:spPr>
              <a:xfrm>
                <a:off x="2426040" y="2857320"/>
                <a:ext cx="1458000" cy="993240"/>
              </a:xfrm>
              <a:prstGeom prst="flowChartAlternateProcess">
                <a:avLst/>
              </a:prstGeom>
              <a:noFill/>
              <a:ln w="38160">
                <a:solidFill>
                  <a:srgbClr val="9bbb59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0" bIns="46800" anchor="ctr">
                <a:noAutofit/>
              </a:bodyPr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800" spc="-1" strike="noStrike">
                    <a:solidFill>
                      <a:srgbClr val="4f81bd"/>
                    </a:solidFill>
                    <a:latin typeface="Calibri"/>
                  </a:rPr>
                  <a:t>LTAP Modification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800" spc="-1" strike="noStrike">
                    <a:solidFill>
                      <a:srgbClr val="4f81bd"/>
                    </a:solidFill>
                    <a:latin typeface="Calibri"/>
                  </a:rPr>
                  <a:t>Pixel Min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800" spc="-1" strike="noStrike">
                    <a:solidFill>
                      <a:srgbClr val="4f81bd"/>
                    </a:solidFill>
                    <a:latin typeface="Calibri"/>
                  </a:rPr>
                  <a:t>Wait for the cavalr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46120" indent="-34308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0" i="1" lang="en-US" sz="600" spc="-1" strike="noStrike">
                    <a:solidFill>
                      <a:srgbClr val="4f81bd"/>
                    </a:solidFill>
                    <a:latin typeface="Calibri"/>
                    <a:ea typeface="ＭＳ Ｐゴシック"/>
                  </a:rPr>
                  <a:t>Selective C-Band SA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46120" indent="-34308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0" i="1" lang="en-US" sz="600" spc="-1" strike="noStrike">
                    <a:solidFill>
                      <a:srgbClr val="4f81bd"/>
                    </a:solidFill>
                    <a:latin typeface="Calibri"/>
                    <a:ea typeface="ＭＳ Ｐゴシック"/>
                  </a:rPr>
                  <a:t>CBERS/S-2 for revisi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46120" indent="-34308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0" i="1" lang="en-US" sz="600" spc="-1" strike="noStrike">
                    <a:solidFill>
                      <a:srgbClr val="4f81bd"/>
                    </a:solidFill>
                    <a:latin typeface="Calibri"/>
                    <a:ea typeface="ＭＳ Ｐゴシック"/>
                  </a:rPr>
                  <a:t>SAOCOM-1 for L-Band?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3" name="Straight Arrow Connector 42"/>
              <p:cNvCxnSpPr>
                <a:stCxn id="188" idx="3"/>
                <a:endCxn id="189" idx="1"/>
              </p:cNvCxnSpPr>
              <p:nvPr/>
            </p:nvCxnSpPr>
            <p:spPr>
              <a:xfrm>
                <a:off x="2244600" y="2142720"/>
                <a:ext cx="32976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194" name="Straight Arrow Connector 43"/>
              <p:cNvCxnSpPr>
                <a:stCxn id="189" idx="3"/>
                <a:endCxn id="190" idx="1"/>
              </p:cNvCxnSpPr>
              <p:nvPr/>
            </p:nvCxnSpPr>
            <p:spPr>
              <a:xfrm>
                <a:off x="3650400" y="2142720"/>
                <a:ext cx="35388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195" name="Elbow Connector 44"/>
              <p:cNvCxnSpPr>
                <a:stCxn id="190" idx="2"/>
                <a:endCxn id="191" idx="0"/>
              </p:cNvCxnSpPr>
              <p:nvPr/>
            </p:nvCxnSpPr>
            <p:spPr>
              <a:xfrm rot="5400000">
                <a:off x="2827080" y="1330560"/>
                <a:ext cx="594720" cy="2836440"/>
              </a:xfrm>
              <a:prstGeom prst="bentConnector3">
                <a:avLst>
                  <a:gd name="adj1" fmla="val 34645"/>
                </a:avLst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196" name="Straight Arrow Connector 45"/>
              <p:cNvCxnSpPr>
                <a:stCxn id="191" idx="3"/>
                <a:endCxn id="192" idx="1"/>
              </p:cNvCxnSpPr>
              <p:nvPr/>
            </p:nvCxnSpPr>
            <p:spPr>
              <a:xfrm>
                <a:off x="2244600" y="3353400"/>
                <a:ext cx="18216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sp>
            <p:nvSpPr>
              <p:cNvPr id="197" name="Alternate Process 46"/>
              <p:cNvSpPr/>
              <p:nvPr/>
            </p:nvSpPr>
            <p:spPr>
              <a:xfrm>
                <a:off x="4004280" y="304560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95eeff"/>
                  </a:gs>
                  <a:gs pos="100000">
                    <a:srgbClr val="39b7d8"/>
                  </a:gs>
                </a:gsLst>
                <a:lin ang="5400000"/>
              </a:gradFill>
              <a:ln w="9360">
                <a:solidFill>
                  <a:srgbClr val="46aac5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900" spc="-1" strike="noStrike">
                    <a:solidFill>
                      <a:srgbClr val="c0504d"/>
                    </a:solidFill>
                    <a:latin typeface="Calibri"/>
                  </a:rPr>
                  <a:t>Does this work?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8" name="Straight Arrow Connector 47"/>
              <p:cNvCxnSpPr>
                <a:stCxn id="192" idx="3"/>
                <a:endCxn id="197" idx="1"/>
              </p:cNvCxnSpPr>
              <p:nvPr/>
            </p:nvCxnSpPr>
            <p:spPr>
              <a:xfrm>
                <a:off x="3884040" y="3353400"/>
                <a:ext cx="12060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sp>
            <p:nvSpPr>
              <p:cNvPr id="199" name="Alternate Process 48"/>
              <p:cNvSpPr/>
              <p:nvPr/>
            </p:nvSpPr>
            <p:spPr>
              <a:xfrm>
                <a:off x="1168200" y="3782160"/>
                <a:ext cx="1076400" cy="23040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dcffa0"/>
                  </a:gs>
                  <a:gs pos="100000">
                    <a:srgbClr val="a0ca4a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4f81bd"/>
                    </a:solidFill>
                    <a:latin typeface="Calibri"/>
                  </a:rPr>
                  <a:t>Element 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0" name="Straight Arrow Connector 49"/>
              <p:cNvCxnSpPr>
                <a:stCxn id="191" idx="2"/>
                <a:endCxn id="199" idx="0"/>
              </p:cNvCxnSpPr>
              <p:nvPr/>
            </p:nvCxnSpPr>
            <p:spPr>
              <a:xfrm>
                <a:off x="1706040" y="3661920"/>
                <a:ext cx="1080" cy="12060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201" name="Elbow Connector 50"/>
              <p:cNvCxnSpPr>
                <a:stCxn id="192" idx="2"/>
                <a:endCxn id="199" idx="3"/>
              </p:cNvCxnSpPr>
              <p:nvPr/>
            </p:nvCxnSpPr>
            <p:spPr>
              <a:xfrm rot="5400000">
                <a:off x="2675520" y="3418560"/>
                <a:ext cx="47520" cy="911160"/>
              </a:xfrm>
              <a:prstGeom prst="bentConnector2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2015+ Element 1 Strategy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lternate Process 15"/>
          <p:cNvSpPr/>
          <p:nvPr/>
        </p:nvSpPr>
        <p:spPr>
          <a:xfrm>
            <a:off x="6197760" y="3033720"/>
            <a:ext cx="2222280" cy="1206360"/>
          </a:xfrm>
          <a:prstGeom prst="flowChartAlternateProcess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+ Sentinel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lternate Process 17"/>
          <p:cNvSpPr/>
          <p:nvPr/>
        </p:nvSpPr>
        <p:spPr>
          <a:xfrm>
            <a:off x="6197760" y="1587600"/>
            <a:ext cx="2222280" cy="1206360"/>
          </a:xfrm>
          <a:prstGeom prst="flowChartAlternateProcess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+ CBERS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lternate Process 19"/>
          <p:cNvSpPr/>
          <p:nvPr/>
        </p:nvSpPr>
        <p:spPr>
          <a:xfrm>
            <a:off x="3289320" y="4570560"/>
            <a:ext cx="2222640" cy="1206360"/>
          </a:xfrm>
          <a:prstGeom prst="flowChartAlternateProcess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+ R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lternate Process 21"/>
          <p:cNvSpPr/>
          <p:nvPr/>
        </p:nvSpPr>
        <p:spPr>
          <a:xfrm>
            <a:off x="6197760" y="4570560"/>
            <a:ext cx="2222280" cy="1206360"/>
          </a:xfrm>
          <a:prstGeom prst="flowChartAlternateProcess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+ Sentinel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lternate Process 22"/>
          <p:cNvSpPr/>
          <p:nvPr/>
        </p:nvSpPr>
        <p:spPr>
          <a:xfrm>
            <a:off x="784080" y="4570560"/>
            <a:ext cx="2222640" cy="1206360"/>
          </a:xfrm>
          <a:prstGeom prst="flowChartAlternateProcess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+ SAOC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9"/>
          <p:cNvGrpSpPr/>
          <p:nvPr/>
        </p:nvGrpSpPr>
        <p:grpSpPr>
          <a:xfrm>
            <a:off x="542880" y="1587600"/>
            <a:ext cx="5133960" cy="2651040"/>
            <a:chOff x="542880" y="1587600"/>
            <a:chExt cx="5133960" cy="2651040"/>
          </a:xfrm>
        </p:grpSpPr>
        <p:sp>
          <p:nvSpPr>
            <p:cNvPr id="209" name="Rounded Rectangle 60"/>
            <p:cNvSpPr/>
            <p:nvPr/>
          </p:nvSpPr>
          <p:spPr>
            <a:xfrm>
              <a:off x="542880" y="1587600"/>
              <a:ext cx="5133960" cy="2651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1"/>
            <p:cNvGrpSpPr/>
            <p:nvPr/>
          </p:nvGrpSpPr>
          <p:grpSpPr>
            <a:xfrm>
              <a:off x="1168200" y="1834920"/>
              <a:ext cx="3912480" cy="2177640"/>
              <a:chOff x="1168200" y="1834920"/>
              <a:chExt cx="3912480" cy="2177640"/>
            </a:xfrm>
          </p:grpSpPr>
          <p:sp>
            <p:nvSpPr>
              <p:cNvPr id="211" name="Alternate Process 62"/>
              <p:cNvSpPr/>
              <p:nvPr/>
            </p:nvSpPr>
            <p:spPr>
              <a:xfrm>
                <a:off x="1168200" y="183492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dcffa0"/>
                  </a:gs>
                  <a:gs pos="100000">
                    <a:srgbClr val="a0ca4a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4f81bd"/>
                    </a:solidFill>
                    <a:latin typeface="Calibri"/>
                  </a:rPr>
                  <a:t>LS-7/LS-8 Global Coverag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lternate Process 63"/>
              <p:cNvSpPr/>
              <p:nvPr/>
            </p:nvSpPr>
            <p:spPr>
              <a:xfrm>
                <a:off x="2573640" y="183492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ff9a99"/>
                  </a:gs>
                  <a:gs pos="100000">
                    <a:srgbClr val="d1403c"/>
                  </a:gs>
                </a:gsLst>
                <a:lin ang="54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What about clouds?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Alternate Process 64"/>
              <p:cNvSpPr/>
              <p:nvPr/>
            </p:nvSpPr>
            <p:spPr>
              <a:xfrm>
                <a:off x="4004280" y="183492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ffb977"/>
                  </a:gs>
                  <a:gs pos="100000">
                    <a:srgbClr val="ff932b"/>
                  </a:gs>
                </a:gsLst>
                <a:lin ang="54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Assess impact of clouds (SEO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Alternate Process 65"/>
              <p:cNvSpPr/>
              <p:nvPr/>
            </p:nvSpPr>
            <p:spPr>
              <a:xfrm>
                <a:off x="1168200" y="304560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ffb977"/>
                  </a:gs>
                  <a:gs pos="100000">
                    <a:srgbClr val="ff932b"/>
                  </a:gs>
                </a:gsLst>
                <a:lin ang="54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Suggest Mitigation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lternate Process 66"/>
              <p:cNvSpPr/>
              <p:nvPr/>
            </p:nvSpPr>
            <p:spPr>
              <a:xfrm>
                <a:off x="2426040" y="2857320"/>
                <a:ext cx="1458000" cy="993240"/>
              </a:xfrm>
              <a:prstGeom prst="flowChartAlternateProcess">
                <a:avLst/>
              </a:prstGeom>
              <a:noFill/>
              <a:ln w="38160">
                <a:solidFill>
                  <a:srgbClr val="9bbb59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0" bIns="46800" anchor="ctr">
                <a:noAutofit/>
              </a:bodyPr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800" spc="-1" strike="noStrike">
                    <a:solidFill>
                      <a:srgbClr val="4f81bd"/>
                    </a:solidFill>
                    <a:latin typeface="Calibri"/>
                  </a:rPr>
                  <a:t>LTAP Modification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800" spc="-1" strike="noStrike">
                    <a:solidFill>
                      <a:srgbClr val="4f81bd"/>
                    </a:solidFill>
                    <a:latin typeface="Calibri"/>
                  </a:rPr>
                  <a:t>Pixel Min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800" spc="-1" strike="noStrike">
                    <a:solidFill>
                      <a:srgbClr val="4f81bd"/>
                    </a:solidFill>
                    <a:latin typeface="Calibri"/>
                  </a:rPr>
                  <a:t>Wait for the cavalr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46120" indent="-34308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0" i="1" lang="en-US" sz="600" spc="-1" strike="noStrike">
                    <a:solidFill>
                      <a:srgbClr val="4f81bd"/>
                    </a:solidFill>
                    <a:latin typeface="Calibri"/>
                    <a:ea typeface="ＭＳ Ｐゴシック"/>
                  </a:rPr>
                  <a:t>Selective C-Band SA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46120" indent="-34308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0" i="1" lang="en-US" sz="600" spc="-1" strike="noStrike">
                    <a:solidFill>
                      <a:srgbClr val="4f81bd"/>
                    </a:solidFill>
                    <a:latin typeface="Calibri"/>
                    <a:ea typeface="ＭＳ Ｐゴシック"/>
                  </a:rPr>
                  <a:t>CBERS/S-2 for revisi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46120" indent="-34308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0" i="1" lang="en-US" sz="600" spc="-1" strike="noStrike">
                    <a:solidFill>
                      <a:srgbClr val="4f81bd"/>
                    </a:solidFill>
                    <a:latin typeface="Calibri"/>
                    <a:ea typeface="ＭＳ Ｐゴシック"/>
                  </a:rPr>
                  <a:t>SAOCOM-1 for L-Band?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6" name="Straight Arrow Connector 67"/>
              <p:cNvCxnSpPr>
                <a:stCxn id="211" idx="3"/>
                <a:endCxn id="212" idx="1"/>
              </p:cNvCxnSpPr>
              <p:nvPr/>
            </p:nvCxnSpPr>
            <p:spPr>
              <a:xfrm>
                <a:off x="2244600" y="2142720"/>
                <a:ext cx="32976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217" name="Straight Arrow Connector 68"/>
              <p:cNvCxnSpPr>
                <a:stCxn id="212" idx="3"/>
                <a:endCxn id="213" idx="1"/>
              </p:cNvCxnSpPr>
              <p:nvPr/>
            </p:nvCxnSpPr>
            <p:spPr>
              <a:xfrm>
                <a:off x="3650400" y="2142720"/>
                <a:ext cx="35388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218" name="Elbow Connector 69"/>
              <p:cNvCxnSpPr>
                <a:stCxn id="213" idx="2"/>
                <a:endCxn id="214" idx="0"/>
              </p:cNvCxnSpPr>
              <p:nvPr/>
            </p:nvCxnSpPr>
            <p:spPr>
              <a:xfrm rot="5400000">
                <a:off x="2827080" y="1330560"/>
                <a:ext cx="594720" cy="2836440"/>
              </a:xfrm>
              <a:prstGeom prst="bentConnector3">
                <a:avLst>
                  <a:gd name="adj1" fmla="val 34645"/>
                </a:avLst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219" name="Straight Arrow Connector 70"/>
              <p:cNvCxnSpPr>
                <a:stCxn id="214" idx="3"/>
                <a:endCxn id="215" idx="1"/>
              </p:cNvCxnSpPr>
              <p:nvPr/>
            </p:nvCxnSpPr>
            <p:spPr>
              <a:xfrm>
                <a:off x="2244600" y="3353400"/>
                <a:ext cx="18216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sp>
            <p:nvSpPr>
              <p:cNvPr id="220" name="Alternate Process 71"/>
              <p:cNvSpPr/>
              <p:nvPr/>
            </p:nvSpPr>
            <p:spPr>
              <a:xfrm>
                <a:off x="4004280" y="304560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95eeff"/>
                  </a:gs>
                  <a:gs pos="100000">
                    <a:srgbClr val="39b7d8"/>
                  </a:gs>
                </a:gsLst>
                <a:lin ang="5400000"/>
              </a:gradFill>
              <a:ln w="9360">
                <a:solidFill>
                  <a:srgbClr val="46aac5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900" spc="-1" strike="noStrike">
                    <a:solidFill>
                      <a:srgbClr val="c0504d"/>
                    </a:solidFill>
                    <a:latin typeface="Calibri"/>
                  </a:rPr>
                  <a:t>Does this work?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1" name="Straight Arrow Connector 72"/>
              <p:cNvCxnSpPr>
                <a:stCxn id="215" idx="3"/>
                <a:endCxn id="220" idx="1"/>
              </p:cNvCxnSpPr>
              <p:nvPr/>
            </p:nvCxnSpPr>
            <p:spPr>
              <a:xfrm>
                <a:off x="3884040" y="3353400"/>
                <a:ext cx="12060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sp>
            <p:nvSpPr>
              <p:cNvPr id="222" name="Alternate Process 73"/>
              <p:cNvSpPr/>
              <p:nvPr/>
            </p:nvSpPr>
            <p:spPr>
              <a:xfrm>
                <a:off x="1168200" y="3782160"/>
                <a:ext cx="1076400" cy="23040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dcffa0"/>
                  </a:gs>
                  <a:gs pos="100000">
                    <a:srgbClr val="a0ca4a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4f81bd"/>
                    </a:solidFill>
                    <a:latin typeface="Calibri"/>
                  </a:rPr>
                  <a:t>Element 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3" name="Straight Arrow Connector 74"/>
              <p:cNvCxnSpPr>
                <a:stCxn id="214" idx="2"/>
                <a:endCxn id="222" idx="0"/>
              </p:cNvCxnSpPr>
              <p:nvPr/>
            </p:nvCxnSpPr>
            <p:spPr>
              <a:xfrm>
                <a:off x="1706040" y="3661920"/>
                <a:ext cx="1080" cy="12060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224" name="Elbow Connector 75"/>
              <p:cNvCxnSpPr>
                <a:stCxn id="215" idx="2"/>
                <a:endCxn id="222" idx="3"/>
              </p:cNvCxnSpPr>
              <p:nvPr/>
            </p:nvCxnSpPr>
            <p:spPr>
              <a:xfrm rot="5400000">
                <a:off x="2675520" y="3418560"/>
                <a:ext cx="47520" cy="911160"/>
              </a:xfrm>
              <a:prstGeom prst="bentConnector2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Major Issues to be Addres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ion 4.2 – 4.4 “Capacity Assessment” of each mission except Landsat is we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th in terms of text and actual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icult to assess capacity of future missions without agency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ion 5 “Gap Analysis” remains incomp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eds a section where the gaps are highlight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ections 6, 7, 8 – IMPLEMENTATION require significant review and confirmation by a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th a particular focus on 2013 and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What Are We Miss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ences to high resolution verification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IS-derived deforestation mas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s is not data delivery to a country, but an important product to support the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thing el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Cloud Coverage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O has analyzed DRC and Guy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e we happy with the methodolog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a short opportunity to update and expand the analysis before SIT-28 – what should the priority b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and the analysis to cover the 16 2013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ess which of those countries might most require element 2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arter scene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monstrate potential of pixel mining for one scen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ESSION 2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h40m to discuss the global baseline strate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m: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asic requirements and data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rank Mart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h10m: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asic strategy and core data stream r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tep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un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ed by session 3 on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ESSION 2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irmation that we are happy with the structure of the element 1 strate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irmation that we feel the element 1 strategy addresses all it need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list of tasks for report delivery for discussion and assignment confirmation in Session 5 (tomorr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m: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asic requirements and data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rank Mart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h10m: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asic strategy and core data stream r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tep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resentation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OS GFOI Strategy Elements (a remin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1 Status 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ing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1 Strategy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Issues to be Addr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We Miss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ssion 2 Ov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CEOS GFOI Strategy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498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iding document CEOS Plenary 2011 (Luc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CEOS STRATEGY FOR SPACE DATA COVERAGE AND CONTINUITY IN SUPPORT OF THE GEO GLOBAL FOREST OBSERVATIONS INITIATIVE (GFOI) AND FOREST CARBON TRACKING (FCT) TASK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line, coordinated global data acquisition strategy involving a number of ‘core data streams’ that can be used free-of-charge for GFOI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ordinated strategy for national data acquisi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upply in support of the FCT (R&amp;D? session 4)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Element 1 Status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significant evolution in December-Janu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ificant revision to the document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ch of the detailed content was removed to try and focus on the narr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26” la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med around CEOS annual cy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nual updates anticip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Milest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a complete element 1 global  baseline strategy to SIT-28 is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order not to miss one full year of the CEOS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order to confirm support from CEOS agencies for 2013 implementation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order to develop element 2 in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ct that at SIT-29 (20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ement 1 will be upd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ement 2 will be ready for endor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Writing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460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: Ake, John, Stephen, Ge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king at maximum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od analysis support from S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adline for SIT-28 materials is 1 M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 working days post-SDCG-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dditional contributors are needed in the next three weeks to succeed at SIT-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particular review and contributions to agency-specific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Element 1 Strategy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lternate Process 2"/>
          <p:cNvSpPr/>
          <p:nvPr/>
        </p:nvSpPr>
        <p:spPr>
          <a:xfrm>
            <a:off x="457200" y="5486400"/>
            <a:ext cx="8229600" cy="482760"/>
          </a:xfrm>
          <a:prstGeom prst="flowChartAlternateProcess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Governance </a:t>
            </a:r>
            <a:r>
              <a:rPr b="0" i="1" lang="en-US" sz="1800" spc="-1" strike="noStrike">
                <a:solidFill>
                  <a:srgbClr val="4f81bd"/>
                </a:solidFill>
                <a:latin typeface="Calibri"/>
              </a:rPr>
              <a:t>(S.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lternate Process 3"/>
          <p:cNvSpPr/>
          <p:nvPr/>
        </p:nvSpPr>
        <p:spPr>
          <a:xfrm>
            <a:off x="609480" y="1822320"/>
            <a:ext cx="2222640" cy="1206720"/>
          </a:xfrm>
          <a:prstGeom prst="flowChartAlternateProcess">
            <a:avLst/>
          </a:prstGeom>
          <a:gradFill rotWithShape="0">
            <a:gsLst>
              <a:gs pos="0">
                <a:srgbClr val="ff9a99"/>
              </a:gs>
              <a:gs pos="100000">
                <a:srgbClr val="d1403c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quirements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(S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lternate Process 6"/>
          <p:cNvSpPr/>
          <p:nvPr/>
        </p:nvSpPr>
        <p:spPr>
          <a:xfrm>
            <a:off x="3511440" y="1822320"/>
            <a:ext cx="2222640" cy="1206720"/>
          </a:xfrm>
          <a:prstGeom prst="flowChartAlternateProcess">
            <a:avLst/>
          </a:prstGeom>
          <a:gradFill rotWithShape="0">
            <a:gsLst>
              <a:gs pos="0">
                <a:srgbClr val="ffb977"/>
              </a:gs>
              <a:gs pos="100000">
                <a:srgbClr val="ff932b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(S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lternate Process 7"/>
          <p:cNvSpPr/>
          <p:nvPr/>
        </p:nvSpPr>
        <p:spPr>
          <a:xfrm>
            <a:off x="6464160" y="1822320"/>
            <a:ext cx="2222640" cy="1206720"/>
          </a:xfrm>
          <a:prstGeom prst="flowChartAlternateProcess">
            <a:avLst/>
          </a:prstGeom>
          <a:gradFill rotWithShape="0">
            <a:gsLst>
              <a:gs pos="0">
                <a:srgbClr val="ffb977"/>
              </a:gs>
              <a:gs pos="100000">
                <a:srgbClr val="ff932b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(S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lternate Process 8"/>
          <p:cNvSpPr/>
          <p:nvPr/>
        </p:nvSpPr>
        <p:spPr>
          <a:xfrm>
            <a:off x="609480" y="3860640"/>
            <a:ext cx="2222640" cy="1206720"/>
          </a:xfrm>
          <a:prstGeom prst="flowChartAlternateProcess">
            <a:avLst/>
          </a:prstGeom>
          <a:gradFill rotWithShape="0">
            <a:gsLst>
              <a:gs pos="0">
                <a:srgbClr val="ffb977"/>
              </a:gs>
              <a:gs pos="100000">
                <a:srgbClr val="ff932b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ap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(S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3206880" y="3613320"/>
            <a:ext cx="3009600" cy="1707840"/>
            <a:chOff x="3206880" y="3613320"/>
            <a:chExt cx="3009600" cy="1707840"/>
          </a:xfrm>
        </p:grpSpPr>
        <p:sp>
          <p:nvSpPr>
            <p:cNvPr id="154" name="Alternate Process 11"/>
            <p:cNvSpPr/>
            <p:nvPr/>
          </p:nvSpPr>
          <p:spPr>
            <a:xfrm>
              <a:off x="3612960" y="4006800"/>
              <a:ext cx="24256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dcffa0"/>
                </a:gs>
                <a:gs pos="100000">
                  <a:srgbClr val="a0ca4a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lternate Process 10"/>
            <p:cNvSpPr/>
            <p:nvPr/>
          </p:nvSpPr>
          <p:spPr>
            <a:xfrm>
              <a:off x="3460680" y="3854520"/>
              <a:ext cx="24256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dcffa0"/>
                </a:gs>
                <a:gs pos="100000">
                  <a:srgbClr val="a0ca4a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lternate Process 9"/>
            <p:cNvSpPr/>
            <p:nvPr/>
          </p:nvSpPr>
          <p:spPr>
            <a:xfrm>
              <a:off x="3308400" y="3701880"/>
              <a:ext cx="24256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dcffa0"/>
                </a:gs>
                <a:gs pos="100000">
                  <a:srgbClr val="a0ca4a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4f81bd"/>
                  </a:solidFill>
                  <a:latin typeface="Calibri"/>
                </a:rPr>
                <a:t>Implement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4f81bd"/>
                  </a:solidFill>
                  <a:latin typeface="Calibri"/>
                </a:rPr>
                <a:t>(S.6-8, 2013, 2014, 2015+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lternate Process 12"/>
            <p:cNvSpPr/>
            <p:nvPr/>
          </p:nvSpPr>
          <p:spPr>
            <a:xfrm>
              <a:off x="3206880" y="3613320"/>
              <a:ext cx="3009600" cy="1707840"/>
            </a:xfrm>
            <a:prstGeom prst="flowChartAlternateProcess">
              <a:avLst/>
            </a:prstGeom>
            <a:noFill/>
            <a:ln w="381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8" name="Straight Arrow Connector 14"/>
          <p:cNvCxnSpPr>
            <a:stCxn id="149" idx="3"/>
            <a:endCxn id="150" idx="1"/>
          </p:cNvCxnSpPr>
          <p:nvPr/>
        </p:nvCxnSpPr>
        <p:spPr>
          <a:xfrm>
            <a:off x="2831760" y="2425320"/>
            <a:ext cx="6800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59" name="Straight Arrow Connector 16"/>
          <p:cNvCxnSpPr>
            <a:stCxn id="150" idx="3"/>
            <a:endCxn id="151" idx="1"/>
          </p:cNvCxnSpPr>
          <p:nvPr/>
        </p:nvCxnSpPr>
        <p:spPr>
          <a:xfrm>
            <a:off x="5734080" y="2425320"/>
            <a:ext cx="73080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60" name="Elbow Connector 18"/>
          <p:cNvCxnSpPr>
            <a:stCxn id="151" idx="2"/>
            <a:endCxn id="152" idx="0"/>
          </p:cNvCxnSpPr>
          <p:nvPr/>
        </p:nvCxnSpPr>
        <p:spPr>
          <a:xfrm rot="5400000">
            <a:off x="4231440" y="517320"/>
            <a:ext cx="832320" cy="5855400"/>
          </a:xfrm>
          <a:prstGeom prst="bentConnector3">
            <a:avLst>
              <a:gd name="adj1" fmla="val 392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61" name="Straight Arrow Connector 20"/>
          <p:cNvCxnSpPr>
            <a:stCxn id="152" idx="3"/>
            <a:endCxn id="157" idx="1"/>
          </p:cNvCxnSpPr>
          <p:nvPr/>
        </p:nvCxnSpPr>
        <p:spPr>
          <a:xfrm>
            <a:off x="2831760" y="4463640"/>
            <a:ext cx="375480" cy="3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2" name="Alternate Process 24"/>
          <p:cNvSpPr/>
          <p:nvPr/>
        </p:nvSpPr>
        <p:spPr>
          <a:xfrm>
            <a:off x="6464160" y="3867120"/>
            <a:ext cx="2222640" cy="1206360"/>
          </a:xfrm>
          <a:prstGeom prst="flowChartAlternateProcess">
            <a:avLst/>
          </a:prstGeom>
          <a:gradFill rotWithShape="0">
            <a:gsLst>
              <a:gs pos="0">
                <a:srgbClr val="95eeff"/>
              </a:gs>
              <a:gs pos="100000">
                <a:srgbClr val="39b7d8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Calibri"/>
              </a:rPr>
              <a:t>Does this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Arrow Connector 29"/>
          <p:cNvCxnSpPr>
            <a:stCxn id="157" idx="3"/>
            <a:endCxn id="162" idx="1"/>
          </p:cNvCxnSpPr>
          <p:nvPr/>
        </p:nvCxnSpPr>
        <p:spPr>
          <a:xfrm>
            <a:off x="6216480" y="4466880"/>
            <a:ext cx="248400" cy="3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Element 1 Strategy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quirement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consul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FCCC/IPCC (informal), GOFC-GOLD,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ill not formal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rateg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e data streams and roles, phases, dynam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line, Regional, Selective (element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ap Analysi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les for non-core data stre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ement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quisition requests for data providers 2013, 2014, 2015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2013 Element 1 Strategy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Group 40"/>
          <p:cNvGrpSpPr/>
          <p:nvPr/>
        </p:nvGrpSpPr>
        <p:grpSpPr>
          <a:xfrm>
            <a:off x="609480" y="1593720"/>
            <a:ext cx="8077320" cy="4260960"/>
            <a:chOff x="609480" y="1593720"/>
            <a:chExt cx="8077320" cy="4260960"/>
          </a:xfrm>
        </p:grpSpPr>
        <p:sp>
          <p:nvSpPr>
            <p:cNvPr id="168" name="Alternate Process 3"/>
            <p:cNvSpPr/>
            <p:nvPr/>
          </p:nvSpPr>
          <p:spPr>
            <a:xfrm>
              <a:off x="609480" y="1593720"/>
              <a:ext cx="22222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dcffa0"/>
                </a:gs>
                <a:gs pos="100000">
                  <a:srgbClr val="a0ca4a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4f81bd"/>
                  </a:solidFill>
                  <a:latin typeface="Calibri"/>
                </a:rPr>
                <a:t>LS-7/LS-8 Global Cover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lternate Process 6"/>
            <p:cNvSpPr/>
            <p:nvPr/>
          </p:nvSpPr>
          <p:spPr>
            <a:xfrm>
              <a:off x="3511440" y="1593720"/>
              <a:ext cx="22222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ff9a99"/>
                </a:gs>
                <a:gs pos="100000">
                  <a:srgbClr val="d1403c"/>
                </a:gs>
              </a:gsLst>
              <a:lin ang="54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What about cloud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lternate Process 7"/>
            <p:cNvSpPr/>
            <p:nvPr/>
          </p:nvSpPr>
          <p:spPr>
            <a:xfrm>
              <a:off x="6464520" y="1593720"/>
              <a:ext cx="22222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ffb977"/>
                </a:gs>
                <a:gs pos="100000">
                  <a:srgbClr val="ff932b"/>
                </a:gs>
              </a:gsLst>
              <a:lin ang="5400000"/>
            </a:gradFill>
            <a:ln w="9360">
              <a:solidFill>
                <a:srgbClr val="f6924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Assess impact of clouds (SEO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lternate Process 8"/>
            <p:cNvSpPr/>
            <p:nvPr/>
          </p:nvSpPr>
          <p:spPr>
            <a:xfrm>
              <a:off x="609480" y="3962520"/>
              <a:ext cx="22222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ffb977"/>
                </a:gs>
                <a:gs pos="100000">
                  <a:srgbClr val="ff932b"/>
                </a:gs>
              </a:gsLst>
              <a:lin ang="5400000"/>
            </a:gradFill>
            <a:ln w="9360">
              <a:solidFill>
                <a:srgbClr val="f6924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Suggest Mitig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lternate Process 12"/>
            <p:cNvSpPr/>
            <p:nvPr/>
          </p:nvSpPr>
          <p:spPr>
            <a:xfrm>
              <a:off x="3206520" y="3593880"/>
              <a:ext cx="3009960" cy="1943280"/>
            </a:xfrm>
            <a:prstGeom prst="flowChartAlternateProcess">
              <a:avLst/>
            </a:prstGeom>
            <a:noFill/>
            <a:ln w="381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0800" bIns="46800" anchor="ctr">
              <a:noAutofit/>
            </a:bodyPr>
            <a:p>
              <a:pPr marL="285840" indent="-285840">
                <a:lnSpc>
                  <a:spcPct val="100000"/>
                </a:lnSpc>
                <a:buClr>
                  <a:srgbClr val="4f81bd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4f81bd"/>
                  </a:solidFill>
                  <a:latin typeface="Calibri"/>
                </a:rPr>
                <a:t>LTAP Modific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4f81bd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4f81bd"/>
                  </a:solidFill>
                  <a:latin typeface="Calibri"/>
                </a:rPr>
                <a:t>Pixel Mi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4f81bd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4f81bd"/>
                  </a:solidFill>
                  <a:latin typeface="Calibri"/>
                </a:rPr>
                <a:t>Wait for the caval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6120" indent="-343080">
                <a:lnSpc>
                  <a:spcPct val="100000"/>
                </a:lnSpc>
                <a:buClr>
                  <a:srgbClr val="4f81bd"/>
                </a:buClr>
                <a:buFont typeface="Arial"/>
                <a:buChar char="•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i="1" lang="en-US" sz="1600" spc="-1" strike="noStrike">
                  <a:solidFill>
                    <a:srgbClr val="4f81bd"/>
                  </a:solidFill>
                  <a:latin typeface="Calibri"/>
                  <a:ea typeface="ＭＳ Ｐゴシック"/>
                </a:rPr>
                <a:t>Selective C-Band S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6120" indent="-343080">
                <a:lnSpc>
                  <a:spcPct val="100000"/>
                </a:lnSpc>
                <a:buClr>
                  <a:srgbClr val="4f81bd"/>
                </a:buClr>
                <a:buFont typeface="Arial"/>
                <a:buChar char="•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i="1" lang="en-US" sz="1600" spc="-1" strike="noStrike">
                  <a:solidFill>
                    <a:srgbClr val="4f81bd"/>
                  </a:solidFill>
                  <a:latin typeface="Calibri"/>
                  <a:ea typeface="ＭＳ Ｐゴシック"/>
                </a:rPr>
                <a:t>CBERS/S-2 for revis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6120" indent="-343080">
                <a:lnSpc>
                  <a:spcPct val="100000"/>
                </a:lnSpc>
                <a:buClr>
                  <a:srgbClr val="4f81bd"/>
                </a:buClr>
                <a:buFont typeface="Arial"/>
                <a:buChar char="•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i="1" lang="en-US" sz="1600" spc="-1" strike="noStrike">
                  <a:solidFill>
                    <a:srgbClr val="4f81bd"/>
                  </a:solidFill>
                  <a:latin typeface="Calibri"/>
                  <a:ea typeface="ＭＳ Ｐゴシック"/>
                </a:rPr>
                <a:t>SAOCOM-1 for L-Band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4f81bd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Straight Arrow Connector 14"/>
            <p:cNvCxnSpPr>
              <a:stCxn id="168" idx="3"/>
              <a:endCxn id="169" idx="1"/>
            </p:cNvCxnSpPr>
            <p:nvPr/>
          </p:nvCxnSpPr>
          <p:spPr>
            <a:xfrm>
              <a:off x="2831400" y="2196360"/>
              <a:ext cx="680040" cy="10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74" name="Straight Arrow Connector 16"/>
            <p:cNvCxnSpPr>
              <a:stCxn id="169" idx="3"/>
              <a:endCxn id="170" idx="1"/>
            </p:cNvCxnSpPr>
            <p:nvPr/>
          </p:nvCxnSpPr>
          <p:spPr>
            <a:xfrm>
              <a:off x="5734080" y="2196360"/>
              <a:ext cx="730800" cy="10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75" name="Elbow Connector 18"/>
            <p:cNvCxnSpPr>
              <a:stCxn id="170" idx="2"/>
              <a:endCxn id="171" idx="0"/>
            </p:cNvCxnSpPr>
            <p:nvPr/>
          </p:nvCxnSpPr>
          <p:spPr>
            <a:xfrm rot="5400000">
              <a:off x="4066920" y="453600"/>
              <a:ext cx="1162440" cy="5855400"/>
            </a:xfrm>
            <a:prstGeom prst="bentConnector3">
              <a:avLst>
                <a:gd name="adj1" fmla="val 34696"/>
              </a:avLst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76" name="Straight Arrow Connector 20"/>
            <p:cNvCxnSpPr>
              <a:stCxn id="171" idx="3"/>
              <a:endCxn id="172" idx="1"/>
            </p:cNvCxnSpPr>
            <p:nvPr/>
          </p:nvCxnSpPr>
          <p:spPr>
            <a:xfrm>
              <a:off x="2831760" y="4565160"/>
              <a:ext cx="375120" cy="10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  <p:sp>
          <p:nvSpPr>
            <p:cNvPr id="177" name="Alternate Process 24"/>
            <p:cNvSpPr/>
            <p:nvPr/>
          </p:nvSpPr>
          <p:spPr>
            <a:xfrm>
              <a:off x="6464520" y="3962520"/>
              <a:ext cx="22222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95eeff"/>
                </a:gs>
                <a:gs pos="100000">
                  <a:srgbClr val="39b7d8"/>
                </a:gs>
              </a:gsLst>
              <a:lin ang="54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c0504d"/>
                  </a:solidFill>
                  <a:latin typeface="Calibri"/>
                </a:rPr>
                <a:t>Does this work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Straight Arrow Connector 29"/>
            <p:cNvCxnSpPr>
              <a:stCxn id="172" idx="3"/>
              <a:endCxn id="177" idx="1"/>
            </p:cNvCxnSpPr>
            <p:nvPr/>
          </p:nvCxnSpPr>
          <p:spPr>
            <a:xfrm>
              <a:off x="6216480" y="4565160"/>
              <a:ext cx="248040" cy="10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  <p:sp>
          <p:nvSpPr>
            <p:cNvPr id="179" name="Alternate Process 35"/>
            <p:cNvSpPr/>
            <p:nvPr/>
          </p:nvSpPr>
          <p:spPr>
            <a:xfrm>
              <a:off x="609480" y="5403960"/>
              <a:ext cx="2222280" cy="450720"/>
            </a:xfrm>
            <a:prstGeom prst="flowChartAlternateProcess">
              <a:avLst/>
            </a:prstGeom>
            <a:gradFill rotWithShape="0">
              <a:gsLst>
                <a:gs pos="0">
                  <a:srgbClr val="95eeff"/>
                </a:gs>
                <a:gs pos="100000">
                  <a:srgbClr val="39b7d8"/>
                </a:gs>
              </a:gsLst>
              <a:lin ang="54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4f81bd"/>
                  </a:solidFill>
                  <a:latin typeface="Calibri"/>
                </a:rPr>
                <a:t>Element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Straight Arrow Connector 37"/>
            <p:cNvCxnSpPr>
              <a:stCxn id="171" idx="2"/>
              <a:endCxn id="179" idx="0"/>
            </p:cNvCxnSpPr>
            <p:nvPr/>
          </p:nvCxnSpPr>
          <p:spPr>
            <a:xfrm>
              <a:off x="1720080" y="5168880"/>
              <a:ext cx="1080" cy="23544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81" name="Elbow Connector 39"/>
            <p:cNvCxnSpPr>
              <a:stCxn id="172" idx="2"/>
              <a:endCxn id="179" idx="3"/>
            </p:cNvCxnSpPr>
            <p:nvPr/>
          </p:nvCxnSpPr>
          <p:spPr>
            <a:xfrm rot="5400000">
              <a:off x="3724920" y="4642920"/>
              <a:ext cx="92520" cy="1880280"/>
            </a:xfrm>
            <a:prstGeom prst="bentConnector2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3:10:08Z</dcterms:created>
  <dc:creator>George Dyke</dc:creator>
  <dc:description/>
  <dc:language>en-US</dc:language>
  <cp:lastModifiedBy>George Dyke</cp:lastModifiedBy>
  <dcterms:modified xsi:type="dcterms:W3CDTF">2013-02-01T00:39:12Z</dcterms:modified>
  <cp:revision>357</cp:revision>
  <dc:subject/>
  <dc:title>Slide 1</dc:title>
</cp:coreProperties>
</file>