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2BCF-18B1-40EA-9BD5-DDCD81DB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76C5-DF9E-48F5-9A9D-B8F00ACF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40A8-7041-451C-A860-B44D315C4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B6FD-1243-461F-9AC8-90799A18C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A464-B618-4E63-A9C3-3188CB9D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9E2A-CB88-4192-8952-1FED7B42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1C89-993E-4A53-BE6B-3928B7FD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B317-AE5B-4708-A441-C71E1CF1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D21D-A3BF-4A0B-8ABF-487A617A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370B-8B67-4711-BBC0-87F6B950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5509-FE89-45BB-B5F8-AECC66EE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A903-DA84-43AC-A653-144F6FF6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6267BA-6BF4-4F64-A547-459388EC989D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4bacc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bacc6"/>
                </a:solidFill>
                <a:latin typeface="Calibri"/>
              </a:rPr>
              <a:t>SDCG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bacc6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4bacc6"/>
                </a:solidFill>
                <a:latin typeface="Calibri"/>
              </a:rPr>
              <a:t>USGS HQ @ Reston (Va)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bacc6"/>
                </a:solidFill>
                <a:latin typeface="Calibri"/>
              </a:rPr>
              <a:t>Sept 13-14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FB595E-E833-471F-B837-EF84D10ADF7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0" y="0"/>
            <a:ext cx="189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f81bd"/>
                </a:solidFill>
                <a:latin typeface="Calibri"/>
              </a:rPr>
              <a:t>www.earthobservation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7985160" y="22320"/>
            <a:ext cx="11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f81bd"/>
                </a:solidFill>
                <a:latin typeface="Calibri"/>
              </a:rPr>
              <a:t>www.gfoi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6"/>
          <p:cNvSpPr/>
          <p:nvPr/>
        </p:nvSpPr>
        <p:spPr>
          <a:xfrm>
            <a:off x="0" y="0"/>
            <a:ext cx="189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f81bd"/>
                </a:solidFill>
                <a:latin typeface="Calibri"/>
              </a:rPr>
              <a:t>www.earthobservation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7985160" y="22320"/>
            <a:ext cx="11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f81bd"/>
                </a:solidFill>
                <a:latin typeface="Calibri"/>
              </a:rPr>
              <a:t>www.gfoi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-4680" y="6195960"/>
            <a:ext cx="9148680" cy="662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GEO_Header_Presentation.jpg"/>
          <p:cNvPicPr/>
          <p:nvPr/>
        </p:nvPicPr>
        <p:blipFill>
          <a:blip r:embed="rId3"/>
          <a:srcRect l="0" t="25251" r="69395" b="16722"/>
          <a:stretch/>
        </p:blipFill>
        <p:spPr>
          <a:xfrm>
            <a:off x="-4680" y="6303960"/>
            <a:ext cx="2290680" cy="477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"/>
          <p:cNvPicPr/>
          <p:nvPr/>
        </p:nvPicPr>
        <p:blipFill>
          <a:blip r:embed="rId4"/>
          <a:stretch/>
        </p:blipFill>
        <p:spPr>
          <a:xfrm>
            <a:off x="2298600" y="6329520"/>
            <a:ext cx="943200" cy="471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5"/>
          <a:stretch/>
        </p:blipFill>
        <p:spPr>
          <a:xfrm>
            <a:off x="3390840" y="6291360"/>
            <a:ext cx="1187640" cy="471240"/>
          </a:xfrm>
          <a:prstGeom prst="rect">
            <a:avLst/>
          </a:prstGeom>
          <a:ln w="0">
            <a:noFill/>
          </a:ln>
        </p:spPr>
      </p:pic>
      <p:sp>
        <p:nvSpPr>
          <p:cNvPr id="49" name="Straight Connector 12"/>
          <p:cNvSpPr/>
          <p:nvPr/>
        </p:nvSpPr>
        <p:spPr>
          <a:xfrm>
            <a:off x="0" y="6194520"/>
            <a:ext cx="9144000" cy="1440"/>
          </a:xfrm>
          <a:prstGeom prst="line">
            <a:avLst/>
          </a:prstGeom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3"/>
          <p:cNvSpPr/>
          <p:nvPr/>
        </p:nvSpPr>
        <p:spPr>
          <a:xfrm>
            <a:off x="5359320" y="6326280"/>
            <a:ext cx="20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CG-3, Sydney,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ebruary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6"/>
          <p:cNvSpPr/>
          <p:nvPr/>
        </p:nvSpPr>
        <p:spPr>
          <a:xfrm>
            <a:off x="0" y="0"/>
            <a:ext cx="189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f81bd"/>
                </a:solidFill>
                <a:latin typeface="Calibri"/>
              </a:rPr>
              <a:t>www.earthobservation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7985160" y="22320"/>
            <a:ext cx="11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f81bd"/>
                </a:solidFill>
                <a:latin typeface="Calibri"/>
              </a:rPr>
              <a:t>www.gfoi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-4680" y="6195960"/>
            <a:ext cx="9148680" cy="662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GEO_Header_Presentation.jpg"/>
          <p:cNvPicPr/>
          <p:nvPr/>
        </p:nvPicPr>
        <p:blipFill>
          <a:blip r:embed="rId3"/>
          <a:srcRect l="0" t="25251" r="69395" b="16722"/>
          <a:stretch/>
        </p:blipFill>
        <p:spPr>
          <a:xfrm>
            <a:off x="-4680" y="6303960"/>
            <a:ext cx="2290680" cy="477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4"/>
          <a:stretch/>
        </p:blipFill>
        <p:spPr>
          <a:xfrm>
            <a:off x="2298600" y="6329520"/>
            <a:ext cx="943200" cy="471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"/>
          <p:cNvPicPr/>
          <p:nvPr/>
        </p:nvPicPr>
        <p:blipFill>
          <a:blip r:embed="rId5"/>
          <a:stretch/>
        </p:blipFill>
        <p:spPr>
          <a:xfrm>
            <a:off x="3390840" y="6291360"/>
            <a:ext cx="1187640" cy="471240"/>
          </a:xfrm>
          <a:prstGeom prst="rect">
            <a:avLst/>
          </a:prstGeom>
          <a:ln w="0">
            <a:noFill/>
          </a:ln>
        </p:spPr>
      </p:pic>
      <p:sp>
        <p:nvSpPr>
          <p:cNvPr id="95" name="Straight Connector 12"/>
          <p:cNvSpPr/>
          <p:nvPr/>
        </p:nvSpPr>
        <p:spPr>
          <a:xfrm>
            <a:off x="0" y="6194520"/>
            <a:ext cx="9144000" cy="1440"/>
          </a:xfrm>
          <a:prstGeom prst="line">
            <a:avLst/>
          </a:prstGeom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3"/>
          <p:cNvSpPr/>
          <p:nvPr/>
        </p:nvSpPr>
        <p:spPr>
          <a:xfrm>
            <a:off x="5359320" y="6326280"/>
            <a:ext cx="20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CG-3, Sydney,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ebruary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901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Expectations and Requirements for SIT-2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90680" y="3568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8eb4e3"/>
                </a:solidFill>
                <a:latin typeface="Calibri"/>
              </a:rPr>
              <a:t>G. Dy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How to get the strategy don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ximise capacity of the writing te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W/GD capacity TB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John, Ake at ma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ed to leverage agency revi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-scope the r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ove all non-acquisition implementation tas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ither move to a separate work plan, or (maybe) into section 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inimal coverage of 2014 and 2015+ imple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ov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Presentation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OS GFOI Strategy Elements (a remin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lest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T-28 Expectations: Annual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ort Expec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ints for Endorsement from Princip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CEOS GFOI Strategy El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498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uiding document CEOS Plenary 2011 (Lucc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THE CEOS STRATEGY FOR SPACE DATA COVERAGE AND CONTINUITY IN SUPPORT OF THE GEO GLOBAL FOREST OBSERVATIONS INITIATIVE (GFOI) AND FOREST CARBON TRACKING (FCT) TASK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ment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eline, coordinated global data acquisition strategy involving a number of ‘core data streams’ that can be used free-of-charge for GFOI purpo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ment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ordinated strategy for national data acquisit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ment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supply in support of the FCT (R&amp;D? session 4)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Milest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3456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ivery of a complete element 1 global  baseline strategy to SIT-28 is requi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 order not to miss one full year of the CEOS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 order to confirm support from CEOS agencies for 2013 implementation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 order to develop element 2 in 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ct that at SIT-29 (201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lement 1 will be upd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lement 2 will be ready for endors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SIT-28 Expec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3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DCG Co-Leads have contacted SIT Chair to establish expectations for SIT-2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-28 to establish a template for an annual cycle that focuses on the year ahead and seeks commitments from the satellite operator and data provider agencies for the necessary cove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SIT-28 Expec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3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port will spell out how we propose to transition to an ongoing global coverage capability as new core data streams come on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vering three epochs: 2013, 2014, and 2015+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tion is to ask relevant principals to commit to the coverage plans indicated for the near future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Endorsement from Princip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3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ill seek endorsement of the overall global baseline strategy, its phasing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ill seek commitment from the data provider agencies for the 2013 implementation plan (in reality, this means just Landsat for no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Endorsement from Princip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53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ill spell out our proposed approach to element 2 of the GFOI data strategy, which addresses the specific needs of individual countries and will seek feedback from SIT and from Principals for its refin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an input to SIT-28 on rationalisation of the SDCG and LSI terms of reference (per the Plenary ac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Endorsement from Princip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53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ore how we can support a 2013 Pilot Delivery Exercise which will take the CEOS data acquisitions and provide a national dataset for a few of the National Demonstrator countr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3:10:08Z</dcterms:created>
  <dc:creator>George Dyke</dc:creator>
  <dc:description/>
  <dc:language>en-US</dc:language>
  <cp:lastModifiedBy>George Dyke</cp:lastModifiedBy>
  <dcterms:modified xsi:type="dcterms:W3CDTF">2013-02-08T03:09:06Z</dcterms:modified>
  <cp:revision>375</cp:revision>
  <dc:subject/>
  <dc:title>Slide 1</dc:title>
</cp:coreProperties>
</file>