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7339E-2129-4544-A93C-473DCDBE7B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AC2F0-8B14-41BD-BAF4-B3D956F00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A8449-4A28-4F4E-9D25-51BBDEEDA371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47E3A-D282-425C-BD07-A19FF9938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0AFC3-96FC-4363-B626-196D1630B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87EE2-B9AD-4B79-9531-A90D34F7F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8D143-290D-4E4C-A41C-82AD0A1BC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DE28F-139B-4814-BA91-9C2C0CCF7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F2233-3418-4449-8AF4-BF3AFB0DC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394D1-A3E6-4DB0-AFFE-ED509681D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0B007-4C02-4600-AFB3-4FA70C93C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9E36-FDCB-4411-8F86-81F208B79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D553-47CB-42FE-A5E7-7C43D9D49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4AE2-511C-4D41-AC47-46E687D74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5F2C-B1C9-4A8C-8125-A579D304C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27B3-497F-402D-82B1-66CB3AEA1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271E-CD02-4AE7-A11D-0092F94323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131B-7018-499A-A8BF-DEF30ED1CB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835A-9F84-4F29-A61C-6F88B23C2E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134C-601A-4F5B-A697-168A4B3CAF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E653-B834-47F9-9EB6-0B129E231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0461-3813-479D-B85C-870D76AB99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BC18-2757-44B1-96C5-E37E3690EF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C6B5-31B8-4A82-9C3B-F0A5883A3A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8D3B-5A68-47F2-B358-9D0945BBF0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CDDD-568F-4BF5-9D4A-E1660F89F4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905E-ECC6-450A-8114-C9E8EA52F8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AAA33-806A-4E2E-A152-9866A0C899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E431-5596-468F-93F5-37B4052DF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E0E6-C99C-4AF6-8A49-8C66DB057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57F9-C5D8-4A09-BF4B-0DEDAA1ED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5D84-EBB8-40A2-8596-365B68DBC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1636-C882-4587-9479-FD68A2018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E4E8-7FB9-454F-B248-8F5E807A8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4D91-9938-4A0F-A72E-4AE84417E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200CD-AC3C-4407-A375-D583BD874E1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CB3C02FD-3A46-431A-AD46-14B13BEE9B15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57320" y="6523200"/>
            <a:ext cx="361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DCG-3 Meeting|Sydney, Australia| 7-9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DE944-582B-4BF3-A298-F60A335BA03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363400"/>
            <a:ext cx="48261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EOS Ad hoc Group for GEOGLAM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76560" y="166680"/>
            <a:ext cx="52070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GLAM Data Acquisition Pl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ro, Synergy, and Expec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83CF7-E293-41EA-A947-16AE3CCB5D4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DCG-GEOGLAM Agenda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6520" y="2076480"/>
          <a:ext cx="8609040" cy="3236760"/>
        </p:xfrm>
        <a:graphic>
          <a:graphicData uri="http://schemas.openxmlformats.org/drawingml/2006/table">
            <a:tbl>
              <a:tblPr/>
              <a:tblGrid>
                <a:gridCol w="1595520"/>
                <a:gridCol w="3498840"/>
                <a:gridCol w="3514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00-09:1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tro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15-09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ynergy/Expect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30-10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GEOGLAM Obj., Req., Phase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bal Becker-Reshef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0:30-11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Phase 1 Req., &amp; Volumetric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30-11:4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Way Forwar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. Kerry Sawyer. 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45-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Recommend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djour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26920-C28B-4BCC-8FEC-93CCC85BF32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tro, Synergy, 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3520" y="2155680"/>
            <a:ext cx="80769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form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gress to dat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s for SIT-28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llow-on pla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termin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cooperative area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xplor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 &amp; GEOGLAM expectat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1F735-F620-4CF8-901A-C0E6D037E54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1490760"/>
            <a:ext cx="83851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Meetings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since SIT-27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ser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Requirements Meet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a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June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-2 Mee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pt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ata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Plann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ere/Whe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v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-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GEOGLAM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 Strategy Workshop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IT-28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March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87F58-43DC-4345-8C5F-C9CD0BB6475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33520" y="1446120"/>
            <a:ext cx="8610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raft Year 1 Progress Re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Background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Team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liverabl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chedule &amp; Mileston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posed Observation Strateg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   = 2013 - 201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  = Mar 2014 - Nov 2015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I = Nov 2015 – Nov 2017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commendations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4324D-ED97-478E-A027-9C1EB8A7C8D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33520" y="2155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ollow on pla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corporate SDCG respons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articipate in GEOGLAM Strategy W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inalize Year 1 Re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r SIT-28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itiate Phase I activiti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 for Phase II effor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B940B-FB97-47E6-9BCD-D2ED3C693B0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ynergy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3520" y="1316160"/>
            <a:ext cx="80769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ommon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SDCG-GEOGLAM area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VE tool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O sup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ssible engagement with LSI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ptical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AR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Space Agenci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ublic-Private Partnership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mmercial EO data provide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request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8 countries overlap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25% of 71 GFOI/GEOGLAM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tential for data sharing (W2W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1AAFE-7FED-4E45-90F3-DCFCB936186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3520" y="2155680"/>
            <a:ext cx="80769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GEOGL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ntinued SEO/COVE sup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gular Communic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ared Lessons Lear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ventual SDCG incorporatio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SDCG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8CF68-F8B2-4106-882C-2AC4C096C3E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33520" y="2155680"/>
            <a:ext cx="8076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2569"/>
                </a:solidFill>
                <a:latin typeface="Arial"/>
              </a:rPr>
              <a:t>COMMENTS</a:t>
            </a: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Skotte Australia</cp:lastModifiedBy>
  <dcterms:modified xsi:type="dcterms:W3CDTF">2013-02-07T23:31:41Z</dcterms:modified>
  <cp:revision>170</cp:revision>
  <dc:subject/>
  <dc:title>Title</dc:title>
</cp:coreProperties>
</file>