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4021F-D00D-43A3-AD51-3D7B6A9786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2E13-BD86-4EA9-B026-611573942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ABBE3-69D0-4B6F-A61B-48B3A65A973F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44ECD-8B55-4AF0-BF53-4AA86C948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9CE4F-9DA3-4162-A741-F8018B086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77905-10A2-4048-AE4D-FD5E5CA0B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21701-B528-40F2-B2B5-A811146B5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16DAA-44B0-411B-8B76-72DFD1060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018A6-540B-4559-8AC1-FCC1E5CF4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38949-0777-4362-972F-5119A2F95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44E2E-9A13-438D-9D8F-6EE6AA215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D0A1-A59E-4869-A834-E7F0112F3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E08F-B7EE-418C-91D3-DE9A46BD9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FE79-31B7-4CE5-BF9E-75FB79706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28E2-4A2F-447B-891A-9D3B6B16C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C3C9-552A-47DA-B7E1-C5A7CA84A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72EE-A168-498C-8C8B-6FF944E7C3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BBA6-826D-4D70-B343-C4C6B31A46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61AA-50BF-4B61-A804-F490F2A3D4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978D-EA01-4C06-AC6C-568EEDF13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7877-3104-4146-BEB4-3CACF2F32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ABE7-3ADF-4266-809D-082040CB95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D665-C797-404E-A312-AC5BB9A63A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65BA-1887-4C7F-807A-BD72E1613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7E89-35BC-4EFD-93E7-F134749B94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D32B-A9FD-45C1-9283-B2E30955C4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C934-C37D-4E01-8FD0-1F6EB9442E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2033-8CFE-444E-AB64-5FB9543888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3715-3DA5-4A36-A837-164F5868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4A87-3D9F-44CA-83DC-CD424A6FC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7C4D-EDFE-4B30-A538-B5DB4A9BE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0EB6-CC9C-4A15-9C7D-533D2ECB4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00E9-5D3F-458F-8B20-13C90B0AD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8757-D0A0-4618-AEBB-A1D9DFB3F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A2FA-DEEB-45E3-A990-CDAAA9FC3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9A68F-FFAD-4AEB-A863-E6395A529A1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3DD03B13-BA5B-4EDB-833C-E4EFF0A920E7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95D77-F265-4348-B172-678A9886E03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pace Data Coordination Group (SDCG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ke Rosenqvist, for NSC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rank-Martin Seifert, ES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FOI Space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13 Implementation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DE80A-3B7F-4F34-B942-29F69CE883E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07696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Allow establishment of necessary coordination processes with contributing agenc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the schedule of gradually increasing availability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priorities set by the policy context and readiness of individual countries to participate in REDD+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ake into account the need for continuity of coverage of the existing National Demonstrator countr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C90A4-345A-4034-A6F1-C757ABE445E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Reliance upon CORE data strea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Landsat-7 and -8 (optical) – USG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1 series (C-band SAR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2 series (optical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BERS-3 &amp; -4 (optical) – INPE/CRESD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adarsat Constellation Mission (C-band SAR) –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Possible inclusion of contributing miss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FOI Implementation Plan operational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nd of 2015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21A47-AE2A-4271-9C8E-DB1B36902D5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279360" y="2043000"/>
            <a:ext cx="86058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72F13-BD87-4409-AB65-8BFD3E999CA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8" name="Picture 1" descr="2013 Countries.jpeg"/>
          <p:cNvPicPr/>
          <p:nvPr/>
        </p:nvPicPr>
        <p:blipFill>
          <a:blip r:embed="rId1"/>
          <a:stretch/>
        </p:blipFill>
        <p:spPr>
          <a:xfrm>
            <a:off x="419040" y="1676520"/>
            <a:ext cx="830592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D67B0-4D56-436D-A6DF-85CAD91A66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F2874-0C39-4043-9002-CB4ADC0B3B5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re Dat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122400" y="3033720"/>
          <a:ext cx="8880480" cy="26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3033720"/>
                    <a:ext cx="88804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C6FE-144A-4468-A47B-FBA2AD4254E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Straight Connector 4"/>
          <p:cNvSpPr/>
          <p:nvPr/>
        </p:nvSpPr>
        <p:spPr>
          <a:xfrm>
            <a:off x="458640" y="3903840"/>
            <a:ext cx="8170920" cy="0"/>
          </a:xfrm>
          <a:prstGeom prst="line">
            <a:avLst/>
          </a:prstGeom>
          <a:ln w="540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8C9EE-1E46-4F4D-AA35-5A858450F79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33520" y="2155680"/>
            <a:ext cx="80769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7T06:33:04Z</dcterms:modified>
  <cp:revision>168</cp:revision>
  <dc:subject/>
  <dc:title>Title</dc:title>
</cp:coreProperties>
</file>