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D81F-D8D8-4A4E-8FD4-4EBE6CA222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A86D-82BB-4EBA-92BA-2C13BC5AF7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DAF6174-5318-4A22-970C-408DC1A2DC9D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108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4812-D870-4616-8C74-DB98C6985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627B-BDB2-45B0-A905-E115AF0C6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E1DD-20B4-4733-BAFF-468086CB5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472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644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472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644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164B-366F-4DCF-9387-4C65FB2A3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372-28E7-41F9-9420-160F897985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00D-1CA4-49CE-8035-64AF23FA31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43B-5FD1-49F8-A479-449E75CC60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0D3-48C6-4063-8150-67F3A7188E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92F-9CF7-4864-B5A3-EC2A831330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937800"/>
            <a:ext cx="734220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9DB-0D93-4431-99A6-2F09AEC4BB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F8E-C11C-4CAE-A7CA-3553B2D71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5D5D-15A7-47F2-AD5F-9093FEF05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B43-014D-444D-9C6E-06A009636A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D78-43C7-4839-B880-4E4ACB8FF4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34A-5CA5-4ECC-A0C9-718AB05B00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C5D-EDF3-439A-ADA6-4660BF0FE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4472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644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4472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644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ADE-72F4-4511-90E0-DED1AB236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7382-916B-4D01-8A08-D81212044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C884-6140-4DB4-9E51-C27C970A7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C4D9-BBF0-43F6-B653-0161191EC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937800"/>
            <a:ext cx="734220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E06A-4CA8-4275-AC08-94AC73052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723E-4C33-42CE-BD4E-6EB032E6D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7A6E-F2A3-4D27-8E7A-29055B8DD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693B-AB2D-4573-8F2D-B24DF8C33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\\psf\Host\Users\cd\Desktop\Startbild_4zu3-Fuss.jpg"/>
          <p:cNvPicPr/>
          <p:nvPr/>
        </p:nvPicPr>
        <p:blipFill>
          <a:blip r:embed="rId2"/>
          <a:stretch/>
        </p:blipFill>
        <p:spPr>
          <a:xfrm>
            <a:off x="0" y="6307200"/>
            <a:ext cx="9144000" cy="55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6400" indent="-1796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244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Grafik 10" descr="dlr_signet.png"/>
          <p:cNvPicPr/>
          <p:nvPr/>
        </p:nvPicPr>
        <p:blipFill>
          <a:blip r:embed="rId3"/>
          <a:stretch/>
        </p:blipFill>
        <p:spPr>
          <a:xfrm>
            <a:off x="831960" y="6143760"/>
            <a:ext cx="571320" cy="5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1143000" y="122040"/>
            <a:ext cx="123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043B566E-CDBC-465E-8AA1-D6A81AF5AC5F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374560" y="122040"/>
            <a:ext cx="5398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\\psf\Host\Users\cd\Desktop\Startbild_4zu3-Fuss.jpg"/>
          <p:cNvPicPr/>
          <p:nvPr/>
        </p:nvPicPr>
        <p:blipFill>
          <a:blip r:embed="rId2"/>
          <a:stretch/>
        </p:blipFill>
        <p:spPr>
          <a:xfrm>
            <a:off x="0" y="6307200"/>
            <a:ext cx="9144000" cy="550800"/>
          </a:xfrm>
          <a:prstGeom prst="rect">
            <a:avLst/>
          </a:prstGeom>
          <a:ln w="0">
            <a:noFill/>
          </a:ln>
        </p:spPr>
      </p:pic>
      <p:pic>
        <p:nvPicPr>
          <p:cNvPr id="43" name="Grafik 10" descr="dlr_signet.png"/>
          <p:cNvPicPr/>
          <p:nvPr/>
        </p:nvPicPr>
        <p:blipFill>
          <a:blip r:embed="rId3"/>
          <a:stretch/>
        </p:blipFill>
        <p:spPr>
          <a:xfrm>
            <a:off x="831960" y="6143760"/>
            <a:ext cx="571320" cy="51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\\psf\Host\Users\cd\Desktop\Startbild_4zu3-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afik 10" descr="dlr_signet.png"/>
          <p:cNvPicPr/>
          <p:nvPr/>
        </p:nvPicPr>
        <p:blipFill>
          <a:blip r:embed="rId5"/>
          <a:stretch/>
        </p:blipFill>
        <p:spPr>
          <a:xfrm>
            <a:off x="676440" y="5857920"/>
            <a:ext cx="857160" cy="76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6400" indent="-1796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244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1143000" y="122040"/>
            <a:ext cx="123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F4625515-CDD4-4A17-B46E-28879246D8F0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2374560" y="122040"/>
            <a:ext cx="5398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392120"/>
            <a:ext cx="7342200" cy="7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EOS 3</a:t>
            </a:r>
            <a:r>
              <a:rPr b="1" lang="en-US" sz="2400" spc="-1" strike="noStrike" baseline="30000">
                <a:solidFill>
                  <a:srgbClr val="4d4d4d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SDCG Meeting</a:t>
            </a:r>
            <a:br>
              <a:rPr sz="2400"/>
            </a:b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2158920"/>
            <a:ext cx="73422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86868"/>
                </a:solidFill>
                <a:latin typeface="Arial"/>
              </a:rPr>
              <a:t>Update on German Government Data Buy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Dr. Helmut Staudenra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DLR Space Administration, Earth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helmut.staudenrausch@dlr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E5AE36D1-9BB8-462D-AE74-D79F896CB74B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GFOI Science &amp; Data Summit, Sydney, 4-9 February, 2013&gt; Dr. Helmut Staudenrausc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ckground ist Action SDCG-2-2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ut Staudenrausch and Steven Hosford, in coordination with Line Steinbakk, to discuss coordination of SPOT and RapidEye acquisitions over the Congo Basin and Madagas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eye Archive could be checked  against shapefile of SPOT Congo Coverage provided by CNES at the last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109AE71E-AFA5-46B2-AD75-010847846E6B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1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8A8F12CD-0509-4DF2-B173-2AB177381A20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5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1883880"/>
            <a:ext cx="7694640" cy="3992760"/>
          </a:xfrm>
          <a:prstGeom prst="rect">
            <a:avLst/>
          </a:prstGeom>
          <a:ln w="0">
            <a:noFill/>
          </a:ln>
        </p:spPr>
      </p:pic>
      <p:sp>
        <p:nvSpPr>
          <p:cNvPr id="156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9457E0B6-F964-4301-9D2F-058076E41AF2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Grafik 5" descr=""/>
          <p:cNvPicPr/>
          <p:nvPr/>
        </p:nvPicPr>
        <p:blipFill>
          <a:blip r:embed="rId2"/>
          <a:stretch/>
        </p:blipFill>
        <p:spPr>
          <a:xfrm>
            <a:off x="-579600" y="0"/>
            <a:ext cx="969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43000" y="1883880"/>
            <a:ext cx="7694640" cy="3992760"/>
          </a:xfrm>
          <a:prstGeom prst="rect">
            <a:avLst/>
          </a:prstGeom>
          <a:ln w="0">
            <a:noFill/>
          </a:ln>
        </p:spPr>
      </p:pic>
      <p:sp>
        <p:nvSpPr>
          <p:cNvPr id="161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FE77EAB7-66F7-4D99-9C83-D3977D95BEAF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Grafik 5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9077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Spot Congobasin initiative presented at German REDD+ Monitoring Event last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some value in coordinating SPOT – RapidEye, but needs further analysis and information from French initiative on their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y for German-French collabo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F60B855F-A1C7-450C-8D71-5F3172596E49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TerraSAR-X Coverage of FCT Sit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311040" y="2276640"/>
            <a:ext cx="4189320" cy="1949400"/>
            <a:chOff x="311040" y="2276640"/>
            <a:chExt cx="4189320" cy="1949400"/>
          </a:xfrm>
        </p:grpSpPr>
        <p:pic>
          <p:nvPicPr>
            <p:cNvPr id="99" name="Picture 5" descr="carbon_bmc_afrika"/>
            <p:cNvPicPr/>
            <p:nvPr/>
          </p:nvPicPr>
          <p:blipFill>
            <a:blip r:embed="rId1"/>
            <a:stretch/>
          </p:blipFill>
          <p:spPr>
            <a:xfrm>
              <a:off x="311040" y="2276640"/>
              <a:ext cx="418932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311040" y="37162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4716360" y="1486080"/>
            <a:ext cx="4176720" cy="1942920"/>
            <a:chOff x="4716360" y="1486080"/>
            <a:chExt cx="4176720" cy="1942920"/>
          </a:xfrm>
        </p:grpSpPr>
        <p:pic>
          <p:nvPicPr>
            <p:cNvPr id="102" name="Picture 6" descr="carbon_bmc_indonesien"/>
            <p:cNvPicPr/>
            <p:nvPr/>
          </p:nvPicPr>
          <p:blipFill>
            <a:blip r:embed="rId2"/>
            <a:stretch/>
          </p:blipFill>
          <p:spPr>
            <a:xfrm>
              <a:off x="4716360" y="148608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/>
            <p:cNvSpPr/>
            <p:nvPr/>
          </p:nvSpPr>
          <p:spPr>
            <a:xfrm>
              <a:off x="6300720" y="16304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dones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92160" y="4194000"/>
            <a:ext cx="4176720" cy="1942920"/>
            <a:chOff x="92160" y="4194000"/>
            <a:chExt cx="4176720" cy="1942920"/>
          </a:xfrm>
        </p:grpSpPr>
        <p:pic>
          <p:nvPicPr>
            <p:cNvPr id="105" name="Picture 9" descr="carbon_bmc_tasmanien"/>
            <p:cNvPicPr/>
            <p:nvPr/>
          </p:nvPicPr>
          <p:blipFill>
            <a:blip r:embed="rId3"/>
            <a:stretch/>
          </p:blipFill>
          <p:spPr>
            <a:xfrm>
              <a:off x="92160" y="419400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2"/>
            <p:cNvSpPr/>
            <p:nvPr/>
          </p:nvSpPr>
          <p:spPr>
            <a:xfrm>
              <a:off x="308160" y="5562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asman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7"/>
          <p:cNvGrpSpPr/>
          <p:nvPr/>
        </p:nvGrpSpPr>
        <p:grpSpPr>
          <a:xfrm>
            <a:off x="5148360" y="3284640"/>
            <a:ext cx="4176720" cy="1942920"/>
            <a:chOff x="5148360" y="3284640"/>
            <a:chExt cx="4176720" cy="1942920"/>
          </a:xfrm>
        </p:grpSpPr>
        <p:pic>
          <p:nvPicPr>
            <p:cNvPr id="108" name="Picture 8" descr="carbon_bmc_suedamerika"/>
            <p:cNvPicPr/>
            <p:nvPr/>
          </p:nvPicPr>
          <p:blipFill>
            <a:blip r:embed="rId4"/>
            <a:stretch/>
          </p:blipFill>
          <p:spPr>
            <a:xfrm>
              <a:off x="5148360" y="328464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3"/>
            <p:cNvSpPr/>
            <p:nvPr/>
          </p:nvSpPr>
          <p:spPr>
            <a:xfrm>
              <a:off x="7885440" y="350208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2843280" y="4869000"/>
            <a:ext cx="4176720" cy="1942920"/>
            <a:chOff x="2843280" y="4869000"/>
            <a:chExt cx="4176720" cy="1942920"/>
          </a:xfrm>
        </p:grpSpPr>
        <p:pic>
          <p:nvPicPr>
            <p:cNvPr id="111" name="Picture 7" descr="carbon_bmc_mexiko"/>
            <p:cNvPicPr/>
            <p:nvPr/>
          </p:nvPicPr>
          <p:blipFill>
            <a:blip r:embed="rId5"/>
            <a:stretch/>
          </p:blipFill>
          <p:spPr>
            <a:xfrm>
              <a:off x="2843280" y="486900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4"/>
            <p:cNvSpPr/>
            <p:nvPr/>
          </p:nvSpPr>
          <p:spPr>
            <a:xfrm>
              <a:off x="5723280" y="5111640"/>
              <a:ext cx="93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entral Ame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Rechteck 1"/>
          <p:cNvSpPr/>
          <p:nvPr/>
        </p:nvSpPr>
        <p:spPr>
          <a:xfrm>
            <a:off x="539640" y="12682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5 sites obser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umerous data takes available in the DLR archive, and continued. StripMap Mode,      dual polarized (HH/HV and VV/V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7416720" cy="388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9948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Status TanDEM-X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6" name="Foliennummernplatzhalter 3"/>
          <p:cNvSpPr/>
          <p:nvPr/>
        </p:nvSpPr>
        <p:spPr>
          <a:xfrm>
            <a:off x="3200400" y="6477120"/>
            <a:ext cx="5562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5458EAB-ADD8-4D74-80C8-A66BC3DD949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&gt; February 2012 &gt; DLR Space Adnistration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haltsplatzhalter 1"/>
          <p:cNvSpPr/>
          <p:nvPr/>
        </p:nvSpPr>
        <p:spPr>
          <a:xfrm>
            <a:off x="324000" y="119700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First full global coverage completed –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 underway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/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 coverage expected to be completed by end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Global DEM (90 m resolution) will be offered for scientific explo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Global dataset (~6 m resolution) offered for GFOI under special te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5"/>
          <a:stretch/>
        </p:blipFill>
        <p:spPr>
          <a:xfrm>
            <a:off x="6300720" y="5454720"/>
            <a:ext cx="284472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Summary – DLR Data access for GFOI R&amp;D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rraSAR-X: DLR Science Service Seg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ttp://sss.terrasar-x.dlr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nDEM-X (DEM) data access: https://tandemx-science.dlr.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Eye data available through RapidEye company directly, but scientific exploitation also through DLR RapidEye Science Arch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ttp://resaweb.dlr.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ation between international GFOI R&amp;D groups and German researchers sought. Contacts can b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9280" indent="-179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LR ready for more coordinated approach with respect to GFOI R&amp;D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 CE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TerraSAR-X and TanDEM-X Summary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74312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84360" y="1557360"/>
            <a:ext cx="7920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blic Private Partnership between DLR and EADS Astrium Germa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th satellites – TerraSAR-X and TanDEM-X – are in very good healt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tinue/optimize acquisition for validation sites, support scientific exploitation of data, continuity (Constellation with Paz, TerraSAR-X NG) plan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55640" y="1969920"/>
            <a:ext cx="3510000" cy="1584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504d"/>
                </a:solidFill>
                <a:uFillTx/>
                <a:latin typeface="Times New Roman"/>
              </a:rPr>
              <a:t>DL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Project &amp; Miss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G/S Development &amp; O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ystem Engineering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cience Coordination/Explo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913280" y="1969920"/>
            <a:ext cx="3384720" cy="1584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504d"/>
                </a:solidFill>
                <a:uFillTx/>
                <a:latin typeface="Times New Roman"/>
              </a:rPr>
              <a:t>Astrium Geo-Information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ervice 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Information Produ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Commercial Explo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haltsplatzhalter 1"/>
          <p:cNvSpPr/>
          <p:nvPr/>
        </p:nvSpPr>
        <p:spPr>
          <a:xfrm>
            <a:off x="755640" y="4057560"/>
            <a:ext cx="388764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45 Light"/>
              </a:rPr>
              <a:t>Actual GFOI R&amp;D (FCT) Con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FCT Validation sites are established as background mi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Data access along DLR procedu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haltsplatzhalter 1"/>
          <p:cNvSpPr/>
          <p:nvPr/>
        </p:nvSpPr>
        <p:spPr>
          <a:xfrm>
            <a:off x="5003640" y="4062240"/>
            <a:ext cx="41403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45 Light"/>
              </a:rPr>
              <a:t>Potential GFOI con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Bilateral demonstration projects existing/envisaged (Africa, Latin Americ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Framework needed  for „GFOI approach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feil nach unten 1"/>
          <p:cNvSpPr/>
          <p:nvPr/>
        </p:nvSpPr>
        <p:spPr>
          <a:xfrm>
            <a:off x="2174760" y="3625920"/>
            <a:ext cx="5256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feil nach unten 10"/>
          <p:cNvSpPr/>
          <p:nvPr/>
        </p:nvSpPr>
        <p:spPr>
          <a:xfrm>
            <a:off x="6280200" y="3625920"/>
            <a:ext cx="5238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Other relevant DLR activiti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ding development/improvement of relevant methods for REDD+ and GFOI, such as automated, large area monitoring of changes in forest cover and landuse, forest degrad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cus on synergistic use of Sentinels and German 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ordination/collaboration with GFOI teams being s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-CARBON Project (starting in May 2013, Humboldt-Uni Berlin, Uni Bonn, Study area in Amazo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kshop with relevant German officials, providers, researchers and international partners (see www.d-geo.de/red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port of literature study and database (see www.redd.uni-jena.de/index_en.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D3307729-3B4D-4133-940D-D31D73EC7ADF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82172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German REDD+ development cooperatio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1618" t="16327" r="2981" b="9920"/>
          <a:stretch/>
        </p:blipFill>
        <p:spPr>
          <a:xfrm>
            <a:off x="5219640" y="4522680"/>
            <a:ext cx="3905280" cy="2319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24000" y="1412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ous bilateral activities, incl. Satellite data, monitoring systems and related 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going MRV projects in SADC, Ghana, Indonesia, Latin Ame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on, investment  of € 500 Mio/year for forestry and biod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“REDD Early Movers” program providing, among others, performance payments for quantified emission re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nvestor in the Forest Carbon Partnership Facility (FCPF) and other multilatera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CI financed Project for  REDD+ MRV implementation in 18 (?) countries additional to UN-RED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Mexico and adjacent countries (southwards)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fer of Mexican NFMS to other regions in Meso-America, as a South2South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ation proposed to German Government for funding (Colombia,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ludes RapidEye wall2wall proposed as cooperation with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SX/TDX Data also proposed to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riching Mexican NFMS with  TSX/TDX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9C6BE013-19D7-4165-B4A5-574A3FB69143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Other countri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onesia (ForClime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DC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lly: No clear overall picture concerning data buy involved in all of these activities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3A245114-DE5B-47D2-9DB2-114C4EA0EF81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06:51:55Z</dcterms:created>
  <dc:creator>Mayerhofer, Ludwig</dc:creator>
  <dc:description/>
  <dc:language>en-US</dc:language>
  <cp:lastModifiedBy>Staudenrausch, Helmut</cp:lastModifiedBy>
  <dcterms:modified xsi:type="dcterms:W3CDTF">2013-02-08T00:36:16Z</dcterms:modified>
  <cp:revision>84</cp:revision>
  <dc:subject/>
  <dc:title>PowerPoint-Präsentation</dc:title>
</cp:coreProperties>
</file>