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6895A-B162-43BF-A13A-FF3B10DD9B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8E4BFE-54CB-49C4-8041-A5492928A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FDF131-E6F6-4758-BF52-DEB347D16613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F620A-45A5-417D-8F25-29F1AF724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503F5-303E-4F08-B1A1-36B4B65A0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25214-5B85-4CB9-8355-697BC2EEF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C3D87-DC7E-420A-99A5-603F6D8DD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979D3-B9DE-497C-818A-00D8054C6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EF4F1-CA52-4EC0-B337-FE77B8017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8D7453-7542-4690-A581-9647A45DCA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4CEDC2-8B96-4610-807D-24CAD2CD0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56BDC-119F-423B-9AB5-98AB50284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F81FB-02C9-4B7C-A52B-532E8F25D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5B19-8262-4788-A9C1-63CA1C3C3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E35A-E8F2-4E85-9043-8EAB45B078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D99E1-CFFA-42A9-B5F7-6C47F9ACA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B9EA9-9142-4525-9CE3-7143968257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4C38E-3ACC-4B57-B8C1-ED1CBDB5BD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F8C24-1940-4D66-B816-99BBF25295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7A276-38B3-40F0-B975-92ED58D4AD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69027-E005-4C2A-BC01-97851F601A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1270-9297-4684-9947-47823EE3F8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7D908-0D54-4C77-A8E8-2E1B81CE16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2F6E4-E531-4CA3-BAE5-393E1A211A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99303-DCDA-4AC6-B3B2-9FEE5A21D0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59F88-B993-436D-A7F4-15328AF632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860DD-067F-4043-A3F0-F7D2F22E67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E1F18-30B4-48AA-81D6-552F59075F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52084-E77C-43A6-A474-51028C535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01B89-A1C3-4BC3-91BB-BF885E3D3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C7357-33DC-4B70-83DF-D32F48A9A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A8D60-CEE3-4C9A-9D68-137DF2512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A5204-E544-4EFE-975E-DA245B9AF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8B5DF-836B-4066-9AE6-1716FBBD4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9EEB-9655-4066-B8E9-F5BE37A26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-2160" y="558720"/>
            <a:ext cx="129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DCG-3 Meeting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ydney, Australi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7-9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7B10D-B212-4542-819C-B0C1BBC3E1DD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10296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E7E77996-4A66-43D2-9F1F-BA2B6BEC87FE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1057320" y="6523200"/>
            <a:ext cx="361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CEOS SDCG-3 Meeting|Sydney, Australia| 7-9 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-2160" y="558720"/>
            <a:ext cx="129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DCG-3 Meeting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ydney, Australi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7-9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BFE7D3-5050-4E40-86B7-43B599C7F9EB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081320" y="2363400"/>
            <a:ext cx="482616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pace Data Coordination Group (SDCG)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ke Rosenqvist, for NSC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Frank-Martin Seifert, ESA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John Faundeen, USGS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976560" y="166680"/>
            <a:ext cx="520704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FOI Space Data Acquisition Pl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013 Implementation P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02AB6-7539-4020-8098-3ED1F93445EA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1379520" y="212760"/>
            <a:ext cx="585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013 Implementation Pla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533520" y="2155680"/>
            <a:ext cx="8076960" cy="41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Arial"/>
              </a:rPr>
              <a:t>Allow establishment of necessary coordination processes with contributing agencie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Arial"/>
              </a:rPr>
              <a:t>reflect the schedule of gradually increasing availability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Arial"/>
              </a:rPr>
              <a:t>reflect priorities set by the policy context and readiness of individual countries to participate in REDD+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Arial"/>
              </a:rPr>
              <a:t>take into account the need for continuity of coverage of the existing National Demonstrator countrie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58E12-4B49-4625-8F15-60FD5349AE54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1379520" y="212760"/>
            <a:ext cx="585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013 Implementation Pla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33520" y="2155680"/>
            <a:ext cx="80769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Reliance upon CORE data stream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Landsat-7 and -8 (optical) – USG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entinel-1 series (C-band SAR) – ESA/EC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entinel-2 series (optical) – ESA/EC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BERS-3 &amp; -4 (optical) – INPE/CRESD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Radarsat Constellation Mission (C-band SAR) – CS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Possible inclusion of contributing mission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GFOI Implementation Plan operational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End of 2015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619F7-BA2E-4283-91EC-CDE004C329CE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Title 1"/>
          <p:cNvSpPr/>
          <p:nvPr/>
        </p:nvSpPr>
        <p:spPr>
          <a:xfrm>
            <a:off x="1379520" y="212760"/>
            <a:ext cx="585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013 Implementation Pla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533520" y="2155680"/>
            <a:ext cx="80769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44" name="Object 4" descr=""/>
          <p:cNvPicPr/>
          <p:nvPr/>
        </p:nvPicPr>
        <p:blipFill>
          <a:blip r:embed="rId1"/>
          <a:stretch/>
        </p:blipFill>
        <p:spPr>
          <a:xfrm>
            <a:off x="279360" y="2043000"/>
            <a:ext cx="860580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723E4-A2E9-4194-BFC8-1AEA3C648EAE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>
            <a:off x="1379520" y="212760"/>
            <a:ext cx="585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013 Implementation Pla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533520" y="2155680"/>
            <a:ext cx="80769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48" name="Picture 1" descr="2013 Countries.jpeg"/>
          <p:cNvPicPr/>
          <p:nvPr/>
        </p:nvPicPr>
        <p:blipFill>
          <a:blip r:embed="rId1"/>
          <a:stretch/>
        </p:blipFill>
        <p:spPr>
          <a:xfrm>
            <a:off x="419040" y="1676520"/>
            <a:ext cx="8305920" cy="34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A11934-4220-4489-893D-119CD07D4C69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1379520" y="212760"/>
            <a:ext cx="585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013 Implementation Pla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533520" y="2155680"/>
            <a:ext cx="80769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0" y="1328760"/>
            <a:ext cx="9144000" cy="55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47E30-2968-4F32-9E47-87B8C78D0A26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1379520" y="212760"/>
            <a:ext cx="585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013 Implementation Pla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533520" y="2155680"/>
            <a:ext cx="80769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ore Data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graphicFrame>
        <p:nvGraphicFramePr>
          <p:cNvPr id="156" name="Object 1"/>
          <p:cNvGraphicFramePr/>
          <p:nvPr/>
        </p:nvGraphicFramePr>
        <p:xfrm>
          <a:off x="122400" y="3033720"/>
          <a:ext cx="8880480" cy="26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3033720"/>
                    <a:ext cx="888048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928DD-853C-4A1B-BA31-EE3699AD40B9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9" name="Title 1"/>
          <p:cNvSpPr/>
          <p:nvPr/>
        </p:nvSpPr>
        <p:spPr>
          <a:xfrm>
            <a:off x="1379520" y="212760"/>
            <a:ext cx="585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013 Implementation Pla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533520" y="2155680"/>
            <a:ext cx="80769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1" name="Straight Connector 4"/>
          <p:cNvSpPr/>
          <p:nvPr/>
        </p:nvSpPr>
        <p:spPr>
          <a:xfrm>
            <a:off x="458640" y="3903840"/>
            <a:ext cx="8170920" cy="0"/>
          </a:xfrm>
          <a:prstGeom prst="line">
            <a:avLst/>
          </a:prstGeom>
          <a:ln w="5400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861A1-502F-4BBA-95A7-58AC4F522FEB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3" name="Title 1"/>
          <p:cNvSpPr/>
          <p:nvPr/>
        </p:nvSpPr>
        <p:spPr>
          <a:xfrm>
            <a:off x="1379520" y="212760"/>
            <a:ext cx="585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013 Implementation Pla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533520" y="2155680"/>
            <a:ext cx="80769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2569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6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01:11:17Z</dcterms:created>
  <dc:creator>Brian Killough</dc:creator>
  <dc:description/>
  <dc:language>en-US</dc:language>
  <cp:lastModifiedBy>John  Faundeen</cp:lastModifiedBy>
  <dcterms:modified xsi:type="dcterms:W3CDTF">2013-02-07T06:33:04Z</dcterms:modified>
  <cp:revision>168</cp:revision>
  <dc:subject/>
  <dc:title>Title</dc:title>
</cp:coreProperties>
</file>