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0A8C0-5240-47D1-9007-7790C9599B97}"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2477B-4CD0-4DC2-AAE4-4AD1CFBCC1B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47CCC-3DC1-4C98-AC60-9994DFF676CF}"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DD2D7-6932-4A78-9C88-A7BA2522B24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ED6F3-464D-4B8A-8C80-653960E2FAD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DF46A-3173-47D1-9504-F755C34ABD1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05F83-1C22-4806-BFEB-3BC8AFE173B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7741E0-E9FF-4BDA-9F41-DC7B5B8A105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E9AE3-FB16-4D88-9278-F8B4B6AED60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2D363-5388-491C-BBE0-A6C7B11AFE6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52587-53CF-43AD-AE82-CBEF3DD675F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77937-D7AE-4308-AA84-F79B4073927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B6364-23B2-4861-8689-F87A9704387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9ABA7-A8DA-49A0-88BC-A3EC77E75F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29D33A4F-244C-4006-BEB9-F706D26712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6BB53DC3-5B48-41FF-B4E5-7DFD6460B1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0B715BDB-FF26-481F-BA4D-64BB42DC5F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44DC99ED-9F72-4943-9BD7-57E0B0A3D5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9AF82F-2257-4384-BB31-B83B279443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377FFB2C-9847-44A5-BE45-638E31BD34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67AB4345-B478-4917-BA6C-23BF12A183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61814C1B-8774-4BB7-9908-8E391FF4F9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CD30773E-5B11-4CDC-A08C-6E46A2FBDE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020179E5-3680-4AD1-A8BD-B106676B33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FD7A8105-FBEE-4C65-85EC-CB2F4E2D2E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A2875117-E1FE-46BD-95FF-57A1BDB832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890BB397-357B-4B92-848B-FA4486B1FB8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17DD68BA-0B9A-4783-985F-3CA9C876C9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BB9B7425-8AA7-42E0-9A87-3B4FE79F39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31047362-565C-42DD-A75B-8B65BA1C7F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F3F59F00-18C6-4377-9522-2CD079CFE3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C7438926-CADB-46C7-802C-E929107667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6324164-6CA4-4703-98E9-9AEF5CEDB5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B8F9A544-7039-41A7-9021-832DE86075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172475CF-254F-41CA-A54E-13D14720DA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71291A63-192A-4813-A0EA-2E07CCE31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9253B605-951B-4468-8B08-35C15B3BEC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B9063-7CF6-4527-AE42-82158DAD9532}"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C79B985A-0D8F-4D87-B5A1-0AADC0D0F5DB}"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1C701-2D4E-44CA-B385-85B75C060BFF}"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993240" y="2350800"/>
            <a:ext cx="799020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pace Data Coordination Group </a:t>
            </a:r>
            <a:r>
              <a:rPr b="1" lang="en-GB" sz="1800" spc="-1" strike="noStrike">
                <a:solidFill>
                  <a:srgbClr val="ffffff"/>
                </a:solidFill>
                <a:latin typeface="Calibri"/>
              </a:rPr>
              <a:t>	</a:t>
            </a:r>
            <a:r>
              <a:rPr b="1" lang="en-GB" sz="1800" spc="-1" strike="noStrike">
                <a:solidFill>
                  <a:srgbClr val="ffffff"/>
                </a:solidFill>
                <a:latin typeface="Calibri"/>
              </a:rPr>
              <a:t>Land Surface Imaging Virtual Constellation</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ke Rosenqvist, for NSC</a:t>
            </a:r>
            <a:r>
              <a:rPr b="1" lang="en-GB" sz="1800" spc="-1" strike="noStrike">
                <a:solidFill>
                  <a:srgbClr val="ffffff"/>
                </a:solidFill>
                <a:latin typeface="Calibri"/>
              </a:rPr>
              <a:t>	</a:t>
            </a:r>
            <a:r>
              <a:rPr b="1" lang="en-GB" sz="1800" spc="-1" strike="noStrike">
                <a:solidFill>
                  <a:srgbClr val="ffffff"/>
                </a:solidFill>
                <a:latin typeface="Calibri"/>
              </a:rPr>
              <a:t>	</a:t>
            </a:r>
            <a:r>
              <a:rPr b="1" lang="en-GB" sz="1800" spc="-1" strike="noStrike">
                <a:solidFill>
                  <a:srgbClr val="ffffff"/>
                </a:solidFill>
                <a:latin typeface="Calibri"/>
              </a:rPr>
              <a:t>Julio Dalge, INPE</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ank-Martin Seifert, ESA</a:t>
            </a:r>
            <a:r>
              <a:rPr b="1" lang="en-GB" sz="1800" spc="-1" strike="noStrike">
                <a:solidFill>
                  <a:srgbClr val="ffffff"/>
                </a:solidFill>
                <a:latin typeface="Calibri"/>
              </a:rPr>
              <a:t>	</a:t>
            </a:r>
            <a:r>
              <a:rPr b="1" lang="en-GB" sz="1800" spc="-1" strike="noStrike">
                <a:solidFill>
                  <a:srgbClr val="ffffff"/>
                </a:solidFill>
                <a:latin typeface="Calibri"/>
              </a:rPr>
              <a:t>	</a:t>
            </a:r>
            <a:r>
              <a:rPr b="1" lang="en-GB" sz="1800" spc="-1" strike="noStrike">
                <a:solidFill>
                  <a:srgbClr val="ffffff"/>
                </a:solidFill>
                <a:latin typeface="Calibri"/>
              </a:rPr>
              <a:t>P.G. Diwakar, ISRO</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r>
              <a:rPr b="1" lang="en-GB" sz="1800" spc="-1" strike="noStrike">
                <a:solidFill>
                  <a:srgbClr val="ffffff"/>
                </a:solidFill>
                <a:latin typeface="Calibri"/>
              </a:rPr>
              <a:t>	</a:t>
            </a:r>
            <a:r>
              <a:rPr b="1" lang="en-GB" sz="1800" spc="-1" strike="noStrike">
                <a:solidFill>
                  <a:srgbClr val="ffffff"/>
                </a:solidFill>
                <a:latin typeface="Calibri"/>
              </a:rPr>
              <a:t>	</a:t>
            </a: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6560" y="166680"/>
            <a:ext cx="520704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FOI Space Data Acquisition Plan </a:t>
            </a:r>
            <a:r>
              <a:rPr b="1" lang="en-US" sz="2400" spc="-1" strike="noStrike">
                <a:solidFill>
                  <a:srgbClr val="ffff00"/>
                </a:solidFill>
                <a:latin typeface="Arial"/>
              </a:rPr>
              <a:t>LSI and SDCG TORs</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F2C194-49A0-4153-9883-669FAF3D3E30}"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1"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 LSI TORs</a:t>
            </a:r>
            <a:endParaRPr b="0" lang="en-US" sz="3200" spc="-1" strike="noStrike">
              <a:solidFill>
                <a:srgbClr val="002569"/>
              </a:solidFill>
              <a:latin typeface="Arial"/>
            </a:endParaRPr>
          </a:p>
        </p:txBody>
      </p:sp>
      <p:sp>
        <p:nvSpPr>
          <p:cNvPr id="162" name="Rectangle 2"/>
          <p:cNvSpPr/>
          <p:nvPr/>
        </p:nvSpPr>
        <p:spPr>
          <a:xfrm>
            <a:off x="150840" y="1373040"/>
            <a:ext cx="89028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Deliverables:</a:t>
            </a:r>
            <a:r>
              <a:rPr b="0" lang="en-US" sz="2000" spc="-1" strike="noStrike">
                <a:solidFill>
                  <a:srgbClr val="002569"/>
                </a:solidFill>
                <a:latin typeface="Arial"/>
              </a:rPr>
              <a:t> The LSI VC will provide the following services and activities:</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 </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Provide distribution services from the LSI portal for CEOS agency terrestrial data.</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Facilitate the distribution of terrestrial ECVs as recommended by the WGClimate. </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Strive to a</a:t>
            </a:r>
            <a:r>
              <a:rPr b="0" lang="en-GB" sz="2000" spc="-1" strike="noStrike">
                <a:solidFill>
                  <a:srgbClr val="002569"/>
                </a:solidFill>
                <a:latin typeface="Arial"/>
              </a:rPr>
              <a:t>ddress the cross-cutting issues that are common and fundamental to all data coordination responses from CEOS (information extraction, cross calibration, inter-operability, long-term data records, availability and dissemination) in cooperation with the other CEOS Working Groups.</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2569"/>
                </a:solidFill>
                <a:latin typeface="Arial"/>
              </a:rPr>
              <a:t>Provide end users updated information on current CEOS data coverages, gaps and potential discontinuity in data availability.</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Investigate a land data coordination role with CEOS agencies utilizing Public-Private Partnership arrangements with the goal to facilítate data access and usage for CEOS sponsored activities. </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4DDAA-207A-4926-B50B-8932043864B0}"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4"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a:t>
            </a:r>
            <a:endParaRPr b="0" lang="en-US" sz="3200" spc="-1" strike="noStrike">
              <a:solidFill>
                <a:srgbClr val="002569"/>
              </a:solidFill>
              <a:latin typeface="Arial"/>
            </a:endParaRPr>
          </a:p>
        </p:txBody>
      </p:sp>
      <p:sp>
        <p:nvSpPr>
          <p:cNvPr id="165" name="Rectangle 2"/>
          <p:cNvSpPr/>
          <p:nvPr/>
        </p:nvSpPr>
        <p:spPr>
          <a:xfrm>
            <a:off x="150840" y="2682720"/>
            <a:ext cx="89028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2569"/>
                </a:solidFill>
                <a:latin typeface="Arial"/>
              </a:rPr>
              <a:t>DISCUSSION</a:t>
            </a:r>
            <a:endParaRPr b="0" lang="en-US" sz="6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B7DCE-568F-489B-84D9-AE0B5C8DEE1C}"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LSI</a:t>
            </a:r>
            <a:endParaRPr b="0" lang="en-US" sz="3200" spc="-1" strike="noStrike">
              <a:solidFill>
                <a:srgbClr val="002569"/>
              </a:solidFill>
              <a:latin typeface="Arial"/>
            </a:endParaRPr>
          </a:p>
        </p:txBody>
      </p:sp>
      <p:sp>
        <p:nvSpPr>
          <p:cNvPr id="137" name="TextBox 6"/>
          <p:cNvSpPr/>
          <p:nvPr/>
        </p:nvSpPr>
        <p:spPr>
          <a:xfrm>
            <a:off x="533520" y="2155680"/>
            <a:ext cx="8076960" cy="492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Background</a:t>
            </a:r>
            <a:r>
              <a:rPr b="0" lang="en-US" sz="2400" spc="-1" strike="noStrike">
                <a:solidFill>
                  <a:srgbClr val="002569"/>
                </a:solidFill>
                <a:latin typeface="Arial"/>
              </a:rPr>
              <a:t>: The CEOS Land Surface Imaging Virtual Constellation (LSI VC) was established through a Declaration of Intent signed by seven CEOS agencies in 2007.</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Purpose:</a:t>
            </a:r>
            <a:r>
              <a:rPr b="0" lang="en-US" sz="2400" spc="-1" strike="noStrike">
                <a:solidFill>
                  <a:srgbClr val="002569"/>
                </a:solidFill>
                <a:latin typeface="Arial"/>
              </a:rPr>
              <a:t> The LSI VC primary role is to promote the effective and comprehensive collection, distribution, and application of Earth Observation (EO) data of the global land surface, especially to meet societal needs of the global population, such as those addressed by the Group on Earth Observations (GEO) societal benefit areas (SBAs).</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E456D-6599-43B8-B7BC-32520504B0E6}"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LSI 1/2</a:t>
            </a:r>
            <a:endParaRPr b="0" lang="en-US" sz="3200" spc="-1" strike="noStrike">
              <a:solidFill>
                <a:srgbClr val="002569"/>
              </a:solidFill>
              <a:latin typeface="Arial"/>
            </a:endParaRPr>
          </a:p>
        </p:txBody>
      </p:sp>
      <p:sp>
        <p:nvSpPr>
          <p:cNvPr id="140" name="TextBox 6"/>
          <p:cNvSpPr/>
          <p:nvPr/>
        </p:nvSpPr>
        <p:spPr>
          <a:xfrm>
            <a:off x="533520" y="2155680"/>
            <a:ext cx="807696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Scope:</a:t>
            </a:r>
            <a:r>
              <a:rPr b="0" lang="en-US" sz="2400" spc="-1" strike="noStrike">
                <a:solidFill>
                  <a:srgbClr val="002569"/>
                </a:solidFill>
                <a:latin typeface="Arial"/>
              </a:rPr>
              <a:t> The remit of LSI VC is to coordinate and focus land EO contributions from CEOS agencies supporting CEOS priorities. This includes considering space-based Remote Sensing from optical (visible and infrared including thermal) and microwave instruments. The CEOS Priority Actions are main drivers for the group with the current LSI VC focus on:</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92B22-1AB0-49D7-8354-BEEE82B59064}"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LSI 2/2</a:t>
            </a:r>
            <a:endParaRPr b="0" lang="en-US" sz="3200" spc="-1" strike="noStrike">
              <a:solidFill>
                <a:srgbClr val="002569"/>
              </a:solidFill>
              <a:latin typeface="Arial"/>
            </a:endParaRPr>
          </a:p>
        </p:txBody>
      </p:sp>
      <p:sp>
        <p:nvSpPr>
          <p:cNvPr id="143" name="TextBox 6"/>
          <p:cNvSpPr/>
          <p:nvPr/>
        </p:nvSpPr>
        <p:spPr>
          <a:xfrm>
            <a:off x="533520" y="1592280"/>
            <a:ext cx="8076960" cy="492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Improved coordination support of Space Agency terrestrial activities related to climate initiative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Direct support to key GEO initiatives that CEOS has endorsed including the Forest Carbon Tracking, the Global Forest Observations Initiative, the Joint Experiments on Crop Assessment and Monitoring and, as appropriate, the GEO Global Agricultural Monitoring</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Investigating ways LSI can integrate or utilize the outputs from CEOS Quality Assurance for Earth Observation (QA4EO) effort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Developing tools and sponsoring forums for CEOS terrestrial mission planning. </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6949E-E355-44B7-91A4-8499BDD69F19}"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a:t>
            </a:r>
            <a:endParaRPr b="0" lang="en-US" sz="3200" spc="-1" strike="noStrike">
              <a:solidFill>
                <a:srgbClr val="002569"/>
              </a:solidFill>
              <a:latin typeface="Arial"/>
            </a:endParaRPr>
          </a:p>
        </p:txBody>
      </p:sp>
      <p:sp>
        <p:nvSpPr>
          <p:cNvPr id="146" name="TextBox 6"/>
          <p:cNvSpPr/>
          <p:nvPr/>
        </p:nvSpPr>
        <p:spPr>
          <a:xfrm>
            <a:off x="533520" y="2155680"/>
            <a:ext cx="807696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2569"/>
                </a:solidFill>
                <a:latin typeface="Arial"/>
              </a:rPr>
              <a:t>Background</a:t>
            </a:r>
            <a:r>
              <a:rPr b="0" lang="en-AU" sz="2400" spc="-1" strike="noStrike">
                <a:solidFill>
                  <a:srgbClr val="002569"/>
                </a:solidFill>
                <a:latin typeface="Arial"/>
              </a:rPr>
              <a:t>: The CEOS GFOI Space Data Coordination Group (SDCG) was established by the 25</a:t>
            </a:r>
            <a:r>
              <a:rPr b="0" lang="en-AU" sz="2400" spc="-1" strike="noStrike" baseline="30000">
                <a:solidFill>
                  <a:srgbClr val="002569"/>
                </a:solidFill>
                <a:latin typeface="Arial"/>
              </a:rPr>
              <a:t>th</a:t>
            </a:r>
            <a:r>
              <a:rPr b="0" lang="en-AU" sz="2400" spc="-1" strike="noStrike">
                <a:solidFill>
                  <a:srgbClr val="002569"/>
                </a:solidFill>
                <a:latin typeface="Arial"/>
              </a:rPr>
              <a:t> CEOS Plenary (November 2011).</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2569"/>
                </a:solidFill>
                <a:latin typeface="Arial"/>
              </a:rPr>
              <a:t>Purpose:</a:t>
            </a:r>
            <a:r>
              <a:rPr b="0" lang="en-AU" sz="2400" spc="-1" strike="noStrike">
                <a:solidFill>
                  <a:srgbClr val="002569"/>
                </a:solidFill>
                <a:latin typeface="Arial"/>
              </a:rPr>
              <a:t> The SDCG serves to implement </a:t>
            </a:r>
            <a:r>
              <a:rPr b="0" i="1" lang="en-AU" sz="2400" spc="-1" strike="noStrike">
                <a:solidFill>
                  <a:srgbClr val="002569"/>
                </a:solidFill>
                <a:latin typeface="Arial"/>
              </a:rPr>
              <a:t>The CEOS Strategy for Space Data Coverage and Continuity in Support of the GEO Global Forest Observations Initiative (GFOI) and Forest Carbon Tracking (FCT) Task</a:t>
            </a:r>
            <a:r>
              <a:rPr b="0" lang="en-AU" sz="2400" spc="-1" strike="noStrike">
                <a:solidFill>
                  <a:srgbClr val="002569"/>
                </a:solidFill>
                <a:latin typeface="Arial"/>
              </a:rPr>
              <a:t>.</a:t>
            </a:r>
            <a:r>
              <a:rPr b="0" lang="en-US" sz="2400" spc="-1" strike="noStrike">
                <a:solidFill>
                  <a:srgbClr val="002569"/>
                </a:solidFill>
                <a:latin typeface="Arial"/>
              </a:rPr>
              <a:t> </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E4D5F-5D86-41FE-A2B3-5F1547AC623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 1/2</a:t>
            </a:r>
            <a:endParaRPr b="0" lang="en-US" sz="3200" spc="-1" strike="noStrike">
              <a:solidFill>
                <a:srgbClr val="002569"/>
              </a:solidFill>
              <a:latin typeface="Arial"/>
            </a:endParaRPr>
          </a:p>
        </p:txBody>
      </p:sp>
      <p:sp>
        <p:nvSpPr>
          <p:cNvPr id="149" name="TextBox 6"/>
          <p:cNvSpPr/>
          <p:nvPr/>
        </p:nvSpPr>
        <p:spPr>
          <a:xfrm>
            <a:off x="233280" y="1457280"/>
            <a:ext cx="8377200" cy="565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2569"/>
                </a:solidFill>
                <a:latin typeface="Arial"/>
              </a:rPr>
              <a:t>Scope:</a:t>
            </a:r>
            <a:r>
              <a:rPr b="0" lang="en-AU" sz="2400" spc="-1" strike="noStrike">
                <a:solidFill>
                  <a:srgbClr val="002569"/>
                </a:solidFill>
                <a:latin typeface="Arial"/>
              </a:rPr>
              <a:t> The remit of SDCG activities is defined by the scope of the CEOS Data Strategy document. Points to note:</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The SDCG seeks to support coordinated acquisition of all relevant Earth observing missions in support of GFOI and FCT needs emphasis is on coordination of CEOS agency missions, but an effective interface will be developed to engage and communicate needs to commercial operators</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The SDCG will limit its coordination to acquisition planning, at least initially; the broader scheme of data processing and distribution will be directed by the GFOI implementation, and the SDCG may have a role therein in due course</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82291-00A0-45C4-A24D-A00BADB427E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 2/2</a:t>
            </a:r>
            <a:endParaRPr b="0" lang="en-US" sz="3200" spc="-1" strike="noStrike">
              <a:solidFill>
                <a:srgbClr val="002569"/>
              </a:solidFill>
              <a:latin typeface="Arial"/>
            </a:endParaRPr>
          </a:p>
        </p:txBody>
      </p:sp>
      <p:sp>
        <p:nvSpPr>
          <p:cNvPr id="152" name="TextBox 6"/>
          <p:cNvSpPr/>
          <p:nvPr/>
        </p:nvSpPr>
        <p:spPr>
          <a:xfrm>
            <a:off x="533520" y="2155680"/>
            <a:ext cx="807696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The SDCG is not intended to be an open-ended arrangement for support of GFOI operations; it is anticipated that as the institutional arrangements and capacity for GFOI and its Project Office develop, the SDCG functions will transition into these structures.</a:t>
            </a:r>
            <a:r>
              <a:rPr b="0" lang="en-US" sz="2400" spc="-1" strike="noStrike">
                <a:solidFill>
                  <a:srgbClr val="002569"/>
                </a:solidFill>
                <a:latin typeface="Arial"/>
              </a:rPr>
              <a:t> </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Noting the need for data coordination processes in support of other emerging CEOS priorities, the SDCG is being established with a view to being able to broaden its scope in future.</a:t>
            </a: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FC507-436C-475F-B7EB-5890E6B3B62A}"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89064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 LSI TORs</a:t>
            </a:r>
            <a:endParaRPr b="0" lang="en-US" sz="3200" spc="-1" strike="noStrike">
              <a:solidFill>
                <a:srgbClr val="002569"/>
              </a:solidFill>
              <a:latin typeface="Arial"/>
            </a:endParaRPr>
          </a:p>
        </p:txBody>
      </p:sp>
      <p:sp>
        <p:nvSpPr>
          <p:cNvPr id="155" name="TextBox 6"/>
          <p:cNvSpPr/>
          <p:nvPr/>
        </p:nvSpPr>
        <p:spPr>
          <a:xfrm>
            <a:off x="533520" y="2155680"/>
            <a:ext cx="8076960" cy="360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2569"/>
                </a:solidFill>
                <a:latin typeface="Arial"/>
                <a:ea typeface="ＭＳ Ｐゴシック"/>
              </a:rPr>
              <a:t>Scope:</a:t>
            </a:r>
            <a:r>
              <a:rPr b="0" lang="en-US" sz="2400" spc="-1" strike="noStrike">
                <a:solidFill>
                  <a:srgbClr val="002569"/>
                </a:solidFill>
                <a:latin typeface="Arial"/>
                <a:ea typeface="ＭＳ Ｐゴシック"/>
              </a:rPr>
              <a:t> The remit of LSI VC is to coordinate the distribution of terrestrial data including terrestrial Essential Climate Variables (ECVs), from CEOS agencies supporting CEOS priorities. This includes considering space-based remote sensing from optical (visible and infrared including thermal) and microwave instruments. The CEOS Priority Actions are main drivers for the group with the current LSI VC focus on: </a:t>
            </a:r>
            <a:endParaRPr b="0" lang="en-US" sz="24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B59AD-4DC1-403D-AF67-A93DD0FD2F7F}"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7"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 LSI TORs</a:t>
            </a:r>
            <a:endParaRPr b="0" lang="en-US" sz="3200" spc="-1" strike="noStrike">
              <a:solidFill>
                <a:srgbClr val="002569"/>
              </a:solidFill>
              <a:latin typeface="Arial"/>
            </a:endParaRPr>
          </a:p>
        </p:txBody>
      </p:sp>
      <p:sp>
        <p:nvSpPr>
          <p:cNvPr id="158" name="Rectangle 2"/>
          <p:cNvSpPr/>
          <p:nvPr/>
        </p:nvSpPr>
        <p:spPr>
          <a:xfrm>
            <a:off x="442800" y="1582560"/>
            <a:ext cx="8202600" cy="3448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irect support to key GEO initiatives that CEOS has endorsed including the Forest Carbon Tracking, the Global Forest Observations Initiative, the Joint Experiments on Crop Assessment and Monitoring and, as appropriate, the GEO Global Agricultural Monitoring</a:t>
            </a: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nvestigating ways LSI can integrate or utilize the outputs from CEOS Quality Assurance for Earth Observation (QA4EO) efforts</a:t>
            </a: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veloping tools and sponsoring forums for CEOS terrestrial mission planning. </a:t>
            </a:r>
            <a:endParaRPr b="0" lang="en-US" sz="2000" spc="-1" strike="noStrike">
              <a:solidFill>
                <a:srgbClr val="002569"/>
              </a:solidFill>
              <a:latin typeface="Arial"/>
            </a:endParaRPr>
          </a:p>
        </p:txBody>
      </p:sp>
      <p:sp>
        <p:nvSpPr>
          <p:cNvPr id="159" name="TextBox 3"/>
          <p:cNvSpPr/>
          <p:nvPr/>
        </p:nvSpPr>
        <p:spPr>
          <a:xfrm>
            <a:off x="6498720" y="60580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See slide 4</a:t>
            </a: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Skotte Australia</cp:lastModifiedBy>
  <dcterms:modified xsi:type="dcterms:W3CDTF">2013-02-07T23:31:13Z</dcterms:modified>
  <cp:revision>163</cp:revision>
  <dc:subject/>
  <dc:title>Title</dc:title>
</cp:coreProperties>
</file>