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5.jpeg" ContentType="image/jpeg"/>
  <Override PartName="/ppt/media/image36.wmf" ContentType="image/x-wmf"/>
  <Override PartName="/ppt/media/image16.png" ContentType="image/png"/>
  <Override PartName="/ppt/media/image8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183-EE94-48BD-BB06-7E083330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DAA-1080-4803-9996-2B1974DB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4A93B-99EF-42A0-9121-E7CDF0E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70C2D-1322-48F4-9C90-791DDAE7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CAD7C-6E72-429B-BAAA-83DE68B7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195B-D36F-4846-A7C8-FFC58E6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8D841-8578-44EA-ADC9-814B422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ABE44-3740-49AA-8CFF-DCE743E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6030-AB5C-4D65-8C28-0B6F59F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620C8-6A5F-4DB0-8690-14066A5C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EBB5-1887-4DD8-B5C6-78F65EE4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3DFBB-B433-4C64-B939-E3E8FA1C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509-EEBF-4753-A10A-6861DEA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256A8-4D10-4D50-9527-F431D6B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1CF0F-280F-4569-977A-0CF77FEC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A18DD-03E9-43E4-A6B1-450E8A43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E63A2-60F1-4F8C-A4B7-0CF013A9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CA2A0-D5A6-4DF2-8DD1-677456F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B2B0E-475F-47DB-80A4-2116A76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4D863-8ED1-46A2-88C6-6DF5225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F8FED-19B0-4AEC-8A52-C8C03D4B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B97D-E9DA-4107-AEB7-82FD562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2725A-41BB-4470-AF5F-559E35BC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303-EC3B-410D-AD6D-89D61B8A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7E1C7-99F8-4092-B661-0820B0A4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05CA-EC6C-4DA0-97F8-ED395509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AD24-CE39-477B-B789-E58BC176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8F101-DF8B-4F91-B682-F50F662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081EE-35AA-4589-B3F2-C5469071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8D3D7-C631-496C-99FB-A5D07E5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97B8D-7311-48D9-B95C-79F8A2DB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6EDB6-C3A4-459A-B64B-98DA9F1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49502-06A2-42A0-89C4-7215C0F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505F-A0E2-4E58-934C-E0DC7E3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10D-9F06-4B53-AF29-6966D543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F42F-B370-4921-B4DA-C2055EC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962D-7C44-436C-94F0-548937B5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54D39-41D3-4C68-9244-3D7D5162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65EB1-8E83-4EF1-9AFF-2796C06B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7DDEE-D72E-4936-BD2F-7B309B48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212A0-72E8-4DB6-9370-D089B3C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507A0-39BB-4DF7-AD76-B9E60548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05B5-36C3-456C-A299-7B1E0C9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D04D2-8FD8-4D73-9795-34098D35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BCAEA-00D8-4E79-AB56-06AE612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773-50AB-4DC4-BF3A-773EA9E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CA2EE-0052-4F56-9E50-4BD8040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B6D3A-2146-413F-96B9-043A29F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40C2B-5A5F-49B0-8A5A-0EDB1B41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F598-F198-46EC-BE5D-34EB298C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AFB28-B8EE-499B-ADD6-F16FF7CE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4F7B5-D54F-46BD-9781-202F13D9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41611-610D-4C5B-8861-0DF7CD7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BAF18-3FB1-475E-8215-9914D1F9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0FD88-506D-44AD-818E-C4626FF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F5B72-9686-4B7B-909D-8323C7F2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D328-03A9-475F-8D19-55E04373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13BA5-A515-4F3D-B9FA-0348D3A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19909-2BB9-477C-92BE-36A6B8D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07E8E-6CC3-44DB-B6C3-E3FC5E4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F6DD6-069E-482E-820E-5B6E5A0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DC82A-814B-4395-9A87-0F687FB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72083-D683-43F9-A873-D6400041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D5480-DF77-4B35-AB44-041B86B1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6DA-B2D0-4C80-87C9-52E6E69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96F3-6F4D-4BE5-9F2F-58AFA29C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70E-178D-4136-97EC-EF7048D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A37C-1336-4485-BB64-86BD156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904-F3D7-47DC-A67E-4B9E6D1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932-A617-442C-9A06-ECFEE19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61A-C9B5-4690-818F-4234FE3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731-8858-417B-9295-E6397F6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2B2-3236-41E1-A27B-CB764603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C5B2-5CA7-4D69-BE01-A09D1347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AE40-4CB7-4CB9-BFC4-86853674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7079-1A6A-449A-B971-DED171C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5BD3-CEE1-42F1-AA79-5463960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D8BB-0507-42FD-AC28-94D09201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264C-31E4-45EF-889B-19E3DB44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179-15C5-4977-894C-DBFE5A17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F878-9FA3-45FA-B410-A7E9A064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8091-BFA2-4D62-9E7F-C50ECD9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1EAD-429B-4302-A7B7-9326B7F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D04C-AFDB-499D-AB48-1CC0F1B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6825-B6E9-4237-8677-2F66F95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08C9-4722-45FB-B6CB-4FDB0F1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A2CA-A972-4917-88B6-2F9CD269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581B-4631-4422-93F2-3285A0D4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D394-B35D-4BEF-8BED-BEA414A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25DD-02C1-45E1-B23B-03DE1117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C47-9130-47FC-8637-2B6DBBE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E683-18E1-4A9C-A21D-80A632FE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3CC3-08E3-411E-BB96-5824980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0A82-47DF-4093-A9F3-1D6D996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523A-00AF-4AA5-98D3-4851F6E4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402E-97D6-4D3D-A050-D2D5EBA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DD34-C8A4-440B-8026-8F26171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EDC4-0639-4C80-9910-6090EF26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FB01-08C9-4252-846E-9E9A054B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EF85-EE6D-4211-B5FB-A5A4746F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EEA9-22E2-4B0B-A400-C1FD72D1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172-DB56-4C5C-A02C-3411EFD3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57D7-F119-4D53-B894-04C42209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4553-C791-4EFE-BB56-DF5D468C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D51A-A06F-4E11-81D8-22B1CAF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C364-93D4-4466-AB3D-75BD33B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2112-D0B1-472C-BCC6-054D296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1EA6-3FEE-4395-9A44-10E25BD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DA7A-4649-4CC8-9952-CFD88F4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515B-268C-4BB3-9FAC-D6A423E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780F-5495-42ED-947C-0DE5C3E0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9578-AEC4-45BC-9DC2-833F4289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D6A-3E90-4589-B994-161CA729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1C93-C2C4-4F54-9861-7D023C9C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CED4-44E1-48AF-901B-72C5B4ED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3994D-27D4-4648-A05E-2B2E0F2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20BD-448D-4F03-A685-F2FF944D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3C966-BB5A-49EA-9307-5705794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2CB0A-50FD-471B-A83D-18CB06A3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4965-84FD-4321-A77C-CCD67624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F73C-9373-43F9-98AD-7E4662C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0E28-C8CF-4222-90D6-FB37A1A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B9BB-D2FA-42E0-B361-717D14F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BF4-6894-47F2-B6C1-C022A6D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45A2-D309-4BC1-8AC0-B493AD5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66AF-B578-47D7-A5A9-74C9FEA1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55B0B-F3D2-47E1-B2C6-35875136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9926-C181-459B-BAC0-F8BD21F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E63E-DC78-40F3-8CA1-48AAA25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4EE8-843B-4C10-966B-6A3EC307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5779-CF5A-4E05-A448-7EEAE1D5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0524-2502-4A25-9887-596D94F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FE40-EFE4-4DFA-AC4A-874D148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FABE-3D3D-45FD-880E-775406C3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077-4C6D-4E46-B556-289BF107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F950-CA82-4C6E-992E-7EBB63B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BC2E3-3DBB-44E9-8C5D-B19D60DA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2A74-028E-4976-85BC-92EE285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374D-14C5-4C77-AB19-F6325CB3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58855-0B93-47A7-8FC4-5E401607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E435-323F-4FCD-8DC8-C100F0D4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5ADDA-E4DA-43F2-9AEE-73E85F3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21525-11A4-47ED-9397-0CF32F6B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551D3-1BAA-40BE-8859-675A6B23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81169-8102-42A6-B3BE-4AEC1B05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47F-9CAF-4460-864E-8734746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A880-8780-4848-A9B7-508D262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D70B9-DAEB-404B-AC0E-2DAEF5C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60BB-E00E-44F9-B408-813F21A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F8D2-7D6A-497F-A449-A055B0D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64041-0727-4075-A84F-079A226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9D4A5-C6E0-46CA-AE16-2E761F00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ACA8-E78C-445F-927A-A5BEB1D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EBCDA-7743-4775-B26E-F55741E5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15A29-914D-4815-98A9-87389E12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1ED15-22F3-4391-B0CB-6E71915D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フリーフォーム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コネクタ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70AD-4136-4B77-B2E5-4D4268E1173B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7F1-D17F-450E-B081-E6D300712AFA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図 1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3" name="Picture 2" descr=""/>
            <p:cNvPicPr/>
            <p:nvPr/>
          </p:nvPicPr>
          <p:blipFill>
            <a:blip r:embed="rId5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3" descr=""/>
            <p:cNvPicPr/>
            <p:nvPr/>
          </p:nvPicPr>
          <p:blipFill>
            <a:blip r:embed="rId6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フリーフォーム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3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直線コネクタ 19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6" name="山形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山形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C9E7-AFC4-4EAE-AF98-5917ED7796E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D0D2-E116-4969-9DFA-E1282D2AFBF5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E532-F584-468D-B7B7-EF77C4DED0A4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D33-B3BA-4AAB-9869-D38EB1608F4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3B3-4BE4-4398-BEA1-D0358658CADB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C77-0617-47FB-96CC-E9F2329D22E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D01-EB0B-410E-9095-3DCA401B6B5D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917-B192-488A-95C3-6E1AF5408B5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直角三角形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直角三角形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4" name="直角三角形 18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3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4"/>
          <p:cNvGrpSpPr/>
          <p:nvPr/>
        </p:nvGrpSpPr>
        <p:grpSpPr>
          <a:xfrm>
            <a:off x="119160" y="6318360"/>
            <a:ext cx="1453680" cy="539640"/>
            <a:chOff x="119160" y="6318360"/>
            <a:chExt cx="1453680" cy="539640"/>
          </a:xfrm>
        </p:grpSpPr>
        <p:pic>
          <p:nvPicPr>
            <p:cNvPr id="58" name="Picture 2" descr=""/>
            <p:cNvPicPr/>
            <p:nvPr/>
          </p:nvPicPr>
          <p:blipFill>
            <a:blip r:embed="rId4"/>
            <a:stretch/>
          </p:blipFill>
          <p:spPr>
            <a:xfrm>
              <a:off x="574920" y="6360480"/>
              <a:ext cx="997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47808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83E3-9BE7-4C1C-96EF-8C2DDD218289}" type="datetime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8F1-5C70-4BBE-ABEF-E2CC13F37CDD}" type="slidenum">
              <a:rPr b="0" lang="ja-JP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E7E-780E-4FD7-893C-248CBB86B483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557-0FB4-46DE-A432-FA5D4953B3F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山形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山形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18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直角三角形 1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図 24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15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681-FA0C-4D1C-954F-1E6246D2B96A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CFA3-5A92-4F82-BA9D-8C88BD8C88F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ECCC-3F8E-4A18-8F6E-63048B1FB41A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B09-8E18-4870-B457-17E7B1F647C6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4906-A263-449C-BDAF-0D2E6CD5128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82C-AC59-423E-BC65-52856720B7B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5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289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794-4C48-4AC9-B1A9-68B68BE3FA78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E4C-1D5F-4DC3-A0CD-82FD53CC3F1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38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5473-6E7F-47FA-A079-551740832E87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4DF-B7DA-42E1-A433-71C64332CFB6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フリーフォーム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直角三角形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図 22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5922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119160" y="6318360"/>
            <a:ext cx="1179000" cy="539640"/>
            <a:chOff x="119160" y="6318360"/>
            <a:chExt cx="1179000" cy="539640"/>
          </a:xfrm>
        </p:grpSpPr>
        <p:pic>
          <p:nvPicPr>
            <p:cNvPr id="387" name="Picture 2" descr=""/>
            <p:cNvPicPr/>
            <p:nvPr/>
          </p:nvPicPr>
          <p:blipFill>
            <a:blip r:embed="rId4"/>
            <a:stretch/>
          </p:blipFill>
          <p:spPr>
            <a:xfrm>
              <a:off x="488880" y="6360480"/>
              <a:ext cx="80928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" descr=""/>
            <p:cNvPicPr/>
            <p:nvPr/>
          </p:nvPicPr>
          <p:blipFill>
            <a:blip r:embed="rId5"/>
            <a:stretch/>
          </p:blipFill>
          <p:spPr>
            <a:xfrm>
              <a:off x="119160" y="6318360"/>
              <a:ext cx="387720" cy="5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562A-3659-48A1-A0E7-8BA04DF7332C}" type="datetime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60E2-CD4C-43A6-A86A-CFE25D1B73E3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タイトル 1" descr=""/>
          <p:cNvPicPr/>
          <p:nvPr/>
        </p:nvPicPr>
        <p:blipFill>
          <a:blip r:embed="rId1"/>
          <a:stretch/>
        </p:blipFill>
        <p:spPr>
          <a:xfrm>
            <a:off x="401760" y="1596960"/>
            <a:ext cx="8138880" cy="25416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84280" y="3611160"/>
            <a:ext cx="7888320" cy="20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samu Ochia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on behalf of Asia rice crop estimation and monitoring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タイトル 2" descr=""/>
          <p:cNvPicPr/>
          <p:nvPr/>
        </p:nvPicPr>
        <p:blipFill>
          <a:blip r:embed="rId1"/>
          <a:stretch/>
        </p:blipFill>
        <p:spPr>
          <a:xfrm>
            <a:off x="-219240" y="-1908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640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AAB-2D2C-49BC-877A-D6D01EC5F1CF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2743200" y="968400"/>
            <a:ext cx="36576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タイトル 2" descr=""/>
          <p:cNvPicPr/>
          <p:nvPr/>
        </p:nvPicPr>
        <p:blipFill>
          <a:blip r:embed="rId1"/>
          <a:stretch/>
        </p:blipFill>
        <p:spPr>
          <a:xfrm>
            <a:off x="-109440" y="-30240"/>
            <a:ext cx="8442360" cy="1023840"/>
          </a:xfrm>
          <a:prstGeom prst="rect">
            <a:avLst/>
          </a:prstGeom>
          <a:ln w="0">
            <a:noFill/>
          </a:ln>
        </p:spPr>
      </p:pic>
      <p:sp>
        <p:nvSpPr>
          <p:cNvPr id="644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29D-8644-4E80-9EDE-E815037FD43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2"/>
          <a:stretch/>
        </p:blipFill>
        <p:spPr>
          <a:xfrm>
            <a:off x="-277920" y="1055520"/>
            <a:ext cx="9699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7" name="タイトル 2" descr=""/>
          <p:cNvPicPr/>
          <p:nvPr/>
        </p:nvPicPr>
        <p:blipFill>
          <a:blip r:embed="rId2"/>
          <a:stretch/>
        </p:blipFill>
        <p:spPr>
          <a:xfrm>
            <a:off x="231840" y="-171360"/>
            <a:ext cx="6754680" cy="1616040"/>
          </a:xfrm>
          <a:prstGeom prst="rect">
            <a:avLst/>
          </a:prstGeom>
          <a:ln w="0">
            <a:noFill/>
          </a:ln>
        </p:spPr>
      </p:pic>
      <p:sp>
        <p:nvSpPr>
          <p:cNvPr id="648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3E2-DDBA-4911-90A7-1D43FBDB589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"/>
          <p:cNvPicPr/>
          <p:nvPr/>
        </p:nvPicPr>
        <p:blipFill>
          <a:blip r:embed="rId3"/>
          <a:stretch/>
        </p:blipFill>
        <p:spPr>
          <a:xfrm>
            <a:off x="795240" y="1166760"/>
            <a:ext cx="7551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1" name="タイトル 2" descr=""/>
          <p:cNvPicPr/>
          <p:nvPr/>
        </p:nvPicPr>
        <p:blipFill>
          <a:blip r:embed="rId2"/>
          <a:stretch/>
        </p:blipFill>
        <p:spPr>
          <a:xfrm>
            <a:off x="-225360" y="115920"/>
            <a:ext cx="7284960" cy="1047600"/>
          </a:xfrm>
          <a:prstGeom prst="rect">
            <a:avLst/>
          </a:prstGeom>
          <a:ln w="0">
            <a:noFill/>
          </a:ln>
        </p:spPr>
      </p:pic>
      <p:sp>
        <p:nvSpPr>
          <p:cNvPr id="65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D4B-43A8-478C-ADCD-FF4240789354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2306520" y="1065240"/>
            <a:ext cx="42958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D6B-3E88-49B5-B1A9-B5498BA3F327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2"/>
          <a:stretch/>
        </p:blipFill>
        <p:spPr>
          <a:xfrm>
            <a:off x="1512720" y="0"/>
            <a:ext cx="5789880" cy="14335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1211400" y="1542960"/>
            <a:ext cx="672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スライド番号プレースホルダー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741C-4D85-4222-9F11-7E180BDEFF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図形グループ 4"/>
          <p:cNvGrpSpPr/>
          <p:nvPr/>
        </p:nvGrpSpPr>
        <p:grpSpPr>
          <a:xfrm>
            <a:off x="115920" y="647640"/>
            <a:ext cx="4456080" cy="6210360"/>
            <a:chOff x="115920" y="647640"/>
            <a:chExt cx="4456080" cy="6210360"/>
          </a:xfrm>
        </p:grpSpPr>
        <p:pic>
          <p:nvPicPr>
            <p:cNvPr id="661" name="Picture 2" descr=""/>
            <p:cNvPicPr/>
            <p:nvPr/>
          </p:nvPicPr>
          <p:blipFill>
            <a:blip r:embed="rId1"/>
            <a:stretch/>
          </p:blipFill>
          <p:spPr>
            <a:xfrm>
              <a:off x="115920" y="647640"/>
              <a:ext cx="445608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Oval 5"/>
            <p:cNvSpPr/>
            <p:nvPr/>
          </p:nvSpPr>
          <p:spPr>
            <a:xfrm>
              <a:off x="1755360" y="328500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32280" y="5013360"/>
              <a:ext cx="88560" cy="8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"/>
            <p:cNvSpPr/>
            <p:nvPr/>
          </p:nvSpPr>
          <p:spPr>
            <a:xfrm>
              <a:off x="1337400" y="321732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"/>
            <p:cNvSpPr/>
            <p:nvPr/>
          </p:nvSpPr>
          <p:spPr>
            <a:xfrm>
              <a:off x="1822680" y="479700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9"/>
          <p:cNvSpPr/>
          <p:nvPr/>
        </p:nvSpPr>
        <p:spPr>
          <a:xfrm>
            <a:off x="5003640" y="907920"/>
            <a:ext cx="363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Bold"/>
                <a:ea typeface="ヒラギノ角ゴ ProN W6"/>
              </a:rPr>
              <a:t>Definition of Croplands (MCD12 IG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- Croplands + Cropland/Natural 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4788000" y="6154560"/>
            <a:ext cx="3328920" cy="711360"/>
            <a:chOff x="4788000" y="6154560"/>
            <a:chExt cx="3328920" cy="711360"/>
          </a:xfrm>
        </p:grpSpPr>
        <p:grpSp>
          <p:nvGrpSpPr>
            <p:cNvPr id="668" name="Group 20"/>
            <p:cNvGrpSpPr/>
            <p:nvPr/>
          </p:nvGrpSpPr>
          <p:grpSpPr>
            <a:xfrm>
              <a:off x="5495040" y="6154560"/>
              <a:ext cx="2621880" cy="711360"/>
              <a:chOff x="5495040" y="6154560"/>
              <a:chExt cx="2621880" cy="711360"/>
            </a:xfrm>
          </p:grpSpPr>
          <p:grpSp>
            <p:nvGrpSpPr>
              <p:cNvPr id="669" name="Group 12"/>
              <p:cNvGrpSpPr/>
              <p:nvPr/>
            </p:nvGrpSpPr>
            <p:grpSpPr>
              <a:xfrm>
                <a:off x="5500800" y="6154560"/>
                <a:ext cx="2616120" cy="711360"/>
                <a:chOff x="5500800" y="6154560"/>
                <a:chExt cx="2616120" cy="711360"/>
              </a:xfrm>
            </p:grpSpPr>
            <p:pic>
              <p:nvPicPr>
                <p:cNvPr id="67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500800" y="6154560"/>
                  <a:ext cx="2616120" cy="71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Rectangle 11"/>
                <p:cNvSpPr/>
                <p:nvPr/>
              </p:nvSpPr>
              <p:spPr>
                <a:xfrm>
                  <a:off x="5510160" y="6424560"/>
                  <a:ext cx="2590920" cy="4316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Rectangle 13"/>
              <p:cNvSpPr/>
              <p:nvPr/>
            </p:nvSpPr>
            <p:spPr>
              <a:xfrm>
                <a:off x="5495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"/>
              <p:cNvSpPr/>
              <p:nvPr/>
            </p:nvSpPr>
            <p:spPr>
              <a:xfrm>
                <a:off x="593928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5"/>
              <p:cNvSpPr/>
              <p:nvPr/>
            </p:nvSpPr>
            <p:spPr>
              <a:xfrm>
                <a:off x="64220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16"/>
              <p:cNvSpPr/>
              <p:nvPr/>
            </p:nvSpPr>
            <p:spPr>
              <a:xfrm>
                <a:off x="68792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17"/>
              <p:cNvSpPr/>
              <p:nvPr/>
            </p:nvSpPr>
            <p:spPr>
              <a:xfrm>
                <a:off x="73364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0.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8"/>
              <p:cNvSpPr/>
              <p:nvPr/>
            </p:nvSpPr>
            <p:spPr>
              <a:xfrm>
                <a:off x="7818840" y="6399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9"/>
              <p:cNvSpPr/>
              <p:nvPr/>
            </p:nvSpPr>
            <p:spPr>
              <a:xfrm>
                <a:off x="6610320" y="658944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DV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21"/>
            <p:cNvSpPr/>
            <p:nvPr/>
          </p:nvSpPr>
          <p:spPr>
            <a:xfrm>
              <a:off x="8039160" y="62337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788000" y="6221160"/>
              <a:ext cx="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図 1" descr=""/>
          <p:cNvPicPr/>
          <p:nvPr/>
        </p:nvPicPr>
        <p:blipFill>
          <a:blip r:embed="rId3"/>
          <a:stretch/>
        </p:blipFill>
        <p:spPr>
          <a:xfrm>
            <a:off x="5302080" y="1773360"/>
            <a:ext cx="3778560" cy="2050920"/>
          </a:xfrm>
          <a:prstGeom prst="rect">
            <a:avLst/>
          </a:prstGeom>
          <a:ln w="0">
            <a:noFill/>
          </a:ln>
        </p:spPr>
      </p:pic>
      <p:pic>
        <p:nvPicPr>
          <p:cNvPr id="682" name="Rectangle 2" descr=""/>
          <p:cNvPicPr/>
          <p:nvPr/>
        </p:nvPicPr>
        <p:blipFill>
          <a:blip r:embed="rId4"/>
          <a:stretch/>
        </p:blipFill>
        <p:spPr>
          <a:xfrm>
            <a:off x="-152280" y="-171360"/>
            <a:ext cx="6997680" cy="12380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9"/>
          <p:cNvSpPr/>
          <p:nvPr/>
        </p:nvSpPr>
        <p:spPr>
          <a:xfrm>
            <a:off x="4675320" y="177336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Dou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図 2" descr=""/>
          <p:cNvPicPr/>
          <p:nvPr/>
        </p:nvPicPr>
        <p:blipFill>
          <a:blip r:embed="rId5"/>
          <a:stretch/>
        </p:blipFill>
        <p:spPr>
          <a:xfrm>
            <a:off x="5302080" y="3860640"/>
            <a:ext cx="3778560" cy="20527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9"/>
          <p:cNvSpPr/>
          <p:nvPr/>
        </p:nvSpPr>
        <p:spPr>
          <a:xfrm>
            <a:off x="4675320" y="4005360"/>
            <a:ext cx="863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ri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ropping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Calibr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87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9"/>
          <p:cNvSpPr/>
          <p:nvPr/>
        </p:nvSpPr>
        <p:spPr>
          <a:xfrm>
            <a:off x="533520" y="115920"/>
            <a:ext cx="63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ampling strategy for production forecasting/estimation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3200400" y="14479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type  (5*5’ grid) area:  MERIS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893880" y="1925640"/>
            <a:ext cx="7549920" cy="4221000"/>
          </a:xfrm>
          <a:prstGeom prst="rect">
            <a:avLst/>
          </a:prstGeom>
          <a:ln w="0">
            <a:noFill/>
          </a:ln>
        </p:spPr>
      </p:pic>
      <p:pic>
        <p:nvPicPr>
          <p:cNvPr id="605" name="タイトル 1" descr=""/>
          <p:cNvPicPr/>
          <p:nvPr/>
        </p:nvPicPr>
        <p:blipFill>
          <a:blip r:embed="rId2"/>
          <a:stretch/>
        </p:blipFill>
        <p:spPr>
          <a:xfrm>
            <a:off x="231840" y="14616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233280" y="815760"/>
            <a:ext cx="8677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504d"/>
                </a:solidFill>
                <a:latin typeface="Lucida Sans Unicode"/>
              </a:rPr>
              <a:t>Asian countries are responsible for approximately 90% of the world rice production and consumption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0384-DFEE-45A2-B490-B99CA1FD4C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7"/>
          <p:cNvSpPr/>
          <p:nvPr/>
        </p:nvSpPr>
        <p:spPr>
          <a:xfrm>
            <a:off x="1295640" y="57783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OSTAT [200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8"/>
          <p:cNvSpPr/>
          <p:nvPr/>
        </p:nvSpPr>
        <p:spPr>
          <a:xfrm>
            <a:off x="4668840" y="21304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10  Rice Productio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タイトル 1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8485200" cy="11523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rpose : Compile Asia rice crop monitoring requirement and develop a work</a:t>
            </a:r>
            <a:r>
              <a:rPr b="0" lang="ja-JP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lan of Asia rice crop monitoring as a part of GEO GLAM work pla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am member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hin-ichi Sobue (lead- JAXA) , Kei Oyoshi (JAXA), Jai Singh Parihar, Sushma Panigrahy, </a:t>
            </a:r>
            <a:r>
              <a:rPr b="0" lang="is-IS" sz="1700" spc="-1" strike="noStrike">
                <a:solidFill>
                  <a:srgbClr val="000000"/>
                </a:solidFill>
                <a:latin typeface="Lucida Sans Unicode"/>
              </a:rPr>
              <a:t>K.R. Manjunath</a:t>
            </a: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 (ISRO, India), Preesan Rakwatin (GISTDA, Thailand), Lam Dao Nguyen, Thuy Le Toan (VAST/STI, Vietnam), Agus Hidayat, Dr Mahkmoud,  Ratih Dewanti (LAPAN, Indonesia), Muhrizal Sarwani, Rizatus Shofiyati (ICALRD/MOA, Indonesia), Heng Suthy (MRC), Wu Bingfang (IRSA, Chin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Lucida Sans Unicode"/>
              </a:rPr>
              <a:t>- Supported by Stephen Ward, George Dyke, Matthew Steventon (SIMBIOSS) and Toshio Okumura, Akira Mukaida, Nobuhito Tomiyama (RESTE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F87-E5AC-4304-BFA5-263FAD909B20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1523880" y="152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 of Asian rice growing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2981160" y="928800"/>
            <a:ext cx="3102120" cy="25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 season 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crop calendar within a 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e growing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resource dependency (Water stress – irrigate, rain-f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iny season growth (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1"/>
          <p:cNvSpPr/>
          <p:nvPr/>
        </p:nvSpPr>
        <p:spPr>
          <a:xfrm>
            <a:off x="6379200" y="63500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vided by 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テキスト ボックス 3"/>
          <p:cNvSpPr/>
          <p:nvPr/>
        </p:nvSpPr>
        <p:spPr>
          <a:xfrm>
            <a:off x="192240" y="1711440"/>
            <a:ext cx="874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 is cultivated in rainy season, cloudy condition -&gt; SAR Observatio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severe damage induced by drought and flood (rain-fed type rice) -&gt; Early Warning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size variation - each parcel is small and the landscape is complicated in Asia. damage assessement for insurance, compensation for individual paddy field (each parcel).  -&gt; Detailed Mapping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gion cultivated two/three times in a year and Rice is the dominant crop in Asian countries wi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diversity of crop varieties (short, medium and long duration crops). -&gt; Detailed Crop Calendar  (mean crop calender and abnormal year crop cal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 growth model input information -&gt; Agro-weather information (rain, radiation, temperatu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esign for Asia rice crop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5"/>
          <p:cNvSpPr/>
          <p:nvPr/>
        </p:nvSpPr>
        <p:spPr>
          <a:xfrm>
            <a:off x="192240" y="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Asia Rice 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テキスト ボックス 6"/>
          <p:cNvSpPr/>
          <p:nvPr/>
        </p:nvSpPr>
        <p:spPr>
          <a:xfrm>
            <a:off x="344520" y="45252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ic and socio-economic aspects and imperative technologies in Asian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7039080" y="4933800"/>
            <a:ext cx="1657080" cy="1657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def5fa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タイトル 1" descr=""/>
          <p:cNvPicPr/>
          <p:nvPr/>
        </p:nvPicPr>
        <p:blipFill>
          <a:blip r:embed="rId1"/>
          <a:stretch/>
        </p:blipFill>
        <p:spPr>
          <a:xfrm>
            <a:off x="244440" y="-1033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7: Report about Asia rice crop monitoring requirement to CEOS UR meeting at Montreal (by Shinich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9: Develop draft Asia rice crop monitoring work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1: Review the work plan at ACRS2012 hosted by GISTDA, Thailand with A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12/12:  Approve the work plan at APRSAF-19 hosted by ANGASA and Japan and submit it to Joa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th monthly Asia rice crop monitoring telec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A578-F836-4089-99D9-5F7E8688388B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5" name="タイトル 2" descr=""/>
          <p:cNvPicPr/>
          <p:nvPr/>
        </p:nvPicPr>
        <p:blipFill>
          <a:blip r:embed="rId2"/>
          <a:stretch/>
        </p:blipFill>
        <p:spPr>
          <a:xfrm>
            <a:off x="304920" y="42840"/>
            <a:ext cx="8381880" cy="871560"/>
          </a:xfrm>
          <a:prstGeom prst="rect">
            <a:avLst/>
          </a:prstGeom>
          <a:ln w="0">
            <a:noFill/>
          </a:ln>
        </p:spPr>
      </p:pic>
      <p:sp>
        <p:nvSpPr>
          <p:cNvPr id="626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ED14-E0C9-499F-9692-12ACCDA62BAC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3"/>
          <a:stretch/>
        </p:blipFill>
        <p:spPr>
          <a:xfrm>
            <a:off x="409680" y="801720"/>
            <a:ext cx="8734320" cy="5070600"/>
          </a:xfrm>
          <a:prstGeom prst="rect">
            <a:avLst/>
          </a:prstGeom>
          <a:ln w="0">
            <a:noFill/>
          </a:ln>
        </p:spPr>
      </p:pic>
      <p:sp>
        <p:nvSpPr>
          <p:cNvPr id="628" name="テキスト ボックス 4"/>
          <p:cNvSpPr/>
          <p:nvPr/>
        </p:nvSpPr>
        <p:spPr>
          <a:xfrm>
            <a:off x="0" y="1292400"/>
            <a:ext cx="628560" cy="36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lip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0" name="タイトル 2" descr=""/>
          <p:cNvPicPr/>
          <p:nvPr/>
        </p:nvPicPr>
        <p:blipFill>
          <a:blip r:embed="rId2"/>
          <a:stretch/>
        </p:blipFill>
        <p:spPr>
          <a:xfrm>
            <a:off x="237960" y="0"/>
            <a:ext cx="6918480" cy="1023840"/>
          </a:xfrm>
          <a:prstGeom prst="rect">
            <a:avLst/>
          </a:prstGeom>
          <a:ln w="0">
            <a:noFill/>
          </a:ln>
        </p:spPr>
      </p:pic>
      <p:sp>
        <p:nvSpPr>
          <p:cNvPr id="631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1278-6974-46C3-A9E7-4ED6E26A49C9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8439120" cy="5238720"/>
          </a:xfrm>
          <a:prstGeom prst="rect">
            <a:avLst/>
          </a:prstGeom>
          <a:ln w="0">
            <a:noFill/>
          </a:ln>
        </p:spPr>
      </p:pic>
      <p:sp>
        <p:nvSpPr>
          <p:cNvPr id="633" name="テキスト ボックス 4"/>
          <p:cNvSpPr/>
          <p:nvPr/>
        </p:nvSpPr>
        <p:spPr>
          <a:xfrm>
            <a:off x="223920" y="9428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6"/>
          <p:cNvSpPr/>
          <p:nvPr/>
        </p:nvSpPr>
        <p:spPr>
          <a:xfrm>
            <a:off x="3438360" y="7588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7"/>
          <p:cNvSpPr/>
          <p:nvPr/>
        </p:nvSpPr>
        <p:spPr>
          <a:xfrm>
            <a:off x="7426080" y="90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タイトル 2" descr=""/>
          <p:cNvPicPr/>
          <p:nvPr/>
        </p:nvPicPr>
        <p:blipFill>
          <a:blip r:embed="rId1"/>
          <a:stretch/>
        </p:blipFill>
        <p:spPr>
          <a:xfrm>
            <a:off x="371520" y="42840"/>
            <a:ext cx="8486640" cy="1157400"/>
          </a:xfrm>
          <a:prstGeom prst="rect">
            <a:avLst/>
          </a:prstGeom>
          <a:ln w="0">
            <a:noFill/>
          </a:ln>
        </p:spPr>
      </p:pic>
      <p:sp>
        <p:nvSpPr>
          <p:cNvPr id="637" name="スライド番号プレースホルダー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4F0C-6F82-4780-8B86-8E1A9FB2250E}" type="slidenum">
              <a:rPr b="0" lang="ja-JP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D:\Documents\eorc\農業\rice_pct.jpg"/>
          <p:cNvPicPr/>
          <p:nvPr/>
        </p:nvPicPr>
        <p:blipFill>
          <a:blip r:embed="rId2"/>
          <a:stretch/>
        </p:blipFill>
        <p:spPr>
          <a:xfrm>
            <a:off x="341280" y="762120"/>
            <a:ext cx="8107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2:46:31Z</dcterms:created>
  <dc:creator>Nakagawa</dc:creator>
  <dc:description/>
  <dc:language>en-US</dc:language>
  <cp:lastModifiedBy>89025</cp:lastModifiedBy>
  <dcterms:modified xsi:type="dcterms:W3CDTF">2012-08-29T06:48:31Z</dcterms:modified>
  <cp:revision>360</cp:revision>
  <dc:subject/>
  <dc:title>スライド 1</dc:title>
</cp:coreProperties>
</file>