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F6713-9BD0-4FD0-B136-D4C1859E52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2A3BE2-7FE2-4D87-AA94-FBF3596DB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55960" y="9447120"/>
            <a:ext cx="2949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1F7C-B45A-466E-B8E1-586CD54337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855960" y="9447120"/>
            <a:ext cx="2949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593F-E9FB-4C56-9C40-04FC991B3F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4 UNREDD pilot countries, </a:t>
            </a: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from which 11 are not in FCT: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Bolivia, Cambodia, Ecuador, Nigeria, Panama, Papua New Guinea, Paraguay, the Philippines, Solomon Islands, </a:t>
            </a:r>
            <a:br>
              <a:rPr sz="1200"/>
            </a:b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Viet Nam and Zamb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4 UNREDD pilot countries, </a:t>
            </a: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from which 11 are not in FCT: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Bolivia, Cambodia, Ecuador, Nigeria, Panama, Papua New Guinea, Paraguay, the Philippines, Solomon Islands, </a:t>
            </a:r>
            <a:br>
              <a:rPr sz="1200"/>
            </a:br>
            <a:r>
              <a:rPr b="0" lang="en-GB" sz="1200" spc="-1" strike="noStrike">
                <a:solidFill>
                  <a:srgbClr val="3a5698"/>
                </a:solidFill>
                <a:latin typeface="Calibri"/>
              </a:rPr>
              <a:t>Viet Nam and Zamb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6BF22-79F7-4A9E-A581-79330D62E0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7760" y="373860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8D1A9-0D2E-4F99-AC39-215A795E1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209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00395-5B3C-4299-B695-244B8D061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728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680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776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728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680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2D720-1992-4985-9E3E-4A39B62F5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781A8-8C66-434A-B55C-8850BC135D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A6984-5D29-4DDA-ABC7-759B541DDD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0F2EE-F5B0-49A1-9241-5D03D94ADA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6FEF7-AFAA-4113-A3FE-1563EE3824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E2B7E-E5BB-4C3A-AFB4-CCE41FD6FA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47760" y="185400"/>
            <a:ext cx="833904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2DBC5-6393-4622-9E97-AE42A5442F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712B1-A717-4946-BA57-B76C6B1BB8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03B2B-6E76-4B08-BE81-3CBC7C357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209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0BA5F-F3C4-4B33-A999-C986A41CEA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FA25E-6DCE-4283-8CEE-4947812190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7760" y="373860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B726E-79BF-43CA-9299-9DED290F4C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209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2DB85-871B-4BCB-A592-92303ACD56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6728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6800" y="110664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4776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6728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6800" y="3738600"/>
            <a:ext cx="26848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EE43F-6AC1-411C-B626-B746F9E012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7766-8216-4F99-BCCD-A840997A7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0B11-68E4-4CA7-AF82-5FD7CAC5D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338C4-73BD-41CD-91B3-9B0001BF6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7760" y="185400"/>
            <a:ext cx="833904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71612-9848-49B2-BA71-84212B259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D65F4-B8A9-496C-95B6-5A02954F7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20960" y="373860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4E83E-4BA5-40BD-8D32-D38EA2104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77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0960" y="1106640"/>
            <a:ext cx="4069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7760" y="3738600"/>
            <a:ext cx="83390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8971E-6314-4019-AF58-C7EDB5EBC8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72480" y="65055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258215-4822-4688-BD50-A4862F7CE3F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GEO_Header_Presentation.jpg"/>
          <p:cNvPicPr/>
          <p:nvPr/>
        </p:nvPicPr>
        <p:blipFill>
          <a:blip r:embed="rId2"/>
          <a:stretch/>
        </p:blipFill>
        <p:spPr>
          <a:xfrm>
            <a:off x="7920" y="5867280"/>
            <a:ext cx="9144000" cy="10065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ESA_logo_bleu"/>
          <p:cNvPicPr/>
          <p:nvPr/>
        </p:nvPicPr>
        <p:blipFill>
          <a:blip r:embed="rId3"/>
          <a:stretch/>
        </p:blipFill>
        <p:spPr>
          <a:xfrm>
            <a:off x="7581960" y="76320"/>
            <a:ext cx="1457280" cy="555480"/>
          </a:xfrm>
          <a:prstGeom prst="rect">
            <a:avLst/>
          </a:prstGeom>
          <a:ln w="0">
            <a:noFill/>
          </a:ln>
        </p:spPr>
      </p:pic>
      <p:pic>
        <p:nvPicPr>
          <p:cNvPr id="41" name="図 3" descr="ceos_logo"/>
          <p:cNvPicPr/>
          <p:nvPr/>
        </p:nvPicPr>
        <p:blipFill>
          <a:blip r:embed="rId4"/>
          <a:stretch/>
        </p:blipFill>
        <p:spPr>
          <a:xfrm>
            <a:off x="63360" y="63360"/>
            <a:ext cx="1187640" cy="53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7760" y="185400"/>
            <a:ext cx="83390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47760" y="1106640"/>
            <a:ext cx="83390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972480" y="65055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43E3DF-7811-4522-99F7-C6E339D9BD1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43080" y="1085760"/>
            <a:ext cx="8559720" cy="38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5698"/>
                </a:solidFill>
                <a:latin typeface="Verdana"/>
              </a:rPr>
              <a:t>Expansion Scenari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5698"/>
                </a:solidFill>
                <a:latin typeface="Verdana"/>
              </a:rPr>
              <a:t>Frank Martin Seifert (ES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5698"/>
                </a:solidFill>
                <a:latin typeface="Verdana"/>
              </a:rPr>
              <a:t>Co-Chair SDC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Subtitle 2"/>
          <p:cNvSpPr/>
          <p:nvPr/>
        </p:nvSpPr>
        <p:spPr>
          <a:xfrm>
            <a:off x="0" y="471492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a5698"/>
                </a:solidFill>
                <a:latin typeface="Verdana"/>
              </a:rPr>
              <a:t>Space Data Coordination Group Meeting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a5698"/>
                </a:solidFill>
                <a:latin typeface="Verdana"/>
              </a:rPr>
              <a:t>Reston (VA), USA. 13-14 September 20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From NDs to Glob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27080" y="857160"/>
            <a:ext cx="901692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556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Status of 2012: </a:t>
            </a: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Annual to twice-annual wall-to-wall acquisitions of NDs with 20 – 30 m sens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Considerations to expand acquisition are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UN-REDD pilot countries and observ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World Bank Forest Carbon Partnership Facility (FCP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Full tropical bel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Developing forested countries outside the trop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Temperate and boreal zone for full global observ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T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echnical reas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38200" y="646200"/>
            <a:ext cx="8004240" cy="3506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6360" y="75960"/>
            <a:ext cx="6413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a5698"/>
                </a:solidFill>
                <a:latin typeface="Verdana"/>
              </a:rPr>
              <a:t>National Demonstr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4152960"/>
            <a:ext cx="281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From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Guy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Indonesia (Born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Australia (Tasman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Camer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  <a:ea typeface="Arial"/>
              </a:rPr>
              <a:t>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6197760" y="4317840"/>
            <a:ext cx="2717640" cy="15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  <a:ea typeface="Arial"/>
              </a:rPr>
              <a:t>From 2012 onwa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  <a:ea typeface="Arial"/>
              </a:rPr>
              <a:t>progressive inclusion </a:t>
            </a:r>
            <a:br>
              <a:rPr sz="2000"/>
            </a:br>
            <a:r>
              <a:rPr b="1" lang="en-GB" sz="2000" spc="-1" strike="noStrike">
                <a:solidFill>
                  <a:srgbClr val="1f497d"/>
                </a:solidFill>
                <a:latin typeface="Calibri"/>
                <a:ea typeface="Arial"/>
              </a:rPr>
              <a:t>of countries from UN-REDD &amp; World Bank FCPF is being plann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3200400" y="4127400"/>
            <a:ext cx="267984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1f497d"/>
                </a:solidFill>
                <a:latin typeface="Calibri"/>
                <a:ea typeface="Arial"/>
              </a:rPr>
              <a:t>From June 20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Colomb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DR Con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Pe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and adding Sumatra to Indonesi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1f497d"/>
                </a:solidFill>
                <a:latin typeface="Calibri"/>
                <a:ea typeface="Arial"/>
              </a:rPr>
              <a:t>From June 20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     </a:t>
            </a: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Nep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2044800" y="4183200"/>
            <a:ext cx="576000" cy="28728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5130720" y="4157640"/>
            <a:ext cx="576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937200" y="3911760"/>
            <a:ext cx="178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f497d"/>
                </a:solidFill>
                <a:latin typeface="Calibri"/>
                <a:ea typeface="Arial"/>
              </a:rPr>
              <a:t>Background GlobCov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UNREDD-map---updated-June-2012.jpg"/>
          <p:cNvPicPr/>
          <p:nvPr/>
        </p:nvPicPr>
        <p:blipFill>
          <a:blip r:embed="rId1"/>
          <a:stretch/>
        </p:blipFill>
        <p:spPr>
          <a:xfrm>
            <a:off x="20520" y="1714680"/>
            <a:ext cx="9244080" cy="5155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UN-RED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28600" y="655560"/>
            <a:ext cx="891540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UN-REDD pilot countri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5698"/>
                </a:solidFill>
                <a:latin typeface="Verdana"/>
              </a:rPr>
              <a:t>13 out of 16 UN-REDD pilot countries are currently not in F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3033720" y="5472000"/>
            <a:ext cx="60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Verdana"/>
              </a:rPr>
              <a:t>http://http://www.un-redd.org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908440" y="6121440"/>
            <a:ext cx="1054080" cy="71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World Bank FCP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27080" y="606600"/>
            <a:ext cx="90169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Forest Carbon Partnership Facility: 44 countri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1638360"/>
            <a:ext cx="9158400" cy="52196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"/>
          <p:cNvSpPr/>
          <p:nvPr/>
        </p:nvSpPr>
        <p:spPr>
          <a:xfrm>
            <a:off x="1866960" y="6273720"/>
            <a:ext cx="60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Verdana"/>
              </a:rPr>
              <a:t>http://www.forestcarbonpartnership.org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Consid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831960"/>
            <a:ext cx="901692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55680" indent="-355680"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UN-REDD Pilot (not in FCT)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Bolivia, Cambodia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, Ecuador, Nigeria, 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Panama, Papua New Guinea, Paraguay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, the Philippines, Solomon Islands, 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Viet Nam 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and Zambia</a:t>
            </a:r>
            <a:br>
              <a:rPr sz="2000"/>
            </a:b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(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red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 in FCP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FCPF REDD Preparation Grant 3.6 MUS$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12880" indent="-355680">
              <a:lnSpc>
                <a:spcPct val="150000"/>
              </a:lnSpc>
              <a:spcBef>
                <a:spcPts val="300"/>
              </a:spcBef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81bd"/>
                </a:solidFill>
                <a:latin typeface="Verdana"/>
              </a:rPr>
              <a:t>Mexico, Colombia*, Democratic Republic of Congo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, Republic of Congo, Costa Rica, Ghana, Liberia, </a:t>
            </a:r>
            <a:r>
              <a:rPr b="1" lang="en-GB" sz="2000" spc="-1" strike="noStrike">
                <a:solidFill>
                  <a:srgbClr val="4f81bd"/>
                </a:solidFill>
                <a:latin typeface="Verdana"/>
              </a:rPr>
              <a:t>Indonesia,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 Viet Nam*</a:t>
            </a:r>
            <a:br>
              <a:rPr sz="2000"/>
            </a:b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(</a:t>
            </a:r>
            <a:r>
              <a:rPr b="1" lang="en-GB" sz="2000" spc="-1" strike="noStrike">
                <a:solidFill>
                  <a:srgbClr val="4f81bd"/>
                </a:solidFill>
                <a:latin typeface="Verdana"/>
              </a:rPr>
              <a:t>blue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 in FCT)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     * </a:t>
            </a:r>
            <a:r>
              <a:rPr b="1" lang="en-US" sz="1200" spc="-1" strike="noStrike">
                <a:solidFill>
                  <a:srgbClr val="3a5698"/>
                </a:solidFill>
                <a:latin typeface="Verdana"/>
              </a:rPr>
              <a:t>signature expected soo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Include neighbouring countries fir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Expansion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27080" y="844560"/>
            <a:ext cx="901692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55680" indent="-355680"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Annual to twice-annual wall-to-wall acquisitions of ND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N</a:t>
            </a: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ear term (2012 </a:t>
            </a: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–</a:t>
            </a: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 mid 201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E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xpand ND Indonesia to whole coun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A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dd Cambodia, Republic of Congo, Costa Rica, Ecuador, Panama, Viet Na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Mid term (mid 2013 </a:t>
            </a:r>
            <a:r>
              <a:rPr b="1" lang="en-US" sz="2400" spc="-1" strike="noStrike">
                <a:solidFill>
                  <a:srgbClr val="3a5698"/>
                </a:solidFill>
                <a:latin typeface="Verdana"/>
              </a:rPr>
              <a:t>–</a:t>
            </a: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 201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W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hole tropical and subtropical for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lnSpc>
                <a:spcPct val="150000"/>
              </a:lnSpc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Global coverage (2015+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T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emperate and boreal for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6800" y="104760"/>
            <a:ext cx="6057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a5698"/>
                </a:solidFill>
                <a:latin typeface="Verdana"/>
              </a:rPr>
              <a:t>Additional Considera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27080" y="844560"/>
            <a:ext cx="901692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55680" indent="-355680">
              <a:spcBef>
                <a:spcPts val="601"/>
              </a:spcBef>
              <a:buClr>
                <a:srgbClr val="3a56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5698"/>
                </a:solidFill>
                <a:latin typeface="Verdana"/>
              </a:rPr>
              <a:t>Take for the expansion strategy additionally into accoun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Donor preferences as with FC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Capacity building activities e.g. SilvaCarb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Direct country requests e.g. Ghana at SDS-3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EU funded FP7 REDD project countries e.g. Central African Republic, Fiji, </a:t>
            </a: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…</a:t>
            </a:r>
            <a:r>
              <a:rPr b="1" lang="en-GB" sz="2000" spc="-1" strike="noStrike">
                <a:solidFill>
                  <a:srgbClr val="3a5698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Full regional coverage e.g. Congo Basi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…</a:t>
            </a:r>
            <a:r>
              <a:rPr b="1" lang="en-US" sz="2000" spc="-1" strike="noStrike">
                <a:solidFill>
                  <a:srgbClr val="3a5698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50000"/>
              </a:lnSpc>
              <a:spcBef>
                <a:spcPts val="499"/>
              </a:spcBef>
              <a:buClr>
                <a:srgbClr val="3a569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3:29:53Z</dcterms:created>
  <dc:creator>George Dyke</dc:creator>
  <dc:description/>
  <dc:language>en-US</dc:language>
  <cp:lastModifiedBy>Frank Matin Seifert</cp:lastModifiedBy>
  <dcterms:modified xsi:type="dcterms:W3CDTF">2012-09-13T16:18:01Z</dcterms:modified>
  <cp:revision>170</cp:revision>
  <dc:subject/>
  <dc:title>Slide 1</dc:title>
</cp:coreProperties>
</file>