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71800" y="0"/>
            <a:ext cx="292104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60320" y="739440"/>
            <a:ext cx="534672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77360"/>
            <a:ext cx="292248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2593EB28-8153-442C-BD3C-2FFBCFB34EBA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stematic observations ove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32AB63C3-4B51-4CA3-A9B4-261701C64F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71800" y="9477360"/>
            <a:ext cx="292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fld id="{33F336B6-13B2-42C1-9BB7-4BA6FF96A8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12800" y="74772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mented by national missions: SPOT, TerraSAR-X, CosmoSkym, DMC, Rapid Eye, Pleia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6032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5880" y="4738680"/>
            <a:ext cx="5040360" cy="4441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ulations: 4 times a year full w2w cover of forested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AR for GEO FCT: VV+V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6496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21440" y="492444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812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6496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21440" y="5506560"/>
            <a:ext cx="214884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7760" y="4354560"/>
            <a:ext cx="459396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7760" y="550656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13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812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27760" y="4924440"/>
            <a:ext cx="325656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8120" y="5506560"/>
            <a:ext cx="6673680" cy="531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PPT_Header02"/>
          <p:cNvPicPr/>
          <p:nvPr/>
        </p:nvPicPr>
        <p:blipFill>
          <a:blip r:embed="rId2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18" descr="signature"/>
          <p:cNvPicPr/>
          <p:nvPr/>
        </p:nvPicPr>
        <p:blipFill>
          <a:blip r:embed="rId3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NDs.jpg"/>
          <p:cNvPicPr/>
          <p:nvPr/>
        </p:nvPicPr>
        <p:blipFill>
          <a:blip r:embed="rId1"/>
          <a:stretch/>
        </p:blipFill>
        <p:spPr>
          <a:xfrm>
            <a:off x="0" y="-76320"/>
            <a:ext cx="9906120" cy="609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3720" y="47149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2680" y="1600200"/>
            <a:ext cx="8420040" cy="2857680"/>
          </a:xfrm>
          <a:prstGeom prst="rect">
            <a:avLst/>
          </a:prstGeom>
          <a:solidFill>
            <a:srgbClr val="8bdbff">
              <a:alpha val="20000"/>
            </a:srgbClr>
          </a:solidFill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53"/>
                </a:solidFill>
                <a:latin typeface="Verdana"/>
              </a:rPr>
              <a:t>European Space Agency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Frank Martin Seifert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arth Observation Programme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SRIN, Frascati, Italy</a:t>
            </a:r>
            <a:br>
              <a:rPr sz="2400"/>
            </a:br>
            <a:r>
              <a:rPr b="1" lang="en-US" sz="2400" spc="-1" strike="noStrike">
                <a:solidFill>
                  <a:srgbClr val="4d4f53"/>
                </a:solidFill>
                <a:latin typeface="Verdana"/>
              </a:rPr>
              <a:t>Email: Frank.Martin.Seifert@esa.int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22858" r="0" b="0"/>
          <a:stretch/>
        </p:blipFill>
        <p:spPr>
          <a:xfrm>
            <a:off x="0" y="6010200"/>
            <a:ext cx="9906120" cy="7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0" y="6073920"/>
            <a:ext cx="536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Forest Carbon Tr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adae"/>
                </a:solidFill>
                <a:latin typeface="Verdana"/>
                <a:ea typeface="Arial"/>
              </a:rPr>
              <a:t>Global Forest Observations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7" descr="CEOS banner.jpg"/>
          <p:cNvPicPr/>
          <p:nvPr/>
        </p:nvPicPr>
        <p:blipFill>
          <a:blip r:embed="rId3"/>
          <a:stretch/>
        </p:blipFill>
        <p:spPr>
          <a:xfrm>
            <a:off x="0" y="-39600"/>
            <a:ext cx="99061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6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3680" y="1352520"/>
            <a:ext cx="93535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2 satellite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 twin formation,</a:t>
            </a: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 launch Jun 2014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(and Q2 201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Orbit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un-synchronous at 786 km (14+3/10 revs/da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</a:rPr>
              <a:t>LTD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10:30 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901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d"/>
                </a:solidFill>
                <a:latin typeface="Verdana"/>
              </a:rPr>
              <a:t>Revisit: 5 day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t equato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(with 2 satellites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nder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viewing condition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8d"/>
                </a:solidFill>
                <a:latin typeface="Verdana"/>
              </a:rPr>
              <a:t>Multispectral Instrumen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pushb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th 13 bands in the visible, near infra-red (VNIR) and short wave infra-red (SWIR) part of the spectr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spatial resolution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0m, 20m and 60m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ide </a:t>
            </a: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field of vie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90 k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Duty cycle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verage 17 min/orbit, maximum 32 min /or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Lifetim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7.25 years, extendable to 12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Onboard mission data storage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4 T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</a:rPr>
              <a:t>Geographical Cover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land masses 56° S bis 83° 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cl. major islands (&gt;100 k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l EU islands &lt; 20 km off the coa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All Mediterrane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Inland waters and all closed se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–2: Multispectral Optical Mi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827680" y="4707000"/>
            <a:ext cx="4078440" cy="21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8217000" y="1282680"/>
            <a:ext cx="168912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35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5240" y="423360"/>
            <a:ext cx="8209080" cy="427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13 Spectral Band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17360" y="1433520"/>
            <a:ext cx="9515160" cy="4643280"/>
            <a:chOff x="117360" y="1433520"/>
            <a:chExt cx="9515160" cy="4643280"/>
          </a:xfrm>
        </p:grpSpPr>
        <p:graphicFrame>
          <p:nvGraphicFramePr>
            <p:cNvPr id="139" name="Object 4"/>
            <p:cNvGraphicFramePr/>
            <p:nvPr/>
          </p:nvGraphicFramePr>
          <p:xfrm>
            <a:off x="117360" y="1433520"/>
            <a:ext cx="9515160" cy="464328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14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7360" y="1433520"/>
                      <a:ext cx="9515160" cy="464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Oval 5"/>
            <p:cNvSpPr/>
            <p:nvPr/>
          </p:nvSpPr>
          <p:spPr>
            <a:xfrm>
              <a:off x="818640" y="4410000"/>
              <a:ext cx="2417760" cy="1079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691360" y="4789440"/>
              <a:ext cx="46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ntinuity with SPOT5 multispectr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418680"/>
            <a:ext cx="8202600" cy="438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ntinel–2: Swat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33517" t="14844" r="12617" b="21208"/>
          <a:stretch/>
        </p:blipFill>
        <p:spPr>
          <a:xfrm>
            <a:off x="351000" y="1482840"/>
            <a:ext cx="6318000" cy="4951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835680" y="4229280"/>
            <a:ext cx="2992680" cy="13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9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  <a:ea typeface="Times New Roman"/>
              </a:rPr>
              <a:t>High revisit time assured by twin satellite observations performed over a very large sw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4"/>
          <p:cNvSpPr/>
          <p:nvPr/>
        </p:nvSpPr>
        <p:spPr>
          <a:xfrm rot="4740000">
            <a:off x="5497920" y="1316520"/>
            <a:ext cx="774720" cy="4681440"/>
          </a:xfrm>
          <a:custGeom>
            <a:avLst/>
            <a:gdLst>
              <a:gd name="textAreaLeft" fmla="*/ 103680 w 774720"/>
              <a:gd name="textAreaRight" fmla="*/ 671040 w 774720"/>
              <a:gd name="textAreaTop" fmla="*/ 1005120 h 4681440"/>
              <a:gd name="textAreaBottom" fmla="*/ 3524400 h 46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2880198"/>
                <a:lnTo>
                  <a:pt x="7790" y="20976"/>
                </a:lnTo>
                <a:lnTo>
                  <a:pt x="0" y="19727"/>
                </a:lnTo>
                <a:lnTo>
                  <a:pt x="7790" y="17230"/>
                </a:lnTo>
                <a:lnTo>
                  <a:pt x="7790" y="17930"/>
                </a:lnTo>
                <a:arcTo wR="21600" hR="9277" stAng="2880198" swAng="-2692187"/>
                <a:lnTo>
                  <a:pt x="21427" y="10450"/>
                </a:lnTo>
                <a:arcTo wR="21600" hR="9277" stAng="-188012" swAng="-5211988"/>
                <a:close/>
              </a:path>
              <a:path fill="darkenLess" w="21600" h="21600">
                <a:moveTo>
                  <a:pt x="0" y="0"/>
                </a:moveTo>
                <a:arcTo wR="21600" hR="9277" stAng="-5400000" swAng="5400000"/>
                <a:lnTo>
                  <a:pt x="21600" y="11623"/>
                </a:lnTo>
                <a:arcTo wR="21600" hR="9277" stAng="0" swAng="-188012"/>
                <a:lnTo>
                  <a:pt x="21427" y="10450"/>
                </a:lnTo>
                <a:arcTo wR="21600" hR="9277" stAng="-188012" swAng="-5211988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S2_Confi_wo_LCT_2008-04-10_depl"/>
          <p:cNvPicPr/>
          <p:nvPr/>
        </p:nvPicPr>
        <p:blipFill>
          <a:blip r:embed="rId2"/>
          <a:stretch/>
        </p:blipFill>
        <p:spPr>
          <a:xfrm rot="1219200">
            <a:off x="7326360" y="2205000"/>
            <a:ext cx="2028600" cy="110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470400" y="1476360"/>
            <a:ext cx="3276360" cy="1098360"/>
          </a:xfrm>
          <a:prstGeom prst="rect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POT4 60 x 60 km x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IRS P6 LISS III 141x141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99"/>
                </a:solidFill>
                <a:latin typeface="Arial"/>
              </a:rPr>
              <a:t>Landsat ETM+ 180 x 172 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Sentinel-2  290 x 290 k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 rot="1255800">
            <a:off x="2390760" y="2997360"/>
            <a:ext cx="46980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 rot="1311600">
            <a:off x="2226960" y="3003120"/>
            <a:ext cx="1098360" cy="873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 rot="1288800">
            <a:off x="1974960" y="2813040"/>
            <a:ext cx="1601640" cy="1380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 rot="1299600">
            <a:off x="1663200" y="2781360"/>
            <a:ext cx="2587680" cy="2295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 rot="1255800">
            <a:off x="2833560" y="3155760"/>
            <a:ext cx="470160" cy="39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93760" y="4726080"/>
            <a:ext cx="241956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14"/>
          <p:cNvSpPr/>
          <p:nvPr/>
        </p:nvSpPr>
        <p:spPr>
          <a:xfrm rot="1189800">
            <a:off x="1817280" y="51577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290K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57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Figure2"/>
          <p:cNvPicPr/>
          <p:nvPr/>
        </p:nvPicPr>
        <p:blipFill>
          <a:blip r:embed="rId1"/>
          <a:stretch/>
        </p:blipFill>
        <p:spPr>
          <a:xfrm>
            <a:off x="4941720" y="1547640"/>
            <a:ext cx="6050160" cy="499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Figure1"/>
          <p:cNvPicPr/>
          <p:nvPr/>
        </p:nvPicPr>
        <p:blipFill>
          <a:blip r:embed="rId2"/>
          <a:stretch/>
        </p:blipFill>
        <p:spPr>
          <a:xfrm>
            <a:off x="-135000" y="1746360"/>
            <a:ext cx="5718240" cy="4733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257040" y="368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-2 simulated repeat rates –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 summer with 2 Satell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757760" y="64468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-14400" y="1384200"/>
            <a:ext cx="9920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d4f53"/>
                </a:solidFill>
                <a:latin typeface="Verdana"/>
              </a:rPr>
              <a:t>Maximum effective coverage time for SC1 and SC2 (days) (&lt;15% cloud cover with 68% confidenc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5" name="Group 29" descr=""/>
            <p:cNvPicPr/>
            <p:nvPr/>
          </p:nvPicPr>
          <p:blipFill>
            <a:blip r:embed="rId3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68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Rectangle 68"/>
          <p:cNvSpPr/>
          <p:nvPr/>
        </p:nvSpPr>
        <p:spPr>
          <a:xfrm>
            <a:off x="0" y="1282680"/>
            <a:ext cx="8151840" cy="55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1a39b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93680" y="1352520"/>
            <a:ext cx="935352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d"/>
                </a:solidFill>
                <a:latin typeface="Verdana"/>
              </a:rPr>
              <a:t>O</a:t>
            </a: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erational funding not yet sec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ull deployment of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our core ground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Ramp-up phase of 1.5 – 2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33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8d"/>
                </a:solidFill>
                <a:latin typeface="Verdana"/>
              </a:rPr>
              <a:t>Priorities for the preparation of pre-defined observ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First priority: </a:t>
            </a:r>
            <a:r>
              <a:rPr b="0" lang="en-GB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GMES use and National utilisation by Participating States in accordance with the GMES Space Component Programm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Second priority: 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other data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2800" indent="-25560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EC confirmed ESA’s </a:t>
            </a:r>
            <a:r>
              <a:rPr b="1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baseline assumptions</a:t>
            </a:r>
            <a:r>
              <a:rPr b="0" lang="en-US" sz="2400" spc="-1" strike="noStrike">
                <a:solidFill>
                  <a:srgbClr val="4d4f53"/>
                </a:solidFill>
                <a:latin typeface="Verdana"/>
                <a:ea typeface="Times New Roman"/>
              </a:rPr>
              <a:t> and decentralised concept, whereby the dissemination of Sentinel data should primarily be towards the identified GMES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icture 4"/>
          <p:cNvSpPr/>
          <p:nvPr/>
        </p:nvSpPr>
        <p:spPr>
          <a:xfrm>
            <a:off x="7194600" y="1305000"/>
            <a:ext cx="24400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77640"/>
            <a:ext cx="8207280" cy="469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 Observation Scenario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Backup on Sentinel-1 Scenar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7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0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9000" y="189000"/>
            <a:ext cx="81788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entinel-1 Observation Scenario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-158760" y="1417680"/>
            <a:ext cx="944244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The Sentinel-1 observation scenario 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  <a:ea typeface="Arial"/>
              </a:rPr>
              <a:t>currently under defin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High level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optimum use of SAR duty cycle (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25 min/orbit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), taking into account the various constraints (e.g. limitation in the number of X-band RF switches, mode transition times, 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0033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Wave Mode</a:t>
            </a: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continuously operated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open ocean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with lower priority w.r.t. the other high rate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or EWS modes operated over pre-defined geographical are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land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Over seas and polar areas, and ocean relevant areas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: pre-defined mode is  either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 or 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5000"/>
              </a:lnSpc>
              <a:buClr>
                <a:srgbClr val="46484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5000"/>
              </a:lnSpc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In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xceptional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cases only,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emergency observation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 requests may alter the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pre-defined observation scenario, with e.g. the use of the Strip Map m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nitial Sentinel-1 Observation Scenario &amp; Evolu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-345960" y="1325520"/>
            <a:ext cx="83692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From Commissioning Phase to Full Operational Capability (FO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a very basic observation / operations scenario will support the Commissioning pha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Ramp-up phase: the scenario will gradually evolve from initial operations up to Full Operational Capability of the first satelli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Evolution during GSC operational phase, to cope in particular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inclusion of the 2nd Sentinel-1 satellite leading to the Full Operational Capacity of the missions with the 2-satellite constellation during the EU Operational Programme (2015+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gradual use of the EDRS system to improve the data download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evolution of the requirements from the services, the evolution of the “perimeter” of the GMES services as defined by the 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straints on the space and ground segment resources (e.g. core and collaborative ground station networ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contribution of (and interoperability with) RCM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It is planned to set up a procedure for a regular (e.g. yearly) update of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the S-1 observation plan during routin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8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4040" y="3715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8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MES Sentinel 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71480" y="1409760"/>
            <a:ext cx="6677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27240" indent="-419040">
              <a:lnSpc>
                <a:spcPct val="90000"/>
              </a:lnSpc>
              <a:spcBef>
                <a:spcPts val="2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ree and open data polic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176480" y="1452600"/>
            <a:ext cx="7576560" cy="4780080"/>
            <a:chOff x="1176480" y="1452600"/>
            <a:chExt cx="7576560" cy="4780080"/>
          </a:xfrm>
        </p:grpSpPr>
        <p:sp>
          <p:nvSpPr>
            <p:cNvPr id="56" name="Rectangle 9"/>
            <p:cNvSpPr/>
            <p:nvPr/>
          </p:nvSpPr>
          <p:spPr>
            <a:xfrm>
              <a:off x="1176480" y="1457280"/>
              <a:ext cx="754236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1188360" y="2441520"/>
              <a:ext cx="7525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1176480" y="3438360"/>
              <a:ext cx="754236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1176480" y="4410000"/>
              <a:ext cx="7542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1176480" y="5381640"/>
              <a:ext cx="7542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4d4f53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1" name="Picture 4" descr="Sentinel2-01-LR 052008"/>
            <p:cNvPicPr/>
            <p:nvPr/>
          </p:nvPicPr>
          <p:blipFill>
            <a:blip r:embed="rId1"/>
            <a:stretch/>
          </p:blipFill>
          <p:spPr>
            <a:xfrm>
              <a:off x="1184760" y="2449440"/>
              <a:ext cx="112104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5" descr="sentinel1spacecraft"/>
            <p:cNvPicPr/>
            <p:nvPr/>
          </p:nvPicPr>
          <p:blipFill>
            <a:blip r:embed="rId2"/>
            <a:stretch/>
          </p:blipFill>
          <p:spPr>
            <a:xfrm>
              <a:off x="1184760" y="1471680"/>
              <a:ext cx="1117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Vue 1"/>
            <p:cNvPicPr/>
            <p:nvPr/>
          </p:nvPicPr>
          <p:blipFill>
            <a:blip r:embed="rId3"/>
            <a:stretch/>
          </p:blipFill>
          <p:spPr>
            <a:xfrm>
              <a:off x="1184760" y="3429000"/>
              <a:ext cx="11383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SENTINEL4-01"/>
            <p:cNvPicPr/>
            <p:nvPr/>
          </p:nvPicPr>
          <p:blipFill>
            <a:blip r:embed="rId4"/>
            <a:stretch/>
          </p:blipFill>
          <p:spPr>
            <a:xfrm>
              <a:off x="1184760" y="4406760"/>
              <a:ext cx="1131120" cy="8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yuz1"/>
            <p:cNvPicPr/>
            <p:nvPr/>
          </p:nvPicPr>
          <p:blipFill>
            <a:blip r:embed="rId5"/>
            <a:stretch/>
          </p:blipFill>
          <p:spPr>
            <a:xfrm>
              <a:off x="8443440" y="1452600"/>
              <a:ext cx="273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6588000" y="2031840"/>
              <a:ext cx="184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3 (A), 2014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>
              <a:off x="2678400" y="1608120"/>
              <a:ext cx="44020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1 – SAR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ll weather, day/night applications, interfero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524640" y="302904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2707560" y="2541600"/>
              <a:ext cx="40287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2 – Multispectral imag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Land applications: urban, forest, agriculture,..</a:t>
              </a: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Continuity of Landsat, SPO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7"/>
            <p:cNvSpPr/>
            <p:nvPr/>
          </p:nvSpPr>
          <p:spPr>
            <a:xfrm>
              <a:off x="6397200" y="4013280"/>
              <a:ext cx="20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A), 2015+ (B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2796840" y="3513240"/>
              <a:ext cx="4281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3 – Ocean and global land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Wide-swath ocean colour, vegetation, sea/land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  <a:ea typeface="Times New Roman"/>
                </a:rPr>
                <a:t>surface temperature, altimetr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857360" y="4984920"/>
              <a:ext cx="62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2651400" y="4484520"/>
              <a:ext cx="38948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4 – Geostationary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, trans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boundary pollu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4" name="Picture 23" descr="vega1"/>
            <p:cNvPicPr/>
            <p:nvPr/>
          </p:nvPicPr>
          <p:blipFill>
            <a:blip r:embed="rId6"/>
            <a:stretch/>
          </p:blipFill>
          <p:spPr>
            <a:xfrm>
              <a:off x="8442000" y="24447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4" descr="soyuz1"/>
            <p:cNvPicPr/>
            <p:nvPr/>
          </p:nvPicPr>
          <p:blipFill>
            <a:blip r:embed="rId7"/>
            <a:stretch/>
          </p:blipFill>
          <p:spPr>
            <a:xfrm>
              <a:off x="8438400" y="5376960"/>
              <a:ext cx="27828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5"/>
            <p:cNvSpPr/>
            <p:nvPr/>
          </p:nvSpPr>
          <p:spPr>
            <a:xfrm>
              <a:off x="7103880" y="5956200"/>
              <a:ext cx="16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d0103a"/>
                  </a:solidFill>
                  <a:latin typeface="Arial"/>
                </a:rPr>
                <a:t>2014 (5P), 2019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2840400" y="5456160"/>
              <a:ext cx="4559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4847"/>
                  </a:solidFill>
                  <a:latin typeface="Verdana"/>
                </a:rPr>
                <a:t>Sentinel 5 and Precursor – Low-orbit atmospheri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847"/>
                  </a:solidFill>
                  <a:latin typeface="Verdana"/>
                </a:rPr>
                <a:t>Atmospheric composition monitori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78" name="Picture 27" descr="vega1"/>
            <p:cNvPicPr/>
            <p:nvPr/>
          </p:nvPicPr>
          <p:blipFill>
            <a:blip r:embed="rId8"/>
            <a:stretch/>
          </p:blipFill>
          <p:spPr>
            <a:xfrm>
              <a:off x="8442000" y="3440160"/>
              <a:ext cx="27684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8" descr="rocket"/>
            <p:cNvPicPr/>
            <p:nvPr/>
          </p:nvPicPr>
          <p:blipFill>
            <a:blip r:embed="rId9"/>
            <a:stretch/>
          </p:blipFill>
          <p:spPr>
            <a:xfrm>
              <a:off x="8442000" y="4411800"/>
              <a:ext cx="27828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9" descr=""/>
            <p:cNvPicPr/>
            <p:nvPr/>
          </p:nvPicPr>
          <p:blipFill>
            <a:blip r:embed="rId10"/>
            <a:srcRect l="738" t="4110" r="3144" b="1289"/>
            <a:stretch/>
          </p:blipFill>
          <p:spPr>
            <a:xfrm>
              <a:off x="1229760" y="5375160"/>
              <a:ext cx="1077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4"/>
          <p:cNvGrpSpPr/>
          <p:nvPr/>
        </p:nvGrpSpPr>
        <p:grpSpPr>
          <a:xfrm>
            <a:off x="8275680" y="6129360"/>
            <a:ext cx="1803240" cy="668160"/>
            <a:chOff x="8275680" y="6129360"/>
            <a:chExt cx="1803240" cy="668160"/>
          </a:xfrm>
        </p:grpSpPr>
        <p:pic>
          <p:nvPicPr>
            <p:cNvPr id="82" name="Group 29" descr=""/>
            <p:cNvPicPr/>
            <p:nvPr/>
          </p:nvPicPr>
          <p:blipFill>
            <a:blip r:embed="rId11"/>
            <a:stretch/>
          </p:blipFill>
          <p:spPr>
            <a:xfrm>
              <a:off x="8275680" y="612936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32"/>
            <p:cNvSpPr/>
            <p:nvPr/>
          </p:nvSpPr>
          <p:spPr>
            <a:xfrm>
              <a:off x="8931600" y="659880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87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9360" y="189000"/>
            <a:ext cx="74786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–1: C-band SAR mis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Text Box 65"/>
          <p:cNvSpPr/>
          <p:nvPr/>
        </p:nvSpPr>
        <p:spPr>
          <a:xfrm>
            <a:off x="0" y="1430280"/>
            <a:ext cx="97156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GMES C-band radar imaging mission for </a:t>
            </a:r>
            <a:br>
              <a:rPr sz="1800"/>
            </a:b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ocean, land and emergency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Data continuity of ERS and ENVISAT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  <a:ea typeface="Arial"/>
              </a:rPr>
              <a:t>Application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sea ice zones and the arctic environ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rveillance of marine environment (e.g. oil spill monitor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ritime security (e.g. ship detect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ind, wave, current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onitoring of land surface motion (subsidence, landslide, tectonics, volcanoes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upport to emergency / risk management (e.g. flooding, etc.) and humanitarian aid in crisis situ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mapping of land surfaces: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, 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water and soil, agricultur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buClr>
                <a:srgbClr val="4648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The Sentinel-1 mission is based on a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constellation of 2 satelli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A to be launched in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  <a:ea typeface="Arial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d4f53"/>
                </a:solidFill>
                <a:latin typeface="Verdana"/>
                <a:ea typeface="Arial"/>
              </a:rPr>
              <a:t>Sentinel-1B launch date is 2014 + (TB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9" descr="sentinel1spacecraft"/>
          <p:cNvPicPr/>
          <p:nvPr/>
        </p:nvPicPr>
        <p:blipFill>
          <a:blip r:embed="rId1"/>
          <a:stretch/>
        </p:blipFill>
        <p:spPr>
          <a:xfrm>
            <a:off x="6934320" y="1293840"/>
            <a:ext cx="2948040" cy="221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92" name="Group 4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3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9360" y="163080"/>
            <a:ext cx="74786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entinel–1 SAR operational mod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ta recording / transmission capabil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65"/>
          <p:cNvSpPr/>
          <p:nvPr/>
        </p:nvSpPr>
        <p:spPr>
          <a:xfrm>
            <a:off x="76320" y="1363680"/>
            <a:ext cx="960408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SAR operation mo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Default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4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Interferometric Wide Swath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250 km swath; level-1 pro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338d"/>
                </a:solidFill>
                <a:latin typeface="Verdana"/>
              </a:rPr>
              <a:t>(IWS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best res.: 2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ave (WV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ampled images of 20x20 km at 100 km alo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he orbit, alternating into 2 incidence ang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50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847"/>
                </a:solidFill>
                <a:uFillTx/>
                <a:latin typeface="Verdana"/>
              </a:rPr>
              <a:t>Additional modes:</a:t>
            </a:r>
            <a:r>
              <a:rPr b="1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xtra Wide Swath (EWS):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400 km swath; level-1 product best res.: 50 m</a:t>
            </a:r>
            <a:r>
              <a:rPr b="0" i="1" lang="en-US" sz="1600" spc="-1" strike="noStrike">
                <a:solidFill>
                  <a:srgbClr val="464847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Strip Map (SM):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80 km swath, 6 possible incidence ang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(exceptionally use only)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level-1 product best resolution: 9 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SAR Duty cycle: 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464847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</a:rPr>
              <a:t> up to 25 min/orbit in high rate acquisition mo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4847"/>
                </a:solidFill>
                <a:latin typeface="Verdana"/>
              </a:rPr>
              <a:t>Data recording / transmission capabilitie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On-board data storage capacity of 1400 Gb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Two X-band RF channels of 260 Mpbs e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46484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Equipped with an Optical Communication Terminal for GEO laser link </a:t>
            </a:r>
            <a:br>
              <a:rPr sz="1600"/>
            </a:br>
            <a:r>
              <a:rPr b="0" lang="en-US" sz="1600" spc="-1" strike="noStrike">
                <a:solidFill>
                  <a:srgbClr val="464847"/>
                </a:solidFill>
                <a:latin typeface="Verdana"/>
              </a:rPr>
              <a:t>with European Data Rel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99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9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02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12760" y="1362240"/>
            <a:ext cx="935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d"/>
                </a:solidFill>
                <a:latin typeface="Verdana"/>
                <a:ea typeface="Arial"/>
              </a:rPr>
              <a:t>During Full Operational Capabilit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ystematic (or very frequent) mapping of tectonic / subsidence /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landslides / volcano areas to support operational services and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“operational science” based on INS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</a:t>
            </a: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Need to provide pairs in both ascending / descending pa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prone to risks to acquire strategic background data </a:t>
            </a:r>
            <a:br>
              <a:rPr sz="1600"/>
            </a:b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(e.g. for floo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f areas to support GMES security services (e.g. G-Mosa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mapping or ice sheets (Greenland, Antarctica), polar coastal regions and of relevant areas for glacier and snow monitoring (based on seas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4648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Regular global coverage of all land areas (frequency TBD), supporting among others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forest mapping (e.g. REDD)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, soil moisture, land cover change, crop monitoring, etc. based on seasonal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d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Baseline mode of operations: </a:t>
            </a: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IWS, if possible in dual-polarisation (HH+HV)</a:t>
            </a:r>
            <a:br>
              <a:rPr sz="1600"/>
            </a:br>
            <a:r>
              <a:rPr b="1" lang="en-GB" sz="1600" spc="-1" strike="noStrike">
                <a:solidFill>
                  <a:srgbClr val="00338d"/>
                </a:solidFill>
                <a:latin typeface="Verdana"/>
                <a:ea typeface="Arial"/>
              </a:rPr>
              <a:t>     </a:t>
            </a:r>
            <a:r>
              <a:rPr b="0" lang="en-GB" sz="1600" spc="-1" strike="noStrike">
                <a:solidFill>
                  <a:srgbClr val="464847"/>
                </a:solidFill>
                <a:latin typeface="Verdana"/>
                <a:ea typeface="Arial"/>
              </a:rPr>
              <a:t>Single polarisation HH however sufficient for INSA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4360" y="168120"/>
            <a:ext cx="7817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High Level Strategy to fulfill Observation Requirements for Servic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Verdana"/>
                <a:ea typeface="ヒラギノ角ゴ ProN W3"/>
              </a:rPr>
              <a:t>Over Land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192240"/>
            <a:ext cx="8164440" cy="8618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entinel-1 Simulation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-345960" y="1325520"/>
            <a:ext cx="83692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Build up requirement data 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from GMES serv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9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  <a:ea typeface="Arial"/>
              </a:rPr>
              <a:t>national requirements from ESA member 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4 times a year full coverage of world forest areas </a:t>
            </a:r>
            <a:r>
              <a:rPr b="0" lang="en-US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 autumn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buClr>
                <a:srgbClr val="4d4f5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Other possible simulation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Increase to 6, 8 or 12 times a year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f53"/>
                </a:solidFill>
                <a:latin typeface="Arial"/>
                <a:ea typeface="Arial"/>
              </a:rPr>
              <a:t>Restrict to tropical belt but 10 or 15 times a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68560" indent="-254160">
              <a:lnSpc>
                <a:spcPct val="100000"/>
              </a:lnSpc>
              <a:buClr>
                <a:srgbClr val="4d4f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Sentinel-1-LR"/>
          <p:cNvPicPr/>
          <p:nvPr/>
        </p:nvPicPr>
        <p:blipFill>
          <a:blip r:embed="rId1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1" name="Group 29" descr=""/>
            <p:cNvPicPr/>
            <p:nvPr/>
          </p:nvPicPr>
          <p:blipFill>
            <a:blip r:embed="rId2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14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23920" y="1306440"/>
            <a:ext cx="8118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CSA-ESA discussions on-going to explore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synergies between Sentinel-1 and Radarsat Constellation Mission (RCM)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nd in view </a:t>
            </a:r>
            <a:br>
              <a:rPr sz="1800"/>
            </a:b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of a certain level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between the 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RCM – Sentinel-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nteroperability would bring stro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benefits to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0033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The following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interoperability item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are explore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 / integrated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e-defined observation plans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   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	</a:t>
            </a:r>
            <a:r>
              <a:rPr b="0" lang="en-GB" sz="16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(complementarities in observations / modes, increased revisit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Level 1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Produc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Harmonisation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atalogue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Development of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common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4d4f5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Harmonised communication,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joint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  <a:ea typeface="ＭＳ Ｐゴシック"/>
              </a:rPr>
              <a:t>publication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A joint </a:t>
            </a:r>
            <a:r>
              <a:rPr b="0" lang="en-GB" sz="1800" spc="-1" strike="noStrike">
                <a:solidFill>
                  <a:srgbClr val="00338d"/>
                </a:solidFill>
                <a:latin typeface="Verdana"/>
              </a:rPr>
              <a:t>calibration working group</a:t>
            </a:r>
            <a:r>
              <a:rPr b="0" lang="en-GB" sz="1800" spc="-1" strike="noStrike">
                <a:solidFill>
                  <a:srgbClr val="4d4f53"/>
                </a:solidFill>
                <a:latin typeface="Verdana"/>
              </a:rPr>
              <a:t> is being set u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buClr>
                <a:srgbClr val="4d4f5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In addition, </a:t>
            </a:r>
            <a:r>
              <a:rPr b="1" i="1" lang="en-GB" sz="1800" spc="-1" strike="noStrike">
                <a:solidFill>
                  <a:srgbClr val="00338d"/>
                </a:solidFill>
                <a:latin typeface="Verdana"/>
              </a:rPr>
              <a:t>cooperation to support international activities</a:t>
            </a:r>
            <a:r>
              <a:rPr b="1" i="1" lang="en-GB" sz="18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4d4f53"/>
                </a:solidFill>
                <a:latin typeface="Verdana"/>
              </a:rPr>
              <a:t>should be continued (example of the International Polar Year, GEO FCT/GFOI), setting up complementary observations (e.g. sharing of Arctic / Antarctic coverag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3920" y="390600"/>
            <a:ext cx="8272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Synergy Sentinel-1 / R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Sentinel-1-LR"/>
          <p:cNvPicPr/>
          <p:nvPr/>
        </p:nvPicPr>
        <p:blipFill>
          <a:blip r:embed="rId2"/>
          <a:stretch/>
        </p:blipFill>
        <p:spPr>
          <a:xfrm>
            <a:off x="8155080" y="1285920"/>
            <a:ext cx="17510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137440" y="2592360"/>
            <a:ext cx="176868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9320" y="163080"/>
            <a:ext cx="8164440" cy="862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1325520"/>
            <a:ext cx="99061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Sentinel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8178840" y="6073920"/>
            <a:ext cx="1803240" cy="668160"/>
            <a:chOff x="8178840" y="6073920"/>
            <a:chExt cx="1803240" cy="668160"/>
          </a:xfrm>
        </p:grpSpPr>
        <p:pic>
          <p:nvPicPr>
            <p:cNvPr id="123" name="Group 29" descr=""/>
            <p:cNvPicPr/>
            <p:nvPr/>
          </p:nvPicPr>
          <p:blipFill>
            <a:blip r:embed="rId1"/>
            <a:stretch/>
          </p:blipFill>
          <p:spPr>
            <a:xfrm>
              <a:off x="8178840" y="6073920"/>
              <a:ext cx="18032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2"/>
            <p:cNvSpPr/>
            <p:nvPr/>
          </p:nvSpPr>
          <p:spPr>
            <a:xfrm>
              <a:off x="8835480" y="6546960"/>
              <a:ext cx="981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3399ff"/>
                  </a:solidFill>
                  <a:latin typeface="Verdana"/>
                </a:rPr>
                <a:t>We care for a safer world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3:11:49Z</dcterms:created>
  <dc:creator>F.M. Seifert</dc:creator>
  <dc:description/>
  <dc:language>en-US</dc:language>
  <cp:lastModifiedBy>Frank Matin Seifert</cp:lastModifiedBy>
  <cp:lastPrinted>2008-08-26T16:26:23Z</cp:lastPrinted>
  <dcterms:modified xsi:type="dcterms:W3CDTF">2012-09-13T15:58:14Z</dcterms:modified>
  <cp:revision>589</cp:revision>
  <dc:subject/>
  <dc:title>REDD and Space</dc:title>
</cp:coreProperties>
</file>