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041026-60AB-49CC-8702-9301FA9C52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65B12F-1DA8-4885-877F-CEE95CDB73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788016-CF0D-4082-857A-C02DF7DD9A3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04B557-9A72-4CB3-86BF-5AD404E4DF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8A2436-B8D9-4594-A886-B1D9DBFF08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D4BA23-4B4E-41E6-9525-B23BF72A004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4B053C-420C-4E3D-A79E-C0D22D75E5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BD7E04-955A-437C-8CC9-679AA68339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B846DB-5397-4EAC-9940-9F11E0C80D5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88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516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49440" y="3729960"/>
            <a:ext cx="269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77480"/>
            <a:ext cx="83822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7299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2996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45720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457200" y="6019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logo_cbers.gif"/>
          <p:cNvPicPr/>
          <p:nvPr/>
        </p:nvPicPr>
        <p:blipFill>
          <a:blip r:embed="rId2"/>
          <a:stretch/>
        </p:blipFill>
        <p:spPr>
          <a:xfrm>
            <a:off x="8150400" y="61920"/>
            <a:ext cx="931680" cy="925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67809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77480"/>
            <a:ext cx="838224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5762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aixaDeTexto 4"/>
          <p:cNvSpPr/>
          <p:nvPr/>
        </p:nvSpPr>
        <p:spPr>
          <a:xfrm>
            <a:off x="358920" y="2784600"/>
            <a:ext cx="841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-3 Upda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5"/>
          <p:cNvSpPr/>
          <p:nvPr/>
        </p:nvSpPr>
        <p:spPr>
          <a:xfrm>
            <a:off x="376200" y="4473720"/>
            <a:ext cx="8418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Julio Dalge – IN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Arial"/>
              </a:rPr>
              <a:t>Guo Chaohui – CRES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99"/>
                </a:solidFill>
                <a:latin typeface="Arial"/>
              </a:rPr>
              <a:t>SDCG Meeting – Reston, USA 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3120" y="1860480"/>
          <a:ext cx="7940520" cy="3700440"/>
        </p:xfrm>
        <a:graphic>
          <a:graphicData uri="http://schemas.openxmlformats.org/drawingml/2006/table">
            <a:tbl>
              <a:tblPr/>
              <a:tblGrid>
                <a:gridCol w="2646360"/>
                <a:gridCol w="2647800"/>
                <a:gridCol w="26463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1, 2, 2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BERS 3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otal 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02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,1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300 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ata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05 Mbi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gn 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2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generation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m 8" descr=""/>
          <p:cNvPicPr/>
          <p:nvPr/>
        </p:nvPicPr>
        <p:blipFill>
          <a:blip r:embed="rId1"/>
          <a:stretch/>
        </p:blipFill>
        <p:spPr>
          <a:xfrm>
            <a:off x="411120" y="1055520"/>
            <a:ext cx="6330960" cy="3738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559320" y="3879720"/>
            <a:ext cx="53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n-synchronous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titude = 778 k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ination = 98.5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dal period = 100.26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eat cycle = 2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scending node at 10h30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31960"/>
          <a:ext cx="8620200" cy="4057560"/>
        </p:xfrm>
        <a:graphic>
          <a:graphicData uri="http://schemas.openxmlformats.org/drawingml/2006/table">
            <a:tbl>
              <a:tblPr/>
              <a:tblGrid>
                <a:gridCol w="1842840"/>
                <a:gridCol w="1563840"/>
                <a:gridCol w="2441520"/>
                <a:gridCol w="1197000"/>
                <a:gridCol w="157500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ra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ca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ushb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visi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2 days (nadir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de look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(±32 degre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:1 pan b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BERS 3 &amp; 4 – payl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1840" y="1608120"/>
          <a:ext cx="8692920" cy="4789440"/>
        </p:xfrm>
        <a:graphic>
          <a:graphicData uri="http://schemas.openxmlformats.org/drawingml/2006/table">
            <a:tbl>
              <a:tblPr/>
              <a:tblGrid>
                <a:gridCol w="1859040"/>
                <a:gridCol w="1711080"/>
                <a:gridCol w="1714680"/>
                <a:gridCol w="1673280"/>
                <a:gridCol w="1734840"/>
              </a:tblGrid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lo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X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FI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1 - 0.8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0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45 - 0.52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 - 1.7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52 - 0.5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8 - 2.3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63 - 0.6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.4 - 12.5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77 - 0.89 </a:t>
                      </a:r>
                      <a:r>
                        <a:rPr b="0" lang="pt-BR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µm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tial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(Band1), 10 m(Band 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 m(Band 1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), 80 m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nd 4</a:t>
                      </a:r>
                      <a:r>
                        <a:rPr b="0" lang="zh-CN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wa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ixaDeTexto 4"/>
          <p:cNvSpPr/>
          <p:nvPr/>
        </p:nvSpPr>
        <p:spPr>
          <a:xfrm>
            <a:off x="216000" y="412920"/>
            <a:ext cx="87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ata transmitters and onboard stor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63640" y="1397160"/>
          <a:ext cx="7480440" cy="4744800"/>
        </p:xfrm>
        <a:graphic>
          <a:graphicData uri="http://schemas.openxmlformats.org/drawingml/2006/table">
            <a:tbl>
              <a:tblPr/>
              <a:tblGrid>
                <a:gridCol w="2335320"/>
                <a:gridCol w="2950920"/>
                <a:gridCol w="2194200"/>
              </a:tblGrid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ier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6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 m PA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08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 m MUX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108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RS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034 GH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7 M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65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X CAM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36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FI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.290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3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7318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olid state onboard data recorder with 274 Gbits (15 minutes’ recording capability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ixaDeTexto 4"/>
          <p:cNvSpPr/>
          <p:nvPr/>
        </p:nvSpPr>
        <p:spPr>
          <a:xfrm>
            <a:off x="358920" y="2833560"/>
            <a:ext cx="84168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BERS-3 will be launched in December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ong-March 4 launching rocket will be u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CaixaDeTexto 4"/>
          <p:cNvSpPr/>
          <p:nvPr/>
        </p:nvSpPr>
        <p:spPr>
          <a:xfrm>
            <a:off x="358920" y="2833560"/>
            <a:ext cx="84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07:47Z</dcterms:created>
  <dc:creator>Autumn Olson</dc:creator>
  <dc:description/>
  <dc:language>en-US</dc:language>
  <cp:lastModifiedBy>Ake Rosenqvist</cp:lastModifiedBy>
  <dcterms:modified xsi:type="dcterms:W3CDTF">2012-09-10T17:45:20Z</dcterms:modified>
  <cp:revision>1113</cp:revision>
  <dc:subject/>
  <dc:title>DocuShare</dc:title>
</cp:coreProperties>
</file>