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3AB0-E42B-42CD-AC5F-A50742DB73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E74A-1819-4AA2-936F-B1570555D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7/12 timeline WG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BE6C-0970-4A31-B7DE-6F16E00E5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1080" y="110484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9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1080" y="3811320"/>
            <a:ext cx="27766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0" y="250920"/>
            <a:ext cx="678168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8440" y="381132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9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8440" y="1104840"/>
            <a:ext cx="42080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9440" y="3811320"/>
            <a:ext cx="86234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85680"/>
            <a:ext cx="9145440" cy="103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USGS-NASA_bottom-logo_2"/>
          <p:cNvPicPr/>
          <p:nvPr/>
        </p:nvPicPr>
        <p:blipFill>
          <a:blip r:embed="rId3"/>
          <a:stretch/>
        </p:blipFill>
        <p:spPr>
          <a:xfrm>
            <a:off x="0" y="634356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5"/>
          <p:cNvSpPr/>
          <p:nvPr/>
        </p:nvSpPr>
        <p:spPr>
          <a:xfrm>
            <a:off x="368280" y="664524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8610480" y="65530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ECDE-DAC8-479C-8E6C-0D595F84105B}" type="slidenum">
              <a:rPr b="0" lang="en-US" sz="1200" spc="-1" strike="noStrike">
                <a:solidFill>
                  <a:srgbClr val="8686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Picture4"/>
          <p:cNvPicPr/>
          <p:nvPr/>
        </p:nvPicPr>
        <p:blipFill>
          <a:blip r:embed="rId2"/>
          <a:stretch/>
        </p:blipFill>
        <p:spPr>
          <a:xfrm>
            <a:off x="0" y="5364000"/>
            <a:ext cx="9144000" cy="1036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05360" y="6311880"/>
            <a:ext cx="2014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ident_4_onscreen_png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57200" y="461880"/>
            <a:ext cx="2057400" cy="75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_USGSid"/>
          <p:cNvPicPr/>
          <p:nvPr/>
        </p:nvPicPr>
        <p:blipFill>
          <a:blip r:embed="rId4"/>
          <a:stretch/>
        </p:blipFill>
        <p:spPr>
          <a:xfrm>
            <a:off x="457200" y="45720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ASA_Logo"/>
          <p:cNvPicPr/>
          <p:nvPr/>
        </p:nvPicPr>
        <p:blipFill>
          <a:blip r:embed="rId5"/>
          <a:stretch/>
        </p:blipFill>
        <p:spPr>
          <a:xfrm>
            <a:off x="7772400" y="457200"/>
            <a:ext cx="838080" cy="716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4"/>
          <p:cNvSpPr/>
          <p:nvPr/>
        </p:nvSpPr>
        <p:spPr>
          <a:xfrm>
            <a:off x="6550200" y="6583320"/>
            <a:ext cx="25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LGSOWG #40 – Bali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380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hyperlink" Target="http://en.wikipedia.org/wiki/Image:Tdrs1.gif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sat Data Continuity Mission 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5"/>
          <p:cNvGrpSpPr/>
          <p:nvPr/>
        </p:nvGrpSpPr>
        <p:grpSpPr>
          <a:xfrm>
            <a:off x="304920" y="1236240"/>
            <a:ext cx="8599320" cy="5211000"/>
            <a:chOff x="304920" y="1236240"/>
            <a:chExt cx="8599320" cy="5211000"/>
          </a:xfrm>
        </p:grpSpPr>
        <p:pic>
          <p:nvPicPr>
            <p:cNvPr id="95" name="Picture 73" descr=""/>
            <p:cNvPicPr/>
            <p:nvPr/>
          </p:nvPicPr>
          <p:blipFill>
            <a:blip r:embed="rId1"/>
            <a:stretch/>
          </p:blipFill>
          <p:spPr>
            <a:xfrm>
              <a:off x="304920" y="3375000"/>
              <a:ext cx="8599320" cy="261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90"/>
            <p:cNvSpPr/>
            <p:nvPr/>
          </p:nvSpPr>
          <p:spPr>
            <a:xfrm>
              <a:off x="304920" y="1258920"/>
              <a:ext cx="8589600" cy="23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1"/>
            <p:cNvSpPr/>
            <p:nvPr/>
          </p:nvSpPr>
          <p:spPr>
            <a:xfrm>
              <a:off x="1004040" y="4545000"/>
              <a:ext cx="1723680" cy="708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2"/>
            <p:cNvSpPr/>
            <p:nvPr/>
          </p:nvSpPr>
          <p:spPr>
            <a:xfrm>
              <a:off x="432720" y="1855800"/>
              <a:ext cx="5004000" cy="4248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93" descr="MPj01808810000[1]"/>
            <p:cNvPicPr/>
            <p:nvPr/>
          </p:nvPicPr>
          <p:blipFill>
            <a:blip r:embed="rId2"/>
            <a:stretch/>
          </p:blipFill>
          <p:spPr>
            <a:xfrm>
              <a:off x="3711600" y="3792600"/>
              <a:ext cx="425160" cy="45000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0" name="Text Box 9"/>
            <p:cNvSpPr/>
            <p:nvPr/>
          </p:nvSpPr>
          <p:spPr>
            <a:xfrm>
              <a:off x="4406760" y="4806000"/>
              <a:ext cx="1180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andsat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ioux Falls, S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616200" y="4267440"/>
              <a:ext cx="9306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Representative 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Can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459000" y="3376800"/>
              <a:ext cx="1458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Gilmore Creek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Fairbanks, 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7826040" y="1935720"/>
              <a:ext cx="5130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Calibri"/>
                </a:rPr>
                <a:t>TDR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525040" y="5344560"/>
              <a:ext cx="478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Atlas 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VAF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1385640" y="2201760"/>
              <a:ext cx="10753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rbi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705 km circul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un sync, 10am DN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16-day repe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 flipH="1">
              <a:off x="570600" y="5272560"/>
              <a:ext cx="206640" cy="43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820200" y="5267880"/>
              <a:ext cx="9716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NASA N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Wallops Island, 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02" descr="MPj01444840000[1]"/>
            <p:cNvPicPr/>
            <p:nvPr/>
          </p:nvPicPr>
          <p:blipFill>
            <a:blip r:embed="rId3"/>
            <a:stretch/>
          </p:blipFill>
          <p:spPr>
            <a:xfrm>
              <a:off x="1419480" y="37879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09" name="Arc 18"/>
            <p:cNvSpPr/>
            <p:nvPr/>
          </p:nvSpPr>
          <p:spPr>
            <a:xfrm flipH="1" rot="20053800">
              <a:off x="3218400" y="4383000"/>
              <a:ext cx="1093320" cy="19220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04" descr="MPj01444840000[1]"/>
            <p:cNvPicPr/>
            <p:nvPr/>
          </p:nvPicPr>
          <p:blipFill>
            <a:blip r:embed="rId4"/>
            <a:stretch/>
          </p:blipFill>
          <p:spPr>
            <a:xfrm>
              <a:off x="4737600" y="4114080"/>
              <a:ext cx="425160" cy="6721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11" name="Freeform 105"/>
            <p:cNvSpPr/>
            <p:nvPr/>
          </p:nvSpPr>
          <p:spPr>
            <a:xfrm>
              <a:off x="2782080" y="4504320"/>
              <a:ext cx="751680" cy="174240"/>
            </a:xfrm>
            <a:prstGeom prst="pi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2655000" y="1408680"/>
              <a:ext cx="98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LDCM Observa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(OLI, TIR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07"/>
            <p:cNvSpPr/>
            <p:nvPr/>
          </p:nvSpPr>
          <p:spPr>
            <a:xfrm>
              <a:off x="7190280" y="5236200"/>
              <a:ext cx="98280" cy="43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8"/>
            <p:cNvSpPr/>
            <p:nvPr/>
          </p:nvSpPr>
          <p:spPr>
            <a:xfrm>
              <a:off x="3184560" y="2379600"/>
              <a:ext cx="1685880" cy="1918800"/>
            </a:xfrm>
            <a:prstGeom prst="pie">
              <a:avLst/>
            </a:prstGeom>
            <a:noFill/>
            <a:ln w="1260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9"/>
            <p:cNvSpPr/>
            <p:nvPr/>
          </p:nvSpPr>
          <p:spPr>
            <a:xfrm rot="2130600">
              <a:off x="2880720" y="3582360"/>
              <a:ext cx="4828320" cy="231480"/>
            </a:xfrm>
            <a:prstGeom prst="pie">
              <a:avLst/>
            </a:prstGeom>
            <a:noFill/>
            <a:ln w="6480">
              <a:solidFill>
                <a:srgbClr val="00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26"/>
            <p:cNvGrpSpPr/>
            <p:nvPr/>
          </p:nvGrpSpPr>
          <p:grpSpPr>
            <a:xfrm>
              <a:off x="6942600" y="1236240"/>
              <a:ext cx="1660680" cy="858960"/>
              <a:chOff x="6942600" y="1236240"/>
              <a:chExt cx="1660680" cy="858960"/>
            </a:xfrm>
          </p:grpSpPr>
          <p:pic>
            <p:nvPicPr>
              <p:cNvPr id="117" name="Picture 27" descr="First Generation TDRS">
                <a:hlinkClick r:id="rId5"/>
              </p:cNvPr>
              <p:cNvPicPr/>
              <p:nvPr/>
            </p:nvPicPr>
            <p:blipFill>
              <a:blip r:embed="rId6"/>
              <a:srcRect l="6274" t="21039" r="-1172" b="20178"/>
              <a:stretch/>
            </p:blipFill>
            <p:spPr>
              <a:xfrm rot="464400">
                <a:off x="7254000" y="1322280"/>
                <a:ext cx="1317960" cy="5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Rectangle 28"/>
              <p:cNvSpPr/>
              <p:nvPr/>
            </p:nvSpPr>
            <p:spPr>
              <a:xfrm rot="3228000">
                <a:off x="6975360" y="1564200"/>
                <a:ext cx="577440" cy="37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Freeform 29"/>
            <p:cNvSpPr/>
            <p:nvPr/>
          </p:nvSpPr>
          <p:spPr>
            <a:xfrm>
              <a:off x="3364920" y="1434960"/>
              <a:ext cx="4219200" cy="324360"/>
            </a:xfrm>
            <a:prstGeom prst="pie">
              <a:avLst/>
            </a:prstGeom>
            <a:noFill/>
            <a:ln w="6480">
              <a:solidFill>
                <a:srgbClr val="ff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 rot="21056400">
              <a:off x="3133080" y="2442960"/>
              <a:ext cx="681120" cy="139320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3120480" y="2427120"/>
              <a:ext cx="1700640" cy="1905480"/>
            </a:xfrm>
            <a:prstGeom prst="pie">
              <a:avLst/>
            </a:prstGeom>
            <a:noFill/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3253320" y="2350440"/>
              <a:ext cx="1671120" cy="1912320"/>
            </a:xfrm>
            <a:prstGeom prst="pie">
              <a:avLst/>
            </a:prstGeom>
            <a:noFill/>
            <a:ln w="126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 flipV="1">
              <a:off x="2910240" y="2139480"/>
              <a:ext cx="118080" cy="23641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2787120" y="2089440"/>
              <a:ext cx="738720" cy="2589480"/>
            </a:xfrm>
            <a:prstGeom prst="pie">
              <a:avLst/>
            </a:prstGeom>
            <a:solidFill>
              <a:srgbClr val="3366ff">
                <a:alpha val="18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 flipH="1" flipV="1">
              <a:off x="3120480" y="2136600"/>
              <a:ext cx="346320" cy="25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 flipH="1">
              <a:off x="3128400" y="2113920"/>
              <a:ext cx="468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1"/>
            <p:cNvSpPr/>
            <p:nvPr/>
          </p:nvSpPr>
          <p:spPr>
            <a:xfrm flipH="1" flipV="1">
              <a:off x="3030120" y="2126520"/>
              <a:ext cx="9000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2"/>
            <p:cNvSpPr/>
            <p:nvPr/>
          </p:nvSpPr>
          <p:spPr>
            <a:xfrm flipH="1" flipV="1">
              <a:off x="3035160" y="2080800"/>
              <a:ext cx="1000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2373480" y="5562720"/>
              <a:ext cx="4705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Launch Readiness Date: February 11, 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5" descr=""/>
            <p:cNvPicPr/>
            <p:nvPr/>
          </p:nvPicPr>
          <p:blipFill>
            <a:blip r:embed="rId7"/>
            <a:stretch/>
          </p:blipFill>
          <p:spPr>
            <a:xfrm rot="19869000">
              <a:off x="2335320" y="4096440"/>
              <a:ext cx="25776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9" descr="LDCM_deployed"/>
            <p:cNvPicPr/>
            <p:nvPr/>
          </p:nvPicPr>
          <p:blipFill>
            <a:blip r:embed="rId8"/>
            <a:stretch/>
          </p:blipFill>
          <p:spPr>
            <a:xfrm>
              <a:off x="2658960" y="1689480"/>
              <a:ext cx="2206440" cy="7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26" descr="MPj01444840000[1]"/>
            <p:cNvPicPr/>
            <p:nvPr/>
          </p:nvPicPr>
          <p:blipFill>
            <a:blip r:embed="rId9"/>
            <a:stretch/>
          </p:blipFill>
          <p:spPr>
            <a:xfrm>
              <a:off x="5785200" y="3728520"/>
              <a:ext cx="384120" cy="60696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3" name="Text Box 11"/>
            <p:cNvSpPr/>
            <p:nvPr/>
          </p:nvSpPr>
          <p:spPr>
            <a:xfrm>
              <a:off x="5166360" y="3439800"/>
              <a:ext cx="12200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cc"/>
                  </a:solidFill>
                  <a:latin typeface="Calibri"/>
                </a:rPr>
                <a:t>Svalbard Ground S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alibri"/>
                </a:rPr>
                <a:t>Svalbard, Nor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860400" y="2068560"/>
            <a:ext cx="7124760" cy="429264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2" descr=""/>
          <p:cNvPicPr/>
          <p:nvPr/>
        </p:nvPicPr>
        <p:blipFill>
          <a:blip r:embed="rId2"/>
          <a:stretch/>
        </p:blipFill>
        <p:spPr>
          <a:xfrm>
            <a:off x="4761000" y="1023840"/>
            <a:ext cx="3859200" cy="67176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3" descr=""/>
          <p:cNvPicPr/>
          <p:nvPr/>
        </p:nvPicPr>
        <p:blipFill>
          <a:blip r:embed="rId3"/>
          <a:stretch/>
        </p:blipFill>
        <p:spPr>
          <a:xfrm>
            <a:off x="285840" y="1023840"/>
            <a:ext cx="3859200" cy="9446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4"/>
          <p:cNvCxnSpPr/>
          <p:nvPr/>
        </p:nvCxnSpPr>
        <p:spPr>
          <a:xfrm>
            <a:off x="512640" y="1959120"/>
            <a:ext cx="859680" cy="206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Straight Arrow Connector 5"/>
          <p:cNvCxnSpPr/>
          <p:nvPr/>
        </p:nvCxnSpPr>
        <p:spPr>
          <a:xfrm flipH="1">
            <a:off x="4131720" y="1682640"/>
            <a:ext cx="818280" cy="2339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itle 1"/>
          <p:cNvSpPr/>
          <p:nvPr/>
        </p:nvSpPr>
        <p:spPr>
          <a:xfrm>
            <a:off x="2214720" y="250920"/>
            <a:ext cx="6852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DCM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79440" y="1104840"/>
            <a:ext cx="86234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al band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sat 7 offered 8 spectral bands (3 VIS, 1 NIR, 2 SWIR, 1 TIR, and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CM has 11 spectral bands (4 VIS, 1 NIR, 3 SWIR, 2 TIR, and a pan b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VIS “coastal aerosol” band allows detection of water column constituents (e.g.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lorophyll, suspended material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WIR “cirrus” band will improve overall image quality because of better cloud sc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 of a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rmal band will improve the accuracy and precision of temperature measurements. Note, however, that TIR resolution decreases from 60m to 100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3803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in panchromatic band spectral range will increase the overall use of this band for image sharpening and other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, quantification, and mapping of surface (land and water) characteristics will improve because of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x improvement of signal-to-noise ratios of spectral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bit quantization of spectral signals (Landsat 7 was 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off-nadir imaging capability will allow viewing adjacent path row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75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7" descr="Launch One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04920" y="1573200"/>
            <a:ext cx="4513320" cy="4294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121000" y="3124080"/>
            <a:ext cx="3318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150 day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CM is al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for launch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9625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60" y="939600"/>
            <a:ext cx="3629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71520" y="939960"/>
            <a:ext cx="3587760" cy="22096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74760" y="1084320"/>
            <a:ext cx="3581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 continuity in the multi-decadal Landsat land surface observations to study, predict, and understand the consequences of land surface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 cover/u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man settlement an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cosystem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dscape scale carbon st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0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 management/socie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183200" y="971640"/>
            <a:ext cx="4500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DCM Data Needed to Address Earth Science Focus Areas, Questions, and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191120" y="1427040"/>
            <a:ext cx="4560480" cy="2189160"/>
            <a:chOff x="4191120" y="1427040"/>
            <a:chExt cx="4560480" cy="2189160"/>
          </a:xfrm>
        </p:grpSpPr>
        <p:sp>
          <p:nvSpPr>
            <p:cNvPr id="140" name="Rectangle 8"/>
            <p:cNvSpPr/>
            <p:nvPr/>
          </p:nvSpPr>
          <p:spPr>
            <a:xfrm>
              <a:off x="4260600" y="1427040"/>
              <a:ext cx="4339800" cy="304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4260600" y="1753920"/>
              <a:ext cx="4333680" cy="1862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4266360" y="1433520"/>
              <a:ext cx="4334040" cy="21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5950800" y="145728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4191120" y="1753920"/>
              <a:ext cx="183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bon Cycle, Ecosystems, &amp; Biogeochemi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4266360" y="2273040"/>
              <a:ext cx="16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ter &amp; Energy Cyc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4"/>
            <p:cNvGrpSpPr/>
            <p:nvPr/>
          </p:nvGrpSpPr>
          <p:grpSpPr>
            <a:xfrm>
              <a:off x="5950800" y="1698480"/>
              <a:ext cx="2800800" cy="1883160"/>
              <a:chOff x="5950800" y="1698480"/>
              <a:chExt cx="2800800" cy="1883160"/>
            </a:xfrm>
          </p:grpSpPr>
          <p:sp>
            <p:nvSpPr>
              <p:cNvPr id="147" name="Text Box 15"/>
              <p:cNvSpPr/>
              <p:nvPr/>
            </p:nvSpPr>
            <p:spPr>
              <a:xfrm>
                <a:off x="5950800" y="169848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hanges in global land cover and land use, and what are their causes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ow do ecosystems, land cover &amp; biogeochemical cycle respond to and affect environmental change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6"/>
              <p:cNvSpPr/>
              <p:nvPr/>
            </p:nvSpPr>
            <p:spPr>
              <a:xfrm>
                <a:off x="5950800" y="2650320"/>
                <a:ext cx="2800800" cy="93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are the consequences  of land cover and land use change for human societies and the sustainability of ecosystems 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 What are the consequences of increased human activities on coastal regions?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17"/>
            <p:cNvSpPr/>
            <p:nvPr/>
          </p:nvSpPr>
          <p:spPr>
            <a:xfrm>
              <a:off x="4517280" y="1457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6356520" y="1457280"/>
              <a:ext cx="154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cience Ques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260600" y="1731960"/>
              <a:ext cx="43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4230000" y="2704320"/>
              <a:ext cx="159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rth Surface &amp; I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1"/>
          <p:cNvSpPr/>
          <p:nvPr/>
        </p:nvSpPr>
        <p:spPr>
          <a:xfrm>
            <a:off x="4572000" y="3606840"/>
            <a:ext cx="30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2"/>
          <p:cNvGrpSpPr/>
          <p:nvPr/>
        </p:nvGrpSpPr>
        <p:grpSpPr>
          <a:xfrm>
            <a:off x="379440" y="3290760"/>
            <a:ext cx="3633480" cy="2490840"/>
            <a:chOff x="379440" y="3290760"/>
            <a:chExt cx="3633480" cy="2490840"/>
          </a:xfrm>
        </p:grpSpPr>
        <p:pic>
          <p:nvPicPr>
            <p:cNvPr id="155" name="Picture 23" descr=""/>
            <p:cNvPicPr/>
            <p:nvPr/>
          </p:nvPicPr>
          <p:blipFill>
            <a:blip r:embed="rId1"/>
            <a:stretch/>
          </p:blipFill>
          <p:spPr>
            <a:xfrm>
              <a:off x="2360160" y="3290760"/>
              <a:ext cx="16527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4" descr=""/>
            <p:cNvPicPr/>
            <p:nvPr/>
          </p:nvPicPr>
          <p:blipFill>
            <a:blip r:embed="rId2"/>
            <a:stretch/>
          </p:blipFill>
          <p:spPr>
            <a:xfrm>
              <a:off x="379440" y="3290760"/>
              <a:ext cx="1651320" cy="24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5"/>
          <p:cNvSpPr/>
          <p:nvPr/>
        </p:nvSpPr>
        <p:spPr>
          <a:xfrm>
            <a:off x="227880" y="5782320"/>
            <a:ext cx="406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ndsat 7 data used to aid Indonesian government with tsunam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lief efforts (David Skole, Michigan State Universit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4919760" y="5335560"/>
            <a:ext cx="304776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7800" indent="-190440">
              <a:lnSpc>
                <a:spcPct val="100000"/>
              </a:lnSpc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ission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Goddard Space Fligh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t. of the Interior’s United States Geological Survey (U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SA Kennedy Spa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4454640" y="3809880"/>
            <a:ext cx="4038480" cy="73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struments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Land Imager – BAT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al Thermal Infrared Sensor – GSF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4479840" y="4678200"/>
            <a:ext cx="4038840" cy="52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6920" indent="-196920">
              <a:tabLst>
                <a:tab algn="l" pos="0"/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ace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buClr>
                <a:srgbClr val="000000"/>
              </a:buClr>
              <a:buSzPct val="120000"/>
              <a:buFont typeface="Arial"/>
              <a:buChar char="•"/>
              <a:tabLst>
                <a:tab algn="l" pos="958680"/>
                <a:tab algn="l" pos="17146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bital Sciences Corp (OS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roject Master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9440" y="1104840"/>
            <a:ext cx="8623440" cy="518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77760" y="990720"/>
            <a:ext cx="902016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630080" y="12542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880" y="1254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0474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88548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57906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762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23440" y="1492200"/>
            <a:ext cx="1375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unch thru Deploy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p, Bus Init, ACS Acq, SA Deplo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547560" y="1981080"/>
            <a:ext cx="1386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system Initializ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PS, ACS, TCS, C&amp;DH, RF Co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592920" y="2514600"/>
            <a:ext cx="81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S Calib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533520" y="4572000"/>
            <a:ext cx="154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- power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ryout, cryocooler depl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568080" y="3517920"/>
            <a:ext cx="1459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-Electronic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rs On, Shutter, Dryo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H="1">
            <a:off x="445680" y="1209600"/>
            <a:ext cx="12600" cy="492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47955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5715000" y="1228680"/>
            <a:ext cx="468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8453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457200" y="12096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457200" y="144468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457200" y="182736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457200" y="2362320"/>
            <a:ext cx="7999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458640" y="2819520"/>
            <a:ext cx="7998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0"/>
          <p:cNvSpPr/>
          <p:nvPr/>
        </p:nvSpPr>
        <p:spPr>
          <a:xfrm>
            <a:off x="468360" y="335268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450720" y="396252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457200" y="447840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2057400" y="2057400"/>
            <a:ext cx="1219320" cy="10620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2057400" y="1670040"/>
            <a:ext cx="114480" cy="10944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3724200" y="368460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555480" y="4129200"/>
            <a:ext cx="17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Activation – FP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ldow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388116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2971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2057400" y="1206360"/>
            <a:ext cx="4680" cy="492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446040" y="4870440"/>
            <a:ext cx="799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 flipV="1">
            <a:off x="2133720" y="2513880"/>
            <a:ext cx="1447560" cy="15228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2209680" y="3657600"/>
            <a:ext cx="106704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3657600" y="5486400"/>
            <a:ext cx="3809880" cy="7632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2085120" y="15177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6624720" y="1228680"/>
            <a:ext cx="7920" cy="490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8"/>
          <p:cNvSpPr/>
          <p:nvPr/>
        </p:nvSpPr>
        <p:spPr>
          <a:xfrm>
            <a:off x="7543800" y="1219320"/>
            <a:ext cx="4680" cy="491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9"/>
          <p:cNvSpPr/>
          <p:nvPr/>
        </p:nvSpPr>
        <p:spPr>
          <a:xfrm>
            <a:off x="6705000" y="125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0"/>
          <p:cNvSpPr/>
          <p:nvPr/>
        </p:nvSpPr>
        <p:spPr>
          <a:xfrm>
            <a:off x="457200" y="6137280"/>
            <a:ext cx="8001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1"/>
          <p:cNvSpPr/>
          <p:nvPr/>
        </p:nvSpPr>
        <p:spPr>
          <a:xfrm>
            <a:off x="566640" y="5362560"/>
            <a:ext cx="13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I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1"/>
          <p:cNvSpPr/>
          <p:nvPr/>
        </p:nvSpPr>
        <p:spPr>
          <a:xfrm>
            <a:off x="2025720" y="1689120"/>
            <a:ext cx="46080" cy="77760"/>
          </a:xfrm>
          <a:prstGeom prst="flowChartMerg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2"/>
          <p:cNvSpPr/>
          <p:nvPr/>
        </p:nvSpPr>
        <p:spPr>
          <a:xfrm>
            <a:off x="7577280" y="1254240"/>
            <a:ext cx="39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5"/>
          <p:cNvSpPr/>
          <p:nvPr/>
        </p:nvSpPr>
        <p:spPr>
          <a:xfrm>
            <a:off x="468360" y="5710320"/>
            <a:ext cx="7999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6"/>
          <p:cNvSpPr/>
          <p:nvPr/>
        </p:nvSpPr>
        <p:spPr>
          <a:xfrm>
            <a:off x="459360" y="3048120"/>
            <a:ext cx="1573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bit Maneuvers, ascent bur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2"/>
          <p:cNvSpPr/>
          <p:nvPr/>
        </p:nvSpPr>
        <p:spPr>
          <a:xfrm>
            <a:off x="3352680" y="4191120"/>
            <a:ext cx="228600" cy="75960"/>
          </a:xfrm>
          <a:prstGeom prst="rect">
            <a:avLst/>
          </a:prstGeom>
          <a:solidFill>
            <a:srgbClr val="d5ff5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5"/>
          <p:cNvSpPr/>
          <p:nvPr/>
        </p:nvSpPr>
        <p:spPr>
          <a:xfrm>
            <a:off x="2023920" y="1689120"/>
            <a:ext cx="76320" cy="7632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7"/>
          <p:cNvSpPr/>
          <p:nvPr/>
        </p:nvSpPr>
        <p:spPr>
          <a:xfrm>
            <a:off x="460440" y="5288040"/>
            <a:ext cx="7999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540000" y="493236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Activation – coold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iagnostics che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2209680" y="4648320"/>
            <a:ext cx="1067040" cy="759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352680" y="5029200"/>
            <a:ext cx="228600" cy="11916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3657600" y="5867280"/>
            <a:ext cx="3809880" cy="7632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9"/>
          <p:cNvSpPr/>
          <p:nvPr/>
        </p:nvSpPr>
        <p:spPr>
          <a:xfrm>
            <a:off x="3352680" y="5029200"/>
            <a:ext cx="76320" cy="10944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2976120" y="4876920"/>
            <a:ext cx="91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ploy Earth shiel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1"/>
          <p:cNvSpPr/>
          <p:nvPr/>
        </p:nvSpPr>
        <p:spPr>
          <a:xfrm>
            <a:off x="549360" y="5791320"/>
            <a:ext cx="13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RS Characterization and Commis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5"/>
          <p:cNvSpPr/>
          <p:nvPr/>
        </p:nvSpPr>
        <p:spPr>
          <a:xfrm>
            <a:off x="3352680" y="4191120"/>
            <a:ext cx="76320" cy="7596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4"/>
          <p:cNvSpPr/>
          <p:nvPr/>
        </p:nvSpPr>
        <p:spPr>
          <a:xfrm>
            <a:off x="3124080" y="403848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ose shu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Post-launch Checkou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4800600" y="3048120"/>
            <a:ext cx="106668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2590920" y="3048120"/>
            <a:ext cx="457200" cy="75960"/>
          </a:xfrm>
          <a:prstGeom prst="rect">
            <a:avLst/>
          </a:prstGeom>
          <a:solidFill>
            <a:srgbClr val="144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acecraft/Observatory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1403280"/>
            <a:ext cx="3879720" cy="385920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6"/>
          <p:cNvSpPr/>
          <p:nvPr/>
        </p:nvSpPr>
        <p:spPr>
          <a:xfrm>
            <a:off x="2401920" y="5122800"/>
            <a:ext cx="231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0"/>
          <p:cNvSpPr/>
          <p:nvPr/>
        </p:nvSpPr>
        <p:spPr>
          <a:xfrm>
            <a:off x="2906640" y="1671480"/>
            <a:ext cx="1920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14"/>
          <p:cNvCxnSpPr/>
          <p:nvPr/>
        </p:nvCxnSpPr>
        <p:spPr>
          <a:xfrm flipH="1">
            <a:off x="4640040" y="1681200"/>
            <a:ext cx="2160" cy="3434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8" name="TextBox 17"/>
          <p:cNvSpPr/>
          <p:nvPr/>
        </p:nvSpPr>
        <p:spPr>
          <a:xfrm>
            <a:off x="4384440" y="2792520"/>
            <a:ext cx="538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3.7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4795920" y="26272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9.5 f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14"/>
          <p:cNvCxnSpPr/>
          <p:nvPr/>
        </p:nvCxnSpPr>
        <p:spPr>
          <a:xfrm>
            <a:off x="213840" y="1402920"/>
            <a:ext cx="3404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Straight Connector 16"/>
          <p:cNvSpPr/>
          <p:nvPr/>
        </p:nvSpPr>
        <p:spPr>
          <a:xfrm>
            <a:off x="214200" y="1403280"/>
            <a:ext cx="0" cy="1800"/>
          </a:xfrm>
          <a:prstGeom prst="line">
            <a:avLst/>
          </a:prstGeom>
          <a:ln w="12600">
            <a:solidFill>
              <a:srgbClr val="ff4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8"/>
          <p:cNvSpPr/>
          <p:nvPr/>
        </p:nvSpPr>
        <p:spPr>
          <a:xfrm>
            <a:off x="214200" y="110808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9"/>
          <p:cNvSpPr/>
          <p:nvPr/>
        </p:nvSpPr>
        <p:spPr>
          <a:xfrm>
            <a:off x="3618000" y="107316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1766880" y="11556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rcRect l="0" t="4919" r="0" b="11390"/>
          <a:stretch/>
        </p:blipFill>
        <p:spPr>
          <a:xfrm>
            <a:off x="4363920" y="5030640"/>
            <a:ext cx="4332240" cy="1393920"/>
          </a:xfrm>
          <a:prstGeom prst="rect">
            <a:avLst/>
          </a:prstGeom>
          <a:ln w="0">
            <a:noFill/>
          </a:ln>
        </p:spPr>
      </p:pic>
      <p:cxnSp>
        <p:nvCxnSpPr>
          <p:cNvPr id="236" name="Straight Arrow Connector 25"/>
          <p:cNvCxnSpPr/>
          <p:nvPr/>
        </p:nvCxnSpPr>
        <p:spPr>
          <a:xfrm>
            <a:off x="5676840" y="5099040"/>
            <a:ext cx="287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Straight Connector 29"/>
          <p:cNvSpPr/>
          <p:nvPr/>
        </p:nvSpPr>
        <p:spPr>
          <a:xfrm>
            <a:off x="5676840" y="49608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0"/>
          <p:cNvSpPr/>
          <p:nvPr/>
        </p:nvSpPr>
        <p:spPr>
          <a:xfrm>
            <a:off x="8550360" y="500544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1"/>
          <p:cNvSpPr/>
          <p:nvPr/>
        </p:nvSpPr>
        <p:spPr>
          <a:xfrm>
            <a:off x="6795000" y="47973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6438960" y="1268280"/>
            <a:ext cx="2205000" cy="34210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34"/>
          <p:cNvCxnSpPr/>
          <p:nvPr/>
        </p:nvCxnSpPr>
        <p:spPr>
          <a:xfrm>
            <a:off x="6411960" y="1473120"/>
            <a:ext cx="46800" cy="305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2" name="Straight Connector 36"/>
          <p:cNvSpPr/>
          <p:nvPr/>
        </p:nvSpPr>
        <p:spPr>
          <a:xfrm>
            <a:off x="6186600" y="147312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8"/>
          <p:cNvSpPr/>
          <p:nvPr/>
        </p:nvSpPr>
        <p:spPr>
          <a:xfrm>
            <a:off x="6226200" y="452448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5901840" y="2855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DCM Observato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rcRect l="14722" t="0" r="0" b="0"/>
          <a:stretch/>
        </p:blipFill>
        <p:spPr>
          <a:xfrm>
            <a:off x="2438280" y="1143000"/>
            <a:ext cx="359424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7" name="TextBox 4"/>
          <p:cNvSpPr/>
          <p:nvPr/>
        </p:nvSpPr>
        <p:spPr>
          <a:xfrm>
            <a:off x="6328440" y="1676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995040" y="16765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6176520" y="43434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189120" y="27622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Whe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9"/>
          <p:cNvCxnSpPr>
            <a:stCxn id="250" idx="1"/>
          </p:cNvCxnSpPr>
          <p:nvPr/>
        </p:nvCxnSpPr>
        <p:spPr>
          <a:xfrm flipH="1">
            <a:off x="4190760" y="2946240"/>
            <a:ext cx="198648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2" name="Straight Arrow Connector 11"/>
          <p:cNvCxnSpPr>
            <a:stCxn id="250" idx="1"/>
          </p:cNvCxnSpPr>
          <p:nvPr/>
        </p:nvCxnSpPr>
        <p:spPr>
          <a:xfrm flipH="1">
            <a:off x="5409720" y="2946240"/>
            <a:ext cx="767520" cy="788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3" name="Straight Arrow Connector 15"/>
          <p:cNvCxnSpPr>
            <a:stCxn id="247" idx="1"/>
          </p:cNvCxnSpPr>
          <p:nvPr/>
        </p:nvCxnSpPr>
        <p:spPr>
          <a:xfrm flipH="1">
            <a:off x="5105160" y="1860120"/>
            <a:ext cx="1219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Straight Arrow Connector 20"/>
          <p:cNvCxnSpPr>
            <a:stCxn id="248" idx="3"/>
          </p:cNvCxnSpPr>
          <p:nvPr/>
        </p:nvCxnSpPr>
        <p:spPr>
          <a:xfrm>
            <a:off x="1701360" y="1860120"/>
            <a:ext cx="1042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3"/>
          <p:cNvCxnSpPr>
            <a:stCxn id="249" idx="1"/>
          </p:cNvCxnSpPr>
          <p:nvPr/>
        </p:nvCxnSpPr>
        <p:spPr>
          <a:xfrm flipH="1">
            <a:off x="4996800" y="4667040"/>
            <a:ext cx="1175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09680" y="2816280"/>
            <a:ext cx="3260520" cy="3097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Land Imager (O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9520" y="2815920"/>
            <a:ext cx="5334120" cy="32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06560" indent="-10656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ight multi-spectral bands ranging in wavelength from 433 nm to 1390 nm with spatial resolutions of 30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panchromatic visible band with a spatial resolution of 15 me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shbroom VIS/SWIR sens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-mirror telescope with front aperture st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cal Plane Assembly (FPA) consisting of 14 sensor chip assemblies, passively coo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solute radiometric accuracy &lt; 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s:  450K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onal Power:  160 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74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ze:  1.8 m x 2 m x 1 8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569880" y="1185840"/>
            <a:ext cx="8178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 reflective-band multi-channel earth-imaging instr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vides imagery to detect and quantitatively characterize changes on the global land surface at a scale where natural and man-made causes of change can be detected and differentiated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OLI design draws on 35+ years of Landsat imaging experience plus Worldview/Quickbird and ALI heri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InfraRed Sensor (T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5560" y="1198440"/>
            <a:ext cx="84531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920" indent="-115920">
              <a:spcBef>
                <a:spcPts val="400"/>
              </a:spcBef>
              <a:buClr>
                <a:srgbClr val="ea75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 thermal infrared earth-imaging 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ry to the reflective bands sensed by OLI for detecting and quantitatively characterizing land surfac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a9a503"/>
              </a:buClr>
              <a:buFont typeface="Wingdings" charset="2"/>
              <a:buChar char="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s the record of earth monitoring in the thermal portion of the electromagnetic spectrum currently sensed by Landsats 5 and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27040" y="2395440"/>
            <a:ext cx="3171960" cy="3622680"/>
          </a:xfrm>
          <a:prstGeom prst="rect">
            <a:avLst/>
          </a:prstGeom>
          <a:ln w="0">
            <a:noFill/>
          </a:ln>
        </p:spPr>
      </p:pic>
      <p:sp>
        <p:nvSpPr>
          <p:cNvPr id="263" name="Content Placeholder 2"/>
          <p:cNvSpPr/>
          <p:nvPr/>
        </p:nvSpPr>
        <p:spPr>
          <a:xfrm>
            <a:off x="3809880" y="2548080"/>
            <a:ext cx="51818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strumen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SFC In House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wo spectral bands at 10.8 and 12 microme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nd sampling distance, both in-track and cross track, of 100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shbroom LWIR sen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r-lens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A consisting of three 2-dimensional QWIP sensor chip assemb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chanically cooled focal plane; BATC provided cryo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dT @ 300K &lt; 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ss:  24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onal Power:  380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ze:  80 cm x 76 cm x 43 cm (with earth shield deploy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250920"/>
            <a:ext cx="678168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ound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LDCM GS Operational Concept Architecture_20100219"/>
          <p:cNvPicPr/>
          <p:nvPr/>
        </p:nvPicPr>
        <p:blipFill>
          <a:blip r:embed="rId1"/>
          <a:stretch/>
        </p:blipFill>
        <p:spPr>
          <a:xfrm>
            <a:off x="1447920" y="1087560"/>
            <a:ext cx="65437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56:30Z</dcterms:created>
  <dc:creator>Jim Nelson</dc:creator>
  <dc:description/>
  <dc:language>en-US</dc:language>
  <cp:lastModifiedBy>Garry Qualls</cp:lastModifiedBy>
  <dcterms:modified xsi:type="dcterms:W3CDTF">2012-09-13T21:04:14Z</dcterms:modified>
  <cp:revision>75</cp:revision>
  <dc:subject/>
  <dc:title>CAPE</dc:title>
</cp:coreProperties>
</file>