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17.png" ContentType="image/png"/>
  <Override PartName="/ppt/media/image20.png" ContentType="image/png"/>
  <Override PartName="/ppt/media/image27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13.png" ContentType="image/png"/>
  <Override PartName="/ppt/media/image31.jpeg" ContentType="image/jpeg"/>
  <Override PartName="/ppt/media/image4.jpeg" ContentType="image/jpeg"/>
  <Override PartName="/ppt/media/image34.wmf" ContentType="image/x-wmf"/>
  <Override PartName="/ppt/media/image14.png" ContentType="image/png"/>
  <Override PartName="/ppt/media/image35.png" ContentType="image/png"/>
  <Override PartName="/ppt/media/image5.jpeg" ContentType="image/jpeg"/>
  <Override PartName="/ppt/media/image36.wmf" ContentType="image/x-wmf"/>
  <Override PartName="/ppt/media/image16.png" ContentType="image/png"/>
  <Override PartName="/ppt/media/image8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9B0-4A64-4CD6-97C4-8EC3AB86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46DF-4C42-42B9-9F47-89876E58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FF47F-6457-4560-87FD-FA82929F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F0450-7A5B-4BC3-A34D-E5E1EE21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FAA4E-BB42-4A89-8E9E-B263D695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92C5A-F688-41C7-9CB2-0D53EB5E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0585D-1A91-4AF7-9FE4-9A7BB7B9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FFECF-94B8-47FE-B808-047B67AD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A34A5-9D62-4CE5-A4E8-97913536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64515-DD9E-48E4-BB20-AA2F245C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FDFC7-866C-4191-93D7-28B2C2E8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39C2B-3EBF-4E75-92B6-9A8BCAF8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186A-5170-48F2-AD27-6DD3302B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D967E-9840-4CF5-8F8A-1F674A5E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ED6D9-FFAE-4D04-8DB4-7040B220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7C9C2-C2C8-41BE-A24D-9BB44352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2AAC4-2C18-48D6-A2C7-91CAA9FD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5D540-39D3-4119-B8AB-FB06287E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A92A4-5E6D-40A1-A008-7438713E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FD37D-06C2-4857-9D64-72DAF52E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BA1CC-ACDD-496C-9957-62A74E28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9129A-6AC3-433B-8880-153F9722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EE214-861A-46CA-AED3-A3A428B3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2FB-4F7B-45F8-927E-FEAF2259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65EFE-AFF2-4544-8AC9-5F2BCDE9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F4567-3FBE-4EB1-ADAB-BADE04CF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8F1A5-226F-4153-9A6A-9A38AC80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89814-CDA8-466E-AAA5-86CBC6D4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DED48-08C8-4E64-A83A-11DCA7EC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C9111-929F-4F32-A8AB-F2C5327C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85072-33E9-4894-B3C4-0639ACD9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58850-3907-4FEE-9DFA-4FC9DA1C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A433A-444A-4024-9EDD-4878E982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D222A-F4B8-4464-96D1-B9506BB6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ADA4-D919-4E0F-ADF0-B84E7CE5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998D8-8388-4D70-9F55-3EA05BFB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A3B59-A222-4810-981D-F96A3B48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75D72-44A1-43EB-A577-9F806637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83641-673F-4590-B91B-606A51FB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1859A-B9F6-4C11-B15F-F013CA3B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79AD1-623F-42C5-8F8C-AE1BA3CB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DD037-8F22-435C-A1BB-8C11CDB2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F3317-5AC4-4BA2-9055-6126629B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0425C-EA9F-42B1-A463-B6D5F6D4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1A294-0F1E-4FEB-9CC7-77D4E17A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6C99-4AF6-4EE8-90CA-5872D756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795B5-3400-45F1-A619-BA7A948B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33C59-0FAC-4774-A96B-620B8750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8E053-DE47-408C-B573-C62374DF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E3EF0-DD81-490B-9F47-FBCEB25A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E34AF-8EFE-4FBC-AE8C-BCBA905E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D49214-9CF7-4587-BEAE-0C0E86FB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9096CC-7BA1-42D7-ADAA-EB71E3BC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5A3E9D-18A4-4AF9-A46C-4BA46E98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963AB1-A0F3-4752-9409-C8210AD4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39A58F-47E3-4395-916F-4A431CA3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4875-6B82-42F3-BC32-D05DF01E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F1F0B1-A76F-41B8-AC13-2FE354D5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196019-AB7E-406E-BD2A-893D402F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CD270F-A577-493C-AA16-93CC4F11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3A0501-DDC4-4C50-91C2-35488EF4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A01D19-8448-47F3-B1FF-DBA193F2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395B6-414A-4142-985F-0B0FB5A4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9B944F-1861-46CB-B195-D240D203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F563-3CE4-4233-95D6-1B73BFB9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4EA8-991D-41D5-B65E-A5953184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9561-A687-496D-ABB1-4CC295A2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1A62-F3FC-49FB-8648-B9907E18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0CCC-B95A-415C-A5F4-81C76EEE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48A0-CCC2-476B-8A69-859C9AF3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8735-14DB-445E-B0F3-8E4A17B6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DB0B-A04A-400F-9BDF-DD5D81F5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AFAF-7DB3-49E0-987D-7FEF80F2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D40A-3D17-4DA2-9FA1-744FAF5A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BB419-6A88-4498-857B-24111812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5E97E-0F58-41D5-8FFD-7BB8D5FE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3184A-FBBC-420E-A8D3-CEAE7A51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E1B6D-F7E0-49B6-9E23-6FAB6488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3976C-53A0-4652-9DC1-3F5B4820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A098-DFFF-470B-BDA9-0887C3AB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FC7DE-53FA-41CD-B9F0-B4C3F935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E3C95-2BB3-4101-BEC5-FE2DB36A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6EB5C-4809-4C92-AA88-881DFC08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E110C-EE90-40A9-A781-C90C9734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54970-DB3D-4518-A203-05A181CA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7A479-9FDB-4E71-8BF5-EE564637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C3B22-B935-4869-990F-08BE09CB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4FDCF-20EE-48C8-9EBE-2DB3F3B4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39E7F-4FB4-4506-B4EE-A0E6A535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5F568-9401-4E60-A6A2-1F9C09C2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F8A-1915-43BF-A473-76C2F67A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F6D3F-E805-4BDE-922E-0467CD27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86837-DF1A-465C-9D0E-F004A227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94716-FFED-44F9-8AC6-353D979C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7AF45-ED85-4792-B838-93BAAE98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CD69F-D0A1-4395-B7FA-DEACBA0D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36D15-8961-45F1-943B-22E309CD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E3D46-ED2C-4064-86C2-EE159CE1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ED816-4427-4568-AD47-0CF60CEE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11392-64F8-4A9D-ABF6-33A5A9A5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51459-3C28-4631-9747-63FDEC0A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1335-F7D3-493C-BE3D-29FE1844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0FC3C-8D9F-4F9C-9277-28E3F94A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9B209-8B01-4BBD-9809-530ADEFA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1A9D2-454F-4538-B77A-40B90C83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1A2A0-ED01-4823-9EC3-7EF5EE3B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BEDA7-B5C3-4A1C-9B7B-7C01CDE0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4D1AF-ACE4-4844-A2F4-DDB01D04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0BF3C-18D5-4B74-B495-FB4BA840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0D47F-E408-4363-B933-E2F9A80F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A0003-075A-4B65-A664-3220AF96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84AB4-D624-45FB-8E9B-A197E6FE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DD2-081E-4CD1-82E6-640A7B52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67A6B-F372-405D-89AD-46766AE6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AAC85-6271-4921-82E1-3C236FEF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1908C-F641-48C7-8B31-55ABF8CC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EAB5E-ED67-46CE-B7E2-4793A832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D8560-B0FA-4365-8C23-531F19CC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67B69-0AC7-4E7E-AA81-86777F18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CEE52-A2CE-4582-84AB-96C8B72E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2A97B-8F42-4569-9EAB-FCDAF256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316AC-9870-472E-BE60-4E13571D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1430C-7B7A-4FFA-872F-B58FAB3B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1A2-B10E-4DC4-8E55-85874A0B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C7D78-8F47-4664-A408-97FB5878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3AD4A-9D15-470E-A4D5-0F65DF03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25DA7-C07D-42CD-89F0-6C54E8B9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F9BC4-A29E-487B-AD36-8CF1E2DA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698B6-BEEC-49CC-A008-C26626CA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8912A-D382-4D07-9786-07BD2CA6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06A5B-DA7A-4E46-9B5A-558FB2AC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D987F-AC2C-433F-AB42-F42B72B0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4D5B7-017F-4C53-92D9-12B31D78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4A272-8441-4430-9261-72D1CD3D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2ED-B35E-4541-9CDA-F235D107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FFC61-AC5E-4AF1-8EC1-FAB7F5CD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E7989-CC1A-4F71-9EBF-AE8EDDD3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0922F-06B4-4AE1-A1AA-B8AEA974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CC611-9BAF-4353-9DDE-65C44F67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1D6B4-14A7-4A84-8C1B-4D1E7E08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F38B2-DB74-4077-8F5E-E7F3D078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AE828-66E3-44A1-9950-7EC603FB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ABEDC-ABDE-4051-BE64-F464F7A3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20AAD-8C2E-436F-BC8F-34CE4F04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37388-2C50-446D-8578-1A172708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A56C-9CD0-4CAC-8DF9-0470A6E3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227FD-5A22-4A1F-98E8-C2444B48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82574-95CA-47FB-B195-3D272DE2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B7112-1B44-4287-81B9-736C620E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80725-D8AD-4EAA-90AD-B6891221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B609E-FD3A-4BCA-8E5D-4515C90F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0284C-074A-41C7-B33F-B6C89F91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4DF1A-437C-4D8B-8196-EBB0436F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E05E6-CC41-404B-9A3C-70C4B365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1E9D6-8C02-41D0-B469-675A7CCC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43871-E80D-4C9F-8365-4F98FC85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フリーフォーム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フリーフォーム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コネクタ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1F8F-12BB-452D-A1AD-10100E0D1212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FFCF-EF5E-4AB2-B45C-94AB5931C788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図 1" descr=""/>
          <p:cNvPicPr/>
          <p:nvPr/>
        </p:nvPicPr>
        <p:blipFill>
          <a:blip r:embed="rId4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12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13" name="Picture 2" descr=""/>
            <p:cNvPicPr/>
            <p:nvPr/>
          </p:nvPicPr>
          <p:blipFill>
            <a:blip r:embed="rId5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Picture 3" descr=""/>
            <p:cNvPicPr/>
            <p:nvPr/>
          </p:nvPicPr>
          <p:blipFill>
            <a:blip r:embed="rId6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フリーフォーム 16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直角三角形 18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33" name="直角三角形 18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5" name="直線コネクタ 19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36" name="山形 20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山形 2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7462-6D0A-4527-84CA-1DFC4DEAE28C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2430-A886-4317-8558-9CEFD6D96D47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DE63-2E58-4C36-AF4A-5A170D6AC266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E782-36DC-4428-8FA6-E4E1450FBACC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278C-D459-42E9-A6B8-F99AE42FE140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9B7A-B374-4A40-8019-971E149826C1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1B2B-620E-4F14-9ED1-BAA7D63B15FD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59FE-8D2F-4CDD-9D0A-576AF19E56D4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直角三角形 15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16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直角三角形 18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4" name="直角三角形 18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図 23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4"/>
          <p:cNvGrpSpPr/>
          <p:nvPr/>
        </p:nvGrpSpPr>
        <p:grpSpPr>
          <a:xfrm>
            <a:off x="119160" y="6318360"/>
            <a:ext cx="1453680" cy="539640"/>
            <a:chOff x="119160" y="6318360"/>
            <a:chExt cx="1453680" cy="539640"/>
          </a:xfrm>
        </p:grpSpPr>
        <p:pic>
          <p:nvPicPr>
            <p:cNvPr id="58" name="Picture 2" descr=""/>
            <p:cNvPicPr/>
            <p:nvPr/>
          </p:nvPicPr>
          <p:blipFill>
            <a:blip r:embed="rId4"/>
            <a:stretch/>
          </p:blipFill>
          <p:spPr>
            <a:xfrm>
              <a:off x="574920" y="6360480"/>
              <a:ext cx="99792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47808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BB71-591C-4860-B4FB-B92845A93E6B}" type="datetime">
              <a:rPr b="0" lang="ja-JP" sz="1000" spc="-1" strike="noStrike">
                <a:solidFill>
                  <a:srgbClr val="ffffff"/>
                </a:solidFill>
                <a:latin typeface="Lucida Sans Unicode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5802-0104-4CE1-A088-23FDFF00BB29}" type="slidenum">
              <a:rPr b="0" lang="ja-JP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直角三角形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3" name="直角三角形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図 22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107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6651-68AA-4E18-85FA-C79F44CE3270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F7BC-31E0-4400-9DFE-83BB7BBAEAAD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山形 15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山形 16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フリーフォーム 18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直角三角形 1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4" name="直角三角形 1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図 24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158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C2F7-EBC7-4058-AF25-0272918AAC54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3995-04C8-43D8-B5C0-5361C103895E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E90E-EE3A-4071-8F17-065B75AEFA97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B609-4F9F-4B62-A587-C85D355231A2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45D5-E223-4F58-BEE8-8D3441189CCA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48D3-B26B-4B81-88EA-0F088A3AF8AE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直角三角形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85" name="直角三角形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図 22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289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03E8-A03D-4D6F-B043-8002B1429B59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8CA2-1B12-4554-9651-522A2DF34042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直角三角形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34" name="直角三角形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図 22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338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79CC-5FBA-4B3C-B655-555C472BEBC6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F966-272B-4731-9D0E-D9E2644E2C18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直角三角形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3" name="直角三角形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図 22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386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387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369F-8C16-403F-8F57-6F07063C1AD4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BE9B-D9F1-4813-88BF-4A69656F2115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wmf"/><Relationship Id="rId4" Type="http://schemas.openxmlformats.org/officeDocument/2006/relationships/image" Target="../media/image35.png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タイトル 1" descr=""/>
          <p:cNvPicPr/>
          <p:nvPr/>
        </p:nvPicPr>
        <p:blipFill>
          <a:blip r:embed="rId1"/>
          <a:stretch/>
        </p:blipFill>
        <p:spPr>
          <a:xfrm>
            <a:off x="401760" y="1596960"/>
            <a:ext cx="8138880" cy="25416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584280" y="3611160"/>
            <a:ext cx="7888320" cy="207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Osamu Ochiai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on behalf of Asia rice crop estimation and monitoring tea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タイトル 2" descr=""/>
          <p:cNvPicPr/>
          <p:nvPr/>
        </p:nvPicPr>
        <p:blipFill>
          <a:blip r:embed="rId1"/>
          <a:stretch/>
        </p:blipFill>
        <p:spPr>
          <a:xfrm>
            <a:off x="-219240" y="-19080"/>
            <a:ext cx="8448840" cy="1030320"/>
          </a:xfrm>
          <a:prstGeom prst="rect">
            <a:avLst/>
          </a:prstGeom>
          <a:ln w="0">
            <a:noFill/>
          </a:ln>
        </p:spPr>
      </p:pic>
      <p:sp>
        <p:nvSpPr>
          <p:cNvPr id="640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A863-CF1D-4194-BD52-D0D4339B5F20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5" descr=""/>
          <p:cNvPicPr/>
          <p:nvPr/>
        </p:nvPicPr>
        <p:blipFill>
          <a:blip r:embed="rId3"/>
          <a:stretch/>
        </p:blipFill>
        <p:spPr>
          <a:xfrm>
            <a:off x="2743200" y="968400"/>
            <a:ext cx="365760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タイトル 2" descr=""/>
          <p:cNvPicPr/>
          <p:nvPr/>
        </p:nvPicPr>
        <p:blipFill>
          <a:blip r:embed="rId1"/>
          <a:stretch/>
        </p:blipFill>
        <p:spPr>
          <a:xfrm>
            <a:off x="-109440" y="-30240"/>
            <a:ext cx="8442360" cy="1023840"/>
          </a:xfrm>
          <a:prstGeom prst="rect">
            <a:avLst/>
          </a:prstGeom>
          <a:ln w="0">
            <a:noFill/>
          </a:ln>
        </p:spPr>
      </p:pic>
      <p:sp>
        <p:nvSpPr>
          <p:cNvPr id="644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A44A-1598-44A6-8BA9-5EBF3E8D5F5C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4" descr=""/>
          <p:cNvPicPr/>
          <p:nvPr/>
        </p:nvPicPr>
        <p:blipFill>
          <a:blip r:embed="rId2"/>
          <a:stretch/>
        </p:blipFill>
        <p:spPr>
          <a:xfrm>
            <a:off x="-277920" y="1055520"/>
            <a:ext cx="96998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7" name="タイトル 2" descr=""/>
          <p:cNvPicPr/>
          <p:nvPr/>
        </p:nvPicPr>
        <p:blipFill>
          <a:blip r:embed="rId2"/>
          <a:stretch/>
        </p:blipFill>
        <p:spPr>
          <a:xfrm>
            <a:off x="231840" y="-171360"/>
            <a:ext cx="6754680" cy="1616040"/>
          </a:xfrm>
          <a:prstGeom prst="rect">
            <a:avLst/>
          </a:prstGeom>
          <a:ln w="0">
            <a:noFill/>
          </a:ln>
        </p:spPr>
      </p:pic>
      <p:sp>
        <p:nvSpPr>
          <p:cNvPr id="648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D8E3-3CEA-4DAA-A654-7B572FAFEEC0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6" descr=""/>
          <p:cNvPicPr/>
          <p:nvPr/>
        </p:nvPicPr>
        <p:blipFill>
          <a:blip r:embed="rId3"/>
          <a:stretch/>
        </p:blipFill>
        <p:spPr>
          <a:xfrm>
            <a:off x="795240" y="1166760"/>
            <a:ext cx="7551720" cy="51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1" name="タイトル 2" descr=""/>
          <p:cNvPicPr/>
          <p:nvPr/>
        </p:nvPicPr>
        <p:blipFill>
          <a:blip r:embed="rId2"/>
          <a:stretch/>
        </p:blipFill>
        <p:spPr>
          <a:xfrm>
            <a:off x="-225360" y="115920"/>
            <a:ext cx="7284960" cy="1047600"/>
          </a:xfrm>
          <a:prstGeom prst="rect">
            <a:avLst/>
          </a:prstGeom>
          <a:ln w="0">
            <a:noFill/>
          </a:ln>
        </p:spPr>
      </p:pic>
      <p:sp>
        <p:nvSpPr>
          <p:cNvPr id="652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DFE8-8742-4D89-B17F-8FC4B8A1B2CA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"/>
          <p:cNvPicPr/>
          <p:nvPr/>
        </p:nvPicPr>
        <p:blipFill>
          <a:blip r:embed="rId3"/>
          <a:stretch/>
        </p:blipFill>
        <p:spPr>
          <a:xfrm>
            <a:off x="2306520" y="1065240"/>
            <a:ext cx="429588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ja-JP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6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90F0-0393-4F99-B0EA-245FF326164D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3" descr=""/>
          <p:cNvPicPr/>
          <p:nvPr/>
        </p:nvPicPr>
        <p:blipFill>
          <a:blip r:embed="rId2"/>
          <a:stretch/>
        </p:blipFill>
        <p:spPr>
          <a:xfrm>
            <a:off x="1512720" y="0"/>
            <a:ext cx="5789880" cy="14335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7" descr=""/>
          <p:cNvPicPr/>
          <p:nvPr/>
        </p:nvPicPr>
        <p:blipFill>
          <a:blip r:embed="rId3"/>
          <a:stretch/>
        </p:blipFill>
        <p:spPr>
          <a:xfrm>
            <a:off x="1211400" y="1542960"/>
            <a:ext cx="67212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スライド番号プレースホルダー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1218-B3A9-46B4-9E42-7F80D4BF38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図形グループ 4"/>
          <p:cNvGrpSpPr/>
          <p:nvPr/>
        </p:nvGrpSpPr>
        <p:grpSpPr>
          <a:xfrm>
            <a:off x="115920" y="647640"/>
            <a:ext cx="4456080" cy="6210360"/>
            <a:chOff x="115920" y="647640"/>
            <a:chExt cx="4456080" cy="6210360"/>
          </a:xfrm>
        </p:grpSpPr>
        <p:pic>
          <p:nvPicPr>
            <p:cNvPr id="661" name="Picture 2" descr=""/>
            <p:cNvPicPr/>
            <p:nvPr/>
          </p:nvPicPr>
          <p:blipFill>
            <a:blip r:embed="rId1"/>
            <a:stretch/>
          </p:blipFill>
          <p:spPr>
            <a:xfrm>
              <a:off x="115920" y="647640"/>
              <a:ext cx="4456080" cy="621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Oval 5"/>
            <p:cNvSpPr/>
            <p:nvPr/>
          </p:nvSpPr>
          <p:spPr>
            <a:xfrm>
              <a:off x="1755360" y="3285000"/>
              <a:ext cx="88560" cy="8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6"/>
            <p:cNvSpPr/>
            <p:nvPr/>
          </p:nvSpPr>
          <p:spPr>
            <a:xfrm>
              <a:off x="2132280" y="5013360"/>
              <a:ext cx="88560" cy="8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7"/>
            <p:cNvSpPr/>
            <p:nvPr/>
          </p:nvSpPr>
          <p:spPr>
            <a:xfrm>
              <a:off x="1337400" y="321732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8"/>
            <p:cNvSpPr/>
            <p:nvPr/>
          </p:nvSpPr>
          <p:spPr>
            <a:xfrm>
              <a:off x="1822680" y="479700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Rectangle 9"/>
          <p:cNvSpPr/>
          <p:nvPr/>
        </p:nvSpPr>
        <p:spPr>
          <a:xfrm>
            <a:off x="5003640" y="907920"/>
            <a:ext cx="36324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Bold"/>
                <a:ea typeface="ヒラギノ角ゴ ProN W6"/>
              </a:rPr>
              <a:t>Definition of Croplands (MCD12 IGB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- Croplands + Cropland/Natural Vege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23"/>
          <p:cNvGrpSpPr/>
          <p:nvPr/>
        </p:nvGrpSpPr>
        <p:grpSpPr>
          <a:xfrm>
            <a:off x="4788000" y="6154560"/>
            <a:ext cx="3328920" cy="711360"/>
            <a:chOff x="4788000" y="6154560"/>
            <a:chExt cx="3328920" cy="711360"/>
          </a:xfrm>
        </p:grpSpPr>
        <p:grpSp>
          <p:nvGrpSpPr>
            <p:cNvPr id="668" name="Group 20"/>
            <p:cNvGrpSpPr/>
            <p:nvPr/>
          </p:nvGrpSpPr>
          <p:grpSpPr>
            <a:xfrm>
              <a:off x="5495040" y="6154560"/>
              <a:ext cx="2621880" cy="711360"/>
              <a:chOff x="5495040" y="6154560"/>
              <a:chExt cx="2621880" cy="711360"/>
            </a:xfrm>
          </p:grpSpPr>
          <p:grpSp>
            <p:nvGrpSpPr>
              <p:cNvPr id="669" name="Group 12"/>
              <p:cNvGrpSpPr/>
              <p:nvPr/>
            </p:nvGrpSpPr>
            <p:grpSpPr>
              <a:xfrm>
                <a:off x="5500800" y="6154560"/>
                <a:ext cx="2616120" cy="711360"/>
                <a:chOff x="5500800" y="6154560"/>
                <a:chExt cx="2616120" cy="711360"/>
              </a:xfrm>
            </p:grpSpPr>
            <p:pic>
              <p:nvPicPr>
                <p:cNvPr id="670" name="Picture 1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500800" y="6154560"/>
                  <a:ext cx="2616120" cy="71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1" name="Rectangle 11"/>
                <p:cNvSpPr/>
                <p:nvPr/>
              </p:nvSpPr>
              <p:spPr>
                <a:xfrm>
                  <a:off x="5510160" y="6424560"/>
                  <a:ext cx="2590920" cy="4316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2" name="Rectangle 13"/>
              <p:cNvSpPr/>
              <p:nvPr/>
            </p:nvSpPr>
            <p:spPr>
              <a:xfrm>
                <a:off x="54950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14"/>
              <p:cNvSpPr/>
              <p:nvPr/>
            </p:nvSpPr>
            <p:spPr>
              <a:xfrm>
                <a:off x="593928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15"/>
              <p:cNvSpPr/>
              <p:nvPr/>
            </p:nvSpPr>
            <p:spPr>
              <a:xfrm>
                <a:off x="64220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4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16"/>
              <p:cNvSpPr/>
              <p:nvPr/>
            </p:nvSpPr>
            <p:spPr>
              <a:xfrm>
                <a:off x="68792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6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17"/>
              <p:cNvSpPr/>
              <p:nvPr/>
            </p:nvSpPr>
            <p:spPr>
              <a:xfrm>
                <a:off x="73364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8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18"/>
              <p:cNvSpPr/>
              <p:nvPr/>
            </p:nvSpPr>
            <p:spPr>
              <a:xfrm>
                <a:off x="78188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1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19"/>
              <p:cNvSpPr/>
              <p:nvPr/>
            </p:nvSpPr>
            <p:spPr>
              <a:xfrm>
                <a:off x="6610320" y="6589440"/>
                <a:ext cx="393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DV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9" name="Rectangle 21"/>
            <p:cNvSpPr/>
            <p:nvPr/>
          </p:nvSpPr>
          <p:spPr>
            <a:xfrm>
              <a:off x="8039160" y="6233760"/>
              <a:ext cx="3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22"/>
            <p:cNvSpPr/>
            <p:nvPr/>
          </p:nvSpPr>
          <p:spPr>
            <a:xfrm>
              <a:off x="4788000" y="6221160"/>
              <a:ext cx="3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1" name="図 1" descr=""/>
          <p:cNvPicPr/>
          <p:nvPr/>
        </p:nvPicPr>
        <p:blipFill>
          <a:blip r:embed="rId3"/>
          <a:stretch/>
        </p:blipFill>
        <p:spPr>
          <a:xfrm>
            <a:off x="5302080" y="1773360"/>
            <a:ext cx="3778560" cy="2050920"/>
          </a:xfrm>
          <a:prstGeom prst="rect">
            <a:avLst/>
          </a:prstGeom>
          <a:ln w="0">
            <a:noFill/>
          </a:ln>
        </p:spPr>
      </p:pic>
      <p:pic>
        <p:nvPicPr>
          <p:cNvPr id="682" name="Rectangle 2" descr=""/>
          <p:cNvPicPr/>
          <p:nvPr/>
        </p:nvPicPr>
        <p:blipFill>
          <a:blip r:embed="rId4"/>
          <a:stretch/>
        </p:blipFill>
        <p:spPr>
          <a:xfrm>
            <a:off x="-152280" y="-171360"/>
            <a:ext cx="6997680" cy="123804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9"/>
          <p:cNvSpPr/>
          <p:nvPr/>
        </p:nvSpPr>
        <p:spPr>
          <a:xfrm>
            <a:off x="4675320" y="1773360"/>
            <a:ext cx="934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Dou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Cropping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Calibri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Calibri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図 2" descr=""/>
          <p:cNvPicPr/>
          <p:nvPr/>
        </p:nvPicPr>
        <p:blipFill>
          <a:blip r:embed="rId5"/>
          <a:stretch/>
        </p:blipFill>
        <p:spPr>
          <a:xfrm>
            <a:off x="5302080" y="3860640"/>
            <a:ext cx="3778560" cy="2052720"/>
          </a:xfrm>
          <a:prstGeom prst="rect">
            <a:avLst/>
          </a:prstGeom>
          <a:ln w="0">
            <a:noFill/>
          </a:ln>
        </p:spPr>
      </p:pic>
      <p:sp>
        <p:nvSpPr>
          <p:cNvPr id="685" name="Rectangle 9"/>
          <p:cNvSpPr/>
          <p:nvPr/>
        </p:nvSpPr>
        <p:spPr>
          <a:xfrm>
            <a:off x="4675320" y="4005360"/>
            <a:ext cx="863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Trip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Cropping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Calibri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Calibri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7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875200"/>
          </a:xfrm>
          <a:prstGeom prst="rect">
            <a:avLst/>
          </a:prstGeom>
          <a:ln w="0">
            <a:noFill/>
          </a:ln>
        </p:spPr>
      </p:pic>
      <p:sp>
        <p:nvSpPr>
          <p:cNvPr id="687" name="Text Box 9"/>
          <p:cNvSpPr/>
          <p:nvPr/>
        </p:nvSpPr>
        <p:spPr>
          <a:xfrm>
            <a:off x="533520" y="115920"/>
            <a:ext cx="63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ampling strategy for production forecasting/estimation by IS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0"/>
          <p:cNvSpPr/>
          <p:nvPr/>
        </p:nvSpPr>
        <p:spPr>
          <a:xfrm>
            <a:off x="3200400" y="144792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id type  (5*5’ grid) area:  MERIS der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"/>
          <p:cNvPicPr/>
          <p:nvPr/>
        </p:nvPicPr>
        <p:blipFill>
          <a:blip r:embed="rId1"/>
          <a:stretch/>
        </p:blipFill>
        <p:spPr>
          <a:xfrm>
            <a:off x="893880" y="1925640"/>
            <a:ext cx="7549920" cy="4221000"/>
          </a:xfrm>
          <a:prstGeom prst="rect">
            <a:avLst/>
          </a:prstGeom>
          <a:ln w="0">
            <a:noFill/>
          </a:ln>
        </p:spPr>
      </p:pic>
      <p:pic>
        <p:nvPicPr>
          <p:cNvPr id="605" name="タイトル 1" descr=""/>
          <p:cNvPicPr/>
          <p:nvPr/>
        </p:nvPicPr>
        <p:blipFill>
          <a:blip r:embed="rId2"/>
          <a:stretch/>
        </p:blipFill>
        <p:spPr>
          <a:xfrm>
            <a:off x="231840" y="146160"/>
            <a:ext cx="8454960" cy="104940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 txBox="1"/>
          <p:nvPr/>
        </p:nvSpPr>
        <p:spPr>
          <a:xfrm>
            <a:off x="233280" y="815760"/>
            <a:ext cx="8677440" cy="117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504d"/>
                </a:solidFill>
                <a:latin typeface="Lucida Sans Unicode"/>
              </a:rPr>
              <a:t>Asian countries are responsible for approximately 90% of the world rice production and consumption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569D-0CB7-40D7-A785-54ED28F8B73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正方形/長方形 7"/>
          <p:cNvSpPr/>
          <p:nvPr/>
        </p:nvSpPr>
        <p:spPr>
          <a:xfrm>
            <a:off x="1295640" y="577836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OSTAT [200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正方形/長方形 8"/>
          <p:cNvSpPr/>
          <p:nvPr/>
        </p:nvSpPr>
        <p:spPr>
          <a:xfrm>
            <a:off x="4668840" y="2130480"/>
            <a:ext cx="29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10  Rice Productio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タイトル 1" descr=""/>
          <p:cNvPicPr/>
          <p:nvPr/>
        </p:nvPicPr>
        <p:blipFill>
          <a:blip r:embed="rId1"/>
          <a:stretch/>
        </p:blipFill>
        <p:spPr>
          <a:xfrm>
            <a:off x="-152280" y="-85680"/>
            <a:ext cx="8485200" cy="115236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rpose : Compile Asia rice crop monitoring requirement and develop a work</a:t>
            </a:r>
            <a:r>
              <a:rPr b="0" lang="ja-JP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lan of Asia rice crop monitoring as a part of GEO GLAM work pla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eam member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Lucida Sans Unicode"/>
              </a:rPr>
              <a:t>- Shin-ichi Sobue (lead- JAXA) , Kei Oyoshi (JAXA), Jai Singh Parihar, Sushma Panigrahy, </a:t>
            </a:r>
            <a:r>
              <a:rPr b="0" lang="is-IS" sz="1700" spc="-1" strike="noStrike">
                <a:solidFill>
                  <a:srgbClr val="000000"/>
                </a:solidFill>
                <a:latin typeface="Lucida Sans Unicode"/>
              </a:rPr>
              <a:t>K.R. Manjunath</a:t>
            </a:r>
            <a:r>
              <a:rPr b="0" lang="is-IS" sz="2000" spc="-1" strike="noStrike">
                <a:solidFill>
                  <a:srgbClr val="000000"/>
                </a:solidFill>
                <a:latin typeface="Lucida Sans Unicode"/>
              </a:rPr>
              <a:t> (ISRO, India), Preesan Rakwatin (GISTDA, Thailand), Lam Dao Nguyen, Thuy Le Toan (VAST/STI, Vietnam), Agus Hidayat, Dr Mahkmoud,  Ratih Dewanti (LAPAN, Indonesia), Muhrizal Sarwani, Rizatus Shofiyati (ICALRD/MOA, Indonesia), Heng Suthy (MRC), Wu Bingfang (IRSA, China)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Lucida Sans Unicode"/>
              </a:rPr>
              <a:t>- Supported by Stephen Ward, George Dyke, Matthew Steventon (SIMBIOSS) and Toshio Okumura, Akira Mukaida, Nobuhito Tomiyama (RESTEC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2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6DCB-7FA6-436E-A78C-7EA0FFEEBDE1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7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502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9"/>
          <p:cNvSpPr/>
          <p:nvPr/>
        </p:nvSpPr>
        <p:spPr>
          <a:xfrm>
            <a:off x="1523880" y="152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 of Asian rice growing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2981160" y="928800"/>
            <a:ext cx="3102120" cy="256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 season cr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 crop calendar within a sea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erse growing 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ter resource dependency (Water stress – irrigate, rain-f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iny season growth (clou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テキスト ボックス 1"/>
          <p:cNvSpPr/>
          <p:nvPr/>
        </p:nvSpPr>
        <p:spPr>
          <a:xfrm>
            <a:off x="6379200" y="635004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provided by IS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テキスト ボックス 3"/>
          <p:cNvSpPr/>
          <p:nvPr/>
        </p:nvSpPr>
        <p:spPr>
          <a:xfrm>
            <a:off x="192240" y="1711440"/>
            <a:ext cx="8745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e is cultivated in rainy season, cloudy condition -&gt; SAR Observation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t severe damage induced by drought and flood (rain-fed type rice) -&gt; Early Warning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 size variation - each parcel is small and the landscape is complicated in Asia. damage assessement for insurance, compensation for individual paddy field (each parcel).  -&gt; Detailed Mapping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egion cultivated two/three times in a year and Rice is the dominant crop in Asian countries wit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rge diversity of crop varieties (short, medium and long duration crops). -&gt; Detailed Crop Calendar  (mean crop calender and abnormal year crop cal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p growth model input information -&gt; Agro-weather information (rain, radiation, temperature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ing Design for Asia rice crop 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テキスト ボックス 5"/>
          <p:cNvSpPr/>
          <p:nvPr/>
        </p:nvSpPr>
        <p:spPr>
          <a:xfrm>
            <a:off x="192240" y="0"/>
            <a:ext cx="87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 of Asia Rice 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テキスト ボックス 6"/>
          <p:cNvSpPr/>
          <p:nvPr/>
        </p:nvSpPr>
        <p:spPr>
          <a:xfrm>
            <a:off x="344520" y="452520"/>
            <a:ext cx="85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matic and socio-economic aspects and imperative technologies in Asian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7" descr=""/>
          <p:cNvPicPr/>
          <p:nvPr/>
        </p:nvPicPr>
        <p:blipFill>
          <a:blip r:embed="rId1"/>
          <a:stretch/>
        </p:blipFill>
        <p:spPr>
          <a:xfrm>
            <a:off x="7039080" y="4933800"/>
            <a:ext cx="1657080" cy="16574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f5fa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タイトル 1" descr=""/>
          <p:cNvPicPr/>
          <p:nvPr/>
        </p:nvPicPr>
        <p:blipFill>
          <a:blip r:embed="rId1"/>
          <a:stretch/>
        </p:blipFill>
        <p:spPr>
          <a:xfrm>
            <a:off x="244440" y="-1033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12/7: Report about Asia rice crop monitoring requirement to CEOS UR meeting at Montreal (by Shinichi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12/9: Develop draft Asia rice crop monitoring work pla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12/11: Review the work plan at ACRS2012 hosted by GISTDA, Thailand with AA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12/12:  Approve the work plan at APRSAF-19 hosted by ANGASA and Japan and submit it to Joa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ith monthly Asia rice crop monitoring teleco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29F7-852C-41D4-BE40-D0EC8A63ACCE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5" name="タイトル 2" descr=""/>
          <p:cNvPicPr/>
          <p:nvPr/>
        </p:nvPicPr>
        <p:blipFill>
          <a:blip r:embed="rId2"/>
          <a:stretch/>
        </p:blipFill>
        <p:spPr>
          <a:xfrm>
            <a:off x="304920" y="42840"/>
            <a:ext cx="8381880" cy="871560"/>
          </a:xfrm>
          <a:prstGeom prst="rect">
            <a:avLst/>
          </a:prstGeom>
          <a:ln w="0">
            <a:noFill/>
          </a:ln>
        </p:spPr>
      </p:pic>
      <p:sp>
        <p:nvSpPr>
          <p:cNvPr id="626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136C-0D48-4140-A202-45D784EFEF68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3"/>
          <a:stretch/>
        </p:blipFill>
        <p:spPr>
          <a:xfrm>
            <a:off x="409680" y="801720"/>
            <a:ext cx="8734320" cy="5070600"/>
          </a:xfrm>
          <a:prstGeom prst="rect">
            <a:avLst/>
          </a:prstGeom>
          <a:ln w="0">
            <a:noFill/>
          </a:ln>
        </p:spPr>
      </p:pic>
      <p:sp>
        <p:nvSpPr>
          <p:cNvPr id="628" name="テキスト ボックス 4"/>
          <p:cNvSpPr/>
          <p:nvPr/>
        </p:nvSpPr>
        <p:spPr>
          <a:xfrm>
            <a:off x="0" y="1292400"/>
            <a:ext cx="628560" cy="362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tn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illip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0" name="タイトル 2" descr=""/>
          <p:cNvPicPr/>
          <p:nvPr/>
        </p:nvPicPr>
        <p:blipFill>
          <a:blip r:embed="rId2"/>
          <a:stretch/>
        </p:blipFill>
        <p:spPr>
          <a:xfrm>
            <a:off x="237960" y="0"/>
            <a:ext cx="6918480" cy="1023840"/>
          </a:xfrm>
          <a:prstGeom prst="rect">
            <a:avLst/>
          </a:prstGeom>
          <a:ln w="0">
            <a:noFill/>
          </a:ln>
        </p:spPr>
      </p:pic>
      <p:sp>
        <p:nvSpPr>
          <p:cNvPr id="631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C0F9-7F3D-4800-B14B-E4C11ACDC648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3"/>
          <a:stretch/>
        </p:blipFill>
        <p:spPr>
          <a:xfrm>
            <a:off x="352440" y="809640"/>
            <a:ext cx="8439120" cy="5238720"/>
          </a:xfrm>
          <a:prstGeom prst="rect">
            <a:avLst/>
          </a:prstGeom>
          <a:ln w="0">
            <a:noFill/>
          </a:ln>
        </p:spPr>
      </p:pic>
      <p:sp>
        <p:nvSpPr>
          <p:cNvPr id="633" name="テキスト ボックス 4"/>
          <p:cNvSpPr/>
          <p:nvPr/>
        </p:nvSpPr>
        <p:spPr>
          <a:xfrm>
            <a:off x="223920" y="9428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テキスト ボックス 6"/>
          <p:cNvSpPr/>
          <p:nvPr/>
        </p:nvSpPr>
        <p:spPr>
          <a:xfrm>
            <a:off x="3438360" y="7588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テキスト ボックス 7"/>
          <p:cNvSpPr/>
          <p:nvPr/>
        </p:nvSpPr>
        <p:spPr>
          <a:xfrm>
            <a:off x="7426080" y="9064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タイトル 2" descr=""/>
          <p:cNvPicPr/>
          <p:nvPr/>
        </p:nvPicPr>
        <p:blipFill>
          <a:blip r:embed="rId1"/>
          <a:stretch/>
        </p:blipFill>
        <p:spPr>
          <a:xfrm>
            <a:off x="371520" y="42840"/>
            <a:ext cx="8486640" cy="1157400"/>
          </a:xfrm>
          <a:prstGeom prst="rect">
            <a:avLst/>
          </a:prstGeom>
          <a:ln w="0">
            <a:noFill/>
          </a:ln>
        </p:spPr>
      </p:pic>
      <p:sp>
        <p:nvSpPr>
          <p:cNvPr id="637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C7D6-690B-42DB-92DC-0EE9D2A5AA45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" descr="D:\Documents\eorc\農業\rice_pct.jpg"/>
          <p:cNvPicPr/>
          <p:nvPr/>
        </p:nvPicPr>
        <p:blipFill>
          <a:blip r:embed="rId2"/>
          <a:stretch/>
        </p:blipFill>
        <p:spPr>
          <a:xfrm>
            <a:off x="341280" y="762120"/>
            <a:ext cx="810756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12:46:31Z</dcterms:created>
  <dc:creator>Nakagawa</dc:creator>
  <dc:description/>
  <dc:language>en-US</dc:language>
  <cp:lastModifiedBy>89025</cp:lastModifiedBy>
  <dcterms:modified xsi:type="dcterms:W3CDTF">2012-08-29T06:48:31Z</dcterms:modified>
  <cp:revision>360</cp:revision>
  <dc:subject/>
  <dc:title>スライド 1</dc:title>
</cp:coreProperties>
</file>