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4D94E-024B-4A2A-97D6-2A1B45FD247B}" type="datetime">
              <a:rPr b="0" lang="en-US" sz="1200" spc="-1" strike="noStrike">
                <a:solidFill>
                  <a:srgbClr val="000000"/>
                </a:solidFill>
                <a:latin typeface="Calibri"/>
                <a:ea typeface="Arial"/>
              </a:rPr>
              <a:t>07/30/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C4260-3D92-43F8-BE7C-51A95D7BCA7D}"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6A722-7C10-49D8-AB6C-27E6FFA71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3EF5E-FCEE-4A66-8AD1-FEB086A72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E09E9-4842-4CE6-9C7F-4005F345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A5F2E-FE0F-4965-840F-012FD2FC5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C6603-1C53-425D-B7BB-C1C44B7BA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803E-927B-4046-B2F6-4FCD43C4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621F92-4DF4-4B60-8557-775C4256A9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7D3999-2355-45E6-A14F-3491A50D82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216DD1-09E7-48B3-BD6A-604ACD6759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6D568D-826A-402F-98C2-03CC5EA2FD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58E62E-9C89-4BAF-95C9-0DDE750E3C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BA030-7B64-4342-B7BC-BEB56B03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16CE98-5266-45FE-98E6-5EBFC1FC76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0DA16D-C4FE-413F-BF23-16B5DD7B17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6FC263-7607-43D9-BBFD-F1FA531D72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3D6300-63E9-48BE-B309-85F50E28FF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BBC351-2578-40F6-8F3D-EB3B161949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217542-BD4B-4E1D-B5D1-2582D5E7E7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CB2145-586F-499A-B532-78114DB86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EF70-4091-4518-A18D-BEFE97CF8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0B219-528D-4A08-B667-55BA7DD6F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1385-15E6-4D08-ACA7-575F4317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CC8B-9833-496A-9044-7A9DDDA0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A193-E140-412B-948C-92BAAA461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12AF-BF34-4218-8C80-3992DBFE9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6F7ED-6999-47F5-ABB2-E1440D8F6E14}" type="datetime">
              <a:rPr b="0" lang="en-US" sz="1200" spc="-1" strike="noStrike">
                <a:solidFill>
                  <a:srgbClr val="898989"/>
                </a:solidFill>
                <a:latin typeface="Calibri"/>
                <a:ea typeface="Arial"/>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433EA-3E4A-412B-99DA-C1616DA5D841}"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6F666-F7D5-4D8B-A4B0-A507FC32A737}"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