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91576E-CF35-4938-8236-36F766A04AD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7F8E26-729E-4E89-B53D-3B2BB81A9E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81A8D22-965C-4917-A64E-C57F7E2E7FE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25030C-66EF-491C-A902-DFB0292569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542EA6-9D19-4062-8E5C-EE734185C6C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2E8060-A674-4476-9A43-C87D41BAA5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7EBC53-AB48-4E00-9456-90D6AD4BA3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35E02D-B334-4830-A128-BCAEBCFF358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FBDCAC-3AE2-4F48-98BE-4EDF914DBB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45720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457200" y="6019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4"/>
          <p:cNvSpPr/>
          <p:nvPr/>
        </p:nvSpPr>
        <p:spPr>
          <a:xfrm>
            <a:off x="358920" y="2784600"/>
            <a:ext cx="841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-3 Upda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5"/>
          <p:cNvSpPr/>
          <p:nvPr/>
        </p:nvSpPr>
        <p:spPr>
          <a:xfrm>
            <a:off x="376200" y="4473720"/>
            <a:ext cx="8418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Julio Dalge – IN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Guo Chaohui – CRES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Arial"/>
              </a:rPr>
              <a:t>SDCG Meeting – Reston, USA 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3120" y="1860480"/>
          <a:ext cx="7940520" cy="3700440"/>
        </p:xfrm>
        <a:graphic>
          <a:graphicData uri="http://schemas.openxmlformats.org/drawingml/2006/table">
            <a:tbl>
              <a:tblPr/>
              <a:tblGrid>
                <a:gridCol w="2646360"/>
                <a:gridCol w="2647800"/>
                <a:gridCol w="26463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1, 2, 2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otal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02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1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3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ata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5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gn 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8" descr=""/>
          <p:cNvPicPr/>
          <p:nvPr/>
        </p:nvPicPr>
        <p:blipFill>
          <a:blip r:embed="rId1"/>
          <a:stretch/>
        </p:blipFill>
        <p:spPr>
          <a:xfrm>
            <a:off x="411120" y="1055520"/>
            <a:ext cx="6330960" cy="3738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559320" y="3879720"/>
            <a:ext cx="53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-synchronous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titude = 778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ination = 98.5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dal period = 100.2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eat cycle = 2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scending node at 10h30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31960"/>
          <a:ext cx="8620200" cy="4057560"/>
        </p:xfrm>
        <a:graphic>
          <a:graphicData uri="http://schemas.openxmlformats.org/drawingml/2006/table">
            <a:tbl>
              <a:tblPr/>
              <a:tblGrid>
                <a:gridCol w="1842840"/>
                <a:gridCol w="1563840"/>
                <a:gridCol w="2441520"/>
                <a:gridCol w="1197000"/>
                <a:gridCol w="15750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a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vis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2 days (nadir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de look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±32 degre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:1 pa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1840" y="1608120"/>
          <a:ext cx="8692920" cy="4789440"/>
        </p:xfrm>
        <a:graphic>
          <a:graphicData uri="http://schemas.openxmlformats.org/drawingml/2006/table">
            <a:tbl>
              <a:tblPr/>
              <a:tblGrid>
                <a:gridCol w="1859040"/>
                <a:gridCol w="1711080"/>
                <a:gridCol w="1714680"/>
                <a:gridCol w="1673280"/>
                <a:gridCol w="1734840"/>
              </a:tblGrid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1 - 0.8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0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 - 1.7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8 - 2.3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.4 - 12.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tial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(Band1), 10 m(Band 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 m(Band 1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), 80 m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wa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ata transmitters and onboard sto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63640" y="1397160"/>
          <a:ext cx="7480440" cy="4744800"/>
        </p:xfrm>
        <a:graphic>
          <a:graphicData uri="http://schemas.openxmlformats.org/drawingml/2006/table">
            <a:tbl>
              <a:tblPr/>
              <a:tblGrid>
                <a:gridCol w="2335320"/>
                <a:gridCol w="2950920"/>
                <a:gridCol w="219420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ier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 PA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08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m MUX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108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RS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034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X CAM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36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FI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9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3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18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olid state onboard data recorder with 274 Gbits (15 minutes’ recording capabilit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4"/>
          <p:cNvSpPr/>
          <p:nvPr/>
        </p:nvSpPr>
        <p:spPr>
          <a:xfrm>
            <a:off x="358920" y="2833560"/>
            <a:ext cx="8416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BERS-3 will be launched in Dec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ng-March 4 launching rocket will be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4"/>
          <p:cNvSpPr/>
          <p:nvPr/>
        </p:nvSpPr>
        <p:spPr>
          <a:xfrm>
            <a:off x="358920" y="2833560"/>
            <a:ext cx="84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Autumn Olson</dc:creator>
  <dc:description/>
  <dc:language>en-US</dc:language>
  <cp:lastModifiedBy>Ake Rosenqvist</cp:lastModifiedBy>
  <dcterms:modified xsi:type="dcterms:W3CDTF">2012-09-10T17:45:20Z</dcterms:modified>
  <cp:revision>1113</cp:revision>
  <dc:subject/>
  <dc:title>DocuShare</dc:title>
</cp:coreProperties>
</file>