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14D41-74ED-4B0B-9FFA-23FF214BC5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97436-ADE6-4DC3-B5E7-54E67C372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E3C9-3B72-477B-9F4B-0CC1B31499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1EC6-D8BA-4C21-81EE-EA92BE496D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3A48-5EBB-4C40-98BD-4F57AD757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7082-1D1F-4DD7-AC30-DF27F549E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6DA5-D2E2-4487-BF7B-1844D28D5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CD58-796D-46A3-B3F3-7701FD082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4399-517E-450F-9618-8A9F8F60A5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637A-7963-4300-963F-B558F20C01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EACD-7B8F-4063-8900-4A507B58CA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C375-55D5-49FD-8565-3C7E48BCDE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7E7F-442C-4AF2-90E3-1993AB0E3A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3BF5-BFB2-49E6-98D6-FFBD4275AD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7B09-4F22-445A-B5EF-F1E9EFCF17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DBD8-25D5-4A72-8F5F-78E497AD1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D4A8-D68F-4157-9C16-3835B604C5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249C-793E-4145-B484-D031FC6069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AAA9-353F-4765-B998-D221A8719D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BAAC-830A-48F3-AD6A-4DB7CD444A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C80E-9084-4D52-A0A3-C4EFE8DE5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94DD-5E7F-44C9-86EE-5900C8688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2A36-9240-44B2-AA89-86E82F5D1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1BEB-58D5-49BF-A6CF-6C2250830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9B4F-840C-4796-BEEA-F98CD59F0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9B99-E17A-4E35-8D02-79C3B0DF2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8503-C2D6-48C0-80AA-8D8F93475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0A7A-98F9-4AB3-9CCC-A0ED8105D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F934C-059B-4EBF-9822-DA3F9A9203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GEO_Header_Presentation.jpg"/>
          <p:cNvPicPr/>
          <p:nvPr/>
        </p:nvPicPr>
        <p:blipFill>
          <a:blip r:embed="rId2"/>
          <a:stretch/>
        </p:blipFill>
        <p:spPr>
          <a:xfrm>
            <a:off x="7920" y="5867280"/>
            <a:ext cx="9144000" cy="10065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ESA_logo_bleu"/>
          <p:cNvPicPr/>
          <p:nvPr/>
        </p:nvPicPr>
        <p:blipFill>
          <a:blip r:embed="rId3"/>
          <a:stretch/>
        </p:blipFill>
        <p:spPr>
          <a:xfrm>
            <a:off x="7581960" y="76320"/>
            <a:ext cx="1457280" cy="555480"/>
          </a:xfrm>
          <a:prstGeom prst="rect">
            <a:avLst/>
          </a:prstGeom>
          <a:ln w="0">
            <a:noFill/>
          </a:ln>
        </p:spPr>
      </p:pic>
      <p:pic>
        <p:nvPicPr>
          <p:cNvPr id="41" name="図 3" descr="ceos_logo"/>
          <p:cNvPicPr/>
          <p:nvPr/>
        </p:nvPicPr>
        <p:blipFill>
          <a:blip r:embed="rId4"/>
          <a:stretch/>
        </p:blipFill>
        <p:spPr>
          <a:xfrm>
            <a:off x="63360" y="63360"/>
            <a:ext cx="1187640" cy="53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6CA1A-5DF2-421D-9849-BA22A5BECD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43080" y="1085760"/>
            <a:ext cx="855972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5698"/>
                </a:solidFill>
                <a:latin typeface="Verdana"/>
              </a:rPr>
              <a:t>Expansion Scenar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Frank Martin Seifert (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Co-Chair SDC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ubtitle 2"/>
          <p:cNvSpPr/>
          <p:nvPr/>
        </p:nvSpPr>
        <p:spPr>
          <a:xfrm>
            <a:off x="0" y="47149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From NDs to Glob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7080" y="857160"/>
            <a:ext cx="9016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Status of 2012: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with 20 – 30 m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Considerations to expand acquisition are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UN-REDD pilot countries and ob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World Bank Forest Carbon Partnership Facility (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Full tropical be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eveloping forested countries outside the trop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Temperate and boreal zone for full global observ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chnical rea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38200" y="646200"/>
            <a:ext cx="8004240" cy="3506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360" y="75960"/>
            <a:ext cx="6413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a5698"/>
                </a:solidFill>
                <a:latin typeface="Verdana"/>
              </a:rPr>
              <a:t>National Demonst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152960"/>
            <a:ext cx="281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Fro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Guy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Indonesia (Born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Australia (Tas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Camer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6197760" y="4317840"/>
            <a:ext cx="2717640" cy="15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From 2012 on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progressive inclusion </a:t>
            </a:r>
            <a:br>
              <a:rPr sz="2000"/>
            </a:b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of countries from UN-REDD &amp; World Bank FCPF is being plan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200400" y="4127400"/>
            <a:ext cx="26798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DR Con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and adding Sumatra to Indones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     </a:t>
            </a: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Nep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044800" y="4183200"/>
            <a:ext cx="576000" cy="287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5130720" y="415764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937200" y="3911760"/>
            <a:ext cx="17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f497d"/>
                </a:solidFill>
                <a:latin typeface="Calibri"/>
                <a:ea typeface="Arial"/>
              </a:rPr>
              <a:t>Background GlobCo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NREDD-map---updated-June-2012.jpg"/>
          <p:cNvPicPr/>
          <p:nvPr/>
        </p:nvPicPr>
        <p:blipFill>
          <a:blip r:embed="rId1"/>
          <a:stretch/>
        </p:blipFill>
        <p:spPr>
          <a:xfrm>
            <a:off x="20520" y="1714680"/>
            <a:ext cx="9244080" cy="515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UN-RED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8600" y="655560"/>
            <a:ext cx="89154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UN-REDD pilot countri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5698"/>
                </a:solidFill>
                <a:latin typeface="Verdana"/>
              </a:rPr>
              <a:t>13 out of 16 UN-REDD pilot countries are currently not in F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033720" y="547200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http://www.un-redd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08440" y="6121440"/>
            <a:ext cx="1054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World Bank FCP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27080" y="606600"/>
            <a:ext cx="901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orest Carbon Partnership Facility: 44 countr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638360"/>
            <a:ext cx="9158400" cy="5219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1866960" y="627372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www.forestcarbonpartnership.or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831960"/>
            <a:ext cx="901692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UN-REDD Pilot (not in FCT)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Bolivia, Cambodi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Ecuador, Nigeria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Panama, Papua New Guinea, Paraguay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the Philippines, Solomon Islands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Viet Nam 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and Zambia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red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CPF REDD Preparation Grant 3.6 MUS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3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Mexico, Colombia*, Democratic Republic of Congo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Republic of Congo, Costa Rica, Ghana, Liberia, 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Indonesia,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Viet Nam*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blu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T)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    * </a:t>
            </a:r>
            <a:r>
              <a:rPr b="1" lang="en-US" sz="1200" spc="-1" strike="noStrike">
                <a:solidFill>
                  <a:srgbClr val="3a5698"/>
                </a:solidFill>
                <a:latin typeface="Verdana"/>
              </a:rPr>
              <a:t>signature expected so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Include neighbouring countries fi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Expansion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N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ear term (2012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mid 20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xpand ND Indonesia to whole cou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d Cambodia, Republic of Congo, Costa Rica, Ecuador, Panama, Viet Na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Mid term (mid 2013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201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W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hole tropical and subtropic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Global coverage (2015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mperate and bore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Additional Consider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Take for the expansion strategy additionally into accou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onor preferences as with F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Capacity building activities e.g. SilvaCarb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irect country requests e.g. Ghana at SDS-3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U funded FP7 REDD project countries e.g. Central African Republic, Fiji, 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Full regional coverage e.g. Congo Basi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3:29:53Z</dcterms:created>
  <dc:creator>George Dyke</dc:creator>
  <dc:description/>
  <dc:language>en-US</dc:language>
  <cp:lastModifiedBy>Frank Matin Seifert</cp:lastModifiedBy>
  <dcterms:modified xsi:type="dcterms:W3CDTF">2012-09-13T16:18:01Z</dcterms:modified>
  <cp:revision>170</cp:revision>
  <dc:subject/>
  <dc:title>Slide 1</dc:title>
</cp:coreProperties>
</file>