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A5BF1E8-EEB9-4019-9997-649BB901AAB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E38F39E-4DF3-4616-B0A6-46AC4D69CA1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BF17F17-B3FE-416D-8100-32622682041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381D198-9F43-4B56-84E5-1E72C3D466F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6D15B30-9818-4B60-8DFB-38546153F51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53856CE-ABCA-4202-AEC7-091AA613020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1EEDCA2-6469-486F-A638-B0DD824C2F6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4CF47CF-D968-4DEE-AB7E-7EDF39BB73F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EEE8A15-0815-48E7-90B3-174C17882EB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457200" y="990720"/>
            <a:ext cx="7772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22"/>
          <p:cNvSpPr/>
          <p:nvPr/>
        </p:nvSpPr>
        <p:spPr>
          <a:xfrm>
            <a:off x="457200" y="60199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logo_cbers.gif"/>
          <p:cNvPicPr/>
          <p:nvPr/>
        </p:nvPicPr>
        <p:blipFill>
          <a:blip r:embed="rId2"/>
          <a:stretch/>
        </p:blipFill>
        <p:spPr>
          <a:xfrm>
            <a:off x="8150400" y="61920"/>
            <a:ext cx="931680" cy="925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logo_cbers.gif"/>
          <p:cNvPicPr/>
          <p:nvPr/>
        </p:nvPicPr>
        <p:blipFill>
          <a:blip r:embed="rId2"/>
          <a:stretch/>
        </p:blipFill>
        <p:spPr>
          <a:xfrm>
            <a:off x="8150400" y="61920"/>
            <a:ext cx="931680" cy="925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aixaDeTexto 4"/>
          <p:cNvSpPr/>
          <p:nvPr/>
        </p:nvSpPr>
        <p:spPr>
          <a:xfrm>
            <a:off x="358920" y="2784600"/>
            <a:ext cx="8416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-3 Updat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ixaDeTexto 5"/>
          <p:cNvSpPr/>
          <p:nvPr/>
        </p:nvSpPr>
        <p:spPr>
          <a:xfrm>
            <a:off x="376200" y="4473720"/>
            <a:ext cx="8418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99"/>
                </a:solidFill>
                <a:latin typeface="Arial"/>
              </a:rPr>
              <a:t>Julio Dalge – IN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99"/>
                </a:solidFill>
                <a:latin typeface="Arial"/>
              </a:rPr>
              <a:t>Guo Chaohui – CRES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99"/>
                </a:solidFill>
                <a:latin typeface="Arial"/>
              </a:rPr>
              <a:t>SDCG Meeting – Reston, USA 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2</a:t>
            </a:r>
            <a:r>
              <a:rPr b="0" lang="en-US" sz="3600" spc="-1" strike="noStrike" baseline="30000">
                <a:solidFill>
                  <a:srgbClr val="003399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generation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3120" y="1860480"/>
          <a:ext cx="7940520" cy="3700440"/>
        </p:xfrm>
        <a:graphic>
          <a:graphicData uri="http://schemas.openxmlformats.org/drawingml/2006/table">
            <a:tbl>
              <a:tblPr/>
              <a:tblGrid>
                <a:gridCol w="2646360"/>
                <a:gridCol w="2647800"/>
                <a:gridCol w="26463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BERS 1, 2, 2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BERS 3,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otal m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,450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020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4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,100 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300 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ata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0 Mbit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05 Mbit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sign life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2</a:t>
            </a:r>
            <a:r>
              <a:rPr b="0" lang="en-US" sz="3600" spc="-1" strike="noStrike" baseline="30000">
                <a:solidFill>
                  <a:srgbClr val="003399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generation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m 8" descr=""/>
          <p:cNvPicPr/>
          <p:nvPr/>
        </p:nvPicPr>
        <p:blipFill>
          <a:blip r:embed="rId1"/>
          <a:stretch/>
        </p:blipFill>
        <p:spPr>
          <a:xfrm>
            <a:off x="411120" y="1055520"/>
            <a:ext cx="6330960" cy="3738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3559320" y="3879720"/>
            <a:ext cx="53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un-synchronous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ltitude = 778 k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clination = 98.5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odal period = 100.26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peat cycle = 26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scending node at 10h30 loc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paylo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731960"/>
          <a:ext cx="8620200" cy="4057560"/>
        </p:xfrm>
        <a:graphic>
          <a:graphicData uri="http://schemas.openxmlformats.org/drawingml/2006/table">
            <a:tbl>
              <a:tblPr/>
              <a:tblGrid>
                <a:gridCol w="1842840"/>
                <a:gridCol w="1563840"/>
                <a:gridCol w="2441520"/>
                <a:gridCol w="1197000"/>
                <a:gridCol w="157500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lo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X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FI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nufactur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raz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raz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ca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visit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2 days (nadir oper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ide looking 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(±32 degre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Quant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:1 pan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paylo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1840" y="1608120"/>
          <a:ext cx="8692920" cy="4789440"/>
        </p:xfrm>
        <a:graphic>
          <a:graphicData uri="http://schemas.openxmlformats.org/drawingml/2006/table">
            <a:tbl>
              <a:tblPr/>
              <a:tblGrid>
                <a:gridCol w="1859040"/>
                <a:gridCol w="1711080"/>
                <a:gridCol w="1714680"/>
                <a:gridCol w="1673280"/>
                <a:gridCol w="1734840"/>
              </a:tblGrid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lo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X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FI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66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45 - 0.52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1 - 0.8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0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45 - 0.52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5 - 1.7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674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8 - 2.3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.4 - 12.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patial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m(Band1), 10 m(Band 2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0 m(Band 1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), 80 m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4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wa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6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Data transmitters and onboard stora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63640" y="1397160"/>
          <a:ext cx="7480440" cy="4744800"/>
        </p:xfrm>
        <a:graphic>
          <a:graphicData uri="http://schemas.openxmlformats.org/drawingml/2006/table">
            <a:tbl>
              <a:tblPr/>
              <a:tblGrid>
                <a:gridCol w="2335320"/>
                <a:gridCol w="2950920"/>
                <a:gridCol w="2194200"/>
              </a:tblGrid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rier 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6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m PAN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208 GH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7 M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 m MUX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108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RS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034 GH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7 M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57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UX CAM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365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8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FI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290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3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3188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olid state onboard data recorder with 274 Gbits (15 minutes’ recording capability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aixaDeTexto 4"/>
          <p:cNvSpPr/>
          <p:nvPr/>
        </p:nvSpPr>
        <p:spPr>
          <a:xfrm>
            <a:off x="358920" y="2833560"/>
            <a:ext cx="841680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BERS-3 will be launched in December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Long-March 4 launching rocket will be u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CaixaDeTexto 4"/>
          <p:cNvSpPr/>
          <p:nvPr/>
        </p:nvSpPr>
        <p:spPr>
          <a:xfrm>
            <a:off x="358920" y="2833560"/>
            <a:ext cx="841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9:07:47Z</dcterms:created>
  <dc:creator>Autumn Olson</dc:creator>
  <dc:description/>
  <dc:language>en-US</dc:language>
  <cp:lastModifiedBy>Ake Rosenqvist</cp:lastModifiedBy>
  <dcterms:modified xsi:type="dcterms:W3CDTF">2012-09-10T17:45:20Z</dcterms:modified>
  <cp:revision>1113</cp:revision>
  <dc:subject/>
  <dc:title>DocuShare</dc:title>
</cp:coreProperties>
</file>