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D12B5F-C785-4E05-AA2F-70B41FE455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4"/>
          </p:nvPr>
        </p:nvSpPr>
        <p:spPr>
          <a:xfrm>
            <a:off x="-36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5"/>
          </p:nvPr>
        </p:nvSpPr>
        <p:spPr>
          <a:xfrm>
            <a:off x="385416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FD19FB-972F-42C6-A1C9-8B04C226F7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55960" y="9447120"/>
            <a:ext cx="29494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D1D3-E452-4264-A790-8BDD8328C0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855960" y="9447120"/>
            <a:ext cx="29494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A302-B058-4573-A9B8-15441D4EB4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89600" cy="44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4 UNREDD pilot countries, </a:t>
            </a:r>
            <a:r>
              <a:rPr b="0" lang="en-GB" sz="1200" spc="-1" strike="noStrike">
                <a:solidFill>
                  <a:srgbClr val="3a5698"/>
                </a:solidFill>
                <a:latin typeface="Calibri"/>
              </a:rPr>
              <a:t>from which 11 are not in FCT: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3a5698"/>
                </a:solidFill>
                <a:latin typeface="Calibri"/>
              </a:rPr>
              <a:t>Bolivia, Cambodia, Ecuador, Nigeria, Panama, Papua New Guinea, Paraguay, the Philippines, Solomon Islands, </a:t>
            </a:r>
            <a:br>
              <a:rPr sz="1200"/>
            </a:br>
            <a:r>
              <a:rPr b="0" lang="en-GB" sz="1200" spc="-1" strike="noStrike">
                <a:solidFill>
                  <a:srgbClr val="3a5698"/>
                </a:solidFill>
                <a:latin typeface="Calibri"/>
              </a:rPr>
              <a:t>Viet Nam and Zamb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4 UNREDD pilot countries, </a:t>
            </a:r>
            <a:r>
              <a:rPr b="0" lang="en-GB" sz="1200" spc="-1" strike="noStrike">
                <a:solidFill>
                  <a:srgbClr val="3a5698"/>
                </a:solidFill>
                <a:latin typeface="Calibri"/>
              </a:rPr>
              <a:t>from which 11 are not in FCT: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3a5698"/>
                </a:solidFill>
                <a:latin typeface="Calibri"/>
              </a:rPr>
              <a:t>Bolivia, Cambodia, Ecuador, Nigeria, Panama, Papua New Guinea, Paraguay, the Philippines, Solomon Islands, </a:t>
            </a:r>
            <a:br>
              <a:rPr sz="1200"/>
            </a:br>
            <a:r>
              <a:rPr b="0" lang="en-GB" sz="1200" spc="-1" strike="noStrike">
                <a:solidFill>
                  <a:srgbClr val="3a5698"/>
                </a:solidFill>
                <a:latin typeface="Calibri"/>
              </a:rPr>
              <a:t>Viet Nam and Zamb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3EA20-6191-4237-9564-35DB6DE088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83390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7760" y="3738600"/>
            <a:ext cx="83390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A58D7-A9AA-4655-BB25-198FF8D55C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209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7760" y="373860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20960" y="373860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96CA0-B029-47B6-9EC4-711AFF9D9F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7280" y="110664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86800" y="110664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7760" y="373860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7280" y="373860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86800" y="373860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6B6FD-81D2-457C-BD18-F810072BBF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A4C7C-3E91-4BAA-914A-7AEF616139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47760" y="1106640"/>
            <a:ext cx="8339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9E32C-592C-4D8F-8A63-F886F21115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83390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B19A5-6A84-4DE2-916B-D12F34C5D6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40694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20960" y="1106640"/>
            <a:ext cx="40694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4E152-9367-45E8-A57D-DED00E9373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87325-7FC0-49FB-9CEC-1285CFF3DC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47760" y="185400"/>
            <a:ext cx="833904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004C7-F77E-45A7-A369-665E0D9078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0960" y="1106640"/>
            <a:ext cx="40694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47760" y="373860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4DA61-8EC3-4DFE-9DC3-CA4F49C672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7760" y="1106640"/>
            <a:ext cx="8339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312FF-0686-42CB-BD73-2CFCA40613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40694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209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20960" y="373860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81A2E-E44C-497F-9643-B345AB69FF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09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47760" y="3738600"/>
            <a:ext cx="83390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3152E-0AD7-4F6A-BC81-726D8E3305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83390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47760" y="3738600"/>
            <a:ext cx="83390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1BA12-24C4-4AD1-97FA-6D5F328C480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209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47760" y="373860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20960" y="373860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9C8F9-2059-47D0-A0C0-A1EF624724B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67280" y="110664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86800" y="110664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47760" y="373860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67280" y="373860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86800" y="373860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85D04-BF15-4802-9132-E6589E7F82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83390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78D15-0D8E-480A-B391-A91C3FC400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40694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20960" y="1106640"/>
            <a:ext cx="40694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C673D-C6CB-42C6-BBCF-DE7821EDE8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64775-C623-4234-A6B8-C85A7980D6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7760" y="185400"/>
            <a:ext cx="833904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7678B-CE7C-4660-AF4A-30BF60EA82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20960" y="1106640"/>
            <a:ext cx="40694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7760" y="373860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315B1-18F7-4260-8CD7-67FC455429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40694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09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20960" y="373860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2711E-FD52-41CB-AA19-9D96E2559F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09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7760" y="3738600"/>
            <a:ext cx="83390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940E6-335F-4534-818D-8A6F810CFB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106640"/>
            <a:ext cx="83390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972480" y="65055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1F1F49-4BA3-4D12-941E-44E49C0BB4A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GEO_Header_Presentation.jpg"/>
          <p:cNvPicPr/>
          <p:nvPr/>
        </p:nvPicPr>
        <p:blipFill>
          <a:blip r:embed="rId2"/>
          <a:stretch/>
        </p:blipFill>
        <p:spPr>
          <a:xfrm>
            <a:off x="7920" y="5867280"/>
            <a:ext cx="9144000" cy="10065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8" descr="ESA_logo_bleu"/>
          <p:cNvPicPr/>
          <p:nvPr/>
        </p:nvPicPr>
        <p:blipFill>
          <a:blip r:embed="rId3"/>
          <a:stretch/>
        </p:blipFill>
        <p:spPr>
          <a:xfrm>
            <a:off x="7581960" y="76320"/>
            <a:ext cx="1457280" cy="555480"/>
          </a:xfrm>
          <a:prstGeom prst="rect">
            <a:avLst/>
          </a:prstGeom>
          <a:ln w="0">
            <a:noFill/>
          </a:ln>
        </p:spPr>
      </p:pic>
      <p:pic>
        <p:nvPicPr>
          <p:cNvPr id="41" name="図 3" descr="ceos_logo"/>
          <p:cNvPicPr/>
          <p:nvPr/>
        </p:nvPicPr>
        <p:blipFill>
          <a:blip r:embed="rId4"/>
          <a:stretch/>
        </p:blipFill>
        <p:spPr>
          <a:xfrm>
            <a:off x="63360" y="63360"/>
            <a:ext cx="1187640" cy="532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47760" y="1106640"/>
            <a:ext cx="83390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972480" y="65055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B3807F-3F81-4163-84A9-DF62EF85FBC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343080" y="1085760"/>
            <a:ext cx="8559720" cy="38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5698"/>
                </a:solidFill>
                <a:latin typeface="Verdana"/>
              </a:rPr>
              <a:t>Expansion Scenari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5698"/>
                </a:solidFill>
                <a:latin typeface="Verdana"/>
              </a:rPr>
              <a:t>Frank Martin Seifert (ES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5698"/>
                </a:solidFill>
                <a:latin typeface="Verdana"/>
              </a:rPr>
              <a:t>Co-Chair SDC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Subtitle 2"/>
          <p:cNvSpPr/>
          <p:nvPr/>
        </p:nvSpPr>
        <p:spPr>
          <a:xfrm>
            <a:off x="0" y="471492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a5698"/>
                </a:solidFill>
                <a:latin typeface="Verdana"/>
              </a:rPr>
              <a:t>Space Data Coordination Group Meeting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a5698"/>
                </a:solidFill>
                <a:latin typeface="Verdana"/>
              </a:rPr>
              <a:t>Reston (VA), USA. 13-14 September 201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96800" y="104760"/>
            <a:ext cx="60577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3a5698"/>
                </a:solidFill>
                <a:latin typeface="Verdana"/>
              </a:rPr>
              <a:t>From NDs to Glob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27080" y="857160"/>
            <a:ext cx="9016920" cy="50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55680" indent="-355680">
              <a:lnSpc>
                <a:spcPct val="150000"/>
              </a:lnSpc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Status of 2012: </a:t>
            </a:r>
            <a:r>
              <a:rPr b="1" lang="en-US" sz="2400" spc="-1" strike="noStrike">
                <a:solidFill>
                  <a:srgbClr val="3a5698"/>
                </a:solidFill>
                <a:latin typeface="Verdana"/>
              </a:rPr>
              <a:t>Annual to twice-annual wall-to-wall acquisitions of NDs with 20 – 30 m sens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lnSpc>
                <a:spcPct val="150000"/>
              </a:lnSpc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Considerations to expand acquisition are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UN-REDD pilot countries and observ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World Bank Forest Carbon Partnership Facility (FCP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Full tropical bel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Developing forested countries outside the trop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Temperate and boreal zone for full global observ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5698"/>
                </a:solidFill>
                <a:latin typeface="Verdana"/>
              </a:rPr>
              <a:t>T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echnical reas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538200" y="646200"/>
            <a:ext cx="8004240" cy="3506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06360" y="75960"/>
            <a:ext cx="6413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a5698"/>
                </a:solidFill>
                <a:latin typeface="Verdana"/>
              </a:rPr>
              <a:t>National Demonstra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4152960"/>
            <a:ext cx="281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  <a:ea typeface="Arial"/>
              </a:rPr>
              <a:t>From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  <a:ea typeface="Arial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  <a:ea typeface="Arial"/>
              </a:rPr>
              <a:t>Guy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  <a:ea typeface="Arial"/>
              </a:rPr>
              <a:t>Mex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  <a:ea typeface="Arial"/>
              </a:rPr>
              <a:t>Indonesia (Borne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  <a:ea typeface="Arial"/>
              </a:rPr>
              <a:t>Australia (Tasman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  <a:ea typeface="Arial"/>
              </a:rPr>
              <a:t>Camer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  <a:ea typeface="Arial"/>
              </a:rPr>
              <a:t>Tanz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7"/>
          <p:cNvSpPr/>
          <p:nvPr/>
        </p:nvSpPr>
        <p:spPr>
          <a:xfrm>
            <a:off x="6197760" y="4317840"/>
            <a:ext cx="2717640" cy="154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  <a:ea typeface="Arial"/>
              </a:rPr>
              <a:t>From 2012 onwar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  <a:ea typeface="Arial"/>
              </a:rPr>
              <a:t>progressive inclusion </a:t>
            </a:r>
            <a:br>
              <a:rPr sz="2000"/>
            </a:br>
            <a:r>
              <a:rPr b="1" lang="en-GB" sz="2000" spc="-1" strike="noStrike">
                <a:solidFill>
                  <a:srgbClr val="1f497d"/>
                </a:solidFill>
                <a:latin typeface="Calibri"/>
                <a:ea typeface="Arial"/>
              </a:rPr>
              <a:t>of countries from UN-REDD &amp; World Bank FCPF is being plann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3200400" y="4127400"/>
            <a:ext cx="267984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1f497d"/>
                </a:solidFill>
                <a:latin typeface="Calibri"/>
                <a:ea typeface="Arial"/>
              </a:rPr>
              <a:t>From June 201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  <a:ea typeface="Arial"/>
              </a:rPr>
              <a:t>Colomb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  <a:ea typeface="Arial"/>
              </a:rPr>
              <a:t>DR Cong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  <a:ea typeface="Arial"/>
              </a:rPr>
              <a:t>Per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  <a:ea typeface="Arial"/>
              </a:rPr>
              <a:t>and adding Sumatra to Indonesia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1f497d"/>
                </a:solidFill>
                <a:latin typeface="Calibri"/>
                <a:ea typeface="Arial"/>
              </a:rPr>
              <a:t>From June 201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  <a:ea typeface="Arial"/>
              </a:rPr>
              <a:t>     </a:t>
            </a:r>
            <a:r>
              <a:rPr b="1" lang="en-GB" sz="1800" spc="-1" strike="noStrike">
                <a:solidFill>
                  <a:srgbClr val="1f497d"/>
                </a:solidFill>
                <a:latin typeface="Calibri"/>
                <a:ea typeface="Arial"/>
              </a:rPr>
              <a:t>Nep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2044800" y="4183200"/>
            <a:ext cx="576000" cy="28728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16"/>
          <p:cNvSpPr/>
          <p:nvPr/>
        </p:nvSpPr>
        <p:spPr>
          <a:xfrm>
            <a:off x="5130720" y="4157640"/>
            <a:ext cx="576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937200" y="3911760"/>
            <a:ext cx="178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1f497d"/>
                </a:solidFill>
                <a:latin typeface="Calibri"/>
                <a:ea typeface="Arial"/>
              </a:rPr>
              <a:t>Background GlobCov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UNREDD-map---updated-June-2012.jpg"/>
          <p:cNvPicPr/>
          <p:nvPr/>
        </p:nvPicPr>
        <p:blipFill>
          <a:blip r:embed="rId1"/>
          <a:stretch/>
        </p:blipFill>
        <p:spPr>
          <a:xfrm>
            <a:off x="20520" y="1714680"/>
            <a:ext cx="9244080" cy="51559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96800" y="104760"/>
            <a:ext cx="60577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3a5698"/>
                </a:solidFill>
                <a:latin typeface="Verdana"/>
              </a:rPr>
              <a:t>UN-RED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228600" y="655560"/>
            <a:ext cx="8915400" cy="50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UN-REDD pilot countrie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5698"/>
                </a:solidFill>
                <a:latin typeface="Verdana"/>
              </a:rPr>
              <a:t>13 out of 16 UN-REDD pilot countries are currently not in F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3033720" y="5472000"/>
            <a:ext cx="60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Verdana"/>
              </a:rPr>
              <a:t>http://http://www.un-redd.org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2908440" y="6121440"/>
            <a:ext cx="1054080" cy="71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96800" y="104760"/>
            <a:ext cx="60577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3a5698"/>
                </a:solidFill>
                <a:latin typeface="Verdana"/>
              </a:rPr>
              <a:t>World Bank FCP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27080" y="606600"/>
            <a:ext cx="901692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Forest Carbon Partnership Facility: 44 countri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0" y="1638360"/>
            <a:ext cx="9158400" cy="52196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1"/>
          <p:cNvSpPr/>
          <p:nvPr/>
        </p:nvSpPr>
        <p:spPr>
          <a:xfrm>
            <a:off x="1866960" y="6273720"/>
            <a:ext cx="60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Verdana"/>
              </a:rPr>
              <a:t>http://www.forestcarbonpartnership.org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96800" y="104760"/>
            <a:ext cx="60577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3a5698"/>
                </a:solidFill>
                <a:latin typeface="Verdana"/>
              </a:rPr>
              <a:t>Consid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831960"/>
            <a:ext cx="9016920" cy="55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55680" indent="-355680"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5698"/>
                </a:solidFill>
                <a:latin typeface="Verdana"/>
              </a:rPr>
              <a:t>UN-REDD Pilot (not in FCT)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Bolivia, Cambodia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, Ecuador, Nigeria, 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Panama, Papua New Guinea, Paraguay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, the Philippines, Solomon Islands, 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Viet Nam 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and Zambia</a:t>
            </a:r>
            <a:br>
              <a:rPr sz="2000"/>
            </a:b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(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red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 in FCP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lnSpc>
                <a:spcPct val="150000"/>
              </a:lnSpc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FCPF REDD Preparation Grant 3.6 MUS$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12880" indent="-355680">
              <a:lnSpc>
                <a:spcPct val="150000"/>
              </a:lnSpc>
              <a:spcBef>
                <a:spcPts val="300"/>
              </a:spcBef>
              <a:buClr>
                <a:srgbClr val="4f81b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f81bd"/>
                </a:solidFill>
                <a:latin typeface="Verdana"/>
              </a:rPr>
              <a:t>Mexico, Colombia*, Democratic Republic of Congo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, Republic of Congo, Costa Rica, Ghana, Liberia, </a:t>
            </a:r>
            <a:r>
              <a:rPr b="1" lang="en-GB" sz="2000" spc="-1" strike="noStrike">
                <a:solidFill>
                  <a:srgbClr val="4f81bd"/>
                </a:solidFill>
                <a:latin typeface="Verdana"/>
              </a:rPr>
              <a:t>Indonesia,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 Viet Nam*</a:t>
            </a:r>
            <a:br>
              <a:rPr sz="2000"/>
            </a:b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(</a:t>
            </a:r>
            <a:r>
              <a:rPr b="1" lang="en-GB" sz="2000" spc="-1" strike="noStrike">
                <a:solidFill>
                  <a:srgbClr val="4f81bd"/>
                </a:solidFill>
                <a:latin typeface="Verdana"/>
              </a:rPr>
              <a:t>blue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 in FCT)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     * </a:t>
            </a:r>
            <a:r>
              <a:rPr b="1" lang="en-US" sz="1200" spc="-1" strike="noStrike">
                <a:solidFill>
                  <a:srgbClr val="3a5698"/>
                </a:solidFill>
                <a:latin typeface="Verdana"/>
              </a:rPr>
              <a:t>signature expected soon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Include neighbouring countries fir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96800" y="104760"/>
            <a:ext cx="60577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3a5698"/>
                </a:solidFill>
                <a:latin typeface="Verdana"/>
              </a:rPr>
              <a:t>Expansion Pl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27080" y="844560"/>
            <a:ext cx="9016920" cy="52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55680" indent="-355680"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5698"/>
                </a:solidFill>
                <a:latin typeface="Verdana"/>
              </a:rPr>
              <a:t>Annual to twice-annual wall-to-wall acquisitions of ND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5698"/>
                </a:solidFill>
                <a:latin typeface="Verdana"/>
              </a:rPr>
              <a:t>N</a:t>
            </a: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ear term (2012 </a:t>
            </a:r>
            <a:r>
              <a:rPr b="1" lang="en-US" sz="2400" spc="-1" strike="noStrike">
                <a:solidFill>
                  <a:srgbClr val="3a5698"/>
                </a:solidFill>
                <a:latin typeface="Verdana"/>
              </a:rPr>
              <a:t>–</a:t>
            </a: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 mid 2013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5698"/>
                </a:solidFill>
                <a:latin typeface="Verdana"/>
              </a:rPr>
              <a:t>E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xpand ND Indonesia to whole count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5698"/>
                </a:solidFill>
                <a:latin typeface="Verdana"/>
              </a:rPr>
              <a:t>A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dd Cambodia, Republic of Congo, Costa Rica, Ecuador, Panama, Viet Nam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lnSpc>
                <a:spcPct val="150000"/>
              </a:lnSpc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Mid term (mid 2013 </a:t>
            </a:r>
            <a:r>
              <a:rPr b="1" lang="en-US" sz="2400" spc="-1" strike="noStrike">
                <a:solidFill>
                  <a:srgbClr val="3a5698"/>
                </a:solidFill>
                <a:latin typeface="Verdana"/>
              </a:rPr>
              <a:t>–</a:t>
            </a: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 2014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5698"/>
                </a:solidFill>
                <a:latin typeface="Verdana"/>
              </a:rPr>
              <a:t>W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hole tropical and subtropical fore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lnSpc>
                <a:spcPct val="150000"/>
              </a:lnSpc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Global coverage (2015+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5698"/>
                </a:solidFill>
                <a:latin typeface="Verdana"/>
              </a:rPr>
              <a:t>T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emperate and boreal fore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96800" y="104760"/>
            <a:ext cx="60577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3a5698"/>
                </a:solidFill>
                <a:latin typeface="Verdana"/>
              </a:rPr>
              <a:t>Additional Consideration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127080" y="844560"/>
            <a:ext cx="9016920" cy="52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55680" indent="-355680"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Take for the expansion strategy additionally into accoun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Donor preferences as with FC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Capacity building activities e.g. SilvaCarbo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Direct country requests e.g. Ghana at SDS-3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EU funded FP7 REDD project countries e.g. Central African Republic, Fiji, </a:t>
            </a:r>
            <a:r>
              <a:rPr b="1" lang="en-US" sz="2000" spc="-1" strike="noStrike">
                <a:solidFill>
                  <a:srgbClr val="3a5698"/>
                </a:solidFill>
                <a:latin typeface="Verdana"/>
              </a:rPr>
              <a:t>…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5698"/>
                </a:solidFill>
                <a:latin typeface="Verdana"/>
              </a:rPr>
              <a:t>Full regional coverage e.g. Congo Basi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5698"/>
                </a:solidFill>
                <a:latin typeface="Verdana"/>
              </a:rPr>
              <a:t>…</a:t>
            </a:r>
            <a:r>
              <a:rPr b="1" lang="en-US" sz="2000" spc="-1" strike="noStrike">
                <a:solidFill>
                  <a:srgbClr val="3a5698"/>
                </a:solidFill>
                <a:latin typeface="Verdan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13:29:53Z</dcterms:created>
  <dc:creator>George Dyke</dc:creator>
  <dc:description/>
  <dc:language>en-US</dc:language>
  <cp:lastModifiedBy>Frank Matin Seifert</cp:lastModifiedBy>
  <dcterms:modified xsi:type="dcterms:W3CDTF">2012-09-13T16:18:01Z</dcterms:modified>
  <cp:revision>170</cp:revision>
  <dc:subject/>
  <dc:title>Slide 1</dc:title>
</cp:coreProperties>
</file>