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wmf" ContentType="image/x-wmf"/>
  <Override PartName="/ppt/media/image16.png" ContentType="image/png"/>
  <Override PartName="/ppt/media/image8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870-7F90-4CB2-BB2A-F25CA397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BD4-5979-43F5-BCD3-9D6FD8BF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A2055-3E7A-45E4-A2D2-40A5612B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686F7-ED1D-4A47-B1C3-2461DEB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94900-C10A-41FF-9036-DD439FAB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43C1C-D552-48BC-9EE9-0E31FE7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2936D-E6A9-4585-900F-08EAFC17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934CC-296D-456B-A8D2-E4CB12F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2A7F-F29D-4A2F-9C14-A5CC1D12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C2AA5-92E8-4613-97F4-083FD8F2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29287-C7D7-44F3-A861-619D8497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DA650-EB60-44FB-8244-2ED3FA9A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FE5-04C5-4EA6-9100-C42DEACC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6DF82-D18C-44C8-9492-282ED7C6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07831-0CF9-46DE-9845-04F79A57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749DA-FA54-4715-B9CE-FFED4DF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6BBDC-5399-4A81-9FD2-F8404CCF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07617-68A2-4557-96D0-7E6C7A0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4304D-0872-4B38-9B22-A183D08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2ADCC-25BF-47B5-8235-01867BE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BE254-9DEA-40F7-A1BC-1220B55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DC847-39D2-46BF-8844-CA35540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82657-9AF6-46CC-8F8D-89DD2325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FC6-4BC8-4398-A195-90506651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9A10A-7204-430F-B71E-3BACE401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5851-C715-496B-AA96-A531FB7C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F8650-2640-4D2C-A84D-49B174F0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ED1B2-F6C5-49D0-BD04-5591370A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A77E-28D9-4F23-A6BC-AF7D3CB1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2D388-AF1F-44A8-92A3-AA918EC1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A2D7D-EC34-4A42-8A44-1057243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6342A-790E-487D-B5EE-E0D5FBAB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082CD-C1BE-49D8-BC7D-4E2DEA9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A0BFE-E2C3-4A15-88D4-CF93DB2E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7A2A-6D30-4E87-BC60-989380A0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1631E-FA38-4614-A3C2-14A51BC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59296-F86D-4C24-822F-328F115B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9779-BB5F-4EC3-A8F1-48C0DA68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AD0FF-28F3-45F2-9B07-37F6CFDF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AEB7B-B03E-4B5A-A8AC-28DF22FD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92E4A-F61B-4842-9596-4E511C28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7D1E6-6D84-4EA6-83F0-C0D5884B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24857-908B-470D-A6AC-DEF4C493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CC1E7-2243-4D97-A89D-BB1AA98B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00610-FFF1-4CF7-9AA1-160C980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64FE-6C75-4EE6-8907-F5C02CB9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2A0CC-1A68-49D6-B18A-7925218E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DCA55-549D-4CA4-B11C-43E58B6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927BB-B25C-43CC-9778-22DAB148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91EB6-78DD-4864-BC93-4AEF7B15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0537E-9E72-4087-9331-72A70D9B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7DAA5-9207-45E8-A160-424E9309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F60F8-F6C4-438B-85C9-1F274ECC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981E6-8BBC-4064-B54A-071D915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05BA7-B420-485C-937F-721EFDAF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5F1F4-0B1D-4D21-94E2-22A28CA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3A8D-05E4-422E-BAC0-1B3552F6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0FFD8-24BF-4308-A83B-9FBAC7EA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354E6-2E92-4E82-A22D-02DFE27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38612-A13D-43B0-93FB-D3671D7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9839E-6B64-4189-B9E4-8A61284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69FCC-4AA7-4BCD-BB42-001FA8D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8FF8A-90E5-4C4E-9BB9-F4E0C026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FD53A-8460-4D46-93A6-C11FC30C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DEB2-8B72-43D0-9B7E-30F48766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8A33-CBD5-436D-8972-C82009D3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D0D7-AE0A-48F8-B1D6-2929FC23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6DA3-2FB1-4917-A6E3-F107166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D31-027A-4519-ADCE-220AC00D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EFCA-DA05-41CE-A466-2354D0F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A8B4-584B-498C-BF30-CBCBB9B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376D-D330-4744-BCA1-EA51AE8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9C1E-26D9-4031-A3D4-F2A6F2F1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B441-115B-4BB4-880C-89EA0F59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DC47-F758-4CCB-8CFA-78A88C81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933A-9DA3-4EB4-8BA0-FB9B06C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1AED-28ED-4A90-BE3C-E13B7E61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7355-5E6F-4825-8122-A9E8D44D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4615-16A3-43EF-A997-4B8A67E5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936-550B-4C7F-829C-EE40651B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78A8-DF3A-4400-8789-3E58A975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F4FA-A9EA-4F21-B15C-CE74012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E2E8-2313-468D-810A-E2630FA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8F94-0D41-409B-A31E-E459D469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0ED9-E6DA-4B45-9E91-C448930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B1A0-20C0-4717-800F-A4B96963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9308-C44B-4261-92FE-88363A37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C60BD-2429-4980-AA2F-CA3FCB60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F46A-F9FB-4A2F-BC9A-D73A9FE2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6C50-A4FD-46A7-A103-CD94EBAB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444-A8C5-4262-B4E0-EF1FDD04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D8F1-782C-402E-9547-FBC41A56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1E4A-3C3A-4FA2-AE69-F94A3E31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838D-F399-4CC7-B2FD-F458FD98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EFBA-60DB-45BE-91AF-F4323F65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0096-FF41-414A-9A03-B61C5D13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31E6-9AF8-4758-8528-62499C65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635A-C1BA-4CB9-852E-484E1F4D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3D0A-C337-493D-9C14-EA67CD9B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3ACF-3E0E-42C7-A3EF-AC2CEE15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C6D07-BFCA-436D-BE64-BD5128DD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A20-6646-41E0-9379-5270FF5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11800-60DC-4874-B57D-63DE3DF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B7B7-8E09-419E-AE99-01915456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DC6E-45A5-46D9-B4C3-B8C40487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5D594-1823-4FC8-8A6D-BE2B2167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3064-2DD5-43D2-9CDF-7350BB8B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D549-DF3A-44E1-9571-C376AFA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8887-26B9-4218-B33E-C88CEC3E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7671-1464-4D08-A7C4-29AF0381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59DB-AEC6-41D0-8FCC-F70724D8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C8AB5-C4C5-4C9A-B20A-E0C61596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10C-8587-414B-A9DA-2F118350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8B93-2E4D-4218-B2B4-BC02AEA0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6494-6B16-4F97-A25A-486D0D80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07D6-7BD9-457C-AB8A-43617CBB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CC4A-D2D2-4A93-9D13-29EAACF0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8977C-B6EB-4766-A492-66071DF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F27B-96A6-49F1-BE11-586F7F62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5A94-960F-4AF5-B30C-B735270A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4D96-6DAA-4AC4-B0D1-2DDCD3A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985B6-171C-47FA-8A53-4CA7F2C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68461-3633-4977-AC2E-1E0613FD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70F-55B3-46D7-B650-39E1418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5DB6-4D1B-439D-B77A-6DB170F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7BF0B-66FE-44E8-9716-383D812E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4E22-69E1-47F1-84F8-5096BEED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DA5DB-9CE8-48A1-84A8-AE5E6770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6ECD-135E-43D9-BD4D-B5A83B49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CD537-D25B-4EB1-8477-E1802B52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FF830-35E1-4399-BCC1-B4D894E9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4051-8743-4FCF-917A-DA21AA17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D1413-DA56-4C1F-84DB-D6B94F58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99C6C-090D-479D-AA92-3898065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CB9-EE25-478F-9AC5-3C009E3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90798-0662-4153-802A-BB59152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1061F-BD7A-4E14-A137-27E14CD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66DCB-2D87-4949-8709-273F20B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DE8ED-476D-44CF-8597-FA91EB44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EE2D-BF12-44ED-B2C1-B91823E8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88F8C-4B6F-4986-B275-902D204D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4DCBC-B144-4E28-814C-62F31EF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D2EB5-CE00-49A7-83A7-51D6B6EA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7AD70-E501-45BA-A01A-80DC5B4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DBBF-5292-4835-AF2C-FC4ACBC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5DD-BAAF-4BCC-B828-5B30ADBF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8204-604D-40E3-AD59-7130F8A6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CAC9-0043-419C-8764-B262E28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6B16-BB6E-401A-AEF5-614A9C7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6B04-3616-4FF8-A7ED-3A0689B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7AD4A-C95F-43C4-8148-BD818C18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0B6FB-5DEA-4DF5-A368-C46E1F47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D9C8-B874-449D-BC87-519F17C8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DE042-F6C0-4274-8697-9DDE7283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B0884-A9A9-4D97-8C40-96F73D0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9D46E-D277-46D3-9DB1-16692FA8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コネクタ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7B3B-77D5-4C6E-A301-8C379A010457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6D9-277D-472F-B305-33E5872F8336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図 1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3" name="Picture 2" descr=""/>
            <p:cNvPicPr/>
            <p:nvPr/>
          </p:nvPicPr>
          <p:blipFill>
            <a:blip r:embed="rId5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3" descr=""/>
            <p:cNvPicPr/>
            <p:nvPr/>
          </p:nvPicPr>
          <p:blipFill>
            <a:blip r:embed="rId6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リーフォーム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3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直線コネクタ 19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6" name="山形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山形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B8A9-278C-4B02-AC3B-9C631C8F84A5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B90C-237E-401A-AD05-9132E03849A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365C-682D-422F-A14C-1751F4B7F0AE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97EB-300B-4A59-8BB3-81726F2AF39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5AA-45A9-4F64-933E-3C462A7E76A9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197-CB77-4BAB-BE82-790AD4448FF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57CB-BCCD-40FA-85FD-7E4CF6943CA1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C316-C0F4-4376-AB9D-0C2F6CDA2D4B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角三角形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119160" y="6318360"/>
            <a:ext cx="1453680" cy="539640"/>
            <a:chOff x="119160" y="6318360"/>
            <a:chExt cx="1453680" cy="539640"/>
          </a:xfrm>
        </p:grpSpPr>
        <p:pic>
          <p:nvPicPr>
            <p:cNvPr id="58" name="Picture 2" descr=""/>
            <p:cNvPicPr/>
            <p:nvPr/>
          </p:nvPicPr>
          <p:blipFill>
            <a:blip r:embed="rId4"/>
            <a:stretch/>
          </p:blipFill>
          <p:spPr>
            <a:xfrm>
              <a:off x="574920" y="6360480"/>
              <a:ext cx="9979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47808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8B6F-486C-40C3-B657-D4B7AAEC9A01}" type="datetime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607-BB56-47BF-9689-AEA6CD802370}" type="slidenum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CB45-9AE1-4285-8B3E-A3DA2B8CFBEB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AA5-DA1C-4D26-A500-34ED1920CDA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山形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山形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18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直角三角形 1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図 24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5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767A-FCE0-4FFD-AD73-846502170B54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509B-1367-425A-BE72-C15139EAC23B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28B2-B93D-45A5-A3B6-7C69D4635C63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4729-AAEE-4541-B981-050A3B370D6B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0ADF-1FBE-4240-9F7E-007AE6D3260D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46A-3D84-493E-8FD3-F4A8B89E336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5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289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E461-132B-4B47-83A8-F7C8663E6115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ECD3-6DF1-4FD8-B1E4-83109134EFE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3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A2B-83FD-4F1E-8BD0-AAA5581C00EE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0B0E-1959-4014-AAC7-A0F9A1B898F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8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65EC-4BD5-45C9-A104-FF2B5D72F473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9BBE-765A-498C-AE9E-AFD121E7EB3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タイトル 1" descr=""/>
          <p:cNvPicPr/>
          <p:nvPr/>
        </p:nvPicPr>
        <p:blipFill>
          <a:blip r:embed="rId1"/>
          <a:stretch/>
        </p:blipFill>
        <p:spPr>
          <a:xfrm>
            <a:off x="401760" y="1596960"/>
            <a:ext cx="8138880" cy="25416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84280" y="3611160"/>
            <a:ext cx="7888320" cy="20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samu Ochia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n behalf of Asia rice crop estimation and monitoring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タイトル 2" descr=""/>
          <p:cNvPicPr/>
          <p:nvPr/>
        </p:nvPicPr>
        <p:blipFill>
          <a:blip r:embed="rId1"/>
          <a:stretch/>
        </p:blipFill>
        <p:spPr>
          <a:xfrm>
            <a:off x="-219240" y="-1908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640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5F28-E754-44FE-B2B0-6D25136078DD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743200" y="968400"/>
            <a:ext cx="36576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タイトル 2" descr=""/>
          <p:cNvPicPr/>
          <p:nvPr/>
        </p:nvPicPr>
        <p:blipFill>
          <a:blip r:embed="rId1"/>
          <a:stretch/>
        </p:blipFill>
        <p:spPr>
          <a:xfrm>
            <a:off x="-109440" y="-30240"/>
            <a:ext cx="8442360" cy="1023840"/>
          </a:xfrm>
          <a:prstGeom prst="rect">
            <a:avLst/>
          </a:prstGeom>
          <a:ln w="0">
            <a:noFill/>
          </a:ln>
        </p:spPr>
      </p:pic>
      <p:sp>
        <p:nvSpPr>
          <p:cNvPr id="644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210-ECA5-4927-8C72-F1A6E13A2E6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2"/>
          <a:stretch/>
        </p:blipFill>
        <p:spPr>
          <a:xfrm>
            <a:off x="-277920" y="1055520"/>
            <a:ext cx="9699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7" name="タイトル 2" descr=""/>
          <p:cNvPicPr/>
          <p:nvPr/>
        </p:nvPicPr>
        <p:blipFill>
          <a:blip r:embed="rId2"/>
          <a:stretch/>
        </p:blipFill>
        <p:spPr>
          <a:xfrm>
            <a:off x="231840" y="-171360"/>
            <a:ext cx="6754680" cy="1616040"/>
          </a:xfrm>
          <a:prstGeom prst="rect">
            <a:avLst/>
          </a:prstGeom>
          <a:ln w="0">
            <a:noFill/>
          </a:ln>
        </p:spPr>
      </p:pic>
      <p:sp>
        <p:nvSpPr>
          <p:cNvPr id="648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981A-18FA-4DE2-ADAD-7AE9BAD9CA4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3"/>
          <a:stretch/>
        </p:blipFill>
        <p:spPr>
          <a:xfrm>
            <a:off x="795240" y="1166760"/>
            <a:ext cx="75517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1" name="タイトル 2" descr=""/>
          <p:cNvPicPr/>
          <p:nvPr/>
        </p:nvPicPr>
        <p:blipFill>
          <a:blip r:embed="rId2"/>
          <a:stretch/>
        </p:blipFill>
        <p:spPr>
          <a:xfrm>
            <a:off x="-225360" y="115920"/>
            <a:ext cx="7284960" cy="1047600"/>
          </a:xfrm>
          <a:prstGeom prst="rect">
            <a:avLst/>
          </a:prstGeom>
          <a:ln w="0">
            <a:noFill/>
          </a:ln>
        </p:spPr>
      </p:pic>
      <p:sp>
        <p:nvSpPr>
          <p:cNvPr id="65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06A3-1ED7-4D9B-9E1A-1BB5B615F15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3"/>
          <a:stretch/>
        </p:blipFill>
        <p:spPr>
          <a:xfrm>
            <a:off x="2306520" y="1065240"/>
            <a:ext cx="42958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CC4-12BC-4A61-BF5A-F0DB9791BE3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1512720" y="0"/>
            <a:ext cx="5789880" cy="1433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1211400" y="1542960"/>
            <a:ext cx="672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スライド番号プレースホルダー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15F-C850-4B4D-993A-590D6CA6AB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図形グループ 4"/>
          <p:cNvGrpSpPr/>
          <p:nvPr/>
        </p:nvGrpSpPr>
        <p:grpSpPr>
          <a:xfrm>
            <a:off x="115920" y="647640"/>
            <a:ext cx="4456080" cy="6210360"/>
            <a:chOff x="115920" y="647640"/>
            <a:chExt cx="4456080" cy="6210360"/>
          </a:xfrm>
        </p:grpSpPr>
        <p:pic>
          <p:nvPicPr>
            <p:cNvPr id="661" name="Picture 2" descr=""/>
            <p:cNvPicPr/>
            <p:nvPr/>
          </p:nvPicPr>
          <p:blipFill>
            <a:blip r:embed="rId1"/>
            <a:stretch/>
          </p:blipFill>
          <p:spPr>
            <a:xfrm>
              <a:off x="115920" y="647640"/>
              <a:ext cx="445608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Oval 5"/>
            <p:cNvSpPr/>
            <p:nvPr/>
          </p:nvSpPr>
          <p:spPr>
            <a:xfrm>
              <a:off x="1755360" y="328500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32280" y="501336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1337400" y="32173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1822680" y="479700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9"/>
          <p:cNvSpPr/>
          <p:nvPr/>
        </p:nvSpPr>
        <p:spPr>
          <a:xfrm>
            <a:off x="5003640" y="907920"/>
            <a:ext cx="363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Definition of Croplands (MCD12 IG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- Croplands + Cropland/Natural 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4788000" y="6154560"/>
            <a:ext cx="3328920" cy="711360"/>
            <a:chOff x="4788000" y="6154560"/>
            <a:chExt cx="3328920" cy="711360"/>
          </a:xfrm>
        </p:grpSpPr>
        <p:grpSp>
          <p:nvGrpSpPr>
            <p:cNvPr id="668" name="Group 20"/>
            <p:cNvGrpSpPr/>
            <p:nvPr/>
          </p:nvGrpSpPr>
          <p:grpSpPr>
            <a:xfrm>
              <a:off x="5495040" y="6154560"/>
              <a:ext cx="2621880" cy="711360"/>
              <a:chOff x="5495040" y="6154560"/>
              <a:chExt cx="2621880" cy="711360"/>
            </a:xfrm>
          </p:grpSpPr>
          <p:grpSp>
            <p:nvGrpSpPr>
              <p:cNvPr id="669" name="Group 12"/>
              <p:cNvGrpSpPr/>
              <p:nvPr/>
            </p:nvGrpSpPr>
            <p:grpSpPr>
              <a:xfrm>
                <a:off x="5500800" y="6154560"/>
                <a:ext cx="2616120" cy="711360"/>
                <a:chOff x="5500800" y="6154560"/>
                <a:chExt cx="2616120" cy="711360"/>
              </a:xfrm>
            </p:grpSpPr>
            <p:pic>
              <p:nvPicPr>
                <p:cNvPr id="67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00800" y="6154560"/>
                  <a:ext cx="261612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Rectangle 11"/>
                <p:cNvSpPr/>
                <p:nvPr/>
              </p:nvSpPr>
              <p:spPr>
                <a:xfrm>
                  <a:off x="5510160" y="6424560"/>
                  <a:ext cx="2590920" cy="4316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Rectangle 13"/>
              <p:cNvSpPr/>
              <p:nvPr/>
            </p:nvSpPr>
            <p:spPr>
              <a:xfrm>
                <a:off x="5495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4"/>
              <p:cNvSpPr/>
              <p:nvPr/>
            </p:nvSpPr>
            <p:spPr>
              <a:xfrm>
                <a:off x="593928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5"/>
              <p:cNvSpPr/>
              <p:nvPr/>
            </p:nvSpPr>
            <p:spPr>
              <a:xfrm>
                <a:off x="6422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6"/>
              <p:cNvSpPr/>
              <p:nvPr/>
            </p:nvSpPr>
            <p:spPr>
              <a:xfrm>
                <a:off x="68792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7"/>
              <p:cNvSpPr/>
              <p:nvPr/>
            </p:nvSpPr>
            <p:spPr>
              <a:xfrm>
                <a:off x="73364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8"/>
              <p:cNvSpPr/>
              <p:nvPr/>
            </p:nvSpPr>
            <p:spPr>
              <a:xfrm>
                <a:off x="78188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9"/>
              <p:cNvSpPr/>
              <p:nvPr/>
            </p:nvSpPr>
            <p:spPr>
              <a:xfrm>
                <a:off x="6610320" y="658944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DV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21"/>
            <p:cNvSpPr/>
            <p:nvPr/>
          </p:nvSpPr>
          <p:spPr>
            <a:xfrm>
              <a:off x="8039160" y="62337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788000" y="62211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図 1" descr=""/>
          <p:cNvPicPr/>
          <p:nvPr/>
        </p:nvPicPr>
        <p:blipFill>
          <a:blip r:embed="rId3"/>
          <a:stretch/>
        </p:blipFill>
        <p:spPr>
          <a:xfrm>
            <a:off x="5302080" y="1773360"/>
            <a:ext cx="3778560" cy="205092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2" descr=""/>
          <p:cNvPicPr/>
          <p:nvPr/>
        </p:nvPicPr>
        <p:blipFill>
          <a:blip r:embed="rId4"/>
          <a:stretch/>
        </p:blipFill>
        <p:spPr>
          <a:xfrm>
            <a:off x="-152280" y="-171360"/>
            <a:ext cx="6997680" cy="12380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9"/>
          <p:cNvSpPr/>
          <p:nvPr/>
        </p:nvSpPr>
        <p:spPr>
          <a:xfrm>
            <a:off x="4675320" y="177336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Dou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図 2" descr=""/>
          <p:cNvPicPr/>
          <p:nvPr/>
        </p:nvPicPr>
        <p:blipFill>
          <a:blip r:embed="rId5"/>
          <a:stretch/>
        </p:blipFill>
        <p:spPr>
          <a:xfrm>
            <a:off x="5302080" y="3860640"/>
            <a:ext cx="3778560" cy="2052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9"/>
          <p:cNvSpPr/>
          <p:nvPr/>
        </p:nvSpPr>
        <p:spPr>
          <a:xfrm>
            <a:off x="4675320" y="4005360"/>
            <a:ext cx="863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Trip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87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533520" y="115920"/>
            <a:ext cx="63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ampling strategy for production forecasting/estimation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3200400" y="1447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type  (5*5’ grid) area:  MERIS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893880" y="1925640"/>
            <a:ext cx="7549920" cy="4221000"/>
          </a:xfrm>
          <a:prstGeom prst="rect">
            <a:avLst/>
          </a:prstGeom>
          <a:ln w="0">
            <a:noFill/>
          </a:ln>
        </p:spPr>
      </p:pic>
      <p:pic>
        <p:nvPicPr>
          <p:cNvPr id="605" name="タイトル 1" descr=""/>
          <p:cNvPicPr/>
          <p:nvPr/>
        </p:nvPicPr>
        <p:blipFill>
          <a:blip r:embed="rId2"/>
          <a:stretch/>
        </p:blipFill>
        <p:spPr>
          <a:xfrm>
            <a:off x="231840" y="14616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233280" y="815760"/>
            <a:ext cx="867744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Lucida Sans Unicode"/>
              </a:rPr>
              <a:t>Asian countries are responsible for approximately 90% of the world rice production and consumption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5CCD-7B06-49F5-ABB1-78EB3B9A0A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7"/>
          <p:cNvSpPr/>
          <p:nvPr/>
        </p:nvSpPr>
        <p:spPr>
          <a:xfrm>
            <a:off x="1295640" y="57783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OSTAT [200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8"/>
          <p:cNvSpPr/>
          <p:nvPr/>
        </p:nvSpPr>
        <p:spPr>
          <a:xfrm>
            <a:off x="4668840" y="21304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10  Rice Productio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タイトル 1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8485200" cy="11523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rpose : Compile Asia rice crop monitoring requirement and develop a work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lan of Asia rice crop monitoring as a part of GEO GLAM work pl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am member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hin-ichi Sobue (lead- JAXA) , Kei Oyoshi (JAXA), Jai Singh Parihar, Sushma Panigrahy, </a:t>
            </a:r>
            <a:r>
              <a:rPr b="0" lang="is-IS" sz="1700" spc="-1" strike="noStrike">
                <a:solidFill>
                  <a:srgbClr val="000000"/>
                </a:solidFill>
                <a:latin typeface="Lucida Sans Unicode"/>
              </a:rPr>
              <a:t>K.R. Manjunath</a:t>
            </a: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 (ISRO, India), Preesan Rakwatin (GISTDA, Thailand), Lam Dao Nguyen, Thuy Le Toan (VAST/STI, Vietnam), Agus Hidayat, Dr Mahkmoud,  Ratih Dewanti (LAPAN, Indonesia), Muhrizal Sarwani, Rizatus Shofiyati (ICALRD/MOA, Indonesia), Heng Suthy (MRC), Wu Bingfang (IRSA, China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upported by Stephen Ward, George Dyke, Matthew Steventon (SIMBIOSS) and Toshio Okumura, Akira Mukaida, Nobuhito Tomiyama (RESTE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DE0-DFDE-43BB-B301-4ACA715DFC93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50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15238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 of Asian rice growing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981160" y="928800"/>
            <a:ext cx="3102120" cy="25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 season 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crop calendar within a 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erse growing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resource dependency (Water stress – irrigate, rain-f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y season growth (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1"/>
          <p:cNvSpPr/>
          <p:nvPr/>
        </p:nvSpPr>
        <p:spPr>
          <a:xfrm>
            <a:off x="6379200" y="63500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vided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テキスト ボックス 3"/>
          <p:cNvSpPr/>
          <p:nvPr/>
        </p:nvSpPr>
        <p:spPr>
          <a:xfrm>
            <a:off x="192240" y="1711440"/>
            <a:ext cx="874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is cultivated in rainy season, cloudy condition -&gt; SAR Observatio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severe damage induced by drought and flood (rain-fed type rice) -&gt; Early Warning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size variation - each parcel is small and the landscape is complicated in Asia. damage assessement for insurance, compensation for individual paddy field (each parcel).  -&gt; Detailed Mapping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gion cultivated two/three times in a year and Rice is the dominant crop in Asian countries wi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diversity of crop varieties (short, medium and long duration crops). -&gt; Detailed Crop Calendar  (mean crop calender and abnormal year crop cal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 growth model input information -&gt; Agro-weather information (rain, radiation, temperatu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esign for Asia rice crop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5"/>
          <p:cNvSpPr/>
          <p:nvPr/>
        </p:nvSpPr>
        <p:spPr>
          <a:xfrm>
            <a:off x="192240" y="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Asia Rice 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テキスト ボックス 6"/>
          <p:cNvSpPr/>
          <p:nvPr/>
        </p:nvSpPr>
        <p:spPr>
          <a:xfrm>
            <a:off x="344520" y="45252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matic and socio-economic aspects and imperative technologies in Asia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7039080" y="4933800"/>
            <a:ext cx="1657080" cy="16574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f5fa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タイトル 1" descr=""/>
          <p:cNvPicPr/>
          <p:nvPr/>
        </p:nvPicPr>
        <p:blipFill>
          <a:blip r:embed="rId1"/>
          <a:stretch/>
        </p:blipFill>
        <p:spPr>
          <a:xfrm>
            <a:off x="244440" y="-1033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7: Report about Asia rice crop monitoring requirement to CEOS UR meeting at Montreal (by Shinich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9: Develop draft Asia rice crop monitoring work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1: Review the work plan at ACRS2012 hosted by GISTDA, Thailand with A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2:  Approve the work plan at APRSAF-19 hosted by ANGASA and Japan and submit it to Joa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th monthly Asia rice crop monitoring telec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000-9822-4B44-8255-1572ADA3051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5" name="タイトル 2" descr=""/>
          <p:cNvPicPr/>
          <p:nvPr/>
        </p:nvPicPr>
        <p:blipFill>
          <a:blip r:embed="rId2"/>
          <a:stretch/>
        </p:blipFill>
        <p:spPr>
          <a:xfrm>
            <a:off x="304920" y="42840"/>
            <a:ext cx="8381880" cy="871560"/>
          </a:xfrm>
          <a:prstGeom prst="rect">
            <a:avLst/>
          </a:prstGeom>
          <a:ln w="0">
            <a:noFill/>
          </a:ln>
        </p:spPr>
      </p:pic>
      <p:sp>
        <p:nvSpPr>
          <p:cNvPr id="62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4E6D-7D72-43D0-9A21-91E99585444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409680" y="801720"/>
            <a:ext cx="8734320" cy="5070600"/>
          </a:xfrm>
          <a:prstGeom prst="rect">
            <a:avLst/>
          </a:prstGeom>
          <a:ln w="0">
            <a:noFill/>
          </a:ln>
        </p:spPr>
      </p:pic>
      <p:sp>
        <p:nvSpPr>
          <p:cNvPr id="628" name="テキスト ボックス 4"/>
          <p:cNvSpPr/>
          <p:nvPr/>
        </p:nvSpPr>
        <p:spPr>
          <a:xfrm>
            <a:off x="0" y="1292400"/>
            <a:ext cx="628560" cy="36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0" name="タイトル 2" descr=""/>
          <p:cNvPicPr/>
          <p:nvPr/>
        </p:nvPicPr>
        <p:blipFill>
          <a:blip r:embed="rId2"/>
          <a:stretch/>
        </p:blipFill>
        <p:spPr>
          <a:xfrm>
            <a:off x="237960" y="0"/>
            <a:ext cx="6918480" cy="1023840"/>
          </a:xfrm>
          <a:prstGeom prst="rect">
            <a:avLst/>
          </a:prstGeom>
          <a:ln w="0">
            <a:noFill/>
          </a:ln>
        </p:spPr>
      </p:pic>
      <p:sp>
        <p:nvSpPr>
          <p:cNvPr id="631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D58F-02BB-4E93-BA7B-19567AA2600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8439120" cy="5238720"/>
          </a:xfrm>
          <a:prstGeom prst="rect">
            <a:avLst/>
          </a:prstGeom>
          <a:ln w="0">
            <a:noFill/>
          </a:ln>
        </p:spPr>
      </p:pic>
      <p:sp>
        <p:nvSpPr>
          <p:cNvPr id="633" name="テキスト ボックス 4"/>
          <p:cNvSpPr/>
          <p:nvPr/>
        </p:nvSpPr>
        <p:spPr>
          <a:xfrm>
            <a:off x="223920" y="942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テキスト ボックス 6"/>
          <p:cNvSpPr/>
          <p:nvPr/>
        </p:nvSpPr>
        <p:spPr>
          <a:xfrm>
            <a:off x="3438360" y="758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テキスト ボックス 7"/>
          <p:cNvSpPr/>
          <p:nvPr/>
        </p:nvSpPr>
        <p:spPr>
          <a:xfrm>
            <a:off x="7426080" y="90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タイトル 2" descr=""/>
          <p:cNvPicPr/>
          <p:nvPr/>
        </p:nvPicPr>
        <p:blipFill>
          <a:blip r:embed="rId1"/>
          <a:stretch/>
        </p:blipFill>
        <p:spPr>
          <a:xfrm>
            <a:off x="371520" y="42840"/>
            <a:ext cx="8486640" cy="1157400"/>
          </a:xfrm>
          <a:prstGeom prst="rect">
            <a:avLst/>
          </a:prstGeom>
          <a:ln w="0">
            <a:noFill/>
          </a:ln>
        </p:spPr>
      </p:pic>
      <p:sp>
        <p:nvSpPr>
          <p:cNvPr id="63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FE78-AC00-4BF8-8E0D-53EA6CA06073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D:\Documents\eorc\農業\rice_pct.jpg"/>
          <p:cNvPicPr/>
          <p:nvPr/>
        </p:nvPicPr>
        <p:blipFill>
          <a:blip r:embed="rId2"/>
          <a:stretch/>
        </p:blipFill>
        <p:spPr>
          <a:xfrm>
            <a:off x="341280" y="762120"/>
            <a:ext cx="8107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2:46:31Z</dcterms:created>
  <dc:creator>Nakagawa</dc:creator>
  <dc:description/>
  <dc:language>en-US</dc:language>
  <cp:lastModifiedBy>89025</cp:lastModifiedBy>
  <dcterms:modified xsi:type="dcterms:W3CDTF">2012-08-29T06:48:31Z</dcterms:modified>
  <cp:revision>360</cp:revision>
  <dc:subject/>
  <dc:title>スライド 1</dc:title>
</cp:coreProperties>
</file>