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5CB21-4634-4160-A2F4-E9871C0270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12DA6-CD23-473D-AB9B-91D09BC68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CBB6-3150-4426-B34E-3DD2B7298D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7873-EBF0-4617-9BAE-C154D5BF5B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1411-7F21-485A-91A8-953FF6C7D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C71F-9EB3-4C1D-9631-82944910B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730D-594C-4B94-BBCD-34256035E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28F0-1A6B-403C-99D0-CAE58F9D3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06A1-8C72-4E5E-8E4F-1A3CFFDABD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4375-D28C-43D6-9DC3-2DC21FD76D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CD51-CDC6-4B36-A0E1-C0E4DE859C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A3BE-15A6-4D65-8366-2B6BFA418E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8590-03B1-419D-81FB-13D8DD19A5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97C9-517D-4902-BFEA-A19FB8BE4B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410B-01D4-4821-A90C-E0D6AE8880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B85B-328E-40EA-967D-F7298857B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0D44-6165-464D-8D95-3C081835D6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13FB-9586-4A56-9D66-8DE5543B72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C5AF-2011-42BF-9715-C53B4C7D3E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A7F2-1489-4CF7-A7BB-A4CF01FDA1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9268-F2CC-45C9-B391-94EFEC47C4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7205-B4A2-47C4-A21E-6C0529AD2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A1FD-A724-4ECC-AF91-D0E0DEA84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D6EF-8176-4C2D-83A8-3C9C42F71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AA9D-DFDD-4948-A6A1-9161E1A5F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363E-3F02-49E7-A1C0-806E4D9FF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A53E-3E03-44E8-B7CD-2FC984A25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CEE5-CC7B-4EC7-8ADA-CF20E5B03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691DB-5932-429F-8CE9-EFE8F7DCAE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GEO_Header_Presentation.jpg"/>
          <p:cNvPicPr/>
          <p:nvPr/>
        </p:nvPicPr>
        <p:blipFill>
          <a:blip r:embed="rId2"/>
          <a:stretch/>
        </p:blipFill>
        <p:spPr>
          <a:xfrm>
            <a:off x="7920" y="5867280"/>
            <a:ext cx="9144000" cy="10065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ESA_logo_bleu"/>
          <p:cNvPicPr/>
          <p:nvPr/>
        </p:nvPicPr>
        <p:blipFill>
          <a:blip r:embed="rId3"/>
          <a:stretch/>
        </p:blipFill>
        <p:spPr>
          <a:xfrm>
            <a:off x="7581960" y="76320"/>
            <a:ext cx="1457280" cy="555480"/>
          </a:xfrm>
          <a:prstGeom prst="rect">
            <a:avLst/>
          </a:prstGeom>
          <a:ln w="0">
            <a:noFill/>
          </a:ln>
        </p:spPr>
      </p:pic>
      <p:pic>
        <p:nvPicPr>
          <p:cNvPr id="41" name="図 3" descr="ceos_logo"/>
          <p:cNvPicPr/>
          <p:nvPr/>
        </p:nvPicPr>
        <p:blipFill>
          <a:blip r:embed="rId4"/>
          <a:stretch/>
        </p:blipFill>
        <p:spPr>
          <a:xfrm>
            <a:off x="63360" y="63360"/>
            <a:ext cx="1187640" cy="53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12821-B7C6-4BD6-9C24-BB18DD6D13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43080" y="1085760"/>
            <a:ext cx="855972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5698"/>
                </a:solidFill>
                <a:latin typeface="Verdana"/>
              </a:rPr>
              <a:t>Expansion Scenar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Frank Martin Seifert (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Co-Chair SDC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ubtitle 2"/>
          <p:cNvSpPr/>
          <p:nvPr/>
        </p:nvSpPr>
        <p:spPr>
          <a:xfrm>
            <a:off x="0" y="47149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From NDs to Glob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7080" y="857160"/>
            <a:ext cx="9016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Status of 2012: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with 20 – 30 m sen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Considerations to expand acquisition are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UN-REDD pilot countries and obser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World Bank Forest Carbon Partnership Facility (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Full tropical be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eveloping forested countries outside the trop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Temperate and boreal zone for full global observ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chnical rea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38200" y="646200"/>
            <a:ext cx="8004240" cy="3506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360" y="75960"/>
            <a:ext cx="6413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a5698"/>
                </a:solidFill>
                <a:latin typeface="Verdana"/>
              </a:rPr>
              <a:t>National Demonst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4152960"/>
            <a:ext cx="281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From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Guy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Indonesia (Born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Australia (Tasm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Camer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6197760" y="4317840"/>
            <a:ext cx="2717640" cy="15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From 2012 onw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progressive inclusion </a:t>
            </a:r>
            <a:br>
              <a:rPr sz="2000"/>
            </a:b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of countries from UN-REDD &amp; World Bank FCPF is being plan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200400" y="4127400"/>
            <a:ext cx="26798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Colo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DR Con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and adding Sumatra to Indonesi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     </a:t>
            </a: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Nep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044800" y="4183200"/>
            <a:ext cx="576000" cy="287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5130720" y="415764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937200" y="3911760"/>
            <a:ext cx="17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f497d"/>
                </a:solidFill>
                <a:latin typeface="Calibri"/>
                <a:ea typeface="Arial"/>
              </a:rPr>
              <a:t>Background GlobCo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NREDD-map---updated-June-2012.jpg"/>
          <p:cNvPicPr/>
          <p:nvPr/>
        </p:nvPicPr>
        <p:blipFill>
          <a:blip r:embed="rId1"/>
          <a:stretch/>
        </p:blipFill>
        <p:spPr>
          <a:xfrm>
            <a:off x="20520" y="1714680"/>
            <a:ext cx="9244080" cy="515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UN-RED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8600" y="655560"/>
            <a:ext cx="89154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UN-REDD pilot countri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5698"/>
                </a:solidFill>
                <a:latin typeface="Verdana"/>
              </a:rPr>
              <a:t>13 out of 16 UN-REDD pilot countries are currently not in F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033720" y="547200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http://www.un-redd.org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908440" y="6121440"/>
            <a:ext cx="1054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World Bank FCP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27080" y="606600"/>
            <a:ext cx="901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orest Carbon Partnership Facility: 44 countr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638360"/>
            <a:ext cx="9158400" cy="5219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1866960" y="627372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www.forestcarbonpartnership.or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831960"/>
            <a:ext cx="901692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UN-REDD Pilot (not in FCT)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Bolivia, Cambodi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Ecuador, Nigeria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Panama, Papua New Guinea, Paraguay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the Philippines, Solomon Islands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Viet Nam 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and Zambia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red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CPF REDD Preparation Grant 3.6 MUS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3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Mexico, Colombia*, Democratic Republic of Congo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Republic of Congo, Costa Rica, Ghana, Liberia, 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Indonesia,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Viet Nam*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blu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T)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    * </a:t>
            </a:r>
            <a:r>
              <a:rPr b="1" lang="en-US" sz="1200" spc="-1" strike="noStrike">
                <a:solidFill>
                  <a:srgbClr val="3a5698"/>
                </a:solidFill>
                <a:latin typeface="Verdana"/>
              </a:rPr>
              <a:t>signature expected so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Include neighbouring countries fi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Expansion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N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ear term (2012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mid 20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xpand ND Indonesia to whole cou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d Cambodia, Republic of Congo, Costa Rica, Ecuador, Panama, Viet Na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Mid term (mid 2013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201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W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hole tropical and subtropic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Global coverage (2015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mperate and bore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Additional Consider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Take for the expansion strategy additionally into accou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onor preferences as with F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Capacity building activities e.g. SilvaCarb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irect country requests e.g. Ghana at SDS-3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U funded FP7 REDD project countries e.g. Central African Republic, Fiji, 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Full regional coverage e.g. Congo Basi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3:29:53Z</dcterms:created>
  <dc:creator>George Dyke</dc:creator>
  <dc:description/>
  <dc:language>en-US</dc:language>
  <cp:lastModifiedBy>Frank Matin Seifert</cp:lastModifiedBy>
  <dcterms:modified xsi:type="dcterms:W3CDTF">2012-09-13T16:18:01Z</dcterms:modified>
  <cp:revision>170</cp:revision>
  <dc:subject/>
  <dc:title>Slide 1</dc:title>
</cp:coreProperties>
</file>