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7.png" ContentType="image/png"/>
  <Override PartName="/ppt/media/image20.png" ContentType="image/png"/>
  <Override PartName="/ppt/media/image27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34.wmf" ContentType="image/x-wmf"/>
  <Override PartName="/ppt/media/image14.png" ContentType="image/png"/>
  <Override PartName="/ppt/media/image35.png" ContentType="image/png"/>
  <Override PartName="/ppt/media/image5.jpeg" ContentType="image/jpeg"/>
  <Override PartName="/ppt/media/image36.wmf" ContentType="image/x-wmf"/>
  <Override PartName="/ppt/media/image16.png" ContentType="image/png"/>
  <Override PartName="/ppt/media/image8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46F-77F4-42EF-A38B-51260D40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B10-36F6-4CDE-A38A-E83D94D0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8B96D-8E63-4739-8D8A-AAD18872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A0AF1-2D19-4452-B003-F0D5F432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B5220-FFB6-4AE7-A143-6FE27ABA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0BB4D-E41D-4BB9-8CE3-FDF07E86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AFED1-624E-41F0-8248-272DFD27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1DCD9-5565-42BA-B966-738A2D1A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9076E-ECD6-4E17-A35E-341BAD12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6CD98-1A66-43E9-BDDD-E2BDC569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78F8F-22C7-416B-83F8-882057C8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C8FFD-AA10-45E5-B1AD-582F3549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90D5-8830-4A7F-9437-10B5ED29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2D73F-DC0C-457A-8D6E-4C3CA00B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9889D-170F-41CF-97BE-903364D4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F8852-8DD6-44C4-97D9-14C7B7ED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777EB-15C0-447D-8DCC-013693F1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16BDB-1D22-4B5A-9157-C81DD0E8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1FD15-F5BF-4795-9899-9DA58954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0FC36-B61D-4490-B274-5796A4EF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9F0BA-831D-455D-BB45-CA3F14CB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85C06-B4E9-40FB-B028-5F74ADE1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41F37-A53D-413C-ACFC-92B53931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177-B9EE-4A97-B9BC-AF296800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00356-6122-4636-B666-5361BD89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EB6EA-F457-4C38-B87D-235069EC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8C737-DBA5-4610-979B-1D55B0C9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77341-BD38-4AA4-894B-5AB9E87C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F4219-002F-4A69-B124-FBAE4E85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ED410-E51D-47B4-A553-A8486815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DE509-B5E5-42A3-90C6-55D79D08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1434B-97F8-4FB9-AD3F-4BAF9D73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86942-104A-4B7E-9DBD-726492F3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FF375-7D51-4D71-9A1A-60F6FEA2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345E-7396-484F-AA05-819DCBCF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CBE4C-1082-4366-B63D-246C1E9C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5664C-4AA1-461E-AED2-BDD56A36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96C5B-65A6-4C40-8B62-DE8D47CB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70CB9-88B0-43C6-8855-668A3120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34D67-52E7-4FA2-B3F3-F840763E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8282C-C3D5-4881-951D-27F04771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291E5-4523-4FE0-A77B-77946AD1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F1C99-3D0B-4FD1-A787-02915302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0FF7A-44F9-471D-A8C4-57148349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FCF8C-9DE4-4335-B08B-0527F7DC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70F5-BB8D-418A-A88D-49ACDBC5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8B313-5E2D-410A-9A21-0A730C92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F626E-96ED-4E0A-A041-B02D1C21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F1B9E-FBB6-41DF-A13E-BD0D4462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A2A7A-1723-4183-97D0-6DABE6E8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068A6-647E-411D-9485-2EAB3450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F0251-2552-43FC-91F9-32F30953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75B58-6490-45C7-BA89-3BF1FECB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F2690-3C6F-4864-AAA8-531BFBD6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9C715-F000-4539-901B-F2D223F0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8F3E9-F749-4B5D-A72A-EE3561EC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DC8C-DFC0-4BDA-92CF-DBBA352E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893E59-0F06-480F-85DE-BC29DF6D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DC299-5D00-4A0C-9F72-DEEFAD2C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6DE4C-3A05-48CE-A098-478FA93A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797B9-B38E-498E-A2FC-A2D1D281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36718-A5D7-4BB5-91B1-AA288C05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FD72E-16F9-40EF-89DB-9DB7B387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DDD02-4D7D-480A-AB4C-8F76C26F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C872-57BE-43C5-A10F-84969668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98FA-AC9A-488C-861A-DF395DD2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B9B0-ED7B-48B6-96DD-58D221D4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2AC7-3BD0-4726-80F0-1475CC13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E0A-5DA9-4B73-8F8D-078DB02C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D88B-65DD-45A4-95D0-214D750D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5387-7C75-467E-9108-441E1FF0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9578-C7EB-41CD-AF71-9038FF06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0560-F96C-4548-AB9A-76A050EB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9C2D-571B-4E40-BBC3-2FD972A9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7C3E4-F30D-4F90-8015-781DE81E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C6F7C-F58F-47CA-B478-97B16CB1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D5BCD-972E-4EEE-8CA2-16C635CF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41F04-0269-405D-A711-6779FA6B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1A08E-238C-4BD8-85D7-6639D932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8B3-1AC2-4D59-842F-DFE182F3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00732-16C6-48EB-B50F-6526A787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3DF39-415A-46DE-BEB0-8649EFD1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07873-4526-4EC2-BA66-51A0119E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62ABC-49EE-49A8-8A73-AD3AA6AA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1B5D1-D627-4385-9182-2991774E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B0B7C-5660-4C29-BE1E-1EBDD211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30B7B-1C73-4048-9F86-E849A1D8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2C558-2C03-4447-97E3-D4A26093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D8918-E4F4-45A7-BE03-B0F56A03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4C0F4-2FA3-4C3B-A831-18A91AD5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DCF-75A9-4CFB-BD2F-390BEB78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1562F-592D-4937-AE9C-D72F2357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97B64-6467-4129-932B-BE734E1D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C024E-B717-416B-91C4-A3145802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065EC-5C9C-40F2-A96E-2E873184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28FCB-6504-4873-9D4F-8F2C7269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F7007-C46B-42A9-8E80-C5223230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09A29-9936-43C8-A62C-45DAD02D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66931-6368-4CF9-B646-FE9655C9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1214D-7C06-4035-B28E-21A86665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314FC-A7A7-40A5-81BD-861B91CD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B67-A446-43E0-A9AE-E337F029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D091A-01E7-4111-A014-19DFA3E7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1C44D-5142-4FD5-8E04-63FDCE8B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451C1-2AC8-46AC-8AC2-E313ACB1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A371A-FC42-4C63-B484-D2A1DF7B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56A18-F2BA-4BCA-8884-077BD47B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D7D81-8B10-4829-B495-FEFCAD8E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E65C4-1EF8-4B7A-95F1-B714ED36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C9F50-57C1-48AC-9E79-266C5A46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F5A1C-C60D-4B5F-B6F5-34A566BF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79016-165E-473D-AB29-FBF01D35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509-D72D-468C-A417-CDF3CD29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BA429-471A-4B45-8517-E862FC40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CDFAB-310F-4AFF-9322-40E04B5A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EE366-A471-496D-A223-A0554D3F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672C8-D505-4CA6-B60D-B53C786A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145A0-D24D-4268-BC99-769EEE70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D4C74-3D67-4BFC-802E-DEE3809D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9C2BF-CCA0-4B73-B710-D511FA5D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9E820-C167-45FB-8EB0-F46AA1E8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A8B3D-A2F0-47DD-9E87-A1AFBAE8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9A0EF-0488-4E92-AB8D-3BDDD721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7A6-7E2D-4CE3-80DA-D49E6A83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87741-742E-4EF2-82FB-5009D6F9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780AC-49F2-4D0B-B3B2-6CB7FB79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4CBD2-780D-4BCB-B463-B93E877A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08CCE-8426-4F19-97FF-341233CD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44247-1DA2-47E1-9D33-B8A8E9BF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56D47-1123-47C8-B6A4-3C96CBE2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64E42-B0CB-44B7-957F-54FD9952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4EC59-F57E-4754-A8B6-DD07DBDD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748EC-316C-41B8-AFAD-E7DFEDA7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02578-9F02-4CB7-B40A-59BDDCFD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381-8B95-424C-8929-2EDB1F7F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8465D-CB12-4D9E-9E85-B0F4BF1A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80DCA-5E9E-4CE7-9F5D-D05BF641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C6B26-2EC3-432A-B6E0-16A13F7F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81F0A-8516-4427-9DD9-9500C98C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07653-15BE-40B4-9ADF-65F65F6A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28FC6-A44C-4196-BCCB-42E86396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D4963-747F-431E-92D4-AFF8DBB4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B734E-3617-465C-8CB1-3B6CE3B2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BBFAF-2ED9-433B-8AC7-0D86D520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F165F-4D4D-4DB3-BD1C-BEBEA662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91A-2568-47C6-B051-0F3C99CE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C33C0-A245-4F31-8D8E-3F974953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6CDA2-401A-44DD-9D59-CE576EB5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686F6-E2BE-4799-88B3-509B7F9B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89303-633C-4B02-8DA1-3387FB7B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F98E6-611A-409A-BF88-0B0CC8D5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4D3BD-7E78-4D78-8BD9-5725A338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61668-58C8-410D-85DB-DAC97AAA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34E51-EFDA-4BF4-B033-D84F6A88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FE706-B919-4D9B-AE66-021EDDD9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B8FA8-4BB1-4651-945F-403ABC7B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フリーフォーム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フリーフォーム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コネクタ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930D-0CCE-4746-9290-9DFF60FA0E55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ED29-B4C8-445B-B592-3200451E0AD5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図 1" descr=""/>
          <p:cNvPicPr/>
          <p:nvPr/>
        </p:nvPicPr>
        <p:blipFill>
          <a:blip r:embed="rId4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12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13" name="Picture 2" descr=""/>
            <p:cNvPicPr/>
            <p:nvPr/>
          </p:nvPicPr>
          <p:blipFill>
            <a:blip r:embed="rId5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Picture 3" descr=""/>
            <p:cNvPicPr/>
            <p:nvPr/>
          </p:nvPicPr>
          <p:blipFill>
            <a:blip r:embed="rId6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フリーフォーム 16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直角三角形 18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3" name="直角三角形 18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5" name="直線コネクタ 19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6" name="山形 20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山形 2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559B-A482-4D58-B921-ED1162C7CC55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918D-97D8-4718-A603-9FE9C5E2D5BA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989E-A838-49DC-B504-1B3AD0C1B331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D84B-C41D-459E-A864-C2CBD432C16F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4344-EA72-4324-BDC2-5D2DA46C460E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21FA-829F-4B18-B70D-ED9B20E684AE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0ABD-E77F-4F42-B727-1C1C6492BB89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A616-4175-4269-B73D-5FDFBC5210D8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直角三角形 1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1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直角三角形 18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4" name="直角三角形 18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図 23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4"/>
          <p:cNvGrpSpPr/>
          <p:nvPr/>
        </p:nvGrpSpPr>
        <p:grpSpPr>
          <a:xfrm>
            <a:off x="119160" y="6318360"/>
            <a:ext cx="1453680" cy="539640"/>
            <a:chOff x="119160" y="6318360"/>
            <a:chExt cx="1453680" cy="539640"/>
          </a:xfrm>
        </p:grpSpPr>
        <p:pic>
          <p:nvPicPr>
            <p:cNvPr id="58" name="Picture 2" descr=""/>
            <p:cNvPicPr/>
            <p:nvPr/>
          </p:nvPicPr>
          <p:blipFill>
            <a:blip r:embed="rId4"/>
            <a:stretch/>
          </p:blipFill>
          <p:spPr>
            <a:xfrm>
              <a:off x="574920" y="6360480"/>
              <a:ext cx="99792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47808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DB04-4C05-4A61-97FB-0B7BE5691152}" type="datetime">
              <a:rPr b="0" lang="ja-JP" sz="1000" spc="-1" strike="noStrike">
                <a:solidFill>
                  <a:srgbClr val="ffffff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8B89-5C12-4A34-A8CF-E180823DCEA3}" type="slidenum">
              <a:rPr b="0" lang="ja-JP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3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107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ED3C-02D4-44E3-91F9-FC654CDF00FC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A9B1-A94C-4C28-AFD7-A9AF582C47FE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山形 15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山形 16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フリーフォーム 18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直角三角形 1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4" name="直角三角形 1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図 24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158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E5BF-9BD1-41AE-B728-E36134D1D5D2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12ED-A4E4-4709-ADF7-212DAC9C3281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90EE-ECAA-40FF-A30C-357A77C47D1E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7A20-B53C-4FA6-A0C9-59528242C17C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3382-DC9E-45B2-9B3B-3D56FFAFF1F4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9B7D-5C83-4405-AA30-7D0A7A076118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5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289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BCD7-E54F-48F0-8265-EA46C5D39000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CF21-7F2E-4DEA-91D3-9E0953A2DA62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34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338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DF22-48BA-4B5E-AC5B-55135F91D6E9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791D-6A1A-4271-8EBE-B5443B1B046A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3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387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6EC2-B8DA-48E5-B943-62336BBC3158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3818-EE18-4C21-86F1-2F9E98467260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タイトル 1" descr=""/>
          <p:cNvPicPr/>
          <p:nvPr/>
        </p:nvPicPr>
        <p:blipFill>
          <a:blip r:embed="rId1"/>
          <a:stretch/>
        </p:blipFill>
        <p:spPr>
          <a:xfrm>
            <a:off x="401760" y="1596960"/>
            <a:ext cx="8138880" cy="25416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584280" y="3611160"/>
            <a:ext cx="7888320" cy="207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Osamu Ochiai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on behalf of Asia rice crop estimation and monitoring te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タイトル 2" descr=""/>
          <p:cNvPicPr/>
          <p:nvPr/>
        </p:nvPicPr>
        <p:blipFill>
          <a:blip r:embed="rId1"/>
          <a:stretch/>
        </p:blipFill>
        <p:spPr>
          <a:xfrm>
            <a:off x="-219240" y="-19080"/>
            <a:ext cx="8448840" cy="1030320"/>
          </a:xfrm>
          <a:prstGeom prst="rect">
            <a:avLst/>
          </a:prstGeom>
          <a:ln w="0">
            <a:noFill/>
          </a:ln>
        </p:spPr>
      </p:pic>
      <p:sp>
        <p:nvSpPr>
          <p:cNvPr id="640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370B-7215-4AEA-8DB6-6D296E366BFD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" descr=""/>
          <p:cNvPicPr/>
          <p:nvPr/>
        </p:nvPicPr>
        <p:blipFill>
          <a:blip r:embed="rId3"/>
          <a:stretch/>
        </p:blipFill>
        <p:spPr>
          <a:xfrm>
            <a:off x="2743200" y="968400"/>
            <a:ext cx="36576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タイトル 2" descr=""/>
          <p:cNvPicPr/>
          <p:nvPr/>
        </p:nvPicPr>
        <p:blipFill>
          <a:blip r:embed="rId1"/>
          <a:stretch/>
        </p:blipFill>
        <p:spPr>
          <a:xfrm>
            <a:off x="-109440" y="-30240"/>
            <a:ext cx="8442360" cy="1023840"/>
          </a:xfrm>
          <a:prstGeom prst="rect">
            <a:avLst/>
          </a:prstGeom>
          <a:ln w="0">
            <a:noFill/>
          </a:ln>
        </p:spPr>
      </p:pic>
      <p:sp>
        <p:nvSpPr>
          <p:cNvPr id="644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17A0-5563-49A4-8DAE-134A705C3021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4" descr=""/>
          <p:cNvPicPr/>
          <p:nvPr/>
        </p:nvPicPr>
        <p:blipFill>
          <a:blip r:embed="rId2"/>
          <a:stretch/>
        </p:blipFill>
        <p:spPr>
          <a:xfrm>
            <a:off x="-277920" y="1055520"/>
            <a:ext cx="9699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7" name="タイトル 2" descr=""/>
          <p:cNvPicPr/>
          <p:nvPr/>
        </p:nvPicPr>
        <p:blipFill>
          <a:blip r:embed="rId2"/>
          <a:stretch/>
        </p:blipFill>
        <p:spPr>
          <a:xfrm>
            <a:off x="231840" y="-171360"/>
            <a:ext cx="6754680" cy="1616040"/>
          </a:xfrm>
          <a:prstGeom prst="rect">
            <a:avLst/>
          </a:prstGeom>
          <a:ln w="0">
            <a:noFill/>
          </a:ln>
        </p:spPr>
      </p:pic>
      <p:sp>
        <p:nvSpPr>
          <p:cNvPr id="648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DED8-D084-4C1F-B219-9480B0981172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" descr=""/>
          <p:cNvPicPr/>
          <p:nvPr/>
        </p:nvPicPr>
        <p:blipFill>
          <a:blip r:embed="rId3"/>
          <a:stretch/>
        </p:blipFill>
        <p:spPr>
          <a:xfrm>
            <a:off x="795240" y="1166760"/>
            <a:ext cx="7551720" cy="51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1" name="タイトル 2" descr=""/>
          <p:cNvPicPr/>
          <p:nvPr/>
        </p:nvPicPr>
        <p:blipFill>
          <a:blip r:embed="rId2"/>
          <a:stretch/>
        </p:blipFill>
        <p:spPr>
          <a:xfrm>
            <a:off x="-225360" y="115920"/>
            <a:ext cx="7284960" cy="1047600"/>
          </a:xfrm>
          <a:prstGeom prst="rect">
            <a:avLst/>
          </a:prstGeom>
          <a:ln w="0">
            <a:noFill/>
          </a:ln>
        </p:spPr>
      </p:pic>
      <p:sp>
        <p:nvSpPr>
          <p:cNvPr id="652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C9DC-9DC0-449D-92D5-FC755C60FE54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"/>
          <p:cNvPicPr/>
          <p:nvPr/>
        </p:nvPicPr>
        <p:blipFill>
          <a:blip r:embed="rId3"/>
          <a:stretch/>
        </p:blipFill>
        <p:spPr>
          <a:xfrm>
            <a:off x="2306520" y="1065240"/>
            <a:ext cx="429588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ja-JP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6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3619-D4B4-4CEA-A561-3A0BEAD3DF08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3" descr=""/>
          <p:cNvPicPr/>
          <p:nvPr/>
        </p:nvPicPr>
        <p:blipFill>
          <a:blip r:embed="rId2"/>
          <a:stretch/>
        </p:blipFill>
        <p:spPr>
          <a:xfrm>
            <a:off x="1512720" y="0"/>
            <a:ext cx="5789880" cy="14335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"/>
          <p:cNvPicPr/>
          <p:nvPr/>
        </p:nvPicPr>
        <p:blipFill>
          <a:blip r:embed="rId3"/>
          <a:stretch/>
        </p:blipFill>
        <p:spPr>
          <a:xfrm>
            <a:off x="1211400" y="1542960"/>
            <a:ext cx="67212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スライド番号プレースホルダー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0776-B91B-42DC-8ECC-BD8F1E2878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図形グループ 4"/>
          <p:cNvGrpSpPr/>
          <p:nvPr/>
        </p:nvGrpSpPr>
        <p:grpSpPr>
          <a:xfrm>
            <a:off x="115920" y="647640"/>
            <a:ext cx="4456080" cy="6210360"/>
            <a:chOff x="115920" y="647640"/>
            <a:chExt cx="4456080" cy="6210360"/>
          </a:xfrm>
        </p:grpSpPr>
        <p:pic>
          <p:nvPicPr>
            <p:cNvPr id="661" name="Picture 2" descr=""/>
            <p:cNvPicPr/>
            <p:nvPr/>
          </p:nvPicPr>
          <p:blipFill>
            <a:blip r:embed="rId1"/>
            <a:stretch/>
          </p:blipFill>
          <p:spPr>
            <a:xfrm>
              <a:off x="115920" y="647640"/>
              <a:ext cx="4456080" cy="621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Oval 5"/>
            <p:cNvSpPr/>
            <p:nvPr/>
          </p:nvSpPr>
          <p:spPr>
            <a:xfrm>
              <a:off x="1755360" y="3285000"/>
              <a:ext cx="88560" cy="8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6"/>
            <p:cNvSpPr/>
            <p:nvPr/>
          </p:nvSpPr>
          <p:spPr>
            <a:xfrm>
              <a:off x="2132280" y="5013360"/>
              <a:ext cx="88560" cy="8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7"/>
            <p:cNvSpPr/>
            <p:nvPr/>
          </p:nvSpPr>
          <p:spPr>
            <a:xfrm>
              <a:off x="1337400" y="321732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"/>
            <p:cNvSpPr/>
            <p:nvPr/>
          </p:nvSpPr>
          <p:spPr>
            <a:xfrm>
              <a:off x="1822680" y="479700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Rectangle 9"/>
          <p:cNvSpPr/>
          <p:nvPr/>
        </p:nvSpPr>
        <p:spPr>
          <a:xfrm>
            <a:off x="5003640" y="907920"/>
            <a:ext cx="36324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Definition of Croplands (MCD12 IGB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- Croplands + Cropland/Natural Vege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23"/>
          <p:cNvGrpSpPr/>
          <p:nvPr/>
        </p:nvGrpSpPr>
        <p:grpSpPr>
          <a:xfrm>
            <a:off x="4788000" y="6154560"/>
            <a:ext cx="3328920" cy="711360"/>
            <a:chOff x="4788000" y="6154560"/>
            <a:chExt cx="3328920" cy="711360"/>
          </a:xfrm>
        </p:grpSpPr>
        <p:grpSp>
          <p:nvGrpSpPr>
            <p:cNvPr id="668" name="Group 20"/>
            <p:cNvGrpSpPr/>
            <p:nvPr/>
          </p:nvGrpSpPr>
          <p:grpSpPr>
            <a:xfrm>
              <a:off x="5495040" y="6154560"/>
              <a:ext cx="2621880" cy="711360"/>
              <a:chOff x="5495040" y="6154560"/>
              <a:chExt cx="2621880" cy="711360"/>
            </a:xfrm>
          </p:grpSpPr>
          <p:grpSp>
            <p:nvGrpSpPr>
              <p:cNvPr id="669" name="Group 12"/>
              <p:cNvGrpSpPr/>
              <p:nvPr/>
            </p:nvGrpSpPr>
            <p:grpSpPr>
              <a:xfrm>
                <a:off x="5500800" y="6154560"/>
                <a:ext cx="2616120" cy="711360"/>
                <a:chOff x="5500800" y="6154560"/>
                <a:chExt cx="2616120" cy="711360"/>
              </a:xfrm>
            </p:grpSpPr>
            <p:pic>
              <p:nvPicPr>
                <p:cNvPr id="670" name="Picture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500800" y="6154560"/>
                  <a:ext cx="2616120" cy="71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1" name="Rectangle 11"/>
                <p:cNvSpPr/>
                <p:nvPr/>
              </p:nvSpPr>
              <p:spPr>
                <a:xfrm>
                  <a:off x="5510160" y="6424560"/>
                  <a:ext cx="2590920" cy="4316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" name="Rectangle 13"/>
              <p:cNvSpPr/>
              <p:nvPr/>
            </p:nvSpPr>
            <p:spPr>
              <a:xfrm>
                <a:off x="54950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14"/>
              <p:cNvSpPr/>
              <p:nvPr/>
            </p:nvSpPr>
            <p:spPr>
              <a:xfrm>
                <a:off x="593928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15"/>
              <p:cNvSpPr/>
              <p:nvPr/>
            </p:nvSpPr>
            <p:spPr>
              <a:xfrm>
                <a:off x="64220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16"/>
              <p:cNvSpPr/>
              <p:nvPr/>
            </p:nvSpPr>
            <p:spPr>
              <a:xfrm>
                <a:off x="68792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6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17"/>
              <p:cNvSpPr/>
              <p:nvPr/>
            </p:nvSpPr>
            <p:spPr>
              <a:xfrm>
                <a:off x="73364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8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18"/>
              <p:cNvSpPr/>
              <p:nvPr/>
            </p:nvSpPr>
            <p:spPr>
              <a:xfrm>
                <a:off x="78188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1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19"/>
              <p:cNvSpPr/>
              <p:nvPr/>
            </p:nvSpPr>
            <p:spPr>
              <a:xfrm>
                <a:off x="6610320" y="6589440"/>
                <a:ext cx="393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DV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Rectangle 21"/>
            <p:cNvSpPr/>
            <p:nvPr/>
          </p:nvSpPr>
          <p:spPr>
            <a:xfrm>
              <a:off x="8039160" y="6233760"/>
              <a:ext cx="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22"/>
            <p:cNvSpPr/>
            <p:nvPr/>
          </p:nvSpPr>
          <p:spPr>
            <a:xfrm>
              <a:off x="4788000" y="6221160"/>
              <a:ext cx="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1" name="図 1" descr=""/>
          <p:cNvPicPr/>
          <p:nvPr/>
        </p:nvPicPr>
        <p:blipFill>
          <a:blip r:embed="rId3"/>
          <a:stretch/>
        </p:blipFill>
        <p:spPr>
          <a:xfrm>
            <a:off x="5302080" y="1773360"/>
            <a:ext cx="3778560" cy="2050920"/>
          </a:xfrm>
          <a:prstGeom prst="rect">
            <a:avLst/>
          </a:prstGeom>
          <a:ln w="0">
            <a:noFill/>
          </a:ln>
        </p:spPr>
      </p:pic>
      <p:pic>
        <p:nvPicPr>
          <p:cNvPr id="682" name="Rectangle 2" descr=""/>
          <p:cNvPicPr/>
          <p:nvPr/>
        </p:nvPicPr>
        <p:blipFill>
          <a:blip r:embed="rId4"/>
          <a:stretch/>
        </p:blipFill>
        <p:spPr>
          <a:xfrm>
            <a:off x="-152280" y="-171360"/>
            <a:ext cx="6997680" cy="123804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9"/>
          <p:cNvSpPr/>
          <p:nvPr/>
        </p:nvSpPr>
        <p:spPr>
          <a:xfrm>
            <a:off x="4675320" y="1773360"/>
            <a:ext cx="934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Dou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Cropping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図 2" descr=""/>
          <p:cNvPicPr/>
          <p:nvPr/>
        </p:nvPicPr>
        <p:blipFill>
          <a:blip r:embed="rId5"/>
          <a:stretch/>
        </p:blipFill>
        <p:spPr>
          <a:xfrm>
            <a:off x="5302080" y="3860640"/>
            <a:ext cx="3778560" cy="205272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9"/>
          <p:cNvSpPr/>
          <p:nvPr/>
        </p:nvSpPr>
        <p:spPr>
          <a:xfrm>
            <a:off x="4675320" y="4005360"/>
            <a:ext cx="863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Trip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Cropping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7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87520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9"/>
          <p:cNvSpPr/>
          <p:nvPr/>
        </p:nvSpPr>
        <p:spPr>
          <a:xfrm>
            <a:off x="533520" y="115920"/>
            <a:ext cx="63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ampling strategy for production forecasting/estimation by IS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3200400" y="144792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id type  (5*5’ grid) area:  MERIS der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893880" y="1925640"/>
            <a:ext cx="7549920" cy="4221000"/>
          </a:xfrm>
          <a:prstGeom prst="rect">
            <a:avLst/>
          </a:prstGeom>
          <a:ln w="0">
            <a:noFill/>
          </a:ln>
        </p:spPr>
      </p:pic>
      <p:pic>
        <p:nvPicPr>
          <p:cNvPr id="605" name="タイトル 1" descr=""/>
          <p:cNvPicPr/>
          <p:nvPr/>
        </p:nvPicPr>
        <p:blipFill>
          <a:blip r:embed="rId2"/>
          <a:stretch/>
        </p:blipFill>
        <p:spPr>
          <a:xfrm>
            <a:off x="231840" y="146160"/>
            <a:ext cx="8454960" cy="104940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 txBox="1"/>
          <p:nvPr/>
        </p:nvSpPr>
        <p:spPr>
          <a:xfrm>
            <a:off x="233280" y="815760"/>
            <a:ext cx="867744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504d"/>
                </a:solidFill>
                <a:latin typeface="Lucida Sans Unicode"/>
              </a:rPr>
              <a:t>Asian countries are responsible for approximately 90% of the world rice production and consumption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4C14-FD86-4CD8-B122-91A35A1B6D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正方形/長方形 7"/>
          <p:cNvSpPr/>
          <p:nvPr/>
        </p:nvSpPr>
        <p:spPr>
          <a:xfrm>
            <a:off x="1295640" y="577836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OSTAT [200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正方形/長方形 8"/>
          <p:cNvSpPr/>
          <p:nvPr/>
        </p:nvSpPr>
        <p:spPr>
          <a:xfrm>
            <a:off x="4668840" y="2130480"/>
            <a:ext cx="29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10  Rice Productio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タイトル 1" descr=""/>
          <p:cNvPicPr/>
          <p:nvPr/>
        </p:nvPicPr>
        <p:blipFill>
          <a:blip r:embed="rId1"/>
          <a:stretch/>
        </p:blipFill>
        <p:spPr>
          <a:xfrm>
            <a:off x="-152280" y="-85680"/>
            <a:ext cx="8485200" cy="11523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rpose : Compile Asia rice crop monitoring requirement and develop a work</a:t>
            </a:r>
            <a:r>
              <a:rPr b="0" lang="ja-JP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lan of Asia rice crop monitoring as a part of GEO GLAM work pla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eam member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Lucida Sans Unicode"/>
              </a:rPr>
              <a:t>- Shin-ichi Sobue (lead- JAXA) , Kei Oyoshi (JAXA), Jai Singh Parihar, Sushma Panigrahy, </a:t>
            </a:r>
            <a:r>
              <a:rPr b="0" lang="is-IS" sz="1700" spc="-1" strike="noStrike">
                <a:solidFill>
                  <a:srgbClr val="000000"/>
                </a:solidFill>
                <a:latin typeface="Lucida Sans Unicode"/>
              </a:rPr>
              <a:t>K.R. Manjunath</a:t>
            </a:r>
            <a:r>
              <a:rPr b="0" lang="is-IS" sz="2000" spc="-1" strike="noStrike">
                <a:solidFill>
                  <a:srgbClr val="000000"/>
                </a:solidFill>
                <a:latin typeface="Lucida Sans Unicode"/>
              </a:rPr>
              <a:t> (ISRO, India), Preesan Rakwatin (GISTDA, Thailand), Lam Dao Nguyen, Thuy Le Toan (VAST/STI, Vietnam), Agus Hidayat, Dr Mahkmoud,  Ratih Dewanti (LAPAN, Indonesia), Muhrizal Sarwani, Rizatus Shofiyati (ICALRD/MOA, Indonesia), Heng Suthy (MRC), Wu Bingfang (IRSA, China)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Lucida Sans Unicode"/>
              </a:rPr>
              <a:t>- Supported by Stephen Ward, George Dyke, Matthew Steventon (SIMBIOSS) and Toshio Okumura, Akira Mukaida, Nobuhito Tomiyama (RESTEC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2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DAA3-9678-40D9-A311-4BED1180E30C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7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502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9"/>
          <p:cNvSpPr/>
          <p:nvPr/>
        </p:nvSpPr>
        <p:spPr>
          <a:xfrm>
            <a:off x="1523880" y="152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 of Asian rice growing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2981160" y="928800"/>
            <a:ext cx="3102120" cy="256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 season c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 crop calendar within a sea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erse growing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er resource dependency (Water stress – irrigate, rain-f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iny season growth (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テキスト ボックス 1"/>
          <p:cNvSpPr/>
          <p:nvPr/>
        </p:nvSpPr>
        <p:spPr>
          <a:xfrm>
            <a:off x="6379200" y="635004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provided by IS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テキスト ボックス 3"/>
          <p:cNvSpPr/>
          <p:nvPr/>
        </p:nvSpPr>
        <p:spPr>
          <a:xfrm>
            <a:off x="192240" y="1711440"/>
            <a:ext cx="8745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e is cultivated in rainy season, cloudy condition -&gt; SAR Observation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 severe damage induced by drought and flood (rain-fed type rice) -&gt; Early Warning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 size variation - each parcel is small and the landscape is complicated in Asia. damage assessement for insurance, compensation for individual paddy field (each parcel).  -&gt; Detailed Mapping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gion cultivated two/three times in a year and Rice is the dominant crop in Asian countries wit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rge diversity of crop varieties (short, medium and long duration crops). -&gt; Detailed Crop Calendar  (mean crop calender and abnormal year crop cal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p growth model input information -&gt; Agro-weather information (rain, radiation, temperature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Design for Asia rice crop 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テキスト ボックス 5"/>
          <p:cNvSpPr/>
          <p:nvPr/>
        </p:nvSpPr>
        <p:spPr>
          <a:xfrm>
            <a:off x="192240" y="0"/>
            <a:ext cx="87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Asia Rice 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テキスト ボックス 6"/>
          <p:cNvSpPr/>
          <p:nvPr/>
        </p:nvSpPr>
        <p:spPr>
          <a:xfrm>
            <a:off x="344520" y="452520"/>
            <a:ext cx="85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matic and socio-economic aspects and imperative technologies in Asian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7" descr=""/>
          <p:cNvPicPr/>
          <p:nvPr/>
        </p:nvPicPr>
        <p:blipFill>
          <a:blip r:embed="rId1"/>
          <a:stretch/>
        </p:blipFill>
        <p:spPr>
          <a:xfrm>
            <a:off x="7039080" y="4933800"/>
            <a:ext cx="1657080" cy="16574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f5fa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タイトル 1" descr=""/>
          <p:cNvPicPr/>
          <p:nvPr/>
        </p:nvPicPr>
        <p:blipFill>
          <a:blip r:embed="rId1"/>
          <a:stretch/>
        </p:blipFill>
        <p:spPr>
          <a:xfrm>
            <a:off x="244440" y="-1033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7: Report about Asia rice crop monitoring requirement to CEOS UR meeting at Montreal (by Shinichi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9: Develop draft Asia rice crop monitoring work pla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11: Review the work plan at ACRS2012 hosted by GISTDA, Thailand with A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12:  Approve the work plan at APRSAF-19 hosted by ANGASA and Japan and submit it to Joa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ith monthly Asia rice crop monitoring telec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E1BD-C97A-4E94-9C9C-BCCB1C94159C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5" name="タイトル 2" descr=""/>
          <p:cNvPicPr/>
          <p:nvPr/>
        </p:nvPicPr>
        <p:blipFill>
          <a:blip r:embed="rId2"/>
          <a:stretch/>
        </p:blipFill>
        <p:spPr>
          <a:xfrm>
            <a:off x="304920" y="42840"/>
            <a:ext cx="8381880" cy="871560"/>
          </a:xfrm>
          <a:prstGeom prst="rect">
            <a:avLst/>
          </a:prstGeom>
          <a:ln w="0">
            <a:noFill/>
          </a:ln>
        </p:spPr>
      </p:pic>
      <p:sp>
        <p:nvSpPr>
          <p:cNvPr id="626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26AB-A080-4590-BD26-F4ED31181297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3"/>
          <a:stretch/>
        </p:blipFill>
        <p:spPr>
          <a:xfrm>
            <a:off x="409680" y="801720"/>
            <a:ext cx="8734320" cy="5070600"/>
          </a:xfrm>
          <a:prstGeom prst="rect">
            <a:avLst/>
          </a:prstGeom>
          <a:ln w="0">
            <a:noFill/>
          </a:ln>
        </p:spPr>
      </p:pic>
      <p:sp>
        <p:nvSpPr>
          <p:cNvPr id="628" name="テキスト ボックス 4"/>
          <p:cNvSpPr/>
          <p:nvPr/>
        </p:nvSpPr>
        <p:spPr>
          <a:xfrm>
            <a:off x="0" y="1292400"/>
            <a:ext cx="628560" cy="362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tn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illip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0" name="タイトル 2" descr=""/>
          <p:cNvPicPr/>
          <p:nvPr/>
        </p:nvPicPr>
        <p:blipFill>
          <a:blip r:embed="rId2"/>
          <a:stretch/>
        </p:blipFill>
        <p:spPr>
          <a:xfrm>
            <a:off x="237960" y="0"/>
            <a:ext cx="6918480" cy="1023840"/>
          </a:xfrm>
          <a:prstGeom prst="rect">
            <a:avLst/>
          </a:prstGeom>
          <a:ln w="0">
            <a:noFill/>
          </a:ln>
        </p:spPr>
      </p:pic>
      <p:sp>
        <p:nvSpPr>
          <p:cNvPr id="631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CF7F-4A56-4048-9D04-78BE15D19392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3"/>
          <a:stretch/>
        </p:blipFill>
        <p:spPr>
          <a:xfrm>
            <a:off x="352440" y="809640"/>
            <a:ext cx="8439120" cy="5238720"/>
          </a:xfrm>
          <a:prstGeom prst="rect">
            <a:avLst/>
          </a:prstGeom>
          <a:ln w="0">
            <a:noFill/>
          </a:ln>
        </p:spPr>
      </p:pic>
      <p:sp>
        <p:nvSpPr>
          <p:cNvPr id="633" name="テキスト ボックス 4"/>
          <p:cNvSpPr/>
          <p:nvPr/>
        </p:nvSpPr>
        <p:spPr>
          <a:xfrm>
            <a:off x="223920" y="9428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テキスト ボックス 6"/>
          <p:cNvSpPr/>
          <p:nvPr/>
        </p:nvSpPr>
        <p:spPr>
          <a:xfrm>
            <a:off x="3438360" y="7588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テキスト ボックス 7"/>
          <p:cNvSpPr/>
          <p:nvPr/>
        </p:nvSpPr>
        <p:spPr>
          <a:xfrm>
            <a:off x="7426080" y="906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タイトル 2" descr=""/>
          <p:cNvPicPr/>
          <p:nvPr/>
        </p:nvPicPr>
        <p:blipFill>
          <a:blip r:embed="rId1"/>
          <a:stretch/>
        </p:blipFill>
        <p:spPr>
          <a:xfrm>
            <a:off x="371520" y="42840"/>
            <a:ext cx="8486640" cy="1157400"/>
          </a:xfrm>
          <a:prstGeom prst="rect">
            <a:avLst/>
          </a:prstGeom>
          <a:ln w="0">
            <a:noFill/>
          </a:ln>
        </p:spPr>
      </p:pic>
      <p:sp>
        <p:nvSpPr>
          <p:cNvPr id="637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2303-4AFF-4D56-A6FD-5663393B9FF7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D:\Documents\eorc\農業\rice_pct.jpg"/>
          <p:cNvPicPr/>
          <p:nvPr/>
        </p:nvPicPr>
        <p:blipFill>
          <a:blip r:embed="rId2"/>
          <a:stretch/>
        </p:blipFill>
        <p:spPr>
          <a:xfrm>
            <a:off x="341280" y="762120"/>
            <a:ext cx="810756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2:46:31Z</dcterms:created>
  <dc:creator>Nakagawa</dc:creator>
  <dc:description/>
  <dc:language>en-US</dc:language>
  <cp:lastModifiedBy>89025</cp:lastModifiedBy>
  <dcterms:modified xsi:type="dcterms:W3CDTF">2012-08-29T06:48:31Z</dcterms:modified>
  <cp:revision>360</cp:revision>
  <dc:subject/>
  <dc:title>スライド 1</dc:title>
</cp:coreProperties>
</file>