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3AAD9-93F9-49FF-9E12-730C8C5A34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2C929-1FD6-4BF7-B6FC-F1D9A9C81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0FFF-D243-4F11-A82C-8BC3CF7DEF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DDF3-FDAE-4442-BCAD-8B6DF14722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A45D-0B06-498A-8A7D-8E0E15BB2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DC7A-6C82-448E-A641-50A53D4B8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A753-DEF2-42A6-AB80-0B8D8CEE0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9405-083F-4B02-92F4-8FBA634C2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9A33-EB5C-4032-84CD-49EE680DFD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45CD-3202-4849-B378-0828466BDD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C64F-6741-4FAC-9622-213810EF6E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CF52-07B3-45A3-9996-D5DA201829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8E0E-82CE-49AB-ADDB-A0A7354170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1102-BA34-4F7E-9538-79DFA084F9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2E7F-5148-4116-96E1-C582CBDE42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FBFA-4F4E-4515-905C-69EBE8A7A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5419-ED77-42EF-AC41-B64E034540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A4C0-8C0B-413B-87C8-C7EAB5BDEE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B603-B754-4774-AF4F-1C5A510E2C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7D44-DC19-4A34-9B41-94FA19DA6B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32A9-0BD5-49DD-91E3-513CCD881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FB17-B9F2-4D52-8B59-E7EFC7C0D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F1C4-3460-4FAB-B04D-73586D68D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8218-1551-453C-8DC9-59002D4AD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60AE-47F8-45CF-AD5F-FE195D38A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FC11-F63B-41AB-AD15-0C9E853E3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E7A4-C2A4-447D-8F07-46AF438A6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3952-188F-4A24-9784-EB0536FAD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8C954-2A7B-4BD7-B903-A7B5C730A6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GEO_Header_Presentation.jpg"/>
          <p:cNvPicPr/>
          <p:nvPr/>
        </p:nvPicPr>
        <p:blipFill>
          <a:blip r:embed="rId2"/>
          <a:stretch/>
        </p:blipFill>
        <p:spPr>
          <a:xfrm>
            <a:off x="7920" y="5867280"/>
            <a:ext cx="9144000" cy="10065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ESA_logo_bleu"/>
          <p:cNvPicPr/>
          <p:nvPr/>
        </p:nvPicPr>
        <p:blipFill>
          <a:blip r:embed="rId3"/>
          <a:stretch/>
        </p:blipFill>
        <p:spPr>
          <a:xfrm>
            <a:off x="7581960" y="76320"/>
            <a:ext cx="1457280" cy="555480"/>
          </a:xfrm>
          <a:prstGeom prst="rect">
            <a:avLst/>
          </a:prstGeom>
          <a:ln w="0">
            <a:noFill/>
          </a:ln>
        </p:spPr>
      </p:pic>
      <p:pic>
        <p:nvPicPr>
          <p:cNvPr id="41" name="図 3" descr="ceos_logo"/>
          <p:cNvPicPr/>
          <p:nvPr/>
        </p:nvPicPr>
        <p:blipFill>
          <a:blip r:embed="rId4"/>
          <a:stretch/>
        </p:blipFill>
        <p:spPr>
          <a:xfrm>
            <a:off x="63360" y="63360"/>
            <a:ext cx="1187640" cy="53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CAC4B-982F-4037-8A1E-E48AFF70E6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43080" y="1085760"/>
            <a:ext cx="855972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5698"/>
                </a:solidFill>
                <a:latin typeface="Verdana"/>
              </a:rPr>
              <a:t>Expansion Scenar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Frank Martin Seifert (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Co-Chair SDC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ubtitle 2"/>
          <p:cNvSpPr/>
          <p:nvPr/>
        </p:nvSpPr>
        <p:spPr>
          <a:xfrm>
            <a:off x="0" y="47149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From NDs to Glob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7080" y="857160"/>
            <a:ext cx="9016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Status of 2012: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with 20 – 30 m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Considerations to expand acquisition are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UN-REDD pilot countries and ob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World Bank Forest Carbon Partnership Facility (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Full tropical be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eveloping forested countries outside the trop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Temperate and boreal zone for full global observ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chnical rea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38200" y="646200"/>
            <a:ext cx="8004240" cy="3506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360" y="75960"/>
            <a:ext cx="6413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a5698"/>
                </a:solidFill>
                <a:latin typeface="Verdana"/>
              </a:rPr>
              <a:t>National Demonst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152960"/>
            <a:ext cx="281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Fro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Guy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Indonesia (Born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Australia (Tas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Camer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6197760" y="4317840"/>
            <a:ext cx="2717640" cy="15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From 2012 on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progressive inclusion </a:t>
            </a:r>
            <a:br>
              <a:rPr sz="2000"/>
            </a:b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of countries from UN-REDD &amp; World Bank FCPF is being plan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200400" y="4127400"/>
            <a:ext cx="26798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DR Con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and adding Sumatra to Indones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     </a:t>
            </a: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Nep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044800" y="4183200"/>
            <a:ext cx="576000" cy="287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5130720" y="415764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937200" y="3911760"/>
            <a:ext cx="17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f497d"/>
                </a:solidFill>
                <a:latin typeface="Calibri"/>
                <a:ea typeface="Arial"/>
              </a:rPr>
              <a:t>Background GlobCo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NREDD-map---updated-June-2012.jpg"/>
          <p:cNvPicPr/>
          <p:nvPr/>
        </p:nvPicPr>
        <p:blipFill>
          <a:blip r:embed="rId1"/>
          <a:stretch/>
        </p:blipFill>
        <p:spPr>
          <a:xfrm>
            <a:off x="20520" y="1714680"/>
            <a:ext cx="9244080" cy="515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UN-RED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8600" y="655560"/>
            <a:ext cx="89154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UN-REDD pilot countri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5698"/>
                </a:solidFill>
                <a:latin typeface="Verdana"/>
              </a:rPr>
              <a:t>13 out of 16 UN-REDD pilot countries are currently not in F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033720" y="547200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http://www.un-redd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08440" y="6121440"/>
            <a:ext cx="1054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World Bank FCP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27080" y="606600"/>
            <a:ext cx="901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orest Carbon Partnership Facility: 44 countr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638360"/>
            <a:ext cx="9158400" cy="5219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1866960" y="627372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www.forestcarbonpartnership.or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831960"/>
            <a:ext cx="901692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UN-REDD Pilot (not in FCT)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Bolivia, Cambodi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Ecuador, Nigeria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Panama, Papua New Guinea, Paraguay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the Philippines, Solomon Islands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Viet Nam 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and Zambia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red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CPF REDD Preparation Grant 3.6 MUS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3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Mexico, Colombia*, Democratic Republic of Congo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Republic of Congo, Costa Rica, Ghana, Liberia, 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Indonesia,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Viet Nam*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blu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T)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    * </a:t>
            </a:r>
            <a:r>
              <a:rPr b="1" lang="en-US" sz="1200" spc="-1" strike="noStrike">
                <a:solidFill>
                  <a:srgbClr val="3a5698"/>
                </a:solidFill>
                <a:latin typeface="Verdana"/>
              </a:rPr>
              <a:t>signature expected so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Include neighbouring countries fi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Expansion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N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ear term (2012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mid 20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xpand ND Indonesia to whole cou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d Cambodia, Republic of Congo, Costa Rica, Ecuador, Panama, Viet Na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Mid term (mid 2013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201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W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hole tropical and subtropic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Global coverage (2015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mperate and bore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Additional Consider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Take for the expansion strategy additionally into accou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onor preferences as with F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Capacity building activities e.g. SilvaCarb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irect country requests e.g. Ghana at SDS-3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U funded FP7 REDD project countries e.g. Central African Republic, Fiji, 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Full regional coverage e.g. Congo Basi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3:29:53Z</dcterms:created>
  <dc:creator>George Dyke</dc:creator>
  <dc:description/>
  <dc:language>en-US</dc:language>
  <cp:lastModifiedBy>Frank Matin Seifert</cp:lastModifiedBy>
  <dcterms:modified xsi:type="dcterms:W3CDTF">2012-09-13T16:18:01Z</dcterms:modified>
  <cp:revision>170</cp:revision>
  <dc:subject/>
  <dc:title>Slide 1</dc:title>
</cp:coreProperties>
</file>