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B16182F-AB7B-47DF-B7A8-36220D28236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E51CB95-A532-40D0-87F9-8FD9B2B2F40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B39C1E1-3227-4516-BFF4-3813E9B4154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BD87161-5A35-40DB-A747-6FF1F9A25D2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A31B1ED-A725-42D7-A567-CD68EDAE744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D707D0A-AA38-432B-9C66-DDD4A459731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A17034A-A16A-4FA1-A99F-25ADDAF1525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BF76DBC-8703-47EE-A989-B21FC0FDF60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DE300D0-2CB0-4368-BED2-4AACB932349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72996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604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516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944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80880" y="177480"/>
            <a:ext cx="8382240" cy="30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604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880" y="372996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604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88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1516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4944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80880" y="177480"/>
            <a:ext cx="8382240" cy="30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604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0880" y="372996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604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8088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1516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4944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177480"/>
            <a:ext cx="8382240" cy="30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604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5762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9"/>
          <p:cNvSpPr/>
          <p:nvPr/>
        </p:nvSpPr>
        <p:spPr>
          <a:xfrm>
            <a:off x="457200" y="990720"/>
            <a:ext cx="7772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22"/>
          <p:cNvSpPr/>
          <p:nvPr/>
        </p:nvSpPr>
        <p:spPr>
          <a:xfrm>
            <a:off x="457200" y="60199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logo_cbers.gif"/>
          <p:cNvPicPr/>
          <p:nvPr/>
        </p:nvPicPr>
        <p:blipFill>
          <a:blip r:embed="rId2"/>
          <a:stretch/>
        </p:blipFill>
        <p:spPr>
          <a:xfrm>
            <a:off x="8150400" y="61920"/>
            <a:ext cx="931680" cy="9255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5762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logo_cbers.gif"/>
          <p:cNvPicPr/>
          <p:nvPr/>
        </p:nvPicPr>
        <p:blipFill>
          <a:blip r:embed="rId2"/>
          <a:stretch/>
        </p:blipFill>
        <p:spPr>
          <a:xfrm>
            <a:off x="8150400" y="61920"/>
            <a:ext cx="931680" cy="9255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5762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CaixaDeTexto 4"/>
          <p:cNvSpPr/>
          <p:nvPr/>
        </p:nvSpPr>
        <p:spPr>
          <a:xfrm>
            <a:off x="358920" y="2784600"/>
            <a:ext cx="84168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BERS-3 Updat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aixaDeTexto 5"/>
          <p:cNvSpPr/>
          <p:nvPr/>
        </p:nvSpPr>
        <p:spPr>
          <a:xfrm>
            <a:off x="376200" y="4473720"/>
            <a:ext cx="841860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99"/>
                </a:solidFill>
                <a:latin typeface="Arial"/>
              </a:rPr>
              <a:t>Julio Dalge – INP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99"/>
                </a:solidFill>
                <a:latin typeface="Arial"/>
              </a:rPr>
              <a:t>Guo Chaohui – CRESD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99"/>
                </a:solidFill>
                <a:latin typeface="Arial"/>
              </a:rPr>
              <a:t>SDCG Meeting – Reston, USA  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aixaDeTexto 4"/>
          <p:cNvSpPr/>
          <p:nvPr/>
        </p:nvSpPr>
        <p:spPr>
          <a:xfrm>
            <a:off x="216000" y="412920"/>
            <a:ext cx="87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BERS 3 &amp; 4 – 2</a:t>
            </a:r>
            <a:r>
              <a:rPr b="0" lang="en-US" sz="3600" spc="-1" strike="noStrike" baseline="30000">
                <a:solidFill>
                  <a:srgbClr val="003399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 generation s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73120" y="1860480"/>
          <a:ext cx="7940520" cy="3700440"/>
        </p:xfrm>
        <a:graphic>
          <a:graphicData uri="http://schemas.openxmlformats.org/drawingml/2006/table">
            <a:tbl>
              <a:tblPr/>
              <a:tblGrid>
                <a:gridCol w="2646360"/>
                <a:gridCol w="2647800"/>
                <a:gridCol w="2646360"/>
              </a:tblGrid>
              <a:tr h="739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ame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BERS 1, 2, 2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BERS 3,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otal ma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,450 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,020 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741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Pow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,100 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,300 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ata 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0 Mbit/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05 Mbit/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sign life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CaixaDeTexto 4"/>
          <p:cNvSpPr/>
          <p:nvPr/>
        </p:nvSpPr>
        <p:spPr>
          <a:xfrm>
            <a:off x="216000" y="412920"/>
            <a:ext cx="87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BERS 3 &amp; 4 – 2</a:t>
            </a:r>
            <a:r>
              <a:rPr b="0" lang="en-US" sz="3600" spc="-1" strike="noStrike" baseline="30000">
                <a:solidFill>
                  <a:srgbClr val="003399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 generation s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Imagem 8" descr=""/>
          <p:cNvPicPr/>
          <p:nvPr/>
        </p:nvPicPr>
        <p:blipFill>
          <a:blip r:embed="rId1"/>
          <a:stretch/>
        </p:blipFill>
        <p:spPr>
          <a:xfrm>
            <a:off x="411120" y="1055520"/>
            <a:ext cx="6330960" cy="37386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3559320" y="3879720"/>
            <a:ext cx="53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un-synchronous or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ltitude = 778 k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clination = 98.5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Nodal period = 100.26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Repeat cycle = 26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escending node at 10h30 local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CaixaDeTexto 4"/>
          <p:cNvSpPr/>
          <p:nvPr/>
        </p:nvSpPr>
        <p:spPr>
          <a:xfrm>
            <a:off x="216000" y="412920"/>
            <a:ext cx="87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BERS 3 &amp; 4 – paylo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50920" y="1731960"/>
          <a:ext cx="8620200" cy="4057560"/>
        </p:xfrm>
        <a:graphic>
          <a:graphicData uri="http://schemas.openxmlformats.org/drawingml/2006/table">
            <a:tbl>
              <a:tblPr/>
              <a:tblGrid>
                <a:gridCol w="1842840"/>
                <a:gridCol w="1563840"/>
                <a:gridCol w="2441520"/>
                <a:gridCol w="1197000"/>
                <a:gridCol w="1575000"/>
              </a:tblGrid>
              <a:tr h="54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yloa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XC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nM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FI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</a:tr>
              <a:tr h="54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anufactur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raz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h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h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raz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Pushb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Pushb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can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Pushb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Revisit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6 d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2 days (nadir opera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ide looking 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(±32 degre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6 d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 d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Quant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 b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 b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 b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 b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54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om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:1 pan b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CaixaDeTexto 4"/>
          <p:cNvSpPr/>
          <p:nvPr/>
        </p:nvSpPr>
        <p:spPr>
          <a:xfrm>
            <a:off x="216000" y="412920"/>
            <a:ext cx="87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BERS 3 &amp; 4 – paylo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31840" y="1608120"/>
          <a:ext cx="8692920" cy="4789440"/>
        </p:xfrm>
        <a:graphic>
          <a:graphicData uri="http://schemas.openxmlformats.org/drawingml/2006/table">
            <a:tbl>
              <a:tblPr/>
              <a:tblGrid>
                <a:gridCol w="1859040"/>
                <a:gridCol w="1711080"/>
                <a:gridCol w="1714680"/>
                <a:gridCol w="1673280"/>
                <a:gridCol w="1734840"/>
              </a:tblGrid>
              <a:tr h="635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yloa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XC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nM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FI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</a:tr>
              <a:tr h="660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and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45 - 0.52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51 - 0.85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50 - 0.8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45 - 0.52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635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and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52 - 0.5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52 - 0.5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55 - 1.75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52 - 0.5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674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and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63 - 0.6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63 - 0.6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08 - 2.35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63 - 0.6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635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and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77 - 0.8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77 - 0.8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.4 - 12.5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77 - 0.8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patial </a:t>
                      </a: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Re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 m(Band1), 10 m(Band 2</a:t>
                      </a:r>
                      <a:r>
                        <a:rPr b="0" lang="zh-CN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0 m(Band 1</a:t>
                      </a:r>
                      <a:r>
                        <a:rPr b="0" lang="zh-CN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), 80 m</a:t>
                      </a:r>
                      <a:r>
                        <a:rPr b="0" lang="zh-CN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and 4</a:t>
                      </a:r>
                      <a:r>
                        <a:rPr b="0" lang="zh-CN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3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635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wath wid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20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0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20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66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CaixaDeTexto 4"/>
          <p:cNvSpPr/>
          <p:nvPr/>
        </p:nvSpPr>
        <p:spPr>
          <a:xfrm>
            <a:off x="216000" y="412920"/>
            <a:ext cx="87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Data transmitters and onboard storag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863640" y="1397160"/>
          <a:ext cx="7480440" cy="4744800"/>
        </p:xfrm>
        <a:graphic>
          <a:graphicData uri="http://schemas.openxmlformats.org/drawingml/2006/table">
            <a:tbl>
              <a:tblPr/>
              <a:tblGrid>
                <a:gridCol w="2335320"/>
                <a:gridCol w="2950920"/>
                <a:gridCol w="2194200"/>
              </a:tblGrid>
              <a:tr h="657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rier 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</a:tr>
              <a:tr h="684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 m PAN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.208 GHz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7 Mbp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657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 m MUX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.108 G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0 M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700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IRS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.034 GHz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7 Mbp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657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UX CAM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.365 G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8 M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657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FI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.290 G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3 M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731880">
                <a:tc grid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olid state onboard data recorder with 274 Gbits (15 minutes’ recording capability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CaixaDeTexto 4"/>
          <p:cNvSpPr/>
          <p:nvPr/>
        </p:nvSpPr>
        <p:spPr>
          <a:xfrm>
            <a:off x="358920" y="2833560"/>
            <a:ext cx="8416800" cy="11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BERS-3 will be launched in December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Long-March 4 launching rocket will be use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CaixaDeTexto 4"/>
          <p:cNvSpPr/>
          <p:nvPr/>
        </p:nvSpPr>
        <p:spPr>
          <a:xfrm>
            <a:off x="358920" y="2833560"/>
            <a:ext cx="841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9:07:47Z</dcterms:created>
  <dc:creator>Autumn Olson</dc:creator>
  <dc:description/>
  <dc:language>en-US</dc:language>
  <cp:lastModifiedBy>Ake Rosenqvist</cp:lastModifiedBy>
  <dcterms:modified xsi:type="dcterms:W3CDTF">2012-09-10T17:45:20Z</dcterms:modified>
  <cp:revision>1113</cp:revision>
  <dc:subject/>
  <dc:title>DocuShare</dc:title>
</cp:coreProperties>
</file>