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wmf" ContentType="image/x-wmf"/>
  <Override PartName="/ppt/media/image16.png" ContentType="image/png"/>
  <Override PartName="/ppt/media/image8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EEB-3E60-482B-A76F-67493B25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30D-07E3-40B7-86D7-BA67BD3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8F811-3FE8-44E9-BF09-6C826D8C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0CE03-0628-4537-9B0D-4363A61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625D5-6364-446C-B38E-75A20C8E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04668-60D0-445C-99DD-A07A85C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7DEFA-9BFC-4626-B526-F8FB271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70E33-2439-45EA-A239-CDA97FB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6B472-8481-46DF-A4AD-9DEA5393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B1978-82D4-4887-A332-B896E171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33885-2BF4-4215-878B-F9B386E3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1153E-2CFB-4EC2-BAA3-C0800CA7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74C-F3C8-4B11-851A-1D7C19D5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2A306-DA93-4E6B-96AF-45B3DA38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F40C4-9495-4A1A-8FCB-3CDDF5CF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62EEB-884C-47B3-8D8E-4A4E5B3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300BD-7925-4ED6-9D09-FCE4565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9B5A1-C019-4AEC-A816-90272EF5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76F65-EC8B-405C-AEE3-EFF41A3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7E040-1667-4A1A-AA95-32E6616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BD4C7-E740-411A-8835-EA04E61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A30BF-0C10-4478-80B4-FDE284B8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526BB-62BE-4222-BEF0-8148692B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F21-A390-42D7-96A4-278B72FD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AEDC1-50F4-403D-981E-A887BD6C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92CE-D392-4FB1-A99F-7624530E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A03E-F5DA-4E5C-AF69-A7C90C69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82CA-7FDC-4733-B84F-784B921D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36B59-C1E9-4677-8861-FC00024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DBBB7-7DE3-46E3-863F-99CE2369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C703-F6FC-413F-96C5-BC82F9EC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1487-B53A-4DE5-AADB-656C9E4A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68271-807E-4972-ACC1-CC10EB4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9C87D-076F-4239-8452-5658E6F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014D-DE07-45B1-8C43-C0C73463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363A0-508F-46B4-8E4D-297DC37D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FF6C-14A2-4C1A-A37B-D3D512C8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15239-323D-47C8-9491-251CCEB8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A3070-2456-4D4B-8A04-2CD903F9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1A22D-6EB0-440B-9366-D06C86D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A636E-CB82-41FA-A0A7-5636D182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8F7F9-04D2-44E1-B6A7-8062270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D3983-488B-4107-B59B-8F805288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D1346-9F41-4F82-8D76-6164CC9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D52EF-4904-4B07-8500-70BA4310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310-81F7-4E6F-9E67-1044A9E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C19F0-E0B4-4E84-9352-8A4D968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AA28D-3CD2-4D4F-87B8-C4CBA85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2D543-DF83-4CD3-A18E-2C50D53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837D4-C214-404C-B43A-FDA9023B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5E64-1E4A-44D0-8BC8-D952558D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15C8A-9AD4-4A58-B10A-F92F4EC8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CA161-72CF-4A3E-A38C-682AEE4A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EFB1D-D703-43B0-BAF1-940571BD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72676-7177-4F29-9250-1A61041E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8E938-7079-4C78-B8B8-FF77EF1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15BC-D9BD-4667-BB6C-C629125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AC419-4DCF-495F-8EBE-2BF28D9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AEBAA-8C89-442F-88F7-9FD39EA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1376A-DDD8-4206-A6D4-7A90CFA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2D61B-09C6-4361-9586-603EF73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58FCA-A77F-4418-B42A-7AD26C30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29D8F-F19D-4AAD-95AE-68F2DD0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31D65-F0B9-4B23-978D-9B01CC21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EFF2-EDB1-4927-B4CE-1A4333C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8C8A-CC5F-49FF-8A8C-56D5D3B8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DFD9-7D72-4890-9EDF-F41C1064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ABD8-B112-40D4-9A53-E60F959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692-AA89-480F-86C1-ED4B0492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024-31DB-46CC-AA74-FC6E10B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D2A-E533-4BB5-A24A-8930EBC2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040-08E9-4CDD-889C-8377DF0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0FE-5ED9-4EC6-86FF-ACD69F73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CD9D-D54D-4008-B050-E7C0F9B7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1EAC-33A1-4E88-94E1-25BEB70C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C443-1229-4018-BC20-EA4CA258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A089-30B7-423C-8294-1784925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83C0-BD4C-4B91-9D86-8C6EC11D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2580-ED65-494B-8635-87F6DF7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F88-5BC4-435F-91FC-F2E7E9B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DDC6-F83C-4FCB-A8D3-2292D38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343B-4845-4DAB-84CB-0D86A14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2DE7-1375-41A7-BCAC-7194964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76CD-408F-4FBA-BF85-178E4A9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D777-E85A-49B4-A58D-8A9D0F6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1974-7A35-4345-B601-54582697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A381-9DB8-4E23-B2F0-3BFBEE7F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F5D0-360A-4310-9CAE-785540D5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E392-2BCD-4C12-B467-76D81DE5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F832-1406-4FB1-8806-2D1FAE2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381-BAE0-4E0F-95CC-8312C9E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2C84-471F-4F52-B9F5-FD50382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6EAD-2110-4E39-93A4-D603280F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94A2-F8C9-47E8-95D0-F10B18B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DE21-F2F8-4346-91AD-98307FCD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6D7B-AFA1-4538-B530-BABAB349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7854-0F08-428B-82B7-CC136CE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929A-26DD-419A-A80C-CFD1FD45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D5E2-02E3-431B-A5B0-EDE07D48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AFC9-C66C-4CCC-AECF-075D7E49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85B2-E934-4DF0-8BF6-C4FDEEA3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910-0E21-42B6-859B-E14232E4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331C-AADF-41E2-9379-7263E5C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77DE-B5AA-46A3-8739-C2D606D3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6E92F-3D3E-46DA-AC04-8661572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BE2F-B81E-47B9-9CBD-65898E8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3385-6E31-4962-A2C9-3552BE49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B93F-0B0C-456F-B0DB-4E8159B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D1D8-0639-46ED-8E8E-05976ED9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3848C-A9D5-4A4F-A86D-2BD5CBC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7F2CB-EA2A-4BF3-90B1-9CF260E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78CA-A87D-48BE-8B0E-899A7606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CC7-1890-4E05-8E06-1433A3F3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E9A7-CB34-49EC-810B-A64C2F0F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9A5AD-74D8-4F2F-877C-40F25D0A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EA7ED-1472-4151-9128-D877EF8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CC08-F39F-4E82-A34D-64EE40C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E054-5560-46F8-9288-A40A94D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343ED-A3A2-4208-8FC9-930B45C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C44E-376F-4402-BF19-3D7D6F2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3BB9-EDA7-4633-8D5B-05587F7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488E-0B1D-4CD8-99A2-03D0D53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F8DC-880E-4C97-B0C0-E94851B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5AF-B489-4EE6-96E6-5325D6C1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D27F-FA90-4765-9BF4-B6AF7A05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C676-CB97-4A86-BDC6-C1DF2C5E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5903-5743-4AF4-B8E0-23A9C6D3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7E3A-4B06-4BA9-B7AD-C5B857AB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C5D23-2AE2-498F-A348-A2B814C1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D6BF1-9A9C-4542-9B86-DA5E18C7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CD79-8CFF-496D-AF28-50A420F9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93ED-DC5D-48E9-82E6-8283961D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E52A-5107-4DDE-B0D3-F58D1F8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2288-D01F-45A5-94A5-4DB31D0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2BC-1A6B-4BB8-9C31-06EE935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32941-32BB-419C-9550-394F2E95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FF048-4987-4A8B-BD0D-32AE6F0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E5D1-5FB8-4785-8621-B040AB63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C0652-82E9-4756-A30A-63832CD5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AA0E-F170-4B9E-9AF8-6EFEA222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FA104-6C82-4746-860D-4E8FA830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272B-951D-42D8-B1EF-8543CB74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B4592-820B-4CC7-B5BB-D033B5F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8AED-402D-4507-87D2-2D5D1A84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24BA-14E9-4CE6-A247-9809FEC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423-E9BF-41DB-85F6-40CFB972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4D9EA-1D85-432B-A515-F93FF055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720BD-011E-4DC8-ADAB-8285747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EB6AB-4469-4155-853F-4D5081AF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A40C-7A8F-46EA-9B92-8686835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C456-0E80-4819-A1A2-D69AFA1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A3EB-64BF-4E7E-B8F0-CF14ABF3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66EC-2A5C-4BDE-978F-8C50C7D7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EB49D-AED8-45AC-A61C-9DE837F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0687-A8D1-4C3E-9594-E14B06AD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21ED5-57D0-41C1-AB58-592B4F7F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10B-DBCF-4814-8EB1-67B626B1933D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84E-A36A-4F87-82D7-0D95BA8BA2AF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図 1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3" name="Picture 2" descr=""/>
            <p:cNvPicPr/>
            <p:nvPr/>
          </p:nvPicPr>
          <p:blipFill>
            <a:blip r:embed="rId5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3" descr=""/>
            <p:cNvPicPr/>
            <p:nvPr/>
          </p:nvPicPr>
          <p:blipFill>
            <a:blip r:embed="rId6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3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直線コネクタ 19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6" name="山形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山形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722-8422-4F0F-9112-399CC54086D8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BBD-61E0-4F80-A070-8C8D78CD7A99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3B0-336A-43DB-A323-8B14FA1859A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5B1-4751-4BA5-AB8A-8FA5D41C042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1F4-A012-4B6D-A9CF-CB86711CCF98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1C4-0082-4444-9A39-81DF78E2714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2FF3-5A9D-46FA-85CC-99B69F699F8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1F1-105A-464A-B0DB-9EA2965E5B5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角三角形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119160" y="6318360"/>
            <a:ext cx="1453680" cy="539640"/>
            <a:chOff x="119160" y="6318360"/>
            <a:chExt cx="1453680" cy="539640"/>
          </a:xfrm>
        </p:grpSpPr>
        <p:pic>
          <p:nvPicPr>
            <p:cNvPr id="58" name="Picture 2" descr=""/>
            <p:cNvPicPr/>
            <p:nvPr/>
          </p:nvPicPr>
          <p:blipFill>
            <a:blip r:embed="rId4"/>
            <a:stretch/>
          </p:blipFill>
          <p:spPr>
            <a:xfrm>
              <a:off x="574920" y="6360480"/>
              <a:ext cx="997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47808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41F-6EDB-422D-81C4-279DB29EF6C2}" type="datetime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470B-6B73-41B2-AEB9-180F668A2A5C}" type="slidenum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BD28-4941-4409-8C04-D1476E0D13C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F0E7-F2BA-4718-8714-65C8396A1DF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山形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山形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8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図 24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5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DB9-D1BA-4923-AD33-FF86372B106F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4574-6087-49BB-8557-7E126DB7AF9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33D9-69C7-433F-9DFF-077781AA89A0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D1C-C33F-4AE0-8248-C09C86E44016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55D-D6B7-4276-8BE8-4A7C6C8CBAB9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BF4-D5D9-41F6-B4C3-D3CE34EDBDB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5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289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A086-9530-4E6F-982C-50C09B48BBC7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76B-731C-4FC4-BD8A-B18E9E3C9C7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3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D0D3-30F0-4E2A-A4AA-EE084B2C7872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A321-4D88-4B38-A5A7-90E304DCC85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8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2E2-0B12-4119-9F14-4692024FC925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9E9C-1BBF-4BE5-849B-50A179370DD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タイトル 1" descr=""/>
          <p:cNvPicPr/>
          <p:nvPr/>
        </p:nvPicPr>
        <p:blipFill>
          <a:blip r:embed="rId1"/>
          <a:stretch/>
        </p:blipFill>
        <p:spPr>
          <a:xfrm>
            <a:off x="401760" y="1596960"/>
            <a:ext cx="8138880" cy="2541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84280" y="3611160"/>
            <a:ext cx="7888320" cy="20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samu Ochia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n behalf of Asia rice crop estimation and monitoring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タイトル 2" descr=""/>
          <p:cNvPicPr/>
          <p:nvPr/>
        </p:nvPicPr>
        <p:blipFill>
          <a:blip r:embed="rId1"/>
          <a:stretch/>
        </p:blipFill>
        <p:spPr>
          <a:xfrm>
            <a:off x="-219240" y="-1908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640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04E5-FA07-4ACB-B353-233B61A2750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743200" y="968400"/>
            <a:ext cx="36576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タイトル 2" descr=""/>
          <p:cNvPicPr/>
          <p:nvPr/>
        </p:nvPicPr>
        <p:blipFill>
          <a:blip r:embed="rId1"/>
          <a:stretch/>
        </p:blipFill>
        <p:spPr>
          <a:xfrm>
            <a:off x="-109440" y="-30240"/>
            <a:ext cx="8442360" cy="1023840"/>
          </a:xfrm>
          <a:prstGeom prst="rect">
            <a:avLst/>
          </a:prstGeom>
          <a:ln w="0">
            <a:noFill/>
          </a:ln>
        </p:spPr>
      </p:pic>
      <p:sp>
        <p:nvSpPr>
          <p:cNvPr id="644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A42-E8C7-4137-863D-40866A3B0D0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2"/>
          <a:stretch/>
        </p:blipFill>
        <p:spPr>
          <a:xfrm>
            <a:off x="-277920" y="1055520"/>
            <a:ext cx="9699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7" name="タイトル 2" descr=""/>
          <p:cNvPicPr/>
          <p:nvPr/>
        </p:nvPicPr>
        <p:blipFill>
          <a:blip r:embed="rId2"/>
          <a:stretch/>
        </p:blipFill>
        <p:spPr>
          <a:xfrm>
            <a:off x="231840" y="-171360"/>
            <a:ext cx="6754680" cy="1616040"/>
          </a:xfrm>
          <a:prstGeom prst="rect">
            <a:avLst/>
          </a:prstGeom>
          <a:ln w="0">
            <a:noFill/>
          </a:ln>
        </p:spPr>
      </p:pic>
      <p:sp>
        <p:nvSpPr>
          <p:cNvPr id="648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6A59-A172-44D3-89F6-8C5BB94704A9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3"/>
          <a:stretch/>
        </p:blipFill>
        <p:spPr>
          <a:xfrm>
            <a:off x="795240" y="1166760"/>
            <a:ext cx="7551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1" name="タイトル 2" descr=""/>
          <p:cNvPicPr/>
          <p:nvPr/>
        </p:nvPicPr>
        <p:blipFill>
          <a:blip r:embed="rId2"/>
          <a:stretch/>
        </p:blipFill>
        <p:spPr>
          <a:xfrm>
            <a:off x="-225360" y="115920"/>
            <a:ext cx="7284960" cy="1047600"/>
          </a:xfrm>
          <a:prstGeom prst="rect">
            <a:avLst/>
          </a:prstGeom>
          <a:ln w="0">
            <a:noFill/>
          </a:ln>
        </p:spPr>
      </p:pic>
      <p:sp>
        <p:nvSpPr>
          <p:cNvPr id="65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690C-C3A5-4884-93EC-E98EA17208D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2306520" y="1065240"/>
            <a:ext cx="4295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EED8-94C0-4D2A-8D84-4461039C1E53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1512720" y="0"/>
            <a:ext cx="5789880" cy="1433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1211400" y="1542960"/>
            <a:ext cx="672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スライド番号プレースホルダー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1DB9-D3C0-405A-B8A5-DFE4E0C82E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図形グループ 4"/>
          <p:cNvGrpSpPr/>
          <p:nvPr/>
        </p:nvGrpSpPr>
        <p:grpSpPr>
          <a:xfrm>
            <a:off x="115920" y="647640"/>
            <a:ext cx="4456080" cy="6210360"/>
            <a:chOff x="115920" y="647640"/>
            <a:chExt cx="4456080" cy="621036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15920" y="647640"/>
              <a:ext cx="445608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5"/>
            <p:cNvSpPr/>
            <p:nvPr/>
          </p:nvSpPr>
          <p:spPr>
            <a:xfrm>
              <a:off x="1755360" y="328500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32280" y="501336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1337400" y="32173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1822680" y="479700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9"/>
          <p:cNvSpPr/>
          <p:nvPr/>
        </p:nvSpPr>
        <p:spPr>
          <a:xfrm>
            <a:off x="5003640" y="907920"/>
            <a:ext cx="363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Definition of Croplands (MCD12 IG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- Croplands + Cropland/Natural 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4788000" y="6154560"/>
            <a:ext cx="3328920" cy="711360"/>
            <a:chOff x="4788000" y="6154560"/>
            <a:chExt cx="3328920" cy="711360"/>
          </a:xfrm>
        </p:grpSpPr>
        <p:grpSp>
          <p:nvGrpSpPr>
            <p:cNvPr id="668" name="Group 20"/>
            <p:cNvGrpSpPr/>
            <p:nvPr/>
          </p:nvGrpSpPr>
          <p:grpSpPr>
            <a:xfrm>
              <a:off x="5495040" y="6154560"/>
              <a:ext cx="2621880" cy="711360"/>
              <a:chOff x="5495040" y="6154560"/>
              <a:chExt cx="2621880" cy="711360"/>
            </a:xfrm>
          </p:grpSpPr>
          <p:grpSp>
            <p:nvGrpSpPr>
              <p:cNvPr id="669" name="Group 12"/>
              <p:cNvGrpSpPr/>
              <p:nvPr/>
            </p:nvGrpSpPr>
            <p:grpSpPr>
              <a:xfrm>
                <a:off x="5500800" y="6154560"/>
                <a:ext cx="2616120" cy="711360"/>
                <a:chOff x="5500800" y="6154560"/>
                <a:chExt cx="2616120" cy="711360"/>
              </a:xfrm>
            </p:grpSpPr>
            <p:pic>
              <p:nvPicPr>
                <p:cNvPr id="67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00800" y="6154560"/>
                  <a:ext cx="261612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Rectangle 11"/>
                <p:cNvSpPr/>
                <p:nvPr/>
              </p:nvSpPr>
              <p:spPr>
                <a:xfrm>
                  <a:off x="5510160" y="6424560"/>
                  <a:ext cx="2590920" cy="431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Rectangle 13"/>
              <p:cNvSpPr/>
              <p:nvPr/>
            </p:nvSpPr>
            <p:spPr>
              <a:xfrm>
                <a:off x="5495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"/>
              <p:cNvSpPr/>
              <p:nvPr/>
            </p:nvSpPr>
            <p:spPr>
              <a:xfrm>
                <a:off x="593928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5"/>
              <p:cNvSpPr/>
              <p:nvPr/>
            </p:nvSpPr>
            <p:spPr>
              <a:xfrm>
                <a:off x="6422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6"/>
              <p:cNvSpPr/>
              <p:nvPr/>
            </p:nvSpPr>
            <p:spPr>
              <a:xfrm>
                <a:off x="68792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7"/>
              <p:cNvSpPr/>
              <p:nvPr/>
            </p:nvSpPr>
            <p:spPr>
              <a:xfrm>
                <a:off x="73364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8"/>
              <p:cNvSpPr/>
              <p:nvPr/>
            </p:nvSpPr>
            <p:spPr>
              <a:xfrm>
                <a:off x="78188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"/>
              <p:cNvSpPr/>
              <p:nvPr/>
            </p:nvSpPr>
            <p:spPr>
              <a:xfrm>
                <a:off x="6610320" y="658944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DV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21"/>
            <p:cNvSpPr/>
            <p:nvPr/>
          </p:nvSpPr>
          <p:spPr>
            <a:xfrm>
              <a:off x="8039160" y="62337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788000" y="62211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図 1" descr=""/>
          <p:cNvPicPr/>
          <p:nvPr/>
        </p:nvPicPr>
        <p:blipFill>
          <a:blip r:embed="rId3"/>
          <a:stretch/>
        </p:blipFill>
        <p:spPr>
          <a:xfrm>
            <a:off x="5302080" y="1773360"/>
            <a:ext cx="3778560" cy="205092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2" descr=""/>
          <p:cNvPicPr/>
          <p:nvPr/>
        </p:nvPicPr>
        <p:blipFill>
          <a:blip r:embed="rId4"/>
          <a:stretch/>
        </p:blipFill>
        <p:spPr>
          <a:xfrm>
            <a:off x="-152280" y="-171360"/>
            <a:ext cx="6997680" cy="12380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9"/>
          <p:cNvSpPr/>
          <p:nvPr/>
        </p:nvSpPr>
        <p:spPr>
          <a:xfrm>
            <a:off x="4675320" y="177336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ou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図 2" descr=""/>
          <p:cNvPicPr/>
          <p:nvPr/>
        </p:nvPicPr>
        <p:blipFill>
          <a:blip r:embed="rId5"/>
          <a:stretch/>
        </p:blipFill>
        <p:spPr>
          <a:xfrm>
            <a:off x="5302080" y="3860640"/>
            <a:ext cx="3778560" cy="2052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9"/>
          <p:cNvSpPr/>
          <p:nvPr/>
        </p:nvSpPr>
        <p:spPr>
          <a:xfrm>
            <a:off x="4675320" y="4005360"/>
            <a:ext cx="863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ri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7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533520" y="115920"/>
            <a:ext cx="63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ampling strategy for production forecasting/estimation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3200400" y="1447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type  (5*5’ grid) area:  MERIS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893880" y="1925640"/>
            <a:ext cx="7549920" cy="4221000"/>
          </a:xfrm>
          <a:prstGeom prst="rect">
            <a:avLst/>
          </a:prstGeom>
          <a:ln w="0">
            <a:noFill/>
          </a:ln>
        </p:spPr>
      </p:pic>
      <p:pic>
        <p:nvPicPr>
          <p:cNvPr id="605" name="タイトル 1" descr=""/>
          <p:cNvPicPr/>
          <p:nvPr/>
        </p:nvPicPr>
        <p:blipFill>
          <a:blip r:embed="rId2"/>
          <a:stretch/>
        </p:blipFill>
        <p:spPr>
          <a:xfrm>
            <a:off x="231840" y="14616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233280" y="815760"/>
            <a:ext cx="8677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Lucida Sans Unicode"/>
              </a:rPr>
              <a:t>Asian countries are responsible for approximately 90% of the world rice production and consumption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091-DB49-4938-8DD4-B7461052D2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7"/>
          <p:cNvSpPr/>
          <p:nvPr/>
        </p:nvSpPr>
        <p:spPr>
          <a:xfrm>
            <a:off x="1295640" y="57783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 [200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8"/>
          <p:cNvSpPr/>
          <p:nvPr/>
        </p:nvSpPr>
        <p:spPr>
          <a:xfrm>
            <a:off x="4668840" y="21304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10  Rice Productio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タイトル 1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8485200" cy="1152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rpose : Compile Asia rice crop monitoring requirement and develop a work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lan of Asia rice crop monitoring as a part of GEO GLAM work pl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m member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hin-ichi Sobue (lead- JAXA) , Kei Oyoshi (JAXA), Jai Singh Parihar, Sushma Panigrahy, </a:t>
            </a:r>
            <a:r>
              <a:rPr b="0" lang="is-IS" sz="1700" spc="-1" strike="noStrike">
                <a:solidFill>
                  <a:srgbClr val="000000"/>
                </a:solidFill>
                <a:latin typeface="Lucida Sans Unicode"/>
              </a:rPr>
              <a:t>K.R. Manjunath</a:t>
            </a: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 (ISRO, India), Preesan Rakwatin (GISTDA, Thailand), Lam Dao Nguyen, Thuy Le Toan (VAST/STI, Vietnam), Agus Hidayat, Dr Mahkmoud,  Ratih Dewanti (LAPAN, Indonesia), Muhrizal Sarwani, Rizatus Shofiyati (ICALRD/MOA, Indonesia), Heng Suthy (MRC), Wu Bingfang (IRSA, Chin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upported by Stephen Ward, George Dyke, Matthew Steventon (SIMBIOSS) and Toshio Okumura, Akira Mukaida, Nobuhito Tomiyama (RESTE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FE4C-8883-4A46-A176-92BAD3EE65D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15238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of Asian rice growing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981160" y="928800"/>
            <a:ext cx="3102120" cy="25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 season 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crop calendar within a 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e growing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resource dependency (Water stress – irrigate, rain-f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y season growth (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1"/>
          <p:cNvSpPr/>
          <p:nvPr/>
        </p:nvSpPr>
        <p:spPr>
          <a:xfrm>
            <a:off x="6379200" y="63500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テキスト ボックス 3"/>
          <p:cNvSpPr/>
          <p:nvPr/>
        </p:nvSpPr>
        <p:spPr>
          <a:xfrm>
            <a:off x="192240" y="1711440"/>
            <a:ext cx="874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is cultivated in rainy season, cloudy condition -&gt; SAR Observatio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severe damage induced by drought and flood (rain-fed type rice) -&gt; Early Warning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size variation - each parcel is small and the landscape is complicated in Asia. damage assessement for insurance, compensation for individual paddy field (each parcel).  -&gt; Detailed Mapping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on cultivated two/three times in a year and Rice is the dominant crop in Asian countries wi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diversity of crop varieties (short, medium and long duration crops). -&gt; Detailed Crop Calendar  (mean crop calender and abnormal year crop cal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growth model input information -&gt; Agro-weather information (rain, radiation, temperatu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esign for Asia rice crop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5"/>
          <p:cNvSpPr/>
          <p:nvPr/>
        </p:nvSpPr>
        <p:spPr>
          <a:xfrm>
            <a:off x="192240" y="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Asia Rice 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6"/>
          <p:cNvSpPr/>
          <p:nvPr/>
        </p:nvSpPr>
        <p:spPr>
          <a:xfrm>
            <a:off x="344520" y="45252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ic and socio-economic aspects and imperative technologies in Asi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7039080" y="4933800"/>
            <a:ext cx="1657080" cy="1657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f5fa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タイトル 1" descr=""/>
          <p:cNvPicPr/>
          <p:nvPr/>
        </p:nvPicPr>
        <p:blipFill>
          <a:blip r:embed="rId1"/>
          <a:stretch/>
        </p:blipFill>
        <p:spPr>
          <a:xfrm>
            <a:off x="244440" y="-1033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7: Report about Asia rice crop monitoring requirement to CEOS UR meeting at Montreal (by Shinich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9: Develop draft Asia rice crop monitoring work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1: Review the work plan at ACRS2012 hosted by GISTDA, Thailand with A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2:  Approve the work plan at APRSAF-19 hosted by ANGASA and Japan and submit it to Joa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th monthly Asia rice crop monitoring telec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0CB-9C62-438B-A546-FFC43C6AA53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5" name="タイトル 2" descr=""/>
          <p:cNvPicPr/>
          <p:nvPr/>
        </p:nvPicPr>
        <p:blipFill>
          <a:blip r:embed="rId2"/>
          <a:stretch/>
        </p:blipFill>
        <p:spPr>
          <a:xfrm>
            <a:off x="304920" y="42840"/>
            <a:ext cx="8381880" cy="871560"/>
          </a:xfrm>
          <a:prstGeom prst="rect">
            <a:avLst/>
          </a:prstGeom>
          <a:ln w="0">
            <a:noFill/>
          </a:ln>
        </p:spPr>
      </p:pic>
      <p:sp>
        <p:nvSpPr>
          <p:cNvPr id="62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4DA2-2445-4EF8-9949-5CA99B8F6B39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409680" y="801720"/>
            <a:ext cx="8734320" cy="5070600"/>
          </a:xfrm>
          <a:prstGeom prst="rect">
            <a:avLst/>
          </a:prstGeom>
          <a:ln w="0">
            <a:noFill/>
          </a:ln>
        </p:spPr>
      </p:pic>
      <p:sp>
        <p:nvSpPr>
          <p:cNvPr id="628" name="テキスト ボックス 4"/>
          <p:cNvSpPr/>
          <p:nvPr/>
        </p:nvSpPr>
        <p:spPr>
          <a:xfrm>
            <a:off x="0" y="1292400"/>
            <a:ext cx="628560" cy="36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0" name="タイトル 2" descr=""/>
          <p:cNvPicPr/>
          <p:nvPr/>
        </p:nvPicPr>
        <p:blipFill>
          <a:blip r:embed="rId2"/>
          <a:stretch/>
        </p:blipFill>
        <p:spPr>
          <a:xfrm>
            <a:off x="237960" y="0"/>
            <a:ext cx="6918480" cy="1023840"/>
          </a:xfrm>
          <a:prstGeom prst="rect">
            <a:avLst/>
          </a:prstGeom>
          <a:ln w="0">
            <a:noFill/>
          </a:ln>
        </p:spPr>
      </p:pic>
      <p:sp>
        <p:nvSpPr>
          <p:cNvPr id="631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A603-BE36-439E-A8C6-E7805E85259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8439120" cy="5238720"/>
          </a:xfrm>
          <a:prstGeom prst="rect">
            <a:avLst/>
          </a:prstGeom>
          <a:ln w="0">
            <a:noFill/>
          </a:ln>
        </p:spPr>
      </p:pic>
      <p:sp>
        <p:nvSpPr>
          <p:cNvPr id="633" name="テキスト ボックス 4"/>
          <p:cNvSpPr/>
          <p:nvPr/>
        </p:nvSpPr>
        <p:spPr>
          <a:xfrm>
            <a:off x="223920" y="942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6"/>
          <p:cNvSpPr/>
          <p:nvPr/>
        </p:nvSpPr>
        <p:spPr>
          <a:xfrm>
            <a:off x="3438360" y="758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7"/>
          <p:cNvSpPr/>
          <p:nvPr/>
        </p:nvSpPr>
        <p:spPr>
          <a:xfrm>
            <a:off x="7426080" y="90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タイトル 2" descr=""/>
          <p:cNvPicPr/>
          <p:nvPr/>
        </p:nvPicPr>
        <p:blipFill>
          <a:blip r:embed="rId1"/>
          <a:stretch/>
        </p:blipFill>
        <p:spPr>
          <a:xfrm>
            <a:off x="371520" y="42840"/>
            <a:ext cx="8486640" cy="1157400"/>
          </a:xfrm>
          <a:prstGeom prst="rect">
            <a:avLst/>
          </a:prstGeom>
          <a:ln w="0">
            <a:noFill/>
          </a:ln>
        </p:spPr>
      </p:pic>
      <p:sp>
        <p:nvSpPr>
          <p:cNvPr id="63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33D-B4D9-4D41-8646-E70DFF1CA27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Documents\eorc\農業\rice_pct.jpg"/>
          <p:cNvPicPr/>
          <p:nvPr/>
        </p:nvPicPr>
        <p:blipFill>
          <a:blip r:embed="rId2"/>
          <a:stretch/>
        </p:blipFill>
        <p:spPr>
          <a:xfrm>
            <a:off x="341280" y="762120"/>
            <a:ext cx="8107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2:46:31Z</dcterms:created>
  <dc:creator>Nakagawa</dc:creator>
  <dc:description/>
  <dc:language>en-US</dc:language>
  <cp:lastModifiedBy>89025</cp:lastModifiedBy>
  <dcterms:modified xsi:type="dcterms:W3CDTF">2012-08-29T06:48:31Z</dcterms:modified>
  <cp:revision>360</cp:revision>
  <dc:subject/>
  <dc:title>スライド 1</dc:title>
</cp:coreProperties>
</file>